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061-B72B-413D-8227-9B8F1720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0D2-C440-4F34-AA8B-F7C4D209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8B3-F6DA-4964-83C8-95A2D7E8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6B6-D377-4F99-B888-2B7D7438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E87-FF8F-4F3B-B889-B8208CC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EF2-61EB-4FC5-B99C-12291A17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315-424F-4B46-B109-5C60364F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AB9-33C7-4973-850C-74656648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000-1562-4143-9528-6F31BB05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04D-9C9A-410A-9102-43339BF7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806-2DA6-406B-BC6A-9F41EFE3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E09-B0A8-4011-8E98-C57B0A80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83B3-AAB5-4173-BEB6-D73D70032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Линии на чертеже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Виды чертеж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ьная работа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исциплине Техн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7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7720" y="988560"/>
            <a:ext cx="1111428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лучения положительной оценки необходимо выполнить задания №1 и 2, а также ответить на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выполнения заданий № 3 и 4 (задания повышенной сложности) выставляется дополнительная отметка за каждое задание отд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довлетворительные отметки за задания повышенной сложности не выставля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ение заданий 1-4 оценивается по следующим критерия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облюдение правильного порядка выполнения постро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се построения выполнены правильно выбранными лини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ена требуемая толщина линий чертеж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ость постро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080" y="207720"/>
            <a:ext cx="45576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Ответь на вопросы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9080" y="936360"/>
            <a:ext cx="11623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видов на чертеже должно быть изображен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типы линий применяются при выполнении чертежа? Перечисли их. Для чего каждая из линий служ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289080" y="2264400"/>
            <a:ext cx="11623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4263"/>
                </a:solidFill>
                <a:latin typeface="Calibri"/>
              </a:rPr>
              <a:t>3.   Выбрать правильный вариант ответа. Какой буквой обозначен вид                  </a:t>
            </a:r>
            <a:r>
              <a:rPr b="0" lang="ru-RU" sz="2800" spc="-1" strike="noStrike">
                <a:solidFill>
                  <a:srgbClr val="394263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394263"/>
                </a:solidFill>
                <a:latin typeface="Calibri"/>
              </a:rPr>
              <a:t>сверх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94263"/>
                </a:solidFill>
                <a:latin typeface="Open Sans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www.kursoteka.ru/course/5473/image?file=c4290d72825ee04dbcbbbf93aaa628f1246ca0be.jpg"/>
          <p:cNvPicPr/>
          <p:nvPr/>
        </p:nvPicPr>
        <p:blipFill>
          <a:blip r:embed="rId1"/>
          <a:stretch/>
        </p:blipFill>
        <p:spPr>
          <a:xfrm>
            <a:off x="1243080" y="3352680"/>
            <a:ext cx="3603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ru-static.z-dn.net/files/d05/7ab0d5a9466e25248438ed667fd915a9.jpg"/>
          <p:cNvPicPr/>
          <p:nvPr/>
        </p:nvPicPr>
        <p:blipFill>
          <a:blip r:embed="rId1"/>
          <a:srcRect l="5250" t="78515" r="5045" b="5909"/>
          <a:stretch/>
        </p:blipFill>
        <p:spPr>
          <a:xfrm>
            <a:off x="1136520" y="130320"/>
            <a:ext cx="10855440" cy="1398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600" y="129960"/>
            <a:ext cx="11862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Picture 2" descr="https://ru-static.z-dn.net/files/d05/7ab0d5a9466e25248438ed667fd915a9.jpg"/>
          <p:cNvPicPr/>
          <p:nvPr/>
        </p:nvPicPr>
        <p:blipFill>
          <a:blip r:embed="rId2"/>
          <a:srcRect l="5250" t="14349" r="5045" b="28868"/>
          <a:stretch/>
        </p:blipFill>
        <p:spPr>
          <a:xfrm>
            <a:off x="652320" y="1776240"/>
            <a:ext cx="1088244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840" y="142560"/>
            <a:ext cx="10162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Picture 2" descr="https://4.bp.blogspot.com/-L_-g82j8rvA/UKh4mGrGveI/AAAAAAAADtY/tSqfnFwiHDA/s1600/4-3.jpg"/>
          <p:cNvPicPr/>
          <p:nvPr/>
        </p:nvPicPr>
        <p:blipFill>
          <a:blip r:embed="rId1"/>
          <a:srcRect l="3385" t="86227" r="12762" b="4715"/>
          <a:stretch/>
        </p:blipFill>
        <p:spPr>
          <a:xfrm>
            <a:off x="1044720" y="142920"/>
            <a:ext cx="11058480" cy="91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4.bp.blogspot.com/-L_-g82j8rvA/UKh4mGrGveI/AAAAAAAADtY/tSqfnFwiHDA/s1600/4-3.jpg"/>
          <p:cNvPicPr/>
          <p:nvPr/>
        </p:nvPicPr>
        <p:blipFill>
          <a:blip r:embed="rId2"/>
          <a:srcRect l="8320" t="5571" r="11375" b="19977"/>
          <a:stretch/>
        </p:blipFill>
        <p:spPr>
          <a:xfrm>
            <a:off x="1620720" y="1058760"/>
            <a:ext cx="82425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760" y="129960"/>
            <a:ext cx="10555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Picture 2" descr="https://ru-static.z-dn.net/files/d1f/ca01fa91ac7fafdd867e95293d227d2b.jpg"/>
          <p:cNvPicPr/>
          <p:nvPr/>
        </p:nvPicPr>
        <p:blipFill>
          <a:blip r:embed="rId1"/>
          <a:srcRect l="20616" t="6492" r="17525" b="19591"/>
          <a:stretch/>
        </p:blipFill>
        <p:spPr>
          <a:xfrm>
            <a:off x="2430360" y="1371600"/>
            <a:ext cx="6046920" cy="55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ru-static.z-dn.net/files/d1f/ca01fa91ac7fafdd867e95293d227d2b.jpg"/>
          <p:cNvPicPr/>
          <p:nvPr/>
        </p:nvPicPr>
        <p:blipFill>
          <a:blip r:embed="rId2"/>
          <a:srcRect l="3283" t="86164" r="2913" b="4264"/>
          <a:stretch/>
        </p:blipFill>
        <p:spPr>
          <a:xfrm>
            <a:off x="1058760" y="130320"/>
            <a:ext cx="110746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s://ds04.infourok.ru/uploads/ex/0df3/00067692-ffae7564/img29.jpg"/>
          <p:cNvPicPr/>
          <p:nvPr/>
        </p:nvPicPr>
        <p:blipFill>
          <a:blip r:embed="rId1"/>
          <a:srcRect l="6996" t="8378" r="6421" b="4100"/>
          <a:stretch/>
        </p:blipFill>
        <p:spPr>
          <a:xfrm>
            <a:off x="1801800" y="0"/>
            <a:ext cx="904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ds04.infourok.ru/uploads/ex/0df3/00067692-ffae7564/img12.jpg"/>
          <p:cNvPicPr/>
          <p:nvPr/>
        </p:nvPicPr>
        <p:blipFill>
          <a:blip r:embed="rId1"/>
          <a:srcRect l="6823" t="7270" r="6110" b="3202"/>
          <a:stretch/>
        </p:blipFill>
        <p:spPr>
          <a:xfrm>
            <a:off x="839880" y="0"/>
            <a:ext cx="979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1T14:52:48Z</dcterms:created>
  <dc:creator>Анна Полякова</dc:creator>
  <dc:description/>
  <dc:language>en-US</dc:language>
  <cp:lastModifiedBy>Ольга</cp:lastModifiedBy>
  <cp:lastPrinted>2020-10-09T06:51:47Z</cp:lastPrinted>
  <dcterms:modified xsi:type="dcterms:W3CDTF">2020-11-29T09:36:46Z</dcterms:modified>
  <cp:revision>8</cp:revision>
  <dc:subject/>
  <dc:title>Презентация PowerPoint</dc:title>
</cp:coreProperties>
</file>