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3BE-6B09-4015-9920-382BECE2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8DE-D047-411F-AE29-D30C196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55D-3C8E-461E-9025-AC9420B4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016-874D-4B17-AFFD-FC835D4C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D5D-94A9-4405-80BF-CF457C4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906-0768-43C0-B3F8-E70DB680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3CC-FE88-4234-ADD9-B8463E7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F10-4BA1-42EC-8C95-8897F90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127-09C2-4E1A-81E3-5A18B58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480-42B1-4054-A714-0371D9D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A94-F00E-4DBE-91F5-A0C9014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751-DE7E-416D-9C6D-E8BF6BE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8283-CBBE-4C70-8133-0D99EC635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Линии на чертеже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Виды чертеж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ная работа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исциплине 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7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7720" y="988560"/>
            <a:ext cx="1111428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учения положительной оценки необходимо выполнить задания №1 и 2, а также ответить на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выполнения заданий № 3 и 4 (задания повышенной сложности) выставляется дополнительная отметка за каждое задание отд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ительные отметки за задания повышенной сложности не выставля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заданий 1-4 оценивается по следующим критер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облюдение правильного порядка выполнения постро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се построения выполнены правильно выбранными ли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а требуемая толщина линий черте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сть постро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080" y="207720"/>
            <a:ext cx="45576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тветь на вопросы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9080" y="936360"/>
            <a:ext cx="11623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видов на чертеже должно быть изображе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ипы линий применяются при выполнении чертежа? Перечисли их. Для чего каждая из линий служ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89080" y="2264400"/>
            <a:ext cx="11623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3.   Выбрать правильный вариант ответа. Какой буквой обозначен вид                  </a:t>
            </a: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сверх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94263"/>
                </a:solidFill>
                <a:latin typeface="Open Sans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www.kursoteka.ru/course/5473/image?file=c4290d72825ee04dbcbbbf93aaa628f1246ca0be.jpg"/>
          <p:cNvPicPr/>
          <p:nvPr/>
        </p:nvPicPr>
        <p:blipFill>
          <a:blip r:embed="rId1"/>
          <a:stretch/>
        </p:blipFill>
        <p:spPr>
          <a:xfrm>
            <a:off x="1243080" y="3352680"/>
            <a:ext cx="3603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ru-static.z-dn.net/files/d05/7ab0d5a9466e25248438ed667fd915a9.jpg"/>
          <p:cNvPicPr/>
          <p:nvPr/>
        </p:nvPicPr>
        <p:blipFill>
          <a:blip r:embed="rId1"/>
          <a:srcRect l="5250" t="78515" r="5045" b="5909"/>
          <a:stretch/>
        </p:blipFill>
        <p:spPr>
          <a:xfrm>
            <a:off x="1136520" y="130320"/>
            <a:ext cx="10855440" cy="139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600" y="129960"/>
            <a:ext cx="11862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2" descr="https://ru-static.z-dn.net/files/d05/7ab0d5a9466e25248438ed667fd915a9.jpg"/>
          <p:cNvPicPr/>
          <p:nvPr/>
        </p:nvPicPr>
        <p:blipFill>
          <a:blip r:embed="rId2"/>
          <a:srcRect l="5250" t="14349" r="5045" b="28868"/>
          <a:stretch/>
        </p:blipFill>
        <p:spPr>
          <a:xfrm>
            <a:off x="652320" y="1776240"/>
            <a:ext cx="10882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840" y="142560"/>
            <a:ext cx="1016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Picture 2" descr="https://4.bp.blogspot.com/-L_-g82j8rvA/UKh4mGrGveI/AAAAAAAADtY/tSqfnFwiHDA/s1600/4-3.jpg"/>
          <p:cNvPicPr/>
          <p:nvPr/>
        </p:nvPicPr>
        <p:blipFill>
          <a:blip r:embed="rId1"/>
          <a:srcRect l="3385" t="86227" r="12762" b="4715"/>
          <a:stretch/>
        </p:blipFill>
        <p:spPr>
          <a:xfrm>
            <a:off x="1044720" y="142920"/>
            <a:ext cx="1105848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4.bp.blogspot.com/-L_-g82j8rvA/UKh4mGrGveI/AAAAAAAADtY/tSqfnFwiHDA/s1600/4-3.jpg"/>
          <p:cNvPicPr/>
          <p:nvPr/>
        </p:nvPicPr>
        <p:blipFill>
          <a:blip r:embed="rId2"/>
          <a:srcRect l="8320" t="5571" r="11375" b="19977"/>
          <a:stretch/>
        </p:blipFill>
        <p:spPr>
          <a:xfrm>
            <a:off x="1620720" y="1058760"/>
            <a:ext cx="82425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129960"/>
            <a:ext cx="10555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s://ru-static.z-dn.net/files/d1f/ca01fa91ac7fafdd867e95293d227d2b.jpg"/>
          <p:cNvPicPr/>
          <p:nvPr/>
        </p:nvPicPr>
        <p:blipFill>
          <a:blip r:embed="rId1"/>
          <a:srcRect l="20616" t="6492" r="17525" b="19591"/>
          <a:stretch/>
        </p:blipFill>
        <p:spPr>
          <a:xfrm>
            <a:off x="2430360" y="1371600"/>
            <a:ext cx="6046920" cy="55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ru-static.z-dn.net/files/d1f/ca01fa91ac7fafdd867e95293d227d2b.jpg"/>
          <p:cNvPicPr/>
          <p:nvPr/>
        </p:nvPicPr>
        <p:blipFill>
          <a:blip r:embed="rId2"/>
          <a:srcRect l="3283" t="86164" r="2913" b="4264"/>
          <a:stretch/>
        </p:blipFill>
        <p:spPr>
          <a:xfrm>
            <a:off x="1058760" y="130320"/>
            <a:ext cx="110746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s://ds04.infourok.ru/uploads/ex/0df3/00067692-ffae7564/img29.jpg"/>
          <p:cNvPicPr/>
          <p:nvPr/>
        </p:nvPicPr>
        <p:blipFill>
          <a:blip r:embed="rId1"/>
          <a:srcRect l="6996" t="8378" r="6421" b="4100"/>
          <a:stretch/>
        </p:blipFill>
        <p:spPr>
          <a:xfrm>
            <a:off x="1801800" y="0"/>
            <a:ext cx="904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ds04.infourok.ru/uploads/ex/0df3/00067692-ffae7564/img12.jpg"/>
          <p:cNvPicPr/>
          <p:nvPr/>
        </p:nvPicPr>
        <p:blipFill>
          <a:blip r:embed="rId1"/>
          <a:srcRect l="6823" t="7270" r="6110" b="3202"/>
          <a:stretch/>
        </p:blipFill>
        <p:spPr>
          <a:xfrm>
            <a:off x="839880" y="0"/>
            <a:ext cx="979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1T14:52:48Z</dcterms:created>
  <dc:creator>Анна Полякова</dc:creator>
  <dc:description/>
  <dc:language>en-US</dc:language>
  <cp:lastModifiedBy>Ольга</cp:lastModifiedBy>
  <cp:lastPrinted>2020-10-09T06:51:47Z</cp:lastPrinted>
  <dcterms:modified xsi:type="dcterms:W3CDTF">2020-11-29T09:36:46Z</dcterms:modified>
  <cp:revision>8</cp:revision>
  <dc:subject/>
  <dc:title>Презентация PowerPoint</dc:title>
</cp:coreProperties>
</file>