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2CDA-261A-4387-871A-EE2AD33E1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A13F-C454-4DC1-B04D-81678F07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3111-918D-4157-904E-6137B3A7D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2106-739E-4138-A925-8ED0BC4BD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59C3-BEF4-4D7E-B86F-7E57AEC45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B2E2-5F8F-4048-87F1-4739E666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D449-576C-4624-BEB9-D2FDCBEF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BD79-2FCC-4383-8FB0-E14243E1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4ECC-64DE-4C51-9499-C8454C13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8BDF-D92E-4604-891F-B5611396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3047-14C5-4792-B063-D288F5E6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1063-E7B4-47C2-9353-2A0515C1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EB37-B424-45EB-9900-52A178FF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C6B6-639C-4B3E-A03C-0F416290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5D38-D827-4836-86B8-29C64941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CCD8-CDEE-4FAD-8BD3-C01A72D89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8E1A-719A-42B3-93FA-EB81687E7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489A-AFB7-4C1F-A164-DA2BD206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1548-A6B7-4BFC-987A-4A56CE89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A520-4BD5-410A-97F5-6B18312E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0B47-E8EA-4632-8819-A1F5A861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93C5-911D-438C-85C2-71F5DCEA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8C80-3A59-43E5-A2F1-7E465492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9A98-A4FE-4DB4-9AF7-DF83C8CB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33cc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cc33">
                    <a:alpha val="0"/>
                  </a:srgbClr>
                </a:gs>
                <a:gs pos="100000">
                  <a:srgbClr val="2aa72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cd24c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4cd24c"/>
                </a:gs>
                <a:gs pos="100000">
                  <a:srgbClr val="33cc3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cc33">
                    <a:alpha val="0"/>
                  </a:srgbClr>
                </a:gs>
                <a:gs pos="100000">
                  <a:srgbClr val="2aa72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cd24c"/>
                </a:gs>
                <a:gs pos="100000">
                  <a:srgbClr val="33cc33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ED40-1C11-410A-A18C-FF0B3B0914FC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33cc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cc33">
                    <a:alpha val="0"/>
                  </a:srgbClr>
                </a:gs>
                <a:gs pos="100000">
                  <a:srgbClr val="2aa72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cc33">
                    <a:alpha val="0"/>
                  </a:srgbClr>
                </a:gs>
                <a:gs pos="100000">
                  <a:srgbClr val="2aa72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cd24c"/>
                </a:gs>
                <a:gs pos="100000">
                  <a:srgbClr val="33cc3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cd24c"/>
                </a:gs>
                <a:gs pos="100000">
                  <a:srgbClr val="33cc3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D538-18D4-45D7-ACDF-6B36A0C42A93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807876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Презентация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проекта</a:t>
            </a:r>
            <a:br>
              <a:rPr sz="5400"/>
            </a:br>
            <a:br>
              <a:rPr sz="5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16000" y="2997000"/>
            <a:ext cx="7416720" cy="27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e6b00"/>
                </a:solidFill>
                <a:latin typeface="Arial"/>
              </a:rPr>
              <a:t>ЗАГАД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WordArt 4"/>
          <p:cNvSpPr txBox="1"/>
          <p:nvPr/>
        </p:nvSpPr>
        <p:spPr>
          <a:xfrm>
            <a:off x="1042920" y="1916280"/>
            <a:ext cx="7058160" cy="12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1" lang="en-US" sz="44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0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1280" y="244440"/>
            <a:ext cx="8231040" cy="4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СПИСОК ЛИТЕРАТУРЫ</a:t>
            </a:r>
            <a:br>
              <a:rPr sz="3200"/>
            </a:b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0920" y="907920"/>
            <a:ext cx="859464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1. Виноградова Е. Наши любимые загадки. Санкт-Петербург. Сова. 2007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2. Даль В. И. Толковый словарь живого великорусского языка. 2-е изд. Москв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188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3. Елкина Н.В., Тарабарина Т.И. 1000 загадок. Ярославль. Академия развит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2004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4. Клименко Т. 1000 пословиц поговорок, загадок. Санкт-Петербург. Сова. 2008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5. Комкова А.Ю. Русские народные загадки. Москва. Омега. 2006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6. Лысаков В.Г. 1000 загадок. Москва. Полиграфиздат. 200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7. Ожегов С.И. Словарь русского языка. 4-е изд. Москва, 1997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8. Труднев В.П. Считай, смекай, отгадывай. Москва. Просвещение. 1970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9. Узорова О.В., Нефедова Е.А. Загадки для развития речи, внимания, памяти 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абстрактного мышления. Москва. Астрель. 2006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10. Узорова О.В., Нефедова Е.А.. Справочное пособие по русскому языку 1-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классы.Москва. Астрель. 2010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11. Узорова О.В., Нефедова Е.А. 100 познавательных текстов для обучения дет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чтению. Москва. Астрель. 2003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12. Ушакова О.Д. Загадки, считалки и скороговорки. Словарик школьни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Санкт-Петербург. Литера. 2010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13. Хрестоматия по фольклору. Составитель Селиванов Ф.М.. Моск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Просвещение. 197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244440"/>
            <a:ext cx="837396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Заключение.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4360" y="1197000"/>
            <a:ext cx="81612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Загадка учит думать и анализировать. При отгадывании развивается чётка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логика, способность к рассуждению и доказательству. Коллективное отгады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загадок и последующее обсуждение развивает речь и способству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формированию навыков общения. Составление загадок развивает творческо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мышление, фантазию и воображение. Сочиненные загадки отражают внутренн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мир ученика. А ещё загадки развивают чувство юмора и памя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сё это загадки делают ненавязчиво и весело. Но самое ценное то, что зна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приобретаются в процессе активной мыслительной деятель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Главным условием, обеспечивающим правильное понимание загадок 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правильное их отгадывание, является предварительное знакомство с те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предметами и явлениями, о которых идет речь в загадке. Поэтому нужно развив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себе умение систематически наблюдать жизнь, воспринимать предметы 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явления с разных сторон, видеть мир в многообразных связях и зависимостях, 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красках, звуках, движении и изменен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СПАСИБО ЗА ВНИМАНИЕ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slow" advTm="10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3"/>
          <p:cNvSpPr/>
          <p:nvPr/>
        </p:nvSpPr>
        <p:spPr>
          <a:xfrm>
            <a:off x="468360" y="1125360"/>
            <a:ext cx="799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Цель проекта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учиться отгадывать и загадывать загадки по мнемотаблицам, развивая логическо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ышление, память, речь и творческие способности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2"/>
          <p:cNvSpPr/>
          <p:nvPr/>
        </p:nvSpPr>
        <p:spPr>
          <a:xfrm>
            <a:off x="1979640" y="0"/>
            <a:ext cx="5832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дачи проекта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. Изучить необходимую информацию по теме с использованием различны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сточников, научиться обмениваться информацией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. Узнать, что такое загадка и её происхождение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. Дать классификацию загадок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усског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рода и загадки, придуманные учениками, нарисовать иллюстрации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280" y="244080"/>
            <a:ext cx="83026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Задачи проекта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94920" y="692280"/>
            <a:ext cx="8209080" cy="55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4. Провести диагностику умения отгадывать загадки у детей 8-9 л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(учеников 2 класса гимназии №2), провести оценку получен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езультатов, разработать решения и соответствующие мероприят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5. Создать алгоритмы для отгадывания и сочинения загад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6. Создать сборник загадок, в который собрать народные загад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9640" y="189000"/>
            <a:ext cx="83059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ЭТАПЫ ПРОЕК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1.Этап.Подготовительн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2.Этап. Основн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3.Этап. Заключительн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92000" y="244440"/>
            <a:ext cx="7149960" cy="2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0920" y="333000"/>
            <a:ext cx="82342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ид проекта: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Творческий, группов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одолжительность проекта: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Долгосрочн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частники проекта: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Дети средней группы педагоги и родите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78920" y="189000"/>
            <a:ext cx="866628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ктуальность тем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азвивающие возможности загадки многообразны, они воспитывают находчивость, сообразительность, стимулируют умственную активность, развивают мышление, речь, память, внимание, воображение, расширяют запас знаний и представлений о окружающем ми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69932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Предполагаемый результат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50560" y="98064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.Повышение интереса к устному народному творчеств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.Расширение знаний о окружающем мире, расширение знаний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3.Совершенствование диалогической и монологическ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4.Пополнение картотеки народными загадками и мнемотаблиц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5.Создание сборника загадок силами роди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2422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Выводы: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23640" y="907560"/>
            <a:ext cx="852156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еализация данного пособия сближает всех детей и воспитателя. У детей расширяется кругозор, совершенствуется мыслительная деятельность. Приносит воспитателю пополнение предметно-развивающей среды в виде серии эксклюзивных мнемотаблиц и картотеки загад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 результате реализации пособия подтвердилась гипотеза, что загадки – это отличный способ получения, расширения и закрепления знаний по определенной тем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04:49:21Z</dcterms:created>
  <dc:creator>pptforschool.ru</dc:creator>
  <dc:description/>
  <dc:language>en-US</dc:language>
  <cp:lastModifiedBy>User</cp:lastModifiedBy>
  <dcterms:modified xsi:type="dcterms:W3CDTF">2020-11-29T16:11:09Z</dcterms:modified>
  <cp:revision>142</cp:revision>
  <dc:subject/>
  <dc:title>Slajd 1</dc:title>
</cp:coreProperties>
</file>