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2F97-C57C-4EC5-8FE8-12C8B2489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3E8C-9E09-4525-A449-7DB0FBE82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31CB-87A0-49A5-9700-E14685A67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06A2-B6E2-4BD3-81D5-1B5E56DFE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C7151-7198-4D3D-A7A5-BB88BCE86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2F52C-FED4-4967-8249-BD9F84866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162D4-A34D-4CA7-BD47-F09D520B8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687A4-C79E-4254-9960-7AAB417CB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92FBB-1EA5-4718-B3F8-54A713493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7F779-1119-4001-903C-C8B241541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391D0-944F-41ED-AE42-EBE38C318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8EB8-23FF-4C30-B4B3-1419C6413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68BBD-B721-49F3-A13C-DCA2B0BB5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75BA9-8A05-4525-93BD-93A5828D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8D622-15BD-46CA-8D8C-5193C529E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33007-C77C-401F-AA5F-B327124BB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49292-219A-440C-B185-3EB30060C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DD06-00EF-4531-80CA-57AAC9EDF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52C1-B315-4FAF-B4B9-2776BB195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4F62-D8FF-4F27-BE46-4894B9FBD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9C59-EBA5-4EEE-8E36-CEECED889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158F-230C-48BA-8622-3C4F46719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F5CC-3DF6-42EA-8F0B-E80012EA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3C7C-0664-4B11-8428-630B23D4D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cc3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33cc3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cc33">
                    <a:alpha val="0"/>
                  </a:srgbClr>
                </a:gs>
                <a:gs pos="100000">
                  <a:srgbClr val="2aa72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cd24c"/>
                </a:gs>
                <a:gs pos="100000">
                  <a:srgbClr val="33cc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4cd24c"/>
                </a:gs>
                <a:gs pos="100000">
                  <a:srgbClr val="33cc3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cc33">
                    <a:alpha val="0"/>
                  </a:srgbClr>
                </a:gs>
                <a:gs pos="100000">
                  <a:srgbClr val="2aa72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cd24c"/>
                </a:gs>
                <a:gs pos="100000">
                  <a:srgbClr val="33cc33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50D31-2604-4982-B891-52BB03B7F416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33cc3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cc3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cc33">
                    <a:alpha val="0"/>
                  </a:srgbClr>
                </a:gs>
                <a:gs pos="100000">
                  <a:srgbClr val="2aa72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cc33">
                    <a:alpha val="0"/>
                  </a:srgbClr>
                </a:gs>
                <a:gs pos="100000">
                  <a:srgbClr val="2aa72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cd24c"/>
                </a:gs>
                <a:gs pos="100000">
                  <a:srgbClr val="33cc3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cd24c"/>
                </a:gs>
                <a:gs pos="100000">
                  <a:srgbClr val="33cc3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6D62B-2C8B-4BC1-A9C0-51958591B3D1}" type="slidenum"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000" y="549000"/>
            <a:ext cx="807876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Презентация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проекта</a:t>
            </a:r>
            <a:br>
              <a:rPr sz="5400"/>
            </a:br>
            <a:br>
              <a:rPr sz="5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116000" y="2997000"/>
            <a:ext cx="7416720" cy="271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e6b00"/>
                </a:solidFill>
                <a:latin typeface="Arial"/>
              </a:rPr>
              <a:t>ЗАГАДК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WordArt 4"/>
          <p:cNvSpPr txBox="1"/>
          <p:nvPr/>
        </p:nvSpPr>
        <p:spPr>
          <a:xfrm>
            <a:off x="1042920" y="1916280"/>
            <a:ext cx="7058160" cy="120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1" lang="en-US" sz="44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10000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11280" y="244440"/>
            <a:ext cx="8231040" cy="44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СПИСОК ЛИТЕРАТУРЫ</a:t>
            </a:r>
            <a:br>
              <a:rPr sz="3200"/>
            </a:b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50920" y="907920"/>
            <a:ext cx="859464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1. Виноградова Е. Наши любимые загадки. Санкт-Петербург. Сова. 2007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2. Даль В. И. Толковый словарь живого великорусского языка. 2-е изд. Москва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1882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3. Елкина Н.В., Тарабарина Т.И. 1000 загадок. Ярославль. Академия развит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2004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4. Клименко Т. 1000 пословиц поговорок, загадок. Санкт-Петербург. Сова. 2008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5. Комкова А.Ю. Русские народные загадки. Москва. Омега. 2006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6. Лысаков В.Г. 1000 загадок. Москва. Полиграфиздат. 2002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7. Ожегов С.И. Словарь русского языка. 4-е изд. Москва, 1997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8. Труднев В.П. Считай, смекай, отгадывай. Москва. Просвещение. 1970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9. Узорова О.В., Нефедова Е.А. Загадки для развития речи, внимания, памяти 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абстрактного мышления. Москва. Астрель. 2006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10. Узорова О.В., Нефедова Е.А.. Справочное пособие по русскому языку 1-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классы.Москва. Астрель. 2010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11. Узорова О.В., Нефедова Е.А. 100 познавательных текстов для обучения дете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чтению. Москва. Астрель. 2003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12. Ушакова О.Д. Загадки, считалки и скороговорки. Словарик школьник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Санкт-Петербург. Литера. 2010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13. Хрестоматия по фольклору. Составитель Селиванов Ф.М.. Москв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Просвещение. 1972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000" y="244440"/>
            <a:ext cx="8373960" cy="73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Заключение.</a:t>
            </a:r>
            <a:br>
              <a:rPr sz="3200"/>
            </a:b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84360" y="1197000"/>
            <a:ext cx="816120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Загадка учит думать и анализировать. При отгадывании развивается чётка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логика, способность к рассуждению и доказательству. Коллективное отгадыва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загадок и последующее обсуждение развивает речь и способству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формированию навыков общения. Составление загадок развивает творческо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мышление, фантазию и воображение. Сочиненные загадки отражают внутренн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мир ученика. А ещё загадки развивают чувство юмора и памят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Всё это загадки делают ненавязчиво и весело. Но самое ценное то, что зна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приобретаются в процессе активной мыслительной деятельност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Главным условием, обеспечивающим правильное понимание загадок 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правильное их отгадывание, является предварительное знакомство с тем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предметами и явлениями, о которых идет речь в загадке. Поэтому нужно развива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в себе умение систематически наблюдать жизнь, воспринимать предметы 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явления с разных сторон, видеть мир в многообразных связях и зависимостях, 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красках, звуках, движении и изменен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СПАСИБО ЗА ВНИМАНИЕ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 spd="slow" advTm="10000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3"/>
          <p:cNvSpPr/>
          <p:nvPr/>
        </p:nvSpPr>
        <p:spPr>
          <a:xfrm>
            <a:off x="468360" y="1125360"/>
            <a:ext cx="7991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Цель проекта: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аучиться отгадывать и загадывать загадки по мнемотаблицам, развивая логическое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ышление, память, речь и творческие способности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2"/>
          <p:cNvSpPr/>
          <p:nvPr/>
        </p:nvSpPr>
        <p:spPr>
          <a:xfrm>
            <a:off x="1979640" y="0"/>
            <a:ext cx="5832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дачи проекта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. Изучить необходимую информацию по теме с использованием различных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сточников, научиться обмениваться информацией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. Узнать, что такое загадка и её происхождение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. Дать классификацию загадок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усского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арода и загадки, придуманные учениками, нарисовать иллюстрации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280" y="244080"/>
            <a:ext cx="830268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Задачи проекта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94920" y="692280"/>
            <a:ext cx="8209080" cy="55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4. Провести диагностику умения отгадывать загадки у детей 8-9 л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(учеников 2 класса гимназии №2), провести оценку полученны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результатов, разработать решения и соответствующие мероприят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5. Создать алгоритмы для отгадывания и сочинения загадо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6. Создать сборник загадок, в который собрать народные загад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9640" y="189000"/>
            <a:ext cx="830592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ЭТАПЫ ПРОЕК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1.Этап.Подготовительны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2.Этап. Основн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3.Этап. Заключительны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92000" y="244440"/>
            <a:ext cx="7149960" cy="2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10920" y="333000"/>
            <a:ext cx="823428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Вид проекта: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Творческий, группов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родолжительность проекта: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Долгосрочны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Участники проекта: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Дети средней группы педагоги и родител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78920" y="189000"/>
            <a:ext cx="866628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Актуальность тем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Развивающие возможности загадки многообразны, они воспитывают находчивость, сообразительность, стимулируют умственную активность, развивают мышление, речь, память, внимание, воображение, расширяют запас знаний и представлений о окружающем мир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15640" y="333000"/>
            <a:ext cx="769932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Предполагаемый результат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250560" y="980640"/>
            <a:ext cx="8497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1.Повышение интереса к устному народному творчеств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2.Расширение знаний о окружающем мире, расширение знаний дет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3.Совершенствование диалогической и монологическ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4.Пополнение картотеки народными загадками и мнемотаблиц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5.Создание сборника загадок силами родител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82422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Выводы: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23640" y="907560"/>
            <a:ext cx="852156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Реализация данного пособия сближает всех детей и воспитателя. У детей расширяется кругозор, совершенствуется мыслительная деятельность. Приносит воспитателю пополнение предметно-развивающей среды в виде серии эксклюзивных мнемотаблиц и картотеки загадо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 результате реализации пособия подтвердилась гипотеза, что загадки – это отличный способ получения, расширения и закрепления знаний по определенной тем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8T04:49:21Z</dcterms:created>
  <dc:creator>pptforschool.ru</dc:creator>
  <dc:description/>
  <dc:language>en-US</dc:language>
  <cp:lastModifiedBy>User</cp:lastModifiedBy>
  <dcterms:modified xsi:type="dcterms:W3CDTF">2020-11-29T16:11:09Z</dcterms:modified>
  <cp:revision>142</cp:revision>
  <dc:subject/>
  <dc:title>Slajd 1</dc:title>
</cp:coreProperties>
</file>