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527F-377E-4D3E-A0E6-0D693BCDA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135D-076D-46E1-B78D-E5A1EDBC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4583-59A7-4EAB-B9F3-B680A5471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2EB2-2150-4D82-B90F-9E88BFE35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C093-579E-484C-B3F1-4B409FF3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F34C-2684-44AB-ABD2-E9742A3E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7594-D77A-4C78-B479-CC2C18B8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81F9-7603-4252-9D9C-9ACD923C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06B0-CFB9-4D4B-BC6C-6A03EBAC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D536-F787-4ABC-BA49-3590FA22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60A0-D3B3-4EB9-8C45-A2012AA0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10F2-9649-4CCA-B336-FA62A536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8072-A032-45F4-B7C6-A6387E6B7C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71840" y="1142640"/>
            <a:ext cx="628632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76092"/>
                </a:solidFill>
                <a:latin typeface="Calibri"/>
              </a:rPr>
              <a:t>Санкт Петербург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143240" y="928440"/>
            <a:ext cx="4700880" cy="47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Тема презентаци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22"/>
          <p:cNvSpPr/>
          <p:nvPr/>
        </p:nvSpPr>
        <p:spPr>
          <a:xfrm>
            <a:off x="7086600" y="42591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D:\mygeography\Презентации\Санкт-Петербург\most.jpg"/>
          <p:cNvPicPr/>
          <p:nvPr/>
        </p:nvPicPr>
        <p:blipFill>
          <a:blip r:embed="rId1"/>
          <a:stretch/>
        </p:blipFill>
        <p:spPr>
          <a:xfrm>
            <a:off x="1500120" y="3000240"/>
            <a:ext cx="4278240" cy="2767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D:\mygeography\Презентации\Санкт-Петербург\isaakii.jpg"/>
          <p:cNvPicPr/>
          <p:nvPr/>
        </p:nvPicPr>
        <p:blipFill>
          <a:blip r:embed="rId2"/>
          <a:stretch/>
        </p:blipFill>
        <p:spPr>
          <a:xfrm>
            <a:off x="285840" y="642960"/>
            <a:ext cx="3343320" cy="2357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D:\mygeography\Презентации\Санкт-Петербург\ermitag.jpg"/>
          <p:cNvPicPr/>
          <p:nvPr/>
        </p:nvPicPr>
        <p:blipFill>
          <a:blip r:embed="rId3"/>
          <a:stretch/>
        </p:blipFill>
        <p:spPr>
          <a:xfrm>
            <a:off x="4929120" y="3857760"/>
            <a:ext cx="37767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400" y="428760"/>
            <a:ext cx="825804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6092"/>
                </a:solidFill>
                <a:latin typeface="Calibri"/>
              </a:rPr>
              <a:t>Основание гор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26"/>
          <p:cNvSpPr/>
          <p:nvPr/>
        </p:nvSpPr>
        <p:spPr>
          <a:xfrm>
            <a:off x="428760" y="1143000"/>
            <a:ext cx="7572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та основания Санкт-Петербурга – 16 мая 170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этот день Петр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заложил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тропавловскую крепост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следующем, 1704 году для защиты морских рубежей Росси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острове Котлин была основана крепость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ронштад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вому городу Пётр I придавал важное стратегическо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начение для обеспечения водного пути из России в Западную Европ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6" descr="D:\mygeography\Презентации\Санкт-Петербург\petr.jpg"/>
          <p:cNvPicPr/>
          <p:nvPr/>
        </p:nvPicPr>
        <p:blipFill>
          <a:blip r:embed="rId1"/>
          <a:stretch/>
        </p:blipFill>
        <p:spPr>
          <a:xfrm>
            <a:off x="6858000" y="1000080"/>
            <a:ext cx="2001960" cy="1928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7" descr="D:\mygeography\Ленинградская область\Петропавловская крепость\ptk5.jpg"/>
          <p:cNvPicPr/>
          <p:nvPr/>
        </p:nvPicPr>
        <p:blipFill>
          <a:blip r:embed="rId2"/>
          <a:stretch/>
        </p:blipFill>
        <p:spPr>
          <a:xfrm>
            <a:off x="539640" y="3645000"/>
            <a:ext cx="3929040" cy="2773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0" descr="D:\mygeography\Ленинградская область\Петропавловская крепость\ptk6.jpg"/>
          <p:cNvPicPr/>
          <p:nvPr/>
        </p:nvPicPr>
        <p:blipFill>
          <a:blip r:embed="rId3"/>
          <a:stretch/>
        </p:blipFill>
        <p:spPr>
          <a:xfrm>
            <a:off x="4500720" y="3645000"/>
            <a:ext cx="3919320" cy="27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825804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76092"/>
                </a:solidFill>
                <a:latin typeface="Calibri"/>
              </a:rPr>
              <a:t>Санкт-Петербург – столица Российской импери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285840" y="857160"/>
            <a:ext cx="8501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1712 года город провозглашается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олицей Росси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результате пожаров и наводнений многие здания петровского Петербурга к середине XVIII века пришли в ветхое состояние или были уничтоже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1737 году утверждается идея трёхлучевого развития Петербурга от Адмиралтейства, становившегося композиционным центром, а роль главной магистрали отводилась Невскому проспект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 концу XVIII века население города превысило 200 тысяч чело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D:\mygeography\Презентации\Санкт-Петербург\nevskyi-XVIII.jpg"/>
          <p:cNvPicPr/>
          <p:nvPr/>
        </p:nvPicPr>
        <p:blipFill>
          <a:blip r:embed="rId1"/>
          <a:stretch/>
        </p:blipFill>
        <p:spPr>
          <a:xfrm>
            <a:off x="357120" y="3643200"/>
            <a:ext cx="82836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825804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76092"/>
                </a:solidFill>
                <a:latin typeface="Calibri"/>
              </a:rPr>
              <a:t>Санкт-Петербург – столица Российской импери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285840" y="857160"/>
            <a:ext cx="8858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IX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ке происходит бурное развитие промышленности — уже к середине 1830-х годов в Санкт-Петербурге действует около 300 фабрик и заво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крываются новые водные системы — Мариинская и Тихвинская, в 1828 году — Северо-Двинский кана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1836 году построена первая железная дорога между Петербургом и Царским Сел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крывается Пулковская обсерватория, Русское Географическое общество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8 августа 1851 года из Петербурга в Москву ушёл первый поезд.  Построены Московский (Николаевский), Варшавский, Балтийский, Финляндский вокзал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1885 году завершится постройка Морского канала и Морского пор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D:\mygeography\Презентации\Санкт-Петербург\map-XIX-50.jpg"/>
          <p:cNvPicPr/>
          <p:nvPr/>
        </p:nvPicPr>
        <p:blipFill>
          <a:blip r:embed="rId1"/>
          <a:stretch/>
        </p:blipFill>
        <p:spPr>
          <a:xfrm>
            <a:off x="4643280" y="3929040"/>
            <a:ext cx="3980160" cy="2530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D:\mygeography\Презентации\Санкт-Петербург\map-XIX-20.jpg"/>
          <p:cNvPicPr/>
          <p:nvPr/>
        </p:nvPicPr>
        <p:blipFill>
          <a:blip r:embed="rId2"/>
          <a:stretch/>
        </p:blipFill>
        <p:spPr>
          <a:xfrm>
            <a:off x="500040" y="3929040"/>
            <a:ext cx="362412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825804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6092"/>
                </a:solidFill>
                <a:latin typeface="Calibri"/>
              </a:rPr>
              <a:t>Санкт-Петербург в ХХ ве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285840" y="857160"/>
            <a:ext cx="85010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ород трёх революций. Гражданская вой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1897 года население города составляло 1265 тысяч жителей, а к началу Первой мировой войны превысило 2 миллиона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усская революция 1905—1907 годов, Первая мировая война, Февральская революция сильно повлияли на судьбу Санкт-Петербурга и всей  Росс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августе 1914 года город переименовывается в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троград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ле Октябрьской революции правительство уезжает в Москву, Петроград лишается столичного стату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6 января 1924 года решением ЦК ВКП(б) город переименовывается в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енинград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ветский Петроград-Ленингр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 1920 году оно составляет лишь 722 000 человек , но благодаря НЭПу жизнь в городе постепенно налаживается. Продолжается активная жилищная застрой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 время Великой Отечественной войны почти 900 дней была полная блокада города. Начиная с 1947 года в Ленинграде развиваются как восстановительные, так и интенсивные строительные рабо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 октября 1955 года в метро запущен первый обкаточный электропоезд, а уже 5 ноября был подписан акт о сдаче в эксплуатацию первой очереди ленинградского метрополите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991 городу вернули названи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нкт-Петербур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6092"/>
                </a:solidFill>
                <a:latin typeface="Calibri"/>
              </a:rPr>
              <a:t>Современный Санкт-Петербур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4"/>
          <p:cNvSpPr/>
          <p:nvPr/>
        </p:nvSpPr>
        <p:spPr>
          <a:xfrm>
            <a:off x="214200" y="857160"/>
            <a:ext cx="857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егодня Санкт-Петербург  -  город федерального значения Российской Федерации, административный центр Северо-Западного федерального окру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селение — 4,6 миллиона челов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ощадь территории города — 1439 км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последние годы в городе  установлено много памятников. Отреставрированы и восстановлены — Константиновский дворец, храм Спаса на Крови и многие другие.  После долгого перерыва 25 мая 1991 года церковная служба прошла в Казанском соборе.  В 2001 году начинается строительство Кольцевой автодороги вокруг Петербурга, 15 декабря 2004 года открывается Большой Обуховский мост. Продолжается развитие метрополит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9" descr="D:\mygeography\Ленинградская область\Петропавловская крепость\ptk4.jpg"/>
          <p:cNvPicPr/>
          <p:nvPr/>
        </p:nvPicPr>
        <p:blipFill>
          <a:blip r:embed="rId1"/>
          <a:stretch/>
        </p:blipFill>
        <p:spPr>
          <a:xfrm>
            <a:off x="4929120" y="4071960"/>
            <a:ext cx="3357720" cy="2543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D:\mygeography\Презентации\Санкт-Петербург\konstant2.jpg"/>
          <p:cNvPicPr/>
          <p:nvPr/>
        </p:nvPicPr>
        <p:blipFill>
          <a:blip r:embed="rId2"/>
          <a:stretch/>
        </p:blipFill>
        <p:spPr>
          <a:xfrm>
            <a:off x="714240" y="4071960"/>
            <a:ext cx="30718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825804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6092"/>
                </a:solidFill>
                <a:latin typeface="Calibri"/>
              </a:rPr>
              <a:t>Географическое поло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214200" y="785880"/>
            <a:ext cx="8715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анкт-Петербург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является самым северным из городов мира с населением свыше миллиона челов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род расположен в пределах Приневской низменности, на прилегающем к устью реки Невы побережье Невской губы Финского залива и на многочисленных островах Невской дель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сота города над уровнем моря: для центральных районов — 1—5 м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мое высокое место в черте города — Дудергофские высоты в районе Красного Села с максимальной высотой 176 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сокоширотным положением города объясняется явлени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елых ноче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D:\mygeography\Презентации\Санкт-Петербург\bn2.jpg"/>
          <p:cNvPicPr/>
          <p:nvPr/>
        </p:nvPicPr>
        <p:blipFill>
          <a:blip r:embed="rId1"/>
          <a:stretch/>
        </p:blipFill>
        <p:spPr>
          <a:xfrm>
            <a:off x="4786200" y="3643200"/>
            <a:ext cx="3934080" cy="2936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D:\mygeography\Презентации\Санкт-Петербург\pn.jpg"/>
          <p:cNvPicPr/>
          <p:nvPr/>
        </p:nvPicPr>
        <p:blipFill>
          <a:blip r:embed="rId2"/>
          <a:stretch/>
        </p:blipFill>
        <p:spPr>
          <a:xfrm>
            <a:off x="380880" y="3643200"/>
            <a:ext cx="39052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6092"/>
                </a:solidFill>
                <a:latin typeface="Calibri"/>
              </a:rPr>
              <a:t>Экономика гор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14"/>
          <p:cNvSpPr/>
          <p:nvPr/>
        </p:nvSpPr>
        <p:spPr>
          <a:xfrm>
            <a:off x="214200" y="857160"/>
            <a:ext cx="8643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нкт-Петербург — один из важнейших экономических центров Р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кономика города базируется в основном на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мышленност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уриз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а промышленности Санкт-Петербурга —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яжёлая индустр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нкт-Петербург — крупнейший российский центр военного и гражданского судостроения и судоремо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кже развито станко, приборостроение, производство оптики , электроприборов  и электронной техники.  Значительный объём промышленного производства формируется предприятиями отрасли производства вооружений. Развита чёрная и цветная металлургия , химическая, лёгкая, полиграфическая промышленн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щественную роль в экономике города играет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уристический бизнес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В 2005 году Санкт-Петербург посетили около 2,18 млн иностранных туристов. Всего, с учётом российских туристов, город в 2005 году посетило около 4,5 млн челов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D:\mygeography\Презентации\Санкт-Петербург\tr1.jpg"/>
          <p:cNvPicPr/>
          <p:nvPr/>
        </p:nvPicPr>
        <p:blipFill>
          <a:blip r:embed="rId1"/>
          <a:stretch/>
        </p:blipFill>
        <p:spPr>
          <a:xfrm>
            <a:off x="6143760" y="4857840"/>
            <a:ext cx="2527200" cy="1800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D:\mygeography\Презентации\Санкт-Петербург\sr.jpg"/>
          <p:cNvPicPr/>
          <p:nvPr/>
        </p:nvPicPr>
        <p:blipFill>
          <a:blip r:embed="rId2"/>
          <a:stretch/>
        </p:blipFill>
        <p:spPr>
          <a:xfrm>
            <a:off x="3357720" y="4857840"/>
            <a:ext cx="2325600" cy="1800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D:\mygeography\Презентации\Санкт-Петербург\kz.jpg"/>
          <p:cNvPicPr/>
          <p:nvPr/>
        </p:nvPicPr>
        <p:blipFill>
          <a:blip r:embed="rId3"/>
          <a:stretch/>
        </p:blipFill>
        <p:spPr>
          <a:xfrm>
            <a:off x="428760" y="4857840"/>
            <a:ext cx="25635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6092"/>
                </a:solidFill>
                <a:latin typeface="Calibri"/>
              </a:rPr>
              <a:t>Достопримечательности Санкт-Петербур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http://yourcity.spb.ru/datas/users/1-sob_03_1.jpg"/>
          <p:cNvPicPr/>
          <p:nvPr/>
        </p:nvPicPr>
        <p:blipFill>
          <a:blip r:embed="rId1"/>
          <a:stretch/>
        </p:blipFill>
        <p:spPr>
          <a:xfrm>
            <a:off x="4010040" y="3009960"/>
            <a:ext cx="5133960" cy="3848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http://viaestvita.net/wp-content/uploads/2010/09/11111111.jpg"/>
          <p:cNvPicPr/>
          <p:nvPr/>
        </p:nvPicPr>
        <p:blipFill>
          <a:blip r:embed="rId2"/>
          <a:stretch/>
        </p:blipFill>
        <p:spPr>
          <a:xfrm>
            <a:off x="0" y="3429000"/>
            <a:ext cx="4017960" cy="3429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http://s011.radikal.ru/i318/1102/49/7efce8c3c750.jpg"/>
          <p:cNvPicPr/>
          <p:nvPr/>
        </p:nvPicPr>
        <p:blipFill>
          <a:blip r:embed="rId3"/>
          <a:stretch/>
        </p:blipFill>
        <p:spPr>
          <a:xfrm>
            <a:off x="0" y="692280"/>
            <a:ext cx="4017960" cy="2768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http://visit-petersburg.invest.gov.spb.ru/img/v3/JbKVR78C16W67CjE2hegIoiCX0vvT3.jpg"/>
          <p:cNvPicPr/>
          <p:nvPr/>
        </p:nvPicPr>
        <p:blipFill>
          <a:blip r:embed="rId4"/>
          <a:stretch/>
        </p:blipFill>
        <p:spPr>
          <a:xfrm>
            <a:off x="4010040" y="692280"/>
            <a:ext cx="513396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04:08:07Z</dcterms:created>
  <dc:creator>Terran</dc:creator>
  <dc:description/>
  <dc:language>en-US</dc:language>
  <cp:lastModifiedBy>нодж</cp:lastModifiedBy>
  <dcterms:modified xsi:type="dcterms:W3CDTF">2013-04-25T17:20:02Z</dcterms:modified>
  <cp:revision>46</cp:revision>
  <dc:subject/>
  <dc:title>Центральная Россия</dc:title>
</cp:coreProperties>
</file>