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1B9-EC84-4A05-8B24-07FCA37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439-F33E-48DF-943A-C5F8EE70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7AF-9A24-4AD6-AA05-5A3F91BB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F28-18E9-48B4-AC12-72F56CE1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99B-3661-43A7-8ECB-A51D7F57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AE9-C48D-4814-B83F-1EF6C8FB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5E7-A9F9-4826-A311-D56721C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B1C-D9D8-4C00-B7BC-5548652F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724-58AE-4F4C-AFE4-152DA56E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437-C3FD-42FB-A9B3-28927E25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AEA-C0DD-4599-8C79-53E5F0E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AA4-1F44-412C-8519-740D2B8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733-F3AE-4042-954B-43ECADDFF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71840" y="1142640"/>
            <a:ext cx="62863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76092"/>
                </a:solidFill>
                <a:latin typeface="Calibri"/>
              </a:rPr>
              <a:t>Санкт Петербур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3240" y="928440"/>
            <a:ext cx="470088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Тема презен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7086600" y="42591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D:\mygeography\Презентации\Санкт-Петербург\most.jpg"/>
          <p:cNvPicPr/>
          <p:nvPr/>
        </p:nvPicPr>
        <p:blipFill>
          <a:blip r:embed="rId1"/>
          <a:stretch/>
        </p:blipFill>
        <p:spPr>
          <a:xfrm>
            <a:off x="1500120" y="3000240"/>
            <a:ext cx="4278240" cy="276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D:\mygeography\Презентации\Санкт-Петербург\isaakii.jpg"/>
          <p:cNvPicPr/>
          <p:nvPr/>
        </p:nvPicPr>
        <p:blipFill>
          <a:blip r:embed="rId2"/>
          <a:stretch/>
        </p:blipFill>
        <p:spPr>
          <a:xfrm>
            <a:off x="285840" y="642960"/>
            <a:ext cx="3343320" cy="235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mygeography\Презентации\Санкт-Петербург\ermitag.jpg"/>
          <p:cNvPicPr/>
          <p:nvPr/>
        </p:nvPicPr>
        <p:blipFill>
          <a:blip r:embed="rId3"/>
          <a:stretch/>
        </p:blipFill>
        <p:spPr>
          <a:xfrm>
            <a:off x="4929120" y="3857760"/>
            <a:ext cx="3776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снование 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428760" y="1143000"/>
            <a:ext cx="757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 основания Санкт-Петербурга – 16 мая 170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этот день Пет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ложи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тропавловскую креп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ледующем, 1704 году для защиты морских рубежей Росс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трове Котлин была основана крепост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онштад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ому городу Пётр I придавал важное стратегическ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для обеспечения водного пути из России в Западную Евро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6" descr="D:\mygeography\Презентации\Санкт-Петербург\petr.jpg"/>
          <p:cNvPicPr/>
          <p:nvPr/>
        </p:nvPicPr>
        <p:blipFill>
          <a:blip r:embed="rId1"/>
          <a:stretch/>
        </p:blipFill>
        <p:spPr>
          <a:xfrm>
            <a:off x="6858000" y="1000080"/>
            <a:ext cx="20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D:\mygeography\Ленинградская область\Петропавловская крепость\ptk5.jpg"/>
          <p:cNvPicPr/>
          <p:nvPr/>
        </p:nvPicPr>
        <p:blipFill>
          <a:blip r:embed="rId2"/>
          <a:stretch/>
        </p:blipFill>
        <p:spPr>
          <a:xfrm>
            <a:off x="539640" y="3645000"/>
            <a:ext cx="3929040" cy="277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D:\mygeography\Ленинградская область\Петропавловская крепость\ptk6.jpg"/>
          <p:cNvPicPr/>
          <p:nvPr/>
        </p:nvPicPr>
        <p:blipFill>
          <a:blip r:embed="rId3"/>
          <a:stretch/>
        </p:blipFill>
        <p:spPr>
          <a:xfrm>
            <a:off x="4500720" y="3645000"/>
            <a:ext cx="391932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76092"/>
                </a:solidFill>
                <a:latin typeface="Calibri"/>
              </a:rPr>
              <a:t>Санкт-Петербург – столица Российской импер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85840" y="85716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712 года город провозглаша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лицей Росси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зультате пожаров и наводнений многие здания петровского Петербурга к середине XVIII века пришли в ветхое состояние или были уничто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737 году утверждается идея трёхлучевого развития Петербурга от Адмиралтейства, становившегося композиционным центром, а роль главной магистрали отводилась Невскому проспек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концу XVIII века население города превысило 200 тысяч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:\mygeography\Презентации\Санкт-Петербург\nevskyi-XVIII.jpg"/>
          <p:cNvPicPr/>
          <p:nvPr/>
        </p:nvPicPr>
        <p:blipFill>
          <a:blip r:embed="rId1"/>
          <a:stretch/>
        </p:blipFill>
        <p:spPr>
          <a:xfrm>
            <a:off x="357120" y="3643200"/>
            <a:ext cx="8283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76092"/>
                </a:solidFill>
                <a:latin typeface="Calibri"/>
              </a:rPr>
              <a:t>Санкт-Петербург – столица Российской импер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5840" y="857160"/>
            <a:ext cx="88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е происходит бурное развитие промышленности — уже к середине 1830-х годов в Санкт-Петербурге действует около 300 фабрик и зав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ются новые водные системы — Мариинская и Тихвинская, в 1828 году — Северо-Двинский кан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36 году построена первая железная дорога между Петербургом и Царским Се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ся Пулковская обсерватория, Русское Географическое обществ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 августа 1851 года из Петербурга в Москву ушёл первый поезд.  Построены Московский (Николаевский), Варшавский, Балтийский, Финляндский вокза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85 году завершится постройка Морского канала и Морского 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:\mygeography\Презентации\Санкт-Петербург\map-XIX-50.jpg"/>
          <p:cNvPicPr/>
          <p:nvPr/>
        </p:nvPicPr>
        <p:blipFill>
          <a:blip r:embed="rId1"/>
          <a:stretch/>
        </p:blipFill>
        <p:spPr>
          <a:xfrm>
            <a:off x="4643280" y="3929040"/>
            <a:ext cx="39801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mygeography\Презентации\Санкт-Петербург\map-XIX-20.jpg"/>
          <p:cNvPicPr/>
          <p:nvPr/>
        </p:nvPicPr>
        <p:blipFill>
          <a:blip r:embed="rId2"/>
          <a:stretch/>
        </p:blipFill>
        <p:spPr>
          <a:xfrm>
            <a:off x="500040" y="3929040"/>
            <a:ext cx="3624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Санкт-Петербург в ХХ ве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85840" y="857160"/>
            <a:ext cx="8501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од трёх революций. Граждан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97 года население города составляло 1265 тысяч жителей, а к началу Первой мировой войны превысило 2 миллион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ая революция 1905—1907 годов, Первая мировая война, Февральская революция сильно повлияли на судьбу Санкт-Петербурга и всей 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августе 1914 года город переименовываетс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трогра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Октябрьской революции правительство уезжает в Москву, Петроград лишается столичного стат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6 января 1924 года решением ЦК ВКП(б) город переименовываетс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нингра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ский Петроград-Ленин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1920 году оно составляет лишь 722 000 человек , но благодаря НЭПу жизнь в городе постепенно налаживается. Продолжается активная жилищная застрой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войны почти 900 дней была полная блокада города. Начиная с 1947 года в Ленинграде развиваются как восстановительные, так и интенсивные строительные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 октября 1955 года в метро запущен первый обкаточный электропоезд, а уже 5 ноября был подписан акт о сдаче в эксплуатацию первой очереди ленинградского метрополит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91 городу вернули назв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Современный 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14200" y="85716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Санкт-Петербург  -  город федерального значения Российской Федерации, административный центр Северо-Западного федерального ок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еление — 4,6 миллиона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территории города — 1439 км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следние годы в городе  установлено много памятников. Отреставрированы и восстановлены — Константиновский дворец, храм Спаса на Крови и многие другие.  После долгого перерыва 25 мая 1991 года церковная служба прошла в Казанском соборе.  В 2001 году начинается строительство Кольцевой автодороги вокруг Петербурга, 15 декабря 2004 года открывается Большой Обуховский мост. Продолжается развитие метрополит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9" descr="D:\mygeography\Ленинградская область\Петропавловская крепость\ptk4.jpg"/>
          <p:cNvPicPr/>
          <p:nvPr/>
        </p:nvPicPr>
        <p:blipFill>
          <a:blip r:embed="rId1"/>
          <a:stretch/>
        </p:blipFill>
        <p:spPr>
          <a:xfrm>
            <a:off x="4929120" y="4071960"/>
            <a:ext cx="3357720" cy="25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D:\mygeography\Презентации\Санкт-Петербург\konstant2.jpg"/>
          <p:cNvPicPr/>
          <p:nvPr/>
        </p:nvPicPr>
        <p:blipFill>
          <a:blip r:embed="rId2"/>
          <a:stretch/>
        </p:blipFill>
        <p:spPr>
          <a:xfrm>
            <a:off x="714240" y="4071960"/>
            <a:ext cx="307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14200" y="785880"/>
            <a:ext cx="871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вляется самым северным из городов мира с населением свыше миллиона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од расположен в пределах Приневской низменности, на прилегающем к устью реки Невы побережье Невской губы Финского залива и на многочисленных островах Невской дель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города над уровнем моря: для центральных районов — 1—5 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е высокое место в черте города — Дудергофские высоты в районе Красного Села с максимальной высотой 176 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оширотным положением города объясняется явл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лых ноч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:\mygeography\Презентации\Санкт-Петербург\bn2.jpg"/>
          <p:cNvPicPr/>
          <p:nvPr/>
        </p:nvPicPr>
        <p:blipFill>
          <a:blip r:embed="rId1"/>
          <a:stretch/>
        </p:blipFill>
        <p:spPr>
          <a:xfrm>
            <a:off x="4786200" y="3643200"/>
            <a:ext cx="3934080" cy="2936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:\mygeography\Презентации\Санкт-Петербург\pn.jpg"/>
          <p:cNvPicPr/>
          <p:nvPr/>
        </p:nvPicPr>
        <p:blipFill>
          <a:blip r:embed="rId2"/>
          <a:stretch/>
        </p:blipFill>
        <p:spPr>
          <a:xfrm>
            <a:off x="380880" y="364320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Экономика 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4"/>
          <p:cNvSpPr/>
          <p:nvPr/>
        </p:nvSpPr>
        <p:spPr>
          <a:xfrm>
            <a:off x="214200" y="8571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т-Петербург — один из важнейших экономических центров Р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ка города базируется в основном 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ур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а промышленности Санкт-Петербурга —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яжёлая индустр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т-Петербург — крупнейший российский центр военного и гражданского судостроения и судорем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же развито станко, приборостроение, производство оптики , электроприборов  и электронной техники.  Значительный объём промышленного производства формируется предприятиями отрасли производства вооружений. Развита чёрная и цветная металлургия , химическая, лёгкая, полиграфическая промышле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ую роль в экономике города играе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уристический бизне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 2005 году Санкт-Петербург посетили около 2,18 млн иностранных туристов. Всего, с учётом российских туристов, город в 2005 году посетило около 4,5 млн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mygeography\Презентации\Санкт-Петербург\tr1.jpg"/>
          <p:cNvPicPr/>
          <p:nvPr/>
        </p:nvPicPr>
        <p:blipFill>
          <a:blip r:embed="rId1"/>
          <a:stretch/>
        </p:blipFill>
        <p:spPr>
          <a:xfrm>
            <a:off x="6143760" y="4857840"/>
            <a:ext cx="252720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:\mygeography\Презентации\Санкт-Петербург\sr.jpg"/>
          <p:cNvPicPr/>
          <p:nvPr/>
        </p:nvPicPr>
        <p:blipFill>
          <a:blip r:embed="rId2"/>
          <a:stretch/>
        </p:blipFill>
        <p:spPr>
          <a:xfrm>
            <a:off x="3357720" y="4857840"/>
            <a:ext cx="2325600" cy="180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D:\mygeography\Презентации\Санкт-Петербург\kz.jpg"/>
          <p:cNvPicPr/>
          <p:nvPr/>
        </p:nvPicPr>
        <p:blipFill>
          <a:blip r:embed="rId3"/>
          <a:stretch/>
        </p:blipFill>
        <p:spPr>
          <a:xfrm>
            <a:off x="428760" y="4857840"/>
            <a:ext cx="2563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Достопримечательности Санкт-Петербур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yourcity.spb.ru/datas/users/1-sob_03_1.jpg"/>
          <p:cNvPicPr/>
          <p:nvPr/>
        </p:nvPicPr>
        <p:blipFill>
          <a:blip r:embed="rId1"/>
          <a:stretch/>
        </p:blipFill>
        <p:spPr>
          <a:xfrm>
            <a:off x="4010040" y="3009960"/>
            <a:ext cx="5133960" cy="3848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viaestvita.net/wp-content/uploads/2010/09/11111111.jpg"/>
          <p:cNvPicPr/>
          <p:nvPr/>
        </p:nvPicPr>
        <p:blipFill>
          <a:blip r:embed="rId2"/>
          <a:stretch/>
        </p:blipFill>
        <p:spPr>
          <a:xfrm>
            <a:off x="0" y="3429000"/>
            <a:ext cx="401796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s011.radikal.ru/i318/1102/49/7efce8c3c750.jpg"/>
          <p:cNvPicPr/>
          <p:nvPr/>
        </p:nvPicPr>
        <p:blipFill>
          <a:blip r:embed="rId3"/>
          <a:stretch/>
        </p:blipFill>
        <p:spPr>
          <a:xfrm>
            <a:off x="0" y="692280"/>
            <a:ext cx="4017960" cy="2768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visit-petersburg.invest.gov.spb.ru/img/v3/JbKVR78C16W67CjE2hegIoiCX0vvT3.jpg"/>
          <p:cNvPicPr/>
          <p:nvPr/>
        </p:nvPicPr>
        <p:blipFill>
          <a:blip r:embed="rId4"/>
          <a:stretch/>
        </p:blipFill>
        <p:spPr>
          <a:xfrm>
            <a:off x="4010040" y="692280"/>
            <a:ext cx="5133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4:08:07Z</dcterms:created>
  <dc:creator>Terran</dc:creator>
  <dc:description/>
  <dc:language>en-US</dc:language>
  <cp:lastModifiedBy>нодж</cp:lastModifiedBy>
  <dcterms:modified xsi:type="dcterms:W3CDTF">2013-04-25T17:20:02Z</dcterms:modified>
  <cp:revision>46</cp:revision>
  <dc:subject/>
  <dc:title>Центральная Россия</dc:title>
</cp:coreProperties>
</file>