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AE5-ABD4-4A52-A32A-C5171EB2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75D-81E8-4559-92BA-348AD0DF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7B1-7EB4-440D-93DF-3C8576C2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46C-C586-47CD-9221-09ADE179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1FC-088F-40A7-BEB0-43AB47F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566-8111-42E3-A313-1465D086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D31-0E74-4329-8FBD-FC6B2CDF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65E-3A4A-451C-A90F-CDE6EE1F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CBF-6426-4960-BD88-F6FC6F3D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9AB-F12F-4AF7-A3C1-5A872735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FDC-A3C3-4A54-8F79-B2632C3F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C4D-C2CD-4D61-9723-03E4EEE6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4D2A-A27A-44A4-9E18-2F99B177F2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 rot="21081000">
            <a:off x="628560" y="2754360"/>
            <a:ext cx="8074080" cy="21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33ff"/>
                </a:solidFill>
                <a:effectLst>
                  <a:outerShdw dist="40186" dir="1096358" blurRad="0" rotWithShape="0">
                    <a:srgbClr val="eeece1">
                      <a:alpha val="80000"/>
                    </a:srgbClr>
                  </a:outerShdw>
                </a:effectLst>
                <a:latin typeface="Tahoma"/>
              </a:rPr>
              <a:t>Смежные и вертикальные угл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33ff"/>
              </a:solidFill>
              <a:effectLst>
                <a:outerShdw dist="40186" dir="1096358" blurRad="0" rotWithShape="0">
                  <a:srgbClr val="eeece1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2" name="Picture 4" descr="02"/>
          <p:cNvPicPr/>
          <p:nvPr/>
        </p:nvPicPr>
        <p:blipFill>
          <a:blip r:embed="rId1"/>
          <a:stretch/>
        </p:blipFill>
        <p:spPr>
          <a:xfrm>
            <a:off x="7286760" y="4572000"/>
            <a:ext cx="1285920" cy="17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Рисунок16"/>
          <p:cNvPicPr/>
          <p:nvPr/>
        </p:nvPicPr>
        <p:blipFill>
          <a:blip r:embed="rId2"/>
          <a:stretch/>
        </p:blipFill>
        <p:spPr>
          <a:xfrm>
            <a:off x="2071800" y="785880"/>
            <a:ext cx="1571400" cy="214308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3"/>
          <a:stretch/>
        </p:blipFill>
        <p:spPr>
          <a:xfrm>
            <a:off x="1200240" y="5761080"/>
            <a:ext cx="6022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rc 9"/>
          <p:cNvSpPr/>
          <p:nvPr/>
        </p:nvSpPr>
        <p:spPr>
          <a:xfrm flipV="1" rot="7710000">
            <a:off x="25920" y="4221360"/>
            <a:ext cx="852480" cy="905040"/>
          </a:xfrm>
          <a:custGeom>
            <a:avLst/>
            <a:gdLst>
              <a:gd name="textAreaLeft" fmla="*/ 0 w 852480"/>
              <a:gd name="textAreaRight" fmla="*/ 852840 w 852480"/>
              <a:gd name="textAreaTop" fmla="*/ 360 h 905040"/>
              <a:gd name="textAreaBottom" fmla="*/ 905760 h 905040"/>
            </a:gdLst>
            <a:ahLst/>
            <a:rect l="textAreaLeft" t="textAreaTop" r="textAreaRight" b="textAreaBottom"/>
            <a:pathLst>
              <a:path fill="none" w="21298" h="20853">
                <a:moveTo>
                  <a:pt x="5630" y="-1"/>
                </a:moveTo>
                <a:cubicBezTo>
                  <a:pt x="13772" y="2198"/>
                  <a:pt x="19891" y="8934"/>
                  <a:pt x="21297" y="17251"/>
                </a:cubicBezTo>
              </a:path>
              <a:path stroke="0" w="21298" h="20853">
                <a:moveTo>
                  <a:pt x="5630" y="-1"/>
                </a:moveTo>
                <a:cubicBezTo>
                  <a:pt x="13772" y="2198"/>
                  <a:pt x="19891" y="8934"/>
                  <a:pt x="21297" y="17251"/>
                </a:cubicBezTo>
                <a:lnTo>
                  <a:pt x="0" y="2085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327920" y="5072040"/>
            <a:ext cx="4493880" cy="1373760"/>
            <a:chOff x="4327920" y="5072040"/>
            <a:chExt cx="4493880" cy="1373760"/>
          </a:xfrm>
        </p:grpSpPr>
        <p:sp>
          <p:nvSpPr>
            <p:cNvPr id="178" name="Line 15"/>
            <p:cNvSpPr/>
            <p:nvPr/>
          </p:nvSpPr>
          <p:spPr>
            <a:xfrm>
              <a:off x="4357800" y="5720040"/>
              <a:ext cx="44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6"/>
            <p:cNvGrpSpPr/>
            <p:nvPr/>
          </p:nvGrpSpPr>
          <p:grpSpPr>
            <a:xfrm>
              <a:off x="4327920" y="5072040"/>
              <a:ext cx="4222440" cy="1373760"/>
              <a:chOff x="4327920" y="5072040"/>
              <a:chExt cx="4222440" cy="1373760"/>
            </a:xfrm>
          </p:grpSpPr>
          <mc:AlternateContent>
            <mc:Choice xmlns:a14="http://schemas.microsoft.com/office/drawing/2010/main" Requires="a14">
              <p:sp>
                <p:nvSpPr>
                  <p:cNvPr id="180" name="Object 17"/>
                  <p:cNvSpPr txBox="1"/>
                  <p:nvPr/>
                </p:nvSpPr>
                <p:spPr>
                  <a:xfrm>
                    <a:off x="4430880" y="5129280"/>
                    <a:ext cx="1677960" cy="59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1" name="Object 18"/>
                  <p:cNvSpPr txBox="1"/>
                  <p:nvPr/>
                </p:nvSpPr>
                <p:spPr>
                  <a:xfrm>
                    <a:off x="6734520" y="5072040"/>
                    <a:ext cx="1800000" cy="543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2" name="Text Box 19"/>
              <p:cNvSpPr/>
              <p:nvPr/>
            </p:nvSpPr>
            <p:spPr>
              <a:xfrm>
                <a:off x="4327920" y="5864400"/>
                <a:ext cx="220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Univers"/>
                  </a:rPr>
                  <a:t>Сравните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3" name="Object 20"/>
                  <p:cNvSpPr txBox="1"/>
                  <p:nvPr/>
                </p:nvSpPr>
                <p:spPr>
                  <a:xfrm>
                    <a:off x="6374160" y="5864400"/>
                    <a:ext cx="736560" cy="541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Object 21"/>
                  <p:cNvSpPr txBox="1"/>
                  <p:nvPr/>
                </p:nvSpPr>
                <p:spPr>
                  <a:xfrm>
                    <a:off x="7813800" y="5864400"/>
                    <a:ext cx="73656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5" name="Text Box 22"/>
              <p:cNvSpPr/>
              <p:nvPr/>
            </p:nvSpPr>
            <p:spPr>
              <a:xfrm>
                <a:off x="7294680" y="5864400"/>
                <a:ext cx="442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Univers"/>
                  </a:rPr>
                  <a:t>и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Группа 26"/>
          <p:cNvGrpSpPr/>
          <p:nvPr/>
        </p:nvGrpSpPr>
        <p:grpSpPr>
          <a:xfrm>
            <a:off x="15120" y="1346040"/>
            <a:ext cx="7287480" cy="4100760"/>
            <a:chOff x="15120" y="1346040"/>
            <a:chExt cx="7287480" cy="4100760"/>
          </a:xfrm>
        </p:grpSpPr>
        <p:sp>
          <p:nvSpPr>
            <p:cNvPr id="187" name="Line 3"/>
            <p:cNvSpPr/>
            <p:nvPr/>
          </p:nvSpPr>
          <p:spPr>
            <a:xfrm>
              <a:off x="28440" y="4222800"/>
              <a:ext cx="72741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"/>
            <p:cNvSpPr/>
            <p:nvPr/>
          </p:nvSpPr>
          <p:spPr>
            <a:xfrm>
              <a:off x="101160" y="1995120"/>
              <a:ext cx="4629240" cy="3451680"/>
            </a:xfrm>
            <a:custGeom>
              <a:avLst/>
              <a:gdLst>
                <a:gd name="textAreaLeft" fmla="*/ 0 w 4629240"/>
                <a:gd name="textAreaRight" fmla="*/ 4629600 w 4629240"/>
                <a:gd name="textAreaTop" fmla="*/ 0 h 3451680"/>
                <a:gd name="textAreaBottom" fmla="*/ 3452040 h 3451680"/>
              </a:gdLst>
              <a:ahLst/>
              <a:rect l="textAreaLeft" t="textAreaTop" r="textAreaRight" b="textAreaBottom"/>
              <a:pathLst>
                <a:path w="2916" h="2174">
                  <a:moveTo>
                    <a:pt x="2916" y="0"/>
                  </a:moveTo>
                  <a:lnTo>
                    <a:pt x="0" y="21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Группа 25"/>
            <p:cNvGrpSpPr/>
            <p:nvPr/>
          </p:nvGrpSpPr>
          <p:grpSpPr>
            <a:xfrm>
              <a:off x="750600" y="1346040"/>
              <a:ext cx="6381000" cy="3534840"/>
              <a:chOff x="750600" y="1346040"/>
              <a:chExt cx="6381000" cy="3534840"/>
            </a:xfrm>
          </p:grpSpPr>
          <p:sp>
            <p:nvSpPr>
              <p:cNvPr id="190" name="Freeform 2"/>
              <p:cNvSpPr/>
              <p:nvPr/>
            </p:nvSpPr>
            <p:spPr>
              <a:xfrm>
                <a:off x="1755360" y="1989000"/>
                <a:ext cx="4392720" cy="2233800"/>
              </a:xfrm>
              <a:custGeom>
                <a:avLst/>
                <a:gdLst>
                  <a:gd name="textAreaLeft" fmla="*/ 0 w 4392720"/>
                  <a:gd name="textAreaRight" fmla="*/ 4393080 w 4392720"/>
                  <a:gd name="textAreaTop" fmla="*/ 0 h 2233800"/>
                  <a:gd name="textAreaBottom" fmla="*/ 2234160 h 2233800"/>
                </a:gdLst>
                <a:ahLst/>
                <a:rect l="textAreaLeft" t="textAreaTop" r="textAreaRight" b="textAreaBottom"/>
                <a:pathLst>
                  <a:path w="2132" h="1044">
                    <a:moveTo>
                      <a:pt x="0" y="1044"/>
                    </a:moveTo>
                    <a:lnTo>
                      <a:pt x="2132" y="1044"/>
                    </a:lnTo>
                    <a:lnTo>
                      <a:pt x="1452" y="0"/>
                    </a:lnTo>
                    <a:lnTo>
                      <a:pt x="0" y="104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4"/>
              <p:cNvSpPr/>
              <p:nvPr/>
            </p:nvSpPr>
            <p:spPr>
              <a:xfrm>
                <a:off x="1615680" y="4299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6"/>
              <p:cNvSpPr/>
              <p:nvPr/>
            </p:nvSpPr>
            <p:spPr>
              <a:xfrm>
                <a:off x="4424040" y="13460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"/>
              <p:cNvSpPr/>
              <p:nvPr/>
            </p:nvSpPr>
            <p:spPr>
              <a:xfrm>
                <a:off x="6008760" y="42994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rc 8"/>
              <p:cNvSpPr/>
              <p:nvPr/>
            </p:nvSpPr>
            <p:spPr>
              <a:xfrm flipH="1" rot="3640800">
                <a:off x="5769720" y="3408120"/>
                <a:ext cx="1292400" cy="914400"/>
              </a:xfrm>
              <a:custGeom>
                <a:avLst/>
                <a:gdLst>
                  <a:gd name="textAreaLeft" fmla="*/ 360 w 1292400"/>
                  <a:gd name="textAreaRight" fmla="*/ 1293120 w 129240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fill="none" w="30517" h="21600">
                    <a:moveTo>
                      <a:pt x="-1" y="1926"/>
                    </a:moveTo>
                    <a:cubicBezTo>
                      <a:pt x="2801" y="656"/>
                      <a:pt x="5842" y="-1"/>
                      <a:pt x="8918" y="0"/>
                    </a:cubicBezTo>
                    <a:cubicBezTo>
                      <a:pt x="20771" y="0"/>
                      <a:pt x="30410" y="9552"/>
                      <a:pt x="30517" y="21405"/>
                    </a:cubicBezTo>
                  </a:path>
                  <a:path stroke="0" w="30517" h="21600">
                    <a:moveTo>
                      <a:pt x="-1" y="1926"/>
                    </a:moveTo>
                    <a:cubicBezTo>
                      <a:pt x="2801" y="656"/>
                      <a:pt x="5842" y="-1"/>
                      <a:pt x="8918" y="0"/>
                    </a:cubicBezTo>
                    <a:cubicBezTo>
                      <a:pt x="20771" y="0"/>
                      <a:pt x="30410" y="9552"/>
                      <a:pt x="30517" y="21405"/>
                    </a:cubicBezTo>
                    <a:lnTo>
                      <a:pt x="8918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5" name="Object 10"/>
                  <p:cNvSpPr txBox="1"/>
                  <p:nvPr/>
                </p:nvSpPr>
                <p:spPr>
                  <a:xfrm>
                    <a:off x="750600" y="4299480"/>
                    <a:ext cx="342720" cy="51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6" name="Object 11"/>
                  <p:cNvSpPr txBox="1"/>
                  <p:nvPr/>
                </p:nvSpPr>
                <p:spPr>
                  <a:xfrm>
                    <a:off x="6151680" y="3651480"/>
                    <a:ext cx="380880" cy="51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7" name="Object 12"/>
                  <p:cNvSpPr txBox="1"/>
                  <p:nvPr/>
                </p:nvSpPr>
                <p:spPr>
                  <a:xfrm>
                    <a:off x="2458800" y="3632400"/>
                    <a:ext cx="380880" cy="55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8" name="Object 13"/>
                  <p:cNvSpPr txBox="1"/>
                  <p:nvPr/>
                </p:nvSpPr>
                <p:spPr>
                  <a:xfrm>
                    <a:off x="5340240" y="3651480"/>
                    <a:ext cx="380880" cy="51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99" name="Arc 23"/>
            <p:cNvSpPr/>
            <p:nvPr/>
          </p:nvSpPr>
          <p:spPr>
            <a:xfrm flipV="1" rot="7710000">
              <a:off x="210240" y="4196160"/>
              <a:ext cx="841320" cy="90468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-360 h 904680"/>
                <a:gd name="textAreaBottom" fmla="*/ 904680 h 904680"/>
              </a:gdLst>
              <a:ahLst/>
              <a:rect l="textAreaLeft" t="textAreaTop" r="textAreaRight" b="textAreaBottom"/>
              <a:pathLst>
                <a:path fill="none" w="21036" h="20853">
                  <a:moveTo>
                    <a:pt x="5630" y="-1"/>
                  </a:moveTo>
                  <a:cubicBezTo>
                    <a:pt x="13310" y="2073"/>
                    <a:pt x="19229" y="8200"/>
                    <a:pt x="21035" y="15948"/>
                  </a:cubicBezTo>
                </a:path>
                <a:path stroke="0" w="21036" h="20853">
                  <a:moveTo>
                    <a:pt x="5630" y="-1"/>
                  </a:moveTo>
                  <a:cubicBezTo>
                    <a:pt x="13310" y="2073"/>
                    <a:pt x="19229" y="8200"/>
                    <a:pt x="21035" y="15948"/>
                  </a:cubicBezTo>
                  <a:lnTo>
                    <a:pt x="0" y="20853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24"/>
          <p:cNvSpPr/>
          <p:nvPr/>
        </p:nvSpPr>
        <p:spPr>
          <a:xfrm>
            <a:off x="1801440" y="50004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3" descr="D:\мама\на диск\рисун\Рисунок1.gif"/>
          <p:cNvPicPr/>
          <p:nvPr/>
        </p:nvPicPr>
        <p:blipFill>
          <a:blip r:embed="rId2"/>
          <a:stretch/>
        </p:blipFill>
        <p:spPr>
          <a:xfrm>
            <a:off x="7215120" y="3714840"/>
            <a:ext cx="1490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1406520" y="4618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5438520" y="4618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18"/>
          <p:cNvGrpSpPr/>
          <p:nvPr/>
        </p:nvGrpSpPr>
        <p:grpSpPr>
          <a:xfrm>
            <a:off x="108000" y="1665360"/>
            <a:ext cx="7056360" cy="3003480"/>
            <a:chOff x="108000" y="1665360"/>
            <a:chExt cx="7056360" cy="3003480"/>
          </a:xfrm>
        </p:grpSpPr>
        <p:sp>
          <p:nvSpPr>
            <p:cNvPr id="205" name="AutoShape 2"/>
            <p:cNvSpPr/>
            <p:nvPr/>
          </p:nvSpPr>
          <p:spPr>
            <a:xfrm>
              <a:off x="1692360" y="2241360"/>
              <a:ext cx="3960720" cy="237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ff">
                    <a:alpha val="76078"/>
                  </a:srgbClr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"/>
            <p:cNvSpPr/>
            <p:nvPr/>
          </p:nvSpPr>
          <p:spPr>
            <a:xfrm>
              <a:off x="108000" y="4618080"/>
              <a:ext cx="705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4"/>
                <p:cNvSpPr txBox="1"/>
                <p:nvPr/>
              </p:nvSpPr>
              <p:spPr>
                <a:xfrm>
                  <a:off x="1403280" y="3970440"/>
                  <a:ext cx="39816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5"/>
                <p:cNvSpPr txBox="1"/>
                <p:nvPr/>
              </p:nvSpPr>
              <p:spPr>
                <a:xfrm>
                  <a:off x="5580000" y="3970440"/>
                  <a:ext cx="44280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Object 6"/>
                <p:cNvSpPr txBox="1"/>
                <p:nvPr/>
              </p:nvSpPr>
              <p:spPr>
                <a:xfrm>
                  <a:off x="2124000" y="3970440"/>
                  <a:ext cx="41112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7"/>
                <p:cNvSpPr txBox="1"/>
                <p:nvPr/>
              </p:nvSpPr>
              <p:spPr>
                <a:xfrm>
                  <a:off x="4788000" y="3970440"/>
                  <a:ext cx="44280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Rectangle 9"/>
            <p:cNvSpPr/>
            <p:nvPr/>
          </p:nvSpPr>
          <p:spPr>
            <a:xfrm>
              <a:off x="3565440" y="166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rc 11"/>
            <p:cNvSpPr/>
            <p:nvPr/>
          </p:nvSpPr>
          <p:spPr>
            <a:xfrm>
              <a:off x="4919760" y="3681360"/>
              <a:ext cx="1214280" cy="91440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8688" h="21600">
                  <a:moveTo>
                    <a:pt x="0" y="1196"/>
                  </a:moveTo>
                  <a:cubicBezTo>
                    <a:pt x="2279" y="404"/>
                    <a:pt x="4675" y="-1"/>
                    <a:pt x="7088" y="0"/>
                  </a:cubicBezTo>
                  <a:cubicBezTo>
                    <a:pt x="19017" y="0"/>
                    <a:pt x="28688" y="9670"/>
                    <a:pt x="28688" y="21600"/>
                  </a:cubicBezTo>
                </a:path>
                <a:path stroke="0" w="28688" h="21600">
                  <a:moveTo>
                    <a:pt x="0" y="1196"/>
                  </a:moveTo>
                  <a:cubicBezTo>
                    <a:pt x="2279" y="404"/>
                    <a:pt x="4675" y="-1"/>
                    <a:pt x="7088" y="0"/>
                  </a:cubicBezTo>
                  <a:cubicBezTo>
                    <a:pt x="19017" y="0"/>
                    <a:pt x="28688" y="9670"/>
                    <a:pt x="28688" y="21600"/>
                  </a:cubicBezTo>
                  <a:lnTo>
                    <a:pt x="708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rc 12"/>
            <p:cNvSpPr/>
            <p:nvPr/>
          </p:nvSpPr>
          <p:spPr>
            <a:xfrm flipH="1">
              <a:off x="1116720" y="3754440"/>
              <a:ext cx="1212840" cy="914400"/>
            </a:xfrm>
            <a:custGeom>
              <a:avLst/>
              <a:gdLst>
                <a:gd name="textAreaLeft" fmla="*/ -360 w 1212840"/>
                <a:gd name="textAreaRight" fmla="*/ 1212840 w 12128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8661" h="21600">
                  <a:moveTo>
                    <a:pt x="0" y="1196"/>
                  </a:moveTo>
                  <a:cubicBezTo>
                    <a:pt x="2279" y="404"/>
                    <a:pt x="4675" y="-1"/>
                    <a:pt x="7088" y="0"/>
                  </a:cubicBezTo>
                  <a:cubicBezTo>
                    <a:pt x="18599" y="0"/>
                    <a:pt x="28088" y="9027"/>
                    <a:pt x="28661" y="20524"/>
                  </a:cubicBezTo>
                </a:path>
                <a:path stroke="0" w="28661" h="21600">
                  <a:moveTo>
                    <a:pt x="0" y="1196"/>
                  </a:moveTo>
                  <a:cubicBezTo>
                    <a:pt x="2279" y="404"/>
                    <a:pt x="4675" y="-1"/>
                    <a:pt x="7088" y="0"/>
                  </a:cubicBezTo>
                  <a:cubicBezTo>
                    <a:pt x="18599" y="0"/>
                    <a:pt x="28088" y="9027"/>
                    <a:pt x="28661" y="20524"/>
                  </a:cubicBezTo>
                  <a:lnTo>
                    <a:pt x="708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13"/>
          <p:cNvSpPr/>
          <p:nvPr/>
        </p:nvSpPr>
        <p:spPr>
          <a:xfrm>
            <a:off x="4286160" y="564372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6429240" y="5000760"/>
                <a:ext cx="1513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5"/>
              <p:cNvSpPr txBox="1"/>
              <p:nvPr/>
            </p:nvSpPr>
            <p:spPr>
              <a:xfrm>
                <a:off x="7308720" y="5229360"/>
                <a:ext cx="30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7" name="Text Box 16"/>
          <p:cNvSpPr/>
          <p:nvPr/>
        </p:nvSpPr>
        <p:spPr>
          <a:xfrm>
            <a:off x="4211640" y="5857920"/>
            <a:ext cx="288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Докажите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7000920" y="5857920"/>
                <a:ext cx="1727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18"/>
          <p:cNvSpPr/>
          <p:nvPr/>
        </p:nvSpPr>
        <p:spPr>
          <a:xfrm>
            <a:off x="1714680" y="642960"/>
            <a:ext cx="32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2" descr="D:\мама\на диск\рисун\Рисунок4.png"/>
          <p:cNvPicPr/>
          <p:nvPr/>
        </p:nvPicPr>
        <p:blipFill>
          <a:blip r:embed="rId1"/>
          <a:stretch/>
        </p:blipFill>
        <p:spPr>
          <a:xfrm>
            <a:off x="7500960" y="2143080"/>
            <a:ext cx="10717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7D63-F5CF-4F42-9D41-77AA5DD92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1285920" y="428760"/>
            <a:ext cx="7500960" cy="581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ШИТЕ 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500040" y="1857240"/>
            <a:ext cx="7715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УНКТЫ   14 И 15 НА СТРАНИЦЕ 21-22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11,№ 4(3) НА СТРАНИЦЕ 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02"/>
          <p:cNvPicPr/>
          <p:nvPr/>
        </p:nvPicPr>
        <p:blipFill>
          <a:blip r:embed="rId1"/>
          <a:stretch/>
        </p:blipFill>
        <p:spPr>
          <a:xfrm>
            <a:off x="4857840" y="4500720"/>
            <a:ext cx="1285920" cy="1785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Рисунок16"/>
          <p:cNvPicPr/>
          <p:nvPr/>
        </p:nvPicPr>
        <p:blipFill>
          <a:blip r:embed="rId2"/>
          <a:stretch/>
        </p:blipFill>
        <p:spPr>
          <a:xfrm>
            <a:off x="2071800" y="4286160"/>
            <a:ext cx="1643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0FCA-B4D8-4C09-8CAF-FF70D6F61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1857240" y="428760"/>
            <a:ext cx="67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и самостоя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16"/>
          <p:cNvGrpSpPr/>
          <p:nvPr/>
        </p:nvGrpSpPr>
        <p:grpSpPr>
          <a:xfrm>
            <a:off x="285840" y="1714680"/>
            <a:ext cx="8643960" cy="4781880"/>
            <a:chOff x="285840" y="1714680"/>
            <a:chExt cx="8643960" cy="4781880"/>
          </a:xfrm>
        </p:grpSpPr>
        <p:pic>
          <p:nvPicPr>
            <p:cNvPr id="229" name="TextBox 4" descr=""/>
            <p:cNvPicPr/>
            <p:nvPr/>
          </p:nvPicPr>
          <p:blipFill>
            <a:blip r:embed="rId1"/>
            <a:stretch/>
          </p:blipFill>
          <p:spPr>
            <a:xfrm>
              <a:off x="285840" y="1714680"/>
              <a:ext cx="8643960" cy="4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Прямая соединительная линия 8"/>
            <p:cNvSpPr/>
            <p:nvPr/>
          </p:nvSpPr>
          <p:spPr>
            <a:xfrm>
              <a:off x="2751480" y="2385000"/>
              <a:ext cx="2624400" cy="14900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0"/>
            <p:cNvSpPr/>
            <p:nvPr/>
          </p:nvSpPr>
          <p:spPr>
            <a:xfrm flipH="1">
              <a:off x="2892960" y="2526120"/>
              <a:ext cx="2411640" cy="9932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1"/>
            <p:cNvSpPr/>
            <p:nvPr/>
          </p:nvSpPr>
          <p:spPr>
            <a:xfrm>
              <a:off x="2325600" y="2172240"/>
              <a:ext cx="4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2"/>
            <p:cNvSpPr/>
            <p:nvPr/>
          </p:nvSpPr>
          <p:spPr>
            <a:xfrm>
              <a:off x="3886200" y="259776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3"/>
            <p:cNvSpPr/>
            <p:nvPr/>
          </p:nvSpPr>
          <p:spPr>
            <a:xfrm>
              <a:off x="5375880" y="252684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4"/>
            <p:cNvSpPr/>
            <p:nvPr/>
          </p:nvSpPr>
          <p:spPr>
            <a:xfrm>
              <a:off x="5518080" y="3662280"/>
              <a:ext cx="6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5"/>
            <p:cNvSpPr/>
            <p:nvPr/>
          </p:nvSpPr>
          <p:spPr>
            <a:xfrm>
              <a:off x="2325600" y="3307320"/>
              <a:ext cx="4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7"/>
            <p:cNvSpPr/>
            <p:nvPr/>
          </p:nvSpPr>
          <p:spPr>
            <a:xfrm>
              <a:off x="481320" y="2597760"/>
              <a:ext cx="19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№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&lt;АОЕ=30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23"/>
            <p:cNvSpPr/>
            <p:nvPr/>
          </p:nvSpPr>
          <p:spPr>
            <a:xfrm>
              <a:off x="6723720" y="2455920"/>
              <a:ext cx="1773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&lt;ВОА=110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4"/>
            <p:cNvSpPr/>
            <p:nvPr/>
          </p:nvSpPr>
          <p:spPr>
            <a:xfrm>
              <a:off x="2254680" y="4017240"/>
              <a:ext cx="375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йдите остальные углы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5"/>
            <p:cNvSpPr/>
            <p:nvPr/>
          </p:nvSpPr>
          <p:spPr>
            <a:xfrm>
              <a:off x="339480" y="4868640"/>
              <a:ext cx="3901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&lt; АОВ в 2 раза больше &lt;ВОК.  Найдите эти угл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26"/>
            <p:cNvSpPr/>
            <p:nvPr/>
          </p:nvSpPr>
          <p:spPr>
            <a:xfrm>
              <a:off x="5163120" y="4939560"/>
              <a:ext cx="354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&lt; КОВ на 40 ˚ меньше &lt;КОЕ. Найдите эти угл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02"/>
          <p:cNvPicPr/>
          <p:nvPr/>
        </p:nvPicPr>
        <p:blipFill>
          <a:blip r:embed="rId1"/>
          <a:stretch/>
        </p:blipFill>
        <p:spPr>
          <a:xfrm>
            <a:off x="7358040" y="3357720"/>
            <a:ext cx="1627200" cy="2006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Рисунок16"/>
          <p:cNvPicPr/>
          <p:nvPr/>
        </p:nvPicPr>
        <p:blipFill>
          <a:blip r:embed="rId2"/>
          <a:stretch/>
        </p:blipFill>
        <p:spPr>
          <a:xfrm>
            <a:off x="785880" y="1214280"/>
            <a:ext cx="1785960" cy="2357640"/>
          </a:xfrm>
          <a:prstGeom prst="rect">
            <a:avLst/>
          </a:prstGeom>
          <a:ln w="0">
            <a:noFill/>
          </a:ln>
        </p:spPr>
      </p:pic>
      <p:sp>
        <p:nvSpPr>
          <p:cNvPr id="244" name="WordArt 6"/>
          <p:cNvSpPr txBox="1"/>
          <p:nvPr/>
        </p:nvSpPr>
        <p:spPr>
          <a:xfrm rot="20137200">
            <a:off x="122040" y="2444760"/>
            <a:ext cx="816912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пасибо за внимание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WordArt 7"/>
          <p:cNvSpPr txBox="1"/>
          <p:nvPr/>
        </p:nvSpPr>
        <p:spPr>
          <a:xfrm rot="414600">
            <a:off x="4782960" y="4858920"/>
            <a:ext cx="248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спехов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1. Могут ли два смежных угла быть равными 40˚и160˚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2.Сумма двух углов 140˚.Какие это угл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3.Могут ли два вертикальных угла быть равными 40˚и50˚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4.Могут ли быть смежными прямой и острый углы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C2E3-9587-4350-BB63-5B3C7365D1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Рисунок16"/>
          <p:cNvPicPr/>
          <p:nvPr/>
        </p:nvPicPr>
        <p:blipFill>
          <a:blip r:embed="rId1"/>
          <a:stretch/>
        </p:blipFill>
        <p:spPr>
          <a:xfrm>
            <a:off x="7358040" y="357120"/>
            <a:ext cx="1785960" cy="2428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1714680" y="500040"/>
            <a:ext cx="42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те вертикальные и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межны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угл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D150-5DE0-4982-8BD7-B46AF8423F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000080" y="2428920"/>
            <a:ext cx="6357960" cy="3143160"/>
          </a:xfrm>
          <a:prstGeom prst="rect">
            <a:avLst/>
          </a:prstGeom>
          <a:solidFill>
            <a:srgbClr val="ffccc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>
            <a:off x="1000080" y="2428920"/>
            <a:ext cx="6357960" cy="31431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8"/>
          <p:cNvSpPr/>
          <p:nvPr/>
        </p:nvSpPr>
        <p:spPr>
          <a:xfrm flipH="1">
            <a:off x="999720" y="2428200"/>
            <a:ext cx="6357960" cy="31431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642960" y="21430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642960" y="55008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7286760" y="20001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7358040" y="55008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143240" y="37148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2"/>
          <p:cNvPicPr/>
          <p:nvPr/>
        </p:nvPicPr>
        <p:blipFill>
          <a:blip r:embed="rId1"/>
          <a:stretch/>
        </p:blipFill>
        <p:spPr>
          <a:xfrm>
            <a:off x="7715160" y="4714920"/>
            <a:ext cx="1285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428760" y="1500120"/>
            <a:ext cx="5360760" cy="4719600"/>
          </a:xfrm>
          <a:custGeom>
            <a:avLst/>
            <a:gdLst>
              <a:gd name="textAreaLeft" fmla="*/ 0 w 5360760"/>
              <a:gd name="textAreaRight" fmla="*/ 5361120 w 5360760"/>
              <a:gd name="textAreaTop" fmla="*/ 0 h 4719600"/>
              <a:gd name="textAreaBottom" fmla="*/ 4719960 h 4719600"/>
            </a:gdLst>
            <a:ahLst/>
            <a:rect l="textAreaLeft" t="textAreaTop" r="textAreaRight" b="textAreaBottom"/>
            <a:pathLst>
              <a:path w="3377" h="2973">
                <a:moveTo>
                  <a:pt x="1895" y="1450"/>
                </a:moveTo>
                <a:lnTo>
                  <a:pt x="3176" y="454"/>
                </a:lnTo>
                <a:lnTo>
                  <a:pt x="3085" y="318"/>
                </a:lnTo>
                <a:lnTo>
                  <a:pt x="3040" y="227"/>
                </a:lnTo>
                <a:lnTo>
                  <a:pt x="2994" y="182"/>
                </a:lnTo>
                <a:lnTo>
                  <a:pt x="2903" y="136"/>
                </a:lnTo>
                <a:lnTo>
                  <a:pt x="2858" y="91"/>
                </a:lnTo>
                <a:lnTo>
                  <a:pt x="2722" y="91"/>
                </a:lnTo>
                <a:lnTo>
                  <a:pt x="2586" y="0"/>
                </a:lnTo>
                <a:lnTo>
                  <a:pt x="2495" y="0"/>
                </a:lnTo>
                <a:lnTo>
                  <a:pt x="2405" y="0"/>
                </a:lnTo>
                <a:lnTo>
                  <a:pt x="2268" y="0"/>
                </a:lnTo>
                <a:lnTo>
                  <a:pt x="2132" y="0"/>
                </a:lnTo>
                <a:lnTo>
                  <a:pt x="1951" y="0"/>
                </a:lnTo>
                <a:lnTo>
                  <a:pt x="1815" y="0"/>
                </a:lnTo>
                <a:lnTo>
                  <a:pt x="1633" y="0"/>
                </a:lnTo>
                <a:lnTo>
                  <a:pt x="1497" y="0"/>
                </a:lnTo>
                <a:lnTo>
                  <a:pt x="1361" y="0"/>
                </a:lnTo>
                <a:lnTo>
                  <a:pt x="1134" y="46"/>
                </a:lnTo>
                <a:lnTo>
                  <a:pt x="953" y="136"/>
                </a:lnTo>
                <a:lnTo>
                  <a:pt x="726" y="182"/>
                </a:lnTo>
                <a:lnTo>
                  <a:pt x="590" y="318"/>
                </a:lnTo>
                <a:lnTo>
                  <a:pt x="499" y="409"/>
                </a:lnTo>
                <a:lnTo>
                  <a:pt x="318" y="545"/>
                </a:lnTo>
                <a:lnTo>
                  <a:pt x="137" y="726"/>
                </a:lnTo>
                <a:lnTo>
                  <a:pt x="137" y="908"/>
                </a:lnTo>
                <a:lnTo>
                  <a:pt x="46" y="1044"/>
                </a:lnTo>
                <a:lnTo>
                  <a:pt x="0" y="1225"/>
                </a:lnTo>
                <a:lnTo>
                  <a:pt x="0" y="1361"/>
                </a:lnTo>
                <a:lnTo>
                  <a:pt x="0" y="1452"/>
                </a:lnTo>
                <a:lnTo>
                  <a:pt x="46" y="1588"/>
                </a:lnTo>
                <a:cubicBezTo>
                  <a:pt x="46" y="1638"/>
                  <a:pt x="43" y="1689"/>
                  <a:pt x="47" y="1739"/>
                </a:cubicBezTo>
                <a:cubicBezTo>
                  <a:pt x="50" y="1783"/>
                  <a:pt x="83" y="1803"/>
                  <a:pt x="83" y="1862"/>
                </a:cubicBezTo>
                <a:cubicBezTo>
                  <a:pt x="86" y="1892"/>
                  <a:pt x="92" y="1921"/>
                  <a:pt x="91" y="1951"/>
                </a:cubicBezTo>
                <a:cubicBezTo>
                  <a:pt x="86" y="2084"/>
                  <a:pt x="66" y="1958"/>
                  <a:pt x="83" y="2056"/>
                </a:cubicBezTo>
                <a:cubicBezTo>
                  <a:pt x="86" y="2071"/>
                  <a:pt x="92" y="2115"/>
                  <a:pt x="100" y="2138"/>
                </a:cubicBezTo>
                <a:cubicBezTo>
                  <a:pt x="104" y="2148"/>
                  <a:pt x="112" y="2168"/>
                  <a:pt x="112" y="2168"/>
                </a:cubicBezTo>
                <a:cubicBezTo>
                  <a:pt x="120" y="2217"/>
                  <a:pt x="121" y="2267"/>
                  <a:pt x="137" y="2314"/>
                </a:cubicBezTo>
                <a:cubicBezTo>
                  <a:pt x="142" y="2328"/>
                  <a:pt x="161" y="2332"/>
                  <a:pt x="171" y="2344"/>
                </a:cubicBezTo>
                <a:cubicBezTo>
                  <a:pt x="182" y="2357"/>
                  <a:pt x="183" y="2375"/>
                  <a:pt x="189" y="2391"/>
                </a:cubicBezTo>
                <a:cubicBezTo>
                  <a:pt x="199" y="2418"/>
                  <a:pt x="209" y="2449"/>
                  <a:pt x="224" y="2473"/>
                </a:cubicBezTo>
                <a:cubicBezTo>
                  <a:pt x="228" y="2480"/>
                  <a:pt x="241" y="2491"/>
                  <a:pt x="241" y="2491"/>
                </a:cubicBezTo>
                <a:lnTo>
                  <a:pt x="409" y="2677"/>
                </a:lnTo>
                <a:lnTo>
                  <a:pt x="590" y="2767"/>
                </a:lnTo>
                <a:cubicBezTo>
                  <a:pt x="638" y="2791"/>
                  <a:pt x="687" y="2814"/>
                  <a:pt x="735" y="2838"/>
                </a:cubicBezTo>
                <a:cubicBezTo>
                  <a:pt x="746" y="2843"/>
                  <a:pt x="738" y="2864"/>
                  <a:pt x="747" y="2873"/>
                </a:cubicBezTo>
                <a:cubicBezTo>
                  <a:pt x="774" y="2900"/>
                  <a:pt x="830" y="2902"/>
                  <a:pt x="864" y="2902"/>
                </a:cubicBezTo>
                <a:cubicBezTo>
                  <a:pt x="937" y="2903"/>
                  <a:pt x="980" y="2894"/>
                  <a:pt x="1041" y="2914"/>
                </a:cubicBezTo>
                <a:cubicBezTo>
                  <a:pt x="1072" y="2938"/>
                  <a:pt x="1103" y="2943"/>
                  <a:pt x="1141" y="2955"/>
                </a:cubicBezTo>
                <a:cubicBezTo>
                  <a:pt x="1145" y="2961"/>
                  <a:pt x="1145" y="2973"/>
                  <a:pt x="1152" y="2973"/>
                </a:cubicBezTo>
                <a:cubicBezTo>
                  <a:pt x="1171" y="2973"/>
                  <a:pt x="1205" y="2955"/>
                  <a:pt x="1205" y="2955"/>
                </a:cubicBezTo>
                <a:cubicBezTo>
                  <a:pt x="1272" y="2938"/>
                  <a:pt x="1342" y="2926"/>
                  <a:pt x="1407" y="2903"/>
                </a:cubicBezTo>
                <a:cubicBezTo>
                  <a:pt x="1415" y="2900"/>
                  <a:pt x="1413" y="2887"/>
                  <a:pt x="1417" y="2879"/>
                </a:cubicBezTo>
                <a:cubicBezTo>
                  <a:pt x="1430" y="2854"/>
                  <a:pt x="1429" y="2861"/>
                  <a:pt x="1458" y="2850"/>
                </a:cubicBezTo>
                <a:cubicBezTo>
                  <a:pt x="1500" y="2798"/>
                  <a:pt x="1523" y="2803"/>
                  <a:pt x="1587" y="2803"/>
                </a:cubicBezTo>
                <a:lnTo>
                  <a:pt x="1860" y="2677"/>
                </a:lnTo>
                <a:lnTo>
                  <a:pt x="2087" y="2631"/>
                </a:lnTo>
                <a:cubicBezTo>
                  <a:pt x="2117" y="2616"/>
                  <a:pt x="2145" y="2594"/>
                  <a:pt x="2178" y="2586"/>
                </a:cubicBezTo>
                <a:cubicBezTo>
                  <a:pt x="2190" y="2583"/>
                  <a:pt x="2198" y="2602"/>
                  <a:pt x="2210" y="2603"/>
                </a:cubicBezTo>
                <a:cubicBezTo>
                  <a:pt x="2289" y="2608"/>
                  <a:pt x="2367" y="2603"/>
                  <a:pt x="2446" y="2603"/>
                </a:cubicBezTo>
                <a:lnTo>
                  <a:pt x="2813" y="2586"/>
                </a:lnTo>
                <a:lnTo>
                  <a:pt x="3040" y="2495"/>
                </a:lnTo>
                <a:lnTo>
                  <a:pt x="3176" y="2132"/>
                </a:lnTo>
                <a:lnTo>
                  <a:pt x="3176" y="1860"/>
                </a:lnTo>
                <a:lnTo>
                  <a:pt x="3221" y="1633"/>
                </a:lnTo>
                <a:lnTo>
                  <a:pt x="3221" y="1543"/>
                </a:lnTo>
                <a:lnTo>
                  <a:pt x="3377" y="1456"/>
                </a:lnTo>
                <a:lnTo>
                  <a:pt x="1895" y="1450"/>
                </a:lnTo>
                <a:close/>
              </a:path>
            </a:pathLst>
          </a:custGeom>
          <a:blipFill rotWithShape="0">
            <a:blip r:embed="rId1">
              <a:alphaModFix amt="7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552320" y="530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4"/>
          <p:cNvSpPr/>
          <p:nvPr/>
        </p:nvSpPr>
        <p:spPr>
          <a:xfrm>
            <a:off x="3071880" y="1500120"/>
            <a:ext cx="3362400" cy="2292480"/>
          </a:xfrm>
          <a:custGeom>
            <a:avLst/>
            <a:gdLst>
              <a:gd name="textAreaLeft" fmla="*/ 0 w 3362400"/>
              <a:gd name="textAreaRight" fmla="*/ 3362760 w 3362400"/>
              <a:gd name="textAreaTop" fmla="*/ 0 h 2292480"/>
              <a:gd name="textAreaBottom" fmla="*/ 2292840 h 2292480"/>
            </a:gdLst>
            <a:ahLst/>
            <a:rect l="textAreaLeft" t="textAreaTop" r="textAreaRight" b="textAreaBottom"/>
            <a:pathLst>
              <a:path w="2118" h="1444">
                <a:moveTo>
                  <a:pt x="1692" y="0"/>
                </a:moveTo>
                <a:lnTo>
                  <a:pt x="0" y="1444"/>
                </a:lnTo>
                <a:lnTo>
                  <a:pt x="1926" y="1432"/>
                </a:lnTo>
                <a:lnTo>
                  <a:pt x="2064" y="834"/>
                </a:lnTo>
                <a:lnTo>
                  <a:pt x="2094" y="714"/>
                </a:lnTo>
                <a:lnTo>
                  <a:pt x="2118" y="588"/>
                </a:lnTo>
                <a:lnTo>
                  <a:pt x="2070" y="408"/>
                </a:lnTo>
                <a:lnTo>
                  <a:pt x="1806" y="390"/>
                </a:lnTo>
                <a:lnTo>
                  <a:pt x="1662" y="198"/>
                </a:lnTo>
                <a:lnTo>
                  <a:pt x="1680" y="108"/>
                </a:lnTo>
                <a:lnTo>
                  <a:pt x="1734" y="66"/>
                </a:lnTo>
                <a:lnTo>
                  <a:pt x="1806" y="18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1120" y="306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6"/>
          <p:cNvSpPr/>
          <p:nvPr/>
        </p:nvSpPr>
        <p:spPr>
          <a:xfrm>
            <a:off x="500040" y="3786120"/>
            <a:ext cx="5832360" cy="11160"/>
          </a:xfrm>
          <a:custGeom>
            <a:avLst/>
            <a:gdLst>
              <a:gd name="textAreaLeft" fmla="*/ 0 w 5832360"/>
              <a:gd name="textAreaRight" fmla="*/ 5832720 w 58323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674" h="7">
                <a:moveTo>
                  <a:pt x="0" y="6"/>
                </a:moveTo>
                <a:lnTo>
                  <a:pt x="1931" y="0"/>
                </a:lnTo>
                <a:lnTo>
                  <a:pt x="3674" y="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946760" y="15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159240" y="2995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V="1">
            <a:off x="928800" y="2071800"/>
            <a:ext cx="4249800" cy="352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4429080" y="3000240"/>
                <a:ext cx="719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" name="Rectangle 11"/>
          <p:cNvSpPr/>
          <p:nvPr/>
        </p:nvSpPr>
        <p:spPr>
          <a:xfrm>
            <a:off x="3136320" y="306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4576680" y="561672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4427640" y="544500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4"/>
              <p:cNvSpPr txBox="1"/>
              <p:nvPr/>
            </p:nvSpPr>
            <p:spPr>
              <a:xfrm>
                <a:off x="5972040" y="5661000"/>
                <a:ext cx="2486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;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5"/>
              <p:cNvSpPr txBox="1"/>
              <p:nvPr/>
            </p:nvSpPr>
            <p:spPr>
              <a:xfrm>
                <a:off x="6049800" y="6094440"/>
                <a:ext cx="11653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 Box 16"/>
          <p:cNvSpPr/>
          <p:nvPr/>
        </p:nvSpPr>
        <p:spPr>
          <a:xfrm>
            <a:off x="1857240" y="42876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D:\мама\на диск\рисун\Рисунок1.gif"/>
          <p:cNvPicPr/>
          <p:nvPr/>
        </p:nvPicPr>
        <p:blipFill>
          <a:blip r:embed="rId3"/>
          <a:stretch/>
        </p:blipFill>
        <p:spPr>
          <a:xfrm>
            <a:off x="7653240" y="3786120"/>
            <a:ext cx="1490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52360" y="331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861080" y="122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644640" y="5429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4"/>
          <p:cNvSpPr/>
          <p:nvPr/>
        </p:nvSpPr>
        <p:spPr>
          <a:xfrm>
            <a:off x="1071720" y="1571760"/>
            <a:ext cx="3929040" cy="1866600"/>
          </a:xfrm>
          <a:custGeom>
            <a:avLst/>
            <a:gdLst>
              <a:gd name="textAreaLeft" fmla="*/ 0 w 3929040"/>
              <a:gd name="textAreaRight" fmla="*/ 3929400 w 392904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2903" h="1412">
                <a:moveTo>
                  <a:pt x="46" y="1406"/>
                </a:moveTo>
                <a:lnTo>
                  <a:pt x="1321" y="1412"/>
                </a:lnTo>
                <a:lnTo>
                  <a:pt x="2903" y="499"/>
                </a:lnTo>
                <a:lnTo>
                  <a:pt x="2812" y="363"/>
                </a:lnTo>
                <a:lnTo>
                  <a:pt x="2722" y="272"/>
                </a:lnTo>
                <a:lnTo>
                  <a:pt x="2631" y="181"/>
                </a:lnTo>
                <a:lnTo>
                  <a:pt x="2540" y="136"/>
                </a:lnTo>
                <a:lnTo>
                  <a:pt x="2450" y="91"/>
                </a:lnTo>
                <a:lnTo>
                  <a:pt x="2404" y="91"/>
                </a:lnTo>
                <a:lnTo>
                  <a:pt x="2223" y="91"/>
                </a:lnTo>
                <a:lnTo>
                  <a:pt x="2132" y="45"/>
                </a:lnTo>
                <a:lnTo>
                  <a:pt x="2041" y="45"/>
                </a:lnTo>
                <a:lnTo>
                  <a:pt x="1860" y="45"/>
                </a:lnTo>
                <a:lnTo>
                  <a:pt x="1724" y="45"/>
                </a:lnTo>
                <a:lnTo>
                  <a:pt x="1588" y="0"/>
                </a:lnTo>
                <a:lnTo>
                  <a:pt x="1497" y="45"/>
                </a:lnTo>
                <a:lnTo>
                  <a:pt x="1361" y="45"/>
                </a:lnTo>
                <a:lnTo>
                  <a:pt x="1179" y="45"/>
                </a:lnTo>
                <a:lnTo>
                  <a:pt x="1043" y="45"/>
                </a:lnTo>
                <a:lnTo>
                  <a:pt x="817" y="91"/>
                </a:lnTo>
                <a:lnTo>
                  <a:pt x="726" y="136"/>
                </a:lnTo>
                <a:lnTo>
                  <a:pt x="544" y="136"/>
                </a:lnTo>
                <a:lnTo>
                  <a:pt x="454" y="272"/>
                </a:lnTo>
                <a:lnTo>
                  <a:pt x="408" y="363"/>
                </a:lnTo>
                <a:cubicBezTo>
                  <a:pt x="396" y="373"/>
                  <a:pt x="387" y="387"/>
                  <a:pt x="373" y="394"/>
                </a:cubicBezTo>
                <a:cubicBezTo>
                  <a:pt x="349" y="407"/>
                  <a:pt x="283" y="417"/>
                  <a:pt x="254" y="429"/>
                </a:cubicBezTo>
                <a:cubicBezTo>
                  <a:pt x="225" y="441"/>
                  <a:pt x="191" y="449"/>
                  <a:pt x="169" y="471"/>
                </a:cubicBezTo>
                <a:cubicBezTo>
                  <a:pt x="157" y="483"/>
                  <a:pt x="134" y="506"/>
                  <a:pt x="134" y="506"/>
                </a:cubicBezTo>
                <a:lnTo>
                  <a:pt x="91" y="635"/>
                </a:lnTo>
                <a:lnTo>
                  <a:pt x="91" y="816"/>
                </a:lnTo>
                <a:lnTo>
                  <a:pt x="0" y="952"/>
                </a:lnTo>
                <a:lnTo>
                  <a:pt x="46" y="1179"/>
                </a:lnTo>
                <a:lnTo>
                  <a:pt x="46" y="1270"/>
                </a:lnTo>
                <a:lnTo>
                  <a:pt x="46" y="1361"/>
                </a:lnTo>
                <a:lnTo>
                  <a:pt x="46" y="14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>
                  <a:alpha val="38039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5"/>
              <p:cNvSpPr txBox="1"/>
              <p:nvPr/>
            </p:nvSpPr>
            <p:spPr>
              <a:xfrm>
                <a:off x="6114960" y="5877000"/>
                <a:ext cx="24004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ОD;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 Box 16"/>
          <p:cNvSpPr/>
          <p:nvPr/>
        </p:nvSpPr>
        <p:spPr>
          <a:xfrm>
            <a:off x="4397400" y="580536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1730160" y="42876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20"/>
          <p:cNvGrpSpPr/>
          <p:nvPr/>
        </p:nvGrpSpPr>
        <p:grpSpPr>
          <a:xfrm>
            <a:off x="785880" y="1785600"/>
            <a:ext cx="5398920" cy="3843720"/>
            <a:chOff x="785880" y="1785600"/>
            <a:chExt cx="5398920" cy="3843720"/>
          </a:xfrm>
        </p:grpSpPr>
        <p:sp>
          <p:nvSpPr>
            <p:cNvPr id="85" name="Freeform 2"/>
            <p:cNvSpPr/>
            <p:nvPr/>
          </p:nvSpPr>
          <p:spPr>
            <a:xfrm>
              <a:off x="2801880" y="1901520"/>
              <a:ext cx="3382920" cy="1512720"/>
            </a:xfrm>
            <a:custGeom>
              <a:avLst/>
              <a:gdLst>
                <a:gd name="textAreaLeft" fmla="*/ 0 w 3382920"/>
                <a:gd name="textAreaRight" fmla="*/ 3383280 w 338292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131" h="953">
                  <a:moveTo>
                    <a:pt x="1678" y="0"/>
                  </a:moveTo>
                  <a:lnTo>
                    <a:pt x="0" y="953"/>
                  </a:lnTo>
                  <a:lnTo>
                    <a:pt x="1995" y="953"/>
                  </a:lnTo>
                  <a:lnTo>
                    <a:pt x="2086" y="862"/>
                  </a:lnTo>
                  <a:lnTo>
                    <a:pt x="2086" y="817"/>
                  </a:lnTo>
                  <a:lnTo>
                    <a:pt x="2131" y="635"/>
                  </a:lnTo>
                  <a:lnTo>
                    <a:pt x="2131" y="545"/>
                  </a:lnTo>
                  <a:lnTo>
                    <a:pt x="2131" y="454"/>
                  </a:lnTo>
                  <a:lnTo>
                    <a:pt x="2086" y="318"/>
                  </a:lnTo>
                  <a:lnTo>
                    <a:pt x="1995" y="182"/>
                  </a:lnTo>
                  <a:lnTo>
                    <a:pt x="1859" y="46"/>
                  </a:lnTo>
                  <a:lnTo>
                    <a:pt x="1769" y="0"/>
                  </a:lnTo>
                  <a:lnTo>
                    <a:pt x="167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99">
                    <a:alpha val="44313"/>
                  </a:srgbClr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"/>
            <p:cNvSpPr/>
            <p:nvPr/>
          </p:nvSpPr>
          <p:spPr>
            <a:xfrm flipV="1">
              <a:off x="2801880" y="1785600"/>
              <a:ext cx="287964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"/>
            <p:cNvSpPr/>
            <p:nvPr/>
          </p:nvSpPr>
          <p:spPr>
            <a:xfrm>
              <a:off x="1101600" y="3441600"/>
              <a:ext cx="2419200" cy="2187720"/>
            </a:xfrm>
            <a:custGeom>
              <a:avLst/>
              <a:gdLst>
                <a:gd name="textAreaLeft" fmla="*/ 0 w 2419200"/>
                <a:gd name="textAreaRight" fmla="*/ 2419560 w 2419200"/>
                <a:gd name="textAreaTop" fmla="*/ 0 h 2187720"/>
                <a:gd name="textAreaBottom" fmla="*/ 2188080 h 2187720"/>
              </a:gdLst>
              <a:ahLst/>
              <a:rect l="textAreaLeft" t="textAreaTop" r="textAreaRight" b="textAreaBottom"/>
              <a:pathLst>
                <a:path w="1769" h="1542">
                  <a:moveTo>
                    <a:pt x="0" y="0"/>
                  </a:moveTo>
                  <a:lnTo>
                    <a:pt x="1316" y="0"/>
                  </a:lnTo>
                  <a:lnTo>
                    <a:pt x="1769" y="1497"/>
                  </a:lnTo>
                  <a:lnTo>
                    <a:pt x="1497" y="1497"/>
                  </a:lnTo>
                  <a:lnTo>
                    <a:pt x="1180" y="1542"/>
                  </a:lnTo>
                  <a:lnTo>
                    <a:pt x="953" y="1406"/>
                  </a:lnTo>
                  <a:lnTo>
                    <a:pt x="771" y="1316"/>
                  </a:lnTo>
                  <a:lnTo>
                    <a:pt x="590" y="1270"/>
                  </a:lnTo>
                  <a:lnTo>
                    <a:pt x="499" y="998"/>
                  </a:lnTo>
                  <a:lnTo>
                    <a:pt x="227" y="817"/>
                  </a:lnTo>
                  <a:lnTo>
                    <a:pt x="227" y="635"/>
                  </a:lnTo>
                  <a:lnTo>
                    <a:pt x="46" y="408"/>
                  </a:lnTo>
                  <a:lnTo>
                    <a:pt x="0" y="182"/>
                  </a:lnTo>
                  <a:lnTo>
                    <a:pt x="46" y="13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ff6b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"/>
            <p:cNvSpPr/>
            <p:nvPr/>
          </p:nvSpPr>
          <p:spPr>
            <a:xfrm>
              <a:off x="2801880" y="3414600"/>
              <a:ext cx="3228840" cy="2143080"/>
            </a:xfrm>
            <a:custGeom>
              <a:avLst/>
              <a:gdLst>
                <a:gd name="textAreaLeft" fmla="*/ 0 w 3228840"/>
                <a:gd name="textAreaRight" fmla="*/ 3229200 w 3228840"/>
                <a:gd name="textAreaTop" fmla="*/ 0 h 2143080"/>
                <a:gd name="textAreaBottom" fmla="*/ 2143440 h 2143080"/>
              </a:gdLst>
              <a:ahLst/>
              <a:rect l="textAreaLeft" t="textAreaTop" r="textAreaRight" b="textAreaBottom"/>
              <a:pathLst>
                <a:path w="2268" h="1542">
                  <a:moveTo>
                    <a:pt x="479" y="1500"/>
                  </a:moveTo>
                  <a:cubicBezTo>
                    <a:pt x="469" y="1485"/>
                    <a:pt x="453" y="1474"/>
                    <a:pt x="444" y="1458"/>
                  </a:cubicBezTo>
                  <a:cubicBezTo>
                    <a:pt x="437" y="1445"/>
                    <a:pt x="429" y="1415"/>
                    <a:pt x="429" y="1415"/>
                  </a:cubicBezTo>
                  <a:lnTo>
                    <a:pt x="0" y="0"/>
                  </a:lnTo>
                  <a:lnTo>
                    <a:pt x="2268" y="0"/>
                  </a:lnTo>
                  <a:lnTo>
                    <a:pt x="2177" y="136"/>
                  </a:lnTo>
                  <a:lnTo>
                    <a:pt x="2041" y="318"/>
                  </a:lnTo>
                  <a:cubicBezTo>
                    <a:pt x="2033" y="358"/>
                    <a:pt x="2050" y="448"/>
                    <a:pt x="1994" y="469"/>
                  </a:cubicBezTo>
                  <a:cubicBezTo>
                    <a:pt x="1957" y="483"/>
                    <a:pt x="1916" y="480"/>
                    <a:pt x="1880" y="498"/>
                  </a:cubicBezTo>
                  <a:cubicBezTo>
                    <a:pt x="1790" y="543"/>
                    <a:pt x="1903" y="489"/>
                    <a:pt x="1830" y="519"/>
                  </a:cubicBezTo>
                  <a:cubicBezTo>
                    <a:pt x="1820" y="523"/>
                    <a:pt x="1802" y="533"/>
                    <a:pt x="1802" y="533"/>
                  </a:cubicBezTo>
                  <a:lnTo>
                    <a:pt x="1723" y="771"/>
                  </a:lnTo>
                  <a:cubicBezTo>
                    <a:pt x="1641" y="813"/>
                    <a:pt x="1615" y="825"/>
                    <a:pt x="1560" y="889"/>
                  </a:cubicBezTo>
                  <a:cubicBezTo>
                    <a:pt x="1546" y="905"/>
                    <a:pt x="1517" y="923"/>
                    <a:pt x="1517" y="946"/>
                  </a:cubicBezTo>
                  <a:lnTo>
                    <a:pt x="1361" y="1089"/>
                  </a:lnTo>
                  <a:lnTo>
                    <a:pt x="862" y="1361"/>
                  </a:lnTo>
                  <a:lnTo>
                    <a:pt x="680" y="1452"/>
                  </a:lnTo>
                  <a:lnTo>
                    <a:pt x="544" y="1542"/>
                  </a:lnTo>
                  <a:lnTo>
                    <a:pt x="453" y="1452"/>
                  </a:lnTo>
                </a:path>
              </a:pathLst>
            </a:custGeom>
            <a:gradFill rotWithShape="0">
              <a:gsLst>
                <a:gs pos="0">
                  <a:srgbClr val="0000ff">
                    <a:alpha val="63137"/>
                  </a:srgbClr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785880" y="3441600"/>
              <a:ext cx="511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5538600" y="2793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12"/>
                <p:cNvSpPr txBox="1"/>
                <p:nvPr/>
              </p:nvSpPr>
              <p:spPr>
                <a:xfrm>
                  <a:off x="3809880" y="2793960"/>
                  <a:ext cx="7189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Object 13"/>
                <p:cNvSpPr txBox="1"/>
                <p:nvPr/>
              </p:nvSpPr>
              <p:spPr>
                <a:xfrm>
                  <a:off x="1936800" y="3559320"/>
                  <a:ext cx="79200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6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3" name="TextBox 19"/>
            <p:cNvSpPr/>
            <p:nvPr/>
          </p:nvSpPr>
          <p:spPr>
            <a:xfrm>
              <a:off x="2530440" y="27716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8" descr="D:\мама\на диск\рисун\Рисунок1.gif"/>
          <p:cNvPicPr/>
          <p:nvPr/>
        </p:nvPicPr>
        <p:blipFill>
          <a:blip r:embed="rId1"/>
          <a:stretch/>
        </p:blipFill>
        <p:spPr>
          <a:xfrm>
            <a:off x="7429680" y="3429000"/>
            <a:ext cx="1571400" cy="178596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>
            <a:off x="2786040" y="3429000"/>
            <a:ext cx="71928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" name="Object 8"/>
              <p:cNvSpPr txBox="1"/>
              <p:nvPr/>
            </p:nvSpPr>
            <p:spPr>
              <a:xfrm>
                <a:off x="5076720" y="4724280"/>
                <a:ext cx="26686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Line 9"/>
          <p:cNvSpPr/>
          <p:nvPr/>
        </p:nvSpPr>
        <p:spPr>
          <a:xfrm>
            <a:off x="4572000" y="551664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0"/>
              <p:cNvSpPr txBox="1"/>
              <p:nvPr/>
            </p:nvSpPr>
            <p:spPr>
              <a:xfrm>
                <a:off x="6012000" y="5805360"/>
                <a:ext cx="24494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?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" name="Группа 17"/>
          <p:cNvGrpSpPr/>
          <p:nvPr/>
        </p:nvGrpSpPr>
        <p:grpSpPr>
          <a:xfrm>
            <a:off x="287280" y="1554120"/>
            <a:ext cx="6567480" cy="3186000"/>
            <a:chOff x="287280" y="1554120"/>
            <a:chExt cx="6567480" cy="3186000"/>
          </a:xfrm>
        </p:grpSpPr>
        <p:sp>
          <p:nvSpPr>
            <p:cNvPr id="100" name="Freeform 2"/>
            <p:cNvSpPr/>
            <p:nvPr/>
          </p:nvSpPr>
          <p:spPr>
            <a:xfrm>
              <a:off x="500040" y="1785600"/>
              <a:ext cx="5764320" cy="2936880"/>
            </a:xfrm>
            <a:custGeom>
              <a:avLst/>
              <a:gdLst>
                <a:gd name="textAreaLeft" fmla="*/ 0 w 5764320"/>
                <a:gd name="textAreaRight" fmla="*/ 5764680 w 5764320"/>
                <a:gd name="textAreaTop" fmla="*/ 0 h 2936880"/>
                <a:gd name="textAreaBottom" fmla="*/ 2937240 h 2936880"/>
              </a:gdLst>
              <a:ahLst/>
              <a:rect l="textAreaLeft" t="textAreaTop" r="textAreaRight" b="textAreaBottom"/>
              <a:pathLst>
                <a:path w="3901" h="2087">
                  <a:moveTo>
                    <a:pt x="45" y="2087"/>
                  </a:moveTo>
                  <a:lnTo>
                    <a:pt x="1804" y="2081"/>
                  </a:lnTo>
                  <a:lnTo>
                    <a:pt x="3901" y="408"/>
                  </a:lnTo>
                  <a:lnTo>
                    <a:pt x="3583" y="182"/>
                  </a:lnTo>
                  <a:lnTo>
                    <a:pt x="3447" y="91"/>
                  </a:lnTo>
                  <a:lnTo>
                    <a:pt x="3266" y="46"/>
                  </a:lnTo>
                  <a:lnTo>
                    <a:pt x="3084" y="46"/>
                  </a:lnTo>
                  <a:lnTo>
                    <a:pt x="2767" y="0"/>
                  </a:lnTo>
                  <a:lnTo>
                    <a:pt x="2540" y="0"/>
                  </a:lnTo>
                  <a:lnTo>
                    <a:pt x="2268" y="0"/>
                  </a:lnTo>
                  <a:lnTo>
                    <a:pt x="1950" y="0"/>
                  </a:lnTo>
                  <a:lnTo>
                    <a:pt x="1588" y="46"/>
                  </a:lnTo>
                  <a:lnTo>
                    <a:pt x="1270" y="46"/>
                  </a:lnTo>
                  <a:lnTo>
                    <a:pt x="998" y="91"/>
                  </a:lnTo>
                  <a:lnTo>
                    <a:pt x="726" y="227"/>
                  </a:lnTo>
                  <a:lnTo>
                    <a:pt x="454" y="363"/>
                  </a:lnTo>
                  <a:lnTo>
                    <a:pt x="363" y="590"/>
                  </a:lnTo>
                  <a:lnTo>
                    <a:pt x="272" y="726"/>
                  </a:lnTo>
                  <a:lnTo>
                    <a:pt x="227" y="907"/>
                  </a:lnTo>
                  <a:lnTo>
                    <a:pt x="136" y="1225"/>
                  </a:lnTo>
                  <a:lnTo>
                    <a:pt x="91" y="1542"/>
                  </a:lnTo>
                  <a:lnTo>
                    <a:pt x="0" y="1769"/>
                  </a:lnTo>
                  <a:lnTo>
                    <a:pt x="0" y="1996"/>
                  </a:lnTo>
                  <a:lnTo>
                    <a:pt x="45" y="2041"/>
                  </a:lnTo>
                  <a:lnTo>
                    <a:pt x="45" y="208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df0f9">
                    <a:alpha val="74117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"/>
            <p:cNvSpPr/>
            <p:nvPr/>
          </p:nvSpPr>
          <p:spPr>
            <a:xfrm>
              <a:off x="2951280" y="2130120"/>
              <a:ext cx="3692520" cy="2597040"/>
            </a:xfrm>
            <a:custGeom>
              <a:avLst/>
              <a:gdLst>
                <a:gd name="textAreaLeft" fmla="*/ 0 w 3692520"/>
                <a:gd name="textAreaRight" fmla="*/ 3692880 w 3692520"/>
                <a:gd name="textAreaTop" fmla="*/ 0 h 2597040"/>
                <a:gd name="textAreaBottom" fmla="*/ 2597400 h 2597040"/>
              </a:gdLst>
              <a:ahLst/>
              <a:rect l="textAreaLeft" t="textAreaTop" r="textAreaRight" b="textAreaBottom"/>
              <a:pathLst>
                <a:path w="2986" h="1636">
                  <a:moveTo>
                    <a:pt x="2477" y="1621"/>
                  </a:moveTo>
                  <a:lnTo>
                    <a:pt x="0" y="1623"/>
                  </a:lnTo>
                  <a:lnTo>
                    <a:pt x="1977" y="52"/>
                  </a:lnTo>
                  <a:lnTo>
                    <a:pt x="2445" y="0"/>
                  </a:lnTo>
                  <a:lnTo>
                    <a:pt x="2978" y="726"/>
                  </a:lnTo>
                  <a:lnTo>
                    <a:pt x="2986" y="1081"/>
                  </a:lnTo>
                  <a:lnTo>
                    <a:pt x="2936" y="1508"/>
                  </a:lnTo>
                  <a:lnTo>
                    <a:pt x="2360" y="1636"/>
                  </a:lnTo>
                  <a:lnTo>
                    <a:pt x="2360" y="1622"/>
                  </a:lnTo>
                  <a:lnTo>
                    <a:pt x="2351" y="1621"/>
                  </a:lnTo>
                </a:path>
              </a:pathLst>
            </a:custGeom>
            <a:gradFill rotWithShape="0">
              <a:gsLst>
                <a:gs pos="0">
                  <a:srgbClr val="f0fa90">
                    <a:alpha val="81176"/>
                  </a:srgbClr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"/>
            <p:cNvSpPr/>
            <p:nvPr/>
          </p:nvSpPr>
          <p:spPr>
            <a:xfrm>
              <a:off x="500040" y="4714920"/>
              <a:ext cx="635472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2857320" y="1785240"/>
              <a:ext cx="3071880" cy="294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6"/>
                <p:cNvSpPr txBox="1"/>
                <p:nvPr/>
              </p:nvSpPr>
              <p:spPr>
                <a:xfrm>
                  <a:off x="2374920" y="4146480"/>
                  <a:ext cx="64764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7"/>
                <p:cNvSpPr txBox="1"/>
                <p:nvPr/>
              </p:nvSpPr>
              <p:spPr>
                <a:xfrm>
                  <a:off x="3887640" y="4002120"/>
                  <a:ext cx="5857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1"/>
            <p:cNvSpPr/>
            <p:nvPr/>
          </p:nvSpPr>
          <p:spPr>
            <a:xfrm>
              <a:off x="287280" y="4071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5834160" y="1554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3"/>
          <p:cNvSpPr/>
          <p:nvPr/>
        </p:nvSpPr>
        <p:spPr>
          <a:xfrm>
            <a:off x="6481440" y="4073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665080" y="4794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2000160" y="500040"/>
            <a:ext cx="29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470480" y="5877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2" descr="D:\мама\на диск\рисун\Рисунок4.png"/>
          <p:cNvPicPr/>
          <p:nvPr/>
        </p:nvPicPr>
        <p:blipFill>
          <a:blip r:embed="rId1"/>
          <a:stretch/>
        </p:blipFill>
        <p:spPr>
          <a:xfrm>
            <a:off x="7643880" y="1643040"/>
            <a:ext cx="1071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6716520" y="4925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192840" y="49752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5075280" y="4797360"/>
            <a:ext cx="2736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5837040" y="5877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5867280" y="5661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7362720" y="5877000"/>
                <a:ext cx="1405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D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" name="Группа 21"/>
          <p:cNvGrpSpPr/>
          <p:nvPr/>
        </p:nvGrpSpPr>
        <p:grpSpPr>
          <a:xfrm>
            <a:off x="336240" y="1879560"/>
            <a:ext cx="6836400" cy="3605760"/>
            <a:chOff x="336240" y="1879560"/>
            <a:chExt cx="6836400" cy="3605760"/>
          </a:xfrm>
        </p:grpSpPr>
        <p:sp>
          <p:nvSpPr>
            <p:cNvPr id="120" name="Freeform 2"/>
            <p:cNvSpPr/>
            <p:nvPr/>
          </p:nvSpPr>
          <p:spPr>
            <a:xfrm>
              <a:off x="3490920" y="2743200"/>
              <a:ext cx="3529080" cy="2233800"/>
            </a:xfrm>
            <a:custGeom>
              <a:avLst/>
              <a:gdLst>
                <a:gd name="textAreaLeft" fmla="*/ 0 w 3529080"/>
                <a:gd name="textAreaRight" fmla="*/ 3529440 w 3529080"/>
                <a:gd name="textAreaTop" fmla="*/ 0 h 2233800"/>
                <a:gd name="textAreaBottom" fmla="*/ 2234160 h 2233800"/>
              </a:gdLst>
              <a:ahLst/>
              <a:rect l="textAreaLeft" t="textAreaTop" r="textAreaRight" b="textAreaBottom"/>
              <a:pathLst>
                <a:path w="2223" h="1407">
                  <a:moveTo>
                    <a:pt x="1633" y="0"/>
                  </a:moveTo>
                  <a:lnTo>
                    <a:pt x="0" y="1407"/>
                  </a:lnTo>
                  <a:lnTo>
                    <a:pt x="2132" y="1407"/>
                  </a:lnTo>
                  <a:lnTo>
                    <a:pt x="2178" y="1271"/>
                  </a:lnTo>
                  <a:lnTo>
                    <a:pt x="2223" y="1089"/>
                  </a:lnTo>
                  <a:lnTo>
                    <a:pt x="2223" y="953"/>
                  </a:lnTo>
                  <a:lnTo>
                    <a:pt x="2223" y="862"/>
                  </a:lnTo>
                  <a:lnTo>
                    <a:pt x="2223" y="681"/>
                  </a:lnTo>
                  <a:lnTo>
                    <a:pt x="2132" y="545"/>
                  </a:lnTo>
                  <a:lnTo>
                    <a:pt x="2042" y="409"/>
                  </a:lnTo>
                  <a:lnTo>
                    <a:pt x="2042" y="318"/>
                  </a:lnTo>
                  <a:lnTo>
                    <a:pt x="1905" y="182"/>
                  </a:lnTo>
                  <a:cubicBezTo>
                    <a:pt x="1890" y="167"/>
                    <a:pt x="1872" y="154"/>
                    <a:pt x="1860" y="137"/>
                  </a:cubicBezTo>
                  <a:cubicBezTo>
                    <a:pt x="1856" y="131"/>
                    <a:pt x="1863" y="121"/>
                    <a:pt x="1859" y="115"/>
                  </a:cubicBezTo>
                  <a:cubicBezTo>
                    <a:pt x="1846" y="95"/>
                    <a:pt x="1757" y="57"/>
                    <a:pt x="1730" y="39"/>
                  </a:cubicBezTo>
                  <a:cubicBezTo>
                    <a:pt x="1717" y="19"/>
                    <a:pt x="1725" y="21"/>
                    <a:pt x="1712" y="21"/>
                  </a:cubicBezTo>
                  <a:lnTo>
                    <a:pt x="16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0fa90">
                    <a:alpha val="50196"/>
                  </a:srgbClr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"/>
            <p:cNvSpPr/>
            <p:nvPr/>
          </p:nvSpPr>
          <p:spPr>
            <a:xfrm>
              <a:off x="610920" y="1879560"/>
              <a:ext cx="5448600" cy="3097440"/>
            </a:xfrm>
            <a:custGeom>
              <a:avLst/>
              <a:gdLst>
                <a:gd name="textAreaLeft" fmla="*/ 0 w 5448600"/>
                <a:gd name="textAreaRight" fmla="*/ 5448960 w 5448600"/>
                <a:gd name="textAreaTop" fmla="*/ 0 h 3097440"/>
                <a:gd name="textAreaBottom" fmla="*/ 3097800 h 3097440"/>
              </a:gdLst>
              <a:ahLst/>
              <a:rect l="textAreaLeft" t="textAreaTop" r="textAreaRight" b="textAreaBottom"/>
              <a:pathLst>
                <a:path w="3432" h="1951">
                  <a:moveTo>
                    <a:pt x="98" y="1940"/>
                  </a:moveTo>
                  <a:cubicBezTo>
                    <a:pt x="183" y="1926"/>
                    <a:pt x="126" y="1933"/>
                    <a:pt x="269" y="1933"/>
                  </a:cubicBezTo>
                  <a:lnTo>
                    <a:pt x="1814" y="1951"/>
                  </a:lnTo>
                  <a:lnTo>
                    <a:pt x="3432" y="548"/>
                  </a:lnTo>
                  <a:lnTo>
                    <a:pt x="3130" y="363"/>
                  </a:lnTo>
                  <a:lnTo>
                    <a:pt x="2948" y="227"/>
                  </a:lnTo>
                  <a:lnTo>
                    <a:pt x="2812" y="182"/>
                  </a:lnTo>
                  <a:lnTo>
                    <a:pt x="2631" y="91"/>
                  </a:lnTo>
                  <a:lnTo>
                    <a:pt x="2359" y="91"/>
                  </a:lnTo>
                  <a:lnTo>
                    <a:pt x="2132" y="46"/>
                  </a:lnTo>
                  <a:lnTo>
                    <a:pt x="1905" y="0"/>
                  </a:lnTo>
                  <a:lnTo>
                    <a:pt x="1769" y="0"/>
                  </a:lnTo>
                  <a:lnTo>
                    <a:pt x="1588" y="46"/>
                  </a:lnTo>
                  <a:lnTo>
                    <a:pt x="1406" y="0"/>
                  </a:lnTo>
                  <a:lnTo>
                    <a:pt x="1225" y="46"/>
                  </a:lnTo>
                  <a:lnTo>
                    <a:pt x="1043" y="46"/>
                  </a:lnTo>
                  <a:lnTo>
                    <a:pt x="907" y="91"/>
                  </a:lnTo>
                  <a:lnTo>
                    <a:pt x="771" y="136"/>
                  </a:lnTo>
                  <a:lnTo>
                    <a:pt x="680" y="136"/>
                  </a:lnTo>
                  <a:lnTo>
                    <a:pt x="499" y="182"/>
                  </a:lnTo>
                  <a:lnTo>
                    <a:pt x="408" y="227"/>
                  </a:lnTo>
                  <a:lnTo>
                    <a:pt x="272" y="318"/>
                  </a:lnTo>
                  <a:lnTo>
                    <a:pt x="181" y="454"/>
                  </a:lnTo>
                  <a:lnTo>
                    <a:pt x="91" y="590"/>
                  </a:lnTo>
                  <a:lnTo>
                    <a:pt x="45" y="907"/>
                  </a:lnTo>
                  <a:lnTo>
                    <a:pt x="0" y="998"/>
                  </a:lnTo>
                  <a:lnTo>
                    <a:pt x="0" y="1089"/>
                  </a:lnTo>
                  <a:lnTo>
                    <a:pt x="45" y="1270"/>
                  </a:lnTo>
                  <a:lnTo>
                    <a:pt x="0" y="1406"/>
                  </a:lnTo>
                  <a:lnTo>
                    <a:pt x="0" y="1588"/>
                  </a:lnTo>
                  <a:lnTo>
                    <a:pt x="0" y="163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>
                    <a:alpha val="42352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"/>
            <p:cNvSpPr/>
            <p:nvPr/>
          </p:nvSpPr>
          <p:spPr>
            <a:xfrm>
              <a:off x="3564000" y="49752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V="1">
              <a:off x="3490920" y="3823920"/>
              <a:ext cx="316872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336240" y="4903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6661080" y="3031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5594400" y="20952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>
              <a:off x="826920" y="4975200"/>
              <a:ext cx="60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 flipV="1">
              <a:off x="3490920" y="2743200"/>
              <a:ext cx="259236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rc 17"/>
            <p:cNvSpPr/>
            <p:nvPr/>
          </p:nvSpPr>
          <p:spPr>
            <a:xfrm>
              <a:off x="4714920" y="4543560"/>
              <a:ext cx="144360" cy="43308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rc 18"/>
            <p:cNvSpPr/>
            <p:nvPr/>
          </p:nvSpPr>
          <p:spPr>
            <a:xfrm>
              <a:off x="4572000" y="4040280"/>
              <a:ext cx="144360" cy="50472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9"/>
                <p:cNvSpPr txBox="1"/>
                <p:nvPr/>
              </p:nvSpPr>
              <p:spPr>
                <a:xfrm>
                  <a:off x="5075280" y="4327560"/>
                  <a:ext cx="72072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6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20"/>
          <p:cNvSpPr/>
          <p:nvPr/>
        </p:nvSpPr>
        <p:spPr>
          <a:xfrm>
            <a:off x="1730160" y="57168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3" descr="D:\мама\на диск\рисун\Рисунок1.gif"/>
          <p:cNvPicPr/>
          <p:nvPr/>
        </p:nvPicPr>
        <p:blipFill>
          <a:blip r:embed="rId1"/>
          <a:stretch/>
        </p:blipFill>
        <p:spPr>
          <a:xfrm>
            <a:off x="7653240" y="4286160"/>
            <a:ext cx="1490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2"/>
          <p:cNvSpPr/>
          <p:nvPr/>
        </p:nvSpPr>
        <p:spPr>
          <a:xfrm>
            <a:off x="571680" y="1785960"/>
            <a:ext cx="3093840" cy="3139920"/>
          </a:xfrm>
          <a:custGeom>
            <a:avLst/>
            <a:gdLst>
              <a:gd name="textAreaLeft" fmla="*/ 0 w 3093840"/>
              <a:gd name="textAreaRight" fmla="*/ 3094200 w 3093840"/>
              <a:gd name="textAreaTop" fmla="*/ 0 h 3139920"/>
              <a:gd name="textAreaBottom" fmla="*/ 3140280 h 3139920"/>
            </a:gdLst>
            <a:ahLst/>
            <a:rect l="textAreaLeft" t="textAreaTop" r="textAreaRight" b="textAreaBottom"/>
            <a:pathLst>
              <a:path w="2309" h="2234">
                <a:moveTo>
                  <a:pt x="89" y="2234"/>
                </a:moveTo>
                <a:lnTo>
                  <a:pt x="2301" y="2234"/>
                </a:lnTo>
                <a:lnTo>
                  <a:pt x="2309" y="780"/>
                </a:lnTo>
                <a:lnTo>
                  <a:pt x="2301" y="0"/>
                </a:lnTo>
                <a:lnTo>
                  <a:pt x="644" y="274"/>
                </a:lnTo>
                <a:lnTo>
                  <a:pt x="812" y="176"/>
                </a:lnTo>
                <a:lnTo>
                  <a:pt x="503" y="366"/>
                </a:lnTo>
                <a:lnTo>
                  <a:pt x="533" y="745"/>
                </a:lnTo>
                <a:lnTo>
                  <a:pt x="442" y="871"/>
                </a:lnTo>
                <a:lnTo>
                  <a:pt x="625" y="668"/>
                </a:lnTo>
                <a:lnTo>
                  <a:pt x="442" y="731"/>
                </a:lnTo>
                <a:lnTo>
                  <a:pt x="0" y="1609"/>
                </a:lnTo>
              </a:path>
            </a:pathLst>
          </a:custGeom>
          <a:blipFill rotWithShape="0">
            <a:blip r:embed="rId1">
              <a:alphaModFix amt="6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1360440" y="4941720"/>
            <a:ext cx="489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3664080" y="2852640"/>
            <a:ext cx="1944720" cy="20876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225" h="1315">
                <a:moveTo>
                  <a:pt x="0" y="136"/>
                </a:moveTo>
                <a:lnTo>
                  <a:pt x="0" y="1315"/>
                </a:lnTo>
                <a:lnTo>
                  <a:pt x="1225" y="181"/>
                </a:lnTo>
                <a:lnTo>
                  <a:pt x="1089" y="90"/>
                </a:lnTo>
                <a:lnTo>
                  <a:pt x="907" y="45"/>
                </a:lnTo>
                <a:lnTo>
                  <a:pt x="635" y="0"/>
                </a:lnTo>
                <a:lnTo>
                  <a:pt x="408" y="0"/>
                </a:lnTo>
                <a:lnTo>
                  <a:pt x="318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3664080" y="191628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3664080" y="3068640"/>
            <a:ext cx="2952720" cy="18730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1873080"/>
              <a:gd name="textAreaBottom" fmla="*/ 1873440 h 1873080"/>
            </a:gdLst>
            <a:ahLst/>
            <a:rect l="textAreaLeft" t="textAreaTop" r="textAreaRight" b="textAreaBottom"/>
            <a:pathLst>
              <a:path w="1815" h="1180">
                <a:moveTo>
                  <a:pt x="1270" y="0"/>
                </a:moveTo>
                <a:lnTo>
                  <a:pt x="0" y="1180"/>
                </a:lnTo>
                <a:lnTo>
                  <a:pt x="1633" y="1180"/>
                </a:lnTo>
                <a:lnTo>
                  <a:pt x="1815" y="953"/>
                </a:lnTo>
                <a:lnTo>
                  <a:pt x="1769" y="817"/>
                </a:lnTo>
                <a:lnTo>
                  <a:pt x="1815" y="590"/>
                </a:lnTo>
                <a:lnTo>
                  <a:pt x="1769" y="454"/>
                </a:lnTo>
                <a:lnTo>
                  <a:pt x="1633" y="408"/>
                </a:lnTo>
                <a:lnTo>
                  <a:pt x="1724" y="272"/>
                </a:lnTo>
                <a:lnTo>
                  <a:pt x="1542" y="136"/>
                </a:lnTo>
                <a:lnTo>
                  <a:pt x="1542" y="91"/>
                </a:lnTo>
              </a:path>
            </a:pathLst>
          </a:custGeom>
          <a:blipFill rotWithShape="0">
            <a:blip r:embed="rId3">
              <a:alphaModFix amt="8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3664080" y="2997000"/>
            <a:ext cx="208908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672000" y="494028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3816360" y="3645000"/>
                <a:ext cx="398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4464000" y="4292640"/>
                <a:ext cx="442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11"/>
          <p:cNvSpPr/>
          <p:nvPr/>
        </p:nvSpPr>
        <p:spPr>
          <a:xfrm>
            <a:off x="720720" y="494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3097440" y="213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473440" y="23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619416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15"/>
          <p:cNvSpPr/>
          <p:nvPr/>
        </p:nvSpPr>
        <p:spPr>
          <a:xfrm>
            <a:off x="4103640" y="4508640"/>
            <a:ext cx="289080" cy="431640"/>
          </a:xfrm>
          <a:custGeom>
            <a:avLst/>
            <a:gdLst>
              <a:gd name="textAreaLeft" fmla="*/ 0 w 289080"/>
              <a:gd name="textAreaRight" fmla="*/ 289080 w 289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16"/>
          <p:cNvSpPr/>
          <p:nvPr/>
        </p:nvSpPr>
        <p:spPr>
          <a:xfrm rot="20005800">
            <a:off x="3742920" y="4148280"/>
            <a:ext cx="289080" cy="431640"/>
          </a:xfrm>
          <a:custGeom>
            <a:avLst/>
            <a:gdLst>
              <a:gd name="textAreaLeft" fmla="*/ 0 w 289080"/>
              <a:gd name="textAreaRight" fmla="*/ 289080 w 289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5292720" y="5589720"/>
            <a:ext cx="359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8"/>
              <p:cNvSpPr txBox="1"/>
              <p:nvPr/>
            </p:nvSpPr>
            <p:spPr>
              <a:xfrm>
                <a:off x="6819840" y="5805360"/>
                <a:ext cx="1217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19"/>
          <p:cNvSpPr/>
          <p:nvPr/>
        </p:nvSpPr>
        <p:spPr>
          <a:xfrm>
            <a:off x="302544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5189400" y="57340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2158560" y="50004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3" descr="D:\мама\на диск\рисун\Рисунок1.gif"/>
          <p:cNvPicPr/>
          <p:nvPr/>
        </p:nvPicPr>
        <p:blipFill>
          <a:blip r:embed="rId4"/>
          <a:stretch/>
        </p:blipFill>
        <p:spPr>
          <a:xfrm>
            <a:off x="7653240" y="4214880"/>
            <a:ext cx="1490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2"/>
          <p:cNvSpPr/>
          <p:nvPr/>
        </p:nvSpPr>
        <p:spPr>
          <a:xfrm>
            <a:off x="642960" y="1500120"/>
            <a:ext cx="5500800" cy="3929040"/>
          </a:xfrm>
          <a:custGeom>
            <a:avLst/>
            <a:gdLst>
              <a:gd name="textAreaLeft" fmla="*/ 0 w 5500800"/>
              <a:gd name="textAreaRight" fmla="*/ 5501160 w 5500800"/>
              <a:gd name="textAreaTop" fmla="*/ 0 h 3929040"/>
              <a:gd name="textAreaBottom" fmla="*/ 3929400 h 3929040"/>
            </a:gdLst>
            <a:ahLst/>
            <a:rect l="textAreaLeft" t="textAreaTop" r="textAreaRight" b="textAreaBottom"/>
            <a:pathLst>
              <a:path w="4201" h="2994">
                <a:moveTo>
                  <a:pt x="2341" y="1361"/>
                </a:moveTo>
                <a:lnTo>
                  <a:pt x="3566" y="318"/>
                </a:lnTo>
                <a:lnTo>
                  <a:pt x="3521" y="272"/>
                </a:lnTo>
                <a:lnTo>
                  <a:pt x="3158" y="91"/>
                </a:lnTo>
                <a:lnTo>
                  <a:pt x="2795" y="0"/>
                </a:lnTo>
                <a:lnTo>
                  <a:pt x="2659" y="0"/>
                </a:lnTo>
                <a:lnTo>
                  <a:pt x="2251" y="46"/>
                </a:lnTo>
                <a:lnTo>
                  <a:pt x="1706" y="136"/>
                </a:lnTo>
                <a:lnTo>
                  <a:pt x="935" y="182"/>
                </a:lnTo>
                <a:lnTo>
                  <a:pt x="572" y="272"/>
                </a:lnTo>
                <a:lnTo>
                  <a:pt x="346" y="499"/>
                </a:lnTo>
                <a:cubicBezTo>
                  <a:pt x="285" y="514"/>
                  <a:pt x="222" y="521"/>
                  <a:pt x="164" y="545"/>
                </a:cubicBezTo>
                <a:cubicBezTo>
                  <a:pt x="131" y="558"/>
                  <a:pt x="148" y="596"/>
                  <a:pt x="151" y="616"/>
                </a:cubicBezTo>
                <a:cubicBezTo>
                  <a:pt x="160" y="670"/>
                  <a:pt x="179" y="715"/>
                  <a:pt x="179" y="770"/>
                </a:cubicBezTo>
                <a:lnTo>
                  <a:pt x="210" y="953"/>
                </a:lnTo>
                <a:lnTo>
                  <a:pt x="164" y="1134"/>
                </a:lnTo>
                <a:lnTo>
                  <a:pt x="119" y="1316"/>
                </a:lnTo>
                <a:cubicBezTo>
                  <a:pt x="89" y="1391"/>
                  <a:pt x="37" y="1461"/>
                  <a:pt x="28" y="1542"/>
                </a:cubicBezTo>
                <a:cubicBezTo>
                  <a:pt x="12" y="1691"/>
                  <a:pt x="0" y="1849"/>
                  <a:pt x="46" y="1992"/>
                </a:cubicBezTo>
                <a:cubicBezTo>
                  <a:pt x="55" y="2021"/>
                  <a:pt x="74" y="2054"/>
                  <a:pt x="74" y="2084"/>
                </a:cubicBezTo>
                <a:cubicBezTo>
                  <a:pt x="90" y="2147"/>
                  <a:pt x="96" y="2217"/>
                  <a:pt x="130" y="2273"/>
                </a:cubicBezTo>
                <a:cubicBezTo>
                  <a:pt x="137" y="2302"/>
                  <a:pt x="147" y="2331"/>
                  <a:pt x="158" y="2358"/>
                </a:cubicBezTo>
                <a:cubicBezTo>
                  <a:pt x="164" y="2373"/>
                  <a:pt x="179" y="2400"/>
                  <a:pt x="179" y="2400"/>
                </a:cubicBezTo>
                <a:cubicBezTo>
                  <a:pt x="255" y="2450"/>
                  <a:pt x="324" y="2506"/>
                  <a:pt x="397" y="2561"/>
                </a:cubicBezTo>
                <a:cubicBezTo>
                  <a:pt x="424" y="2582"/>
                  <a:pt x="438" y="2613"/>
                  <a:pt x="467" y="2632"/>
                </a:cubicBezTo>
                <a:cubicBezTo>
                  <a:pt x="487" y="2673"/>
                  <a:pt x="518" y="2704"/>
                  <a:pt x="538" y="2744"/>
                </a:cubicBezTo>
                <a:cubicBezTo>
                  <a:pt x="635" y="2809"/>
                  <a:pt x="499" y="2727"/>
                  <a:pt x="622" y="2765"/>
                </a:cubicBezTo>
                <a:cubicBezTo>
                  <a:pt x="636" y="2769"/>
                  <a:pt x="645" y="2785"/>
                  <a:pt x="657" y="2793"/>
                </a:cubicBezTo>
                <a:cubicBezTo>
                  <a:pt x="706" y="2826"/>
                  <a:pt x="759" y="2856"/>
                  <a:pt x="819" y="2856"/>
                </a:cubicBezTo>
                <a:cubicBezTo>
                  <a:pt x="873" y="2857"/>
                  <a:pt x="928" y="2849"/>
                  <a:pt x="981" y="2858"/>
                </a:cubicBezTo>
                <a:cubicBezTo>
                  <a:pt x="990" y="2860"/>
                  <a:pt x="980" y="2879"/>
                  <a:pt x="987" y="2885"/>
                </a:cubicBezTo>
                <a:cubicBezTo>
                  <a:pt x="996" y="2893"/>
                  <a:pt x="1090" y="2932"/>
                  <a:pt x="1100" y="2934"/>
                </a:cubicBezTo>
                <a:cubicBezTo>
                  <a:pt x="1133" y="2956"/>
                  <a:pt x="1113" y="2948"/>
                  <a:pt x="1163" y="2948"/>
                </a:cubicBezTo>
                <a:lnTo>
                  <a:pt x="1480" y="2949"/>
                </a:lnTo>
                <a:lnTo>
                  <a:pt x="1752" y="2949"/>
                </a:lnTo>
                <a:lnTo>
                  <a:pt x="1888" y="2994"/>
                </a:lnTo>
                <a:lnTo>
                  <a:pt x="1979" y="2949"/>
                </a:lnTo>
                <a:lnTo>
                  <a:pt x="2160" y="2949"/>
                </a:lnTo>
                <a:lnTo>
                  <a:pt x="2387" y="2949"/>
                </a:lnTo>
                <a:lnTo>
                  <a:pt x="2614" y="2858"/>
                </a:lnTo>
                <a:lnTo>
                  <a:pt x="2795" y="2767"/>
                </a:lnTo>
                <a:lnTo>
                  <a:pt x="3067" y="2722"/>
                </a:lnTo>
                <a:lnTo>
                  <a:pt x="3249" y="2631"/>
                </a:lnTo>
                <a:lnTo>
                  <a:pt x="3339" y="2495"/>
                </a:lnTo>
                <a:lnTo>
                  <a:pt x="3521" y="2404"/>
                </a:lnTo>
                <a:lnTo>
                  <a:pt x="3657" y="2177"/>
                </a:lnTo>
                <a:cubicBezTo>
                  <a:pt x="3717" y="2147"/>
                  <a:pt x="3775" y="2111"/>
                  <a:pt x="3838" y="2087"/>
                </a:cubicBezTo>
                <a:cubicBezTo>
                  <a:pt x="3846" y="2084"/>
                  <a:pt x="3852" y="2097"/>
                  <a:pt x="3860" y="2098"/>
                </a:cubicBezTo>
                <a:cubicBezTo>
                  <a:pt x="3881" y="2100"/>
                  <a:pt x="3956" y="2073"/>
                  <a:pt x="3980" y="2070"/>
                </a:cubicBezTo>
                <a:cubicBezTo>
                  <a:pt x="4010" y="2052"/>
                  <a:pt x="4040" y="2038"/>
                  <a:pt x="4071" y="2021"/>
                </a:cubicBezTo>
                <a:cubicBezTo>
                  <a:pt x="4080" y="2016"/>
                  <a:pt x="4089" y="2011"/>
                  <a:pt x="4099" y="2007"/>
                </a:cubicBezTo>
                <a:cubicBezTo>
                  <a:pt x="4106" y="2004"/>
                  <a:pt x="4120" y="2000"/>
                  <a:pt x="4120" y="2000"/>
                </a:cubicBezTo>
                <a:lnTo>
                  <a:pt x="4201" y="1769"/>
                </a:lnTo>
                <a:lnTo>
                  <a:pt x="4156" y="1542"/>
                </a:lnTo>
                <a:lnTo>
                  <a:pt x="4156" y="1361"/>
                </a:lnTo>
                <a:lnTo>
                  <a:pt x="4111" y="1361"/>
                </a:lnTo>
                <a:lnTo>
                  <a:pt x="2341" y="1361"/>
                </a:lnTo>
                <a:close/>
              </a:path>
            </a:pathLst>
          </a:custGeom>
          <a:blipFill rotWithShape="0">
            <a:blip r:embed="rId1">
              <a:alphaModFix amt="6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9"/>
          <p:cNvGrpSpPr/>
          <p:nvPr/>
        </p:nvGrpSpPr>
        <p:grpSpPr>
          <a:xfrm>
            <a:off x="3643200" y="5143680"/>
            <a:ext cx="5500440" cy="1373400"/>
            <a:chOff x="3643200" y="5143680"/>
            <a:chExt cx="5500440" cy="1373400"/>
          </a:xfrm>
        </p:grpSpPr>
        <mc:AlternateContent>
          <mc:Choice xmlns:a14="http://schemas.microsoft.com/office/drawing/2010/main" Requires="a14">
            <p:sp>
              <p:nvSpPr>
                <p:cNvPr id="157" name="Object 10"/>
                <p:cNvSpPr txBox="1"/>
                <p:nvPr/>
              </p:nvSpPr>
              <p:spPr>
                <a:xfrm>
                  <a:off x="5792040" y="5811480"/>
                  <a:ext cx="2900160" cy="47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Line 11"/>
            <p:cNvSpPr/>
            <p:nvPr/>
          </p:nvSpPr>
          <p:spPr>
            <a:xfrm>
              <a:off x="3732840" y="5143680"/>
              <a:ext cx="5410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3643200" y="5325840"/>
              <a:ext cx="471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Univers"/>
                </a:rPr>
                <a:t>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Univers"/>
                </a:rPr>
                <a:t>&lt;</a:t>
              </a:r>
              <a:r>
                <a:rPr b="0" lang="ru-RU" sz="2400" spc="-1" strike="noStrike">
                  <a:solidFill>
                    <a:srgbClr val="000000"/>
                  </a:solidFill>
                  <a:latin typeface="Univers"/>
                </a:rPr>
                <a:t> 4 в 5 раз меньше </a:t>
              </a:r>
              <a:r>
                <a:rPr b="1" lang="ru-RU" sz="2400" spc="-1" strike="noStrike">
                  <a:solidFill>
                    <a:srgbClr val="000000"/>
                  </a:solidFill>
                  <a:latin typeface="Univers"/>
                </a:rPr>
                <a:t>&lt;</a:t>
              </a:r>
              <a:r>
                <a:rPr b="0" lang="ru-RU" sz="2400" spc="-1" strike="noStrike">
                  <a:solidFill>
                    <a:srgbClr val="000000"/>
                  </a:solidFill>
                  <a:latin typeface="Univers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Univers"/>
                </a:rPr>
                <a:t>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Univers"/>
                </a:rPr>
                <a:t>Найт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4"/>
          <p:cNvSpPr/>
          <p:nvPr/>
        </p:nvSpPr>
        <p:spPr>
          <a:xfrm>
            <a:off x="5108760" y="1055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22"/>
          <p:cNvGrpSpPr/>
          <p:nvPr/>
        </p:nvGrpSpPr>
        <p:grpSpPr>
          <a:xfrm>
            <a:off x="787320" y="1557000"/>
            <a:ext cx="5875560" cy="3536280"/>
            <a:chOff x="787320" y="1557000"/>
            <a:chExt cx="5875560" cy="3536280"/>
          </a:xfrm>
        </p:grpSpPr>
        <p:sp>
          <p:nvSpPr>
            <p:cNvPr id="162" name="Freeform 3"/>
            <p:cNvSpPr/>
            <p:nvPr/>
          </p:nvSpPr>
          <p:spPr>
            <a:xfrm>
              <a:off x="3780000" y="1915920"/>
              <a:ext cx="2189160" cy="129708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1379" h="817">
                  <a:moveTo>
                    <a:pt x="966" y="0"/>
                  </a:moveTo>
                  <a:lnTo>
                    <a:pt x="0" y="811"/>
                  </a:lnTo>
                  <a:lnTo>
                    <a:pt x="1218" y="817"/>
                  </a:lnTo>
                  <a:lnTo>
                    <a:pt x="1310" y="721"/>
                  </a:lnTo>
                  <a:lnTo>
                    <a:pt x="1379" y="601"/>
                  </a:lnTo>
                  <a:lnTo>
                    <a:pt x="1333" y="529"/>
                  </a:lnTo>
                  <a:lnTo>
                    <a:pt x="1333" y="409"/>
                  </a:lnTo>
                  <a:lnTo>
                    <a:pt x="1264" y="288"/>
                  </a:lnTo>
                  <a:lnTo>
                    <a:pt x="1195" y="168"/>
                  </a:lnTo>
                  <a:lnTo>
                    <a:pt x="1149" y="72"/>
                  </a:lnTo>
                  <a:lnTo>
                    <a:pt x="1081" y="48"/>
                  </a:lnTo>
                  <a:lnTo>
                    <a:pt x="1057" y="2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"/>
            <p:cNvSpPr/>
            <p:nvPr/>
          </p:nvSpPr>
          <p:spPr>
            <a:xfrm>
              <a:off x="849240" y="3213000"/>
              <a:ext cx="5624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 flipV="1">
              <a:off x="1584360" y="1557000"/>
              <a:ext cx="4098960" cy="352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Object 6"/>
                <p:cNvSpPr txBox="1"/>
                <p:nvPr/>
              </p:nvSpPr>
              <p:spPr>
                <a:xfrm>
                  <a:off x="3378240" y="2568600"/>
                  <a:ext cx="37908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Object 7"/>
                <p:cNvSpPr txBox="1"/>
                <p:nvPr/>
              </p:nvSpPr>
              <p:spPr>
                <a:xfrm>
                  <a:off x="3665520" y="3287880"/>
                  <a:ext cx="38088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8"/>
                <p:cNvSpPr txBox="1"/>
                <p:nvPr/>
              </p:nvSpPr>
              <p:spPr>
                <a:xfrm>
                  <a:off x="4241880" y="2639880"/>
                  <a:ext cx="37908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Rectangle 13"/>
            <p:cNvSpPr/>
            <p:nvPr/>
          </p:nvSpPr>
          <p:spPr>
            <a:xfrm>
              <a:off x="787320" y="2495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>
              <a:off x="6188040" y="2495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6"/>
            <p:cNvSpPr/>
            <p:nvPr/>
          </p:nvSpPr>
          <p:spPr>
            <a:xfrm>
              <a:off x="787320" y="4511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7"/>
            <p:cNvSpPr/>
            <p:nvPr/>
          </p:nvSpPr>
          <p:spPr>
            <a:xfrm>
              <a:off x="2947320" y="3144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rc 19"/>
            <p:cNvSpPr/>
            <p:nvPr/>
          </p:nvSpPr>
          <p:spPr>
            <a:xfrm>
              <a:off x="4457880" y="2639880"/>
              <a:ext cx="288720" cy="5760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Object 20"/>
                <p:cNvSpPr txBox="1"/>
                <p:nvPr/>
              </p:nvSpPr>
              <p:spPr>
                <a:xfrm>
                  <a:off x="2514600" y="3287880"/>
                  <a:ext cx="3427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Text Box 21"/>
          <p:cNvSpPr/>
          <p:nvPr/>
        </p:nvSpPr>
        <p:spPr>
          <a:xfrm>
            <a:off x="1944360" y="42876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2" descr="D:\мама\на диск\рисун\Рисунок4.png"/>
          <p:cNvPicPr/>
          <p:nvPr/>
        </p:nvPicPr>
        <p:blipFill>
          <a:blip r:embed="rId3"/>
          <a:stretch/>
        </p:blipFill>
        <p:spPr>
          <a:xfrm>
            <a:off x="7643880" y="1643040"/>
            <a:ext cx="1071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6:41:16Z</dcterms:created>
  <dc:creator>Чуланова Т.Ю.</dc:creator>
  <dc:description/>
  <dc:language>en-US</dc:language>
  <cp:lastModifiedBy>настя</cp:lastModifiedBy>
  <dcterms:modified xsi:type="dcterms:W3CDTF">2010-11-21T16:06:09Z</dcterms:modified>
  <cp:revision>39</cp:revision>
  <dc:subject/>
  <dc:title>Слайд 1</dc:title>
</cp:coreProperties>
</file>