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ACC7-9746-446F-B9E8-AB6C171CB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86C1-ECEA-4AE9-AA88-38A102000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знал что у ме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184-8389-4A70-AC66-2956E06C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CFF-CB8E-4536-8521-C7EEDF99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AA6-0920-4FA7-A99B-EA9D73C1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193-48C4-4281-A418-85015F79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D3C-09FB-40AA-8DEA-D08AAD21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B09-080C-4FED-88B2-4F9B1AC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69A-BF48-495B-B4BB-F0E0C82C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CF7-8007-467F-A409-446713F8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FA9-6FDD-4803-A87C-58B98F0C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FEB-939F-4AF2-B8BF-42933051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6F1-F4B9-43BA-8246-94707408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6B4-BBC0-4C11-BD1D-7AEECD15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2D07-A6A1-42AD-B98B-A4B163DE5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>
              <a:alpha val="60000"/>
            </a:srgbClr>
          </a:solidFill>
          <a:ln w="63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f5d68"/>
                </a:solidFill>
                <a:latin typeface="Comic Sans MS"/>
              </a:rPr>
              <a:t>МОЙ РОДНОЙ ПОСЕЛОК </a:t>
            </a:r>
            <a:br>
              <a:rPr sz="4000"/>
            </a:br>
            <a:r>
              <a:rPr b="0" i="1" lang="ru-RU" sz="4000" spc="-1" strike="noStrike">
                <a:solidFill>
                  <a:srgbClr val="8f5d68"/>
                </a:solidFill>
                <a:latin typeface="Comic Sans MS"/>
              </a:rPr>
              <a:t>Солнечногорс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ttp://www.crimeancoast.ru/wp-content/uploads/2012/09/28633-1.jpg"/>
          <p:cNvPicPr/>
          <p:nvPr/>
        </p:nvPicPr>
        <p:blipFill>
          <a:blip r:embed="rId2"/>
          <a:stretch/>
        </p:blipFill>
        <p:spPr>
          <a:xfrm>
            <a:off x="428760" y="2071800"/>
            <a:ext cx="8286480" cy="399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3635280" y="3024360"/>
            <a:ext cx="5292720" cy="2654280"/>
          </a:xfrm>
          <a:prstGeom prst="rect">
            <a:avLst/>
          </a:prstGeom>
          <a:solidFill>
            <a:srgbClr val="847987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«Я узнал, что у меня есть огромная родн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 тропинка, и лесок, в поле - каждый колосо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ечка, небо надо мною- это все моё, родное!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. Орл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га в поселок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41002829.jpg"/>
          <p:cNvPicPr/>
          <p:nvPr/>
        </p:nvPicPr>
        <p:blipFill>
          <a:blip r:embed="rId1"/>
          <a:stretch/>
        </p:blipFill>
        <p:spPr>
          <a:xfrm>
            <a:off x="642960" y="1643040"/>
            <a:ext cx="7858080" cy="464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нсионат «Кры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4(36).jpg"/>
          <p:cNvPicPr/>
          <p:nvPr/>
        </p:nvPicPr>
        <p:blipFill>
          <a:blip r:embed="rId1"/>
          <a:stretch/>
        </p:blipFill>
        <p:spPr>
          <a:xfrm>
            <a:off x="571680" y="1600200"/>
            <a:ext cx="8001000" cy="4829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ный пансионат «Хутор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solnechnoe_domik.jpg"/>
          <p:cNvPicPr/>
          <p:nvPr/>
        </p:nvPicPr>
        <p:blipFill>
          <a:blip r:embed="rId1"/>
          <a:stretch/>
        </p:blipFill>
        <p:spPr>
          <a:xfrm>
            <a:off x="571680" y="1600200"/>
            <a:ext cx="8072280" cy="4686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ая площадка на бере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gostinitsa-solntse-0012.jpg"/>
          <p:cNvPicPr/>
          <p:nvPr/>
        </p:nvPicPr>
        <p:blipFill>
          <a:blip r:embed="rId1"/>
          <a:stretch/>
        </p:blipFill>
        <p:spPr>
          <a:xfrm>
            <a:off x="357120" y="1600200"/>
            <a:ext cx="8286840" cy="4829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 на Солнечногорско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43127516.jpg"/>
          <p:cNvPicPr/>
          <p:nvPr/>
        </p:nvPicPr>
        <p:blipFill>
          <a:blip r:embed="rId1"/>
          <a:stretch/>
        </p:blipFill>
        <p:spPr>
          <a:xfrm>
            <a:off x="357120" y="1500120"/>
            <a:ext cx="8547120" cy="514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чью посёлок горит миллионом разноцветных огоньк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3" descr="52137718.jpg"/>
          <p:cNvPicPr/>
          <p:nvPr/>
        </p:nvPicPr>
        <p:blipFill>
          <a:blip r:embed="rId1"/>
          <a:stretch/>
        </p:blipFill>
        <p:spPr>
          <a:xfrm>
            <a:off x="571680" y="1428840"/>
            <a:ext cx="8143560" cy="500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ad137bfa50b3697e2413df43d27b8e5b.jpg"/>
          <p:cNvPicPr/>
          <p:nvPr/>
        </p:nvPicPr>
        <p:blipFill>
          <a:blip r:embed="rId1"/>
          <a:stretch/>
        </p:blipFill>
        <p:spPr>
          <a:xfrm>
            <a:off x="1968480" y="1487520"/>
            <a:ext cx="5969160" cy="5175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щё наш посёлок украшает недавно построенная меч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никальный и редкостный кадр: зима в посёл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10a.jpg"/>
          <p:cNvPicPr/>
          <p:nvPr/>
        </p:nvPicPr>
        <p:blipFill>
          <a:blip r:embed="rId1"/>
          <a:stretch/>
        </p:blipFill>
        <p:spPr>
          <a:xfrm>
            <a:off x="928800" y="1714680"/>
            <a:ext cx="7572240" cy="4357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доме – дегустационный зал Массандровских в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800px-Solnechnogorskoe_kofeynya.jpg"/>
          <p:cNvPicPr/>
          <p:nvPr/>
        </p:nvPicPr>
        <p:blipFill>
          <a:blip r:embed="rId1"/>
          <a:stretch/>
        </p:blipFill>
        <p:spPr>
          <a:xfrm>
            <a:off x="785880" y="1600200"/>
            <a:ext cx="7715160" cy="461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сё это - мой любимый посёлок, мой дом –Солнечногорск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3" descr="prodam-uchastok-14-sot.-izhs--bbce-1427296290430877-1-big.jpg"/>
          <p:cNvPicPr/>
          <p:nvPr/>
        </p:nvPicPr>
        <p:blipFill>
          <a:blip r:embed="rId1"/>
          <a:stretch/>
        </p:blipFill>
        <p:spPr>
          <a:xfrm>
            <a:off x="857160" y="1600200"/>
            <a:ext cx="7358040" cy="452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268880" y="5096880"/>
            <a:ext cx="4875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Факидовой 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8" descr="http://vertikal1.com/wp-content/uploads/2012/02/malorechk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 rot="21184200">
            <a:off x="785880" y="2268000"/>
            <a:ext cx="738828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Comic Sans MS"/>
              </a:rPr>
              <a:t>ПРОЕК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Comic Sans MS"/>
              </a:rPr>
              <a:t>«Мой родной посёлок 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>
              <a:alpha val="60000"/>
            </a:srgbClr>
          </a:solidFill>
          <a:ln w="63360">
            <a:solidFill>
              <a:srgbClr val="ff6600"/>
            </a:solidFill>
            <a:miter/>
          </a:ln>
        </p:spPr>
        <p:txBody>
          <a:bodyPr lIns="121680" rIns="121680" tIns="78480" bIns="78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http://xn--80akidmepaiifcm5a5o.xn--p1ai/userfiles/clauses/large/777_solnechnogorskoe-opisanie-.jpg"/>
          <p:cNvPicPr/>
          <p:nvPr/>
        </p:nvPicPr>
        <p:blipFill>
          <a:blip r:embed="rId2"/>
          <a:stretch/>
        </p:blipFill>
        <p:spPr>
          <a:xfrm>
            <a:off x="428760" y="1428840"/>
            <a:ext cx="8286480" cy="5000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solidFill>
            <a:srgbClr val="ff6600">
              <a:alpha val="60000"/>
            </a:srgbClr>
          </a:solidFill>
          <a:ln w="633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У берегов Черного моря, в 25 км. от Алушты, расположился красавец Соллнечногорс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ень много частных домов и пансионатов на любой вкус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86779436.jpg"/>
          <p:cNvPicPr/>
          <p:nvPr/>
        </p:nvPicPr>
        <p:blipFill>
          <a:blip r:embed="rId1"/>
          <a:stretch/>
        </p:blipFill>
        <p:spPr>
          <a:xfrm>
            <a:off x="500040" y="1719360"/>
            <a:ext cx="8143920" cy="4852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Поселок Солнечногорское (Украина, Крым) фото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о сказочный вид на посёлок с го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0_62016_fd3af7e5_XL.jpg"/>
          <p:cNvPicPr/>
          <p:nvPr/>
        </p:nvPicPr>
        <p:blipFill>
          <a:blip r:embed="rId1"/>
          <a:stretch/>
        </p:blipFill>
        <p:spPr>
          <a:xfrm>
            <a:off x="214200" y="1571760"/>
            <a:ext cx="8856720" cy="5072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9179290.jpg"/>
          <p:cNvPicPr/>
          <p:nvPr/>
        </p:nvPicPr>
        <p:blipFill>
          <a:blip r:embed="rId1"/>
          <a:stretch/>
        </p:blipFill>
        <p:spPr>
          <a:xfrm>
            <a:off x="428760" y="1785960"/>
            <a:ext cx="8072280" cy="4643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расива и богата наша природа! Большое кол-во кипарисов радуют наши взоры своей величавой красо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79452557_large_0_25098_4c3642c2_XL.jpg"/>
          <p:cNvPicPr/>
          <p:nvPr/>
        </p:nvPicPr>
        <p:blipFill>
          <a:blip r:embed="rId1"/>
          <a:stretch/>
        </p:blipFill>
        <p:spPr>
          <a:xfrm>
            <a:off x="428760" y="2643120"/>
            <a:ext cx="6500520" cy="3786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ипарисом связано несколько разных легенд, в которых наши предки объясняли появление этого прекрасного дерева. Крымская легенда рассказывает о том, что в него превратилась девушка, отчаявшаяся дождаться своего возлюбленного из дальнего плавания. Каждый день она стояла на скале, часами смотрела в морскую даль, а потом проросла в землю корнями, да так и осталась на утёсе красивым неизвестным ранее деревом, которое и послужило родоначальником таврических кипарис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ё одна достопримечательность сел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53253615.jpg"/>
          <p:cNvPicPr/>
          <p:nvPr/>
        </p:nvPicPr>
        <p:blipFill>
          <a:blip r:embed="rId1"/>
          <a:stretch/>
        </p:blipFill>
        <p:spPr>
          <a:xfrm>
            <a:off x="785880" y="1643040"/>
            <a:ext cx="7786800" cy="4786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20:24:34Z</dcterms:created>
  <dc:creator>дериглазова</dc:creator>
  <dc:description/>
  <dc:language>en-US</dc:language>
  <cp:lastModifiedBy>Сусанна</cp:lastModifiedBy>
  <dcterms:modified xsi:type="dcterms:W3CDTF">2015-09-27T22:34:50Z</dcterms:modified>
  <cp:revision>33</cp:revision>
  <dc:subject/>
  <dc:title>Мой родной поселок Кизнер </dc:title>
</cp:coreProperties>
</file>