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4FAA1-75C2-46B6-8ABF-B748655221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647B5-72DB-4C46-A7B7-F237C6BB00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узнал что у мен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6183-1FC5-4E07-B710-1C577190D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76E9-6965-4FD8-81ED-9AAB91CCB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688C-5AE3-4984-AEFF-583573BAF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9DCE-C793-47BE-B7DF-19072E287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ACB1-F0A3-434C-8FA4-0FF85ED92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8551-A19A-4178-AA6A-A8778A777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CD4B-4F2F-4337-9D57-14B20D09A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3447-7AA1-4192-9951-B8B3DF71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C69B-C77C-4BB1-BA64-2032D03E9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758A-6B86-4F7D-8D89-7E18C6A8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4F5E-C696-4387-A401-C6310598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5D4A-58F3-4B11-9017-3960EBD4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AF899-AC81-4571-8288-CAA931BFC7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00">
              <a:alpha val="60000"/>
            </a:srgbClr>
          </a:solidFill>
          <a:ln w="6336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8f5d68"/>
                </a:solidFill>
                <a:latin typeface="Comic Sans MS"/>
              </a:rPr>
              <a:t>МОЙ РОДНОЙ ПОСЕЛОК </a:t>
            </a:r>
            <a:br>
              <a:rPr sz="4000"/>
            </a:br>
            <a:r>
              <a:rPr b="0" i="1" lang="ru-RU" sz="4000" spc="-1" strike="noStrike">
                <a:solidFill>
                  <a:srgbClr val="8f5d68"/>
                </a:solidFill>
                <a:latin typeface="Comic Sans MS"/>
              </a:rPr>
              <a:t>Солнечногорск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http://www.crimeancoast.ru/wp-content/uploads/2012/09/28633-1.jpg"/>
          <p:cNvPicPr/>
          <p:nvPr/>
        </p:nvPicPr>
        <p:blipFill>
          <a:blip r:embed="rId2"/>
          <a:stretch/>
        </p:blipFill>
        <p:spPr>
          <a:xfrm>
            <a:off x="428760" y="2071800"/>
            <a:ext cx="8286480" cy="39956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8"/>
          <p:cNvSpPr/>
          <p:nvPr/>
        </p:nvSpPr>
        <p:spPr>
          <a:xfrm>
            <a:off x="3635280" y="3024360"/>
            <a:ext cx="5292720" cy="2654280"/>
          </a:xfrm>
          <a:prstGeom prst="rect">
            <a:avLst/>
          </a:prstGeom>
          <a:solidFill>
            <a:srgbClr val="847987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«Я узнал, что у меня есть огромная родня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И тропинка, и лесок, в поле - каждый колосок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Речка, небо надо мною- это все моё, родное!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В. Орло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рога в поселок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Содержимое 3" descr="41002829.jpg"/>
          <p:cNvPicPr/>
          <p:nvPr/>
        </p:nvPicPr>
        <p:blipFill>
          <a:blip r:embed="rId1"/>
          <a:stretch/>
        </p:blipFill>
        <p:spPr>
          <a:xfrm>
            <a:off x="642960" y="1643040"/>
            <a:ext cx="7858080" cy="46436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ансионат «Крым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Содержимое 3" descr="4(36).jpg"/>
          <p:cNvPicPr/>
          <p:nvPr/>
        </p:nvPicPr>
        <p:blipFill>
          <a:blip r:embed="rId1"/>
          <a:stretch/>
        </p:blipFill>
        <p:spPr>
          <a:xfrm>
            <a:off x="571680" y="1600200"/>
            <a:ext cx="8001000" cy="48290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астный пансионат «Хуторок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Содержимое 3" descr="solnechnoe_domik.jpg"/>
          <p:cNvPicPr/>
          <p:nvPr/>
        </p:nvPicPr>
        <p:blipFill>
          <a:blip r:embed="rId1"/>
          <a:stretch/>
        </p:blipFill>
        <p:spPr>
          <a:xfrm>
            <a:off x="571680" y="1600200"/>
            <a:ext cx="8072280" cy="46864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тская площадка на берег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Содержимое 3" descr="gostinitsa-solntse-0012.jpg"/>
          <p:cNvPicPr/>
          <p:nvPr/>
        </p:nvPicPr>
        <p:blipFill>
          <a:blip r:embed="rId1"/>
          <a:stretch/>
        </p:blipFill>
        <p:spPr>
          <a:xfrm>
            <a:off x="357120" y="1600200"/>
            <a:ext cx="8286840" cy="48290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д на Солнечногорское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с мор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Содержимое 3" descr="43127516.jpg"/>
          <p:cNvPicPr/>
          <p:nvPr/>
        </p:nvPicPr>
        <p:blipFill>
          <a:blip r:embed="rId1"/>
          <a:stretch/>
        </p:blipFill>
        <p:spPr>
          <a:xfrm>
            <a:off x="357120" y="1500120"/>
            <a:ext cx="8547120" cy="51436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очью посёлок горит миллионом разноцветных огоньк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Содержимое 3" descr="52137718.jpg"/>
          <p:cNvPicPr/>
          <p:nvPr/>
        </p:nvPicPr>
        <p:blipFill>
          <a:blip r:embed="rId1"/>
          <a:stretch/>
        </p:blipFill>
        <p:spPr>
          <a:xfrm>
            <a:off x="571680" y="1428840"/>
            <a:ext cx="8143560" cy="50004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Содержимое 3" descr="ad137bfa50b3697e2413df43d27b8e5b.jpg"/>
          <p:cNvPicPr/>
          <p:nvPr/>
        </p:nvPicPr>
        <p:blipFill>
          <a:blip r:embed="rId1"/>
          <a:stretch/>
        </p:blipFill>
        <p:spPr>
          <a:xfrm>
            <a:off x="1968480" y="1487520"/>
            <a:ext cx="5969160" cy="51753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Ещё наш посёлок украшает недавно построенная мече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никальный и редкостный кадр: зима в посёлк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Содержимое 3" descr="10a.jpg"/>
          <p:cNvPicPr/>
          <p:nvPr/>
        </p:nvPicPr>
        <p:blipFill>
          <a:blip r:embed="rId1"/>
          <a:stretch/>
        </p:blipFill>
        <p:spPr>
          <a:xfrm>
            <a:off x="928800" y="1714680"/>
            <a:ext cx="7572240" cy="43574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этом доме – дегустационный зал Массандровских в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Содержимое 3" descr="800px-Solnechnogorskoe_kofeynya.jpg"/>
          <p:cNvPicPr/>
          <p:nvPr/>
        </p:nvPicPr>
        <p:blipFill>
          <a:blip r:embed="rId1"/>
          <a:stretch/>
        </p:blipFill>
        <p:spPr>
          <a:xfrm>
            <a:off x="785880" y="1600200"/>
            <a:ext cx="7715160" cy="46148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Всё это - мой любимый посёлок, мой дом –Солнечногорско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Содержимое 3" descr="prodam-uchastok-14-sot.-izhs--bbce-1427296290430877-1-big.jpg"/>
          <p:cNvPicPr/>
          <p:nvPr/>
        </p:nvPicPr>
        <p:blipFill>
          <a:blip r:embed="rId1"/>
          <a:stretch/>
        </p:blipFill>
        <p:spPr>
          <a:xfrm>
            <a:off x="857160" y="1600200"/>
            <a:ext cx="7358040" cy="4525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4268880" y="5096880"/>
            <a:ext cx="4875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Comic Sans MS"/>
              </a:rPr>
              <a:t>Факидовой 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2" name="Picture 8" descr="http://vertikal1.com/wp-content/uploads/2012/02/malorechk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 rot="21184200">
            <a:off x="785880" y="2268000"/>
            <a:ext cx="7388280" cy="18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Comic Sans MS"/>
              </a:rPr>
              <a:t>ПРОЕК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Comic Sans MS"/>
              </a:rPr>
              <a:t>«Мой родной посёлок »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9cc00">
              <a:alpha val="60000"/>
            </a:srgbClr>
          </a:solidFill>
          <a:ln w="63360">
            <a:solidFill>
              <a:srgbClr val="ff6600"/>
            </a:solidFill>
            <a:miter/>
          </a:ln>
        </p:spPr>
        <p:txBody>
          <a:bodyPr lIns="121680" rIns="121680" tIns="78480" bIns="78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5" name="Picture 5" descr="http://xn--80akidmepaiifcm5a5o.xn--p1ai/userfiles/clauses/large/777_solnechnogorskoe-opisanie-.jpg"/>
          <p:cNvPicPr/>
          <p:nvPr/>
        </p:nvPicPr>
        <p:blipFill>
          <a:blip r:embed="rId2"/>
          <a:stretch/>
        </p:blipFill>
        <p:spPr>
          <a:xfrm>
            <a:off x="428760" y="1428840"/>
            <a:ext cx="8286480" cy="50004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8360"/>
          </a:xfrm>
          <a:prstGeom prst="rect">
            <a:avLst/>
          </a:prstGeom>
          <a:solidFill>
            <a:srgbClr val="ff6600">
              <a:alpha val="60000"/>
            </a:srgbClr>
          </a:solidFill>
          <a:ln w="63360">
            <a:solidFill>
              <a:srgbClr val="808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У берегов Черного моря, в 25 км. от Алушты, расположился красавец Соллнечногорс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чень много частных домов и пансионатов на любой вкус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Содержимое 3" descr="86779436.jpg"/>
          <p:cNvPicPr/>
          <p:nvPr/>
        </p:nvPicPr>
        <p:blipFill>
          <a:blip r:embed="rId1"/>
          <a:stretch/>
        </p:blipFill>
        <p:spPr>
          <a:xfrm>
            <a:off x="500040" y="1719360"/>
            <a:ext cx="8143920" cy="48528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Поселок Солнечногорское (Украина, Крым) фото"/>
          <p:cNvPicPr/>
          <p:nvPr/>
        </p:nvPicPr>
        <p:blipFill>
          <a:blip r:embed="rId1"/>
          <a:stretch/>
        </p:blipFill>
        <p:spPr>
          <a:xfrm>
            <a:off x="214200" y="214200"/>
            <a:ext cx="8715600" cy="64296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сто сказочный вид на посёлок с гор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Содержимое 3" descr="0_62016_fd3af7e5_XL.jpg"/>
          <p:cNvPicPr/>
          <p:nvPr/>
        </p:nvPicPr>
        <p:blipFill>
          <a:blip r:embed="rId1"/>
          <a:stretch/>
        </p:blipFill>
        <p:spPr>
          <a:xfrm>
            <a:off x="214200" y="1571760"/>
            <a:ext cx="8856720" cy="50720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Содержимое 3" descr="9179290.jpg"/>
          <p:cNvPicPr/>
          <p:nvPr/>
        </p:nvPicPr>
        <p:blipFill>
          <a:blip r:embed="rId1"/>
          <a:stretch/>
        </p:blipFill>
        <p:spPr>
          <a:xfrm>
            <a:off x="428760" y="1785960"/>
            <a:ext cx="8072280" cy="46432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красива и богата наша природа! Большое кол-во кипарисов радуют наши взоры своей величавой красо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Содержимое 3" descr="79452557_large_0_25098_4c3642c2_XL.jpg"/>
          <p:cNvPicPr/>
          <p:nvPr/>
        </p:nvPicPr>
        <p:blipFill>
          <a:blip r:embed="rId1"/>
          <a:stretch/>
        </p:blipFill>
        <p:spPr>
          <a:xfrm>
            <a:off x="428760" y="2643120"/>
            <a:ext cx="6500520" cy="37861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кипарисом связано несколько разных легенд, в которых наши предки объясняли появление этого прекрасного дерева. Крымская легенда рассказывает о том, что в него превратилась девушка, отчаявшаяся дождаться своего возлюбленного из дальнего плавания. Каждый день она стояла на скале, часами смотрела в морскую даль, а потом проросла в землю корнями, да так и осталась на утёсе красивым неизвестным ранее деревом, которое и послужило родоначальником таврических кипарисов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щё одна достопримечательность сел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Содержимое 3" descr="53253615.jpg"/>
          <p:cNvPicPr/>
          <p:nvPr/>
        </p:nvPicPr>
        <p:blipFill>
          <a:blip r:embed="rId1"/>
          <a:stretch/>
        </p:blipFill>
        <p:spPr>
          <a:xfrm>
            <a:off x="785880" y="1643040"/>
            <a:ext cx="7786800" cy="47862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8T20:24:34Z</dcterms:created>
  <dc:creator>дериглазова</dc:creator>
  <dc:description/>
  <dc:language>en-US</dc:language>
  <cp:lastModifiedBy>Сусанна</cp:lastModifiedBy>
  <dcterms:modified xsi:type="dcterms:W3CDTF">2015-09-27T22:34:50Z</dcterms:modified>
  <cp:revision>33</cp:revision>
  <dc:subject/>
  <dc:title>Мой родной поселок Кизнер </dc:title>
</cp:coreProperties>
</file>