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3329-F99E-47FB-9317-5751FC2792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D74E-5412-455E-8C4E-C5A95AB145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13A-FB6F-4E91-AB06-EFF9C147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361-965E-45C4-9723-01A02BA1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2C35B-BEB2-48CE-B106-70562746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3D792-E4DE-4C96-8BC8-93688CB8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D33DA-3307-479E-B69A-AA759823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D7F82-CB6D-4ACD-8115-C13432B6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10005-09EB-4E8A-9466-1B08B720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A2716-E0B1-479D-9C5E-35F3613F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299AD-61B3-4252-8D49-D7D3FCCB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BF16D-EB8B-485F-A81F-54D92776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FCC4C-D768-45BE-8274-CFE02906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FA499-0693-4AEC-9D5A-ADB92DA6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B98-066F-4F8F-93FD-B3CB1983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60F83-0ED1-43E1-9FF5-9B34A3F8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26F2A-081D-4194-A814-420466D6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A7B25-9DB8-454D-95B4-A05251E7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B5639-1101-4232-BDF8-6C110516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EB322-7D12-4325-AE2A-60150F5B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5F895-8494-4B3C-86FD-7467C944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FE738-FBFF-4D5F-908F-14880AFB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48498-358B-4AAE-85AA-5F00527F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CDAE5-1ABD-4327-ADB1-9F3CD925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30E8E-FAB4-4FE2-90E8-C9073111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21E-13D5-4B69-B308-9CF8F06E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65619-A5C5-4A4D-A7E1-69621ABB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B929-57E2-4E19-821F-2CF776D6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28B9-F464-49D7-8927-9D9231BB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C11F-1841-481D-86AD-77D145FF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38E6-B5AF-4C81-B84F-A135D194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FBA3-D1AC-4BD9-BCCE-96CCD5E0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218F-914B-41B6-B467-1C644CC8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FA86-C360-43A8-AA2E-638849AF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82F-19E8-4069-BAAE-23E22FFD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7BD3-B781-42F5-B369-F64289CE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71CD-5C09-4B86-8FD9-0DAFD46D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FBB9-AB7B-44F3-9289-5A545CF4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8A53-E161-46DE-A402-FE417FB3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9688-1636-4B10-A4C0-B3395D25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97A37-5E0E-42A9-95B0-346B1FC6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1804-B7E9-4A56-AD3F-C1CE1D2C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2A802-9C71-4E11-8BC0-34259C71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7873E-722E-4540-9488-DED5E722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5AF6A-F68F-493A-8265-110E77BC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A49-4889-4752-9651-1A1F8ACE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C57B0-08C6-45CB-8F7C-1E389A4E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BF75-B884-440F-B96F-BE86EDDE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31A74-5E8F-48CE-8E62-F06D3D12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B0842-018C-4F03-9A9C-37A03F51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B8FF-52C9-454D-804D-145622F5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9C47-66EA-426C-9ABB-B5FBEDCF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25EA-C36B-49D1-8300-B9B51C42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FBD4F-3764-4976-ACE4-AD7737C5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CF3F6-26C0-4E60-A794-F49C32FF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C799E-228E-44F0-B179-6ECDA99E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43D-7725-4184-B516-7FEF2164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5DB9B-10A6-4B56-8CB3-B5C0FFCA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BC02E-E1CE-49FA-A956-DDDB2A30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B26E1-44EA-4B7E-A3EC-E99B662B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808AF-A155-4F08-9852-A0320715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5879D-6B4F-4640-A1D9-27D7D1BA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A5650-8EC2-4E8C-A20A-81B30C38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57C55-EC46-4EBF-8B46-C1DA385F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B65C0-9D6E-46E4-BAD3-0699EE51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1B540-5971-4C9B-8CFE-BEB2C802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842ED-37DF-44DE-A867-C8A321F5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147-D7CD-4831-9B26-17E70DC0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9E21E-0D7A-44C6-9935-3854CFF5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928F9-B60A-4C85-AFBA-4D179FEA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16EF2-702B-456D-96C5-0AB277F3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98154-A2A6-42F8-9A55-5B6EFB21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1593A-919A-4A22-8352-FDBB9F75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E291A-B0CC-44D5-BED2-84945039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DA52E-54AE-49A8-87C4-360019AA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01818-171C-438F-BDC9-A785B722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81F10-0416-4367-ACF9-FF0F077C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9FB3B-E354-443F-81D2-666CF289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1B8-AD57-4C48-91A2-8A0F513C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4E444-68C9-44D3-AA73-00D3C741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ED451-8E19-4743-BA85-3F3F9450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5AF80-6068-47E2-A288-4C884063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B29BE-BAB9-484C-9FE8-E27D40C6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342DE-FBF5-4349-B7C7-5B22C6E5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DEB8B-E4B1-4EE1-9085-08B24FD2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6DFDE-FC49-438F-888F-D23D88FF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BC37E-76EA-425E-BD14-0CE56E4F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536F2-5DA3-4983-A5B3-9FB0A558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C5347-926A-482E-B558-70213EE3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7CC-6258-4EB1-9D79-423A95B6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E4040-934F-48BC-A8B6-B3021613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C4690-9E7B-4943-93B3-6B657305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B0D19-9154-45B5-84E2-A0B883E2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2998E-BBEB-40CD-9936-0CE80868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97974-2717-4B6A-B00A-80A87BD9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E02B0-F3F8-45C9-A982-2E9325C5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5CAEA-1091-4FD0-B3A0-ABE12457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BCB37-6384-4F26-96BD-F12F619A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EAE9C-1C4D-46FB-B183-38B7BCE7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A6838-AD09-42EF-9AC7-A38E6AF5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B56-3B5D-4DBB-8EAC-8FF052CF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6349B-7549-43AD-9311-49E9CC91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45F01-6C07-4BEC-A594-F3325CAC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4C5BD-037E-4449-83EB-BB368933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252FD-3CBB-4623-BBE9-A24B7116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9E687-BD97-485C-AC10-32856E71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8553F-E35E-418A-89C9-B093B6D2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E623C-AA5E-4899-92FD-8542A85B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80E8A-7A64-4745-9990-BC43165C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2C6BD-AAB0-49BF-8534-3A7D7469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C1220-0079-46FD-B24C-5F90E638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3F0-7F36-4683-9B6A-65FE4E6E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C5828-7B01-4EB1-9884-4054B598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E913B-0AB5-43AB-8662-FE514932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8CAD0-260C-4F0C-B8BA-85D42093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DE461-7646-4DFF-BB21-430E27E6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C61EF-4B5A-40E8-8362-4474B10E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666E8-B73E-4EB4-AB64-AB86159C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656A8-1EC8-4A86-9057-3518CD02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77613-633B-4785-BAE5-714F3C62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86069-A45A-48D4-8805-F34D6425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FC9AA-70F2-4A20-A8BA-B876EA87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9AD9-7749-4ECA-9A0C-2775C3982C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3816-26FB-492B-9EFB-C1DEE4044D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F10F-7366-401F-AA00-314D076B07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9D8F-0ACB-4CFC-845C-9DF474D0E0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547A-4C88-4D82-8592-B00645CE07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4549-A706-48B3-A3EC-0E3CB8F52D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ABB2-52C2-4782-BE4B-FAE71876CC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6791-BAB8-4F92-B33F-E4FC37D5C6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FD7C-7CFA-4206-8E86-7A02D3C9AA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D646-E510-4867-9E49-47EA6E62EA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0920" y="5013360"/>
            <a:ext cx="8086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етривание и перемещение горных поро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6" descr="Северный Тянь-Шань (озеро Иссык-Куль, Заилийский Алатау, Чарын): фото природы и природных ландшафтов"/>
          <p:cNvPicPr/>
          <p:nvPr/>
        </p:nvPicPr>
        <p:blipFill>
          <a:blip r:embed="rId1"/>
          <a:stretch/>
        </p:blipFill>
        <p:spPr>
          <a:xfrm>
            <a:off x="611280" y="115920"/>
            <a:ext cx="7848360" cy="453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0" y="476280"/>
          <a:ext cx="8280360" cy="5032440"/>
        </p:xfrm>
        <a:graphic>
          <a:graphicData uri="http://schemas.openxmlformats.org/drawingml/2006/table">
            <a:tbl>
              <a:tblPr/>
              <a:tblGrid>
                <a:gridCol w="2664000"/>
                <a:gridCol w="1728720"/>
                <a:gridCol w="1852560"/>
                <a:gridCol w="20350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Химиче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а и растворимые вещества и г.п. – известняк, гипс, с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ение водой растворимых г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новых соединений и изменение существующ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Биологиче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4" descr="20122_rastenie_i_kamen_c5d22_512"/>
          <p:cNvPicPr/>
          <p:nvPr/>
        </p:nvPicPr>
        <p:blipFill>
          <a:blip r:embed="rId1"/>
          <a:stretch/>
        </p:blipFill>
        <p:spPr>
          <a:xfrm>
            <a:off x="0" y="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61"/>
          <p:cNvPicPr/>
          <p:nvPr/>
        </p:nvPicPr>
        <p:blipFill>
          <a:blip r:embed="rId2"/>
          <a:stretch/>
        </p:blipFill>
        <p:spPr>
          <a:xfrm>
            <a:off x="3711600" y="2782800"/>
            <a:ext cx="5432400" cy="40752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6" descr="m_2864103"/>
          <p:cNvPicPr/>
          <p:nvPr/>
        </p:nvPicPr>
        <p:blipFill>
          <a:blip r:embed="rId3"/>
          <a:stretch/>
        </p:blipFill>
        <p:spPr>
          <a:xfrm>
            <a:off x="0" y="407664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1259153931_krot_b-1"/>
          <p:cNvPicPr/>
          <p:nvPr/>
        </p:nvPicPr>
        <p:blipFill>
          <a:blip r:embed="rId4"/>
          <a:stretch/>
        </p:blipFill>
        <p:spPr>
          <a:xfrm>
            <a:off x="5003640" y="404640"/>
            <a:ext cx="3059280" cy="1952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0" y="476280"/>
          <a:ext cx="8280360" cy="5151240"/>
        </p:xfrm>
        <a:graphic>
          <a:graphicData uri="http://schemas.openxmlformats.org/drawingml/2006/table">
            <a:tbl>
              <a:tblPr/>
              <a:tblGrid>
                <a:gridCol w="2664000"/>
                <a:gridCol w="1728720"/>
                <a:gridCol w="1852560"/>
                <a:gridCol w="203508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Биог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живых организмов на г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ение и изменение г.п. и минералов под влиянием растений и живот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льчение г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 Деятельность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Выветр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Схема 3" descr=""/>
          <p:cNvPicPr/>
          <p:nvPr/>
        </p:nvPicPr>
        <p:blipFill>
          <a:blip r:embed="rId1"/>
          <a:stretch/>
        </p:blipFill>
        <p:spPr>
          <a:xfrm>
            <a:off x="-463680" y="1395360"/>
            <a:ext cx="9607680" cy="5176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441"/>
          <p:cNvPicPr/>
          <p:nvPr/>
        </p:nvPicPr>
        <p:blipFill>
          <a:blip r:embed="rId1"/>
          <a:stretch/>
        </p:blipFill>
        <p:spPr>
          <a:xfrm>
            <a:off x="0" y="0"/>
            <a:ext cx="4356000" cy="2906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d4cmirniydiamondmine_5"/>
          <p:cNvPicPr/>
          <p:nvPr/>
        </p:nvPicPr>
        <p:blipFill>
          <a:blip r:embed="rId2"/>
          <a:stretch/>
        </p:blipFill>
        <p:spPr>
          <a:xfrm>
            <a:off x="3375000" y="3367080"/>
            <a:ext cx="5769000" cy="3490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863640" y="476280"/>
          <a:ext cx="8280360" cy="4067280"/>
        </p:xfrm>
        <a:graphic>
          <a:graphicData uri="http://schemas.openxmlformats.org/drawingml/2006/table">
            <a:tbl>
              <a:tblPr/>
              <a:tblGrid>
                <a:gridCol w="2663640"/>
                <a:gridCol w="1729080"/>
                <a:gridCol w="1852560"/>
                <a:gridCol w="20350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2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Антропоге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ение под действием хозяйственной деятельности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 меняют г.п. и рельеф Земл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тветьте на 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выветрива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существуют виды выветрива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является главными причинами физического выветрива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кажите о биологичнском  выветрива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антропогенное выветрива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ушение горных пор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Скругленный прямоугольник 2"/>
          <p:cNvSpPr/>
          <p:nvPr/>
        </p:nvSpPr>
        <p:spPr>
          <a:xfrm>
            <a:off x="3348000" y="1700280"/>
            <a:ext cx="287964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етри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Прямая со стрелкой 4"/>
          <p:cNvCxnSpPr/>
          <p:nvPr/>
        </p:nvCxnSpPr>
        <p:spPr>
          <a:xfrm flipH="1">
            <a:off x="2124000" y="2637000"/>
            <a:ext cx="1440360" cy="7927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Прямая со стрелкой 6"/>
          <p:cNvCxnSpPr>
            <a:stCxn id="420" idx="2"/>
          </p:cNvCxnSpPr>
          <p:nvPr/>
        </p:nvCxnSpPr>
        <p:spPr>
          <a:xfrm>
            <a:off x="4787640" y="2565000"/>
            <a:ext cx="1080" cy="115164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3" name="Прямая со стрелкой 8"/>
          <p:cNvCxnSpPr/>
          <p:nvPr/>
        </p:nvCxnSpPr>
        <p:spPr>
          <a:xfrm>
            <a:off x="5796000" y="2637000"/>
            <a:ext cx="937440" cy="8640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4" name="Скругленный прямоугольник 9"/>
          <p:cNvSpPr/>
          <p:nvPr/>
        </p:nvSpPr>
        <p:spPr>
          <a:xfrm>
            <a:off x="395280" y="3645000"/>
            <a:ext cx="2448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Скругленный прямоугольник 10"/>
          <p:cNvSpPr/>
          <p:nvPr/>
        </p:nvSpPr>
        <p:spPr>
          <a:xfrm>
            <a:off x="3564000" y="3645000"/>
            <a:ext cx="230328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имиче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Скругленный прямоугольник 11"/>
          <p:cNvSpPr/>
          <p:nvPr/>
        </p:nvSpPr>
        <p:spPr>
          <a:xfrm>
            <a:off x="6516720" y="3645000"/>
            <a:ext cx="230328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378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ыветривани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процесс разрушения и изменения гор на поверхности суш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Выветр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Схема 3" descr=""/>
          <p:cNvPicPr/>
          <p:nvPr/>
        </p:nvPicPr>
        <p:blipFill>
          <a:blip r:embed="rId1"/>
          <a:stretch/>
        </p:blipFill>
        <p:spPr>
          <a:xfrm>
            <a:off x="-176040" y="1420920"/>
            <a:ext cx="9144000" cy="517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выветри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0" y="1557360"/>
          <a:ext cx="8424720" cy="3355920"/>
        </p:xfrm>
        <a:graphic>
          <a:graphicData uri="http://schemas.openxmlformats.org/drawingml/2006/table">
            <a:tbl>
              <a:tblPr/>
              <a:tblGrid>
                <a:gridCol w="2592360"/>
                <a:gridCol w="1692360"/>
                <a:gridCol w="2070000"/>
                <a:gridCol w="20700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Физичес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C:\Documents and Settings\Admin\Рабочий стол\Внешние силы. Выветривание.jpg"/>
          <p:cNvPicPr/>
          <p:nvPr/>
        </p:nvPicPr>
        <p:blipFill>
          <a:blip r:embed="rId1"/>
          <a:stretch/>
        </p:blipFill>
        <p:spPr>
          <a:xfrm>
            <a:off x="0" y="0"/>
            <a:ext cx="43560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3" name="Прямоугольник 2" descr=""/>
          <p:cNvPicPr/>
          <p:nvPr/>
        </p:nvPicPr>
        <p:blipFill>
          <a:blip r:embed="rId2"/>
          <a:stretch/>
        </p:blipFill>
        <p:spPr>
          <a:xfrm>
            <a:off x="1109520" y="5614920"/>
            <a:ext cx="6759720" cy="15606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1305325950_2"/>
          <p:cNvPicPr/>
          <p:nvPr/>
        </p:nvPicPr>
        <p:blipFill>
          <a:blip r:embed="rId3"/>
          <a:stretch/>
        </p:blipFill>
        <p:spPr>
          <a:xfrm>
            <a:off x="4788000" y="23760"/>
            <a:ext cx="4093920" cy="3071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0_6930c_22a96dc7_XL"/>
          <p:cNvPicPr/>
          <p:nvPr/>
        </p:nvPicPr>
        <p:blipFill>
          <a:blip r:embed="rId4"/>
          <a:stretch/>
        </p:blipFill>
        <p:spPr>
          <a:xfrm>
            <a:off x="498600" y="3252960"/>
            <a:ext cx="3681360" cy="25333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5b349501b7"/>
          <p:cNvPicPr/>
          <p:nvPr/>
        </p:nvPicPr>
        <p:blipFill>
          <a:blip r:embed="rId5"/>
          <a:stretch/>
        </p:blipFill>
        <p:spPr>
          <a:xfrm>
            <a:off x="4923000" y="3252960"/>
            <a:ext cx="3924000" cy="2595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g_2008_05_19_21_57_36_7"/>
          <p:cNvPicPr/>
          <p:nvPr/>
        </p:nvPicPr>
        <p:blipFill>
          <a:blip r:embed="rId1"/>
          <a:stretch/>
        </p:blipFill>
        <p:spPr>
          <a:xfrm>
            <a:off x="0" y="0"/>
            <a:ext cx="5076720" cy="32497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118-Deserto Kyzyl Kum"/>
          <p:cNvPicPr/>
          <p:nvPr/>
        </p:nvPicPr>
        <p:blipFill>
          <a:blip r:embed="rId2"/>
          <a:stretch/>
        </p:blipFill>
        <p:spPr>
          <a:xfrm>
            <a:off x="3492360" y="3303720"/>
            <a:ext cx="5651640" cy="3554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0" y="476280"/>
          <a:ext cx="8280360" cy="6200640"/>
        </p:xfrm>
        <a:graphic>
          <a:graphicData uri="http://schemas.openxmlformats.org/drawingml/2006/table">
            <a:tbl>
              <a:tblPr/>
              <a:tblGrid>
                <a:gridCol w="2664000"/>
                <a:gridCol w="1728720"/>
                <a:gridCol w="1852560"/>
                <a:gridCol w="203508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выветри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Физиче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бания температуры, ветер и 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механического раздробления горных пород (г.п.)без изменения химического сост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уются обломочные г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Химиче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5" descr="chemical-weathering-definition-science-311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31478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chemical-weathering-definition-science-319"/>
          <p:cNvPicPr/>
          <p:nvPr/>
        </p:nvPicPr>
        <p:blipFill>
          <a:blip r:embed="rId2"/>
          <a:stretch/>
        </p:blipFill>
        <p:spPr>
          <a:xfrm>
            <a:off x="108000" y="25560"/>
            <a:ext cx="4103640" cy="30956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5c1381c54039c83f55a50f1a2f0a9748"/>
          <p:cNvPicPr/>
          <p:nvPr/>
        </p:nvPicPr>
        <p:blipFill>
          <a:blip r:embed="rId3"/>
          <a:stretch/>
        </p:blipFill>
        <p:spPr>
          <a:xfrm>
            <a:off x="108000" y="3267000"/>
            <a:ext cx="4035240" cy="30974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x_f74954d1"/>
          <p:cNvPicPr/>
          <p:nvPr/>
        </p:nvPicPr>
        <p:blipFill>
          <a:blip r:embed="rId4"/>
          <a:stretch/>
        </p:blipFill>
        <p:spPr>
          <a:xfrm>
            <a:off x="4457880" y="3267000"/>
            <a:ext cx="4435200" cy="3160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9:40:42Z</dcterms:created>
  <dc:creator>starostina</dc:creator>
  <dc:description/>
  <cp:keywords/>
  <dc:language>en-US</dc:language>
  <cp:lastModifiedBy>user</cp:lastModifiedBy>
  <dcterms:modified xsi:type="dcterms:W3CDTF">2020-11-29T14:02:54Z</dcterms:modified>
  <cp:revision>7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1049</vt:lpwstr>
  </property>
</Properties>
</file>