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2862-0713-430A-BE3D-866BC10583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A296-9272-4140-98A5-42A2F08D73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AADD-1C83-48FD-883C-14458C08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CB42-6842-49DF-9B76-90329423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2C6FA-52C6-40A4-A621-CD9624DE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3BA88-09DF-41E7-9E43-76AB34E0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C8D2D-8D24-412E-8E2D-E6727CAA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F224A-75CE-49BE-A69B-EC137601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E8FF8-66BF-4FE4-BBE5-5E4C40CE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9148C-1115-4D8F-93A3-1C6EEF48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D0AC7-7C63-449F-A64A-734E3BFA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A1CC8-7212-4988-A2F6-22DE9385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E8DD3-7C58-402A-8769-F2DE30A5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67A9E-1D5A-4301-983E-29062219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E7E1-8C66-4345-A097-DE61FCAB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B10FC-A365-4550-96DE-CCF6746A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D953C-EAFE-4B25-B5DF-63F37345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CA78F-9B3E-4F60-B889-FBD53F65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2972C-366E-4B60-8096-B25696DD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E31C1-95D3-4AAB-A089-EC6CEAA6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6DA05-4670-4AB9-855A-0665A014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381EC-E67B-48E3-A318-88366732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76B4B-E747-47C7-8BBB-9444CE25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B16EB-F471-4E59-B390-10B0BD55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9AD17-4C85-4968-A87A-118A9AEF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5A5B-B587-4F0F-9329-F0654CF5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1F02C-BEE6-4DC1-A4A6-BE17F7F7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8BF5-AED1-40A2-89D0-64D4992D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E46E-4652-4FC2-BCE4-25CE8C30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1CA5-24BC-4025-BD91-A463E210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201D-CE7D-444A-A098-BB62BBE8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1A6E-F300-4C96-A512-C4B63F89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210D-B42E-4CBD-B45B-67FB88E8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CFC0-DBB3-4E63-AC39-53466EC6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D2D2-3D85-43D1-90D8-7FA770BF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324F-5725-4848-83D4-A52F93DB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7920-21EF-49B4-AC56-EEF4BEF6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CF6B-A0BC-4BC4-8EAF-975E8EE4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40CC-E30D-44B5-A3A7-265CD580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095A-B89F-4420-BEC8-DDBF820D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54B08-5000-4EE1-8CA3-CF5A3937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B1AAD-7B81-4B71-878B-36F2FD65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54A93-7285-4C40-801B-0ACCA3FF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DFA90-5CD8-46D7-8819-FCEBF6EB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0E1A8-22EA-4EC3-8742-0D26C9D0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068B-1F5F-4264-8787-CC2AB094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A5AA3-CD24-4FB5-9FDD-217E2786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A0305-C49C-436D-98EB-7DDF03B3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631DC-6C82-4917-A4EC-E83FE4F0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043A4-A15A-47AE-8A91-7555EDCE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5652C-177A-468A-B0E6-C56D8FB5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6BB88-5E6A-488B-9345-6B2C0584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746B3-BADB-420A-80EC-1D0C845C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AB82C-F06E-451F-B5E3-1C8B89C2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BA13D-6FB3-4144-914F-7B541840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AD88E-DA3F-45DB-A5DF-5F89B97C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5D6-0D5F-47F5-8C17-4B190E22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7657A-A57C-4EF9-B65D-8CB219E9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CB1D2-BCA6-4CFF-8C5F-49E3F1A7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A792D-23C6-49BD-BE78-E2C55AF4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E8904-1C9B-4D70-B0DC-43BE7287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7FB26-F042-413C-8F1D-D3B27CC0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49B30-660D-4886-B130-7092906F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0A919-251E-4962-92FF-A6E239C6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70E14-F785-4087-892D-9B1A46BC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11595-82E1-4E92-BB37-B12A4071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3FAB2-0610-4F82-BE2A-8B5BB0C5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D711-6CCE-4F97-A97F-82481F52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3102D-F08B-4CED-A1AE-8DDFB06C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86C40-60C3-4359-BB98-36C7CF08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C0BAE-A95A-4723-9DFD-7B7E80B9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F4D5C-ECDB-42DB-8B20-B38C2F6A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625D9-102A-4C28-B147-6558E1B6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D43AD-D4F2-45B9-88DF-9188807B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9FB49-39A1-4E38-B363-651B2EB7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42DCF-0A6E-4A5F-8542-6064F22B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033D7-DF6E-4D15-9D1F-394BE459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2A2F0-A2A8-4530-A632-B731C5C2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2057-D49E-4C2F-99A5-2C7CAD1B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33F3E-8DB7-426C-9D6A-3E77E5EB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3C31C-3F6D-44E0-AA55-3705C171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B0C06-3D13-480D-B466-3B909959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3B02E-662C-4432-918D-9C415597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6FD22-73C3-48C7-8668-1593856E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28E48-CC19-4CF5-8242-F07E5945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9637E-5564-4117-9512-4FD854A8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B45D2-8E15-454B-88B9-31802451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AB2B6-6411-4541-8B31-934EC0FE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5A10B-5D45-49ED-89F5-DFDCA27A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DD43-D79F-4D3E-A542-59ED127C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9AC71-0BED-4EC1-9E2D-E56C3634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F850B-E9EC-4718-9150-2C3407A2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1B7FA-299E-46E7-9D2F-34C40E07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FD4D4-7E70-4C15-8160-382CD45D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75808-B827-4034-B311-E916BF40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E2E88-2E05-4A9D-8A75-6975A3AD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AD0B4-E63A-4F43-9693-A90EE743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128BB-0B30-4FA6-AC68-66E53CE2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43931-703D-4346-9FF8-94678F8E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B35EA-141A-4CE0-83E1-63B5176D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0B5-34F2-4E12-A534-98147ED6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F45B6-7675-4960-A82C-4ECE9DF9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8C702-45F6-4A1E-8438-5018D4A3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A1853-475A-4393-8C9F-11D4F2EF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F9F6D-B557-4204-A096-7CC98FFA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B6A54-3553-4075-8A93-5C04FA65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A396F-CDAF-49F6-B98B-EFCD5017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1D08C-E2DC-45CF-8059-8A98C51B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C88EB-10F1-4731-9E54-991F1EA6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6D136-FE51-4315-9B6E-26B1F3AE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71697-7487-4A58-BDCC-A008A840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EF80-3864-4004-AE3E-85B2D385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A77CC-E26E-4C42-A966-DD1A3DED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E4F3F-09C8-48FA-A52C-1F94170E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EE9C7-F7B6-40C1-8DE0-5B7BFB7C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E4C8F-6ACD-4B4E-81FF-4954B5E9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C09EA-51FD-48A0-869F-C98D5568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7C35E-0D5E-47BF-9E80-EDCBEC54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D296A-F2E2-4088-A226-C69AD946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B10D2-2F28-4988-801A-542D77C1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258C3-1576-4BC7-AFA7-F31D9F04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BE5E0-2F2E-400E-B5D8-70DD3B7D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5C42-7662-4C6A-8518-9C5F5A317E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BD88-0132-435B-9E0E-FAAD6D3007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54CD-EDFF-4B1D-925D-230FCA3E8AB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4710-2EFB-491E-9E19-CEDAFA8E039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E2E6-646F-43A7-BB73-0AEA33AF47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98B8-3911-4EC0-8D04-9B25881ABA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C9C3-43F9-4124-9444-B18549B2A2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ED6B-0743-46B5-B3D3-9E13EE17E3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808C-4130-45A6-BC06-BF37B9C912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409D-D88D-4DE3-B2CD-A98FE40D59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10920" y="5013360"/>
            <a:ext cx="8086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етривание и перемещение горных поро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6" descr="Северный Тянь-Шань (озеро Иссык-Куль, Заилийский Алатау, Чарын): фото природы и природных ландшафтов"/>
          <p:cNvPicPr/>
          <p:nvPr/>
        </p:nvPicPr>
        <p:blipFill>
          <a:blip r:embed="rId1"/>
          <a:stretch/>
        </p:blipFill>
        <p:spPr>
          <a:xfrm>
            <a:off x="611280" y="115920"/>
            <a:ext cx="7848360" cy="4537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0" y="476280"/>
          <a:ext cx="8280360" cy="5032440"/>
        </p:xfrm>
        <a:graphic>
          <a:graphicData uri="http://schemas.openxmlformats.org/drawingml/2006/table">
            <a:tbl>
              <a:tblPr/>
              <a:tblGrid>
                <a:gridCol w="2664000"/>
                <a:gridCol w="1728720"/>
                <a:gridCol w="1852560"/>
                <a:gridCol w="203508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выветри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Химиче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а и растворимые вещества и г.п. – известняк, гипс, со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ушение водой растворимых г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новых соединений и изменение существующ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Биологиче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4" descr="20122_rastenie_i_kamen_c5d22_512"/>
          <p:cNvPicPr/>
          <p:nvPr/>
        </p:nvPicPr>
        <p:blipFill>
          <a:blip r:embed="rId1"/>
          <a:stretch/>
        </p:blipFill>
        <p:spPr>
          <a:xfrm>
            <a:off x="0" y="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61"/>
          <p:cNvPicPr/>
          <p:nvPr/>
        </p:nvPicPr>
        <p:blipFill>
          <a:blip r:embed="rId2"/>
          <a:stretch/>
        </p:blipFill>
        <p:spPr>
          <a:xfrm>
            <a:off x="3711600" y="2782800"/>
            <a:ext cx="5432400" cy="40752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6" descr="m_2864103"/>
          <p:cNvPicPr/>
          <p:nvPr/>
        </p:nvPicPr>
        <p:blipFill>
          <a:blip r:embed="rId3"/>
          <a:stretch/>
        </p:blipFill>
        <p:spPr>
          <a:xfrm>
            <a:off x="0" y="4076640"/>
            <a:ext cx="3708360" cy="27813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1259153931_krot_b-1"/>
          <p:cNvPicPr/>
          <p:nvPr/>
        </p:nvPicPr>
        <p:blipFill>
          <a:blip r:embed="rId4"/>
          <a:stretch/>
        </p:blipFill>
        <p:spPr>
          <a:xfrm>
            <a:off x="5003640" y="404640"/>
            <a:ext cx="3059280" cy="1952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"/>
          <p:cNvGraphicFramePr/>
          <p:nvPr/>
        </p:nvGraphicFramePr>
        <p:xfrm>
          <a:off x="0" y="476280"/>
          <a:ext cx="8280360" cy="5151240"/>
        </p:xfrm>
        <a:graphic>
          <a:graphicData uri="http://schemas.openxmlformats.org/drawingml/2006/table">
            <a:tbl>
              <a:tblPr/>
              <a:tblGrid>
                <a:gridCol w="2664000"/>
                <a:gridCol w="1728720"/>
                <a:gridCol w="1852560"/>
                <a:gridCol w="203508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выветри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Биоген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ияние живых организмов на г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ушение и изменение г.п. и минералов под влиянием растений и живот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льчение г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 Деятельность челов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Calibri"/>
              </a:rPr>
              <a:t>Выветри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Схема 3" descr=""/>
          <p:cNvPicPr/>
          <p:nvPr/>
        </p:nvPicPr>
        <p:blipFill>
          <a:blip r:embed="rId1"/>
          <a:stretch/>
        </p:blipFill>
        <p:spPr>
          <a:xfrm>
            <a:off x="-463680" y="1395360"/>
            <a:ext cx="9607680" cy="5176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4" descr="441"/>
          <p:cNvPicPr/>
          <p:nvPr/>
        </p:nvPicPr>
        <p:blipFill>
          <a:blip r:embed="rId1"/>
          <a:stretch/>
        </p:blipFill>
        <p:spPr>
          <a:xfrm>
            <a:off x="0" y="0"/>
            <a:ext cx="4356000" cy="29066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d4cmirniydiamondmine_5"/>
          <p:cNvPicPr/>
          <p:nvPr/>
        </p:nvPicPr>
        <p:blipFill>
          <a:blip r:embed="rId2"/>
          <a:stretch/>
        </p:blipFill>
        <p:spPr>
          <a:xfrm>
            <a:off x="3375000" y="3367080"/>
            <a:ext cx="5769000" cy="3490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"/>
          <p:cNvGraphicFramePr/>
          <p:nvPr/>
        </p:nvGraphicFramePr>
        <p:xfrm>
          <a:off x="863640" y="476280"/>
          <a:ext cx="8280360" cy="4067280"/>
        </p:xfrm>
        <a:graphic>
          <a:graphicData uri="http://schemas.openxmlformats.org/drawingml/2006/table">
            <a:tbl>
              <a:tblPr/>
              <a:tblGrid>
                <a:gridCol w="2663640"/>
                <a:gridCol w="1729080"/>
                <a:gridCol w="1852560"/>
                <a:gridCol w="203508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выветри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2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Антропоген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челов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ушение под действием хозяйственной деятельности челов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о меняют г.п. и рельеф Земл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-360" y="1844280"/>
            <a:ext cx="8280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тветьте на вопрос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такое выветрива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ие существуют виды выветрива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является главными причинами физического выветрива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кажите о биологичнском  выветрива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такое антропогенное выветрива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ушение горных пор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Скругленный прямоугольник 2"/>
          <p:cNvSpPr/>
          <p:nvPr/>
        </p:nvSpPr>
        <p:spPr>
          <a:xfrm>
            <a:off x="3348000" y="1700280"/>
            <a:ext cx="2879640" cy="86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етри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Прямая со стрелкой 4"/>
          <p:cNvCxnSpPr/>
          <p:nvPr/>
        </p:nvCxnSpPr>
        <p:spPr>
          <a:xfrm flipH="1">
            <a:off x="2124000" y="2637000"/>
            <a:ext cx="1440360" cy="7927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Прямая со стрелкой 6"/>
          <p:cNvCxnSpPr>
            <a:stCxn id="420" idx="2"/>
          </p:cNvCxnSpPr>
          <p:nvPr/>
        </p:nvCxnSpPr>
        <p:spPr>
          <a:xfrm>
            <a:off x="4787640" y="2565000"/>
            <a:ext cx="1080" cy="115164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3" name="Прямая со стрелкой 8"/>
          <p:cNvCxnSpPr/>
          <p:nvPr/>
        </p:nvCxnSpPr>
        <p:spPr>
          <a:xfrm>
            <a:off x="5796000" y="2637000"/>
            <a:ext cx="937440" cy="8640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4" name="Скругленный прямоугольник 9"/>
          <p:cNvSpPr/>
          <p:nvPr/>
        </p:nvSpPr>
        <p:spPr>
          <a:xfrm>
            <a:off x="395280" y="3645000"/>
            <a:ext cx="24480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зическ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Скругленный прямоугольник 10"/>
          <p:cNvSpPr/>
          <p:nvPr/>
        </p:nvSpPr>
        <p:spPr>
          <a:xfrm>
            <a:off x="3564000" y="3645000"/>
            <a:ext cx="230328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имическ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Скругленный прямоугольник 11"/>
          <p:cNvSpPr/>
          <p:nvPr/>
        </p:nvSpPr>
        <p:spPr>
          <a:xfrm>
            <a:off x="6516720" y="3645000"/>
            <a:ext cx="2303280" cy="93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378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ыветривани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–процесс разрушения и изменения гор на поверхности суш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Calibri"/>
              </a:rPr>
              <a:t>Выветри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Схема 3" descr=""/>
          <p:cNvPicPr/>
          <p:nvPr/>
        </p:nvPicPr>
        <p:blipFill>
          <a:blip r:embed="rId1"/>
          <a:stretch/>
        </p:blipFill>
        <p:spPr>
          <a:xfrm>
            <a:off x="-176040" y="1420920"/>
            <a:ext cx="9144000" cy="517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выветри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0" y="1557360"/>
          <a:ext cx="8424720" cy="3355920"/>
        </p:xfrm>
        <a:graphic>
          <a:graphicData uri="http://schemas.openxmlformats.org/drawingml/2006/table">
            <a:tbl>
              <a:tblPr/>
              <a:tblGrid>
                <a:gridCol w="2592360"/>
                <a:gridCol w="1692360"/>
                <a:gridCol w="2070000"/>
                <a:gridCol w="20700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выветри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Физическ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C:\Documents and Settings\Admin\Рабочий стол\Внешние силы. Выветривание.jpg"/>
          <p:cNvPicPr/>
          <p:nvPr/>
        </p:nvPicPr>
        <p:blipFill>
          <a:blip r:embed="rId1"/>
          <a:stretch/>
        </p:blipFill>
        <p:spPr>
          <a:xfrm>
            <a:off x="0" y="0"/>
            <a:ext cx="435600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3" name="Прямоугольник 2" descr=""/>
          <p:cNvPicPr/>
          <p:nvPr/>
        </p:nvPicPr>
        <p:blipFill>
          <a:blip r:embed="rId2"/>
          <a:stretch/>
        </p:blipFill>
        <p:spPr>
          <a:xfrm>
            <a:off x="1109520" y="5614920"/>
            <a:ext cx="6759720" cy="15606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6" descr="1305325950_2"/>
          <p:cNvPicPr/>
          <p:nvPr/>
        </p:nvPicPr>
        <p:blipFill>
          <a:blip r:embed="rId3"/>
          <a:stretch/>
        </p:blipFill>
        <p:spPr>
          <a:xfrm>
            <a:off x="4788000" y="23760"/>
            <a:ext cx="4093920" cy="3071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0_6930c_22a96dc7_XL"/>
          <p:cNvPicPr/>
          <p:nvPr/>
        </p:nvPicPr>
        <p:blipFill>
          <a:blip r:embed="rId4"/>
          <a:stretch/>
        </p:blipFill>
        <p:spPr>
          <a:xfrm>
            <a:off x="498600" y="3252960"/>
            <a:ext cx="3681360" cy="25333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5b349501b7"/>
          <p:cNvPicPr/>
          <p:nvPr/>
        </p:nvPicPr>
        <p:blipFill>
          <a:blip r:embed="rId5"/>
          <a:stretch/>
        </p:blipFill>
        <p:spPr>
          <a:xfrm>
            <a:off x="4923000" y="3252960"/>
            <a:ext cx="3924000" cy="2595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4" descr="g_2008_05_19_21_57_36_7"/>
          <p:cNvPicPr/>
          <p:nvPr/>
        </p:nvPicPr>
        <p:blipFill>
          <a:blip r:embed="rId1"/>
          <a:stretch/>
        </p:blipFill>
        <p:spPr>
          <a:xfrm>
            <a:off x="0" y="0"/>
            <a:ext cx="5076720" cy="32497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5" descr="118-Deserto Kyzyl Kum"/>
          <p:cNvPicPr/>
          <p:nvPr/>
        </p:nvPicPr>
        <p:blipFill>
          <a:blip r:embed="rId2"/>
          <a:stretch/>
        </p:blipFill>
        <p:spPr>
          <a:xfrm>
            <a:off x="3492360" y="3303720"/>
            <a:ext cx="5651640" cy="3554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0" y="476280"/>
          <a:ext cx="8280360" cy="6200640"/>
        </p:xfrm>
        <a:graphic>
          <a:graphicData uri="http://schemas.openxmlformats.org/drawingml/2006/table">
            <a:tbl>
              <a:tblPr/>
              <a:tblGrid>
                <a:gridCol w="2664000"/>
                <a:gridCol w="1728720"/>
                <a:gridCol w="1852560"/>
                <a:gridCol w="203508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выветри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Физиче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ебания температуры, ветер и 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 механического раздробления горных пород (г.п.)без изменения химического соста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уются обломочные г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4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Химиче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5" descr="chemical-weathering-definition-science-311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31478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chemical-weathering-definition-science-319"/>
          <p:cNvPicPr/>
          <p:nvPr/>
        </p:nvPicPr>
        <p:blipFill>
          <a:blip r:embed="rId2"/>
          <a:stretch/>
        </p:blipFill>
        <p:spPr>
          <a:xfrm>
            <a:off x="108000" y="25560"/>
            <a:ext cx="4103640" cy="30956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5c1381c54039c83f55a50f1a2f0a9748"/>
          <p:cNvPicPr/>
          <p:nvPr/>
        </p:nvPicPr>
        <p:blipFill>
          <a:blip r:embed="rId3"/>
          <a:stretch/>
        </p:blipFill>
        <p:spPr>
          <a:xfrm>
            <a:off x="108000" y="3267000"/>
            <a:ext cx="4035240" cy="30974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x_f74954d1"/>
          <p:cNvPicPr/>
          <p:nvPr/>
        </p:nvPicPr>
        <p:blipFill>
          <a:blip r:embed="rId4"/>
          <a:stretch/>
        </p:blipFill>
        <p:spPr>
          <a:xfrm>
            <a:off x="4457880" y="3267000"/>
            <a:ext cx="4435200" cy="3160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09:40:42Z</dcterms:created>
  <dc:creator>starostina</dc:creator>
  <dc:description/>
  <cp:keywords/>
  <dc:language>en-US</dc:language>
  <cp:lastModifiedBy>user</cp:lastModifiedBy>
  <dcterms:modified xsi:type="dcterms:W3CDTF">2020-11-29T14:02:54Z</dcterms:modified>
  <cp:revision>7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51049</vt:lpwstr>
  </property>
</Properties>
</file>