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967-54E0-40EC-A6E6-BB053D57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A34-9B10-43A4-973E-BCAA171B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DEC-3066-4C1C-9C13-7D4C4E01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DA3-D0DF-4444-82A0-B5AAF74C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637-76D8-4E32-96E4-0C9299D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32C-555E-4B73-8374-4E00B3D9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A4B-FA3A-44A8-B244-DFE14D9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398-7833-44CD-B36D-E6D3E8F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499-28A3-47EF-A5E1-97AFB9B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587-D9B0-495E-ABBA-D6706BC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462-ED7A-4B41-9A7F-ECA7160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5C4-5205-4F04-97EE-DDDC2F1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728-0B25-4090-B0C0-4CD6D73F1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0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08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09:17:30Z</dcterms:created>
  <dc:creator>Perekrestok 2</dc:creator>
  <dc:description/>
  <dc:language>en-US</dc:language>
  <cp:lastModifiedBy>Светлана</cp:lastModifiedBy>
  <dcterms:modified xsi:type="dcterms:W3CDTF">2020-11-30T10:16:07Z</dcterms:modified>
  <cp:revision>94</cp:revision>
  <dc:subject/>
  <dc:title>Правила</dc:title>
</cp:coreProperties>
</file>