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CA6-C2F2-42CF-998C-2DD739F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492-7703-48A5-A575-430022C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A53-A7C7-4C6B-93F9-42DA1775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3F4-40C9-423C-BF80-2B1CE041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476-3E5B-4D12-83F4-36C3FA7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E79-5800-47C2-B030-C126F84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436-13B4-401D-B8D6-DC17626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169-D04B-4AD1-B21A-9958898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77E-E444-44A7-AF45-63E2ED9C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866-BBBD-4D32-B188-4536ECE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54C-5F68-40C3-A832-79559733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628-0FBE-4504-8E51-CCED351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27D1-42B4-4B77-8ECD-08C03C289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0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4087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1708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09:17:30Z</dcterms:created>
  <dc:creator>Perekrestok 2</dc:creator>
  <dc:description/>
  <dc:language>en-US</dc:language>
  <cp:lastModifiedBy>Светлана</cp:lastModifiedBy>
  <dcterms:modified xsi:type="dcterms:W3CDTF">2020-11-30T10:16:07Z</dcterms:modified>
  <cp:revision>94</cp:revision>
  <dc:subject/>
  <dc:title>Правила</dc:title>
</cp:coreProperties>
</file>