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637-79A8-4D64-93CF-4F9D3A7C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E270-208A-4E31-BC96-1248A0B1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37E-994E-4869-B2B0-4971D162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CFBA-47C6-40B6-AF20-68CF27FC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D1F-1E62-4AEA-8711-3C446B89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7BE-C3E2-4F43-9DFA-15BC6E31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3A9-EC02-42D3-986E-DDDDB5A8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75B-9338-4E6B-BDBD-82F3DE4D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D6F-DADB-48A0-A738-0972AECF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52E-3260-4592-AC5A-AAF1B2AB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ABE-BC94-4CD2-9026-A7B7E425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943-2DCF-4D74-9D01-4722E479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ECE1-0DBB-41B4-BEBB-EC48B072D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Изображение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Изображение 1" descr=""/>
          <p:cNvPicPr/>
          <p:nvPr/>
        </p:nvPicPr>
        <p:blipFill>
          <a:blip r:embed="rId1"/>
          <a:stretch/>
        </p:blipFill>
        <p:spPr>
          <a:xfrm>
            <a:off x="965160" y="774720"/>
            <a:ext cx="7201080" cy="5308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Изображение 1" descr=""/>
          <p:cNvPicPr/>
          <p:nvPr/>
        </p:nvPicPr>
        <p:blipFill>
          <a:blip r:embed="rId1"/>
          <a:stretch/>
        </p:blipFill>
        <p:spPr>
          <a:xfrm>
            <a:off x="952560" y="723960"/>
            <a:ext cx="7238880" cy="539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Изображение 1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321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Изображение 1" descr=""/>
          <p:cNvPicPr/>
          <p:nvPr/>
        </p:nvPicPr>
        <p:blipFill>
          <a:blip r:embed="rId1"/>
          <a:stretch/>
        </p:blipFill>
        <p:spPr>
          <a:xfrm>
            <a:off x="952560" y="749160"/>
            <a:ext cx="7226280" cy="535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Изображение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714240" y="1125360"/>
            <a:ext cx="7572600" cy="8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1332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0" y="58579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кин 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Изображение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Изображени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Изображение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Изображение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Изображение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Изображение 1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Изображение 1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321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Изображение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30T10:00:10Z</dcterms:created>
  <dc:creator>Пользователь Microsoft Office</dc:creator>
  <dc:description/>
  <cp:keywords/>
  <dc:language>en-US</dc:language>
  <cp:lastModifiedBy>Пользователь Microsoft Office</cp:lastModifiedBy>
  <dcterms:modified xsi:type="dcterms:W3CDTF">2020-11-30T10:01:36Z</dcterms:modified>
  <cp:revision>1</cp:revision>
  <dc:subject/>
  <dc:title>Презентация PowerPoint</dc:title>
</cp:coreProperties>
</file>