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7CB-46B2-43B7-A4EE-D0C3CD9B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74E-25C6-4212-A862-BB5A6EFA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596-6C46-4B3B-B77D-9053897D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84D-9A33-4BB4-96A5-161D4C35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289-1EC9-4116-9F06-F8479F6D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F2D-3F1B-49B7-A18E-E1F0E638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DF2-905D-4B1E-9AAB-0A260976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97F-7C89-48B0-B3B8-9E2A6F7B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0F4-4C58-4D14-9B6B-0B4CDB48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4FC-2679-4448-8B79-65A6DB14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9FE-602E-4A70-992F-B3FA4AD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A9E-662A-4523-9C4F-2424E5A2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77C-13D0-4048-9D03-7626365C5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Изображение 1" descr=""/>
          <p:cNvPicPr/>
          <p:nvPr/>
        </p:nvPicPr>
        <p:blipFill>
          <a:blip r:embed="rId1"/>
          <a:stretch/>
        </p:blipFill>
        <p:spPr>
          <a:xfrm>
            <a:off x="965160" y="774720"/>
            <a:ext cx="7201080" cy="530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Изображение 1" descr=""/>
          <p:cNvPicPr/>
          <p:nvPr/>
        </p:nvPicPr>
        <p:blipFill>
          <a:blip r:embed="rId1"/>
          <a:stretch/>
        </p:blipFill>
        <p:spPr>
          <a:xfrm>
            <a:off x="952560" y="723960"/>
            <a:ext cx="7238880" cy="539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Изображение 1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32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Изображение 1" descr=""/>
          <p:cNvPicPr/>
          <p:nvPr/>
        </p:nvPicPr>
        <p:blipFill>
          <a:blip r:embed="rId1"/>
          <a:stretch/>
        </p:blipFill>
        <p:spPr>
          <a:xfrm>
            <a:off x="952560" y="749160"/>
            <a:ext cx="7226280" cy="535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714240" y="1125360"/>
            <a:ext cx="7572600" cy="8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1332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0" y="58579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кин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Изображени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Изображение 1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32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Изображение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30T10:00:10Z</dcterms:created>
  <dc:creator>Пользователь Microsoft Office</dc:creator>
  <dc:description/>
  <cp:keywords/>
  <dc:language>en-US</dc:language>
  <cp:lastModifiedBy>Пользователь Microsoft Office</cp:lastModifiedBy>
  <dcterms:modified xsi:type="dcterms:W3CDTF">2020-11-30T10:01:36Z</dcterms:modified>
  <cp:revision>1</cp:revision>
  <dc:subject/>
  <dc:title>Презентация PowerPoint</dc:title>
</cp:coreProperties>
</file>