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04C-E79B-4A0F-9DED-2A8AF28B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130-2D6C-404C-894B-50B3335A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161-6761-48E1-89AB-EFA990B9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427-330F-49AE-A456-AB8470AC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1B2A-C2A5-45C0-8DB6-AF3BF60C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ABF2-A3FD-40F6-9F80-8BE6C0CC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72E4-34B5-4893-89D6-394C39FC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A9E3-68F6-40E7-9D0D-8B2306B5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9C81-5EB9-4F8A-BBD4-4AB2078F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9DCC-5E21-4278-942A-7922FCA9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F5D8-CC96-4FB8-AEE9-7740BBFD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33D-427A-475F-823E-787C7178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C44F-FD02-4150-8A87-C14AAC2C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0CBD-4DB2-4245-9E2E-7D24C72C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97F2-54DE-4A5A-AFB0-59AADC87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D088-E132-4C8C-8F70-59103102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AA78-8FF9-449D-9448-E0F6D83C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C15B9-E892-488F-9AD3-77541D45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07C9C-3ED1-4416-BD66-9E8BA527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143F7-3A99-4C34-8F06-B1E5060D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9E21-3408-45EC-B8B4-DADA803F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44D95-7DED-47B5-BC98-401FA661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F880-514E-4976-862A-69E19DB4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8CF26-8DA6-47BB-A8BC-F8BC6561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4FD37-DEBA-4F6A-BC28-0C474C41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D46CF-DFA3-4B9D-966D-B1E03B25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F8AE8-969A-4A6B-A66A-92E8DA29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E0687-18A8-4604-BBA3-5FA00990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EAFD9-E800-43DD-B840-0A4E011C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0AEB2-38FB-4ABB-9873-3091E096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275F0-B1A2-4048-8BA5-584EAE73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17FF0-DD72-4D54-A191-71E80B4D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DC821-86B4-4DE7-8725-362B2894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84D-AE4D-4901-ABBA-683F5644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8FA0E-77AC-411F-9E4F-61502763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A2285-B93B-4233-8AA3-7CBCFB5E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CFE9A-A76C-4ECD-93BC-240D6C27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4FD88-60DE-40A6-AD81-8C0E3ABF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18BC2-9655-4135-890D-0A1798EE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2A480-72CA-4D19-9237-DF505D59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8614A-71C9-4C3D-AEE6-9C8FF4DD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47B67-6121-4335-9AAB-9674B411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CA2D5-90DF-4D9B-B020-3D944E27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1CF96-8D88-4899-80F8-051625B3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764-DD59-4A54-B76E-4BB330C8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2200A-AF17-47E6-9528-781140DB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95D26-4672-4125-B7E2-54B250A8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8B5A2-2366-4AB8-B65A-CA198CD8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EC967-AC58-45B4-A8CF-B1EC4574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EA3EA-6872-4834-BC07-AAF17709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71A96-90A1-4DAC-AF73-2E8A8E51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D9A32-B156-4877-85B3-CACCE4BF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1D977-F627-4906-ABAB-C98EDEA7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8B578-2579-4498-ABD5-6C838FF6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C6DB3-332D-4A7B-8383-733AB944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1BC-F5EF-49F5-B762-6C18538D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1D7E2-4764-40FE-9B4C-B929EBB8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F7334-105A-4EB8-9FB9-422F0159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FCA64-9B60-4222-8D12-B6382195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52EF9-41F5-4C66-BA72-07CF12AA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102D7-B08B-407E-9A3E-EF46CF80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63C8D-4F84-4F60-9864-3392AA79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39177-9E3A-4A84-8E5F-DE3B40F8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B8EC0-7734-44D2-876C-BA31FA9E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1CA60-D90F-481C-83C5-1C5300D8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D7A86-8D0B-4BC2-A024-3B1503B3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8E8-19C6-4BB6-9B54-EAF57BEE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2990D-0740-481C-A51B-539E7C35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163DD-AFD1-4A03-954C-8AA38BB3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E9E1A-D814-441A-87DE-619EAD85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279EE-95A8-48B3-914F-DEEB4E4A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D134F-5EA6-4299-8BD0-2A9A10C9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9FAF3-2A46-497A-AB9C-AC12276E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7965B-A0A2-436A-94D4-19F32DCA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C9631-7FF3-42A5-997C-E1A34813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C0C1E-FFF8-43B1-9F87-F876CEBA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A3EAE-A63D-45C6-803A-9815A71B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76D3-18E3-410B-88F2-85D4A471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A7450-B0EE-42C4-8D4E-CA595497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0A178-7347-4F50-9C8C-5177D4F0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948BB-ABC7-43A3-953F-72349C2B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12493-233C-4E11-A158-50CEDEB0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2DCFD-C9EE-4B36-AD8D-BE92DA71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8B90-7C94-4062-B8F0-8CFB812A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67DC-901E-4FFE-9DBF-2AF8919E314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DDD2-0452-4FBE-8132-3150113D937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74B3-4A40-43DF-80B1-CEDC61B3194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A5A8-F4FF-46A9-8024-7513A321360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11EA-9F67-412C-9141-5F3A61E1CCD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313B-5FD5-44A4-BDBE-D6793584508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918E-8CCA-4ACF-AFBE-32FC007F6F7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511344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2060"/>
                </a:solidFill>
                <a:latin typeface="Candara"/>
              </a:rPr>
              <a:t>АППЛИКАЦИЯ из фетра «МЕДВЕЖОНОК»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724000" y="5013360"/>
            <a:ext cx="31402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Автор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Педагог дополнительного образования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МБОУ ДО ДДиЮ г.Охи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В.В.Коритина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Рисунок 5" descr="C:\Users\DD3\Desktop\курсы УЧЕБ\для задания\Новая папка\IMG_20200408_224708.jpg"/>
          <p:cNvPicPr/>
          <p:nvPr/>
        </p:nvPicPr>
        <p:blipFill>
          <a:blip r:embed="rId1"/>
          <a:stretch/>
        </p:blipFill>
        <p:spPr>
          <a:xfrm>
            <a:off x="3276720" y="2344680"/>
            <a:ext cx="246852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5866920" y="1626840"/>
            <a:ext cx="30020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1728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1728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льбомный лист зеленый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1728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Фетр коричневый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1728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Ножни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1728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Фломастер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1728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Клей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1728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Трафареты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ndara"/>
              </a:rPr>
              <a:t>Для работы потребуется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0" name="Рисунок 4" descr="C:\Users\DD3\Desktop\курсы УЧЕБ\для задания\Новая папка\IMG_20200408_223244.jpg"/>
          <p:cNvPicPr/>
          <p:nvPr/>
        </p:nvPicPr>
        <p:blipFill>
          <a:blip r:embed="rId1"/>
          <a:stretch/>
        </p:blipFill>
        <p:spPr>
          <a:xfrm>
            <a:off x="468360" y="2060640"/>
            <a:ext cx="511164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ndara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Candara"/>
              </a:rPr>
              <a:t>Детали шаблон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Объект 3" descr="C:\Users\DD3\Desktop\курсы УЧЕБ\для задания\Новая папка\IMG_20200408_222828.jpg"/>
          <p:cNvPicPr/>
          <p:nvPr/>
        </p:nvPicPr>
        <p:blipFill>
          <a:blip r:embed="rId1"/>
          <a:stretch/>
        </p:blipFill>
        <p:spPr>
          <a:xfrm>
            <a:off x="2700360" y="1628640"/>
            <a:ext cx="410364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ndara"/>
              </a:rPr>
              <a:t>С помощью трафаретов обводим необходимые детали на фетре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Объект 4" descr="C:\Users\DD3\Desktop\курсы УЧЕБ\для задания\Новая папка\IMG_20200408_223612.jpg"/>
          <p:cNvPicPr/>
          <p:nvPr/>
        </p:nvPicPr>
        <p:blipFill>
          <a:blip r:embed="rId1"/>
          <a:stretch/>
        </p:blipFill>
        <p:spPr>
          <a:xfrm>
            <a:off x="826920" y="2523960"/>
            <a:ext cx="7274160" cy="3784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ndara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Candara"/>
              </a:rPr>
              <a:t>Вырезаем  детали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6" name="Объект 3" descr="C:\Users\DD3\Desktop\курсы УЧЕБ\для задания\Новая папка\IMG_20200408_223909.jpg"/>
          <p:cNvPicPr/>
          <p:nvPr/>
        </p:nvPicPr>
        <p:blipFill>
          <a:blip r:embed="rId1"/>
          <a:stretch/>
        </p:blipFill>
        <p:spPr>
          <a:xfrm>
            <a:off x="2254320" y="2674800"/>
            <a:ext cx="4643280" cy="3451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ndara"/>
              </a:rPr>
              <a:t>Наклеиваем детали из фетра с помощью клея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ndara"/>
              </a:rPr>
              <a:t>на альбомный лист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Объект 4" descr="C:\Users\DD3\Desktop\курсы УЧЕБ\для задания\Новая папка\IMG_20200408_224333.jpg"/>
          <p:cNvPicPr/>
          <p:nvPr/>
        </p:nvPicPr>
        <p:blipFill>
          <a:blip r:embed="rId1"/>
          <a:stretch/>
        </p:blipFill>
        <p:spPr>
          <a:xfrm>
            <a:off x="2411280" y="2276640"/>
            <a:ext cx="331308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ndara"/>
              </a:rPr>
              <a:t>Из черного картона вырезаем овалы и приклеиваем мордочку и подушечки лапок, фломастером дорисовываем глаза , нос, уши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0" name="Объект 4" descr="C:\Users\DD3\Desktop\курсы УЧЕБ\для задания\Новая папка\IMG_20200408_224708.jpg"/>
          <p:cNvPicPr/>
          <p:nvPr/>
        </p:nvPicPr>
        <p:blipFill>
          <a:blip r:embed="rId1"/>
          <a:stretch/>
        </p:blipFill>
        <p:spPr>
          <a:xfrm>
            <a:off x="2771640" y="2421000"/>
            <a:ext cx="3530880" cy="3747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12:33:51Z</dcterms:created>
  <dc:creator>FoM</dc:creator>
  <dc:description/>
  <dc:language>en-US</dc:language>
  <cp:lastModifiedBy>Андрей</cp:lastModifiedBy>
  <dcterms:modified xsi:type="dcterms:W3CDTF">2020-11-30T10:23:13Z</dcterms:modified>
  <cp:revision>14</cp:revision>
  <dc:subject/>
  <dc:title>Аппликация «цыплёнок»</dc:title>
</cp:coreProperties>
</file>