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06A-5E77-4556-8C3F-A275EA76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598-B3F6-4AC0-A158-C4C88756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D2B-3E0C-4C3F-95FE-B34A2573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DB6-F0CE-4AF9-8B9D-97321FEB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FE06-D716-4D8D-8EF0-78A7E58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39D8-1729-4DBE-9D82-841F33F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33A9-3F0A-4194-8E58-C85E3016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27D-4B87-40A1-893A-CE761DB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A8E-44B5-4752-8150-8DAAD03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671-D14F-421B-BD48-FEC8D62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663-834C-4ABE-BB8C-581127CB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59E-8006-4403-9327-37B790F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7EF-E813-4FCA-879B-C9A6A8C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D570-020E-4307-B82A-70ED2AD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1425-007B-49EF-B9DD-F96C126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259F-65D6-4768-B97D-5C15F684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8E9-4F5F-4079-8848-C1146350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DD78-318F-41CE-BB3D-944618DB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281A-DC68-4BA0-AF59-84699C6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739D-72B3-4C76-8B30-676D521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E0BF-2F3E-4ACD-9472-11C184A6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8AFA-4AFA-4766-8C22-29C8258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2C2-DDFD-485F-8B3E-FD41B2CE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C270-4157-40F8-B4F3-A728E7D1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5A7F-9823-4C8D-B3B9-8A426E6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5796-533B-4D66-B6C7-22722DF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9FBD-22E5-48DB-88A5-A911625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C7A5-FFB9-4FEA-BF8C-948C8BA6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061D-CD2B-443C-8FF8-D93A7772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B732-BCE4-4ADA-8276-9F3431E8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CBCE-721F-4BB8-94E8-E1CC0F9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C64D-5246-4E2B-ADC8-E39EA34C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A3AA-10D8-494B-833E-334FC2F3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4E9-4208-4888-A86E-C223C1B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F9B8-31E1-4D51-A89E-E58F5D8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F5D6-EE31-4D21-9E6E-8F77D858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DBFA-CEA7-4C9D-AB09-FE5BDF8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2924-5948-423D-A87A-7DFE8FF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EC3B-AD8A-4D7E-BC90-8BDBCBF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055F-AA24-4AA1-A5A5-1A87E8A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1332-CA5B-453F-82FF-4B1704B5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A19F-A55C-4DCC-9875-7E180149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9C48-1C6C-4724-8C42-2C341154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0919-AE94-42AA-B949-23CB8E36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52D-67FA-475E-BF02-D21C253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033A-EF40-4D4C-A62F-B3591E8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77EE-076E-4197-9351-839E7B1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E774-0419-45A2-8775-A098158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41213-B554-434B-B129-52F8FB7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575D-DF3D-41C1-BF70-F547997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BFFDB-FEA4-43F5-B5FE-F5973DE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41EB-F167-449C-84F9-FE0467F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21E6-F374-4318-9C3A-A7D732B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8DE3-F1C5-41D1-8C82-C3A7B62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F6164-07FF-4306-B2E4-F30CA12F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694-5F0B-45C2-8DDC-1191864A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E62A-8933-4F4E-99AF-93248699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9FC4-1152-4678-AE75-0BBADD71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4AD8-EAB2-4992-A1A8-578C49E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825B2-9354-4F51-AFC4-91191D1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00A2-CC52-4F95-A47D-797EB0B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2EE6-BC59-4BCC-961B-F42D940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ED41-4FEE-41D0-9E87-21EFF95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EE53-8145-4580-85B1-90127E9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5872C-6846-4B65-B0C1-FD32A10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856FB-2382-4312-B94A-351AB92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899-777E-4687-A1D6-53DF81D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C77C-E6F0-4DA6-958D-4C9EC30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FD6C-32DE-4205-9AE8-8617F9A9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DFF4-3972-43C4-975A-5994571B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FF3C8-994A-4535-A87F-AD3F1F37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16EE-66AC-4ED5-8505-E6F7F721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8AFA-338A-4589-A4A0-22F3F2B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F9DB-5C91-4B30-803F-A4807FC6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753B-BAFB-4F73-BDFD-F42EF36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F5D6-F381-4475-A565-D9EF9C0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E024-BC65-426F-ACA5-6085868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79B-3EA3-4B93-9C01-06F39095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841F-3A7C-4D86-B78E-8B216831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72EC-7919-4E83-AAEB-E75334D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512B6-E443-45B6-A5CE-169782E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7A73-2738-4880-9A7F-1A4B84B2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24263-4A7F-4F86-A337-8B95C21C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E57-CDD9-4787-9B72-FEB91AD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D97-698B-44ED-ACE7-1D2777570B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301F-634C-4623-B70D-693F3C9E74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8F3-C9DD-4172-837C-1FB3286A65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A3E9-E3CF-4156-B6FE-9E34B84BAF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52D3-9DC5-4566-9E62-191028EAAF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42A6-6546-479E-8A3C-707463106E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6767-CC7A-4DA1-AC06-691D6A9587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5113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2060"/>
                </a:solidFill>
                <a:latin typeface="Candara"/>
              </a:rPr>
              <a:t>АППЛИКАЦИЯ из фетра «МЕДВЕЖОНОК»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724000" y="5013360"/>
            <a:ext cx="3140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втор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Педагог дополнительного образования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МБОУ ДО ДДиЮ г.Ох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В.В.Корити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5" descr="C:\Users\DD3\Desktop\курсы УЧЕБ\для задания\Новая папка\IMG_20200408_224708.jpg"/>
          <p:cNvPicPr/>
          <p:nvPr/>
        </p:nvPicPr>
        <p:blipFill>
          <a:blip r:embed="rId1"/>
          <a:stretch/>
        </p:blipFill>
        <p:spPr>
          <a:xfrm>
            <a:off x="3276720" y="2344680"/>
            <a:ext cx="246852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866920" y="1626840"/>
            <a:ext cx="3002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льбомный лист зеленый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Фетр коричневы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ожни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Фломастер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ей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1728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Трафарет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Для работы потребуетс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Рисунок 4" descr="C:\Users\DD3\Desktop\курсы УЧЕБ\для задания\Новая папка\IMG_20200408_223244.jpg"/>
          <p:cNvPicPr/>
          <p:nvPr/>
        </p:nvPicPr>
        <p:blipFill>
          <a:blip r:embed="rId1"/>
          <a:stretch/>
        </p:blipFill>
        <p:spPr>
          <a:xfrm>
            <a:off x="468360" y="2060640"/>
            <a:ext cx="511164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Детали шаблон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Объект 3" descr="C:\Users\DD3\Desktop\курсы УЧЕБ\для задания\Новая папка\IMG_20200408_222828.jpg"/>
          <p:cNvPicPr/>
          <p:nvPr/>
        </p:nvPicPr>
        <p:blipFill>
          <a:blip r:embed="rId1"/>
          <a:stretch/>
        </p:blipFill>
        <p:spPr>
          <a:xfrm>
            <a:off x="2700360" y="1628640"/>
            <a:ext cx="41036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ndara"/>
              </a:rPr>
              <a:t>С помощью трафаретов обводим необходимые детали на фетре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Объект 4" descr="C:\Users\DD3\Desktop\курсы УЧЕБ\для задания\Новая папка\IMG_20200408_223612.jpg"/>
          <p:cNvPicPr/>
          <p:nvPr/>
        </p:nvPicPr>
        <p:blipFill>
          <a:blip r:embed="rId1"/>
          <a:stretch/>
        </p:blipFill>
        <p:spPr>
          <a:xfrm>
            <a:off x="826920" y="2523960"/>
            <a:ext cx="7274160" cy="378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Вырезаем  детал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Объект 3" descr="C:\Users\DD3\Desktop\курсы УЧЕБ\для задания\Новая папка\IMG_20200408_223909.jpg"/>
          <p:cNvPicPr/>
          <p:nvPr/>
        </p:nvPicPr>
        <p:blipFill>
          <a:blip r:embed="rId1"/>
          <a:stretch/>
        </p:blipFill>
        <p:spPr>
          <a:xfrm>
            <a:off x="2254320" y="2674800"/>
            <a:ext cx="4643280" cy="345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Наклеиваем детали из фетра с помощью клея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на альбомный лист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4" descr="C:\Users\DD3\Desktop\курсы УЧЕБ\для задания\Новая папка\IMG_20200408_224333.jpg"/>
          <p:cNvPicPr/>
          <p:nvPr/>
        </p:nvPicPr>
        <p:blipFill>
          <a:blip r:embed="rId1"/>
          <a:stretch/>
        </p:blipFill>
        <p:spPr>
          <a:xfrm>
            <a:off x="2411280" y="2276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ndara"/>
              </a:rPr>
              <a:t>Из черного картона вырезаем овалы и приклеиваем мордочку и подушечки лапок, фломастером дорисовываем глаза , нос, уши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C:\Users\DD3\Desktop\курсы УЧЕБ\для задания\Новая папка\IMG_20200408_224708.jpg"/>
          <p:cNvPicPr/>
          <p:nvPr/>
        </p:nvPicPr>
        <p:blipFill>
          <a:blip r:embed="rId1"/>
          <a:stretch/>
        </p:blipFill>
        <p:spPr>
          <a:xfrm>
            <a:off x="2771640" y="2421000"/>
            <a:ext cx="3530880" cy="3747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2:33:51Z</dcterms:created>
  <dc:creator>FoM</dc:creator>
  <dc:description/>
  <dc:language>en-US</dc:language>
  <cp:lastModifiedBy>Андрей</cp:lastModifiedBy>
  <dcterms:modified xsi:type="dcterms:W3CDTF">2020-11-30T10:23:13Z</dcterms:modified>
  <cp:revision>14</cp:revision>
  <dc:subject/>
  <dc:title>Аппликация «цыплёнок»</dc:title>
</cp:coreProperties>
</file>