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3.jpeg" ContentType="image/jpe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11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5.jpeg" ContentType="image/jpeg"/>
  <Override PartName="/ppt/media/image1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AB7-9E0E-4DCC-B0D3-3701B0EF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59B-9836-4477-9783-09656F23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1B6-AA8D-433B-9B15-23E61583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911-9992-4375-A92A-3A04D5CA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A55C-1558-4CA7-B6F0-1979525F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3C62-767A-496E-82E5-8A75CD22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6F10-AEED-48C1-883D-A47D8FDD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ED4B-77AC-47F9-8A37-006B5466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FD9F-7D9F-4B88-A2F7-DFE99EFD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CD6C-44A3-4B49-BA24-B926D07C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7210-D632-479E-AEA3-921D56B4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85E-A96B-4709-99B4-9CADBE2C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D61B-6FBA-4634-8766-69001441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DD9D-C743-4826-9FA6-4D63873F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E567-5150-4E38-9251-0A8A24DD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C4DA-1702-44A6-B9EA-F714EC3C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5A57-B6D1-4D0B-9615-5F73ED19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A2A87-CF88-4028-94CE-BA8E66D4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99EFD-0EA2-44C5-8D5F-17FE40C7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B0251-DF1C-4649-9B36-EA1C774C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43BAA-84B3-4D0C-82B7-EE4F808D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FCA3D-A648-40FE-87E2-E5968110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B0C-6A0E-4365-A4DA-B38254F9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7A33F-B6BB-4781-9FC5-0402BB3B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5678E-76F6-4540-9EB9-846679B5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6B032-CE3B-4A3A-89EE-EDFAB7F9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0A60B-B37C-4519-84BD-3C3E4820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F7239-E9C7-43E0-9B22-C42289C9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D757B-4E9C-4EDB-BCB7-9D12B899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D182A-72C5-484A-A427-FAFFEE75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904AD-E7F7-456E-8357-971D80EA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F741F-4A76-4244-BA32-1F2CA191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BA9F2-43B3-4221-B0B8-F6D1C075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229-FBEC-4C03-96D3-3C5DE583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92C39-12E8-4B68-932B-AC697D8C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13881-DAE9-4385-989F-55BC0A51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22C2B-C151-49DA-AF8E-CBAF2BF7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80A53-626D-4B3B-9147-DF249CA5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72A14-6B6B-4A01-8F1C-D43F732F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7A0AA-53CF-4FB7-BA09-AD9C2E13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77725-54F2-4FE2-91F4-72AA45E9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E584C-9C08-4269-886B-DC5F8317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E71A3-C7C2-479B-86AE-5AB76DB3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A43F-2906-40B6-97D3-3136197D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C79-3982-41B5-8A1C-8E3CA8FF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AFB8-0073-4EA1-9535-1E1626F6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ACEF-9D15-4497-9DD6-56EEEB54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6F9E-2C38-4611-B6E9-FDD12322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6892-F727-40A0-8A61-3F9F8C2FB2A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4E59-8C3B-424F-BEF6-01F93D9857ED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69DC-06E3-4C40-B819-9C0472A52CB5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543C-B1AA-4C70-934B-0DB968D337F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file:///&#1060;&#1077;&#1076;&#1077;&#1088;&#1072;&#1083;&#1100;&#1085;&#1099;&#1081;%20&#1079;&#1072;&#1082;&#1086;&#1085;%20&#1056;&#1086;&#1089;&#1089;&#1080;&#1081;&#1089;&#1082;&#1086;&#1081;%20&#1060;&#1077;&#1076;&#1077;&#1088;&#1072;&#1094;&#1080;&#1080;%20&#1086;&#1090;%2029%20&#1076;&#1077;&#1082;&#1072;&#1073;&#1088;&#1103;%202010%20&#1075;.docx" TargetMode="External"/><Relationship Id="rId3" Type="http://schemas.openxmlformats.org/officeDocument/2006/relationships/hyperlink" Target="file:///&#1060;&#1077;&#1076;&#1077;&#1088;&#1072;&#1083;&#1100;&#1085;&#1099;&#1081;%20&#1079;&#1072;&#1082;&#1086;&#1085;%20&#1056;&#1086;&#1089;&#1089;&#1080;&#1081;&#1089;&#1082;&#1086;&#1081;%20&#1060;&#1077;&#1076;&#1077;&#1088;&#1072;&#1094;&#1080;&#1080;%20&#1086;&#1090;%2029%20&#1076;&#1077;&#1082;&#1072;&#1073;&#1088;&#1103;%202010%20&#1075;.docx" TargetMode="External"/><Relationship Id="rId4" Type="http://schemas.openxmlformats.org/officeDocument/2006/relationships/hyperlink" Target="file:///&#1060;&#1077;&#1076;&#1077;&#1088;&#1072;&#1083;&#1100;&#1085;&#1099;&#1081;%20&#1079;&#1072;&#1082;&#1086;&#1085;%20&#1056;&#1086;&#1089;&#1089;&#1080;&#1081;&#1089;&#1082;&#1086;&#1081;%20&#1060;&#1077;&#1076;&#1077;&#1088;&#1072;&#1094;&#1080;&#1080;%20&#1086;&#1090;%2029%20&#1076;&#1077;&#1082;&#1072;&#1073;&#1088;&#1103;%202010%20&#1075;.docx" TargetMode="External"/><Relationship Id="rId5" Type="http://schemas.openxmlformats.org/officeDocument/2006/relationships/hyperlink" Target="file:///&#1060;&#1077;&#1076;&#1077;&#1088;&#1072;&#1083;&#1100;&#1085;&#1099;&#1081;%20&#1079;&#1072;&#1082;&#1086;&#1085;%20&#1056;&#1086;&#1089;&#1089;&#1080;&#1081;&#1089;&#1082;&#1086;&#1081;%20&#1060;&#1077;&#1076;&#1077;&#1088;&#1072;&#1094;&#1080;&#1080;%20&#1086;&#1090;%2029%20&#1076;&#1077;&#1082;&#1072;&#1073;&#1088;&#1103;%202010%20&#1075;.docx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00000"/>
                </a:solidFill>
                <a:latin typeface="Trebuchet MS"/>
              </a:rPr>
              <a:t>БЕЗОПАСНОСТЬ ДЕТЕЙ  В ИНТЕРНЕТЕ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291960" y="407880"/>
            <a:ext cx="8656920" cy="161604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3" descr=""/>
          <p:cNvPicPr/>
          <p:nvPr/>
        </p:nvPicPr>
        <p:blipFill>
          <a:blip r:embed="rId2"/>
          <a:stretch/>
        </p:blipFill>
        <p:spPr>
          <a:xfrm>
            <a:off x="250920" y="2487600"/>
            <a:ext cx="2736720" cy="4127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7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75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750"/>
                            </p:stCondLst>
                            <p:childTnLst>
                              <p:par>
                                <p:cTn id="2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916000" y="2276640"/>
            <a:ext cx="61196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cc"/>
                </a:solidFill>
                <a:uFillTx/>
                <a:latin typeface="Trebuchet MS"/>
              </a:rPr>
              <a:t>Депрессивные молодежные течен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rebuchet MS"/>
              </a:rPr>
              <a:t>Ребенок может поверить, что 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шрамы</a:t>
            </a:r>
            <a:r>
              <a:rPr b="0" i="1" lang="ru-RU" sz="2800" spc="-1" strike="noStrike">
                <a:solidFill>
                  <a:srgbClr val="ff0000"/>
                </a:solidFill>
                <a:latin typeface="Trebuchet MS"/>
              </a:rPr>
              <a:t> – лучшее украшение, а 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суицид</a:t>
            </a:r>
            <a:r>
              <a:rPr b="0" i="1" lang="ru-RU" sz="2800" spc="-1" strike="noStrike">
                <a:solidFill>
                  <a:srgbClr val="ff0000"/>
                </a:solidFill>
                <a:latin typeface="Trebuchet MS"/>
              </a:rPr>
              <a:t> – всего лишь способ избавления от проблем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2630160" cy="1942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2916000" y="2276640"/>
            <a:ext cx="61196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cc"/>
                </a:solidFill>
                <a:uFillTx/>
                <a:latin typeface="Trebuchet MS"/>
              </a:rPr>
              <a:t>Наркотик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rebuchet MS"/>
              </a:rPr>
              <a:t>Интернет пестрит новостями о “пользе” употребления марихуаны, рецептами и советами изготовления “зелья”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5" descr=""/>
          <p:cNvPicPr/>
          <p:nvPr/>
        </p:nvPicPr>
        <p:blipFill>
          <a:blip r:embed="rId2"/>
          <a:stretch/>
        </p:blipFill>
        <p:spPr>
          <a:xfrm>
            <a:off x="179280" y="2349360"/>
            <a:ext cx="2799000" cy="2068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2916000" y="2276640"/>
            <a:ext cx="61196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00cc"/>
                </a:solidFill>
                <a:uFillTx/>
                <a:latin typeface="Trebuchet MS"/>
              </a:rPr>
              <a:t>Сайты знакомств, социальные сети, блоги и ча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rebuchet MS"/>
              </a:rPr>
              <a:t>К сожалению уже было много случаев, когда педофилы выдавали себя за одного из детей или выдуманных персонажей, чтобы войти к ним в доверие и завести пошлые или открыто сексуальные беседы с ними или даже договориться о личной встреч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" descr=""/>
          <p:cNvPicPr/>
          <p:nvPr/>
        </p:nvPicPr>
        <p:blipFill>
          <a:blip r:embed="rId2"/>
          <a:stretch/>
        </p:blipFill>
        <p:spPr>
          <a:xfrm>
            <a:off x="271440" y="3284640"/>
            <a:ext cx="26305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916000" y="2276640"/>
            <a:ext cx="61196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cc"/>
                </a:solidFill>
                <a:uFillTx/>
                <a:latin typeface="Trebuchet MS"/>
              </a:rPr>
              <a:t>Секты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rebuchet MS"/>
              </a:rPr>
              <a:t>Виртуальный собеседник не схватит за руку, но ему вполне по силам “проникнуть в мысли” и повлиять на взгляды на мир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4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26305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916000" y="2276640"/>
            <a:ext cx="61196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cc"/>
                </a:solidFill>
                <a:uFillTx/>
                <a:latin typeface="Trebuchet MS"/>
              </a:rPr>
              <a:t>Экстремизм, национализм, фашизм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rebuchet MS"/>
              </a:rPr>
              <a:t>Все широкие возможности Интернета используются представителями экстремистских течений для того, чтобы заманить в свои ряды новичков</a:t>
            </a: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1" descr=""/>
          <p:cNvPicPr/>
          <p:nvPr/>
        </p:nvPicPr>
        <p:blipFill>
          <a:blip r:embed="rId2"/>
          <a:stretch/>
        </p:blipFill>
        <p:spPr>
          <a:xfrm>
            <a:off x="177840" y="3357720"/>
            <a:ext cx="2703600" cy="199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024000" y="2276640"/>
            <a:ext cx="61196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cc00cc"/>
                </a:solidFill>
                <a:uFillTx/>
                <a:latin typeface="Trebuchet MS"/>
              </a:rPr>
              <a:t>Интернет-мошенничество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Trebuchet MS"/>
              </a:rPr>
              <a:t>Самым распространенным способом мошенничества в интернете является фишинг, то есть кража личных данных для последующего хищения средств с банковской карты или интернет-кошелька. Также сюда относится мошенничество, связанное с отправкой СМС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http://deita.ru/upload/iblock/397/www.smol_news.ru.jpg"/>
          <p:cNvPicPr/>
          <p:nvPr/>
        </p:nvPicPr>
        <p:blipFill>
          <a:blip r:embed="rId2"/>
          <a:stretch/>
        </p:blipFill>
        <p:spPr>
          <a:xfrm>
            <a:off x="324000" y="2997360"/>
            <a:ext cx="276048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916000" y="2276640"/>
            <a:ext cx="61196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cc"/>
                </a:solidFill>
                <a:uFillTx/>
                <a:latin typeface="Trebuchet MS"/>
              </a:rPr>
              <a:t>Неконтролируемые покупк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http://antivirus.ua/sites/default/files/mon_04S2.jpg"/>
          <p:cNvPicPr/>
          <p:nvPr/>
        </p:nvPicPr>
        <p:blipFill>
          <a:blip r:embed="rId2"/>
          <a:stretch/>
        </p:blipFill>
        <p:spPr>
          <a:xfrm>
            <a:off x="324000" y="3141720"/>
            <a:ext cx="5524200" cy="310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356000" y="2276640"/>
            <a:ext cx="46800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cc"/>
                </a:solidFill>
                <a:uFillTx/>
                <a:latin typeface="Trebuchet MS"/>
              </a:rPr>
              <a:t>Заражение вредоносным П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rebuchet MS"/>
              </a:rPr>
              <a:t>Распространение вирусов через скачанные файлы или ссылк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http://rabotai.in/sovet/index45.jpg"/>
          <p:cNvPicPr/>
          <p:nvPr/>
        </p:nvPicPr>
        <p:blipFill>
          <a:blip r:embed="rId2"/>
          <a:stretch/>
        </p:blipFill>
        <p:spPr>
          <a:xfrm>
            <a:off x="179280" y="2708280"/>
            <a:ext cx="428652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749160" y="291960"/>
            <a:ext cx="7894800" cy="13417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0" y="134136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0000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Навязчивые бесконечные путешествия по </a:t>
            </a:r>
            <a:r>
              <a:rPr b="1" i="1" lang="ru-RU" sz="2200" spc="-1" strike="noStrike">
                <a:solidFill>
                  <a:srgbClr val="00b050"/>
                </a:solidFill>
                <a:latin typeface="Arial"/>
              </a:rPr>
              <a:t>Всемирной паутине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0000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Пристрастие к виртуальному общению и виртуальным знакомствам — </a:t>
            </a:r>
            <a:r>
              <a:rPr b="1" i="1" lang="ru-RU" sz="2200" spc="-1" strike="noStrike">
                <a:solidFill>
                  <a:srgbClr val="00b050"/>
                </a:solidFill>
                <a:latin typeface="Arial"/>
              </a:rPr>
              <a:t>большие объёмы переписки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0000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Избыточность </a:t>
            </a:r>
            <a:r>
              <a:rPr b="1" i="1" lang="ru-RU" sz="2200" spc="-1" strike="noStrike">
                <a:solidFill>
                  <a:srgbClr val="00b050"/>
                </a:solidFill>
                <a:latin typeface="Arial"/>
              </a:rPr>
              <a:t>знакомых и друзей в Сети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00b05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Arial"/>
              </a:rPr>
              <a:t>Игровая зависимость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 — навязчивое увлечение компьютерными играм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00b05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b050"/>
                </a:solidFill>
                <a:latin typeface="Arial"/>
              </a:rPr>
              <a:t>Пристрастие к просмотру фильмов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 через интернет, когда «больной» может провести перед экраном весь день не отрываясь из-за того, что в сети можно посмотреть практически любой фильм или передачу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3"/>
          <p:cNvSpPr/>
          <p:nvPr/>
        </p:nvSpPr>
        <p:spPr>
          <a:xfrm>
            <a:off x="1042920" y="404640"/>
            <a:ext cx="72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rebuchet MS"/>
              </a:rPr>
              <a:t>Очень важно распознать интернет - зависимость детей на ранней стадии и установить пределы на его исполь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http://coolculinary.ru/wp-content/uploads/2011/05/%D0%98%D0%BD%D1%82%D0%B5%D1%80%D0%BD%D0%B5%D1%82-%D0%B7%D0%B0%D0%B2%D0%B8%D1%81%D0%B8%D0%BC%D0%BE%D1%81%D1%82%D1%8C-290x282.jpg"/>
          <p:cNvPicPr/>
          <p:nvPr/>
        </p:nvPicPr>
        <p:blipFill>
          <a:blip r:embed="rId1"/>
          <a:stretch/>
        </p:blipFill>
        <p:spPr>
          <a:xfrm>
            <a:off x="3276720" y="2637000"/>
            <a:ext cx="30956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152280" y="208080"/>
            <a:ext cx="8759880" cy="1412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0" y="1413000"/>
            <a:ext cx="651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2d05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92d050"/>
                </a:solidFill>
                <a:latin typeface="Arial"/>
              </a:rPr>
              <a:t>«О защите детей от информации, причиняющей вред их здоровью и развитию»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станавливает правила медиабезопасности детей при обороте на территории России продукции средств массовой информации, печатной, аудиовизуальной продукции на любых видах носителей, программ для ЭВМ и баз данных, а также информации, размещаемой в информационно-телекоммуникационных сетях и сетях подвижной радиотелефонной связ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2"/>
          <a:stretch/>
        </p:blipFill>
        <p:spPr>
          <a:xfrm>
            <a:off x="6588000" y="1839960"/>
            <a:ext cx="24051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96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234a"/>
                </a:solidFill>
                <a:latin typeface="Trebuchet MS"/>
              </a:rPr>
              <a:t>Признаки Интернет - зависимости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Прямоугольник 5"/>
          <p:cNvSpPr/>
          <p:nvPr/>
        </p:nvSpPr>
        <p:spPr>
          <a:xfrm>
            <a:off x="468360" y="1341360"/>
            <a:ext cx="86756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ебёнок использует Интернет как средство от стрес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ебёнок часто теряет счёт времени, в то время как находится в Интерне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ебёнок жертвует сном за возможность провести больше времени в он-лай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ебёнок больше предпочитает тратить своё время на Интернет, а не на друзей или сем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н или она лжёт членам семьи и друзьям о количестве проведённого времени в се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бёнок становится раздражительным, если ему не разрешают подключиться к Интерне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н или она потерял (а) интерес к тем занятиям, которые считал (а) приятным времяпрепровождением до получения доступа к Интерне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аш ребёнок формирует новые отношения с людьми, встреченными в он-лай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Он или она проверяет свою электронную почту несколько раз в 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Он или она пренебрегают отношениями, достижениями, или образованием из-за Интерн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Ребёнок не соблюдает установленных вами сроков на использование Интерн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Они часто едят перед компьюте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У ребёнка проявляются симптомы ломки, включа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спокойств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угомон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рожащие руки после продолжительного неиспользования Интерн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Ребёнок постоянно думает об Интерне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Они перестают отличать виртуальный мир от реа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6840" y="1557360"/>
            <a:ext cx="8543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ебенку не следует давать частной информации о себе (фамилию, номер телефона, адрес, номер школы) без разрешения родителе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0" y="2500200"/>
            <a:ext cx="2465280" cy="164304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627280" y="2637000"/>
            <a:ext cx="6373800" cy="1373760"/>
          </a:xfrm>
          <a:prstGeom prst="rect">
            <a:avLst/>
          </a:prstGeom>
          <a:gradFill rotWithShape="0">
            <a:gsLst>
              <a:gs pos="0">
                <a:srgbClr val="c0c5e8"/>
              </a:gs>
              <a:gs pos="100000">
                <a:srgbClr val="8c94ce"/>
              </a:gs>
            </a:gsLst>
            <a:lin ang="5400000"/>
          </a:gradFill>
          <a:ln w="9360">
            <a:solidFill>
              <a:srgbClr val="4e67c8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Не разрешайте ребенку предоставлять личную информацию через 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395280" y="4357800"/>
            <a:ext cx="8385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ебенку нужно знать, что нельзя через Интернет давать сведения о своем имени, возрасте, номере телефона, номере школы или домашнем адресе, и т.д. Убедитесь, что у него нет доступа к номеру кредитной карты или банковским данным. Научите ребенка использовать прозвища (ники) при общении через Интернет: анонимность - отличный способ защиты. Не выкладывайте фотографии ребенка на веб-страницах или публичных фору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Заголовок 1" descr=""/>
          <p:cNvPicPr/>
          <p:nvPr/>
        </p:nvPicPr>
        <p:blipFill>
          <a:blip r:embed="rId2"/>
          <a:stretch/>
        </p:blipFill>
        <p:spPr>
          <a:xfrm>
            <a:off x="165240" y="176040"/>
            <a:ext cx="8839080" cy="15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е следует открывать письма электронной почты, файлы или Web-страницы, полученные от людей, которые не знакомы или не внушают довер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214200" y="2786040"/>
            <a:ext cx="2357640" cy="15717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2700360" y="2863800"/>
            <a:ext cx="6335640" cy="1373760"/>
          </a:xfrm>
          <a:prstGeom prst="rect">
            <a:avLst/>
          </a:prstGeom>
          <a:gradFill rotWithShape="0">
            <a:gsLst>
              <a:gs pos="0">
                <a:srgbClr val="c0c5e8"/>
              </a:gs>
              <a:gs pos="100000">
                <a:srgbClr val="8c94ce"/>
              </a:gs>
            </a:gsLst>
            <a:lin ang="5400000"/>
          </a:gradFill>
          <a:ln w="9360">
            <a:solidFill>
              <a:srgbClr val="4e67c8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Оградите ребенка от ненадлежащего веб-содержи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285840" y="4508640"/>
            <a:ext cx="8494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учите его, как следует поступать при столкновении с подозрительным материалом, расскажите, что не нужно нажимать на ссылки в электронных сообщениях от неизвестных источников, открывать различные вложения. Такие ссылки могут вести на нежелательные сайты, или содержать вирусы, которые заразят Ваш компьютер. Удаляйте с Вашего компьютера следы информации, которую нежелательно обнаружить Вашему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Заголовок 1" descr=""/>
          <p:cNvPicPr/>
          <p:nvPr/>
        </p:nvPicPr>
        <p:blipFill>
          <a:blip r:embed="rId2"/>
          <a:stretch/>
        </p:blipFill>
        <p:spPr>
          <a:xfrm>
            <a:off x="165240" y="176040"/>
            <a:ext cx="8839080" cy="156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403280"/>
            <a:ext cx="82296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стреча в реальной жизни со знакомыми по Интернет-общению не является очень хорошей идеей, поскольку люди могут быть разными в электронном общении и при реальной встрече, и, если ребенок желает встретиться с ними, родителям следует пойти на первую встречу вмест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142920" y="3071880"/>
            <a:ext cx="1928880" cy="12859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/>
          <p:cNvSpPr/>
          <p:nvPr/>
        </p:nvSpPr>
        <p:spPr>
          <a:xfrm>
            <a:off x="2428920" y="3143160"/>
            <a:ext cx="6143760" cy="1800360"/>
          </a:xfrm>
          <a:prstGeom prst="rect">
            <a:avLst/>
          </a:prstGeom>
          <a:gradFill rotWithShape="0">
            <a:gsLst>
              <a:gs pos="0">
                <a:srgbClr val="c0c5e8"/>
              </a:gs>
              <a:gs pos="100000">
                <a:srgbClr val="8c94ce"/>
              </a:gs>
            </a:gsLst>
            <a:lin ang="5400000"/>
          </a:gradFill>
          <a:ln w="9360">
            <a:solidFill>
              <a:srgbClr val="4e67c8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Ребенок должен понять, что его виртуальный собеседник может выдавать себя за друг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395280" y="4653000"/>
            <a:ext cx="817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тсутствием возможности видеть и слышать других пользователей легко воспользоваться. И 10-летний друг Вашего ребенка по чату в реальности может оказаться злоумышленником. Поэтому запретите ребенку назначать встречи с виртуальными знаком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Заголовок 1" descr=""/>
          <p:cNvPicPr/>
          <p:nvPr/>
        </p:nvPicPr>
        <p:blipFill>
          <a:blip r:embed="rId2"/>
          <a:stretch/>
        </p:blipFill>
        <p:spPr>
          <a:xfrm>
            <a:off x="165240" y="176040"/>
            <a:ext cx="8839080" cy="15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282600" y="1052640"/>
            <a:ext cx="8424720" cy="62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йте Интернет вместе с детьми. Поощряйте ваших детей делиться   с вами их успехами и неудачами в деле освоения Интерн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Объясните детям, что если в Интернете что-либо беспокоит их, то 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не скрывать этого, а поделиться с вами своим беспокойств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Составьте список правил работы детей в Интернет и помните, чт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твердое «нет», чем неуверенное «да»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ограничения буду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ы, но зато будут действовать всегда и без огово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ъясните ребенку, что при общении в чатах, использовании програ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новенного обмена сообщениями (типа ICQ, Microsoft Messenger и т.д.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и он-лайн игр и других ситуациях, требующ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и, нельзя использовать реальное имя, помогите ваше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 выбрать регистрационное имя, не содержащее никакой лич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ъясните ребенку, что нельзя выдавать свои личные данные, такие 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адрес, номер телефона и любую другую лич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ю, например, номер школы, класс, любимое место прогул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возвращения домой, место работы отца или матери и т.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274680" y="171360"/>
            <a:ext cx="8508960" cy="123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1"/>
          <p:cNvSpPr/>
          <p:nvPr/>
        </p:nvSpPr>
        <p:spPr>
          <a:xfrm>
            <a:off x="309600" y="981000"/>
            <a:ext cx="8655120" cy="50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своему ребенку, что  как и в реальной жизни и в Интернете нет разницы между неправильными и правильными  поступ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е ваших детей уважать собеседников в Интернете. Убедитесь, что они понимают, что правила хорошего тона действуют одинаково в Интернете и в реальной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те им, что никогда не стоит встречаться с друзьями из Интернета. Ведь люди могут оказаться совсем не теми, за кого себя выдаю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, что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ко не все, что можно увидеть в Интернете –      прав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сомнениях, пусть лучше уточнит у в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Компьютер с подключением к Интернету должен находиться в  общ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н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Приучите себя знакомиться с сайтами, которые посещают ваши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Используйте современные программы, которые предоставляют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фильтрации содержимого сайтов, контролировать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посещения и деятельность там (Например, Интернет-Цензор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Заголовок 1" descr=""/>
          <p:cNvPicPr/>
          <p:nvPr/>
        </p:nvPicPr>
        <p:blipFill>
          <a:blip r:embed="rId1"/>
          <a:stretch/>
        </p:blipFill>
        <p:spPr>
          <a:xfrm>
            <a:off x="274680" y="171360"/>
            <a:ext cx="8508960" cy="123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-42840" y="463680"/>
            <a:ext cx="9339120" cy="1236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250920" y="1557000"/>
            <a:ext cx="568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это состояние защищенност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етей, при котором отсутствуе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иск, связанный с причинение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нформацией, в том числе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спространяемой в сети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нтернет, вреда их здоровью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изическому, психическому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уховному и нравственному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звитию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6c7aa"/>
                </a:solidFill>
                <a:uFillTx/>
                <a:latin typeface="Arial"/>
                <a:hlinkClick r:id="rId2"/>
              </a:rPr>
              <a:t>(Федеральный закон от 29.12.2010 №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6c7aa"/>
                </a:solidFill>
                <a:uFillTx/>
                <a:latin typeface="Arial"/>
                <a:hlinkClick r:id="rId3"/>
              </a:rPr>
              <a:t>436-ФЗ "О защите детей о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6c7aa"/>
                </a:solidFill>
                <a:uFillTx/>
                <a:latin typeface="Arial"/>
                <a:hlinkClick r:id="rId4"/>
              </a:rPr>
              <a:t>информации, причиняющей вред их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6c7aa"/>
                </a:solidFill>
                <a:uFillTx/>
                <a:latin typeface="Arial"/>
                <a:hlinkClick r:id="rId5"/>
              </a:rPr>
              <a:t>здоровью и развитию")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Рисунок 3" descr=""/>
          <p:cNvPicPr/>
          <p:nvPr/>
        </p:nvPicPr>
        <p:blipFill>
          <a:blip r:embed="rId6"/>
          <a:stretch/>
        </p:blipFill>
        <p:spPr>
          <a:xfrm>
            <a:off x="5724360" y="1495440"/>
            <a:ext cx="309564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219240" y="128520"/>
            <a:ext cx="8583480" cy="1528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68000" y="1341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•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бщаться с друзьями, семьей, коллегам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•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олучать доступ к информации и развлечениям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•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учиться, встречаться с людьми и узнавать новое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Рисунок 3" descr=""/>
          <p:cNvPicPr/>
          <p:nvPr/>
        </p:nvPicPr>
        <p:blipFill>
          <a:blip r:embed="rId2"/>
          <a:stretch/>
        </p:blipFill>
        <p:spPr>
          <a:xfrm>
            <a:off x="3059280" y="3833640"/>
            <a:ext cx="4216320" cy="2451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75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75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375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75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75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75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050"/>
                            </p:stCondLst>
                            <p:childTnLst>
                              <p:par>
                                <p:cTn id="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75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75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875"/>
                            </p:stCondLst>
                            <p:childTnLst>
                              <p:par>
                                <p:cTn id="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5" descr=""/>
          <p:cNvPicPr/>
          <p:nvPr/>
        </p:nvPicPr>
        <p:blipFill>
          <a:blip r:embed="rId1"/>
          <a:stretch/>
        </p:blipFill>
        <p:spPr>
          <a:xfrm>
            <a:off x="3059280" y="3220920"/>
            <a:ext cx="5257800" cy="3606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94920" y="40464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является прекрасным источником для новых знаний, помогает в учебе, занимает досуг. Но в то же время,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ит в себе много опасностей.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нужно поговорить с детьм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яснить, что могут возникать различные неприятные ситуации и то, как из них лучшим образом выходить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ните, что безопасность ваших детей в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нете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на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0%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зависит от  вас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cover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536400" y="103320"/>
            <a:ext cx="8217000" cy="1231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684000" y="731880"/>
            <a:ext cx="80643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  100 % детей имеют дома компьютер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       В среднем ежедневно дети проводят за ним по 4 часа в ден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       Из видов деятельности, преобладающих в общении с компьютером, дети на первое место поставили – компьютерные игры. 86% из них каждый день играют в компьютерные игры, причем 51% может начать играть, даже не пообеда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       На втором месте – общение в Сети. 80% пользуются Интернетом – из них 100% общаются в социальных сетях, 63% - играют в сетевые онлайн- игр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       Далее дети выбирают прослушивание музыки, рисование, печать документов соответственно 46%, 13, 5 и 1%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        38% -при определении рейтинга использования свободного времени на I место поставили компьютер, исключив при этом занятия спортом, прогулки на воздухе, общение с семьё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7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7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75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23640" y="260280"/>
            <a:ext cx="53276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2767"/>
                </a:solidFill>
                <a:latin typeface="Arial"/>
              </a:rPr>
              <a:t>Любопытная детская природа может завести их на сайты расистского, дискриминационного, сексуального, насильственного содержания или на сайты, содержащие материалы, побуждающие ребенка к действиям, которые могут поставить под угрозу его психологическое или физическое здоровь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Рисунок 3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372276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124000" y="1916280"/>
            <a:ext cx="6840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Даже случайный клик по всплывшему баннеру или переход по ссылке может привести на сайт с опасным содержимым!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5" descr=""/>
          <p:cNvPicPr/>
          <p:nvPr/>
        </p:nvPicPr>
        <p:blipFill>
          <a:blip r:embed="rId2"/>
          <a:stretch/>
        </p:blipFill>
        <p:spPr>
          <a:xfrm>
            <a:off x="900000" y="2462040"/>
            <a:ext cx="1352520" cy="123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916000" y="2276640"/>
            <a:ext cx="61196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cc"/>
                </a:solidFill>
                <a:latin typeface="Trebuchet MS"/>
              </a:rPr>
              <a:t>       </a:t>
            </a:r>
            <a:r>
              <a:rPr b="1" i="1" lang="ru-RU" sz="2800" spc="-1" strike="noStrike" u="sng">
                <a:solidFill>
                  <a:srgbClr val="cc00cc"/>
                </a:solidFill>
                <a:uFillTx/>
                <a:latin typeface="Trebuchet MS"/>
              </a:rPr>
              <a:t>Порнограф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rebuchet MS"/>
              </a:rPr>
              <a:t>Опасна избыточной информацией и грубым, часто извращенным, натурализмом. Мешает развитию естественных эмоциональных привязанностей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4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256392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7:12:02Z</dcterms:created>
  <dc:creator>User</dc:creator>
  <dc:description/>
  <dc:language>en-US</dc:language>
  <cp:lastModifiedBy>Игорь</cp:lastModifiedBy>
  <dcterms:modified xsi:type="dcterms:W3CDTF">2020-11-30T19:32:20Z</dcterms:modified>
  <cp:revision>55</cp:revision>
  <dc:subject/>
  <dc:title>Родительское собрание</dc:title>
</cp:coreProperties>
</file>