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3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68C-D987-4972-974B-BB94456E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49B-B469-40E4-A0A6-9BE99AA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EAF-6453-4181-A99E-54B68E01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3EB-AD08-40FC-B5AE-2A7DB1AD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CADE-EA06-49CB-9FF5-5AC8FED5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D9E-12C1-44EE-8ED0-EBAA653C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3C7F-47AA-4F02-BF34-C07FA52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CEBD-C18A-4954-B27C-F380B614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A55-AD20-462F-853B-C899519D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3AAD-EBE7-4E01-B778-76AEF399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2CA-A8E7-44D9-9A4E-0C8953AE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505-6001-4291-8ECB-CE422AE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C9F1-F8C1-46E6-A726-C298F65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5E5-899F-4782-82F1-FD533D5C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5416-2E7C-4BF0-8EFD-1B125590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D6CC-8181-4ED4-876F-D8676092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948E-D9AA-423D-BCE5-84A4297A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6B6E-5E53-4BC5-B63A-14C5A72C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3366-83A3-45EF-B474-A80D3430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D57E-5951-4D8A-AC72-77B790D4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FCE4-596A-4147-BD22-C21CA2C1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0121-3277-40C2-B261-64F45EBE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9A2-E0AE-46C2-B653-07A96CC7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146B-BD38-4696-9DB0-A4EA4129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5C69-3D39-4C05-8D8C-2843B33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8CBC-5053-424F-A653-5AA7609A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673E-76A7-443B-9C2B-25E8AB1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71C4-CBB9-4891-AB5E-F1428A1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8A8E-BD2C-4B4F-AB68-1A7AE9EA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0B01-2C0D-459C-8D5B-9DF7F16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C2BC-712E-4FE9-AEB7-927EF93A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4A9F-543E-4290-A711-30386EA0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60A6-BD1A-44B8-A62E-BCEAB9F7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D16-AD7F-4FDB-9831-24055A4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6925-B0FD-46C0-A30C-366B8C12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9808-5CA7-4415-986C-E4904D3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0BD1-1297-4EEB-A98C-9B13A340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249F-AAF7-4308-ACB0-B7A0E4A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7434-C7A5-4101-9615-90048E3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00A6-BC2A-432C-8075-4E1B929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A688-3538-452F-B7D7-8101559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3F7F-0462-496D-92EB-D38471C4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2A22-81F1-461B-BA92-9948A1A5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B01-855A-4777-A552-1DDA4069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964-F36B-45A3-A356-BC10324E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BC5-4477-4328-9EC3-F9AA5F7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1FB-1192-424F-8F11-0480FB2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614-9747-4DB7-8A58-B9E6FB3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C22-C427-4145-9B41-A454659D417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44AE-C268-42BB-8C62-80AFA6C9B47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1B96-1E24-4A23-9754-623D04363A3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E2BD-A32E-4E4F-A4BF-25B38303461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3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4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5" Type="http://schemas.openxmlformats.org/officeDocument/2006/relationships/hyperlink" Target="file://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Trebuchet MS"/>
              </a:rPr>
              <a:t>БЕЗОПАСНОСТЬ ДЕТЕЙ  В ИНТЕРНЕТЕ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291960" y="407880"/>
            <a:ext cx="8656920" cy="1616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"/>
          <p:cNvPicPr/>
          <p:nvPr/>
        </p:nvPicPr>
        <p:blipFill>
          <a:blip r:embed="rId2"/>
          <a:stretch/>
        </p:blipFill>
        <p:spPr>
          <a:xfrm>
            <a:off x="250920" y="2487600"/>
            <a:ext cx="27367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75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75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Депрессивные молодежные теч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Ребенок может поверить, что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шрамы</a:t>
            </a: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 – лучшее украшение, а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 – всего лишь способ избавления от пробле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Наркоти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cc"/>
                </a:solidFill>
                <a:uFillTx/>
                <a:latin typeface="Trebuchet MS"/>
              </a:rPr>
              <a:t>Сайты знакомств, социальные сети, блоги и ча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rebuchet MS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" descr=""/>
          <p:cNvPicPr/>
          <p:nvPr/>
        </p:nvPicPr>
        <p:blipFill>
          <a:blip r:embed="rId2"/>
          <a:stretch/>
        </p:blipFill>
        <p:spPr>
          <a:xfrm>
            <a:off x="271440" y="3284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Сект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Экстремизм, национализм, фашиз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024000" y="2276640"/>
            <a:ext cx="6119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c00cc"/>
                </a:solidFill>
                <a:uFillTx/>
                <a:latin typeface="Trebuchet MS"/>
              </a:rPr>
              <a:t>Интернет-мошенничество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rebuchet MS"/>
              </a:rPr>
              <a:t>Самым распространенным способом мошенничества в интернете является фишинг, то есть кража личных данных для последующего хищения средств с банковской карты или интернет-кошелька. Также сюда относится мошенничество, связанное с отправкой СМС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deita.ru/upload/iblock/397/www.smol_news.ru.jpg"/>
          <p:cNvPicPr/>
          <p:nvPr/>
        </p:nvPicPr>
        <p:blipFill>
          <a:blip r:embed="rId2"/>
          <a:stretch/>
        </p:blipFill>
        <p:spPr>
          <a:xfrm>
            <a:off x="324000" y="2997360"/>
            <a:ext cx="276048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Неконтролируемые покуп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antivirus.ua/sites/default/files/mon_04S2.jpg"/>
          <p:cNvPicPr/>
          <p:nvPr/>
        </p:nvPicPr>
        <p:blipFill>
          <a:blip r:embed="rId2"/>
          <a:stretch/>
        </p:blipFill>
        <p:spPr>
          <a:xfrm>
            <a:off x="324000" y="3141720"/>
            <a:ext cx="5524200" cy="310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356000" y="2276640"/>
            <a:ext cx="4680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Заражение вредоносным П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Распространение вирусов через скачанные файлы или ссыл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rabotai.in/sovet/index45.jpg"/>
          <p:cNvPicPr/>
          <p:nvPr/>
        </p:nvPicPr>
        <p:blipFill>
          <a:blip r:embed="rId2"/>
          <a:stretch/>
        </p:blipFill>
        <p:spPr>
          <a:xfrm>
            <a:off x="179280" y="2708280"/>
            <a:ext cx="428652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0" y="1341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00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b05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00b05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1042920" y="40464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rebuchet MS"/>
              </a:rPr>
              <a:t>Очень важно распознать интернет - зависимость детей на ранней стадии и установить пределы на его 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http://coolculinary.ru/wp-content/uploads/2011/05/%D0%98%D0%BD%D1%82%D0%B5%D1%80%D0%BD%D0%B5%D1%82-%D0%B7%D0%B0%D0%B2%D0%B8%D1%81%D0%B8%D0%BC%D0%BE%D1%81%D1%82%D1%8C-290x282.jpg"/>
          <p:cNvPicPr/>
          <p:nvPr/>
        </p:nvPicPr>
        <p:blipFill>
          <a:blip r:embed="rId1"/>
          <a:stretch/>
        </p:blipFill>
        <p:spPr>
          <a:xfrm>
            <a:off x="3276720" y="2637000"/>
            <a:ext cx="3095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96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234a"/>
                </a:solidFill>
                <a:latin typeface="Trebuchet MS"/>
              </a:rPr>
              <a:t>Признаки Интернет - зависимости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468360" y="1341360"/>
            <a:ext cx="8675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бёнок использует Интернет как средство от стре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бёнок часто теряет счёт времени, в то время как находится в Интерн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бёнок жертвует сном за возможность провести больше времени в он-ла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бёнок больше предпочитает тратить своё время на Интернет, а не на друзей или сем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н или она лжёт членам семьи и друзьям о количестве проведённого времени в се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бёнок становится раздражительным, если ему не разрешают подключиться к Интерн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н или она потерял (а) интерес к тем занятиям, которые считал (а) приятным времяпрепровождением до получения доступа к Интерн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аш ребёнок формирует новые отношения с людьми, встреченными в он-ла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н или она проверяет свою электронную почту несколько раз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н или она пренебрегают отношениями, достижениями, или образованием из-за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ебёнок не соблюдает установленных вами сроков на использование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Они часто едят перед компьют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У ребёнка проявляются симптомы ломки, включа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покойств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угомон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ожащие руки после продолжительного неиспользования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ебёнок постоянно думает об Интерн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ни перестают отличать виртуальный мир от ре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627280" y="2637000"/>
            <a:ext cx="637380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700360" y="2863800"/>
            <a:ext cx="633564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Оградите ребенка от ненадлежащего веб-содерж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2428920" y="3143160"/>
            <a:ext cx="6143760" cy="18003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будут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 (Например, Интернет-Цензо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42840" y="463680"/>
            <a:ext cx="9339120" cy="1236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50920" y="1557000"/>
            <a:ext cx="56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2"/>
              </a:rPr>
              <a:t>(Федеральный закон от 29.12.2010 №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3"/>
              </a:rPr>
              <a:t>436-ФЗ "О защите детей о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4"/>
              </a:rPr>
              <a:t>информации, причиняющей вред 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5"/>
              </a:rPr>
              <a:t>здоровью и развитию"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6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9240" y="128520"/>
            <a:ext cx="8583480" cy="152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щаться с друзьями, семьей, коллегам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лучать доступ к информации и развлечения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иться, встречаться с людьми и узнавать новое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2"/>
          <a:stretch/>
        </p:blipFill>
        <p:spPr>
          <a:xfrm>
            <a:off x="3059280" y="3833640"/>
            <a:ext cx="42163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75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375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75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5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75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875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5" descr=""/>
          <p:cNvPicPr/>
          <p:nvPr/>
        </p:nvPicPr>
        <p:blipFill>
          <a:blip r:embed="rId1"/>
          <a:stretch/>
        </p:blipFill>
        <p:spPr>
          <a:xfrm>
            <a:off x="3059280" y="3220920"/>
            <a:ext cx="5257800" cy="3606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536400" y="103320"/>
            <a:ext cx="8217000" cy="1231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684000" y="731880"/>
            <a:ext cx="80643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  100 % детей имеют дома компьюте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В среднем ежедневно дети проводят за ним по 4 часа в ден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Из видов деятельности, преобладающих в общении с компьютером, дети на первое место поставили – компьютерные игры. 86% из них каждый день играют в компьютерные игры, причем 51% может начать играть, даже не пообеда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На втором месте – общение в Сети. 80% пользуются Интернетом – из них 100% общаются в социальных сетях, 63% - играют в сетевые онлайн- игр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Далее дети выбирают прослушивание музыки, рисование, печать документов соответственно 46%, 13, 5 и 1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        38% -при определении рейтинга использования свободного времени на I место поставили компьютер, исключив при этом занятия спортом, прогулки на воздухе, общение с семьё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7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 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Trebuchet MS"/>
              </a:rPr>
              <a:t>       </a:t>
            </a:r>
            <a:r>
              <a:rPr b="1" i="1" lang="ru-RU" sz="2800" spc="-1" strike="noStrike" u="sng">
                <a:solidFill>
                  <a:srgbClr val="cc00cc"/>
                </a:solidFill>
                <a:uFillTx/>
                <a:latin typeface="Trebuchet MS"/>
              </a:rPr>
              <a:t>Порнограф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rebuchet MS"/>
              </a:rPr>
              <a:t>Опасна избыточной информацией и грубым, часто извращенным, натурализмом. Мешает развитию естественных эмоциональных привязанност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256392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7:12:02Z</dcterms:created>
  <dc:creator>User</dc:creator>
  <dc:description/>
  <dc:language>en-US</dc:language>
  <cp:lastModifiedBy>Игорь</cp:lastModifiedBy>
  <dcterms:modified xsi:type="dcterms:W3CDTF">2020-11-30T19:32:20Z</dcterms:modified>
  <cp:revision>55</cp:revision>
  <dc:subject/>
  <dc:title>Родительское собрание</dc:title>
</cp:coreProperties>
</file>