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31.gif" ContentType="image/gif"/>
  <Override PartName="/ppt/media/image22.png" ContentType="image/png"/>
  <Override PartName="/ppt/media/image20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4.jpeg" ContentType="image/jpeg"/>
  <Override PartName="/ppt/media/image13.jpeg" ContentType="image/jpeg"/>
  <Override PartName="/ppt/media/image30.gif" ContentType="image/gif"/>
  <Override PartName="/ppt/media/image23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7D0-2D6D-4FC6-A67F-47CF1CD2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F0E2-74BC-4D99-AD29-0972481D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8689-7C37-4C18-9C94-3D796211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E04B-EAC7-4AD8-86D6-01451E7C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F408-AAC7-4869-85B1-98090E75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F15-B62D-4FD9-ABD9-B256A5E8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0291-7622-4BF9-9139-8BCE17CE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C472-7F02-48B7-B63E-68238D71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A6F-7B02-42E3-87CE-9C69044E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D24B-E557-4213-B2CB-95F70D56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C4F-3210-448F-89B7-23F7C866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0AA-B097-4AFA-B731-9586398F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4431-AA78-413A-B24C-B9EC4563B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olesya-emelyanova.ru/index-zagadki-cifry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" Target="slide3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972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Arial Black"/>
              </a:rPr>
              <a:t>МАТЕМАТИКА</a:t>
            </a:r>
            <a:br>
              <a:rPr sz="6000"/>
            </a:br>
            <a:r>
              <a:rPr b="0" lang="ru-RU" sz="6000" spc="-1" strike="noStrike">
                <a:solidFill>
                  <a:srgbClr val="7030a0"/>
                </a:solidFill>
                <a:latin typeface="Arial Black"/>
              </a:rPr>
              <a:t>1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5200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ДЕЦИ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1500120" y="5357880"/>
            <a:ext cx="5357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7680" y="2743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0200" y="1428480"/>
            <a:ext cx="45720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14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 ?, на 4 кг мен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500040" y="3929040"/>
            <a:ext cx="8286840" cy="436680"/>
          </a:xfrm>
          <a:prstGeom prst="rect">
            <a:avLst/>
          </a:prstGeom>
          <a:solidFill>
            <a:srgbClr val="ffff99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C:\Documents and Settings\Admin\Мои документы\Мои рисунки\математика 1\apples1.jpg"/>
          <p:cNvPicPr/>
          <p:nvPr/>
        </p:nvPicPr>
        <p:blipFill>
          <a:blip r:embed="rId1"/>
          <a:stretch/>
        </p:blipFill>
        <p:spPr>
          <a:xfrm>
            <a:off x="212760" y="2073240"/>
            <a:ext cx="2523960" cy="1785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Documents and Settings\Admin\Мои документы\Мои рисунки\математика 1\shutterstock_30441328.jpg"/>
          <p:cNvPicPr/>
          <p:nvPr/>
        </p:nvPicPr>
        <p:blipFill>
          <a:blip r:embed="rId2"/>
          <a:stretch/>
        </p:blipFill>
        <p:spPr>
          <a:xfrm>
            <a:off x="212760" y="285840"/>
            <a:ext cx="2573280" cy="1585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72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1720" y="1071720"/>
            <a:ext cx="47145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реду купили 10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убботу - столько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999040" y="285840"/>
            <a:ext cx="2352960" cy="19447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428760" y="3286080"/>
            <a:ext cx="8215200" cy="436680"/>
          </a:xfrm>
          <a:prstGeom prst="rect">
            <a:avLst/>
          </a:prstGeom>
          <a:solidFill>
            <a:srgbClr val="ffff99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b8e3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4" descr="искристое солнышко.gif"/>
          <p:cNvPicPr/>
          <p:nvPr/>
        </p:nvPicPr>
        <p:blipFill>
          <a:blip r:embed="rId1"/>
          <a:stretch/>
        </p:blipFill>
        <p:spPr>
          <a:xfrm>
            <a:off x="6429240" y="0"/>
            <a:ext cx="2206800" cy="2214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воздушный поцелуй"/>
          <p:cNvPicPr/>
          <p:nvPr/>
        </p:nvPicPr>
        <p:blipFill>
          <a:blip r:embed="rId2"/>
          <a:stretch/>
        </p:blipFill>
        <p:spPr>
          <a:xfrm>
            <a:off x="500040" y="609480"/>
            <a:ext cx="2500200" cy="12747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хлопает.gif"/>
          <p:cNvPicPr/>
          <p:nvPr/>
        </p:nvPicPr>
        <p:blipFill>
          <a:blip r:embed="rId3"/>
          <a:stretch/>
        </p:blipFill>
        <p:spPr>
          <a:xfrm>
            <a:off x="3214800" y="392904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26m1"/>
          <p:cNvPicPr/>
          <p:nvPr/>
        </p:nvPicPr>
        <p:blipFill>
          <a:blip r:embed="rId4"/>
          <a:stretch/>
        </p:blipFill>
        <p:spPr>
          <a:xfrm>
            <a:off x="6786720" y="3786120"/>
            <a:ext cx="1873080" cy="237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http://www.artgif.ru/MULT/94003.gif"/>
          <p:cNvPicPr/>
          <p:nvPr/>
        </p:nvPicPr>
        <p:blipFill>
          <a:blip r:embed="rId5"/>
          <a:stretch/>
        </p:blipFill>
        <p:spPr>
          <a:xfrm>
            <a:off x="573120" y="3724200"/>
            <a:ext cx="1639800" cy="224316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10" descr=""/>
          <p:cNvPicPr/>
          <p:nvPr/>
        </p:nvPicPr>
        <p:blipFill>
          <a:blip r:embed="rId6"/>
          <a:stretch/>
        </p:blipFill>
        <p:spPr>
          <a:xfrm>
            <a:off x="1212840" y="2359080"/>
            <a:ext cx="685800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пользованные ресурсы:</a:t>
            </a:r>
            <a:br>
              <a:rPr sz="24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56800" y="1600200"/>
            <a:ext cx="782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lesya-emelyanova.ru/index-zagadki-cifry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адки о цифрах, автор – Олеся Емельян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obrieskazki.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краски, сказки, стихи о циф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viki.rdf.ru/item/581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лайды с написанием цифр из презентации Светланы Шевцовой «Учимся писать циф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how.sergi.ru/faq/schet.ht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. Маршак «Весёлый счё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brainmusic.ru/cartoon_film/2/17.MP3 - Чунга-Чан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rinkles.ru/wp-content/uploads/2009/02/banani.jpg - карт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48.radikal.ru/i121/0807/79/184ad40ba05a.png -карт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78588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6"/>
          <p:cNvSpPr/>
          <p:nvPr/>
        </p:nvSpPr>
        <p:spPr>
          <a:xfrm>
            <a:off x="2819520" y="1143000"/>
            <a:ext cx="2666880" cy="304920"/>
          </a:xfrm>
          <a:custGeom>
            <a:avLst/>
            <a:gdLst>
              <a:gd name="textAreaLeft" fmla="*/ 0 w 2666880"/>
              <a:gd name="textAreaRight" fmla="*/ 2667240 w 2666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728" h="264">
                <a:moveTo>
                  <a:pt x="0" y="264"/>
                </a:moveTo>
                <a:cubicBezTo>
                  <a:pt x="40" y="212"/>
                  <a:pt x="80" y="160"/>
                  <a:pt x="144" y="120"/>
                </a:cubicBezTo>
                <a:cubicBezTo>
                  <a:pt x="208" y="80"/>
                  <a:pt x="304" y="32"/>
                  <a:pt x="384" y="24"/>
                </a:cubicBezTo>
                <a:cubicBezTo>
                  <a:pt x="464" y="16"/>
                  <a:pt x="536" y="40"/>
                  <a:pt x="624" y="72"/>
                </a:cubicBezTo>
                <a:cubicBezTo>
                  <a:pt x="712" y="104"/>
                  <a:pt x="832" y="184"/>
                  <a:pt x="912" y="216"/>
                </a:cubicBezTo>
                <a:cubicBezTo>
                  <a:pt x="992" y="248"/>
                  <a:pt x="1040" y="264"/>
                  <a:pt x="1104" y="264"/>
                </a:cubicBezTo>
                <a:cubicBezTo>
                  <a:pt x="1168" y="264"/>
                  <a:pt x="1200" y="256"/>
                  <a:pt x="1296" y="216"/>
                </a:cubicBezTo>
                <a:cubicBezTo>
                  <a:pt x="1392" y="176"/>
                  <a:pt x="1632" y="48"/>
                  <a:pt x="1680" y="24"/>
                </a:cubicBezTo>
                <a:cubicBezTo>
                  <a:pt x="1728" y="0"/>
                  <a:pt x="1592" y="64"/>
                  <a:pt x="1584" y="72"/>
                </a:cubicBezTo>
                <a:cubicBezTo>
                  <a:pt x="1576" y="80"/>
                  <a:pt x="1624" y="72"/>
                  <a:pt x="1632" y="72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 flipH="1">
            <a:off x="3124080" y="1219320"/>
            <a:ext cx="2286000" cy="46479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3581280" y="3733920"/>
            <a:ext cx="12956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3"/>
          <p:cNvSpPr/>
          <p:nvPr/>
        </p:nvSpPr>
        <p:spPr>
          <a:xfrm>
            <a:off x="2743200" y="1371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3429000" y="3657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 rot="7451400">
            <a:off x="1958400" y="9828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3"/>
          <a:stretch/>
        </p:blipFill>
        <p:spPr>
          <a:xfrm>
            <a:off x="56386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4"/>
          <a:stretch/>
        </p:blipFill>
        <p:spPr>
          <a:xfrm>
            <a:off x="7467480" y="1981080"/>
            <a:ext cx="1303560" cy="1447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5"/>
          <a:stretch/>
        </p:blipFill>
        <p:spPr>
          <a:xfrm>
            <a:off x="7543800" y="3352680"/>
            <a:ext cx="1303200" cy="152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6"/>
          <a:stretch/>
        </p:blipFill>
        <p:spPr>
          <a:xfrm>
            <a:off x="5715000" y="3429000"/>
            <a:ext cx="1303200" cy="1447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"/>
          <p:cNvPicPr/>
          <p:nvPr/>
        </p:nvPicPr>
        <p:blipFill>
          <a:blip r:embed="rId7"/>
          <a:stretch/>
        </p:blipFill>
        <p:spPr>
          <a:xfrm>
            <a:off x="5715000" y="1905120"/>
            <a:ext cx="130320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"/>
          <p:cNvPicPr/>
          <p:nvPr/>
        </p:nvPicPr>
        <p:blipFill>
          <a:blip r:embed="rId8"/>
          <a:stretch/>
        </p:blipFill>
        <p:spPr>
          <a:xfrm>
            <a:off x="6553080" y="4800600"/>
            <a:ext cx="130356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Стрелка вправо 16">
            <a:hlinkClick r:id="rId9" action="ppaction://hlinksldjump"/>
          </p:cNvPr>
          <p:cNvSpPr/>
          <p:nvPr/>
        </p:nvSpPr>
        <p:spPr>
          <a:xfrm>
            <a:off x="4286160" y="60721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E:\МАМУЛЯ\ПРЕЗЕНТАЦИИ, ФИЛЬМЫ\СДЕЛАТЬ ПРЕЗЕНТАЦИЮ\АЗБУКА, БУКВЫ, ЦИФРЫ\цифры\post-109226-1245064168.png"/>
          <p:cNvPicPr/>
          <p:nvPr/>
        </p:nvPicPr>
        <p:blipFill>
          <a:blip r:embed="rId10"/>
          <a:stretch/>
        </p:blipFill>
        <p:spPr>
          <a:xfrm>
            <a:off x="7786800" y="5072040"/>
            <a:ext cx="1253880" cy="1539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Минутка каллигра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-2.94172E-006 C 0.02378 -0.00948 0.03316 -0.01896 0.04566 -0.02428 C 0.05816 -0.0296 0.07326 -0.03446 0.08923 -0.03191 C 0.10521 -0.02937 0.12517 -0.01711 0.14132 -0.00948 C 0.15746 -0.00185 0.17361 0.0111 0.18646 0.01319 C 0.1993 0.01527 0.20086 0.01064 0.21875 0.0037 C 0.23663 -0.00323 0.28194 -0.02474 0.2934 -0.02821 C 0.30486 -0.03168 0.29236 -0.02821 0.28784 -0.01688 C 0.28333 -0.00555 0.30781 -0.07262 0.26666 0.03932 C 0.22552 0.15125 0.07882 0.5525 0.04132 0.65472 E">
                                      <p:cBhvr>
                                        <p:cTn id="6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125 0.33812 L 0.23125 0.33812 E">
                                      <p:cBhvr>
                                        <p:cTn id="9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УСТНЫЙ СЧ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71560" y="1285560"/>
            <a:ext cx="22143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4 –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3 +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7 –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 –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6 –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+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matemdoshk09.gif"/>
          <p:cNvPicPr/>
          <p:nvPr/>
        </p:nvPicPr>
        <p:blipFill>
          <a:blip r:embed="rId2"/>
          <a:stretch/>
        </p:blipFill>
        <p:spPr>
          <a:xfrm>
            <a:off x="428760" y="3571920"/>
            <a:ext cx="2000160" cy="167004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3" descr="matemdoshk08.gif"/>
          <p:cNvPicPr/>
          <p:nvPr/>
        </p:nvPicPr>
        <p:blipFill>
          <a:blip r:embed="rId3"/>
          <a:stretch/>
        </p:blipFill>
        <p:spPr>
          <a:xfrm>
            <a:off x="5286240" y="41432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3" descr="matemdoshk08.gif"/>
          <p:cNvPicPr/>
          <p:nvPr/>
        </p:nvPicPr>
        <p:blipFill>
          <a:blip r:embed="rId4"/>
          <a:stretch/>
        </p:blipFill>
        <p:spPr>
          <a:xfrm>
            <a:off x="4572000" y="1214280"/>
            <a:ext cx="1785960" cy="24242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1" descr="img1111.jpg"/>
          <p:cNvPicPr/>
          <p:nvPr/>
        </p:nvPicPr>
        <p:blipFill>
          <a:blip r:embed="rId5"/>
          <a:stretch/>
        </p:blipFill>
        <p:spPr>
          <a:xfrm>
            <a:off x="6143760" y="1643040"/>
            <a:ext cx="2662200" cy="15717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2" descr="img1111.jpg"/>
          <p:cNvPicPr/>
          <p:nvPr/>
        </p:nvPicPr>
        <p:blipFill>
          <a:blip r:embed="rId6"/>
          <a:stretch/>
        </p:blipFill>
        <p:spPr>
          <a:xfrm>
            <a:off x="2000160" y="2643120"/>
            <a:ext cx="2232000" cy="16430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15"/>
          <p:cNvSpPr/>
          <p:nvPr/>
        </p:nvSpPr>
        <p:spPr>
          <a:xfrm flipV="1">
            <a:off x="285840" y="1785600"/>
            <a:ext cx="4357440" cy="500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>
            <a:off x="1071720" y="428616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2"/>
          <p:cNvSpPr/>
          <p:nvPr/>
        </p:nvSpPr>
        <p:spPr>
          <a:xfrm>
            <a:off x="2786040" y="321480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3"/>
          <p:cNvSpPr/>
          <p:nvPr/>
        </p:nvSpPr>
        <p:spPr>
          <a:xfrm>
            <a:off x="7215120" y="242892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4"/>
          <p:cNvSpPr/>
          <p:nvPr/>
        </p:nvSpPr>
        <p:spPr>
          <a:xfrm>
            <a:off x="4857840" y="42735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5"/>
          <p:cNvSpPr/>
          <p:nvPr/>
        </p:nvSpPr>
        <p:spPr>
          <a:xfrm>
            <a:off x="1928880" y="21430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6"/>
          <p:cNvSpPr/>
          <p:nvPr/>
        </p:nvSpPr>
        <p:spPr>
          <a:xfrm>
            <a:off x="6858000" y="3857760"/>
            <a:ext cx="1285920" cy="1285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5600" y="1142640"/>
            <a:ext cx="6708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*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8  5  4  6  1  3  2  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428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3" descr="matemdoshk08.gif"/>
          <p:cNvPicPr/>
          <p:nvPr/>
        </p:nvPicPr>
        <p:blipFill>
          <a:blip r:embed="rId7"/>
          <a:stretch/>
        </p:blipFill>
        <p:spPr>
          <a:xfrm>
            <a:off x="7072200" y="23572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0" descr="img1111.jpg"/>
          <p:cNvPicPr/>
          <p:nvPr/>
        </p:nvPicPr>
        <p:blipFill>
          <a:blip r:embed="rId8"/>
          <a:stretch/>
        </p:blipFill>
        <p:spPr>
          <a:xfrm>
            <a:off x="3000240" y="4214880"/>
            <a:ext cx="2428920" cy="13604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8"/>
          <p:cNvSpPr/>
          <p:nvPr/>
        </p:nvSpPr>
        <p:spPr>
          <a:xfrm flipH="1">
            <a:off x="4714200" y="47862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бъяснение новог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2857320"/>
            <a:ext cx="88930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 единиц – это 1 деся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 см – это 1 десяток сантиметров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дециме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10 см = 1 д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1 дм = 10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945"/>
          <p:cNvPicPr/>
          <p:nvPr/>
        </p:nvPicPr>
        <p:blipFill>
          <a:blip r:embed="rId1"/>
          <a:stretch/>
        </p:blipFill>
        <p:spPr>
          <a:xfrm>
            <a:off x="214200" y="836640"/>
            <a:ext cx="3443400" cy="1655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bf95abd593b448728a06f6c00fd79d60"/>
          <p:cNvPicPr/>
          <p:nvPr/>
        </p:nvPicPr>
        <p:blipFill>
          <a:blip r:embed="rId2"/>
          <a:stretch/>
        </p:blipFill>
        <p:spPr>
          <a:xfrm>
            <a:off x="3635280" y="836640"/>
            <a:ext cx="2476440" cy="1655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lin"/>
          <p:cNvPicPr/>
          <p:nvPr/>
        </p:nvPicPr>
        <p:blipFill>
          <a:blip r:embed="rId3"/>
          <a:stretch/>
        </p:blipFill>
        <p:spPr>
          <a:xfrm>
            <a:off x="6084720" y="836640"/>
            <a:ext cx="2845080" cy="1663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755640" y="5661000"/>
            <a:ext cx="7777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71680" y="214200"/>
            <a:ext cx="82152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+ 1 = 11 = 1 дес.1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см + 1 см = 11 см = 1 дм 1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 + 2 = …  = … дес. …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см + 2 см = …см = … дм …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дес. 7 ед. = 17 = 10 +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дм 7 см = 17 см = 10 см + 7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дес.9 ед. = … = …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дм 9 см = …см = … см + …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ДЕЛАЙ С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99680" y="1642680"/>
            <a:ext cx="86439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 см = … дм … см       1 дм 8 см = …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 см = … дм … см       1 дм 3 см = …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lin"/>
          <p:cNvPicPr/>
          <p:nvPr/>
        </p:nvPicPr>
        <p:blipFill>
          <a:blip r:embed="rId1"/>
          <a:stretch/>
        </p:blipFill>
        <p:spPr>
          <a:xfrm>
            <a:off x="3645000" y="3859200"/>
            <a:ext cx="4286160" cy="2505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Рисунок1"/>
          <p:cNvPicPr/>
          <p:nvPr/>
        </p:nvPicPr>
        <p:blipFill>
          <a:blip r:embed="rId2"/>
          <a:stretch/>
        </p:blipFill>
        <p:spPr>
          <a:xfrm>
            <a:off x="928800" y="3929040"/>
            <a:ext cx="12589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7120" y="1642680"/>
            <a:ext cx="87868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 см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м       1 дм 8 см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 см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м       1 дм 3 см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lin"/>
          <p:cNvPicPr/>
          <p:nvPr/>
        </p:nvPicPr>
        <p:blipFill>
          <a:blip r:embed="rId1"/>
          <a:stretch/>
        </p:blipFill>
        <p:spPr>
          <a:xfrm>
            <a:off x="3645000" y="3859200"/>
            <a:ext cx="4286160" cy="2505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Рисунок1"/>
          <p:cNvPicPr/>
          <p:nvPr/>
        </p:nvPicPr>
        <p:blipFill>
          <a:blip r:embed="rId2"/>
          <a:stretch/>
        </p:blipFill>
        <p:spPr>
          <a:xfrm>
            <a:off x="928800" y="3929040"/>
            <a:ext cx="12589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0" y="999720"/>
            <a:ext cx="42148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1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?,  на 8 см 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39720" y="1785960"/>
            <a:ext cx="1341360" cy="1712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7070760" y="212760"/>
            <a:ext cx="1744560" cy="262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639720" y="212760"/>
            <a:ext cx="1328760" cy="14698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9"/>
          <p:cNvSpPr/>
          <p:nvPr/>
        </p:nvSpPr>
        <p:spPr>
          <a:xfrm>
            <a:off x="142920" y="3643200"/>
            <a:ext cx="8786880" cy="436680"/>
          </a:xfrm>
          <a:prstGeom prst="rect">
            <a:avLst/>
          </a:prstGeom>
          <a:solidFill>
            <a:srgbClr val="ffff99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4:57:21Z</dcterms:created>
  <dc:creator>Admin</dc:creator>
  <dc:description/>
  <dc:language>en-US</dc:language>
  <cp:lastModifiedBy>lenovo</cp:lastModifiedBy>
  <dcterms:modified xsi:type="dcterms:W3CDTF">2020-11-30T19:25:32Z</dcterms:modified>
  <cp:revision>41</cp:revision>
  <dc:subject/>
  <dc:title>Слайд 1</dc:title>
</cp:coreProperties>
</file>