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2.png" ContentType="image/png"/>
  <Override PartName="/ppt/media/image20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4.jpeg" ContentType="image/jpeg"/>
  <Override PartName="/ppt/media/image13.jpeg" ContentType="image/jpeg"/>
  <Override PartName="/ppt/media/image30.gif" ContentType="image/gif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665-87FF-48D0-A2AD-365ED2B5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46F-DFAF-4702-9394-F98F8D38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521-F37E-4615-B892-CA3DDC5A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C4A-D997-48E3-9C11-DE11FE0C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5B4-55AC-40DD-B2D7-709DE2C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63C-6636-40E8-9385-28A552DA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219-3741-4926-8843-9ADCC39C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7CF-65B9-4815-BDE9-EE7AEC0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614-455F-4602-92C3-7D0175D0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E6D-2DD7-487E-B91C-730DADC7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11C-65AA-4F7B-91FB-F2DA29DA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87D-4970-45D0-850E-88868C6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F1A-46BE-4A04-A880-884A94CE1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olesya-emelyanova.ru/index-zagadki-cifry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3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МАТЕМАТИКА</a:t>
            </a:r>
            <a:br>
              <a:rPr sz="6000"/>
            </a:br>
            <a:r>
              <a:rPr b="0" lang="ru-RU" sz="6000" spc="-1" strike="noStrike">
                <a:solidFill>
                  <a:srgbClr val="7030a0"/>
                </a:solidFill>
                <a:latin typeface="Arial Black"/>
              </a:rPr>
              <a:t>1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20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ДЕЦИ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500120" y="5357880"/>
            <a:ext cx="535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0200" y="1428480"/>
            <a:ext cx="4572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4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?, на 4 кг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500040" y="3929040"/>
            <a:ext cx="828684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Admin\Мои документы\Мои рисунки\математика 1\apples1.jpg"/>
          <p:cNvPicPr/>
          <p:nvPr/>
        </p:nvPicPr>
        <p:blipFill>
          <a:blip r:embed="rId1"/>
          <a:stretch/>
        </p:blipFill>
        <p:spPr>
          <a:xfrm>
            <a:off x="212760" y="20732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Admin\Мои документы\Мои рисунки\математика 1\shutterstock_30441328.jpg"/>
          <p:cNvPicPr/>
          <p:nvPr/>
        </p:nvPicPr>
        <p:blipFill>
          <a:blip r:embed="rId2"/>
          <a:stretch/>
        </p:blipFill>
        <p:spPr>
          <a:xfrm>
            <a:off x="212760" y="285840"/>
            <a:ext cx="25732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72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1720" y="1071720"/>
            <a:ext cx="47145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реду купили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убботу - стольк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999040" y="285840"/>
            <a:ext cx="235296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8760" y="3286080"/>
            <a:ext cx="821520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b8e3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искристое солнышко.gif"/>
          <p:cNvPicPr/>
          <p:nvPr/>
        </p:nvPicPr>
        <p:blipFill>
          <a:blip r:embed="rId1"/>
          <a:stretch/>
        </p:blipFill>
        <p:spPr>
          <a:xfrm>
            <a:off x="6429240" y="0"/>
            <a:ext cx="220680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воздушный поцелуй"/>
          <p:cNvPicPr/>
          <p:nvPr/>
        </p:nvPicPr>
        <p:blipFill>
          <a:blip r:embed="rId2"/>
          <a:stretch/>
        </p:blipFill>
        <p:spPr>
          <a:xfrm>
            <a:off x="500040" y="609480"/>
            <a:ext cx="2500200" cy="1274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хлопает.gif"/>
          <p:cNvPicPr/>
          <p:nvPr/>
        </p:nvPicPr>
        <p:blipFill>
          <a:blip r:embed="rId3"/>
          <a:stretch/>
        </p:blipFill>
        <p:spPr>
          <a:xfrm>
            <a:off x="3214800" y="392904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26m1"/>
          <p:cNvPicPr/>
          <p:nvPr/>
        </p:nvPicPr>
        <p:blipFill>
          <a:blip r:embed="rId4"/>
          <a:stretch/>
        </p:blipFill>
        <p:spPr>
          <a:xfrm>
            <a:off x="6786720" y="378612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artgif.ru/MULT/94003.gif"/>
          <p:cNvPicPr/>
          <p:nvPr/>
        </p:nvPicPr>
        <p:blipFill>
          <a:blip r:embed="rId5"/>
          <a:stretch/>
        </p:blipFill>
        <p:spPr>
          <a:xfrm>
            <a:off x="573120" y="3724200"/>
            <a:ext cx="1639800" cy="22431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0" descr=""/>
          <p:cNvPicPr/>
          <p:nvPr/>
        </p:nvPicPr>
        <p:blipFill>
          <a:blip r:embed="rId6"/>
          <a:stretch/>
        </p:blipFill>
        <p:spPr>
          <a:xfrm>
            <a:off x="1212840" y="2359080"/>
            <a:ext cx="685800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esya-emelyanova.ru/index-zagadki-cifry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ки о цифрах, автор – Олеся Емелья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brieskazki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краски, сказки, стихи о циф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viki.rdf.ru/item/581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лайды с написанием цифр из презентации Светланы Шевцовой «Учимся писать циф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ow.sergi.ru/faq/schet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. Маршак «Весёлый счё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rainmusic.ru/cartoon_film/2/17.MP3 - Чунга-Чан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rinkles.ru/wp-content/uploads/2009/02/banani.jpg - 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48.radikal.ru/i121/0807/79/184ad40ba05a.png -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8588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2819520" y="1143000"/>
            <a:ext cx="2666880" cy="30492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4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6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8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16">
            <a:hlinkClick r:id="rId9" action="ppaction://hlinksldjump"/>
          </p:cNvPr>
          <p:cNvSpPr/>
          <p:nvPr/>
        </p:nvSpPr>
        <p:spPr>
          <a:xfrm>
            <a:off x="4286160" y="60721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МАМУЛЯ\ПРЕЗЕНТАЦИИ, ФИЛЬМЫ\СДЕЛАТЬ ПРЕЗЕНТАЦИЮ\АЗБУКА, БУКВЫ, ЦИФРЫ\цифры\post-109226-1245064168.png"/>
          <p:cNvPicPr/>
          <p:nvPr/>
        </p:nvPicPr>
        <p:blipFill>
          <a:blip r:embed="rId10"/>
          <a:stretch/>
        </p:blipFill>
        <p:spPr>
          <a:xfrm>
            <a:off x="7786800" y="5072040"/>
            <a:ext cx="1253880" cy="153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инутка калли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2214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 –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–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–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matemdoshk09.gif"/>
          <p:cNvPicPr/>
          <p:nvPr/>
        </p:nvPicPr>
        <p:blipFill>
          <a:blip r:embed="rId2"/>
          <a:stretch/>
        </p:blipFill>
        <p:spPr>
          <a:xfrm>
            <a:off x="428760" y="3571920"/>
            <a:ext cx="2000160" cy="1670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matemdoshk08.gif"/>
          <p:cNvPicPr/>
          <p:nvPr/>
        </p:nvPicPr>
        <p:blipFill>
          <a:blip r:embed="rId3"/>
          <a:stretch/>
        </p:blipFill>
        <p:spPr>
          <a:xfrm>
            <a:off x="5286240" y="4143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matemdoshk08.gif"/>
          <p:cNvPicPr/>
          <p:nvPr/>
        </p:nvPicPr>
        <p:blipFill>
          <a:blip r:embed="rId4"/>
          <a:stretch/>
        </p:blipFill>
        <p:spPr>
          <a:xfrm>
            <a:off x="4572000" y="1214280"/>
            <a:ext cx="1785960" cy="2424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img1111.jpg"/>
          <p:cNvPicPr/>
          <p:nvPr/>
        </p:nvPicPr>
        <p:blipFill>
          <a:blip r:embed="rId5"/>
          <a:stretch/>
        </p:blipFill>
        <p:spPr>
          <a:xfrm>
            <a:off x="6143760" y="1643040"/>
            <a:ext cx="26622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img1111.jpg"/>
          <p:cNvPicPr/>
          <p:nvPr/>
        </p:nvPicPr>
        <p:blipFill>
          <a:blip r:embed="rId6"/>
          <a:stretch/>
        </p:blipFill>
        <p:spPr>
          <a:xfrm>
            <a:off x="2000160" y="2643120"/>
            <a:ext cx="2232000" cy="1643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5"/>
          <p:cNvSpPr/>
          <p:nvPr/>
        </p:nvSpPr>
        <p:spPr>
          <a:xfrm flipV="1">
            <a:off x="285840" y="1785600"/>
            <a:ext cx="4357440" cy="50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1071720" y="42861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2786040" y="3214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7215120" y="24289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4857840" y="42735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1928880" y="2143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6"/>
          <p:cNvSpPr/>
          <p:nvPr/>
        </p:nvSpPr>
        <p:spPr>
          <a:xfrm>
            <a:off x="6858000" y="3857760"/>
            <a:ext cx="12859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5600" y="1142640"/>
            <a:ext cx="6708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*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  5  4  6  1  3  2 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matemdoshk08.gif"/>
          <p:cNvPicPr/>
          <p:nvPr/>
        </p:nvPicPr>
        <p:blipFill>
          <a:blip r:embed="rId7"/>
          <a:stretch/>
        </p:blipFill>
        <p:spPr>
          <a:xfrm>
            <a:off x="707220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img1111.jpg"/>
          <p:cNvPicPr/>
          <p:nvPr/>
        </p:nvPicPr>
        <p:blipFill>
          <a:blip r:embed="rId8"/>
          <a:stretch/>
        </p:blipFill>
        <p:spPr>
          <a:xfrm>
            <a:off x="3000240" y="4214880"/>
            <a:ext cx="2428920" cy="1360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8"/>
          <p:cNvSpPr/>
          <p:nvPr/>
        </p:nvSpPr>
        <p:spPr>
          <a:xfrm flipH="1">
            <a:off x="4714200" y="47862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яснение нов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285732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единиц – это 1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см – это 1 десяток сантиметров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см = 1 д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 дм = 1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945"/>
          <p:cNvPicPr/>
          <p:nvPr/>
        </p:nvPicPr>
        <p:blipFill>
          <a:blip r:embed="rId1"/>
          <a:stretch/>
        </p:blipFill>
        <p:spPr>
          <a:xfrm>
            <a:off x="214200" y="836640"/>
            <a:ext cx="344340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bf95abd593b448728a06f6c00fd79d60"/>
          <p:cNvPicPr/>
          <p:nvPr/>
        </p:nvPicPr>
        <p:blipFill>
          <a:blip r:embed="rId2"/>
          <a:stretch/>
        </p:blipFill>
        <p:spPr>
          <a:xfrm>
            <a:off x="3635280" y="836640"/>
            <a:ext cx="2476440" cy="16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lin"/>
          <p:cNvPicPr/>
          <p:nvPr/>
        </p:nvPicPr>
        <p:blipFill>
          <a:blip r:embed="rId3"/>
          <a:stretch/>
        </p:blipFill>
        <p:spPr>
          <a:xfrm>
            <a:off x="6084720" y="836640"/>
            <a:ext cx="2845080" cy="1663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55640" y="5661000"/>
            <a:ext cx="777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71680" y="214200"/>
            <a:ext cx="82152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1 = 11 = 1 дес.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1 см = 11 см = 1 дм 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 + 2 = …  = … дес. …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2 см = …см = … дм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дес. 7 ед. = 17 = 10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7 см = 17 см = 10 см +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ес.9 ед. = … = …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9 см = …см = … см +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ДЕЛАЙ С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680" y="1642680"/>
            <a:ext cx="8643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… дм … см       1 дм 8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… дм … см       1 дм 3 см =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642680"/>
            <a:ext cx="87868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8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       1 дм 3 см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n"/>
          <p:cNvPicPr/>
          <p:nvPr/>
        </p:nvPicPr>
        <p:blipFill>
          <a:blip r:embed="rId1"/>
          <a:stretch/>
        </p:blipFill>
        <p:spPr>
          <a:xfrm>
            <a:off x="3645000" y="3859200"/>
            <a:ext cx="4286160" cy="250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Рисунок1"/>
          <p:cNvPicPr/>
          <p:nvPr/>
        </p:nvPicPr>
        <p:blipFill>
          <a:blip r:embed="rId2"/>
          <a:stretch/>
        </p:blipFill>
        <p:spPr>
          <a:xfrm>
            <a:off x="928800" y="3929040"/>
            <a:ext cx="125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999720"/>
            <a:ext cx="4214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?,  на 8 см 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39720" y="1785960"/>
            <a:ext cx="134136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7070760" y="212760"/>
            <a:ext cx="1744560" cy="26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639720" y="212760"/>
            <a:ext cx="1328760" cy="14698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142920" y="3643200"/>
            <a:ext cx="8786880" cy="4366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lenovo</cp:lastModifiedBy>
  <dcterms:modified xsi:type="dcterms:W3CDTF">2020-11-30T19:25:32Z</dcterms:modified>
  <cp:revision>41</cp:revision>
  <dc:subject/>
  <dc:title>Слайд 1</dc:title>
</cp:coreProperties>
</file>