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31.gif" ContentType="image/gif"/>
  <Override PartName="/ppt/media/image22.png" ContentType="image/png"/>
  <Override PartName="/ppt/media/image20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14.jpeg" ContentType="image/jpeg"/>
  <Override PartName="/ppt/media/image13.jpeg" ContentType="image/jpeg"/>
  <Override PartName="/ppt/media/image30.gif" ContentType="image/gif"/>
  <Override PartName="/ppt/media/image23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1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1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A9AD-A83F-44BE-A8E9-6140AA4CF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C1F7-5366-49FF-969A-C56521ED9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D347-1475-4D19-8797-6A681033D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0F28-6CC0-4042-9046-8F4777305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ECFD-C52F-4F95-AAEF-E9F24DC25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9A45-6A80-4AC6-BFFD-17B19BE06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FF40-3213-4C1C-B53E-5AAC11835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14B1-8BE5-4D32-AAC6-B873B82CA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F14B-D887-4C13-A8D2-94379D093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0931-3B2C-4E47-B31A-605A7CFE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8367-E825-4934-AED0-5E4CDE70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08B1-7257-4735-8CEB-57DF65F7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CD628-B82F-4789-BCD2-7339ED5967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gif"/><Relationship Id="rId4" Type="http://schemas.openxmlformats.org/officeDocument/2006/relationships/image" Target="../media/image31.gif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hyperlink" Target="http://olesya-emelyanova.ru/index-zagadki-cifry.html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" Target="slide3.xml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pn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9720"/>
            <a:ext cx="7772400" cy="26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7030a0"/>
                </a:solidFill>
                <a:latin typeface="Arial Black"/>
              </a:rPr>
              <a:t>МАТЕМАТИКА</a:t>
            </a:r>
            <a:br>
              <a:rPr sz="6000"/>
            </a:br>
            <a:r>
              <a:rPr b="0" lang="ru-RU" sz="6000" spc="-1" strike="noStrike">
                <a:solidFill>
                  <a:srgbClr val="7030a0"/>
                </a:solidFill>
                <a:latin typeface="Arial Black"/>
              </a:rPr>
              <a:t>1 клас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52005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Arial Black"/>
              </a:rPr>
              <a:t>ДЕЦИМЕТ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1500120" y="5357880"/>
            <a:ext cx="5357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bfc5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57680" y="274320"/>
            <a:ext cx="5829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500200" y="1428480"/>
            <a:ext cx="457200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14 к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  ?, на 4 кг мень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6"/>
          <p:cNvSpPr/>
          <p:nvPr/>
        </p:nvSpPr>
        <p:spPr>
          <a:xfrm>
            <a:off x="500040" y="3929040"/>
            <a:ext cx="8286840" cy="436680"/>
          </a:xfrm>
          <a:prstGeom prst="rect">
            <a:avLst/>
          </a:prstGeom>
          <a:solidFill>
            <a:srgbClr val="ffff99"/>
          </a:soli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C:\Documents and Settings\Admin\Мои документы\Мои рисунки\математика 1\apples1.jpg"/>
          <p:cNvPicPr/>
          <p:nvPr/>
        </p:nvPicPr>
        <p:blipFill>
          <a:blip r:embed="rId1"/>
          <a:stretch/>
        </p:blipFill>
        <p:spPr>
          <a:xfrm>
            <a:off x="212760" y="2073240"/>
            <a:ext cx="2523960" cy="17859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C:\Documents and Settings\Admin\Мои документы\Мои рисунки\математика 1\shutterstock_30441328.jpg"/>
          <p:cNvPicPr/>
          <p:nvPr/>
        </p:nvPicPr>
        <p:blipFill>
          <a:blip r:embed="rId2"/>
          <a:stretch/>
        </p:blipFill>
        <p:spPr>
          <a:xfrm>
            <a:off x="212760" y="285840"/>
            <a:ext cx="2573280" cy="15858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bfc5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72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71720" y="1071720"/>
            <a:ext cx="471456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реду купили 10 к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убботу - столько 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все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5999040" y="285840"/>
            <a:ext cx="2352960" cy="194472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6"/>
          <p:cNvSpPr/>
          <p:nvPr/>
        </p:nvSpPr>
        <p:spPr>
          <a:xfrm>
            <a:off x="428760" y="3286080"/>
            <a:ext cx="8215200" cy="436680"/>
          </a:xfrm>
          <a:prstGeom prst="rect">
            <a:avLst/>
          </a:prstGeom>
          <a:solidFill>
            <a:srgbClr val="ffff99"/>
          </a:soli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c1"/>
            </a:gs>
            <a:gs pos="100000">
              <a:srgbClr val="b8e3e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4" descr="искристое солнышко.gif"/>
          <p:cNvPicPr/>
          <p:nvPr/>
        </p:nvPicPr>
        <p:blipFill>
          <a:blip r:embed="rId1"/>
          <a:stretch/>
        </p:blipFill>
        <p:spPr>
          <a:xfrm>
            <a:off x="6429240" y="0"/>
            <a:ext cx="2206800" cy="2214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воздушный поцелуй"/>
          <p:cNvPicPr/>
          <p:nvPr/>
        </p:nvPicPr>
        <p:blipFill>
          <a:blip r:embed="rId2"/>
          <a:stretch/>
        </p:blipFill>
        <p:spPr>
          <a:xfrm>
            <a:off x="500040" y="609480"/>
            <a:ext cx="2500200" cy="127476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6" descr="хлопает.gif"/>
          <p:cNvPicPr/>
          <p:nvPr/>
        </p:nvPicPr>
        <p:blipFill>
          <a:blip r:embed="rId3"/>
          <a:stretch/>
        </p:blipFill>
        <p:spPr>
          <a:xfrm>
            <a:off x="3214800" y="392904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26m1"/>
          <p:cNvPicPr/>
          <p:nvPr/>
        </p:nvPicPr>
        <p:blipFill>
          <a:blip r:embed="rId4"/>
          <a:stretch/>
        </p:blipFill>
        <p:spPr>
          <a:xfrm>
            <a:off x="6786720" y="3786120"/>
            <a:ext cx="1873080" cy="2376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http://www.artgif.ru/MULT/94003.gif"/>
          <p:cNvPicPr/>
          <p:nvPr/>
        </p:nvPicPr>
        <p:blipFill>
          <a:blip r:embed="rId5"/>
          <a:stretch/>
        </p:blipFill>
        <p:spPr>
          <a:xfrm>
            <a:off x="573120" y="3724200"/>
            <a:ext cx="1639800" cy="2243160"/>
          </a:xfrm>
          <a:prstGeom prst="rect">
            <a:avLst/>
          </a:prstGeom>
          <a:ln w="0">
            <a:noFill/>
          </a:ln>
        </p:spPr>
      </p:pic>
      <p:pic>
        <p:nvPicPr>
          <p:cNvPr id="115" name="Прямоугольник 10" descr=""/>
          <p:cNvPicPr/>
          <p:nvPr/>
        </p:nvPicPr>
        <p:blipFill>
          <a:blip r:embed="rId6"/>
          <a:stretch/>
        </p:blipFill>
        <p:spPr>
          <a:xfrm>
            <a:off x="1212840" y="2359080"/>
            <a:ext cx="6858000" cy="12319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спользованные ресурсы:</a:t>
            </a:r>
            <a:br>
              <a:rPr sz="2400"/>
            </a:b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56800" y="1600200"/>
            <a:ext cx="782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olesya-emelyanova.ru/index-zagadki-cifry.htm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гадки о цифрах, автор – Олеся Емельян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dobrieskazki.ru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раскраски, сказки, стихи о цифр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viki.rdf.ru/item/581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слайды с написанием цифр из презентации Светланы Шевцовой «Учимся писать цифр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how.sergi.ru/faq/schet.htm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С. Маршак «Весёлый счёт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brainmusic.ru/cartoon_film/2/17.MP3 - Чунга-Чанг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rinkles.ru/wp-content/uploads/2009/02/banani.jpg - карти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s48.radikal.ru/i121/0807/79/184ad40ba05a.png -карти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bfc5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785880" y="1143000"/>
            <a:ext cx="472428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6"/>
          <p:cNvSpPr/>
          <p:nvPr/>
        </p:nvSpPr>
        <p:spPr>
          <a:xfrm>
            <a:off x="2819520" y="1143000"/>
            <a:ext cx="2666880" cy="304920"/>
          </a:xfrm>
          <a:custGeom>
            <a:avLst/>
            <a:gdLst>
              <a:gd name="textAreaLeft" fmla="*/ 0 w 2666880"/>
              <a:gd name="textAreaRight" fmla="*/ 2667240 w 26668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728" h="264">
                <a:moveTo>
                  <a:pt x="0" y="264"/>
                </a:moveTo>
                <a:cubicBezTo>
                  <a:pt x="40" y="212"/>
                  <a:pt x="80" y="160"/>
                  <a:pt x="144" y="120"/>
                </a:cubicBezTo>
                <a:cubicBezTo>
                  <a:pt x="208" y="80"/>
                  <a:pt x="304" y="32"/>
                  <a:pt x="384" y="24"/>
                </a:cubicBezTo>
                <a:cubicBezTo>
                  <a:pt x="464" y="16"/>
                  <a:pt x="536" y="40"/>
                  <a:pt x="624" y="72"/>
                </a:cubicBezTo>
                <a:cubicBezTo>
                  <a:pt x="712" y="104"/>
                  <a:pt x="832" y="184"/>
                  <a:pt x="912" y="216"/>
                </a:cubicBezTo>
                <a:cubicBezTo>
                  <a:pt x="992" y="248"/>
                  <a:pt x="1040" y="264"/>
                  <a:pt x="1104" y="264"/>
                </a:cubicBezTo>
                <a:cubicBezTo>
                  <a:pt x="1168" y="264"/>
                  <a:pt x="1200" y="256"/>
                  <a:pt x="1296" y="216"/>
                </a:cubicBezTo>
                <a:cubicBezTo>
                  <a:pt x="1392" y="176"/>
                  <a:pt x="1632" y="48"/>
                  <a:pt x="1680" y="24"/>
                </a:cubicBezTo>
                <a:cubicBezTo>
                  <a:pt x="1728" y="0"/>
                  <a:pt x="1592" y="64"/>
                  <a:pt x="1584" y="72"/>
                </a:cubicBezTo>
                <a:cubicBezTo>
                  <a:pt x="1576" y="80"/>
                  <a:pt x="1624" y="72"/>
                  <a:pt x="1632" y="72"/>
                </a:cubicBezTo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7"/>
          <p:cNvSpPr/>
          <p:nvPr/>
        </p:nvSpPr>
        <p:spPr>
          <a:xfrm flipH="1">
            <a:off x="3124080" y="1219320"/>
            <a:ext cx="2286000" cy="46479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8"/>
          <p:cNvSpPr/>
          <p:nvPr/>
        </p:nvSpPr>
        <p:spPr>
          <a:xfrm>
            <a:off x="3581280" y="3733920"/>
            <a:ext cx="129564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3"/>
          <p:cNvSpPr/>
          <p:nvPr/>
        </p:nvSpPr>
        <p:spPr>
          <a:xfrm>
            <a:off x="2743200" y="137160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5"/>
          <p:cNvSpPr/>
          <p:nvPr/>
        </p:nvSpPr>
        <p:spPr>
          <a:xfrm>
            <a:off x="3429000" y="365760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 rot="7451400">
            <a:off x="1958400" y="98280"/>
            <a:ext cx="387360" cy="1714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2"/>
          <a:stretch/>
        </p:blipFill>
        <p:spPr>
          <a:xfrm>
            <a:off x="7467480" y="228600"/>
            <a:ext cx="1303560" cy="1676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"/>
          <p:cNvPicPr/>
          <p:nvPr/>
        </p:nvPicPr>
        <p:blipFill>
          <a:blip r:embed="rId3"/>
          <a:stretch/>
        </p:blipFill>
        <p:spPr>
          <a:xfrm>
            <a:off x="5638680" y="228600"/>
            <a:ext cx="1303560" cy="1676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"/>
          <p:cNvPicPr/>
          <p:nvPr/>
        </p:nvPicPr>
        <p:blipFill>
          <a:blip r:embed="rId4"/>
          <a:stretch/>
        </p:blipFill>
        <p:spPr>
          <a:xfrm>
            <a:off x="7467480" y="1981080"/>
            <a:ext cx="1303560" cy="1447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"/>
          <p:cNvPicPr/>
          <p:nvPr/>
        </p:nvPicPr>
        <p:blipFill>
          <a:blip r:embed="rId5"/>
          <a:stretch/>
        </p:blipFill>
        <p:spPr>
          <a:xfrm>
            <a:off x="7543800" y="3352680"/>
            <a:ext cx="1303200" cy="1524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"/>
          <p:cNvPicPr/>
          <p:nvPr/>
        </p:nvPicPr>
        <p:blipFill>
          <a:blip r:embed="rId6"/>
          <a:stretch/>
        </p:blipFill>
        <p:spPr>
          <a:xfrm>
            <a:off x="5715000" y="3429000"/>
            <a:ext cx="1303200" cy="1447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" descr=""/>
          <p:cNvPicPr/>
          <p:nvPr/>
        </p:nvPicPr>
        <p:blipFill>
          <a:blip r:embed="rId7"/>
          <a:stretch/>
        </p:blipFill>
        <p:spPr>
          <a:xfrm>
            <a:off x="5715000" y="1905120"/>
            <a:ext cx="1303200" cy="1447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"/>
          <p:cNvPicPr/>
          <p:nvPr/>
        </p:nvPicPr>
        <p:blipFill>
          <a:blip r:embed="rId8"/>
          <a:stretch/>
        </p:blipFill>
        <p:spPr>
          <a:xfrm>
            <a:off x="6553080" y="4800600"/>
            <a:ext cx="1303560" cy="1523880"/>
          </a:xfrm>
          <a:prstGeom prst="rect">
            <a:avLst/>
          </a:prstGeom>
          <a:ln w="0">
            <a:noFill/>
          </a:ln>
        </p:spPr>
      </p:pic>
      <p:sp>
        <p:nvSpPr>
          <p:cNvPr id="58" name="Стрелка вправо 16">
            <a:hlinkClick r:id="rId9" action="ppaction://hlinksldjump"/>
          </p:cNvPr>
          <p:cNvSpPr/>
          <p:nvPr/>
        </p:nvSpPr>
        <p:spPr>
          <a:xfrm>
            <a:off x="4286160" y="6072120"/>
            <a:ext cx="978120" cy="4842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E:\МАМУЛЯ\ПРЕЗЕНТАЦИИ, ФИЛЬМЫ\СДЕЛАТЬ ПРЕЗЕНТАЦИЮ\АЗБУКА, БУКВЫ, ЦИФРЫ\цифры\post-109226-1245064168.png"/>
          <p:cNvPicPr/>
          <p:nvPr/>
        </p:nvPicPr>
        <p:blipFill>
          <a:blip r:embed="rId10"/>
          <a:stretch/>
        </p:blipFill>
        <p:spPr>
          <a:xfrm>
            <a:off x="7786800" y="5072040"/>
            <a:ext cx="1253880" cy="15397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22268"/>
                </a:solidFill>
                <a:latin typeface="Arial"/>
              </a:rPr>
              <a:t>Минутка каллиграф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58 -2.94172E-006 C 0.02378 -0.00948 0.03316 -0.01896 0.04566 -0.02428 C 0.05816 -0.0296 0.07326 -0.03446 0.08923 -0.03191 C 0.10521 -0.02937 0.12517 -0.01711 0.14132 -0.00948 C 0.15746 -0.00185 0.17361 0.0111 0.18646 0.01319 C 0.1993 0.01527 0.20086 0.01064 0.21875 0.0037 C 0.23663 -0.00323 0.28194 -0.02474 0.2934 -0.02821 C 0.30486 -0.03168 0.29236 -0.02821 0.28784 -0.01688 C 0.28333 -0.00555 0.30781 -0.07262 0.26666 0.03932 C 0.22552 0.15125 0.07882 0.5525 0.04132 0.65472 E">
                                      <p:cBhvr>
                                        <p:cTn id="6" dur="5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8125 0.33812 L 0.23125 0.33812 E">
                                      <p:cBhvr>
                                        <p:cTn id="9" dur="5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УСТНЫЙ СЧЁ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571560" y="1285560"/>
            <a:ext cx="22143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4 –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3 +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7 –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0 +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0 –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6 –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7+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4" descr="matemdoshk09.gif"/>
          <p:cNvPicPr/>
          <p:nvPr/>
        </p:nvPicPr>
        <p:blipFill>
          <a:blip r:embed="rId2"/>
          <a:stretch/>
        </p:blipFill>
        <p:spPr>
          <a:xfrm>
            <a:off x="428760" y="3571920"/>
            <a:ext cx="2000160" cy="1670040"/>
          </a:xfrm>
          <a:prstGeom prst="rect">
            <a:avLst/>
          </a:prstGeom>
          <a:ln w="0">
            <a:noFill/>
          </a:ln>
        </p:spPr>
      </p:pic>
      <p:pic>
        <p:nvPicPr>
          <p:cNvPr id="64" name="Содержимое 3" descr="matemdoshk08.gif"/>
          <p:cNvPicPr/>
          <p:nvPr/>
        </p:nvPicPr>
        <p:blipFill>
          <a:blip r:embed="rId3"/>
          <a:stretch/>
        </p:blipFill>
        <p:spPr>
          <a:xfrm>
            <a:off x="5286240" y="4143240"/>
            <a:ext cx="1928880" cy="2428920"/>
          </a:xfrm>
          <a:prstGeom prst="rect">
            <a:avLst/>
          </a:prstGeom>
          <a:ln w="0">
            <a:noFill/>
          </a:ln>
        </p:spPr>
      </p:pic>
      <p:pic>
        <p:nvPicPr>
          <p:cNvPr id="65" name="Содержимое 3" descr="matemdoshk08.gif"/>
          <p:cNvPicPr/>
          <p:nvPr/>
        </p:nvPicPr>
        <p:blipFill>
          <a:blip r:embed="rId4"/>
          <a:stretch/>
        </p:blipFill>
        <p:spPr>
          <a:xfrm>
            <a:off x="4572000" y="1214280"/>
            <a:ext cx="1785960" cy="242424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11" descr="img1111.jpg"/>
          <p:cNvPicPr/>
          <p:nvPr/>
        </p:nvPicPr>
        <p:blipFill>
          <a:blip r:embed="rId5"/>
          <a:stretch/>
        </p:blipFill>
        <p:spPr>
          <a:xfrm>
            <a:off x="6143760" y="1643040"/>
            <a:ext cx="2662200" cy="157176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2" descr="img1111.jpg"/>
          <p:cNvPicPr/>
          <p:nvPr/>
        </p:nvPicPr>
        <p:blipFill>
          <a:blip r:embed="rId6"/>
          <a:stretch/>
        </p:blipFill>
        <p:spPr>
          <a:xfrm>
            <a:off x="2000160" y="2643120"/>
            <a:ext cx="2232000" cy="1643040"/>
          </a:xfrm>
          <a:prstGeom prst="rect">
            <a:avLst/>
          </a:prstGeom>
          <a:ln w="0">
            <a:noFill/>
          </a:ln>
        </p:spPr>
      </p:pic>
      <p:sp>
        <p:nvSpPr>
          <p:cNvPr id="68" name="Прямая соединительная линия 15"/>
          <p:cNvSpPr/>
          <p:nvPr/>
        </p:nvSpPr>
        <p:spPr>
          <a:xfrm flipV="1">
            <a:off x="285840" y="1785600"/>
            <a:ext cx="4357440" cy="5000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21"/>
          <p:cNvSpPr/>
          <p:nvPr/>
        </p:nvSpPr>
        <p:spPr>
          <a:xfrm>
            <a:off x="1071720" y="4286160"/>
            <a:ext cx="5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22"/>
          <p:cNvSpPr/>
          <p:nvPr/>
        </p:nvSpPr>
        <p:spPr>
          <a:xfrm>
            <a:off x="2786040" y="3214800"/>
            <a:ext cx="57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23"/>
          <p:cNvSpPr/>
          <p:nvPr/>
        </p:nvSpPr>
        <p:spPr>
          <a:xfrm>
            <a:off x="7215120" y="242892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24"/>
          <p:cNvSpPr/>
          <p:nvPr/>
        </p:nvSpPr>
        <p:spPr>
          <a:xfrm>
            <a:off x="4857840" y="427356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25"/>
          <p:cNvSpPr/>
          <p:nvPr/>
        </p:nvSpPr>
        <p:spPr>
          <a:xfrm>
            <a:off x="1928880" y="214308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вал 26"/>
          <p:cNvSpPr/>
          <p:nvPr/>
        </p:nvSpPr>
        <p:spPr>
          <a:xfrm>
            <a:off x="6858000" y="3857760"/>
            <a:ext cx="1285920" cy="12859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85600" y="1142640"/>
            <a:ext cx="670860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* 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8  5  4  6  1  3  2  </a:t>
            </a: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2160" y="42876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атематический диктан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Содержимое 3" descr="matemdoshk08.gif"/>
          <p:cNvPicPr/>
          <p:nvPr/>
        </p:nvPicPr>
        <p:blipFill>
          <a:blip r:embed="rId7"/>
          <a:stretch/>
        </p:blipFill>
        <p:spPr>
          <a:xfrm>
            <a:off x="7072200" y="235728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10" descr="img1111.jpg"/>
          <p:cNvPicPr/>
          <p:nvPr/>
        </p:nvPicPr>
        <p:blipFill>
          <a:blip r:embed="rId8"/>
          <a:stretch/>
        </p:blipFill>
        <p:spPr>
          <a:xfrm>
            <a:off x="3000240" y="4214880"/>
            <a:ext cx="2428920" cy="136044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18"/>
          <p:cNvSpPr/>
          <p:nvPr/>
        </p:nvSpPr>
        <p:spPr>
          <a:xfrm flipH="1">
            <a:off x="4714200" y="4786200"/>
            <a:ext cx="5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bfc5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Объяснение новог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50560" y="2857320"/>
            <a:ext cx="889308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0 единиц – это 1 десят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0 см – это 1 десяток сантиметров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 децимет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10 см = 1 д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1 дм = 10 с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945"/>
          <p:cNvPicPr/>
          <p:nvPr/>
        </p:nvPicPr>
        <p:blipFill>
          <a:blip r:embed="rId1"/>
          <a:stretch/>
        </p:blipFill>
        <p:spPr>
          <a:xfrm>
            <a:off x="214200" y="836640"/>
            <a:ext cx="3443400" cy="1655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bf95abd593b448728a06f6c00fd79d60"/>
          <p:cNvPicPr/>
          <p:nvPr/>
        </p:nvPicPr>
        <p:blipFill>
          <a:blip r:embed="rId2"/>
          <a:stretch/>
        </p:blipFill>
        <p:spPr>
          <a:xfrm>
            <a:off x="3635280" y="836640"/>
            <a:ext cx="2476440" cy="1655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lin"/>
          <p:cNvPicPr/>
          <p:nvPr/>
        </p:nvPicPr>
        <p:blipFill>
          <a:blip r:embed="rId3"/>
          <a:stretch/>
        </p:blipFill>
        <p:spPr>
          <a:xfrm>
            <a:off x="6084720" y="836640"/>
            <a:ext cx="2845080" cy="166356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7"/>
          <p:cNvSpPr/>
          <p:nvPr/>
        </p:nvSpPr>
        <p:spPr>
          <a:xfrm>
            <a:off x="755640" y="5661000"/>
            <a:ext cx="77770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bfc5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571680" y="214200"/>
            <a:ext cx="82152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 + 1 = 11 = 1 дес.1 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 см + 1 см = 11 см = 1 дм 1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  + 2 = …  = … дес. … 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 см + 2 см = …см = … дм …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дес. 7 ед. = 17 = 10 +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 дм 7 см = 17 см = 10 см + 7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 дес.9 ед. = … = … +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 дм 9 см = …см = … см + …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bfc5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СДЕЛАЙ СА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99680" y="1642680"/>
            <a:ext cx="86439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4 см = … дм … см       1 дм 8 см = …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6 см = … дм … см       1 дм 3 см = …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lin"/>
          <p:cNvPicPr/>
          <p:nvPr/>
        </p:nvPicPr>
        <p:blipFill>
          <a:blip r:embed="rId1"/>
          <a:stretch/>
        </p:blipFill>
        <p:spPr>
          <a:xfrm>
            <a:off x="3645000" y="3859200"/>
            <a:ext cx="4286160" cy="2505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Рисунок1"/>
          <p:cNvPicPr/>
          <p:nvPr/>
        </p:nvPicPr>
        <p:blipFill>
          <a:blip r:embed="rId2"/>
          <a:stretch/>
        </p:blipFill>
        <p:spPr>
          <a:xfrm>
            <a:off x="928800" y="3929040"/>
            <a:ext cx="1258920" cy="24289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bfc5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ПРОВЕРЬ СЕБ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57120" y="1642680"/>
            <a:ext cx="878688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4 см =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дм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м       1 дм 8 см =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8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6 см =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дм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м       1 дм 3 см =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3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lin"/>
          <p:cNvPicPr/>
          <p:nvPr/>
        </p:nvPicPr>
        <p:blipFill>
          <a:blip r:embed="rId1"/>
          <a:stretch/>
        </p:blipFill>
        <p:spPr>
          <a:xfrm>
            <a:off x="3645000" y="3859200"/>
            <a:ext cx="4286160" cy="2505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Рисунок1"/>
          <p:cNvPicPr/>
          <p:nvPr/>
        </p:nvPicPr>
        <p:blipFill>
          <a:blip r:embed="rId2"/>
          <a:stretch/>
        </p:blipFill>
        <p:spPr>
          <a:xfrm>
            <a:off x="928800" y="3929040"/>
            <a:ext cx="1258920" cy="24289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bfc5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0" y="999720"/>
            <a:ext cx="421488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10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?,  на 8 см  боль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639720" y="1785960"/>
            <a:ext cx="1341360" cy="1712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7070760" y="212760"/>
            <a:ext cx="1744560" cy="2622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3"/>
          <a:stretch/>
        </p:blipFill>
        <p:spPr>
          <a:xfrm>
            <a:off x="639720" y="212760"/>
            <a:ext cx="1328760" cy="146988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9"/>
          <p:cNvSpPr/>
          <p:nvPr/>
        </p:nvSpPr>
        <p:spPr>
          <a:xfrm>
            <a:off x="142920" y="3643200"/>
            <a:ext cx="8786880" cy="436680"/>
          </a:xfrm>
          <a:prstGeom prst="rect">
            <a:avLst/>
          </a:prstGeom>
          <a:solidFill>
            <a:srgbClr val="ffff99"/>
          </a:soli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0T04:57:21Z</dcterms:created>
  <dc:creator>Admin</dc:creator>
  <dc:description/>
  <dc:language>en-US</dc:language>
  <cp:lastModifiedBy>lenovo</cp:lastModifiedBy>
  <dcterms:modified xsi:type="dcterms:W3CDTF">2020-11-30T19:25:32Z</dcterms:modified>
  <cp:revision>41</cp:revision>
  <dc:subject/>
  <dc:title>Слайд 1</dc:title>
</cp:coreProperties>
</file>