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D29-02E0-48BD-A70B-C61DC0FA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EE3-7600-49D7-8584-C7A90E7D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6A0-A0B8-4860-9BB0-01EBAFB8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3AD-CB00-487B-8690-4B7343B1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DDC-4420-4857-B152-AC694458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677-0991-4241-8C36-6C6B147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480-9517-43B5-87D2-7693B5D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75D-ECD5-4EF8-BA61-48D7CE7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5BD-EBDA-4321-A0C3-4A504F92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DFA-D70C-4BB9-9DFD-5AC4A51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934-05C0-448B-A1C9-30C91C1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A42-24DF-406B-A3C3-46CA6BB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F39-906C-485D-9730-D3686DB7A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катерина</cp:lastModifiedBy>
  <dcterms:modified xsi:type="dcterms:W3CDTF">2020-11-30T07:20:31Z</dcterms:modified>
  <cp:revision>277</cp:revision>
  <dc:subject/>
  <dc:title>Diapositiva 1</dc:title>
</cp:coreProperties>
</file>