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18.jpeg" ContentType="image/jpeg"/>
  <Override PartName="/ppt/media/image4.jpeg" ContentType="image/jpeg"/>
  <Override PartName="/ppt/media/image31.jpeg" ContentType="image/jpeg"/>
  <Override PartName="/ppt/media/image13.gif" ContentType="image/gif"/>
  <Override PartName="/ppt/media/image29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2.jpeg" ContentType="image/jpeg"/>
  <Override PartName="/ppt/media/image30.png" ContentType="image/png"/>
  <Override PartName="/ppt/media/image5.png" ContentType="image/png"/>
  <Override PartName="/ppt/media/image8.png" ContentType="image/png"/>
  <Override PartName="/ppt/media/image33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gif" ContentType="image/gi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878-8A88-419C-8CF3-FD69D20E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9ED-DB1D-4E45-92A8-003C4ECF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DFB-0EE6-46F5-92C9-13C6FEFE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94D-9C1E-4271-8582-443E9546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302B-AB0F-4D2F-B696-B56247BD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D0F2-8EA5-4125-9782-CB58517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61B-B9BF-4555-AECF-B43117C2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6CBA-C69A-4EF8-B537-13E01DB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64DB-F643-4730-869A-E08F38C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34B-5BFF-4D84-A7E2-A098EF0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D08-7F39-42F6-BF74-FB19CF8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7B4-7954-4477-8582-4A96F59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FE5-5397-4228-88EE-ED8892B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B69B-BC31-4611-A88B-FC42832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4F8A-6CA4-4E5F-BF9B-80E9D4D4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E215-D8B5-4D40-93E6-CE3A0A48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DE28-D65A-493A-9DEB-B35EB59C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586F-4017-4C48-92CE-FB986331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940F-A542-4C27-AA08-69B4DACB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ABD6-2F89-4145-AD83-3F669B5F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6504-CD1D-4633-83DA-22814DBD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AB4C-35EF-4E26-851C-FFCD5CA9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24E-CF2D-4F43-B9C6-C25B05B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16B2-1319-4634-BB07-CC9A1C6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91EC-65D3-4CF4-9795-D480F147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957F-0609-470B-80E3-A9EACFA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F581-3BCA-49EE-9051-92F04F2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2BF9-4ABC-4689-8321-EC275ACB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58FD-07C6-4022-8E2F-0BC0A5AC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A4E9-C461-4DF3-AF0A-3E2DAA16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7940-8132-4620-84AA-59D693DA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E08B-21DC-41CB-8026-C80866E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31FB-1769-4080-974E-2336FE5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E88-0B3F-47A0-8CE3-755D143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7A78-85BC-4C3E-B5E3-35E35DE8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CADC-CA95-4A02-9CCA-F7FD810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8CBA-82E8-4882-A02B-F637AC58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BE7E-9804-4583-9B42-EE715F4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57E5-F5EF-4F7C-B9DB-12937C9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7AE4-D4CC-4E9F-884F-E23C697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2017-6839-42F6-995E-8F151F04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311F-DCC1-4CD7-BB72-86AFC671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846D-9CD5-452B-9B75-AAC4C40E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D08-74F5-444C-9176-85C275BF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042-55FB-4C95-AE33-63944BD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7FD-4EF7-4AB7-A2BC-C8AA4DD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8A2-2928-4B64-BD06-D10BA749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912-589D-4629-97AC-7CFC099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62F-41B2-435E-A310-4C96970A41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FB4-E030-4A83-A431-F2FB65D645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7B64-5C1D-4EB8-AAEB-9969B2C03D6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396-0CFB-4AD0-914B-E79D3AE28B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hyperlink" Target="http://www.e1.ru/news/spool/news_id-270800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859040" y="457200"/>
            <a:ext cx="5810040" cy="719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about[1].jpg"/>
          <p:cNvPicPr/>
          <p:nvPr/>
        </p:nvPicPr>
        <p:blipFill>
          <a:blip r:embed="rId2"/>
          <a:stretch/>
        </p:blipFill>
        <p:spPr>
          <a:xfrm>
            <a:off x="7978680" y="4626000"/>
            <a:ext cx="1165320" cy="2232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124080" y="5486400"/>
            <a:ext cx="4800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57120" y="54291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Никотин – один из самых опасных ядов растительного происхожд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3"/>
          <a:srcRect l="0" t="0" r="0" b="6248"/>
          <a:stretch/>
        </p:blipFill>
        <p:spPr>
          <a:xfrm>
            <a:off x="2771640" y="1254240"/>
            <a:ext cx="3735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4"/>
          <p:cNvSpPr/>
          <p:nvPr/>
        </p:nvSpPr>
        <p:spPr>
          <a:xfrm>
            <a:off x="2700360" y="333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ие после 25 лет ку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А это уже рак легких!2"/>
          <p:cNvPicPr/>
          <p:nvPr/>
        </p:nvPicPr>
        <p:blipFill>
          <a:blip r:embed="rId1"/>
          <a:stretch/>
        </p:blipFill>
        <p:spPr>
          <a:xfrm>
            <a:off x="1332000" y="1052640"/>
            <a:ext cx="3406680" cy="446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08"/>
          <p:cNvPicPr/>
          <p:nvPr/>
        </p:nvPicPr>
        <p:blipFill>
          <a:blip r:embed="rId2"/>
          <a:stretch/>
        </p:blipFill>
        <p:spPr>
          <a:xfrm>
            <a:off x="5110200" y="1096920"/>
            <a:ext cx="4033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Calibri"/>
              </a:rPr>
              <a:t>КАПЛЯ НИКОТИНА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Calibri"/>
              </a:rPr>
              <a:t> УБИВАЕТ ЛОШАДЬ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7" descr="Лошадка 02"/>
          <p:cNvPicPr/>
          <p:nvPr/>
        </p:nvPicPr>
        <p:blipFill>
          <a:blip r:embed="rId1"/>
          <a:stretch/>
        </p:blipFill>
        <p:spPr>
          <a:xfrm>
            <a:off x="611280" y="2349360"/>
            <a:ext cx="475272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689040" y="689040"/>
            <a:ext cx="5473800" cy="9205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" descr=""/>
          <p:cNvPicPr/>
          <p:nvPr/>
        </p:nvPicPr>
        <p:blipFill>
          <a:blip r:embed="rId2"/>
          <a:stretch/>
        </p:blipFill>
        <p:spPr>
          <a:xfrm>
            <a:off x="3127320" y="1828800"/>
            <a:ext cx="5029200" cy="201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E:\Класс\Работа в школе\Внеклассная работа\класс против курения\картинки\esche-sotsialka-o-vrede-urenija_13138_s__1.jpg"/>
          <p:cNvPicPr/>
          <p:nvPr/>
        </p:nvPicPr>
        <p:blipFill>
          <a:blip r:embed="rId3"/>
          <a:stretch/>
        </p:blipFill>
        <p:spPr>
          <a:xfrm>
            <a:off x="838080" y="3505320"/>
            <a:ext cx="3848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1755720"/>
            <a:ext cx="7875720" cy="920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E:\Класс\открытки проверить\YD1.GIF"/>
          <p:cNvPicPr/>
          <p:nvPr/>
        </p:nvPicPr>
        <p:blipFill>
          <a:blip r:embed="rId2"/>
          <a:stretch/>
        </p:blipFill>
        <p:spPr>
          <a:xfrm>
            <a:off x="4114800" y="3048120"/>
            <a:ext cx="146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2" descr="05.jpg"/>
          <p:cNvPicPr/>
          <p:nvPr/>
        </p:nvPicPr>
        <p:blipFill>
          <a:blip r:embed="rId1"/>
          <a:stretch/>
        </p:blipFill>
        <p:spPr>
          <a:xfrm>
            <a:off x="4772160" y="3602160"/>
            <a:ext cx="3851280" cy="270324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" descr=""/>
          <p:cNvPicPr/>
          <p:nvPr/>
        </p:nvPicPr>
        <p:blipFill>
          <a:blip r:embed="rId2"/>
          <a:stretch/>
        </p:blipFill>
        <p:spPr>
          <a:xfrm>
            <a:off x="3200400" y="457200"/>
            <a:ext cx="3224160" cy="944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611280" y="156852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котиновая 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ли попросту курение, - самая распространенная на земле: в общей сложности курит каждый второй житель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536400"/>
            <a:ext cx="5857920" cy="9385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838080" y="15238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жде всего - это химическое воздействие никотина на голов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котин является по своей химической природе стимулирующим средством, подстегивающим работу мозга и вызывающим легкую эйф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этому многим кажется, что сигарета улучшает мыслительный процесс,  но вскоре он вообще не сможет думать без сигареты – мозг откажется работать самостоятель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4" descr="1210858550_1210780987_5186870x05.jpg"/>
          <p:cNvPicPr/>
          <p:nvPr/>
        </p:nvPicPr>
        <p:blipFill>
          <a:blip r:embed="rId2"/>
          <a:stretch/>
        </p:blipFill>
        <p:spPr>
          <a:xfrm>
            <a:off x="5867280" y="4114800"/>
            <a:ext cx="2457720" cy="254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E:\Класс\картинки и рисунки\разные картинки\смайлики\57.gif"/>
          <p:cNvPicPr/>
          <p:nvPr/>
        </p:nvPicPr>
        <p:blipFill>
          <a:blip r:embed="rId3"/>
          <a:stretch/>
        </p:blipFill>
        <p:spPr>
          <a:xfrm>
            <a:off x="7620120" y="457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295280" y="1600200"/>
            <a:ext cx="70866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закуривает подросток (любого пола), это наверняка стремление доказать всем, что он уже взросл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ди нерешительные курят иногда затем, чтобы везде «чувствовать себя как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рение может быть и элементом моды, и способом ухода от действительности (особенно когда человек чувствует в чем-то свою беспомощ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6523200" cy="9381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short.jpg"/>
          <p:cNvPicPr/>
          <p:nvPr/>
        </p:nvPicPr>
        <p:blipFill>
          <a:blip r:embed="rId2"/>
          <a:srcRect l="0" t="58001" r="0" b="0"/>
          <a:stretch/>
        </p:blipFill>
        <p:spPr>
          <a:xfrm>
            <a:off x="3200400" y="419112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" descr="E:\Класс\картинки и рисунки\разные картинки\смайлики\мото.gif"/>
          <p:cNvPicPr/>
          <p:nvPr/>
        </p:nvPicPr>
        <p:blipFill>
          <a:blip r:embed="rId3"/>
          <a:stretch/>
        </p:blipFill>
        <p:spPr>
          <a:xfrm>
            <a:off x="762120" y="5486400"/>
            <a:ext cx="6858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image.jpeg"/>
          <p:cNvPicPr/>
          <p:nvPr/>
        </p:nvPicPr>
        <p:blipFill>
          <a:blip r:embed="rId1"/>
          <a:stretch/>
        </p:blipFill>
        <p:spPr>
          <a:xfrm>
            <a:off x="1828800" y="99072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mokerslung"/>
          <p:cNvPicPr/>
          <p:nvPr/>
        </p:nvPicPr>
        <p:blipFill>
          <a:blip r:embed="rId1"/>
          <a:stretch/>
        </p:blipFill>
        <p:spPr>
          <a:xfrm>
            <a:off x="4140360" y="2349360"/>
            <a:ext cx="4464000" cy="435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nonsmokerslung"/>
          <p:cNvPicPr/>
          <p:nvPr/>
        </p:nvPicPr>
        <p:blipFill>
          <a:blip r:embed="rId2"/>
          <a:stretch/>
        </p:blipFill>
        <p:spPr>
          <a:xfrm>
            <a:off x="324000" y="620640"/>
            <a:ext cx="4392360" cy="3382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6086160" y="62064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 и сдел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261800" y="11592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ие некур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195640" y="558972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гкие куря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666756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523800" y="620640"/>
            <a:ext cx="486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7"/>
          <p:cNvPicPr/>
          <p:nvPr/>
        </p:nvPicPr>
        <p:blipFill>
          <a:blip r:embed="rId1"/>
          <a:stretch/>
        </p:blipFill>
        <p:spPr>
          <a:xfrm>
            <a:off x="5105520" y="1314360"/>
            <a:ext cx="3881160" cy="5543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РАК ПОЛОСТИ РТА У ЗАЯДЛОГО КУРИЛЬЩИКА.jpg"/>
          <p:cNvPicPr/>
          <p:nvPr/>
        </p:nvPicPr>
        <p:blipFill>
          <a:blip r:embed="rId2"/>
          <a:stretch/>
        </p:blipFill>
        <p:spPr>
          <a:xfrm>
            <a:off x="457200" y="990720"/>
            <a:ext cx="4432320" cy="353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Constantia"/>
              </a:rPr>
              <a:t>Рак ротовой пол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99600" y="303840"/>
            <a:ext cx="64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www.e1.ru/news/spool/news_id-270800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А это уже рак легких!"/>
          <p:cNvPicPr/>
          <p:nvPr/>
        </p:nvPicPr>
        <p:blipFill>
          <a:blip r:embed="rId1"/>
          <a:stretch/>
        </p:blipFill>
        <p:spPr>
          <a:xfrm>
            <a:off x="900000" y="1268280"/>
            <a:ext cx="4176720" cy="3729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16"/>
          <p:cNvPicPr/>
          <p:nvPr/>
        </p:nvPicPr>
        <p:blipFill>
          <a:blip r:embed="rId2"/>
          <a:stretch/>
        </p:blipFill>
        <p:spPr>
          <a:xfrm>
            <a:off x="5765760" y="1125360"/>
            <a:ext cx="3378240" cy="4824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825840" y="580536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это уже рак ле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24"/>
          <p:cNvSpPr/>
          <p:nvPr/>
        </p:nvSpPr>
        <p:spPr>
          <a:xfrm>
            <a:off x="1258920" y="4046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должен знать кажд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7:28Z</dcterms:created>
  <dc:creator>Завуч по ВР</dc:creator>
  <dc:description/>
  <dc:language>en-US</dc:language>
  <cp:lastModifiedBy>User</cp:lastModifiedBy>
  <dcterms:modified xsi:type="dcterms:W3CDTF">2020-11-30T08:31:03Z</dcterms:modified>
  <cp:revision>6</cp:revision>
  <dc:subject/>
  <dc:title>Слайд 1</dc:title>
</cp:coreProperties>
</file>