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5A49-2353-41B6-8880-C2D437ED3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EA51-2A10-450D-A83C-A2765D5EB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139-015D-451C-8153-E7F26FA0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E4A-A475-43E1-980A-5FE4E632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384-6B5A-4BC9-85EF-B86683F9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E5D-A8DA-4E56-B472-7E15207C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3E1-B85A-4B8E-9AEC-DFAFA94A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C80-2EEB-4965-B266-97BD99C0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32D-8BAE-4B41-93A8-FBC81D62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943-B50B-4B29-8ED4-587219BF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F92-486E-4899-82A5-A61DB51A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372-2979-483A-B4C3-B9CB6B36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D12-E7AE-4CB2-B222-BBDD4C60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613-E6CA-4909-BDC5-AEF9E656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B7FD-E625-4916-9599-81670AA6E9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начало 7 кл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835280" y="1197000"/>
            <a:ext cx="64818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Bookman Old Style"/>
                <a:ea typeface="Tahoma"/>
              </a:rPr>
              <a:t>Æ</a:t>
            </a:r>
            <a:r>
              <a:rPr b="1" lang="ru-RU" sz="8000" spc="-1" strike="noStrike">
                <a:solidFill>
                  <a:srgbClr val="ff0000"/>
                </a:solidFill>
                <a:latin typeface="Bookman Old Style"/>
              </a:rPr>
              <a:t>рдз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Bookman Old Style"/>
              </a:rPr>
              <a:t>нæ алывар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нач 7 класс.mp3" descr=""/>
          <p:cNvPicPr/>
          <p:nvPr/>
        </p:nvPicPr>
        <p:blipFill>
          <a:blip r:embed="rId2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~PP184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гор козлы2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4952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Olen"/>
          <p:cNvPicPr/>
          <p:nvPr/>
        </p:nvPicPr>
        <p:blipFill>
          <a:blip r:embed="rId3"/>
          <a:stretch/>
        </p:blipFill>
        <p:spPr>
          <a:xfrm>
            <a:off x="5724360" y="4149720"/>
            <a:ext cx="3419640" cy="269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н-п15"/>
          <p:cNvPicPr/>
          <p:nvPr/>
        </p:nvPicPr>
        <p:blipFill>
          <a:blip r:embed="rId4"/>
          <a:stretch/>
        </p:blipFill>
        <p:spPr>
          <a:xfrm>
            <a:off x="0" y="3656160"/>
            <a:ext cx="4908600" cy="320184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8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река"/>
          <p:cNvPicPr/>
          <p:nvPr/>
        </p:nvPicPr>
        <p:blipFill>
          <a:blip r:embed="rId1"/>
          <a:stretch/>
        </p:blipFill>
        <p:spPr>
          <a:xfrm>
            <a:off x="2195640" y="0"/>
            <a:ext cx="4830480" cy="6840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dscn24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мады майрам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мады майрам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альпийские луг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н-п8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" descr="kar07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3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43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Дигорское ущель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7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7934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~PP1769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41-web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Приэльбрусь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38SC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igoria-01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12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27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33-web"/>
          <p:cNvPicPr/>
          <p:nvPr/>
        </p:nvPicPr>
        <p:blipFill>
          <a:blip r:embed="rId1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36-web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н-п4"/>
          <p:cNvPicPr/>
          <p:nvPr/>
        </p:nvPicPr>
        <p:blipFill>
          <a:blip r:embed="rId1"/>
          <a:stretch/>
        </p:blipFill>
        <p:spPr>
          <a:xfrm>
            <a:off x="0" y="0"/>
            <a:ext cx="534996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н-п5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35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н-п6"/>
          <p:cNvPicPr/>
          <p:nvPr/>
        </p:nvPicPr>
        <p:blipFill>
          <a:blip r:embed="rId3"/>
          <a:stretch/>
        </p:blipFill>
        <p:spPr>
          <a:xfrm>
            <a:off x="5292720" y="3851280"/>
            <a:ext cx="3851280" cy="3006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21:56:11Z</dcterms:created>
  <dc:creator>User</dc:creator>
  <dc:description/>
  <dc:language>en-US</dc:language>
  <cp:lastModifiedBy>COMP</cp:lastModifiedBy>
  <dcterms:modified xsi:type="dcterms:W3CDTF">2009-04-12T06:02:03Z</dcterms:modified>
  <cp:revision>62</cp:revision>
  <dc:subject/>
  <dc:title>Слайд 1</dc:title>
</cp:coreProperties>
</file>