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157A-8857-41E3-B894-310FCCFE4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EA11-053E-4A00-A91E-E6F6ED7E7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926-CB21-48EC-8107-1CF86D5E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764-F588-428D-90C8-C2A952B3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B77-526E-4A85-BF83-51574918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5D5-2686-4BF3-BB9D-ECF9EDC0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631-543F-41C7-A505-B168A28C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5A0-2AAA-42AC-802B-23BFBE55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C2B-492F-494C-9F37-D9AD88D8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405-CDDB-4AA4-BBA4-D37CC7C9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7DF-50FF-4AD7-9E80-96C23218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81B-CDA3-4E8C-AF74-26BDE31B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1A6-1C03-42D0-BC56-D1DD69A9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841-1631-45BF-8AAA-BCB66C15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FFC7-9608-49FB-89AC-FC5E2DEC6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начало 7 кл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835280" y="1197000"/>
            <a:ext cx="6481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ookman Old Style"/>
                <a:ea typeface="Tahoma"/>
              </a:rPr>
              <a:t>Æ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рдз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нæ алыва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нач 7 класс.mp3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~PP18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гор козлы2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4952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Olen"/>
          <p:cNvPicPr/>
          <p:nvPr/>
        </p:nvPicPr>
        <p:blipFill>
          <a:blip r:embed="rId3"/>
          <a:stretch/>
        </p:blipFill>
        <p:spPr>
          <a:xfrm>
            <a:off x="5724360" y="4149720"/>
            <a:ext cx="3419640" cy="269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н-п15"/>
          <p:cNvPicPr/>
          <p:nvPr/>
        </p:nvPicPr>
        <p:blipFill>
          <a:blip r:embed="rId4"/>
          <a:stretch/>
        </p:blipFill>
        <p:spPr>
          <a:xfrm>
            <a:off x="0" y="3656160"/>
            <a:ext cx="4908600" cy="32018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река"/>
          <p:cNvPicPr/>
          <p:nvPr/>
        </p:nvPicPr>
        <p:blipFill>
          <a:blip r:embed="rId1"/>
          <a:stretch/>
        </p:blipFill>
        <p:spPr>
          <a:xfrm>
            <a:off x="2195640" y="0"/>
            <a:ext cx="4830480" cy="6840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scn24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мады майрам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мады майрам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альпийские луг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н-п8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" descr="kar07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3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43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Дигорское ущель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7934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~PP1769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41-web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Приэльбрусь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8SC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igoria-0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12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7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33-web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36-web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н-п4"/>
          <p:cNvPicPr/>
          <p:nvPr/>
        </p:nvPicPr>
        <p:blipFill>
          <a:blip r:embed="rId1"/>
          <a:stretch/>
        </p:blipFill>
        <p:spPr>
          <a:xfrm>
            <a:off x="0" y="0"/>
            <a:ext cx="534996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н-п5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35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н-п6"/>
          <p:cNvPicPr/>
          <p:nvPr/>
        </p:nvPicPr>
        <p:blipFill>
          <a:blip r:embed="rId3"/>
          <a:stretch/>
        </p:blipFill>
        <p:spPr>
          <a:xfrm>
            <a:off x="5292720" y="3851280"/>
            <a:ext cx="3851280" cy="3006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1:56:11Z</dcterms:created>
  <dc:creator>User</dc:creator>
  <dc:description/>
  <dc:language>en-US</dc:language>
  <cp:lastModifiedBy>COMP</cp:lastModifiedBy>
  <dcterms:modified xsi:type="dcterms:W3CDTF">2009-04-12T06:02:03Z</dcterms:modified>
  <cp:revision>62</cp:revision>
  <dc:subject/>
  <dc:title>Слайд 1</dc:title>
</cp:coreProperties>
</file>