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1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7B5-D59C-4EE4-BEA4-587CD17A8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5B3E-5F2D-47C8-A5A6-5F9BD3655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C0E-5E4A-44B8-B120-DA0B2139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173-DE3B-4A7A-AACC-044D736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EE6-705B-4DF7-B935-1EF95303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52A-0119-4D76-8B98-F9CAFC4E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4C2B-82B0-4319-8D78-F0496C9A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87CA-93C5-4933-8B62-610876BE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168-9FCB-46BA-8A7C-F1BE7E00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F3BA-E43B-4D37-900D-D7FF2702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564-949D-4C54-ABA9-209077B5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6A7-8A04-4AF5-B08B-B43CBE86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6948-1F84-463E-8F01-E8CB129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51A-8C0B-4E0D-9D6E-C0E10322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5459-5FE7-480D-A750-D522BA1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C1B3-74C4-4EF0-8543-18D3C98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896-E1D1-412B-B6F7-EFD55C2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B7D7-CE6E-417A-A7D3-D3F9B794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1A9D-1DFF-4F49-B781-AEDA0BF7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C1A7-1038-4B03-BB36-2133877B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81A1-E2BB-48B7-9097-5935DDF2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9435-0E47-4BAA-8CA3-A327E545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C12A-56F2-47BC-8FB0-1580A078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EAE3-FD6C-413F-9F12-3B3F94E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060-27E1-4377-83F3-CBB47ACC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E567-0428-41B0-B31B-C05325BD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9AEE-53C0-48EB-8828-5F75CA4E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A6CF-F384-4018-B2A9-891BEE88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9FF7-5FBF-4576-B1A4-C1C3B2C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2705-6F54-4046-8474-9AE153A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87AC-BEC9-46D2-9A16-B9B1F8AA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D7BA-4D47-4A0E-89EE-4E574FCB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397B-EF79-4CC5-899B-03FC4AF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9551-E6AC-4E8C-A595-3868961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D0D7-B05B-4615-817C-A1E0B33E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A00-787C-4717-A489-680A3356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59E5-CB47-4FB6-8CA5-3F61FDD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C158-EC22-49F9-8996-E903CA72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1C0D-0779-407D-B5C4-FF6713E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1284-EB1C-4DCE-8EB2-F64DB9FA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1D72-41EC-4D8D-AA08-AF2E161F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2E87-32B0-47F2-8471-470B0DC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7BFD-5F8C-42AA-95B3-312DE4F0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B50A-6120-4402-8D20-76727BE9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1C51-B8BA-4176-8C31-41903042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01C2-9FF8-4B32-B452-7DCD86EB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222-3C4D-4A06-AC97-E3AAD8EB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4E7D-16AB-4C88-8D38-B6AD55FD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57CAA-5E6F-4972-8346-F04DF1C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B920-698F-4617-AD51-A7108DB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722D-459D-4B3F-B5A2-E620CA9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80DA-23D2-460E-BF4D-9135EB2B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BA59-1CA5-4869-8320-61D50ACE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FC17C-DE8C-4ACB-B20C-79D0697C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8D97-625F-4D99-BAE0-EE944CD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92DB-555A-49EF-B747-495963D6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EADF-48F1-4F0F-8A0B-F4F610A0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9AD-8B96-4D9A-AF99-BD30BC4C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8627B-630F-47DF-8C35-50AFA3EF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DD7-97AF-468B-8C43-F461F52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AC0-775F-4DCD-8F8D-2DA4CA74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4CD-727A-4AC2-AA6C-2CD8661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A3C-6075-4D66-866A-106EE30BACA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4F10-2384-457A-A324-BD81BD53BE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A78-1FD7-43B4-98CC-45D51A56C8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4832-308B-465A-98BF-4B00B1CBB2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D7D-8A91-4729-8BDA-66C0E26582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2.png"/><Relationship Id="rId7" Type="http://schemas.openxmlformats.org/officeDocument/2006/relationships/image" Target="../media/image40.png"/><Relationship Id="rId8" Type="http://schemas.openxmlformats.org/officeDocument/2006/relationships/image" Target="../media/image43.png"/><Relationship Id="rId9" Type="http://schemas.openxmlformats.org/officeDocument/2006/relationships/image" Target="../media/image40.png"/><Relationship Id="rId10" Type="http://schemas.openxmlformats.org/officeDocument/2006/relationships/image" Target="../media/image43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4606920" y="429264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Учитель  начальных классов</a:t>
            </a:r>
            <a:br>
              <a:rPr sz="20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МОУ «СОШ №18» г о Сара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Биксалиева А.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Математи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1262160"/>
            <a:ext cx="7900920" cy="1981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2" descr="C:\Users\Наталья\Desktop\фгос\igra_podberi_figuri1.jpg"/>
          <p:cNvPicPr/>
          <p:nvPr/>
        </p:nvPicPr>
        <p:blipFill>
          <a:blip r:embed="rId2"/>
          <a:srcRect l="1444" t="1800" r="2394" b="7348"/>
          <a:stretch/>
        </p:blipFill>
        <p:spPr>
          <a:xfrm>
            <a:off x="142920" y="4714920"/>
            <a:ext cx="3000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ка «Нахождение периметра прямоугольника»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длин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ширин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а + в + а + в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mbria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 =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а • 2 + в •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(а + в)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Физмитнуткмат доли.mp3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8977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1042920" y="1341360"/>
            <a:ext cx="4176720" cy="2158920"/>
          </a:xfrm>
          <a:prstGeom prst="cloudCallout">
            <a:avLst>
              <a:gd name="adj1" fmla="val 74819"/>
              <a:gd name="adj2" fmla="val 356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5906880" y="1500120"/>
            <a:ext cx="2095560" cy="4249800"/>
            <a:chOff x="5906880" y="1500120"/>
            <a:chExt cx="2095560" cy="4249800"/>
          </a:xfrm>
        </p:grpSpPr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 rot="10603200">
              <a:off x="5940000" y="1557000"/>
              <a:ext cx="202896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0" name="Picture 6" descr=""/>
          <p:cNvPicPr/>
          <p:nvPr/>
        </p:nvPicPr>
        <p:blipFill>
          <a:blip r:embed="rId3"/>
          <a:stretch/>
        </p:blipFill>
        <p:spPr>
          <a:xfrm rot="2569200">
            <a:off x="3203280" y="4941360"/>
            <a:ext cx="638280" cy="1476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4"/>
          <a:stretch/>
        </p:blipFill>
        <p:spPr>
          <a:xfrm rot="19145400">
            <a:off x="1476360" y="400500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5"/>
          <a:stretch/>
        </p:blipFill>
        <p:spPr>
          <a:xfrm rot="20531400">
            <a:off x="3924000" y="3644640"/>
            <a:ext cx="1438200" cy="1285920"/>
          </a:xfrm>
          <a:prstGeom prst="rect">
            <a:avLst/>
          </a:prstGeom>
          <a:ln w="0">
            <a:noFill/>
          </a:ln>
        </p:spPr>
      </p:pic>
      <p:pic>
        <p:nvPicPr>
          <p:cNvPr id="323" name="032 Dorogoyu Dobra.wav" descr=""/>
          <p:cNvPicPr/>
          <p:nvPr/>
        </p:nvPicPr>
        <p:blipFill>
          <a:blip r:embed="rId6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физминутка для глаз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2948E-006 C 0.00782 0.00624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37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1458660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326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4" descr=""/>
            <p:cNvPicPr/>
            <p:nvPr/>
          </p:nvPicPr>
          <p:blipFill>
            <a:blip r:embed="rId2"/>
            <a:stretch/>
          </p:blipFill>
          <p:spPr>
            <a:xfrm>
              <a:off x="3636720" y="2710080"/>
              <a:ext cx="121932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Picture 5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/>
          <p:cNvPicPr/>
          <p:nvPr/>
        </p:nvPicPr>
        <p:blipFill>
          <a:blip r:embed="rId7"/>
          <a:stretch/>
        </p:blipFill>
        <p:spPr>
          <a:xfrm rot="19560000">
            <a:off x="3058920" y="134100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8"/>
          <a:stretch/>
        </p:blipFill>
        <p:spPr>
          <a:xfrm rot="13592400">
            <a:off x="2811240" y="360648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9"/>
          <a:stretch/>
        </p:blipFill>
        <p:spPr>
          <a:xfrm rot="2698800">
            <a:off x="5148360" y="141264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"/>
          <p:cNvPicPr/>
          <p:nvPr/>
        </p:nvPicPr>
        <p:blipFill>
          <a:blip r:embed="rId10"/>
          <a:stretch/>
        </p:blipFill>
        <p:spPr>
          <a:xfrm rot="8356200">
            <a:off x="514800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"/>
          <p:cNvPicPr/>
          <p:nvPr/>
        </p:nvPicPr>
        <p:blipFill>
          <a:blip r:embed="rId11"/>
          <a:stretch/>
        </p:blipFill>
        <p:spPr>
          <a:xfrm rot="1538400">
            <a:off x="4649760" y="1477800"/>
            <a:ext cx="446040" cy="1114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12"/>
          <a:stretch/>
        </p:blipFill>
        <p:spPr>
          <a:xfrm rot="4084200">
            <a:off x="5439960" y="2201760"/>
            <a:ext cx="507960" cy="1235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"/>
          <p:cNvPicPr/>
          <p:nvPr/>
        </p:nvPicPr>
        <p:blipFill>
          <a:blip r:embed="rId13"/>
          <a:stretch/>
        </p:blipFill>
        <p:spPr>
          <a:xfrm rot="6795600">
            <a:off x="5333040" y="3315240"/>
            <a:ext cx="565200" cy="1224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"/>
          <p:cNvPicPr/>
          <p:nvPr/>
        </p:nvPicPr>
        <p:blipFill>
          <a:blip r:embed="rId14"/>
          <a:stretch/>
        </p:blipFill>
        <p:spPr>
          <a:xfrm rot="9633600">
            <a:off x="4599000" y="406980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"/>
          <p:cNvPicPr/>
          <p:nvPr/>
        </p:nvPicPr>
        <p:blipFill>
          <a:blip r:embed="rId15"/>
          <a:stretch/>
        </p:blipFill>
        <p:spPr>
          <a:xfrm rot="12583800">
            <a:off x="3419280" y="400464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" descr=""/>
          <p:cNvPicPr/>
          <p:nvPr/>
        </p:nvPicPr>
        <p:blipFill>
          <a:blip r:embed="rId16"/>
          <a:stretch/>
        </p:blipFill>
        <p:spPr>
          <a:xfrm rot="18286200">
            <a:off x="2792160" y="2127240"/>
            <a:ext cx="496800" cy="1208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9" descr=""/>
          <p:cNvPicPr/>
          <p:nvPr/>
        </p:nvPicPr>
        <p:blipFill>
          <a:blip r:embed="rId17"/>
          <a:stretch/>
        </p:blipFill>
        <p:spPr>
          <a:xfrm rot="15212400">
            <a:off x="2667240" y="3100680"/>
            <a:ext cx="487440" cy="1285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"/>
          <p:cNvPicPr/>
          <p:nvPr/>
        </p:nvPicPr>
        <p:blipFill>
          <a:blip r:embed="rId18"/>
          <a:stretch/>
        </p:blipFill>
        <p:spPr>
          <a:xfrm rot="20364600">
            <a:off x="3695760" y="148572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124000" y="260280"/>
            <a:ext cx="742680" cy="1000080"/>
            <a:chOff x="2124000" y="260280"/>
            <a:chExt cx="742680" cy="1000080"/>
          </a:xfrm>
        </p:grpSpPr>
        <p:pic>
          <p:nvPicPr>
            <p:cNvPr id="345" name="Picture 3" descr=""/>
            <p:cNvPicPr/>
            <p:nvPr/>
          </p:nvPicPr>
          <p:blipFill>
            <a:blip r:embed="rId1"/>
            <a:stretch/>
          </p:blipFill>
          <p:spPr>
            <a:xfrm>
              <a:off x="2124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AutoShape 4"/>
            <p:cNvSpPr/>
            <p:nvPr/>
          </p:nvSpPr>
          <p:spPr>
            <a:xfrm>
              <a:off x="2195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348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AutoShape 7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351" name="Picture 9" descr=""/>
            <p:cNvPicPr/>
            <p:nvPr/>
          </p:nvPicPr>
          <p:blipFill>
            <a:blip r:embed="rId3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AutoShape 10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1"/>
          <p:cNvGrpSpPr/>
          <p:nvPr/>
        </p:nvGrpSpPr>
        <p:grpSpPr>
          <a:xfrm>
            <a:off x="4356000" y="260280"/>
            <a:ext cx="742680" cy="1000080"/>
            <a:chOff x="4356000" y="260280"/>
            <a:chExt cx="742680" cy="1000080"/>
          </a:xfrm>
        </p:grpSpPr>
        <p:pic>
          <p:nvPicPr>
            <p:cNvPr id="354" name="Picture 12" descr=""/>
            <p:cNvPicPr/>
            <p:nvPr/>
          </p:nvPicPr>
          <p:blipFill>
            <a:blip r:embed="rId4"/>
            <a:stretch/>
          </p:blipFill>
          <p:spPr>
            <a:xfrm>
              <a:off x="4356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3"/>
            <p:cNvSpPr/>
            <p:nvPr/>
          </p:nvSpPr>
          <p:spPr>
            <a:xfrm>
              <a:off x="4427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4"/>
          <p:cNvGrpSpPr/>
          <p:nvPr/>
        </p:nvGrpSpPr>
        <p:grpSpPr>
          <a:xfrm>
            <a:off x="179280" y="3645000"/>
            <a:ext cx="742680" cy="1000080"/>
            <a:chOff x="179280" y="3645000"/>
            <a:chExt cx="742680" cy="1000080"/>
          </a:xfrm>
        </p:grpSpPr>
        <p:pic>
          <p:nvPicPr>
            <p:cNvPr id="357" name="Picture 15" descr=""/>
            <p:cNvPicPr/>
            <p:nvPr/>
          </p:nvPicPr>
          <p:blipFill>
            <a:blip r:embed="rId5"/>
            <a:stretch/>
          </p:blipFill>
          <p:spPr>
            <a:xfrm>
              <a:off x="17928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AutoShape 16"/>
            <p:cNvSpPr/>
            <p:nvPr/>
          </p:nvSpPr>
          <p:spPr>
            <a:xfrm>
              <a:off x="25056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3203640" y="1916280"/>
            <a:ext cx="742680" cy="1000080"/>
            <a:chOff x="3203640" y="1916280"/>
            <a:chExt cx="742680" cy="1000080"/>
          </a:xfrm>
        </p:grpSpPr>
        <p:pic>
          <p:nvPicPr>
            <p:cNvPr id="360" name="Picture 18" descr=""/>
            <p:cNvPicPr/>
            <p:nvPr/>
          </p:nvPicPr>
          <p:blipFill>
            <a:blip r:embed="rId6"/>
            <a:stretch/>
          </p:blipFill>
          <p:spPr>
            <a:xfrm>
              <a:off x="3203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19"/>
            <p:cNvSpPr/>
            <p:nvPr/>
          </p:nvSpPr>
          <p:spPr>
            <a:xfrm>
              <a:off x="3274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20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363" name="Picture 21" descr=""/>
            <p:cNvPicPr/>
            <p:nvPr/>
          </p:nvPicPr>
          <p:blipFill>
            <a:blip r:embed="rId7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AutoShape 22"/>
            <p:cNvSpPr/>
            <p:nvPr/>
          </p:nvSpPr>
          <p:spPr>
            <a:xfrm>
              <a:off x="2266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3"/>
          <p:cNvGrpSpPr/>
          <p:nvPr/>
        </p:nvGrpSpPr>
        <p:grpSpPr>
          <a:xfrm>
            <a:off x="7667640" y="1916280"/>
            <a:ext cx="742680" cy="1000080"/>
            <a:chOff x="7667640" y="1916280"/>
            <a:chExt cx="742680" cy="1000080"/>
          </a:xfrm>
        </p:grpSpPr>
        <p:pic>
          <p:nvPicPr>
            <p:cNvPr id="366" name="Picture 24" descr=""/>
            <p:cNvPicPr/>
            <p:nvPr/>
          </p:nvPicPr>
          <p:blipFill>
            <a:blip r:embed="rId8"/>
            <a:stretch/>
          </p:blipFill>
          <p:spPr>
            <a:xfrm>
              <a:off x="7667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AutoShape 25"/>
            <p:cNvSpPr/>
            <p:nvPr/>
          </p:nvSpPr>
          <p:spPr>
            <a:xfrm>
              <a:off x="7738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6"/>
          <p:cNvGrpSpPr/>
          <p:nvPr/>
        </p:nvGrpSpPr>
        <p:grpSpPr>
          <a:xfrm>
            <a:off x="5580000" y="1916280"/>
            <a:ext cx="742680" cy="1000080"/>
            <a:chOff x="5580000" y="1916280"/>
            <a:chExt cx="742680" cy="1000080"/>
          </a:xfrm>
        </p:grpSpPr>
        <p:pic>
          <p:nvPicPr>
            <p:cNvPr id="369" name="Picture 27" descr=""/>
            <p:cNvPicPr/>
            <p:nvPr/>
          </p:nvPicPr>
          <p:blipFill>
            <a:blip r:embed="rId9"/>
            <a:stretch/>
          </p:blipFill>
          <p:spPr>
            <a:xfrm>
              <a:off x="558000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AutoShape 28"/>
            <p:cNvSpPr/>
            <p:nvPr/>
          </p:nvSpPr>
          <p:spPr>
            <a:xfrm>
              <a:off x="565128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9"/>
          <p:cNvGrpSpPr/>
          <p:nvPr/>
        </p:nvGrpSpPr>
        <p:grpSpPr>
          <a:xfrm>
            <a:off x="1187280" y="1916280"/>
            <a:ext cx="742680" cy="1000080"/>
            <a:chOff x="1187280" y="1916280"/>
            <a:chExt cx="742680" cy="1000080"/>
          </a:xfrm>
        </p:grpSpPr>
        <p:pic>
          <p:nvPicPr>
            <p:cNvPr id="372" name="Picture 30" descr=""/>
            <p:cNvPicPr/>
            <p:nvPr/>
          </p:nvPicPr>
          <p:blipFill>
            <a:blip r:embed="rId10"/>
            <a:stretch/>
          </p:blipFill>
          <p:spPr>
            <a:xfrm>
              <a:off x="118728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31"/>
            <p:cNvSpPr/>
            <p:nvPr/>
          </p:nvSpPr>
          <p:spPr>
            <a:xfrm>
              <a:off x="125856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2"/>
          <p:cNvGrpSpPr/>
          <p:nvPr/>
        </p:nvGrpSpPr>
        <p:grpSpPr>
          <a:xfrm>
            <a:off x="8400960" y="260280"/>
            <a:ext cx="742680" cy="1000080"/>
            <a:chOff x="8400960" y="260280"/>
            <a:chExt cx="742680" cy="1000080"/>
          </a:xfrm>
        </p:grpSpPr>
        <p:pic>
          <p:nvPicPr>
            <p:cNvPr id="375" name="Picture 33" descr=""/>
            <p:cNvPicPr/>
            <p:nvPr/>
          </p:nvPicPr>
          <p:blipFill>
            <a:blip r:embed="rId11"/>
            <a:stretch/>
          </p:blipFill>
          <p:spPr>
            <a:xfrm>
              <a:off x="84009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AutoShape 34"/>
            <p:cNvSpPr/>
            <p:nvPr/>
          </p:nvSpPr>
          <p:spPr>
            <a:xfrm>
              <a:off x="84722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5"/>
          <p:cNvGrpSpPr/>
          <p:nvPr/>
        </p:nvGrpSpPr>
        <p:grpSpPr>
          <a:xfrm>
            <a:off x="6659640" y="3645000"/>
            <a:ext cx="742680" cy="1000080"/>
            <a:chOff x="6659640" y="3645000"/>
            <a:chExt cx="742680" cy="1000080"/>
          </a:xfrm>
        </p:grpSpPr>
        <p:pic>
          <p:nvPicPr>
            <p:cNvPr id="378" name="Picture 36" descr=""/>
            <p:cNvPicPr/>
            <p:nvPr/>
          </p:nvPicPr>
          <p:blipFill>
            <a:blip r:embed="rId12"/>
            <a:stretch/>
          </p:blipFill>
          <p:spPr>
            <a:xfrm>
              <a:off x="6659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AutoShape 37"/>
            <p:cNvSpPr/>
            <p:nvPr/>
          </p:nvSpPr>
          <p:spPr>
            <a:xfrm>
              <a:off x="6730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8"/>
          <p:cNvGrpSpPr/>
          <p:nvPr/>
        </p:nvGrpSpPr>
        <p:grpSpPr>
          <a:xfrm>
            <a:off x="4356000" y="3645000"/>
            <a:ext cx="742680" cy="1000080"/>
            <a:chOff x="4356000" y="3645000"/>
            <a:chExt cx="742680" cy="1000080"/>
          </a:xfrm>
        </p:grpSpPr>
        <p:pic>
          <p:nvPicPr>
            <p:cNvPr id="381" name="Picture 39" descr=""/>
            <p:cNvPicPr/>
            <p:nvPr/>
          </p:nvPicPr>
          <p:blipFill>
            <a:blip r:embed="rId13"/>
            <a:stretch/>
          </p:blipFill>
          <p:spPr>
            <a:xfrm>
              <a:off x="435600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AutoShape 40"/>
            <p:cNvSpPr/>
            <p:nvPr/>
          </p:nvSpPr>
          <p:spPr>
            <a:xfrm>
              <a:off x="442728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1"/>
          <p:cNvGrpSpPr/>
          <p:nvPr/>
        </p:nvGrpSpPr>
        <p:grpSpPr>
          <a:xfrm>
            <a:off x="8400960" y="3645000"/>
            <a:ext cx="742680" cy="1000080"/>
            <a:chOff x="8400960" y="3645000"/>
            <a:chExt cx="742680" cy="1000080"/>
          </a:xfrm>
        </p:grpSpPr>
        <p:pic>
          <p:nvPicPr>
            <p:cNvPr id="384" name="Picture 42" descr=""/>
            <p:cNvPicPr/>
            <p:nvPr/>
          </p:nvPicPr>
          <p:blipFill>
            <a:blip r:embed="rId14"/>
            <a:stretch/>
          </p:blipFill>
          <p:spPr>
            <a:xfrm>
              <a:off x="840096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43"/>
            <p:cNvSpPr/>
            <p:nvPr/>
          </p:nvSpPr>
          <p:spPr>
            <a:xfrm>
              <a:off x="847224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4"/>
          <p:cNvGrpSpPr/>
          <p:nvPr/>
        </p:nvGrpSpPr>
        <p:grpSpPr>
          <a:xfrm>
            <a:off x="1116000" y="5300640"/>
            <a:ext cx="742680" cy="1000080"/>
            <a:chOff x="1116000" y="5300640"/>
            <a:chExt cx="742680" cy="1000080"/>
          </a:xfrm>
        </p:grpSpPr>
        <p:pic>
          <p:nvPicPr>
            <p:cNvPr id="387" name="Picture 45" descr=""/>
            <p:cNvPicPr/>
            <p:nvPr/>
          </p:nvPicPr>
          <p:blipFill>
            <a:blip r:embed="rId15"/>
            <a:stretch/>
          </p:blipFill>
          <p:spPr>
            <a:xfrm>
              <a:off x="111600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AutoShape 46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47"/>
          <p:cNvGrpSpPr/>
          <p:nvPr/>
        </p:nvGrpSpPr>
        <p:grpSpPr>
          <a:xfrm>
            <a:off x="7524720" y="5373720"/>
            <a:ext cx="742680" cy="1000080"/>
            <a:chOff x="7524720" y="5373720"/>
            <a:chExt cx="742680" cy="1000080"/>
          </a:xfrm>
        </p:grpSpPr>
        <p:pic>
          <p:nvPicPr>
            <p:cNvPr id="390" name="Picture 48" descr=""/>
            <p:cNvPicPr/>
            <p:nvPr/>
          </p:nvPicPr>
          <p:blipFill>
            <a:blip r:embed="rId16"/>
            <a:stretch/>
          </p:blipFill>
          <p:spPr>
            <a:xfrm>
              <a:off x="7524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AutoShape 49"/>
            <p:cNvSpPr/>
            <p:nvPr/>
          </p:nvSpPr>
          <p:spPr>
            <a:xfrm>
              <a:off x="7596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0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393" name="Picture 51" descr=""/>
            <p:cNvPicPr/>
            <p:nvPr/>
          </p:nvPicPr>
          <p:blipFill>
            <a:blip r:embed="rId17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AutoShape 52"/>
            <p:cNvSpPr/>
            <p:nvPr/>
          </p:nvSpPr>
          <p:spPr>
            <a:xfrm>
              <a:off x="5580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53"/>
          <p:cNvGrpSpPr/>
          <p:nvPr/>
        </p:nvGrpSpPr>
        <p:grpSpPr>
          <a:xfrm>
            <a:off x="3203640" y="5300640"/>
            <a:ext cx="742680" cy="1000080"/>
            <a:chOff x="3203640" y="5300640"/>
            <a:chExt cx="742680" cy="1000080"/>
          </a:xfrm>
        </p:grpSpPr>
        <p:pic>
          <p:nvPicPr>
            <p:cNvPr id="396" name="Picture 54" descr=""/>
            <p:cNvPicPr/>
            <p:nvPr/>
          </p:nvPicPr>
          <p:blipFill>
            <a:blip r:embed="rId18"/>
            <a:stretch/>
          </p:blipFill>
          <p:spPr>
            <a:xfrm>
              <a:off x="320364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AutoShape 55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50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50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50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2" dur="50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50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50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50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4" dur="1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6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8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1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2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1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6" dur="1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8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 rot="20921400">
            <a:off x="-1266480" y="888480"/>
            <a:ext cx="11018880" cy="2482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 rot="20860800">
            <a:off x="-1065240" y="1430280"/>
            <a:ext cx="10744200" cy="2559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 rot="20622000">
            <a:off x="-1004760" y="1773360"/>
            <a:ext cx="10148760" cy="2589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 rot="20749800">
            <a:off x="-612720" y="1916280"/>
            <a:ext cx="10288440" cy="3450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5"/>
          <a:srcRect l="-735" t="7503" r="0" b="3972"/>
          <a:stretch/>
        </p:blipFill>
        <p:spPr>
          <a:xfrm rot="20491800">
            <a:off x="-828720" y="2781360"/>
            <a:ext cx="10261800" cy="3124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6"/>
          <a:stretch/>
        </p:blipFill>
        <p:spPr>
          <a:xfrm rot="20662800">
            <a:off x="0" y="3141360"/>
            <a:ext cx="9756720" cy="3147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7"/>
          <a:srcRect l="0" t="0" r="832" b="2533"/>
          <a:stretch/>
        </p:blipFill>
        <p:spPr>
          <a:xfrm rot="20554800">
            <a:off x="395280" y="3573360"/>
            <a:ext cx="8959680" cy="2676600"/>
          </a:xfrm>
          <a:prstGeom prst="rect">
            <a:avLst/>
          </a:prstGeom>
          <a:ln w="0">
            <a:noFill/>
          </a:ln>
        </p:spPr>
      </p:pic>
      <p:sp>
        <p:nvSpPr>
          <p:cNvPr id="405" name="Oval 9"/>
          <p:cNvSpPr/>
          <p:nvPr/>
        </p:nvSpPr>
        <p:spPr>
          <a:xfrm>
            <a:off x="5867280" y="4724280"/>
            <a:ext cx="36036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4788000" y="4797360"/>
            <a:ext cx="936360" cy="35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"/>
          <p:cNvSpPr/>
          <p:nvPr/>
        </p:nvSpPr>
        <p:spPr>
          <a:xfrm rot="2712000">
            <a:off x="5003640" y="4222440"/>
            <a:ext cx="936720" cy="358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2"/>
          <p:cNvSpPr/>
          <p:nvPr/>
        </p:nvSpPr>
        <p:spPr>
          <a:xfrm rot="5400000">
            <a:off x="5577840" y="4005000"/>
            <a:ext cx="93672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3"/>
          <p:cNvSpPr/>
          <p:nvPr/>
        </p:nvSpPr>
        <p:spPr>
          <a:xfrm rot="19545000">
            <a:off x="6156000" y="429264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4"/>
          <p:cNvSpPr/>
          <p:nvPr/>
        </p:nvSpPr>
        <p:spPr>
          <a:xfrm rot="958800">
            <a:off x="6300360" y="4941360"/>
            <a:ext cx="936720" cy="35892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5"/>
          <p:cNvSpPr/>
          <p:nvPr/>
        </p:nvSpPr>
        <p:spPr>
          <a:xfrm rot="14817000">
            <a:off x="5867280" y="5373360"/>
            <a:ext cx="936720" cy="358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6"/>
          <p:cNvSpPr/>
          <p:nvPr/>
        </p:nvSpPr>
        <p:spPr>
          <a:xfrm rot="18753000">
            <a:off x="5148000" y="5300640"/>
            <a:ext cx="936720" cy="358920"/>
          </a:xfrm>
          <a:prstGeom prst="ellipse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7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1847880" cy="1990800"/>
          </a:xfrm>
          <a:prstGeom prst="rect">
            <a:avLst/>
          </a:prstGeom>
          <a:ln w="0">
            <a:noFill/>
          </a:ln>
        </p:spPr>
      </p:pic>
      <p:sp>
        <p:nvSpPr>
          <p:cNvPr id="414" name="Oval 18"/>
          <p:cNvSpPr/>
          <p:nvPr/>
        </p:nvSpPr>
        <p:spPr>
          <a:xfrm rot="1856400">
            <a:off x="7092720" y="5661000"/>
            <a:ext cx="647640" cy="28728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9"/>
          <p:cNvSpPr/>
          <p:nvPr/>
        </p:nvSpPr>
        <p:spPr>
          <a:xfrm rot="17910000">
            <a:off x="7451640" y="494208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 rot="7732200">
            <a:off x="890280" y="358272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 rot="18469800">
            <a:off x="3267360" y="558360"/>
            <a:ext cx="2695320" cy="2676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 rot="2986200">
            <a:off x="5785920" y="3438360"/>
            <a:ext cx="269568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77457E-006 C -0.00833 0.00185 -0.01805 0.00347 -0.02621 0.00647 C -0.03281 0.00902 -0.04583 0.01526 -0.04583 0.01526 C -0.05278 0.02266 -0.05746 0.03352 -0.06545 0.03699 C -0.06771 0.04069 -0.06927 0.04508 -0.07205 0.04786 C -0.07378 0.04971 -0.07656 0.04878 -0.07864 0.05017 C -0.08107 0.05179 -0.08333 0.0541 -0.08524 0.05665 C -0.08993 0.06289 -0.09253 0.06913 -0.09826 0.07422 C -0.10225 0.08902 -0.09653 0.07121 -0.10816 0.08948 C -0.1092 0.0911 -0.10868 0.0941 -0.10972 0.09595 C -0.11146 0.09942 -0.11441 0.1015 -0.11632 0.10474 C -0.12864 0.12485 -0.11927 0.11537 -0.12951 0.12439 C -0.13107 0.12809 -0.13246 0.13179 -0.13437 0.13526 C -0.13576 0.1378 -0.13802 0.13919 -0.13923 0.14173 C -0.14028 0.14381 -0.13958 0.14705 -0.14097 0.14844 C -0.14271 0.15029 -0.14531 0.14982 -0.14757 0.15052 C -0.14913 0.15352 -0.15104 0.15607 -0.15243 0.1593 C -0.1533 0.16139 -0.15295 0.16393 -0.15399 0.16578 C -0.15521 0.16786 -0.15764 0.16832 -0.15903 0.17017 C -0.16198 0.1741 -0.16475 0.17873 -0.16719 0.18335 C -0.17482 0.19745 -0.18073 0.21225 -0.1901 0.22474 C -0.19375 0.24323 -0.18871 0.22335 -0.2 0.24439 C -0.20208 0.24832 -0.20295 0.25341 -0.20486 0.25757 C -0.20972 0.26867 -0.21701 0.27607 -0.22118 0.28809 C -0.22344 0.30497 -0.22882 0.31283 -0.23437 0.3274 C -0.23732 0.34821 -0.23333 0.32902 -0.24097 0.34705 C -0.24479 0.35607 -0.24566 0.36624 -0.24913 0.37549 C -0.25278 0.39468 -0.25503 0.41364 -0.26059 0.43214 C -0.26111 0.43653 -0.26128 0.44115 -0.26232 0.44532 C -0.26285 0.44786 -0.26493 0.44925 -0.26545 0.45179 C -0.26805 0.46312 -0.26719 0.47769 -0.26719 0.48902 E">
                                      <p:cBhvr>
                                        <p:cTn id="1074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C 0.00746 0.00671 0.01389 0.00694 0.02292 0.00879 C 0.03316 0.01318 0.05417 0.0148 0.06389 0.02197 C 0.07691 0.03145 0.07899 0.03815 0.0934 0.04162 C 0.10156 0.04856 0.11007 0.04971 0.11962 0.05249 C 0.13368 0.06174 0.15017 0.06289 0.16545 0.06544 C 0.17535 0.06705 0.19496 0.06983 0.19496 0.06983 C 0.22153 0.07908 0.25 0.07746 0.27691 0.07862 C 0.32292 0.08509 0.31042 0.0844 0.3934 0.07653 C 0.42048 0.07399 0.44618 0.0511 0.47205 0.04162 C 0.47482 0.03931 0.47726 0.03653 0.48021 0.03492 C 0.48489 0.03214 0.49062 0.03214 0.49496 0.02844 C 0.5066 0.01827 0.49167 0.03052 0.50972 0.01966 C 0.51146 0.0185 0.51285 0.01665 0.51458 0.01526 C 0.51667 0.01364 0.51892 0.01203 0.52118 0.01087 C 0.52673 0.00786 0.53212 0.00578 0.53767 0.00231 C 0.54687 -0.0104 0.53732 0.00023 0.55243 -0.00647 C 0.56337 -0.01133 0.55382 -0.01086 0.55885 -0.01086 E">
                                      <p:cBhvr>
                                        <p:cTn id="107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5.78035E-007 C -0.00052 -0.02612 -0.00018 -0.05248 -0.00156 -0.07861 C -0.00174 -0.08231 -0.00643 -0.09826 -0.00816 -0.10242 C -0.01007 -0.10705 -0.01476 -0.1156 -0.01476 -0.1156 C -0.01649 -0.12578 -0.02031 -0.13133 -0.02465 -0.13965 C -0.02726 -0.15399 -0.03143 -0.16439 -0.03941 -0.17456 C -0.03993 -0.17734 -0.04132 -0.18682 -0.04254 -0.18982 C -0.04549 -0.19792 -0.05122 -0.2037 -0.05417 -0.21179 C -0.0625 -0.23491 -0.06979 -0.26034 -0.08681 -0.27491 C -0.09393 -0.2874 -0.10174 -0.30127 -0.1099 -0.31214 C -0.11233 -0.31537 -0.11563 -0.31768 -0.11806 -0.32092 C -0.12708 -0.33318 -0.11858 -0.32971 -0.13281 -0.34266 C -0.14358 -0.35237 -0.15434 -0.36046 -0.16563 -0.36878 C -0.175 -0.37549 -0.18542 -0.39098 -0.19514 -0.39514 C -0.20469 -0.3993 -0.19844 -0.3963 -0.21302 -0.40601 C -0.22778 -0.41595 -0.23993 -0.43422 -0.25573 -0.44092 C -0.26458 -0.44925 -0.26893 -0.45248 -0.27708 -0.45849 C -0.28507 -0.46451 -0.29028 -0.47144 -0.3 -0.47144 E">
                                      <p:cBhvr>
                                        <p:cTn id="107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0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39306E-006 C 0.01719 0.0074 0.03177 0.02313 0.04913 0.03053 C 0.07569 0.05573 0.09844 0.08648 0.12118 0.11792 C 0.13733 0.14012 0.11337 0.1096 0.12621 0.13087 C 0.12917 0.13573 0.1342 0.13781 0.13767 0.14197 C 0.1467 0.15261 0.15243 0.16694 0.16389 0.17249 C 0.16944 0.17989 0.17604 0.18521 0.18194 0.19214 C 0.18542 0.19607 0.18837 0.2007 0.19167 0.20509 C 0.1934 0.2074 0.1967 0.2118 0.1967 0.2118 C 0.20104 0.22983 0.19375 0.20394 0.20486 0.22474 C 0.20625 0.22729 0.20538 0.23099 0.20642 0.23353 C 0.20764 0.23631 0.20989 0.23792 0.21146 0.24024 C 0.21545 0.24648 0.2191 0.25318 0.22292 0.25966 C 0.22847 0.26914 0.23281 0.27954 0.23924 0.2881 C 0.24271 0.30151 0.23837 0.28902 0.24583 0.29896 C 0.25017 0.30474 0.25226 0.31422 0.25573 0.32093 C 0.25955 0.33665 0.26441 0.34128 0.27049 0.35376 C 0.27465 0.37064 0.26892 0.34914 0.27535 0.36671 C 0.28073 0.38151 0.28108 0.39931 0.28524 0.4148 C 0.28715 0.43053 0.29271 0.44694 0.2934 0.4629 C 0.29392 0.47446 0.2934 0.48625 0.2934 0.49781 E">
                                      <p:cBhvr>
                                        <p:cTn id="108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16763E-006 C -0.01164 0.01041 -0.02743 0.01133 -0.04098 0.01318 C -0.04914 0.01665 -0.05417 0.01758 -0.06059 0.02613 C -0.06216 0.02821 -0.06337 0.03122 -0.06546 0.03261 C -0.06806 0.03423 -0.07101 0.03423 -0.07379 0.03492 C -0.0849 0.04509 -0.07969 0.04209 -0.08855 0.04579 C -0.09445 0.0511 -0.09948 0.05434 -0.1066 0.05665 C -0.11059 0.06544 -0.11302 0.06405 -0.11962 0.06775 C -0.13351 0.07561 -0.14723 0.08001 -0.16233 0.08301 C -0.21372 0.08162 -0.26511 0.08209 -0.31632 0.07862 C -0.32153 0.07839 -0.32605 0.07376 -0.33108 0.07191 C -0.33716 0.06983 -0.34306 0.06775 -0.34914 0.06544 C -0.38091 0.05365 -0.41285 0.04209 -0.44427 0.02844 C -0.45122 0.02544 -0.45677 0.01804 -0.46389 0.01527 C -0.47882 0.00949 -0.49306 0.00093 -0.50816 -0.00439 C -0.51632 -0.00739 -0.52535 -0.00786 -0.53282 -0.01317 E">
                                      <p:cBhvr>
                                        <p:cTn id="108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63006E-006 C 0.00139 -0.02843 -0.00312 -0.06381 0.0099 -0.08947 C 0.01094 -0.09387 0.01059 -0.09942 0.01302 -0.10265 C 0.0191 -0.11051 0.02535 -0.12115 0.02952 -0.13109 C 0.03351 -0.14034 0.03646 -0.15028 0.04097 -0.1593 C 0.04861 -0.17433 0.05816 -0.18774 0.06563 -0.203 C 0.06875 -0.20947 0.07118 -0.2171 0.07535 -0.22265 C 0.08056 -0.22959 0.08455 -0.23653 0.08854 -0.24462 C 0.09063 -0.25942 0.09167 -0.25965 0.10157 -0.26635 C 0.10591 -0.27491 0.10851 -0.27375 0.11476 -0.27953 C 0.11858 -0.28693 0.12136 -0.29179 0.12778 -0.29479 C 0.14254 -0.30959 0.13629 -0.30404 0.14584 -0.31213 C 0.14966 -0.31999 0.15226 -0.32254 0.15903 -0.32531 C 0.16424 -0.33225 0.17101 -0.33965 0.17709 -0.34497 C 0.19028 -0.35676 0.17309 -0.33641 0.18681 -0.35144 C 0.204 -0.3704 0.17448 -0.34242 0.20157 -0.36693 C 0.22535 -0.38843 0.20434 -0.37849 0.21806 -0.38427 C 0.22604 -0.39236 0.23091 -0.40069 0.24097 -0.40393 C 0.24653 -0.40878 0.25087 -0.4104 0.25729 -0.41271 C 0.2632 -0.41803 0.27032 -0.42288 0.27709 -0.42566 C 0.28021 -0.4319 0.28299 -0.43375 0.28681 -0.43884 E">
                                      <p:cBhvr>
                                        <p:cTn id="1085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 rot="3538800">
            <a:off x="1739520" y="1004760"/>
            <a:ext cx="1352520" cy="2600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 rot="18765600">
            <a:off x="6165720" y="1258560"/>
            <a:ext cx="1419120" cy="259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4"/>
          <a:stretch/>
        </p:blipFill>
        <p:spPr>
          <a:xfrm>
            <a:off x="3203640" y="692280"/>
            <a:ext cx="2695680" cy="267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5"/>
          <a:stretch/>
        </p:blipFill>
        <p:spPr>
          <a:xfrm rot="7660200">
            <a:off x="1104840" y="4806720"/>
            <a:ext cx="1145880" cy="1270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6"/>
          <a:stretch/>
        </p:blipFill>
        <p:spPr>
          <a:xfrm rot="7660200">
            <a:off x="7370280" y="1279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"/>
          <p:cNvPicPr/>
          <p:nvPr/>
        </p:nvPicPr>
        <p:blipFill>
          <a:blip r:embed="rId7"/>
          <a:stretch/>
        </p:blipFill>
        <p:spPr>
          <a:xfrm rot="7660200">
            <a:off x="7657560" y="322236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8"/>
          <a:stretch/>
        </p:blipFill>
        <p:spPr>
          <a:xfrm rot="7660200">
            <a:off x="7009920" y="50958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"/>
          <p:cNvPicPr/>
          <p:nvPr/>
        </p:nvPicPr>
        <p:blipFill>
          <a:blip r:embed="rId9"/>
          <a:stretch/>
        </p:blipFill>
        <p:spPr>
          <a:xfrm rot="7660200">
            <a:off x="5209920" y="538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"/>
          <p:cNvPicPr/>
          <p:nvPr/>
        </p:nvPicPr>
        <p:blipFill>
          <a:blip r:embed="rId10"/>
          <a:stretch/>
        </p:blipFill>
        <p:spPr>
          <a:xfrm rot="7660200">
            <a:off x="2761920" y="5454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"/>
          <p:cNvPicPr/>
          <p:nvPr/>
        </p:nvPicPr>
        <p:blipFill>
          <a:blip r:embed="rId11"/>
          <a:stretch/>
        </p:blipFill>
        <p:spPr>
          <a:xfrm rot="7660200">
            <a:off x="2688840" y="271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"/>
          <p:cNvPicPr/>
          <p:nvPr/>
        </p:nvPicPr>
        <p:blipFill>
          <a:blip r:embed="rId12"/>
          <a:stretch/>
        </p:blipFill>
        <p:spPr>
          <a:xfrm rot="7660200">
            <a:off x="5425560" y="342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13"/>
          <a:stretch/>
        </p:blipFill>
        <p:spPr>
          <a:xfrm rot="7660200">
            <a:off x="601200" y="120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5" descr=""/>
          <p:cNvPicPr/>
          <p:nvPr/>
        </p:nvPicPr>
        <p:blipFill>
          <a:blip r:embed="rId14"/>
          <a:stretch/>
        </p:blipFill>
        <p:spPr>
          <a:xfrm rot="7660200">
            <a:off x="312480" y="3151080"/>
            <a:ext cx="114624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79191E-006 C 0.02344 -0.00069 0.04705 -0.00023 0.07048 -0.00208 C 0.07986 -0.00277 0.08784 -0.01248 0.0967 -0.01526 C 0.1026 -0.02058 0.10798 -0.02173 0.11475 -0.02405 C 0.12587 -0.03399 0.1118 -0.02289 0.12951 -0.03052 C 0.13142 -0.03144 0.13264 -0.03376 0.13437 -0.03491 C 0.13889 -0.03815 0.14444 -0.03838 0.14913 -0.04139 C 0.15607 -0.04601 0.16319 -0.05156 0.17048 -0.05457 C 0.17569 -0.05942 0.17986 -0.0652 0.18524 -0.06983 C 0.19409 -0.08879 0.1901 -0.0948 0.1901 -0.12439 E">
                                      <p:cBhvr>
                                        <p:cTn id="112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46 C -0.04253 0.00555 -0.07986 0.00301 -0.12431 0.00185 C -0.13472 -0.00809 -0.14514 -0.01664 -0.15503 -0.02797 C -0.16059 -0.03445 -0.15972 -0.03005 -0.16458 -0.0393 C -0.17153 -0.05318 -0.16424 -0.04347 -0.17101 -0.05549 C -0.1724 -0.0578 -0.17448 -0.05965 -0.17587 -0.06219 C -0.17813 -0.06659 -0.18229 -0.07607 -0.18229 -0.07584 C -0.18281 -0.07907 -0.18316 -0.08231 -0.18403 -0.08508 C -0.1849 -0.08763 -0.18646 -0.08925 -0.18715 -0.09202 C -0.19184 -0.11075 -0.1967 -0.13549 -0.1967 -0.15584 E">
                                      <p:cBhvr>
                                        <p:cTn id="112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9306E-006 C -0.00955 0.00115 -0.01806 0.0037 -0.02743 0.00531 C -0.0375 0.01734 -0.02899 0.00948 -0.0533 0.01271 C -0.06007 0.01364 -0.06476 0.01872 -0.07101 0.02034 C -0.07639 0.02173 -0.08194 0.0215 -0.08715 0.02219 C -0.09132 0.02265 -0.09583 0.02312 -0.10017 0.02381 C -0.10608 0.02497 -0.11788 0.02774 -0.11788 0.02797 C -0.12847 0.03352 -0.13837 0.03722 -0.14983 0.03884 C -0.16059 0.043 -0.1533 0.04046 -0.17274 0.04462 C -0.18316 0.04647 -0.17118 0.04624 -0.18403 0.04994 C -0.1875 0.05109 -0.19149 0.05109 -0.19531 0.05156 C -0.20278 0.05526 -0.21007 0.05664 -0.21771 0.05919 C -0.22118 0.06034 -0.22413 0.06358 -0.2276 0.06474 C -0.2375 0.06797 -0.23854 0.0652 -0.24687 0.06867 C -0.25243 0.07075 -0.26215 0.07422 -0.26788 0.07976 C -0.27309 0.08485 -0.27569 0.08832 -0.28229 0.09109 C -0.28941 0.10335 -0.28056 0.09063 -0.29184 0.09803 C -0.29653 0.10127 -0.30052 0.10566 -0.30486 0.10936 C -0.31198 0.11583 -0.3125 0.12624 -0.32083 0.12994 C -0.32413 0.13549 -0.32587 0.14104 -0.32917 0.14659 C -0.33229 0.16208 -0.3283 0.14682 -0.33385 0.15976 C -0.33646 0.16531 -0.33628 0.17225 -0.33871 0.17803 C -0.34566 0.19445 -0.33889 0.17387 -0.34358 0.18913 C -0.34687 0.21456 -0.34427 0.24 -0.34201 0.26543 C -0.34184 0.26843 -0.34323 0.30265 -0.33715 0.3119 C -0.33038 0.32208 -0.32118 0.32971 -0.31285 0.3378 C -0.30417 0.34635 -0.31146 0.34057 -0.30486 0.3489 C -0.29618 0.36023 -0.28576 0.37202 -0.27413 0.37872 C -0.26771 0.38659 -0.25937 0.39167 -0.25 0.39398 C -0.22153 0.4104 -0.19809 0.42335 -0.16615 0.42728 C -0.13177 0.43676 -0.16684 0.42751 -0.07431 0.43098 C -0.04653 0.4319 -0.02014 0.44046 0.00816 0.44046 E">
                                      <p:cBhvr>
                                        <p:cTn id="1136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4625 C 0.04028 0.04925 0.05486 0.05272 0.06945 0.05434 C 0.09601 0.0622 0.11372 0.05804 0.1441 0.05688 C 0.16875 0.05272 0.19184 0.04602 0.21563 0.03862 C 0.22222 0.03422 0.22847 0.03284 0.2349 0.03006 C 0.24115 0.02752 0.2467 0.02382 0.25295 0.02197 C 0.2599 0.01596 0.26893 0.01318 0.27709 0.00925 C 0.28316 0.00255 0.28906 0.0007 0.2967 -0.00254 C 0.29965 -0.00508 0.30365 -0.00601 0.30643 -0.00855 C 0.31632 -0.01896 0.30261 -0.01179 0.31441 -0.01687 C 0.33021 -0.02982 0.33715 -0.05456 0.34705 -0.07398 C 0.34757 -0.07676 0.34792 -0.0793 0.34861 -0.08208 C 0.34948 -0.08462 0.35139 -0.08739 0.35191 -0.0904 C 0.35399 -0.10081 0.35399 -0.1119 0.35556 -0.12277 C 0.35469 -0.14358 0.35556 -0.16393 0.3533 -0.18427 C 0.35278 -0.1919 0.34462 -0.21711 0.34045 -0.2245 C 0.33889 -0.22774 0.33611 -0.22982 0.33403 -0.23283 C 0.32222 -0.25133 0.3316 -0.23884 0.32431 -0.25341 C 0.31424 -0.27306 0.29028 -0.31098 0.27222 -0.31884 C 0.27136 -0.32069 0.27084 -0.32346 0.26893 -0.32485 C 0.26719 -0.32647 0.26476 -0.32578 0.2625 -0.3267 C 0.2474 -0.33664 0.26493 -0.32994 0.24965 -0.33711 C 0.24323 -0.34011 0.23004 -0.34543 0.23004 -0.3452 C 0.21563 -0.35907 0.23264 -0.34497 0.20243 -0.35699 C 0.14045 -0.38335 0.10347 -0.37641 0.02709 -0.3778 C 0.02292 -0.37942 0.01771 -0.37988 0.01476 -0.38335 E">
                                      <p:cBhvr>
                                        <p:cTn id="113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0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8.67052E-007 C 0.02032 0.0007 0.04046 0.00116 0.06077 0.00231 C 0.06667 0.00278 0.08699 0.00786 0.09028 0.00879 C 0.09306 0.00948 0.09844 0.01087 0.09844 0.01087 C 0.10469 0.01503 0.10973 0.01757 0.1165 0.01965 C 0.12622 0.02636 0.13525 0.02775 0.14601 0.03052 C 0.16719 0.0363 0.18872 0.03908 0.2099 0.04578 C 0.21962 0.05434 0.22952 0.06127 0.23942 0.06983 C 0.24532 0.07491 0.24584 0.0726 0.25087 0.07861 C 0.25087 0.07861 0.2632 0.09503 0.26563 0.09827 C 0.27535 0.11122 0.28039 0.13364 0.29185 0.14405 C 0.29393 0.15607 0.29758 0.16393 0.30504 0.17041 C 0.30678 0.17757 0.3132 0.19006 0.3132 0.19006 C 0.32414 0.23561 0.31615 0.2 0.3132 0.32093 C 0.31303 0.32694 0.31094 0.33179 0.30817 0.33619 C 0.30365 0.34335 0.30105 0.3533 0.29515 0.35815 C 0.28733 0.36463 0.27987 0.37087 0.27223 0.37781 C 0.27032 0.37965 0.2691 0.38243 0.26719 0.38428 C 0.26407 0.38752 0.26077 0.39006 0.25747 0.39307 C 0.25574 0.39445 0.25244 0.39746 0.25244 0.39746 C 0.24289 0.41411 0.22987 0.4185 0.21476 0.4215 C 0.20122 0.42728 0.21581 0.42174 0.18525 0.42567 C 0.15574 0.4296 0.13004 0.43491 0.10001 0.43676 C 0.0724 0.44278 0.11719 0.43353 0.05747 0.44093 C 0.03369 0.44393 0.01285 0.44971 -0.01145 0.44971 E">
                                      <p:cBhvr>
                                        <p:cTn id="1141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3.46821E-007 C -0.00903 -0.0037 -0.01719 -0.00787 -0.02639 -0.01087 C -0.07917 -0.00879 -0.08455 -0.00671 -0.14097 -0.01318 C -0.14965 -0.01411 -0.16007 -0.01989 -0.16892 -0.02174 C -0.17552 -0.02313 -0.18854 -0.02613 -0.18854 -0.02613 C -0.19514 -0.03191 -0.20226 -0.03815 -0.2099 -0.04139 C -0.21146 -0.04278 -0.21302 -0.04463 -0.21476 -0.04578 C -0.21788 -0.04763 -0.22465 -0.05018 -0.22465 -0.05018 C -0.22795 -0.05318 -0.23073 -0.05781 -0.23455 -0.05896 C -0.24149 -0.06128 -0.25139 -0.06289 -0.25746 -0.06775 C -0.26146 -0.07099 -0.26458 -0.0763 -0.26892 -0.07862 C -0.27604 -0.08255 -0.28281 -0.08486 -0.29028 -0.0874 C -0.29358 -0.09018 -0.2967 -0.09318 -0.3 -0.09596 C -0.30729 -0.10243 -0.30868 -0.11977 -0.31319 -0.12879 C -0.31545 -0.14174 -0.31371 -0.13341 -0.31649 -0.14405 C -0.31753 -0.14844 -0.31979 -0.15723 -0.31979 -0.15723 C -0.32274 -0.18104 -0.32726 -0.20532 -0.33125 -0.22914 C -0.33125 -0.23006 -0.32986 -0.2881 -0.32465 -0.29688 C -0.3217 -0.30174 -0.31736 -0.30498 -0.31476 -0.31006 C -0.31267 -0.31446 -0.30972 -0.31815 -0.30833 -0.32301 C -0.30729 -0.32671 -0.30694 -0.3311 -0.30503 -0.33411 C -0.30382 -0.33596 -0.30174 -0.3355 -0.3 -0.33619 C -0.29462 -0.34729 -0.28524 -0.35515 -0.27708 -0.36232 C -0.27031 -0.3681 -0.26996 -0.36509 -0.26406 -0.36902 C -0.25642 -0.37411 -0.24948 -0.3792 -0.24097 -0.38197 C -0.23819 -0.39353 -0.22951 -0.39399 -0.22135 -0.39746 C -0.20451 -0.40486 -0.18785 -0.40925 -0.17049 -0.4148 C -0.10573 -0.43515 -0.03906 -0.42128 0.02778 -0.42128 E">
                                      <p:cBhvr>
                                        <p:cTn id="1143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 rot="2733600">
            <a:off x="5354640" y="156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3"/>
          <a:stretch/>
        </p:blipFill>
        <p:spPr>
          <a:xfrm rot="19381200">
            <a:off x="2842920" y="14839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4"/>
          <a:stretch/>
        </p:blipFill>
        <p:spPr>
          <a:xfrm>
            <a:off x="2124000" y="2781360"/>
            <a:ext cx="1270080" cy="1146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5"/>
          <a:stretch/>
        </p:blipFill>
        <p:spPr>
          <a:xfrm rot="13517400">
            <a:off x="2761920" y="394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6"/>
          <a:stretch/>
        </p:blipFill>
        <p:spPr>
          <a:xfrm>
            <a:off x="3986280" y="4375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7"/>
          <a:stretch/>
        </p:blipFill>
        <p:spPr>
          <a:xfrm rot="8505600">
            <a:off x="5219280" y="40050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"/>
          <p:cNvPicPr/>
          <p:nvPr/>
        </p:nvPicPr>
        <p:blipFill>
          <a:blip r:embed="rId8"/>
          <a:stretch/>
        </p:blipFill>
        <p:spPr>
          <a:xfrm>
            <a:off x="5796000" y="2852640"/>
            <a:ext cx="1270080" cy="1146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9"/>
          <a:stretch/>
        </p:blipFill>
        <p:spPr>
          <a:xfrm>
            <a:off x="3995640" y="2781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10"/>
          <a:stretch/>
        </p:blipFill>
        <p:spPr>
          <a:xfrm>
            <a:off x="7477200" y="2421000"/>
            <a:ext cx="1666800" cy="1503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11"/>
          <a:stretch/>
        </p:blipFill>
        <p:spPr>
          <a:xfrm rot="18873000">
            <a:off x="692640" y="754920"/>
            <a:ext cx="1503360" cy="1666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12"/>
          <a:stretch/>
        </p:blipFill>
        <p:spPr>
          <a:xfrm rot="3297600">
            <a:off x="7030080" y="610200"/>
            <a:ext cx="1503360" cy="16671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3"/>
          <a:stretch/>
        </p:blipFill>
        <p:spPr>
          <a:xfrm rot="6982800">
            <a:off x="7174800" y="3994560"/>
            <a:ext cx="1503360" cy="1666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4"/>
          <a:stretch/>
        </p:blipFill>
        <p:spPr>
          <a:xfrm>
            <a:off x="0" y="2565360"/>
            <a:ext cx="1666800" cy="1503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5"/>
          <a:stretch/>
        </p:blipFill>
        <p:spPr>
          <a:xfrm rot="13672800">
            <a:off x="765720" y="4210560"/>
            <a:ext cx="150336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0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1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4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3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9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2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5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8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1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4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7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0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3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2"/>
          <p:cNvSpPr txBox="1"/>
          <p:nvPr/>
        </p:nvSpPr>
        <p:spPr>
          <a:xfrm>
            <a:off x="1692360" y="1341360"/>
            <a:ext cx="568800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9" name="WordArt 3"/>
          <p:cNvSpPr txBox="1"/>
          <p:nvPr/>
        </p:nvSpPr>
        <p:spPr>
          <a:xfrm>
            <a:off x="1692360" y="4005360"/>
            <a:ext cx="583236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ре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276640" cy="2656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2"/>
          <a:stretch/>
        </p:blipFill>
        <p:spPr>
          <a:xfrm rot="3834600">
            <a:off x="3192840" y="1855080"/>
            <a:ext cx="5986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0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ность чисел 12 и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меньшите н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50920" y="314172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сумме чисел 7 и 8 прибавьте 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332000" y="242100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дите периметр прямоуголь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 сторонами 5 и 2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2268360" y="3141720"/>
            <a:ext cx="1008360" cy="100944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меньшаемое – 34, вычитаемое – 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дите раз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3276720" y="242100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е число больше 17 на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4140360" y="314172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 открытка стоит 5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олько стоят 3 такие открыт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5076720" y="2492280"/>
            <a:ext cx="1008000" cy="10098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800"/>
              <a:gd name="textAreaBottom" fmla="*/ 77940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сколько число 43 больше 2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6084720" y="3141720"/>
            <a:ext cx="1008360" cy="100944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дите периметр квадр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 стороной 4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7093080" y="242100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ьте число 54 на 6 едини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7885080" y="3213000"/>
            <a:ext cx="1008000" cy="10098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800"/>
              <a:gd name="textAreaBottom" fmla="*/ 77940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ставьте из полученных букв слово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395280" y="2637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1" lang="ru-RU" sz="8800" spc="-1" strike="noStrike" u="sng">
                <a:solidFill>
                  <a:srgbClr val="ff3300"/>
                </a:solidFill>
                <a:uFillTx/>
                <a:latin typeface="Times New Roman"/>
              </a:rPr>
              <a:t>ЕО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МЕТР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3"/>
          <p:cNvSpPr/>
          <p:nvPr/>
        </p:nvSpPr>
        <p:spPr>
          <a:xfrm rot="1876200">
            <a:off x="4858920" y="2060640"/>
            <a:ext cx="14436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43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Прямоугольный треугольник 3"/>
          <p:cNvSpPr/>
          <p:nvPr/>
        </p:nvSpPr>
        <p:spPr>
          <a:xfrm>
            <a:off x="324000" y="2276640"/>
            <a:ext cx="2160360" cy="316836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Трапеция 5"/>
          <p:cNvSpPr/>
          <p:nvPr/>
        </p:nvSpPr>
        <p:spPr>
          <a:xfrm>
            <a:off x="2843280" y="2276640"/>
            <a:ext cx="2881080" cy="3168360"/>
          </a:xfrm>
          <a:custGeom>
            <a:avLst/>
            <a:gdLst>
              <a:gd name="textAreaLeft" fmla="*/ 480240 w 2881080"/>
              <a:gd name="textAreaRight" fmla="*/ 2400840 w 2881080"/>
              <a:gd name="textAreaTop" fmla="*/ 527760 h 3168360"/>
              <a:gd name="textAreaBottom" fmla="*/ 3168720 h 3168360"/>
            </a:gdLst>
            <a:ahLst/>
            <a:rect l="textAreaLeft" t="textAreaTop" r="textAreaRight" b="textAreaBottom"/>
            <a:pathLst>
              <a:path w="2881312" h="3168650">
                <a:moveTo>
                  <a:pt x="0" y="3168650"/>
                </a:moveTo>
                <a:lnTo>
                  <a:pt x="720328" y="0"/>
                </a:lnTo>
                <a:lnTo>
                  <a:pt x="2160984" y="0"/>
                </a:lnTo>
                <a:lnTo>
                  <a:pt x="2881312" y="316865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араллелограмм 6"/>
          <p:cNvSpPr/>
          <p:nvPr/>
        </p:nvSpPr>
        <p:spPr>
          <a:xfrm>
            <a:off x="6012000" y="2205000"/>
            <a:ext cx="2952720" cy="32400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43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Прямоугольный треугольник 3"/>
          <p:cNvSpPr/>
          <p:nvPr/>
        </p:nvSpPr>
        <p:spPr>
          <a:xfrm>
            <a:off x="324000" y="2276640"/>
            <a:ext cx="2160360" cy="316836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Трапеция 5"/>
          <p:cNvSpPr/>
          <p:nvPr/>
        </p:nvSpPr>
        <p:spPr>
          <a:xfrm>
            <a:off x="2843280" y="2276640"/>
            <a:ext cx="2881080" cy="3168360"/>
          </a:xfrm>
          <a:custGeom>
            <a:avLst/>
            <a:gdLst>
              <a:gd name="textAreaLeft" fmla="*/ 480240 w 2881080"/>
              <a:gd name="textAreaRight" fmla="*/ 2400840 w 2881080"/>
              <a:gd name="textAreaTop" fmla="*/ 527760 h 3168360"/>
              <a:gd name="textAreaBottom" fmla="*/ 3168720 h 3168360"/>
            </a:gdLst>
            <a:ahLst/>
            <a:rect l="textAreaLeft" t="textAreaTop" r="textAreaRight" b="textAreaBottom"/>
            <a:pathLst>
              <a:path w="2881312" h="3168650">
                <a:moveTo>
                  <a:pt x="0" y="3168650"/>
                </a:moveTo>
                <a:lnTo>
                  <a:pt x="720328" y="0"/>
                </a:lnTo>
                <a:lnTo>
                  <a:pt x="2160984" y="0"/>
                </a:lnTo>
                <a:lnTo>
                  <a:pt x="2881312" y="316865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араллелограмм 6"/>
          <p:cNvSpPr/>
          <p:nvPr/>
        </p:nvSpPr>
        <p:spPr>
          <a:xfrm>
            <a:off x="6012000" y="2205000"/>
            <a:ext cx="2952720" cy="32400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8"/>
          <p:cNvSpPr/>
          <p:nvPr/>
        </p:nvSpPr>
        <p:spPr>
          <a:xfrm>
            <a:off x="324000" y="386064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10"/>
          <p:cNvSpPr/>
          <p:nvPr/>
        </p:nvSpPr>
        <p:spPr>
          <a:xfrm>
            <a:off x="1403280" y="3860640"/>
            <a:ext cx="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0"/>
          <p:cNvSpPr/>
          <p:nvPr/>
        </p:nvSpPr>
        <p:spPr>
          <a:xfrm>
            <a:off x="3564000" y="2276640"/>
            <a:ext cx="7128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8"/>
          <p:cNvSpPr/>
          <p:nvPr/>
        </p:nvSpPr>
        <p:spPr>
          <a:xfrm>
            <a:off x="4932360" y="2276640"/>
            <a:ext cx="7128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30"/>
          <p:cNvSpPr/>
          <p:nvPr/>
        </p:nvSpPr>
        <p:spPr>
          <a:xfrm>
            <a:off x="6732720" y="2205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34"/>
          <p:cNvSpPr/>
          <p:nvPr/>
        </p:nvSpPr>
        <p:spPr>
          <a:xfrm flipV="1">
            <a:off x="8172360" y="2205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557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52  № 4, 8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4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nodeType="clickEffect" fill="hold">
                      <p:stCondLst>
                        <p:cond delay="0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0" y="928440"/>
            <a:ext cx="8820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Геометри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это раздел математики, изучающий пространственные отношения и формы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Геометрия зародилась в глубокой древности. Строя жилища и храмы, украшая их орнаментами, человек применял свои знания о форме, размерах и взаимном расположении предметов. Из геометрии вышла наука, которая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математико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1619280" y="4365720"/>
            <a:ext cx="7207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7020000" y="4437000"/>
            <a:ext cx="71892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627280" y="4365720"/>
            <a:ext cx="7207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6084720" y="4437000"/>
            <a:ext cx="72072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"/>
          <p:cNvSpPr/>
          <p:nvPr/>
        </p:nvSpPr>
        <p:spPr>
          <a:xfrm>
            <a:off x="1643040" y="1484280"/>
            <a:ext cx="6097680" cy="38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miter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Arial"/>
              </a:rPr>
              <a:t>Стра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Arial"/>
              </a:rPr>
              <a:t>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1835280" y="3429000"/>
            <a:ext cx="122400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6443640" y="3429000"/>
            <a:ext cx="122400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187280" y="5877000"/>
            <a:ext cx="7345440" cy="64764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324000" y="549360"/>
            <a:ext cx="2016000" cy="863640"/>
          </a:xfrm>
          <a:prstGeom prst="cloudCallout">
            <a:avLst>
              <a:gd name="adj1" fmla="val -30550"/>
              <a:gd name="adj2" fmla="val 318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1619280" y="765000"/>
            <a:ext cx="2376360" cy="1366920"/>
          </a:xfrm>
          <a:prstGeom prst="cloudCallout">
            <a:avLst>
              <a:gd name="adj1" fmla="val -18337"/>
              <a:gd name="adj2" fmla="val 168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3564000" y="404640"/>
            <a:ext cx="2016000" cy="863640"/>
          </a:xfrm>
          <a:prstGeom prst="cloudCallout">
            <a:avLst>
              <a:gd name="adj1" fmla="val -30550"/>
              <a:gd name="adj2" fmla="val 318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 rot="19276800">
            <a:off x="6332400" y="76320"/>
            <a:ext cx="2772000" cy="2736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3300"/>
              </a:gs>
              <a:gs pos="100000">
                <a:srgbClr val="ffff00"/>
              </a:gs>
            </a:gsLst>
            <a:lin ang="5022000"/>
          </a:gradFill>
          <a:ln w="0">
            <a:noFill/>
          </a:ln>
          <a:effectLst>
            <a:outerShdw dist="153753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161928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34817"/>
              </a:gs>
              <a:gs pos="100000">
                <a:srgbClr val="66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219564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5"/>
          <p:cNvSpPr/>
          <p:nvPr/>
        </p:nvSpPr>
        <p:spPr>
          <a:xfrm>
            <a:off x="284328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>
            <a:off x="738036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673272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8"/>
          <p:cNvSpPr/>
          <p:nvPr/>
        </p:nvSpPr>
        <p:spPr>
          <a:xfrm>
            <a:off x="608472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3"/>
          <p:cNvSpPr/>
          <p:nvPr/>
        </p:nvSpPr>
        <p:spPr>
          <a:xfrm>
            <a:off x="3500280" y="4214880"/>
            <a:ext cx="2571840" cy="1928880"/>
          </a:xfrm>
          <a:prstGeom prst="rect">
            <a:avLst/>
          </a:prstGeom>
          <a:solidFill>
            <a:srgbClr val="9b2d1f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Трапеция 4"/>
          <p:cNvSpPr/>
          <p:nvPr/>
        </p:nvSpPr>
        <p:spPr>
          <a:xfrm>
            <a:off x="3500280" y="3071880"/>
            <a:ext cx="2571840" cy="1143000"/>
          </a:xfrm>
          <a:custGeom>
            <a:avLst/>
            <a:gdLst>
              <a:gd name="textAreaLeft" fmla="*/ 190440 w 2571840"/>
              <a:gd name="textAreaRight" fmla="*/ 2381400 w 2571840"/>
              <a:gd name="textAreaTop" fmla="*/ 84600 h 1143000"/>
              <a:gd name="textAreaBottom" fmla="*/ 1143360 h 1143000"/>
            </a:gdLst>
            <a:ahLst/>
            <a:rect l="textAreaLeft" t="textAreaTop" r="textAreaRight" b="textAreaBottom"/>
            <a:pathLst>
              <a:path w="2571750" h="1143000">
                <a:moveTo>
                  <a:pt x="0" y="1143000"/>
                </a:moveTo>
                <a:lnTo>
                  <a:pt x="285750" y="0"/>
                </a:lnTo>
                <a:lnTo>
                  <a:pt x="2286000" y="0"/>
                </a:lnTo>
                <a:lnTo>
                  <a:pt x="2571750" y="11430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3786120" y="1285920"/>
            <a:ext cx="2000160" cy="178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6"/>
          <p:cNvSpPr/>
          <p:nvPr/>
        </p:nvSpPr>
        <p:spPr>
          <a:xfrm>
            <a:off x="4214880" y="1714680"/>
            <a:ext cx="1071360" cy="1071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Равнобедренный треугольник 7"/>
          <p:cNvGrpSpPr/>
          <p:nvPr/>
        </p:nvGrpSpPr>
        <p:grpSpPr>
          <a:xfrm>
            <a:off x="3376440" y="255600"/>
            <a:ext cx="2676600" cy="1109520"/>
            <a:chOff x="3376440" y="255600"/>
            <a:chExt cx="2676600" cy="1109520"/>
          </a:xfrm>
        </p:grpSpPr>
        <p:pic>
          <p:nvPicPr>
            <p:cNvPr id="285" name="Равнобедренный треугольник 7" descr=""/>
            <p:cNvPicPr/>
            <p:nvPr/>
          </p:nvPicPr>
          <p:blipFill>
            <a:blip r:embed="rId1"/>
            <a:stretch/>
          </p:blipFill>
          <p:spPr>
            <a:xfrm>
              <a:off x="3376440" y="255600"/>
              <a:ext cx="267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071960" y="785880"/>
              <a:ext cx="1285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Прямоугольник 8"/>
          <p:cNvSpPr/>
          <p:nvPr/>
        </p:nvSpPr>
        <p:spPr>
          <a:xfrm>
            <a:off x="6286680" y="4214880"/>
            <a:ext cx="857160" cy="1928880"/>
          </a:xfrm>
          <a:prstGeom prst="rect">
            <a:avLst/>
          </a:prstGeom>
          <a:solidFill>
            <a:srgbClr val="855d5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2428920" y="4214880"/>
            <a:ext cx="857160" cy="1928880"/>
          </a:xfrm>
          <a:prstGeom prst="rect">
            <a:avLst/>
          </a:prstGeom>
          <a:solidFill>
            <a:srgbClr val="855d5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Равнобедренный треугольник 10"/>
          <p:cNvSpPr/>
          <p:nvPr/>
        </p:nvSpPr>
        <p:spPr>
          <a:xfrm>
            <a:off x="6143760" y="3286080"/>
            <a:ext cx="1143000" cy="92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Равнобедренный треугольник 11"/>
          <p:cNvSpPr/>
          <p:nvPr/>
        </p:nvSpPr>
        <p:spPr>
          <a:xfrm>
            <a:off x="2286000" y="3286080"/>
            <a:ext cx="1071720" cy="92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12" descr="C:\Users\Наталья\Desktop\фгос\igra_podberi_figuri1.jpg"/>
          <p:cNvPicPr/>
          <p:nvPr/>
        </p:nvPicPr>
        <p:blipFill>
          <a:blip r:embed="rId2"/>
          <a:srcRect l="1444" t="1800" r="2394" b="7348"/>
          <a:stretch/>
        </p:blipFill>
        <p:spPr>
          <a:xfrm>
            <a:off x="285840" y="5572080"/>
            <a:ext cx="1643040" cy="10256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3" descr="C:\Users\Наталья\Desktop\фгос\igra_podberi_figuri28.jpg"/>
          <p:cNvPicPr/>
          <p:nvPr/>
        </p:nvPicPr>
        <p:blipFill>
          <a:blip r:embed="rId3"/>
          <a:stretch/>
        </p:blipFill>
        <p:spPr>
          <a:xfrm>
            <a:off x="7715160" y="5214960"/>
            <a:ext cx="1285920" cy="10238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4" descr="C:\Users\Наталья\Desktop\фгос\igra_podberi_figuri19.jpg"/>
          <p:cNvPicPr/>
          <p:nvPr/>
        </p:nvPicPr>
        <p:blipFill>
          <a:blip r:embed="rId4"/>
          <a:stretch/>
        </p:blipFill>
        <p:spPr>
          <a:xfrm>
            <a:off x="7143840" y="1357200"/>
            <a:ext cx="185724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5280" y="2133720"/>
            <a:ext cx="85694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Monotype Corsiva"/>
              </a:rPr>
              <a:t>Перимет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Monotype Corsiva"/>
              </a:rPr>
              <a:t>прямоугольн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12" descr="C:\Users\Наталья\Desktop\фгос\igra_podberi_figuri1.jpg"/>
          <p:cNvPicPr/>
          <p:nvPr/>
        </p:nvPicPr>
        <p:blipFill>
          <a:blip r:embed="rId1"/>
          <a:srcRect l="1444" t="1800" r="2394" b="7348"/>
          <a:stretch/>
        </p:blipFill>
        <p:spPr>
          <a:xfrm>
            <a:off x="285840" y="5357880"/>
            <a:ext cx="2143080" cy="123984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4" descr="C:\Users\Наталья\Desktop\фгос\igra_podberi_figuri19.jpg"/>
          <p:cNvPicPr/>
          <p:nvPr/>
        </p:nvPicPr>
        <p:blipFill>
          <a:blip r:embed="rId2"/>
          <a:stretch/>
        </p:blipFill>
        <p:spPr>
          <a:xfrm>
            <a:off x="6929280" y="21420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36147" dir="2700000" blurRad="0" rotWithShape="0">
              <a:srgbClr val="669900"/>
            </a:outerShdw>
          </a:effectLst>
        </p:spPr>
        <p:txBody>
          <a:bodyPr anchor="t">
            <a:normAutofit/>
          </a:bodyPr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умма длин всех сторон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е стороны прямоугольника равны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483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е прямоугольник со сторонами 5 см и 3 см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иметр прямоугольника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332000" y="3716280"/>
            <a:ext cx="4824360" cy="223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327480" y="30686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614640" y="39654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971640" y="785880"/>
            <a:ext cx="395748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Cambria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= 3 + 5 + 3 + 5 =16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71640" y="1785960"/>
            <a:ext cx="395748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Cambria"/>
              </a:rPr>
              <a:t>2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= 3 • 2 + 5 •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 = 16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116000" y="5429160"/>
            <a:ext cx="3313080" cy="73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Cambria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= (3+5) •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 = 16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571760" y="2857680"/>
            <a:ext cx="2736720" cy="1152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674440" y="25653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4474440" y="3357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332000" y="4437000"/>
            <a:ext cx="1441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(3+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8:41:50Z</dcterms:created>
  <dc:creator>1</dc:creator>
  <dc:description/>
  <dc:language>en-US</dc:language>
  <cp:lastModifiedBy>Биксалиева Альфия Шамильевна</cp:lastModifiedBy>
  <dcterms:modified xsi:type="dcterms:W3CDTF">2020-03-06T12:08:58Z</dcterms:modified>
  <cp:revision>158</cp:revision>
  <dc:subject/>
  <dc:title>Слайд 1</dc:title>
</cp:coreProperties>
</file>