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57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39.png" ContentType="image/png"/>
  <Override PartName="/ppt/media/image40.png" ContentType="image/png"/>
  <Override PartName="/ppt/media/image46.png" ContentType="image/png"/>
  <Override PartName="/ppt/media/image53.gif" ContentType="image/gif"/>
  <Override PartName="/ppt/media/image56.png" ContentType="image/png"/>
  <Override PartName="/ppt/media/image49.png" ContentType="image/png"/>
  <Override PartName="/ppt/media/image51.png" ContentType="image/png"/>
  <Override PartName="/ppt/media/image11.gif" ContentType="image/gif"/>
  <Override PartName="/ppt/media/image50.gif" ContentType="image/gif"/>
  <Override PartName="/ppt/media/image43.png" ContentType="image/png"/>
  <Override PartName="/ppt/media/image55.png" ContentType="image/png"/>
  <Override PartName="/ppt/media/image45.png" ContentType="image/png"/>
  <Override PartName="/ppt/media/image52.gif" ContentType="image/gif"/>
  <Override PartName="/ppt/media/image44.png" ContentType="image/png"/>
  <Override PartName="/ppt/media/image36.png" ContentType="image/png"/>
  <Override PartName="/ppt/media/image33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12.gif" ContentType="image/gif"/>
  <Override PartName="/ppt/media/image3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40AF-64BA-43D0-B679-14C37C7A90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235C-5A23-4242-A7E5-99DD1C57DD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мосферное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401-BC0E-4F6A-B640-E69AD00F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19B-3A92-4AA3-B0A1-D8045E21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5F5-32A1-4624-8ED3-2882CECA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30A-E630-4359-B56C-C3668B62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CD0E-0255-4A24-A6DF-F407DC83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9751-96A2-4092-99AA-B245E8D2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A5DF-0582-4B90-AD24-EE90851C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0F1B-ECD8-43A9-85F1-9D9D8F45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B111-EB22-4E97-9F23-302CDDA1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E61D-30F6-4186-AA2F-521DF4C1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7B58-66FD-46E0-9AEC-D2677FD2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AC3-254C-491E-B7C5-8D6285FE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3A58-459E-47BE-9A21-34FC890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6A97-6E4F-4935-8354-AE15AF93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A325-DD8C-4A5D-BFFD-4187ACA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0BDA-09EA-4408-8DC2-1512FC96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5546-048B-40A9-8D12-183D6D53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F408-D041-49F7-A71D-40A50834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2A86-08AB-472B-A8C2-20E66060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43B7-B1F4-489C-84BC-C431A88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A825-F58A-44E3-8056-D8006704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DF4B-BEEE-4535-A84A-C896326F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ECC-C818-4EC4-AE6F-70E4331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BD50-8FE0-436B-8A57-032F543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F913-9EF5-4C86-84C1-33E9750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431B-4FAE-4855-AB10-57A5182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FBFA8-7AB4-461C-8CCB-C3F05665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A4D5B-7365-49D9-BC20-8097542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2B53-D801-449B-B5AF-180131A6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A33E-E8D5-408D-A580-82520FBF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453-1545-4C5C-BB13-BF18BBE2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BE7-A218-432D-B6B0-D96ED7A8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8E4-31B6-48FD-84A5-C3D984E6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925-5B7F-4704-9669-D54560B0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716-A988-4BDB-AB0E-CB7DE2B2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F16-77A9-43D2-8F28-2CAA9198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2196-7600-407F-9CF4-B87640E01D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18B6-015E-433F-A601-724B1C5C3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277B-4523-4B2E-BD19-83E40B1C5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28.pn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1.jpeg"/><Relationship Id="rId11" Type="http://schemas.openxmlformats.org/officeDocument/2006/relationships/image" Target="../media/image31.jpeg"/><Relationship Id="rId12" Type="http://schemas.openxmlformats.org/officeDocument/2006/relationships/image" Target="../media/image31.jpeg"/><Relationship Id="rId13" Type="http://schemas.openxmlformats.org/officeDocument/2006/relationships/image" Target="../media/image31.jpeg"/><Relationship Id="rId14" Type="http://schemas.openxmlformats.org/officeDocument/2006/relationships/image" Target="../media/image31.jpeg"/><Relationship Id="rId15" Type="http://schemas.openxmlformats.org/officeDocument/2006/relationships/image" Target="../media/image31.jpeg"/><Relationship Id="rId16" Type="http://schemas.openxmlformats.org/officeDocument/2006/relationships/image" Target="../media/image31.jpeg"/><Relationship Id="rId17" Type="http://schemas.openxmlformats.org/officeDocument/2006/relationships/image" Target="../media/image31.jpeg"/><Relationship Id="rId18" Type="http://schemas.openxmlformats.org/officeDocument/2006/relationships/image" Target="../media/image31.jpeg"/><Relationship Id="rId19" Type="http://schemas.openxmlformats.org/officeDocument/2006/relationships/image" Target="../media/image31.jpeg"/><Relationship Id="rId20" Type="http://schemas.openxmlformats.org/officeDocument/2006/relationships/image" Target="../media/image31.jpeg"/><Relationship Id="rId21" Type="http://schemas.openxmlformats.org/officeDocument/2006/relationships/image" Target="../media/image31.jpeg"/><Relationship Id="rId22" Type="http://schemas.openxmlformats.org/officeDocument/2006/relationships/image" Target="../media/image32.png"/><Relationship Id="rId23" Type="http://schemas.openxmlformats.org/officeDocument/2006/relationships/image" Target="../media/image31.jpeg"/><Relationship Id="rId24" Type="http://schemas.openxmlformats.org/officeDocument/2006/relationships/image" Target="../media/image31.jpeg"/><Relationship Id="rId25" Type="http://schemas.openxmlformats.org/officeDocument/2006/relationships/image" Target="../media/image31.jpe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1.jpeg"/><Relationship Id="rId29" Type="http://schemas.openxmlformats.org/officeDocument/2006/relationships/image" Target="../media/image31.jpeg"/><Relationship Id="rId30" Type="http://schemas.openxmlformats.org/officeDocument/2006/relationships/image" Target="../media/image31.jpeg"/><Relationship Id="rId31" Type="http://schemas.openxmlformats.org/officeDocument/2006/relationships/image" Target="../media/image34.jpeg"/><Relationship Id="rId32" Type="http://schemas.openxmlformats.org/officeDocument/2006/relationships/image" Target="../media/image35.jpeg"/><Relationship Id="rId33" Type="http://schemas.openxmlformats.org/officeDocument/2006/relationships/image" Target="../media/image31.jpeg"/><Relationship Id="rId34" Type="http://schemas.openxmlformats.org/officeDocument/2006/relationships/image" Target="../media/image35.jpeg"/><Relationship Id="rId35" Type="http://schemas.openxmlformats.org/officeDocument/2006/relationships/image" Target="../media/image31.jpeg"/><Relationship Id="rId36" Type="http://schemas.openxmlformats.org/officeDocument/2006/relationships/image" Target="../media/image36.png"/><Relationship Id="rId37" Type="http://schemas.openxmlformats.org/officeDocument/2006/relationships/image" Target="../media/image37.jpeg"/><Relationship Id="rId38" Type="http://schemas.openxmlformats.org/officeDocument/2006/relationships/image" Target="../media/image31.jpeg"/><Relationship Id="rId39" Type="http://schemas.openxmlformats.org/officeDocument/2006/relationships/image" Target="../media/image31.jpeg"/><Relationship Id="rId40" Type="http://schemas.openxmlformats.org/officeDocument/2006/relationships/image" Target="../media/image31.jpeg"/><Relationship Id="rId41" Type="http://schemas.openxmlformats.org/officeDocument/2006/relationships/image" Target="../media/image38.png"/><Relationship Id="rId42" Type="http://schemas.openxmlformats.org/officeDocument/2006/relationships/image" Target="../media/image34.jpeg"/><Relationship Id="rId43" Type="http://schemas.openxmlformats.org/officeDocument/2006/relationships/image" Target="../media/image35.jpeg"/><Relationship Id="rId44" Type="http://schemas.openxmlformats.org/officeDocument/2006/relationships/image" Target="../media/image31.jpeg"/><Relationship Id="rId45" Type="http://schemas.openxmlformats.org/officeDocument/2006/relationships/image" Target="../media/image35.jpeg"/><Relationship Id="rId46" Type="http://schemas.openxmlformats.org/officeDocument/2006/relationships/image" Target="../media/image31.jpeg"/><Relationship Id="rId47" Type="http://schemas.openxmlformats.org/officeDocument/2006/relationships/image" Target="../media/image35.jpeg"/><Relationship Id="rId48" Type="http://schemas.openxmlformats.org/officeDocument/2006/relationships/image" Target="../media/image31.jpeg"/><Relationship Id="rId49" Type="http://schemas.openxmlformats.org/officeDocument/2006/relationships/image" Target="../media/image39.png"/><Relationship Id="rId50" Type="http://schemas.openxmlformats.org/officeDocument/2006/relationships/image" Target="../media/image31.jpeg"/><Relationship Id="rId51" Type="http://schemas.openxmlformats.org/officeDocument/2006/relationships/image" Target="../media/image31.jpeg"/><Relationship Id="rId52" Type="http://schemas.openxmlformats.org/officeDocument/2006/relationships/image" Target="../media/image31.jpeg"/><Relationship Id="rId53" Type="http://schemas.openxmlformats.org/officeDocument/2006/relationships/image" Target="../media/image31.jpeg"/><Relationship Id="rId54" Type="http://schemas.openxmlformats.org/officeDocument/2006/relationships/image" Target="../media/image31.jpeg"/><Relationship Id="rId55" Type="http://schemas.openxmlformats.org/officeDocument/2006/relationships/image" Target="../media/image31.jpeg"/><Relationship Id="rId56" Type="http://schemas.openxmlformats.org/officeDocument/2006/relationships/image" Target="../media/image29.jpeg"/><Relationship Id="rId57" Type="http://schemas.openxmlformats.org/officeDocument/2006/relationships/image" Target="../media/image40.png"/><Relationship Id="rId58" Type="http://schemas.openxmlformats.org/officeDocument/2006/relationships/image" Target="../media/image41.jpeg"/><Relationship Id="rId59" Type="http://schemas.openxmlformats.org/officeDocument/2006/relationships/image" Target="../media/image31.jpeg"/><Relationship Id="rId60" Type="http://schemas.openxmlformats.org/officeDocument/2006/relationships/image" Target="../media/image31.jpeg"/><Relationship Id="rId61" Type="http://schemas.openxmlformats.org/officeDocument/2006/relationships/image" Target="../media/image31.jpeg"/><Relationship Id="rId62" Type="http://schemas.openxmlformats.org/officeDocument/2006/relationships/image" Target="../media/image31.jpeg"/><Relationship Id="rId63" Type="http://schemas.openxmlformats.org/officeDocument/2006/relationships/image" Target="../media/image31.jpeg"/><Relationship Id="rId64" Type="http://schemas.openxmlformats.org/officeDocument/2006/relationships/image" Target="../media/image31.jpeg"/><Relationship Id="rId65" Type="http://schemas.openxmlformats.org/officeDocument/2006/relationships/image" Target="../media/image42.png"/><Relationship Id="rId66" Type="http://schemas.openxmlformats.org/officeDocument/2006/relationships/image" Target="../media/image31.jpeg"/><Relationship Id="rId67" Type="http://schemas.openxmlformats.org/officeDocument/2006/relationships/image" Target="../media/image31.jpeg"/><Relationship Id="rId68" Type="http://schemas.openxmlformats.org/officeDocument/2006/relationships/image" Target="../media/image31.jpeg"/><Relationship Id="rId69" Type="http://schemas.openxmlformats.org/officeDocument/2006/relationships/image" Target="../media/image31.jpeg"/><Relationship Id="rId70" Type="http://schemas.openxmlformats.org/officeDocument/2006/relationships/image" Target="../media/image31.jpeg"/><Relationship Id="rId71" Type="http://schemas.openxmlformats.org/officeDocument/2006/relationships/image" Target="../media/image31.jpeg"/><Relationship Id="rId72" Type="http://schemas.openxmlformats.org/officeDocument/2006/relationships/image" Target="../media/image31.jpeg"/><Relationship Id="rId73" Type="http://schemas.openxmlformats.org/officeDocument/2006/relationships/image" Target="../media/image31.jpeg"/><Relationship Id="rId74" Type="http://schemas.openxmlformats.org/officeDocument/2006/relationships/image" Target="../media/image31.jpeg"/><Relationship Id="rId75" Type="http://schemas.openxmlformats.org/officeDocument/2006/relationships/image" Target="../media/image37.jpeg"/><Relationship Id="rId76" Type="http://schemas.openxmlformats.org/officeDocument/2006/relationships/image" Target="../media/image31.jpeg"/><Relationship Id="rId77" Type="http://schemas.openxmlformats.org/officeDocument/2006/relationships/image" Target="../media/image31.jpeg"/><Relationship Id="rId78" Type="http://schemas.openxmlformats.org/officeDocument/2006/relationships/image" Target="../media/image31.jpeg"/><Relationship Id="rId79" Type="http://schemas.openxmlformats.org/officeDocument/2006/relationships/image" Target="../media/image41.jpeg"/><Relationship Id="rId80" Type="http://schemas.openxmlformats.org/officeDocument/2006/relationships/image" Target="../media/image43.png"/><Relationship Id="rId81" Type="http://schemas.openxmlformats.org/officeDocument/2006/relationships/image" Target="../media/image29.jpeg"/><Relationship Id="rId82" Type="http://schemas.openxmlformats.org/officeDocument/2006/relationships/image" Target="../media/image44.png"/><Relationship Id="rId83" Type="http://schemas.openxmlformats.org/officeDocument/2006/relationships/image" Target="../media/image45.png"/><Relationship Id="rId84" Type="http://schemas.openxmlformats.org/officeDocument/2006/relationships/image" Target="../media/image35.jpeg"/><Relationship Id="rId85" Type="http://schemas.openxmlformats.org/officeDocument/2006/relationships/image" Target="../media/image31.jpeg"/><Relationship Id="rId86" Type="http://schemas.openxmlformats.org/officeDocument/2006/relationships/image" Target="../media/image46.png"/><Relationship Id="rId87" Type="http://schemas.openxmlformats.org/officeDocument/2006/relationships/image" Target="../media/image31.jpeg"/><Relationship Id="rId88" Type="http://schemas.openxmlformats.org/officeDocument/2006/relationships/image" Target="../media/image31.jpeg"/><Relationship Id="rId89" Type="http://schemas.openxmlformats.org/officeDocument/2006/relationships/image" Target="../media/image31.jpeg"/><Relationship Id="rId90" Type="http://schemas.openxmlformats.org/officeDocument/2006/relationships/image" Target="../media/image46.png"/><Relationship Id="rId91" Type="http://schemas.openxmlformats.org/officeDocument/2006/relationships/image" Target="../media/image47.png"/><Relationship Id="rId92" Type="http://schemas.openxmlformats.org/officeDocument/2006/relationships/image" Target="../media/image31.jpeg"/><Relationship Id="rId93" Type="http://schemas.openxmlformats.org/officeDocument/2006/relationships/image" Target="../media/image31.jpeg"/><Relationship Id="rId94" Type="http://schemas.openxmlformats.org/officeDocument/2006/relationships/image" Target="../media/image31.jpeg"/><Relationship Id="rId95" Type="http://schemas.openxmlformats.org/officeDocument/2006/relationships/image" Target="../media/image34.jpeg"/><Relationship Id="rId96" Type="http://schemas.openxmlformats.org/officeDocument/2006/relationships/image" Target="../media/image35.jpeg"/><Relationship Id="rId97" Type="http://schemas.openxmlformats.org/officeDocument/2006/relationships/image" Target="../media/image31.jpeg"/><Relationship Id="rId98" Type="http://schemas.openxmlformats.org/officeDocument/2006/relationships/image" Target="../media/image35.jpeg"/><Relationship Id="rId99" Type="http://schemas.openxmlformats.org/officeDocument/2006/relationships/image" Target="../media/image31.jpeg"/><Relationship Id="rId100" Type="http://schemas.openxmlformats.org/officeDocument/2006/relationships/image" Target="../media/image48.png"/><Relationship Id="rId101" Type="http://schemas.openxmlformats.org/officeDocument/2006/relationships/image" Target="../media/image37.jpeg"/><Relationship Id="rId102" Type="http://schemas.openxmlformats.org/officeDocument/2006/relationships/image" Target="../media/image31.jpeg"/><Relationship Id="rId103" Type="http://schemas.openxmlformats.org/officeDocument/2006/relationships/image" Target="../media/image31.jpeg"/><Relationship Id="rId104" Type="http://schemas.openxmlformats.org/officeDocument/2006/relationships/image" Target="../media/image31.jpeg"/><Relationship Id="rId105" Type="http://schemas.openxmlformats.org/officeDocument/2006/relationships/image" Target="../media/image38.png"/><Relationship Id="rId106" Type="http://schemas.openxmlformats.org/officeDocument/2006/relationships/image" Target="../media/image34.jpeg"/><Relationship Id="rId107" Type="http://schemas.openxmlformats.org/officeDocument/2006/relationships/image" Target="../media/image35.jpeg"/><Relationship Id="rId108" Type="http://schemas.openxmlformats.org/officeDocument/2006/relationships/image" Target="../media/image31.jpeg"/><Relationship Id="rId109" Type="http://schemas.openxmlformats.org/officeDocument/2006/relationships/image" Target="../media/image35.jpeg"/><Relationship Id="rId110" Type="http://schemas.openxmlformats.org/officeDocument/2006/relationships/image" Target="../media/image31.jpeg"/><Relationship Id="rId111" Type="http://schemas.openxmlformats.org/officeDocument/2006/relationships/image" Target="../media/image35.jpeg"/><Relationship Id="rId112" Type="http://schemas.openxmlformats.org/officeDocument/2006/relationships/image" Target="../media/image31.jpeg"/><Relationship Id="rId113" Type="http://schemas.openxmlformats.org/officeDocument/2006/relationships/image" Target="../media/image49.png"/><Relationship Id="rId114" Type="http://schemas.openxmlformats.org/officeDocument/2006/relationships/image" Target="../media/image31.jpeg"/><Relationship Id="rId115" Type="http://schemas.openxmlformats.org/officeDocument/2006/relationships/image" Target="../media/image31.jpeg"/><Relationship Id="rId116" Type="http://schemas.openxmlformats.org/officeDocument/2006/relationships/image" Target="../media/image31.jpeg"/><Relationship Id="rId117" Type="http://schemas.openxmlformats.org/officeDocument/2006/relationships/image" Target="../media/image50.gif"/><Relationship Id="rId118" Type="http://schemas.openxmlformats.org/officeDocument/2006/relationships/image" Target="../media/image51.png"/><Relationship Id="rId1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1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28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1.jpeg"/><Relationship Id="rId11" Type="http://schemas.openxmlformats.org/officeDocument/2006/relationships/image" Target="../media/image31.jpeg"/><Relationship Id="rId12" Type="http://schemas.openxmlformats.org/officeDocument/2006/relationships/image" Target="../media/image31.jpeg"/><Relationship Id="rId13" Type="http://schemas.openxmlformats.org/officeDocument/2006/relationships/image" Target="../media/image31.jpeg"/><Relationship Id="rId14" Type="http://schemas.openxmlformats.org/officeDocument/2006/relationships/image" Target="../media/image31.jpeg"/><Relationship Id="rId15" Type="http://schemas.openxmlformats.org/officeDocument/2006/relationships/image" Target="../media/image31.jpeg"/><Relationship Id="rId16" Type="http://schemas.openxmlformats.org/officeDocument/2006/relationships/image" Target="../media/image31.jpeg"/><Relationship Id="rId17" Type="http://schemas.openxmlformats.org/officeDocument/2006/relationships/image" Target="../media/image31.jpeg"/><Relationship Id="rId18" Type="http://schemas.openxmlformats.org/officeDocument/2006/relationships/image" Target="../media/image31.jpeg"/><Relationship Id="rId19" Type="http://schemas.openxmlformats.org/officeDocument/2006/relationships/image" Target="../media/image31.jpeg"/><Relationship Id="rId20" Type="http://schemas.openxmlformats.org/officeDocument/2006/relationships/image" Target="../media/image31.jpeg"/><Relationship Id="rId21" Type="http://schemas.openxmlformats.org/officeDocument/2006/relationships/image" Target="../media/image31.jpeg"/><Relationship Id="rId22" Type="http://schemas.openxmlformats.org/officeDocument/2006/relationships/image" Target="../media/image31.jpeg"/><Relationship Id="rId23" Type="http://schemas.openxmlformats.org/officeDocument/2006/relationships/image" Target="../media/image32.png"/><Relationship Id="rId24" Type="http://schemas.openxmlformats.org/officeDocument/2006/relationships/image" Target="../media/image31.jpeg"/><Relationship Id="rId25" Type="http://schemas.openxmlformats.org/officeDocument/2006/relationships/image" Target="../media/image31.jpeg"/><Relationship Id="rId26" Type="http://schemas.openxmlformats.org/officeDocument/2006/relationships/image" Target="../media/image31.jpe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1.jpeg"/><Relationship Id="rId30" Type="http://schemas.openxmlformats.org/officeDocument/2006/relationships/image" Target="../media/image31.jpeg"/><Relationship Id="rId31" Type="http://schemas.openxmlformats.org/officeDocument/2006/relationships/image" Target="../media/image31.jpeg"/><Relationship Id="rId32" Type="http://schemas.openxmlformats.org/officeDocument/2006/relationships/image" Target="../media/image34.jpeg"/><Relationship Id="rId33" Type="http://schemas.openxmlformats.org/officeDocument/2006/relationships/image" Target="../media/image35.jpeg"/><Relationship Id="rId34" Type="http://schemas.openxmlformats.org/officeDocument/2006/relationships/image" Target="../media/image31.jpeg"/><Relationship Id="rId35" Type="http://schemas.openxmlformats.org/officeDocument/2006/relationships/image" Target="../media/image35.jpeg"/><Relationship Id="rId36" Type="http://schemas.openxmlformats.org/officeDocument/2006/relationships/image" Target="../media/image31.jpeg"/><Relationship Id="rId37" Type="http://schemas.openxmlformats.org/officeDocument/2006/relationships/image" Target="../media/image36.png"/><Relationship Id="rId38" Type="http://schemas.openxmlformats.org/officeDocument/2006/relationships/image" Target="../media/image37.jpeg"/><Relationship Id="rId39" Type="http://schemas.openxmlformats.org/officeDocument/2006/relationships/image" Target="../media/image31.jpeg"/><Relationship Id="rId40" Type="http://schemas.openxmlformats.org/officeDocument/2006/relationships/image" Target="../media/image31.jpeg"/><Relationship Id="rId41" Type="http://schemas.openxmlformats.org/officeDocument/2006/relationships/image" Target="../media/image31.jpeg"/><Relationship Id="rId42" Type="http://schemas.openxmlformats.org/officeDocument/2006/relationships/image" Target="../media/image38.png"/><Relationship Id="rId43" Type="http://schemas.openxmlformats.org/officeDocument/2006/relationships/image" Target="../media/image34.jpeg"/><Relationship Id="rId44" Type="http://schemas.openxmlformats.org/officeDocument/2006/relationships/image" Target="../media/image35.jpeg"/><Relationship Id="rId45" Type="http://schemas.openxmlformats.org/officeDocument/2006/relationships/image" Target="../media/image31.jpeg"/><Relationship Id="rId46" Type="http://schemas.openxmlformats.org/officeDocument/2006/relationships/image" Target="../media/image35.jpeg"/><Relationship Id="rId47" Type="http://schemas.openxmlformats.org/officeDocument/2006/relationships/image" Target="../media/image31.jpeg"/><Relationship Id="rId48" Type="http://schemas.openxmlformats.org/officeDocument/2006/relationships/image" Target="../media/image35.jpeg"/><Relationship Id="rId49" Type="http://schemas.openxmlformats.org/officeDocument/2006/relationships/image" Target="../media/image31.jpeg"/><Relationship Id="rId50" Type="http://schemas.openxmlformats.org/officeDocument/2006/relationships/image" Target="../media/image39.png"/><Relationship Id="rId51" Type="http://schemas.openxmlformats.org/officeDocument/2006/relationships/image" Target="../media/image31.jpeg"/><Relationship Id="rId52" Type="http://schemas.openxmlformats.org/officeDocument/2006/relationships/image" Target="../media/image31.jpeg"/><Relationship Id="rId53" Type="http://schemas.openxmlformats.org/officeDocument/2006/relationships/image" Target="../media/image31.jpeg"/><Relationship Id="rId54" Type="http://schemas.openxmlformats.org/officeDocument/2006/relationships/image" Target="../media/image31.jpeg"/><Relationship Id="rId55" Type="http://schemas.openxmlformats.org/officeDocument/2006/relationships/image" Target="../media/image31.jpeg"/><Relationship Id="rId56" Type="http://schemas.openxmlformats.org/officeDocument/2006/relationships/image" Target="../media/image31.jpeg"/><Relationship Id="rId57" Type="http://schemas.openxmlformats.org/officeDocument/2006/relationships/image" Target="../media/image29.jpeg"/><Relationship Id="rId58" Type="http://schemas.openxmlformats.org/officeDocument/2006/relationships/image" Target="../media/image40.png"/><Relationship Id="rId59" Type="http://schemas.openxmlformats.org/officeDocument/2006/relationships/image" Target="../media/image41.jpeg"/><Relationship Id="rId60" Type="http://schemas.openxmlformats.org/officeDocument/2006/relationships/image" Target="../media/image31.jpeg"/><Relationship Id="rId61" Type="http://schemas.openxmlformats.org/officeDocument/2006/relationships/image" Target="../media/image31.jpeg"/><Relationship Id="rId62" Type="http://schemas.openxmlformats.org/officeDocument/2006/relationships/image" Target="../media/image31.jpeg"/><Relationship Id="rId63" Type="http://schemas.openxmlformats.org/officeDocument/2006/relationships/image" Target="../media/image31.jpeg"/><Relationship Id="rId64" Type="http://schemas.openxmlformats.org/officeDocument/2006/relationships/image" Target="../media/image31.jpeg"/><Relationship Id="rId65" Type="http://schemas.openxmlformats.org/officeDocument/2006/relationships/image" Target="../media/image31.jpeg"/><Relationship Id="rId66" Type="http://schemas.openxmlformats.org/officeDocument/2006/relationships/image" Target="../media/image42.png"/><Relationship Id="rId67" Type="http://schemas.openxmlformats.org/officeDocument/2006/relationships/image" Target="../media/image31.jpeg"/><Relationship Id="rId68" Type="http://schemas.openxmlformats.org/officeDocument/2006/relationships/image" Target="../media/image31.jpeg"/><Relationship Id="rId69" Type="http://schemas.openxmlformats.org/officeDocument/2006/relationships/image" Target="../media/image31.jpeg"/><Relationship Id="rId70" Type="http://schemas.openxmlformats.org/officeDocument/2006/relationships/image" Target="../media/image31.jpeg"/><Relationship Id="rId71" Type="http://schemas.openxmlformats.org/officeDocument/2006/relationships/image" Target="../media/image31.jpeg"/><Relationship Id="rId72" Type="http://schemas.openxmlformats.org/officeDocument/2006/relationships/image" Target="../media/image31.jpeg"/><Relationship Id="rId73" Type="http://schemas.openxmlformats.org/officeDocument/2006/relationships/image" Target="../media/image31.jpeg"/><Relationship Id="rId74" Type="http://schemas.openxmlformats.org/officeDocument/2006/relationships/image" Target="../media/image31.jpeg"/><Relationship Id="rId75" Type="http://schemas.openxmlformats.org/officeDocument/2006/relationships/image" Target="../media/image31.jpeg"/><Relationship Id="rId76" Type="http://schemas.openxmlformats.org/officeDocument/2006/relationships/image" Target="../media/image37.jpeg"/><Relationship Id="rId77" Type="http://schemas.openxmlformats.org/officeDocument/2006/relationships/image" Target="../media/image31.jpeg"/><Relationship Id="rId78" Type="http://schemas.openxmlformats.org/officeDocument/2006/relationships/image" Target="../media/image31.jpeg"/><Relationship Id="rId79" Type="http://schemas.openxmlformats.org/officeDocument/2006/relationships/image" Target="../media/image31.jpeg"/><Relationship Id="rId80" Type="http://schemas.openxmlformats.org/officeDocument/2006/relationships/image" Target="../media/image41.jpeg"/><Relationship Id="rId81" Type="http://schemas.openxmlformats.org/officeDocument/2006/relationships/image" Target="../media/image43.png"/><Relationship Id="rId82" Type="http://schemas.openxmlformats.org/officeDocument/2006/relationships/image" Target="../media/image29.jpeg"/><Relationship Id="rId83" Type="http://schemas.openxmlformats.org/officeDocument/2006/relationships/image" Target="../media/image44.png"/><Relationship Id="rId84" Type="http://schemas.openxmlformats.org/officeDocument/2006/relationships/image" Target="../media/image45.png"/><Relationship Id="rId85" Type="http://schemas.openxmlformats.org/officeDocument/2006/relationships/image" Target="../media/image35.jpeg"/><Relationship Id="rId86" Type="http://schemas.openxmlformats.org/officeDocument/2006/relationships/image" Target="../media/image31.jpeg"/><Relationship Id="rId87" Type="http://schemas.openxmlformats.org/officeDocument/2006/relationships/image" Target="../media/image46.png"/><Relationship Id="rId88" Type="http://schemas.openxmlformats.org/officeDocument/2006/relationships/image" Target="../media/image31.jpeg"/><Relationship Id="rId89" Type="http://schemas.openxmlformats.org/officeDocument/2006/relationships/image" Target="../media/image31.jpeg"/><Relationship Id="rId90" Type="http://schemas.openxmlformats.org/officeDocument/2006/relationships/image" Target="../media/image31.jpeg"/><Relationship Id="rId91" Type="http://schemas.openxmlformats.org/officeDocument/2006/relationships/image" Target="../media/image46.png"/><Relationship Id="rId92" Type="http://schemas.openxmlformats.org/officeDocument/2006/relationships/image" Target="../media/image47.png"/><Relationship Id="rId93" Type="http://schemas.openxmlformats.org/officeDocument/2006/relationships/image" Target="../media/image31.jpeg"/><Relationship Id="rId94" Type="http://schemas.openxmlformats.org/officeDocument/2006/relationships/image" Target="../media/image31.jpeg"/><Relationship Id="rId95" Type="http://schemas.openxmlformats.org/officeDocument/2006/relationships/image" Target="../media/image31.jpeg"/><Relationship Id="rId96" Type="http://schemas.openxmlformats.org/officeDocument/2006/relationships/image" Target="../media/image34.jpeg"/><Relationship Id="rId97" Type="http://schemas.openxmlformats.org/officeDocument/2006/relationships/image" Target="../media/image35.jpeg"/><Relationship Id="rId98" Type="http://schemas.openxmlformats.org/officeDocument/2006/relationships/image" Target="../media/image31.jpeg"/><Relationship Id="rId99" Type="http://schemas.openxmlformats.org/officeDocument/2006/relationships/image" Target="../media/image35.jpeg"/><Relationship Id="rId100" Type="http://schemas.openxmlformats.org/officeDocument/2006/relationships/image" Target="../media/image31.jpeg"/><Relationship Id="rId101" Type="http://schemas.openxmlformats.org/officeDocument/2006/relationships/image" Target="../media/image48.png"/><Relationship Id="rId102" Type="http://schemas.openxmlformats.org/officeDocument/2006/relationships/image" Target="../media/image37.jpeg"/><Relationship Id="rId103" Type="http://schemas.openxmlformats.org/officeDocument/2006/relationships/image" Target="../media/image31.jpeg"/><Relationship Id="rId104" Type="http://schemas.openxmlformats.org/officeDocument/2006/relationships/image" Target="../media/image31.jpeg"/><Relationship Id="rId105" Type="http://schemas.openxmlformats.org/officeDocument/2006/relationships/image" Target="../media/image31.jpeg"/><Relationship Id="rId106" Type="http://schemas.openxmlformats.org/officeDocument/2006/relationships/image" Target="../media/image38.png"/><Relationship Id="rId107" Type="http://schemas.openxmlformats.org/officeDocument/2006/relationships/image" Target="../media/image34.jpeg"/><Relationship Id="rId108" Type="http://schemas.openxmlformats.org/officeDocument/2006/relationships/image" Target="../media/image35.jpeg"/><Relationship Id="rId109" Type="http://schemas.openxmlformats.org/officeDocument/2006/relationships/image" Target="../media/image31.jpeg"/><Relationship Id="rId110" Type="http://schemas.openxmlformats.org/officeDocument/2006/relationships/image" Target="../media/image35.jpeg"/><Relationship Id="rId111" Type="http://schemas.openxmlformats.org/officeDocument/2006/relationships/image" Target="../media/image31.jpeg"/><Relationship Id="rId112" Type="http://schemas.openxmlformats.org/officeDocument/2006/relationships/image" Target="../media/image35.jpeg"/><Relationship Id="rId113" Type="http://schemas.openxmlformats.org/officeDocument/2006/relationships/image" Target="../media/image31.jpeg"/><Relationship Id="rId114" Type="http://schemas.openxmlformats.org/officeDocument/2006/relationships/image" Target="../media/image49.png"/><Relationship Id="rId115" Type="http://schemas.openxmlformats.org/officeDocument/2006/relationships/image" Target="../media/image31.jpeg"/><Relationship Id="rId116" Type="http://schemas.openxmlformats.org/officeDocument/2006/relationships/image" Target="../media/image31.jpeg"/><Relationship Id="rId117" Type="http://schemas.openxmlformats.org/officeDocument/2006/relationships/image" Target="../media/image31.jpeg"/><Relationship Id="rId118" Type="http://schemas.openxmlformats.org/officeDocument/2006/relationships/image" Target="../media/image53.gif"/><Relationship Id="rId1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3" descr=""/>
          <p:cNvPicPr/>
          <p:nvPr/>
        </p:nvPicPr>
        <p:blipFill>
          <a:blip r:embed="rId2"/>
          <a:stretch/>
        </p:blipFill>
        <p:spPr>
          <a:xfrm>
            <a:off x="749160" y="1981080"/>
            <a:ext cx="787716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539640" y="3546360"/>
            <a:ext cx="2376720" cy="24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3" descr=""/>
          <p:cNvPicPr/>
          <p:nvPr/>
        </p:nvPicPr>
        <p:blipFill>
          <a:blip r:embed="rId3"/>
          <a:stretch/>
        </p:blipFill>
        <p:spPr>
          <a:xfrm>
            <a:off x="3524400" y="493560"/>
            <a:ext cx="4943160" cy="116388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211640" y="14130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орожно ве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калитку выше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учал в окошк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ежал по крыш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чал тихон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тками черему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журил за что-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робьев знаком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, расправив гор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дые крыль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етел куда-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еремешку с пыл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. Есе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http://ti-poet.ru/foto_stih/176085/foto_stih.jpg"/>
          <p:cNvPicPr/>
          <p:nvPr/>
        </p:nvPicPr>
        <p:blipFill>
          <a:blip r:embed="rId4"/>
          <a:stretch/>
        </p:blipFill>
        <p:spPr>
          <a:xfrm>
            <a:off x="684360" y="836640"/>
            <a:ext cx="2587320" cy="349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247"/>
          <p:cNvSpPr/>
          <p:nvPr/>
        </p:nvSpPr>
        <p:spPr>
          <a:xfrm>
            <a:off x="-609480" y="6172200"/>
            <a:ext cx="10134360" cy="838080"/>
          </a:xfrm>
          <a:custGeom>
            <a:avLst/>
            <a:gdLst>
              <a:gd name="textAreaLeft" fmla="*/ 0 w 10134360"/>
              <a:gd name="textAreaRight" fmla="*/ 10134720 w 10134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48"/>
          <p:cNvSpPr/>
          <p:nvPr/>
        </p:nvSpPr>
        <p:spPr>
          <a:xfrm flipV="1">
            <a:off x="152280" y="5790240"/>
            <a:ext cx="8839440" cy="53316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533160"/>
              <a:gd name="textAreaBottom" fmla="*/ 533160 h 5331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49"/>
          <p:cNvSpPr/>
          <p:nvPr/>
        </p:nvSpPr>
        <p:spPr>
          <a:xfrm>
            <a:off x="914400" y="5410080"/>
            <a:ext cx="7772400" cy="45720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50"/>
          <p:cNvSpPr/>
          <p:nvPr/>
        </p:nvSpPr>
        <p:spPr>
          <a:xfrm flipV="1">
            <a:off x="2209680" y="4876920"/>
            <a:ext cx="5257800" cy="30456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51"/>
          <p:cNvSpPr/>
          <p:nvPr/>
        </p:nvSpPr>
        <p:spPr>
          <a:xfrm flipV="1">
            <a:off x="1143000" y="5105160"/>
            <a:ext cx="6400800" cy="304560"/>
          </a:xfrm>
          <a:custGeom>
            <a:avLst/>
            <a:gdLst>
              <a:gd name="textAreaLeft" fmla="*/ 0 w 6400800"/>
              <a:gd name="textAreaRight" fmla="*/ 6401160 w 640080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31"/>
          <p:cNvSpPr/>
          <p:nvPr/>
        </p:nvSpPr>
        <p:spPr>
          <a:xfrm>
            <a:off x="0" y="5143680"/>
            <a:ext cx="9372600" cy="1714320"/>
          </a:xfrm>
          <a:prstGeom prst="rect">
            <a:avLst/>
          </a:prstGeom>
          <a:blipFill rotWithShape="0">
            <a:blip r:embed="rId1">
              <a:alphaModFix amt="5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Rectangle 252"/>
          <p:cNvGrpSpPr/>
          <p:nvPr/>
        </p:nvGrpSpPr>
        <p:grpSpPr>
          <a:xfrm>
            <a:off x="-6480" y="5059440"/>
            <a:ext cx="9315720" cy="1805040"/>
            <a:chOff x="-6480" y="5059440"/>
            <a:chExt cx="9315720" cy="1805040"/>
          </a:xfrm>
        </p:grpSpPr>
        <p:pic>
          <p:nvPicPr>
            <p:cNvPr id="196" name="Rectangle 252" descr=""/>
            <p:cNvPicPr/>
            <p:nvPr/>
          </p:nvPicPr>
          <p:blipFill>
            <a:blip r:embed="rId2"/>
            <a:stretch/>
          </p:blipFill>
          <p:spPr>
            <a:xfrm>
              <a:off x="-6480" y="5059440"/>
              <a:ext cx="931572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0" y="5067360"/>
              <a:ext cx="93013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Freeform 232"/>
          <p:cNvSpPr/>
          <p:nvPr/>
        </p:nvSpPr>
        <p:spPr>
          <a:xfrm>
            <a:off x="0" y="4643280"/>
            <a:ext cx="3857760" cy="1928880"/>
          </a:xfrm>
          <a:custGeom>
            <a:avLst/>
            <a:gdLst>
              <a:gd name="textAreaLeft" fmla="*/ 0 w 3857760"/>
              <a:gd name="textAreaRight" fmla="*/ 3857760 w 385776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418" h="636">
                <a:moveTo>
                  <a:pt x="0" y="12"/>
                </a:moveTo>
                <a:lnTo>
                  <a:pt x="2418" y="0"/>
                </a:lnTo>
                <a:lnTo>
                  <a:pt x="2400" y="300"/>
                </a:lnTo>
                <a:lnTo>
                  <a:pt x="1728" y="348"/>
                </a:lnTo>
                <a:lnTo>
                  <a:pt x="0" y="636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3">
              <a:alphaModFix amt="5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234"/>
          <p:cNvSpPr/>
          <p:nvPr/>
        </p:nvSpPr>
        <p:spPr>
          <a:xfrm>
            <a:off x="-214200" y="4000680"/>
            <a:ext cx="3262320" cy="2071440"/>
          </a:xfrm>
          <a:custGeom>
            <a:avLst/>
            <a:gdLst>
              <a:gd name="textAreaLeft" fmla="*/ 0 w 3262320"/>
              <a:gd name="textAreaRight" fmla="*/ 3262680 w 326232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2208" h="768">
                <a:moveTo>
                  <a:pt x="0" y="720"/>
                </a:moveTo>
                <a:lnTo>
                  <a:pt x="336" y="624"/>
                </a:lnTo>
                <a:lnTo>
                  <a:pt x="576" y="624"/>
                </a:lnTo>
                <a:lnTo>
                  <a:pt x="912" y="528"/>
                </a:lnTo>
                <a:lnTo>
                  <a:pt x="1248" y="480"/>
                </a:lnTo>
                <a:lnTo>
                  <a:pt x="1488" y="480"/>
                </a:lnTo>
                <a:lnTo>
                  <a:pt x="1680" y="432"/>
                </a:lnTo>
                <a:lnTo>
                  <a:pt x="1920" y="288"/>
                </a:lnTo>
                <a:lnTo>
                  <a:pt x="2208" y="288"/>
                </a:lnTo>
                <a:lnTo>
                  <a:pt x="2112" y="144"/>
                </a:lnTo>
                <a:lnTo>
                  <a:pt x="1728" y="144"/>
                </a:lnTo>
                <a:lnTo>
                  <a:pt x="1440" y="96"/>
                </a:lnTo>
                <a:lnTo>
                  <a:pt x="1200" y="144"/>
                </a:lnTo>
                <a:lnTo>
                  <a:pt x="1008" y="96"/>
                </a:lnTo>
                <a:lnTo>
                  <a:pt x="960" y="48"/>
                </a:lnTo>
                <a:lnTo>
                  <a:pt x="720" y="0"/>
                </a:lnTo>
                <a:lnTo>
                  <a:pt x="576" y="0"/>
                </a:lnTo>
                <a:lnTo>
                  <a:pt x="480" y="48"/>
                </a:lnTo>
                <a:lnTo>
                  <a:pt x="288" y="48"/>
                </a:lnTo>
                <a:lnTo>
                  <a:pt x="48" y="144"/>
                </a:lnTo>
                <a:lnTo>
                  <a:pt x="48" y="768"/>
                </a:lnTo>
                <a:lnTo>
                  <a:pt x="48" y="672"/>
                </a:lnTo>
                <a:lnTo>
                  <a:pt x="0" y="72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233"/>
          <p:cNvSpPr/>
          <p:nvPr/>
        </p:nvSpPr>
        <p:spPr>
          <a:xfrm flipH="1">
            <a:off x="4952160" y="4724280"/>
            <a:ext cx="4419720" cy="1133640"/>
          </a:xfrm>
          <a:custGeom>
            <a:avLst/>
            <a:gdLst>
              <a:gd name="textAreaLeft" fmla="*/ -360 w 4419720"/>
              <a:gd name="textAreaRight" fmla="*/ 4419720 w 441972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418" h="636">
                <a:moveTo>
                  <a:pt x="0" y="12"/>
                </a:moveTo>
                <a:lnTo>
                  <a:pt x="2418" y="0"/>
                </a:lnTo>
                <a:lnTo>
                  <a:pt x="2400" y="300"/>
                </a:lnTo>
                <a:lnTo>
                  <a:pt x="1728" y="348"/>
                </a:lnTo>
                <a:lnTo>
                  <a:pt x="0" y="636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5">
              <a:alphaModFix amt="5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236"/>
          <p:cNvSpPr/>
          <p:nvPr/>
        </p:nvSpPr>
        <p:spPr>
          <a:xfrm>
            <a:off x="6357960" y="4572000"/>
            <a:ext cx="3009960" cy="121428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1896" h="972">
                <a:moveTo>
                  <a:pt x="1896" y="972"/>
                </a:moveTo>
                <a:lnTo>
                  <a:pt x="1392" y="882"/>
                </a:lnTo>
                <a:lnTo>
                  <a:pt x="816" y="834"/>
                </a:lnTo>
                <a:lnTo>
                  <a:pt x="624" y="738"/>
                </a:lnTo>
                <a:lnTo>
                  <a:pt x="816" y="642"/>
                </a:lnTo>
                <a:lnTo>
                  <a:pt x="672" y="594"/>
                </a:lnTo>
                <a:lnTo>
                  <a:pt x="960" y="546"/>
                </a:lnTo>
                <a:lnTo>
                  <a:pt x="768" y="498"/>
                </a:lnTo>
                <a:lnTo>
                  <a:pt x="384" y="402"/>
                </a:lnTo>
                <a:lnTo>
                  <a:pt x="0" y="258"/>
                </a:lnTo>
                <a:lnTo>
                  <a:pt x="336" y="114"/>
                </a:lnTo>
                <a:lnTo>
                  <a:pt x="906" y="0"/>
                </a:lnTo>
                <a:lnTo>
                  <a:pt x="1212" y="162"/>
                </a:lnTo>
                <a:lnTo>
                  <a:pt x="1500" y="126"/>
                </a:lnTo>
                <a:lnTo>
                  <a:pt x="1770" y="54"/>
                </a:lnTo>
                <a:lnTo>
                  <a:pt x="1896" y="0"/>
                </a:lnTo>
                <a:lnTo>
                  <a:pt x="1896" y="972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238"/>
          <p:cNvGrpSpPr/>
          <p:nvPr/>
        </p:nvGrpSpPr>
        <p:grpSpPr>
          <a:xfrm>
            <a:off x="7696080" y="4343400"/>
            <a:ext cx="146160" cy="228600"/>
            <a:chOff x="7696080" y="4343400"/>
            <a:chExt cx="146160" cy="228600"/>
          </a:xfrm>
        </p:grpSpPr>
        <p:sp>
          <p:nvSpPr>
            <p:cNvPr id="203" name="Freeform 51"/>
            <p:cNvSpPr/>
            <p:nvPr/>
          </p:nvSpPr>
          <p:spPr>
            <a:xfrm>
              <a:off x="7696080" y="4419360"/>
              <a:ext cx="146160" cy="152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7712280" y="4394160"/>
              <a:ext cx="114120" cy="101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7728120" y="434340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237"/>
          <p:cNvGrpSpPr/>
          <p:nvPr/>
        </p:nvGrpSpPr>
        <p:grpSpPr>
          <a:xfrm>
            <a:off x="8305920" y="4191120"/>
            <a:ext cx="380520" cy="685080"/>
            <a:chOff x="8305920" y="4191120"/>
            <a:chExt cx="380520" cy="685080"/>
          </a:xfrm>
        </p:grpSpPr>
        <p:sp>
          <p:nvSpPr>
            <p:cNvPr id="207" name="Freeform 55"/>
            <p:cNvSpPr/>
            <p:nvPr/>
          </p:nvSpPr>
          <p:spPr>
            <a:xfrm>
              <a:off x="8305920" y="4419360"/>
              <a:ext cx="380520" cy="4568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8347680" y="4342320"/>
              <a:ext cx="297360" cy="3052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8391240" y="4191120"/>
              <a:ext cx="209160" cy="3052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239"/>
          <p:cNvGrpSpPr/>
          <p:nvPr/>
        </p:nvGrpSpPr>
        <p:grpSpPr>
          <a:xfrm>
            <a:off x="8839080" y="4572000"/>
            <a:ext cx="304200" cy="532800"/>
            <a:chOff x="8839080" y="4572000"/>
            <a:chExt cx="304200" cy="532800"/>
          </a:xfrm>
        </p:grpSpPr>
        <p:sp>
          <p:nvSpPr>
            <p:cNvPr id="211" name="Freeform 69"/>
            <p:cNvSpPr/>
            <p:nvPr/>
          </p:nvSpPr>
          <p:spPr>
            <a:xfrm>
              <a:off x="8839080" y="4749120"/>
              <a:ext cx="304200" cy="3556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70"/>
            <p:cNvSpPr/>
            <p:nvPr/>
          </p:nvSpPr>
          <p:spPr>
            <a:xfrm>
              <a:off x="8871840" y="4690080"/>
              <a:ext cx="238320" cy="2365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71"/>
            <p:cNvSpPr/>
            <p:nvPr/>
          </p:nvSpPr>
          <p:spPr>
            <a:xfrm>
              <a:off x="8904960" y="4572000"/>
              <a:ext cx="172080" cy="2365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235"/>
          <p:cNvGrpSpPr/>
          <p:nvPr/>
        </p:nvGrpSpPr>
        <p:grpSpPr>
          <a:xfrm>
            <a:off x="685800" y="4419720"/>
            <a:ext cx="304560" cy="495000"/>
            <a:chOff x="685800" y="4419720"/>
            <a:chExt cx="304560" cy="495000"/>
          </a:xfrm>
        </p:grpSpPr>
        <p:sp>
          <p:nvSpPr>
            <p:cNvPr id="215" name="Freeform 73"/>
            <p:cNvSpPr/>
            <p:nvPr/>
          </p:nvSpPr>
          <p:spPr>
            <a:xfrm>
              <a:off x="685800" y="4602960"/>
              <a:ext cx="304560" cy="311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74"/>
            <p:cNvSpPr/>
            <p:nvPr/>
          </p:nvSpPr>
          <p:spPr>
            <a:xfrm>
              <a:off x="718560" y="4541040"/>
              <a:ext cx="237960" cy="2080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5"/>
            <p:cNvSpPr/>
            <p:nvPr/>
          </p:nvSpPr>
          <p:spPr>
            <a:xfrm>
              <a:off x="754200" y="4419720"/>
              <a:ext cx="167400" cy="208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81"/>
          <p:cNvGrpSpPr/>
          <p:nvPr/>
        </p:nvGrpSpPr>
        <p:grpSpPr>
          <a:xfrm>
            <a:off x="1295280" y="4572000"/>
            <a:ext cx="145800" cy="228600"/>
            <a:chOff x="1295280" y="4572000"/>
            <a:chExt cx="145800" cy="228600"/>
          </a:xfrm>
        </p:grpSpPr>
        <p:sp>
          <p:nvSpPr>
            <p:cNvPr id="219" name="Freeform 77"/>
            <p:cNvSpPr/>
            <p:nvPr/>
          </p:nvSpPr>
          <p:spPr>
            <a:xfrm>
              <a:off x="1295280" y="4648320"/>
              <a:ext cx="145800" cy="152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78"/>
            <p:cNvSpPr/>
            <p:nvPr/>
          </p:nvSpPr>
          <p:spPr>
            <a:xfrm>
              <a:off x="1311120" y="4622760"/>
              <a:ext cx="114120" cy="101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79"/>
            <p:cNvSpPr/>
            <p:nvPr/>
          </p:nvSpPr>
          <p:spPr>
            <a:xfrm>
              <a:off x="1326960" y="457200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171"/>
          <p:cNvGrpSpPr/>
          <p:nvPr/>
        </p:nvGrpSpPr>
        <p:grpSpPr>
          <a:xfrm>
            <a:off x="3071880" y="3786120"/>
            <a:ext cx="4972320" cy="1781640"/>
            <a:chOff x="3071880" y="3786120"/>
            <a:chExt cx="4972320" cy="1781640"/>
          </a:xfrm>
        </p:grpSpPr>
        <p:grpSp>
          <p:nvGrpSpPr>
            <p:cNvPr id="223" name="Group 170"/>
            <p:cNvGrpSpPr/>
            <p:nvPr/>
          </p:nvGrpSpPr>
          <p:grpSpPr>
            <a:xfrm>
              <a:off x="3071880" y="3786120"/>
              <a:ext cx="4972320" cy="1781640"/>
              <a:chOff x="3071880" y="3786120"/>
              <a:chExt cx="4972320" cy="1781640"/>
            </a:xfrm>
          </p:grpSpPr>
          <p:grpSp>
            <p:nvGrpSpPr>
              <p:cNvPr id="224" name="Group 142"/>
              <p:cNvGrpSpPr/>
              <p:nvPr/>
            </p:nvGrpSpPr>
            <p:grpSpPr>
              <a:xfrm>
                <a:off x="3071880" y="3981240"/>
                <a:ext cx="2741760" cy="1168200"/>
                <a:chOff x="3071880" y="3981240"/>
                <a:chExt cx="2741760" cy="1168200"/>
              </a:xfrm>
            </p:grpSpPr>
            <p:grpSp>
              <p:nvGrpSpPr>
                <p:cNvPr id="225" name="Group 128"/>
                <p:cNvGrpSpPr/>
                <p:nvPr/>
              </p:nvGrpSpPr>
              <p:grpSpPr>
                <a:xfrm>
                  <a:off x="3071880" y="3981240"/>
                  <a:ext cx="1850400" cy="1095480"/>
                  <a:chOff x="3071880" y="3981240"/>
                  <a:chExt cx="1850400" cy="1095480"/>
                </a:xfrm>
              </p:grpSpPr>
              <p:sp>
                <p:nvSpPr>
                  <p:cNvPr id="226" name="Freeform 47"/>
                  <p:cNvSpPr/>
                  <p:nvPr/>
                </p:nvSpPr>
                <p:spPr>
                  <a:xfrm>
                    <a:off x="3071880" y="3981240"/>
                    <a:ext cx="1850400" cy="1095480"/>
                  </a:xfrm>
                  <a:custGeom>
                    <a:avLst/>
                    <a:gdLst>
                      <a:gd name="textAreaLeft" fmla="*/ 0 w 1850400"/>
                      <a:gd name="textAreaRight" fmla="*/ 1850760 w 1850400"/>
                      <a:gd name="textAreaTop" fmla="*/ 0 h 1095480"/>
                      <a:gd name="textAreaBottom" fmla="*/ 1095840 h 1095480"/>
                    </a:gdLst>
                    <a:ahLst/>
                    <a:rect l="textAreaLeft" t="textAreaTop" r="textAreaRight" b="textAreaBottom"/>
                    <a:pathLst>
                      <a:path w="831" h="480">
                        <a:moveTo>
                          <a:pt x="92" y="288"/>
                        </a:moveTo>
                        <a:lnTo>
                          <a:pt x="139" y="240"/>
                        </a:lnTo>
                        <a:lnTo>
                          <a:pt x="231" y="192"/>
                        </a:lnTo>
                        <a:lnTo>
                          <a:pt x="277" y="192"/>
                        </a:lnTo>
                        <a:lnTo>
                          <a:pt x="369" y="96"/>
                        </a:lnTo>
                        <a:lnTo>
                          <a:pt x="447" y="52"/>
                        </a:lnTo>
                        <a:lnTo>
                          <a:pt x="491" y="24"/>
                        </a:lnTo>
                        <a:lnTo>
                          <a:pt x="508" y="0"/>
                        </a:lnTo>
                        <a:lnTo>
                          <a:pt x="539" y="32"/>
                        </a:lnTo>
                        <a:lnTo>
                          <a:pt x="554" y="48"/>
                        </a:lnTo>
                        <a:lnTo>
                          <a:pt x="600" y="96"/>
                        </a:lnTo>
                        <a:lnTo>
                          <a:pt x="600" y="144"/>
                        </a:lnTo>
                        <a:lnTo>
                          <a:pt x="693" y="192"/>
                        </a:lnTo>
                        <a:lnTo>
                          <a:pt x="693" y="240"/>
                        </a:lnTo>
                        <a:lnTo>
                          <a:pt x="739" y="288"/>
                        </a:lnTo>
                        <a:lnTo>
                          <a:pt x="739" y="336"/>
                        </a:lnTo>
                        <a:lnTo>
                          <a:pt x="785" y="336"/>
                        </a:lnTo>
                        <a:lnTo>
                          <a:pt x="831" y="336"/>
                        </a:lnTo>
                        <a:lnTo>
                          <a:pt x="785" y="384"/>
                        </a:lnTo>
                        <a:lnTo>
                          <a:pt x="554" y="432"/>
                        </a:lnTo>
                        <a:lnTo>
                          <a:pt x="369" y="432"/>
                        </a:lnTo>
                        <a:lnTo>
                          <a:pt x="277" y="480"/>
                        </a:lnTo>
                        <a:lnTo>
                          <a:pt x="92" y="432"/>
                        </a:lnTo>
                        <a:lnTo>
                          <a:pt x="0" y="336"/>
                        </a:lnTo>
                        <a:lnTo>
                          <a:pt x="46" y="288"/>
                        </a:lnTo>
                        <a:lnTo>
                          <a:pt x="92" y="2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Freeform 48"/>
                  <p:cNvSpPr/>
                  <p:nvPr/>
                </p:nvSpPr>
                <p:spPr>
                  <a:xfrm>
                    <a:off x="3172680" y="3981240"/>
                    <a:ext cx="1441800" cy="1095480"/>
                  </a:xfrm>
                  <a:custGeom>
                    <a:avLst/>
                    <a:gdLst>
                      <a:gd name="textAreaLeft" fmla="*/ 0 w 1441800"/>
                      <a:gd name="textAreaRight" fmla="*/ 1442160 w 1441800"/>
                      <a:gd name="textAreaTop" fmla="*/ 0 h 1095480"/>
                      <a:gd name="textAreaBottom" fmla="*/ 1095840 h 1095480"/>
                    </a:gdLst>
                    <a:ahLst/>
                    <a:rect l="textAreaLeft" t="textAreaTop" r="textAreaRight" b="textAreaBottom"/>
                    <a:pathLst>
                      <a:path w="672" h="480">
                        <a:moveTo>
                          <a:pt x="48" y="384"/>
                        </a:moveTo>
                        <a:lnTo>
                          <a:pt x="240" y="480"/>
                        </a:lnTo>
                        <a:lnTo>
                          <a:pt x="336" y="384"/>
                        </a:lnTo>
                        <a:lnTo>
                          <a:pt x="528" y="384"/>
                        </a:lnTo>
                        <a:lnTo>
                          <a:pt x="672" y="336"/>
                        </a:lnTo>
                        <a:lnTo>
                          <a:pt x="672" y="288"/>
                        </a:lnTo>
                        <a:lnTo>
                          <a:pt x="624" y="192"/>
                        </a:lnTo>
                        <a:lnTo>
                          <a:pt x="576" y="144"/>
                        </a:lnTo>
                        <a:lnTo>
                          <a:pt x="576" y="96"/>
                        </a:lnTo>
                        <a:lnTo>
                          <a:pt x="480" y="48"/>
                        </a:lnTo>
                        <a:lnTo>
                          <a:pt x="480" y="0"/>
                        </a:lnTo>
                        <a:lnTo>
                          <a:pt x="384" y="96"/>
                        </a:lnTo>
                        <a:lnTo>
                          <a:pt x="336" y="192"/>
                        </a:lnTo>
                        <a:lnTo>
                          <a:pt x="144" y="240"/>
                        </a:lnTo>
                        <a:lnTo>
                          <a:pt x="96" y="288"/>
                        </a:lnTo>
                        <a:lnTo>
                          <a:pt x="0" y="336"/>
                        </a:lnTo>
                        <a:lnTo>
                          <a:pt x="48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>
                          <a:alpha val="13333"/>
                        </a:srgbClr>
                      </a:gs>
                      <a:gs pos="100000">
                        <a:srgbClr val="000000">
                          <a:alpha val="56078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49"/>
                  <p:cNvSpPr/>
                  <p:nvPr/>
                </p:nvSpPr>
                <p:spPr>
                  <a:xfrm>
                    <a:off x="3481920" y="4200480"/>
                    <a:ext cx="1027440" cy="766440"/>
                  </a:xfrm>
                  <a:custGeom>
                    <a:avLst/>
                    <a:gdLst>
                      <a:gd name="textAreaLeft" fmla="*/ 0 w 1027440"/>
                      <a:gd name="textAreaRight" fmla="*/ 1027800 w 1027440"/>
                      <a:gd name="textAreaTop" fmla="*/ 0 h 766440"/>
                      <a:gd name="textAreaBottom" fmla="*/ 766800 h 766440"/>
                    </a:gdLst>
                    <a:ahLst/>
                    <a:rect l="textAreaLeft" t="textAreaTop" r="textAreaRight" b="textAreaBottom"/>
                    <a:pathLst>
                      <a:path w="461" h="336">
                        <a:moveTo>
                          <a:pt x="342" y="0"/>
                        </a:moveTo>
                        <a:lnTo>
                          <a:pt x="369" y="62"/>
                        </a:lnTo>
                        <a:lnTo>
                          <a:pt x="461" y="117"/>
                        </a:lnTo>
                        <a:lnTo>
                          <a:pt x="461" y="226"/>
                        </a:lnTo>
                        <a:lnTo>
                          <a:pt x="323" y="226"/>
                        </a:lnTo>
                        <a:lnTo>
                          <a:pt x="231" y="281"/>
                        </a:lnTo>
                        <a:lnTo>
                          <a:pt x="92" y="336"/>
                        </a:lnTo>
                        <a:lnTo>
                          <a:pt x="0" y="226"/>
                        </a:lnTo>
                        <a:lnTo>
                          <a:pt x="92" y="171"/>
                        </a:lnTo>
                        <a:lnTo>
                          <a:pt x="138" y="117"/>
                        </a:lnTo>
                        <a:lnTo>
                          <a:pt x="231" y="117"/>
                        </a:lnTo>
                        <a:lnTo>
                          <a:pt x="277" y="7"/>
                        </a:lnTo>
                        <a:lnTo>
                          <a:pt x="342" y="0"/>
                        </a:lnTo>
                        <a:close/>
                      </a:path>
                    </a:pathLst>
                  </a:custGeom>
                  <a:blipFill rotWithShape="0">
                    <a:blip r:embed="rId22">
                      <a:alphaModFix amt="51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59"/>
                  <p:cNvSpPr/>
                  <p:nvPr/>
                </p:nvSpPr>
                <p:spPr>
                  <a:xfrm>
                    <a:off x="3381120" y="4638600"/>
                    <a:ext cx="204480" cy="218520"/>
                  </a:xfrm>
                  <a:custGeom>
                    <a:avLst/>
                    <a:gdLst>
                      <a:gd name="textAreaLeft" fmla="*/ 0 w 204480"/>
                      <a:gd name="textAreaRight" fmla="*/ 204840 w 204480"/>
                      <a:gd name="textAreaTop" fmla="*/ 0 h 218520"/>
                      <a:gd name="textAreaBottom" fmla="*/ 218880 h 21852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Freeform 60"/>
                  <p:cNvSpPr/>
                  <p:nvPr/>
                </p:nvSpPr>
                <p:spPr>
                  <a:xfrm>
                    <a:off x="3401640" y="4601880"/>
                    <a:ext cx="160920" cy="146160"/>
                  </a:xfrm>
                  <a:custGeom>
                    <a:avLst/>
                    <a:gdLst>
                      <a:gd name="textAreaLeft" fmla="*/ 0 w 160920"/>
                      <a:gd name="textAreaRight" fmla="*/ 161280 w 160920"/>
                      <a:gd name="textAreaTop" fmla="*/ 0 h 146160"/>
                      <a:gd name="textAreaBottom" fmla="*/ 146520 h 1461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Freeform 61"/>
                  <p:cNvSpPr/>
                  <p:nvPr/>
                </p:nvSpPr>
                <p:spPr>
                  <a:xfrm>
                    <a:off x="3424680" y="4528800"/>
                    <a:ext cx="115560" cy="146160"/>
                  </a:xfrm>
                  <a:custGeom>
                    <a:avLst/>
                    <a:gdLst>
                      <a:gd name="textAreaLeft" fmla="*/ 0 w 115560"/>
                      <a:gd name="textAreaRight" fmla="*/ 115920 w 115560"/>
                      <a:gd name="textAreaTop" fmla="*/ 0 h 146160"/>
                      <a:gd name="textAreaBottom" fmla="*/ 146520 h 1461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Freeform 65"/>
                <p:cNvSpPr/>
                <p:nvPr/>
              </p:nvSpPr>
              <p:spPr>
                <a:xfrm>
                  <a:off x="3962880" y="4108680"/>
                  <a:ext cx="1850760" cy="1040760"/>
                </a:xfrm>
                <a:custGeom>
                  <a:avLst/>
                  <a:gdLst>
                    <a:gd name="textAreaLeft" fmla="*/ 0 w 1850760"/>
                    <a:gd name="textAreaRight" fmla="*/ 1851120 w 1850760"/>
                    <a:gd name="textAreaTop" fmla="*/ 0 h 1040760"/>
                    <a:gd name="textAreaBottom" fmla="*/ 1041120 h 1040760"/>
                  </a:gdLst>
                  <a:ahLst/>
                  <a:rect l="textAreaLeft" t="textAreaTop" r="textAreaRight" b="textAreaBottom"/>
                  <a:pathLst>
                    <a:path w="831" h="456">
                      <a:moveTo>
                        <a:pt x="92" y="264"/>
                      </a:moveTo>
                      <a:lnTo>
                        <a:pt x="139" y="216"/>
                      </a:lnTo>
                      <a:lnTo>
                        <a:pt x="231" y="168"/>
                      </a:lnTo>
                      <a:lnTo>
                        <a:pt x="277" y="168"/>
                      </a:lnTo>
                      <a:lnTo>
                        <a:pt x="369" y="72"/>
                      </a:lnTo>
                      <a:lnTo>
                        <a:pt x="448" y="32"/>
                      </a:lnTo>
                      <a:lnTo>
                        <a:pt x="480" y="0"/>
                      </a:lnTo>
                      <a:lnTo>
                        <a:pt x="508" y="8"/>
                      </a:lnTo>
                      <a:lnTo>
                        <a:pt x="532" y="4"/>
                      </a:lnTo>
                      <a:lnTo>
                        <a:pt x="554" y="24"/>
                      </a:lnTo>
                      <a:lnTo>
                        <a:pt x="600" y="72"/>
                      </a:lnTo>
                      <a:lnTo>
                        <a:pt x="600" y="120"/>
                      </a:lnTo>
                      <a:lnTo>
                        <a:pt x="693" y="168"/>
                      </a:lnTo>
                      <a:lnTo>
                        <a:pt x="693" y="216"/>
                      </a:lnTo>
                      <a:lnTo>
                        <a:pt x="739" y="264"/>
                      </a:lnTo>
                      <a:lnTo>
                        <a:pt x="739" y="312"/>
                      </a:lnTo>
                      <a:lnTo>
                        <a:pt x="785" y="312"/>
                      </a:lnTo>
                      <a:lnTo>
                        <a:pt x="831" y="312"/>
                      </a:lnTo>
                      <a:lnTo>
                        <a:pt x="785" y="360"/>
                      </a:lnTo>
                      <a:lnTo>
                        <a:pt x="554" y="408"/>
                      </a:lnTo>
                      <a:lnTo>
                        <a:pt x="369" y="408"/>
                      </a:lnTo>
                      <a:lnTo>
                        <a:pt x="277" y="456"/>
                      </a:lnTo>
                      <a:lnTo>
                        <a:pt x="92" y="408"/>
                      </a:lnTo>
                      <a:lnTo>
                        <a:pt x="0" y="312"/>
                      </a:lnTo>
                      <a:lnTo>
                        <a:pt x="46" y="264"/>
                      </a:lnTo>
                      <a:lnTo>
                        <a:pt x="92" y="2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30"/>
                <p:cNvSpPr/>
                <p:nvPr/>
              </p:nvSpPr>
              <p:spPr>
                <a:xfrm>
                  <a:off x="3665880" y="3981240"/>
                  <a:ext cx="1850760" cy="1095840"/>
                </a:xfrm>
                <a:custGeom>
                  <a:avLst/>
                  <a:gdLst>
                    <a:gd name="textAreaLeft" fmla="*/ 0 w 1850760"/>
                    <a:gd name="textAreaRight" fmla="*/ 1851120 w 1850760"/>
                    <a:gd name="textAreaTop" fmla="*/ 0 h 1095840"/>
                    <a:gd name="textAreaBottom" fmla="*/ 1096200 h 1095840"/>
                  </a:gdLst>
                  <a:ahLst/>
                  <a:rect l="textAreaLeft" t="textAreaTop" r="textAreaRight" b="textAreaBottom"/>
                  <a:pathLst>
                    <a:path w="831" h="480">
                      <a:moveTo>
                        <a:pt x="92" y="288"/>
                      </a:moveTo>
                      <a:lnTo>
                        <a:pt x="139" y="240"/>
                      </a:lnTo>
                      <a:lnTo>
                        <a:pt x="231" y="192"/>
                      </a:lnTo>
                      <a:lnTo>
                        <a:pt x="277" y="192"/>
                      </a:lnTo>
                      <a:lnTo>
                        <a:pt x="369" y="96"/>
                      </a:lnTo>
                      <a:lnTo>
                        <a:pt x="447" y="52"/>
                      </a:lnTo>
                      <a:lnTo>
                        <a:pt x="491" y="24"/>
                      </a:lnTo>
                      <a:lnTo>
                        <a:pt x="508" y="0"/>
                      </a:lnTo>
                      <a:lnTo>
                        <a:pt x="539" y="32"/>
                      </a:lnTo>
                      <a:lnTo>
                        <a:pt x="554" y="48"/>
                      </a:lnTo>
                      <a:lnTo>
                        <a:pt x="600" y="96"/>
                      </a:lnTo>
                      <a:lnTo>
                        <a:pt x="600" y="144"/>
                      </a:lnTo>
                      <a:lnTo>
                        <a:pt x="693" y="192"/>
                      </a:lnTo>
                      <a:lnTo>
                        <a:pt x="693" y="240"/>
                      </a:lnTo>
                      <a:lnTo>
                        <a:pt x="739" y="288"/>
                      </a:lnTo>
                      <a:lnTo>
                        <a:pt x="739" y="336"/>
                      </a:lnTo>
                      <a:lnTo>
                        <a:pt x="785" y="336"/>
                      </a:lnTo>
                      <a:lnTo>
                        <a:pt x="831" y="336"/>
                      </a:lnTo>
                      <a:lnTo>
                        <a:pt x="785" y="384"/>
                      </a:lnTo>
                      <a:lnTo>
                        <a:pt x="554" y="432"/>
                      </a:lnTo>
                      <a:lnTo>
                        <a:pt x="369" y="432"/>
                      </a:lnTo>
                      <a:lnTo>
                        <a:pt x="277" y="480"/>
                      </a:lnTo>
                      <a:lnTo>
                        <a:pt x="92" y="432"/>
                      </a:lnTo>
                      <a:lnTo>
                        <a:pt x="0" y="336"/>
                      </a:lnTo>
                      <a:lnTo>
                        <a:pt x="46" y="288"/>
                      </a:lnTo>
                      <a:lnTo>
                        <a:pt x="92" y="2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31"/>
                <p:cNvSpPr/>
                <p:nvPr/>
              </p:nvSpPr>
              <p:spPr>
                <a:xfrm>
                  <a:off x="3767040" y="3981240"/>
                  <a:ext cx="1442520" cy="1095840"/>
                </a:xfrm>
                <a:custGeom>
                  <a:avLst/>
                  <a:gdLst>
                    <a:gd name="textAreaLeft" fmla="*/ 0 w 1442520"/>
                    <a:gd name="textAreaRight" fmla="*/ 1442880 w 1442520"/>
                    <a:gd name="textAreaTop" fmla="*/ 0 h 1095840"/>
                    <a:gd name="textAreaBottom" fmla="*/ 1096200 h 109584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32"/>
                <p:cNvSpPr/>
                <p:nvPr/>
              </p:nvSpPr>
              <p:spPr>
                <a:xfrm>
                  <a:off x="4076640" y="4200480"/>
                  <a:ext cx="1027440" cy="76680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766800"/>
                    <a:gd name="textAreaBottom" fmla="*/ 767160 h 766800"/>
                  </a:gdLst>
                  <a:ahLst/>
                  <a:rect l="textAreaLeft" t="textAreaTop" r="textAreaRight" b="textAreaBottom"/>
                  <a:pathLst>
                    <a:path w="461" h="336">
                      <a:moveTo>
                        <a:pt x="342" y="0"/>
                      </a:moveTo>
                      <a:lnTo>
                        <a:pt x="369" y="62"/>
                      </a:lnTo>
                      <a:lnTo>
                        <a:pt x="461" y="117"/>
                      </a:lnTo>
                      <a:lnTo>
                        <a:pt x="461" y="226"/>
                      </a:lnTo>
                      <a:lnTo>
                        <a:pt x="323" y="226"/>
                      </a:lnTo>
                      <a:lnTo>
                        <a:pt x="231" y="281"/>
                      </a:lnTo>
                      <a:lnTo>
                        <a:pt x="92" y="336"/>
                      </a:lnTo>
                      <a:lnTo>
                        <a:pt x="0" y="226"/>
                      </a:lnTo>
                      <a:lnTo>
                        <a:pt x="92" y="171"/>
                      </a:lnTo>
                      <a:lnTo>
                        <a:pt x="138" y="117"/>
                      </a:lnTo>
                      <a:lnTo>
                        <a:pt x="231" y="117"/>
                      </a:lnTo>
                      <a:lnTo>
                        <a:pt x="277" y="7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blipFill rotWithShape="0">
                  <a:blip r:embed="rId26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66"/>
                <p:cNvSpPr/>
                <p:nvPr/>
              </p:nvSpPr>
              <p:spPr>
                <a:xfrm>
                  <a:off x="4066560" y="4054320"/>
                  <a:ext cx="1440000" cy="1095120"/>
                </a:xfrm>
                <a:custGeom>
                  <a:avLst/>
                  <a:gdLst>
                    <a:gd name="textAreaLeft" fmla="*/ 0 w 1440000"/>
                    <a:gd name="textAreaRight" fmla="*/ 1440360 w 1440000"/>
                    <a:gd name="textAreaTop" fmla="*/ 0 h 1095120"/>
                    <a:gd name="textAreaBottom" fmla="*/ 1095480 h 109512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67"/>
                <p:cNvSpPr/>
                <p:nvPr/>
              </p:nvSpPr>
              <p:spPr>
                <a:xfrm>
                  <a:off x="4375800" y="4246200"/>
                  <a:ext cx="1027440" cy="79416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794160"/>
                    <a:gd name="textAreaBottom" fmla="*/ 794520 h 794160"/>
                  </a:gdLst>
                  <a:ahLst/>
                  <a:rect l="textAreaLeft" t="textAreaTop" r="textAreaRight" b="textAreaBottom"/>
                  <a:pathLst>
                    <a:path w="461" h="348">
                      <a:moveTo>
                        <a:pt x="327" y="0"/>
                      </a:moveTo>
                      <a:lnTo>
                        <a:pt x="369" y="74"/>
                      </a:lnTo>
                      <a:lnTo>
                        <a:pt x="461" y="129"/>
                      </a:lnTo>
                      <a:lnTo>
                        <a:pt x="461" y="238"/>
                      </a:lnTo>
                      <a:lnTo>
                        <a:pt x="323" y="238"/>
                      </a:lnTo>
                      <a:lnTo>
                        <a:pt x="231" y="293"/>
                      </a:lnTo>
                      <a:lnTo>
                        <a:pt x="92" y="348"/>
                      </a:lnTo>
                      <a:lnTo>
                        <a:pt x="0" y="238"/>
                      </a:lnTo>
                      <a:lnTo>
                        <a:pt x="92" y="183"/>
                      </a:lnTo>
                      <a:lnTo>
                        <a:pt x="138" y="129"/>
                      </a:lnTo>
                      <a:lnTo>
                        <a:pt x="231" y="129"/>
                      </a:lnTo>
                      <a:lnTo>
                        <a:pt x="277" y="19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blipFill rotWithShape="0">
                  <a:blip r:embed="rId27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Group 138"/>
                <p:cNvGrpSpPr/>
                <p:nvPr/>
              </p:nvGrpSpPr>
              <p:grpSpPr>
                <a:xfrm>
                  <a:off x="3665880" y="4273200"/>
                  <a:ext cx="198360" cy="437760"/>
                  <a:chOff x="3665880" y="4273200"/>
                  <a:chExt cx="198360" cy="437760"/>
                </a:xfrm>
              </p:grpSpPr>
              <p:sp>
                <p:nvSpPr>
                  <p:cNvPr id="239" name="Freeform 139"/>
                  <p:cNvSpPr/>
                  <p:nvPr/>
                </p:nvSpPr>
                <p:spPr>
                  <a:xfrm>
                    <a:off x="3665880" y="4382640"/>
                    <a:ext cx="198360" cy="328320"/>
                  </a:xfrm>
                  <a:custGeom>
                    <a:avLst/>
                    <a:gdLst>
                      <a:gd name="textAreaLeft" fmla="*/ 0 w 198360"/>
                      <a:gd name="textAreaRight" fmla="*/ 198720 w 198360"/>
                      <a:gd name="textAreaTop" fmla="*/ 0 h 328320"/>
                      <a:gd name="textAreaBottom" fmla="*/ 328680 h 328320"/>
                    </a:gdLst>
                    <a:ahLst/>
                    <a:rect l="textAreaLeft" t="textAreaTop" r="textAreaRight" b="textAreaBottom"/>
                    <a:pathLst>
                      <a:path w="375" h="294">
                        <a:moveTo>
                          <a:pt x="136" y="88"/>
                        </a:moveTo>
                        <a:lnTo>
                          <a:pt x="94" y="179"/>
                        </a:lnTo>
                        <a:lnTo>
                          <a:pt x="0" y="291"/>
                        </a:lnTo>
                        <a:lnTo>
                          <a:pt x="87" y="288"/>
                        </a:lnTo>
                        <a:lnTo>
                          <a:pt x="141" y="267"/>
                        </a:lnTo>
                        <a:lnTo>
                          <a:pt x="183" y="258"/>
                        </a:lnTo>
                        <a:lnTo>
                          <a:pt x="228" y="270"/>
                        </a:lnTo>
                        <a:lnTo>
                          <a:pt x="309" y="294"/>
                        </a:lnTo>
                        <a:lnTo>
                          <a:pt x="375" y="294"/>
                        </a:lnTo>
                        <a:lnTo>
                          <a:pt x="278" y="176"/>
                        </a:lnTo>
                        <a:lnTo>
                          <a:pt x="238" y="88"/>
                        </a:lnTo>
                        <a:lnTo>
                          <a:pt x="198" y="0"/>
                        </a:lnTo>
                        <a:lnTo>
                          <a:pt x="176" y="3"/>
                        </a:lnTo>
                        <a:lnTo>
                          <a:pt x="136" y="88"/>
                        </a:lnTo>
                        <a:close/>
                      </a:path>
                    </a:pathLst>
                  </a:custGeom>
                  <a:blipFill rotWithShape="0">
                    <a:blip r:embed="rId28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Freeform 140"/>
                  <p:cNvSpPr/>
                  <p:nvPr/>
                </p:nvSpPr>
                <p:spPr>
                  <a:xfrm>
                    <a:off x="3684960" y="4325400"/>
                    <a:ext cx="148680" cy="260640"/>
                  </a:xfrm>
                  <a:custGeom>
                    <a:avLst/>
                    <a:gdLst>
                      <a:gd name="textAreaLeft" fmla="*/ 0 w 148680"/>
                      <a:gd name="textAreaRight" fmla="*/ 149040 w 148680"/>
                      <a:gd name="textAreaTop" fmla="*/ 0 h 260640"/>
                      <a:gd name="textAreaBottom" fmla="*/ 261000 h 26064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Freeform 141"/>
                  <p:cNvSpPr/>
                  <p:nvPr/>
                </p:nvSpPr>
                <p:spPr>
                  <a:xfrm>
                    <a:off x="3706200" y="4273200"/>
                    <a:ext cx="106560" cy="16704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167040"/>
                      <a:gd name="textAreaBottom" fmla="*/ 167400 h 16704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30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Group 144"/>
              <p:cNvGrpSpPr/>
              <p:nvPr/>
            </p:nvGrpSpPr>
            <p:grpSpPr>
              <a:xfrm>
                <a:off x="3642840" y="4464000"/>
                <a:ext cx="1524960" cy="1103760"/>
                <a:chOff x="3642840" y="4464000"/>
                <a:chExt cx="1524960" cy="1103760"/>
              </a:xfrm>
            </p:grpSpPr>
            <p:sp>
              <p:nvSpPr>
                <p:cNvPr id="243" name="Freeform 145"/>
                <p:cNvSpPr/>
                <p:nvPr/>
              </p:nvSpPr>
              <p:spPr>
                <a:xfrm flipH="1">
                  <a:off x="3642840" y="4854240"/>
                  <a:ext cx="1431360" cy="713520"/>
                </a:xfrm>
                <a:custGeom>
                  <a:avLst/>
                  <a:gdLst>
                    <a:gd name="textAreaLeft" fmla="*/ 360 w 1431360"/>
                    <a:gd name="textAreaRight" fmla="*/ 1432080 w 1431360"/>
                    <a:gd name="textAreaTop" fmla="*/ 0 h 713520"/>
                    <a:gd name="textAreaBottom" fmla="*/ 713880 h 713520"/>
                  </a:gdLst>
                  <a:ahLst/>
                  <a:rect l="textAreaLeft" t="textAreaTop" r="textAreaRight" b="textAreaBottom"/>
                  <a:pathLst>
                    <a:path w="1730" h="720">
                      <a:moveTo>
                        <a:pt x="1659" y="602"/>
                      </a:moveTo>
                      <a:cubicBezTo>
                        <a:pt x="1651" y="622"/>
                        <a:pt x="1594" y="617"/>
                        <a:pt x="1575" y="630"/>
                      </a:cubicBezTo>
                      <a:cubicBezTo>
                        <a:pt x="1548" y="649"/>
                        <a:pt x="1571" y="686"/>
                        <a:pt x="1550" y="691"/>
                      </a:cubicBezTo>
                      <a:cubicBezTo>
                        <a:pt x="1510" y="705"/>
                        <a:pt x="1436" y="696"/>
                        <a:pt x="1398" y="699"/>
                      </a:cubicBezTo>
                      <a:cubicBezTo>
                        <a:pt x="1360" y="702"/>
                        <a:pt x="1347" y="710"/>
                        <a:pt x="1324" y="709"/>
                      </a:cubicBezTo>
                      <a:cubicBezTo>
                        <a:pt x="1289" y="719"/>
                        <a:pt x="1290" y="692"/>
                        <a:pt x="1253" y="696"/>
                      </a:cubicBezTo>
                      <a:cubicBezTo>
                        <a:pt x="1170" y="694"/>
                        <a:pt x="1081" y="715"/>
                        <a:pt x="998" y="709"/>
                      </a:cubicBezTo>
                      <a:cubicBezTo>
                        <a:pt x="915" y="697"/>
                        <a:pt x="836" y="720"/>
                        <a:pt x="750" y="713"/>
                      </a:cubicBezTo>
                      <a:cubicBezTo>
                        <a:pt x="710" y="705"/>
                        <a:pt x="673" y="688"/>
                        <a:pt x="633" y="679"/>
                      </a:cubicBezTo>
                      <a:cubicBezTo>
                        <a:pt x="619" y="676"/>
                        <a:pt x="603" y="678"/>
                        <a:pt x="589" y="672"/>
                      </a:cubicBezTo>
                      <a:cubicBezTo>
                        <a:pt x="556" y="657"/>
                        <a:pt x="527" y="641"/>
                        <a:pt x="492" y="628"/>
                      </a:cubicBezTo>
                      <a:cubicBezTo>
                        <a:pt x="481" y="623"/>
                        <a:pt x="482" y="626"/>
                        <a:pt x="468" y="622"/>
                      </a:cubicBezTo>
                      <a:cubicBezTo>
                        <a:pt x="417" y="607"/>
                        <a:pt x="323" y="613"/>
                        <a:pt x="273" y="596"/>
                      </a:cubicBezTo>
                      <a:cubicBezTo>
                        <a:pt x="230" y="580"/>
                        <a:pt x="235" y="569"/>
                        <a:pt x="196" y="552"/>
                      </a:cubicBezTo>
                      <a:cubicBezTo>
                        <a:pt x="184" y="547"/>
                        <a:pt x="149" y="524"/>
                        <a:pt x="136" y="520"/>
                      </a:cubicBezTo>
                      <a:cubicBezTo>
                        <a:pt x="117" y="509"/>
                        <a:pt x="112" y="473"/>
                        <a:pt x="89" y="467"/>
                      </a:cubicBezTo>
                      <a:cubicBezTo>
                        <a:pt x="75" y="457"/>
                        <a:pt x="30" y="443"/>
                        <a:pt x="17" y="432"/>
                      </a:cubicBezTo>
                      <a:cubicBezTo>
                        <a:pt x="0" y="420"/>
                        <a:pt x="20" y="399"/>
                        <a:pt x="13" y="382"/>
                      </a:cubicBezTo>
                      <a:cubicBezTo>
                        <a:pt x="16" y="311"/>
                        <a:pt x="2" y="283"/>
                        <a:pt x="49" y="236"/>
                      </a:cubicBezTo>
                      <a:cubicBezTo>
                        <a:pt x="65" y="199"/>
                        <a:pt x="55" y="169"/>
                        <a:pt x="101" y="152"/>
                      </a:cubicBezTo>
                      <a:cubicBezTo>
                        <a:pt x="123" y="135"/>
                        <a:pt x="162" y="139"/>
                        <a:pt x="180" y="135"/>
                      </a:cubicBezTo>
                      <a:cubicBezTo>
                        <a:pt x="189" y="131"/>
                        <a:pt x="210" y="127"/>
                        <a:pt x="210" y="127"/>
                      </a:cubicBezTo>
                      <a:cubicBezTo>
                        <a:pt x="241" y="95"/>
                        <a:pt x="294" y="90"/>
                        <a:pt x="341" y="78"/>
                      </a:cubicBezTo>
                      <a:cubicBezTo>
                        <a:pt x="360" y="73"/>
                        <a:pt x="379" y="63"/>
                        <a:pt x="399" y="59"/>
                      </a:cubicBezTo>
                      <a:cubicBezTo>
                        <a:pt x="461" y="49"/>
                        <a:pt x="409" y="62"/>
                        <a:pt x="448" y="54"/>
                      </a:cubicBezTo>
                      <a:cubicBezTo>
                        <a:pt x="465" y="51"/>
                        <a:pt x="479" y="42"/>
                        <a:pt x="496" y="39"/>
                      </a:cubicBezTo>
                      <a:cubicBezTo>
                        <a:pt x="531" y="34"/>
                        <a:pt x="574" y="24"/>
                        <a:pt x="610" y="23"/>
                      </a:cubicBezTo>
                      <a:cubicBezTo>
                        <a:pt x="648" y="22"/>
                        <a:pt x="686" y="21"/>
                        <a:pt x="724" y="20"/>
                      </a:cubicBezTo>
                      <a:cubicBezTo>
                        <a:pt x="771" y="9"/>
                        <a:pt x="823" y="13"/>
                        <a:pt x="871" y="11"/>
                      </a:cubicBezTo>
                      <a:cubicBezTo>
                        <a:pt x="925" y="0"/>
                        <a:pt x="945" y="7"/>
                        <a:pt x="1019" y="8"/>
                      </a:cubicBezTo>
                      <a:cubicBezTo>
                        <a:pt x="1046" y="15"/>
                        <a:pt x="1078" y="16"/>
                        <a:pt x="1106" y="20"/>
                      </a:cubicBezTo>
                      <a:cubicBezTo>
                        <a:pt x="1126" y="26"/>
                        <a:pt x="1144" y="36"/>
                        <a:pt x="1163" y="42"/>
                      </a:cubicBezTo>
                      <a:cubicBezTo>
                        <a:pt x="1195" y="50"/>
                        <a:pt x="1233" y="51"/>
                        <a:pt x="1264" y="62"/>
                      </a:cubicBezTo>
                      <a:cubicBezTo>
                        <a:pt x="1284" y="69"/>
                        <a:pt x="1300" y="80"/>
                        <a:pt x="1321" y="85"/>
                      </a:cubicBezTo>
                      <a:cubicBezTo>
                        <a:pt x="1340" y="100"/>
                        <a:pt x="1366" y="107"/>
                        <a:pt x="1385" y="121"/>
                      </a:cubicBezTo>
                      <a:cubicBezTo>
                        <a:pt x="1409" y="140"/>
                        <a:pt x="1437" y="160"/>
                        <a:pt x="1465" y="175"/>
                      </a:cubicBezTo>
                      <a:cubicBezTo>
                        <a:pt x="1475" y="190"/>
                        <a:pt x="1492" y="210"/>
                        <a:pt x="1509" y="220"/>
                      </a:cubicBezTo>
                      <a:cubicBezTo>
                        <a:pt x="1515" y="247"/>
                        <a:pt x="1544" y="273"/>
                        <a:pt x="1566" y="295"/>
                      </a:cubicBezTo>
                      <a:cubicBezTo>
                        <a:pt x="1571" y="299"/>
                        <a:pt x="1573" y="307"/>
                        <a:pt x="1579" y="310"/>
                      </a:cubicBezTo>
                      <a:cubicBezTo>
                        <a:pt x="1592" y="316"/>
                        <a:pt x="1597" y="326"/>
                        <a:pt x="1609" y="333"/>
                      </a:cubicBezTo>
                      <a:cubicBezTo>
                        <a:pt x="1615" y="337"/>
                        <a:pt x="1629" y="344"/>
                        <a:pt x="1629" y="344"/>
                      </a:cubicBezTo>
                      <a:cubicBezTo>
                        <a:pt x="1636" y="351"/>
                        <a:pt x="1643" y="359"/>
                        <a:pt x="1650" y="367"/>
                      </a:cubicBezTo>
                      <a:cubicBezTo>
                        <a:pt x="1652" y="369"/>
                        <a:pt x="1657" y="375"/>
                        <a:pt x="1657" y="375"/>
                      </a:cubicBezTo>
                      <a:cubicBezTo>
                        <a:pt x="1662" y="394"/>
                        <a:pt x="1675" y="420"/>
                        <a:pt x="1693" y="434"/>
                      </a:cubicBezTo>
                      <a:cubicBezTo>
                        <a:pt x="1697" y="444"/>
                        <a:pt x="1677" y="446"/>
                        <a:pt x="1684" y="454"/>
                      </a:cubicBezTo>
                      <a:cubicBezTo>
                        <a:pt x="1694" y="481"/>
                        <a:pt x="1710" y="455"/>
                        <a:pt x="1724" y="478"/>
                      </a:cubicBezTo>
                      <a:cubicBezTo>
                        <a:pt x="1726" y="483"/>
                        <a:pt x="1730" y="493"/>
                        <a:pt x="1730" y="493"/>
                      </a:cubicBezTo>
                      <a:cubicBezTo>
                        <a:pt x="1728" y="516"/>
                        <a:pt x="1723" y="496"/>
                        <a:pt x="1712" y="530"/>
                      </a:cubicBezTo>
                      <a:cubicBezTo>
                        <a:pt x="1708" y="540"/>
                        <a:pt x="1695" y="588"/>
                        <a:pt x="1683" y="594"/>
                      </a:cubicBezTo>
                      <a:cubicBezTo>
                        <a:pt x="1675" y="613"/>
                        <a:pt x="1683" y="609"/>
                        <a:pt x="1663" y="613"/>
                      </a:cubicBezTo>
                      <a:cubicBezTo>
                        <a:pt x="1651" y="618"/>
                        <a:pt x="1656" y="615"/>
                        <a:pt x="1650" y="620"/>
                      </a:cubicBezTo>
                      <a:cubicBezTo>
                        <a:pt x="1650" y="620"/>
                        <a:pt x="1659" y="602"/>
                        <a:pt x="1659" y="602"/>
                      </a:cubicBez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47"/>
                <p:cNvSpPr/>
                <p:nvPr/>
              </p:nvSpPr>
              <p:spPr>
                <a:xfrm flipH="1">
                  <a:off x="4006080" y="4920480"/>
                  <a:ext cx="838440" cy="280800"/>
                </a:xfrm>
                <a:custGeom>
                  <a:avLst/>
                  <a:gdLst>
                    <a:gd name="textAreaLeft" fmla="*/ -360 w 838440"/>
                    <a:gd name="textAreaRight" fmla="*/ 838440 w 83844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/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48"/>
                <p:cNvSpPr/>
                <p:nvPr/>
              </p:nvSpPr>
              <p:spPr>
                <a:xfrm>
                  <a:off x="4865400" y="4788000"/>
                  <a:ext cx="123840" cy="2782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Group 149"/>
                <p:cNvGrpSpPr/>
                <p:nvPr/>
              </p:nvGrpSpPr>
              <p:grpSpPr>
                <a:xfrm>
                  <a:off x="3827880" y="4464000"/>
                  <a:ext cx="580680" cy="825480"/>
                  <a:chOff x="3827880" y="4464000"/>
                  <a:chExt cx="580680" cy="825480"/>
                </a:xfrm>
              </p:grpSpPr>
              <p:sp>
                <p:nvSpPr>
                  <p:cNvPr id="247" name="Freeform 150"/>
                  <p:cNvSpPr/>
                  <p:nvPr/>
                </p:nvSpPr>
                <p:spPr>
                  <a:xfrm flipH="1">
                    <a:off x="3929040" y="4651560"/>
                    <a:ext cx="378720" cy="637920"/>
                  </a:xfrm>
                  <a:custGeom>
                    <a:avLst/>
                    <a:gdLst>
                      <a:gd name="textAreaLeft" fmla="*/ 360 w 378720"/>
                      <a:gd name="textAreaRight" fmla="*/ 379440 w 378720"/>
                      <a:gd name="textAreaTop" fmla="*/ 0 h 637920"/>
                      <a:gd name="textAreaBottom" fmla="*/ 638280 h 63792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32">
                      <a:alphaModFix amt="90000"/>
                    </a:blip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Freeform 151"/>
                  <p:cNvSpPr/>
                  <p:nvPr/>
                </p:nvSpPr>
                <p:spPr>
                  <a:xfrm flipH="1">
                    <a:off x="3827520" y="4464000"/>
                    <a:ext cx="580680" cy="675360"/>
                  </a:xfrm>
                  <a:custGeom>
                    <a:avLst/>
                    <a:gdLst>
                      <a:gd name="textAreaLeft" fmla="*/ -360 w 580680"/>
                      <a:gd name="textAreaRight" fmla="*/ 580680 w 580680"/>
                      <a:gd name="textAreaTop" fmla="*/ 0 h 675360"/>
                      <a:gd name="textAreaBottom" fmla="*/ 675720 h 67536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33">
                      <a:alphaModFix amt="90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Oval 152"/>
                  <p:cNvSpPr/>
                  <p:nvPr/>
                </p:nvSpPr>
                <p:spPr>
                  <a:xfrm flipH="1">
                    <a:off x="4307760" y="491400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Oval 153"/>
                  <p:cNvSpPr/>
                  <p:nvPr/>
                </p:nvSpPr>
                <p:spPr>
                  <a:xfrm flipH="1">
                    <a:off x="4029840" y="487656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Oval 154"/>
                  <p:cNvSpPr/>
                  <p:nvPr/>
                </p:nvSpPr>
                <p:spPr>
                  <a:xfrm flipH="1">
                    <a:off x="4206600" y="4839120"/>
                    <a:ext cx="24840" cy="3708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Oval 155"/>
                  <p:cNvSpPr/>
                  <p:nvPr/>
                </p:nvSpPr>
                <p:spPr>
                  <a:xfrm flipH="1">
                    <a:off x="4282560" y="4989240"/>
                    <a:ext cx="2484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Oval 156"/>
                  <p:cNvSpPr/>
                  <p:nvPr/>
                </p:nvSpPr>
                <p:spPr>
                  <a:xfrm flipH="1">
                    <a:off x="3929040" y="502668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Group 157"/>
                <p:cNvGrpSpPr/>
                <p:nvPr/>
              </p:nvGrpSpPr>
              <p:grpSpPr>
                <a:xfrm>
                  <a:off x="4408920" y="4464000"/>
                  <a:ext cx="357120" cy="541800"/>
                  <a:chOff x="4408920" y="4464000"/>
                  <a:chExt cx="357120" cy="541800"/>
                </a:xfrm>
              </p:grpSpPr>
              <p:sp>
                <p:nvSpPr>
                  <p:cNvPr id="255" name="Freeform 158"/>
                  <p:cNvSpPr/>
                  <p:nvPr/>
                </p:nvSpPr>
                <p:spPr>
                  <a:xfrm>
                    <a:off x="4470840" y="4587120"/>
                    <a:ext cx="232920" cy="418680"/>
                  </a:xfrm>
                  <a:custGeom>
                    <a:avLst/>
                    <a:gdLst>
                      <a:gd name="textAreaLeft" fmla="*/ 0 w 232920"/>
                      <a:gd name="textAreaRight" fmla="*/ 233280 w 232920"/>
                      <a:gd name="textAreaTop" fmla="*/ 0 h 418680"/>
                      <a:gd name="textAreaBottom" fmla="*/ 419040 h 41868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Freeform 159"/>
                  <p:cNvSpPr/>
                  <p:nvPr/>
                </p:nvSpPr>
                <p:spPr>
                  <a:xfrm>
                    <a:off x="4408920" y="4464000"/>
                    <a:ext cx="357120" cy="4431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43160"/>
                      <a:gd name="textAreaBottom" fmla="*/ 443520 h 44316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35">
                      <a:alphaModFix amt="45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Oval 160"/>
                  <p:cNvSpPr/>
                  <p:nvPr/>
                </p:nvSpPr>
                <p:spPr>
                  <a:xfrm>
                    <a:off x="4455360" y="475956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Oval 161"/>
                  <p:cNvSpPr/>
                  <p:nvPr/>
                </p:nvSpPr>
                <p:spPr>
                  <a:xfrm>
                    <a:off x="4626360" y="473472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Oval 162"/>
                  <p:cNvSpPr/>
                  <p:nvPr/>
                </p:nvSpPr>
                <p:spPr>
                  <a:xfrm>
                    <a:off x="4517640" y="471024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Oval 163"/>
                  <p:cNvSpPr/>
                  <p:nvPr/>
                </p:nvSpPr>
                <p:spPr>
                  <a:xfrm>
                    <a:off x="4470840" y="480852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Oval 164"/>
                  <p:cNvSpPr/>
                  <p:nvPr/>
                </p:nvSpPr>
                <p:spPr>
                  <a:xfrm>
                    <a:off x="4688640" y="483336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Freeform 165"/>
                <p:cNvSpPr/>
                <p:nvPr/>
              </p:nvSpPr>
              <p:spPr>
                <a:xfrm flipH="1">
                  <a:off x="4933800" y="4982760"/>
                  <a:ext cx="233640" cy="453960"/>
                </a:xfrm>
                <a:custGeom>
                  <a:avLst/>
                  <a:gdLst>
                    <a:gd name="textAreaLeft" fmla="*/ -360 w 233640"/>
                    <a:gd name="textAreaRight" fmla="*/ 233640 w 23364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" name="Group 166"/>
                <p:cNvGrpSpPr/>
                <p:nvPr/>
              </p:nvGrpSpPr>
              <p:grpSpPr>
                <a:xfrm>
                  <a:off x="4577040" y="4930920"/>
                  <a:ext cx="263160" cy="352080"/>
                  <a:chOff x="4577040" y="4930920"/>
                  <a:chExt cx="263160" cy="352080"/>
                </a:xfrm>
              </p:grpSpPr>
              <p:sp>
                <p:nvSpPr>
                  <p:cNvPr id="264" name="Freeform 167"/>
                  <p:cNvSpPr/>
                  <p:nvPr/>
                </p:nvSpPr>
                <p:spPr>
                  <a:xfrm rot="1243200">
                    <a:off x="4686120" y="4937400"/>
                    <a:ext cx="98280" cy="33048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330480"/>
                      <a:gd name="textAreaBottom" fmla="*/ 330840 h 330480"/>
                    </a:gdLst>
                    <a:ahLst/>
                    <a:rect l="textAreaLeft" t="textAreaTop" r="textAreaRight" b="textAreaBottom"/>
                    <a:pathLst>
                      <a:path w="176" h="306">
                        <a:moveTo>
                          <a:pt x="0" y="306"/>
                        </a:moveTo>
                        <a:lnTo>
                          <a:pt x="30" y="59"/>
                        </a:lnTo>
                        <a:lnTo>
                          <a:pt x="40" y="64"/>
                        </a:lnTo>
                        <a:lnTo>
                          <a:pt x="68" y="24"/>
                        </a:lnTo>
                        <a:lnTo>
                          <a:pt x="102" y="0"/>
                        </a:lnTo>
                        <a:lnTo>
                          <a:pt x="146" y="5"/>
                        </a:lnTo>
                        <a:lnTo>
                          <a:pt x="176" y="69"/>
                        </a:lnTo>
                        <a:lnTo>
                          <a:pt x="146" y="31"/>
                        </a:lnTo>
                        <a:lnTo>
                          <a:pt x="110" y="28"/>
                        </a:lnTo>
                        <a:lnTo>
                          <a:pt x="84" y="36"/>
                        </a:lnTo>
                        <a:lnTo>
                          <a:pt x="42" y="126"/>
                        </a:lnTo>
                        <a:lnTo>
                          <a:pt x="22" y="232"/>
                        </a:lnTo>
                        <a:lnTo>
                          <a:pt x="10" y="292"/>
                        </a:lnTo>
                        <a:lnTo>
                          <a:pt x="0" y="306"/>
                        </a:lnTo>
                        <a:close/>
                      </a:path>
                    </a:pathLst>
                  </a:custGeom>
                  <a:blipFill rotWithShape="0">
                    <a:blip r:embed="rId36"/>
                    <a:srcRect/>
                    <a:stretch/>
                  </a:blipFill>
                  <a:ln cap="rnd" w="9360">
                    <a:solidFill>
                      <a:srgbClr val="008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Freeform 168"/>
                  <p:cNvSpPr/>
                  <p:nvPr/>
                </p:nvSpPr>
                <p:spPr>
                  <a:xfrm rot="429600">
                    <a:off x="4595400" y="4964040"/>
                    <a:ext cx="133920" cy="311760"/>
                  </a:xfrm>
                  <a:custGeom>
                    <a:avLst/>
                    <a:gdLst>
                      <a:gd name="textAreaLeft" fmla="*/ 0 w 133920"/>
                      <a:gd name="textAreaRight" fmla="*/ 134280 w 133920"/>
                      <a:gd name="textAreaTop" fmla="*/ 0 h 311760"/>
                      <a:gd name="textAreaBottom" fmla="*/ 312120 h 3117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81600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Freeform 169"/>
                <p:cNvSpPr/>
                <p:nvPr/>
              </p:nvSpPr>
              <p:spPr>
                <a:xfrm>
                  <a:off x="4100760" y="5077440"/>
                  <a:ext cx="614160" cy="22140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69019"/>
                      </a:srgbClr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>
                      <a:alpha val="2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82"/>
              <p:cNvGrpSpPr/>
              <p:nvPr/>
            </p:nvGrpSpPr>
            <p:grpSpPr>
              <a:xfrm>
                <a:off x="5058000" y="3786120"/>
                <a:ext cx="2986200" cy="1752840"/>
                <a:chOff x="5058000" y="3786120"/>
                <a:chExt cx="2986200" cy="1752840"/>
              </a:xfrm>
            </p:grpSpPr>
            <p:grpSp>
              <p:nvGrpSpPr>
                <p:cNvPr id="268" name="Group 83"/>
                <p:cNvGrpSpPr/>
                <p:nvPr/>
              </p:nvGrpSpPr>
              <p:grpSpPr>
                <a:xfrm>
                  <a:off x="5058720" y="3786120"/>
                  <a:ext cx="2612520" cy="1679400"/>
                  <a:chOff x="5058720" y="3786120"/>
                  <a:chExt cx="2612520" cy="1679400"/>
                </a:xfrm>
              </p:grpSpPr>
              <p:grpSp>
                <p:nvGrpSpPr>
                  <p:cNvPr id="269" name="Group 84"/>
                  <p:cNvGrpSpPr/>
                  <p:nvPr/>
                </p:nvGrpSpPr>
                <p:grpSpPr>
                  <a:xfrm>
                    <a:off x="7068600" y="4297680"/>
                    <a:ext cx="502560" cy="716400"/>
                    <a:chOff x="7068600" y="4297680"/>
                    <a:chExt cx="502560" cy="716400"/>
                  </a:xfrm>
                </p:grpSpPr>
                <p:sp>
                  <p:nvSpPr>
                    <p:cNvPr id="270" name="Rectangle 85"/>
                    <p:cNvSpPr/>
                    <p:nvPr/>
                  </p:nvSpPr>
                  <p:spPr>
                    <a:xfrm flipH="1">
                      <a:off x="7278480" y="4887720"/>
                      <a:ext cx="83520" cy="126360"/>
                    </a:xfrm>
                    <a:prstGeom prst="rect">
                      <a:avLst/>
                    </a:pr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1" name="Group 86"/>
                    <p:cNvGrpSpPr/>
                    <p:nvPr/>
                  </p:nvGrpSpPr>
                  <p:grpSpPr>
                    <a:xfrm>
                      <a:off x="7068600" y="4297680"/>
                      <a:ext cx="502560" cy="631800"/>
                      <a:chOff x="7068600" y="4297680"/>
                      <a:chExt cx="502560" cy="631800"/>
                    </a:xfrm>
                  </p:grpSpPr>
                  <p:sp>
                    <p:nvSpPr>
                      <p:cNvPr id="272" name="Freeform 87"/>
                      <p:cNvSpPr/>
                      <p:nvPr/>
                    </p:nvSpPr>
                    <p:spPr>
                      <a:xfrm flipH="1">
                        <a:off x="7068600" y="4508280"/>
                        <a:ext cx="502560" cy="421200"/>
                      </a:xfrm>
                      <a:custGeom>
                        <a:avLst/>
                        <a:gdLst>
                          <a:gd name="textAreaLeft" fmla="*/ 360 w 502560"/>
                          <a:gd name="textAreaRight" fmla="*/ 503280 w 502560"/>
                          <a:gd name="textAreaTop" fmla="*/ 0 h 421200"/>
                          <a:gd name="textAreaBottom" fmla="*/ 421560 h 42120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38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Freeform 88"/>
                      <p:cNvSpPr/>
                      <p:nvPr/>
                    </p:nvSpPr>
                    <p:spPr>
                      <a:xfrm flipH="1">
                        <a:off x="7124400" y="4437720"/>
                        <a:ext cx="390960" cy="280800"/>
                      </a:xfrm>
                      <a:custGeom>
                        <a:avLst/>
                        <a:gdLst>
                          <a:gd name="textAreaLeft" fmla="*/ 360 w 390960"/>
                          <a:gd name="textAreaRight" fmla="*/ 391680 w 390960"/>
                          <a:gd name="textAreaTop" fmla="*/ 0 h 280800"/>
                          <a:gd name="textAreaBottom" fmla="*/ 281160 h 28080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39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Freeform 89"/>
                      <p:cNvSpPr/>
                      <p:nvPr/>
                    </p:nvSpPr>
                    <p:spPr>
                      <a:xfrm flipH="1">
                        <a:off x="7180200" y="4297680"/>
                        <a:ext cx="279000" cy="280440"/>
                      </a:xfrm>
                      <a:custGeom>
                        <a:avLst/>
                        <a:gdLst>
                          <a:gd name="textAreaLeft" fmla="*/ -360 w 279000"/>
                          <a:gd name="textAreaRight" fmla="*/ 279000 w 279000"/>
                          <a:gd name="textAreaTop" fmla="*/ 0 h 280440"/>
                          <a:gd name="textAreaBottom" fmla="*/ 280800 h 28044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40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75" name="Group 90"/>
                  <p:cNvGrpSpPr/>
                  <p:nvPr/>
                </p:nvGrpSpPr>
                <p:grpSpPr>
                  <a:xfrm>
                    <a:off x="5251680" y="4502160"/>
                    <a:ext cx="2419560" cy="963360"/>
                    <a:chOff x="5251680" y="4502160"/>
                    <a:chExt cx="2419560" cy="963360"/>
                  </a:xfrm>
                </p:grpSpPr>
                <p:sp>
                  <p:nvSpPr>
                    <p:cNvPr id="276" name="Freeform 91"/>
                    <p:cNvSpPr/>
                    <p:nvPr/>
                  </p:nvSpPr>
                  <p:spPr>
                    <a:xfrm flipH="1">
                      <a:off x="5251320" y="4502160"/>
                      <a:ext cx="2419560" cy="946800"/>
                    </a:xfrm>
                    <a:custGeom>
                      <a:avLst/>
                      <a:gdLst>
                        <a:gd name="textAreaLeft" fmla="*/ -360 w 2419560"/>
                        <a:gd name="textAreaRight" fmla="*/ 2419560 w 2419560"/>
                        <a:gd name="textAreaTop" fmla="*/ 0 h 946800"/>
                        <a:gd name="textAreaBottom" fmla="*/ 947160 h 94680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41">
                        <a:alphaModFix amt="92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92"/>
                    <p:cNvSpPr/>
                    <p:nvPr/>
                  </p:nvSpPr>
                  <p:spPr>
                    <a:xfrm flipH="1">
                      <a:off x="5251320" y="4604400"/>
                      <a:ext cx="2419560" cy="861120"/>
                    </a:xfrm>
                    <a:custGeom>
                      <a:avLst/>
                      <a:gdLst>
                        <a:gd name="textAreaLeft" fmla="*/ -360 w 2419560"/>
                        <a:gd name="textAreaRight" fmla="*/ 2419560 w 2419560"/>
                        <a:gd name="textAreaTop" fmla="*/ 0 h 861120"/>
                        <a:gd name="textAreaBottom" fmla="*/ 861480 h 86112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42">
                        <a:alphaModFix amt="54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8" name="Freeform 93"/>
                  <p:cNvSpPr/>
                  <p:nvPr/>
                </p:nvSpPr>
                <p:spPr>
                  <a:xfrm>
                    <a:off x="7068960" y="4809240"/>
                    <a:ext cx="201240" cy="311400"/>
                  </a:xfrm>
                  <a:custGeom>
                    <a:avLst/>
                    <a:gdLst>
                      <a:gd name="textAreaLeft" fmla="*/ 0 w 201240"/>
                      <a:gd name="textAreaRight" fmla="*/ 201600 w 20124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9" name="Group 94"/>
                  <p:cNvGrpSpPr/>
                  <p:nvPr/>
                </p:nvGrpSpPr>
                <p:grpSpPr>
                  <a:xfrm>
                    <a:off x="5661720" y="3888000"/>
                    <a:ext cx="703440" cy="716400"/>
                    <a:chOff x="5661720" y="3888000"/>
                    <a:chExt cx="703440" cy="716400"/>
                  </a:xfrm>
                </p:grpSpPr>
                <p:sp>
                  <p:nvSpPr>
                    <p:cNvPr id="280" name="Freeform 95"/>
                    <p:cNvSpPr/>
                    <p:nvPr/>
                  </p:nvSpPr>
                  <p:spPr>
                    <a:xfrm flipH="1">
                      <a:off x="5784120" y="4050720"/>
                      <a:ext cx="458640" cy="553680"/>
                    </a:xfrm>
                    <a:custGeom>
                      <a:avLst/>
                      <a:gdLst>
                        <a:gd name="textAreaLeft" fmla="*/ 360 w 458640"/>
                        <a:gd name="textAreaRight" fmla="*/ 459360 w 458640"/>
                        <a:gd name="textAreaTop" fmla="*/ 0 h 553680"/>
                        <a:gd name="textAreaBottom" fmla="*/ 554040 h 55368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3">
                        <a:alphaModFix amt="90000"/>
                      </a:blip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Freeform 96"/>
                    <p:cNvSpPr/>
                    <p:nvPr/>
                  </p:nvSpPr>
                  <p:spPr>
                    <a:xfrm flipH="1">
                      <a:off x="5661720" y="3888000"/>
                      <a:ext cx="703440" cy="586080"/>
                    </a:xfrm>
                    <a:custGeom>
                      <a:avLst/>
                      <a:gdLst>
                        <a:gd name="textAreaLeft" fmla="*/ 360 w 703440"/>
                        <a:gd name="textAreaRight" fmla="*/ 704160 w 703440"/>
                        <a:gd name="textAreaTop" fmla="*/ 0 h 586080"/>
                        <a:gd name="textAreaBottom" fmla="*/ 586440 h 58608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4">
                        <a:alphaModFix amt="90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Oval 97"/>
                    <p:cNvSpPr/>
                    <p:nvPr/>
                  </p:nvSpPr>
                  <p:spPr>
                    <a:xfrm flipH="1">
                      <a:off x="6242760" y="427860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Oval 98"/>
                    <p:cNvSpPr/>
                    <p:nvPr/>
                  </p:nvSpPr>
                  <p:spPr>
                    <a:xfrm flipH="1">
                      <a:off x="5906160" y="424620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Oval 99"/>
                    <p:cNvSpPr/>
                    <p:nvPr/>
                  </p:nvSpPr>
                  <p:spPr>
                    <a:xfrm flipH="1">
                      <a:off x="6120720" y="4213440"/>
                      <a:ext cx="3024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Oval 100"/>
                    <p:cNvSpPr/>
                    <p:nvPr/>
                  </p:nvSpPr>
                  <p:spPr>
                    <a:xfrm flipH="1">
                      <a:off x="6212520" y="4343760"/>
                      <a:ext cx="3024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Oval 101"/>
                    <p:cNvSpPr/>
                    <p:nvPr/>
                  </p:nvSpPr>
                  <p:spPr>
                    <a:xfrm flipH="1">
                      <a:off x="5783760" y="437652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" name="Freeform 102"/>
                  <p:cNvSpPr/>
                  <p:nvPr/>
                </p:nvSpPr>
                <p:spPr>
                  <a:xfrm>
                    <a:off x="6265440" y="4399920"/>
                    <a:ext cx="200520" cy="310680"/>
                  </a:xfrm>
                  <a:custGeom>
                    <a:avLst/>
                    <a:gdLst>
                      <a:gd name="textAreaLeft" fmla="*/ 0 w 200520"/>
                      <a:gd name="textAreaRight" fmla="*/ 200880 w 2005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Freeform 103"/>
                  <p:cNvSpPr/>
                  <p:nvPr/>
                </p:nvSpPr>
                <p:spPr>
                  <a:xfrm flipH="1">
                    <a:off x="6867360" y="4604760"/>
                    <a:ext cx="301320" cy="20880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208800"/>
                      <a:gd name="textAreaBottom" fmla="*/ 209160 h 2088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Freeform 104"/>
                  <p:cNvSpPr/>
                  <p:nvPr/>
                </p:nvSpPr>
                <p:spPr>
                  <a:xfrm>
                    <a:off x="5259960" y="4911480"/>
                    <a:ext cx="301320" cy="311400"/>
                  </a:xfrm>
                  <a:custGeom>
                    <a:avLst/>
                    <a:gdLst>
                      <a:gd name="textAreaLeft" fmla="*/ 0 w 301320"/>
                      <a:gd name="textAreaRight" fmla="*/ 301680 w 30132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0" name="Group 105"/>
                  <p:cNvGrpSpPr/>
                  <p:nvPr/>
                </p:nvGrpSpPr>
                <p:grpSpPr>
                  <a:xfrm>
                    <a:off x="6465600" y="3786120"/>
                    <a:ext cx="804240" cy="920880"/>
                    <a:chOff x="6465600" y="3786120"/>
                    <a:chExt cx="804240" cy="920880"/>
                  </a:xfrm>
                </p:grpSpPr>
                <p:sp>
                  <p:nvSpPr>
                    <p:cNvPr id="291" name="Freeform 106"/>
                    <p:cNvSpPr/>
                    <p:nvPr/>
                  </p:nvSpPr>
                  <p:spPr>
                    <a:xfrm flipH="1">
                      <a:off x="6605280" y="3995280"/>
                      <a:ext cx="524520" cy="711720"/>
                    </a:xfrm>
                    <a:custGeom>
                      <a:avLst/>
                      <a:gdLst>
                        <a:gd name="textAreaLeft" fmla="*/ -360 w 524520"/>
                        <a:gd name="textAreaRight" fmla="*/ 524520 w 524520"/>
                        <a:gd name="textAreaTop" fmla="*/ 0 h 711720"/>
                        <a:gd name="textAreaBottom" fmla="*/ 711720 h 7117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Freeform 107"/>
                    <p:cNvSpPr/>
                    <p:nvPr/>
                  </p:nvSpPr>
                  <p:spPr>
                    <a:xfrm flipH="1">
                      <a:off x="6465600" y="3786120"/>
                      <a:ext cx="804240" cy="753480"/>
                    </a:xfrm>
                    <a:custGeom>
                      <a:avLst/>
                      <a:gdLst>
                        <a:gd name="textAreaLeft" fmla="*/ 360 w 804240"/>
                        <a:gd name="textAreaRight" fmla="*/ 804960 w 804240"/>
                        <a:gd name="textAreaTop" fmla="*/ 0 h 753480"/>
                        <a:gd name="textAreaBottom" fmla="*/ 753840 h 75348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6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Oval 108"/>
                    <p:cNvSpPr/>
                    <p:nvPr/>
                  </p:nvSpPr>
                  <p:spPr>
                    <a:xfrm flipH="1">
                      <a:off x="7129800" y="428832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Oval 109"/>
                    <p:cNvSpPr/>
                    <p:nvPr/>
                  </p:nvSpPr>
                  <p:spPr>
                    <a:xfrm flipH="1">
                      <a:off x="6744960" y="424620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Oval 110"/>
                    <p:cNvSpPr/>
                    <p:nvPr/>
                  </p:nvSpPr>
                  <p:spPr>
                    <a:xfrm flipH="1">
                      <a:off x="6990480" y="4204800"/>
                      <a:ext cx="34560" cy="414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Oval 111"/>
                    <p:cNvSpPr/>
                    <p:nvPr/>
                  </p:nvSpPr>
                  <p:spPr>
                    <a:xfrm flipH="1">
                      <a:off x="7095600" y="4371840"/>
                      <a:ext cx="3456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Oval 112"/>
                    <p:cNvSpPr/>
                    <p:nvPr/>
                  </p:nvSpPr>
                  <p:spPr>
                    <a:xfrm flipH="1">
                      <a:off x="6605280" y="441396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Freeform 113"/>
                  <p:cNvSpPr/>
                  <p:nvPr/>
                </p:nvSpPr>
                <p:spPr>
                  <a:xfrm flipH="1">
                    <a:off x="7369560" y="5014080"/>
                    <a:ext cx="301320" cy="31068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9" name="Group 114"/>
                  <p:cNvGrpSpPr/>
                  <p:nvPr/>
                </p:nvGrpSpPr>
                <p:grpSpPr>
                  <a:xfrm>
                    <a:off x="5058720" y="4195080"/>
                    <a:ext cx="904320" cy="1023120"/>
                    <a:chOff x="5058720" y="4195080"/>
                    <a:chExt cx="904320" cy="1023120"/>
                  </a:xfrm>
                </p:grpSpPr>
                <p:sp>
                  <p:nvSpPr>
                    <p:cNvPr id="300" name="Freeform 115"/>
                    <p:cNvSpPr/>
                    <p:nvPr/>
                  </p:nvSpPr>
                  <p:spPr>
                    <a:xfrm>
                      <a:off x="5216040" y="4427280"/>
                      <a:ext cx="589680" cy="790920"/>
                    </a:xfrm>
                    <a:custGeom>
                      <a:avLst/>
                      <a:gdLst>
                        <a:gd name="textAreaLeft" fmla="*/ 0 w 589680"/>
                        <a:gd name="textAreaRight" fmla="*/ 590040 w 589680"/>
                        <a:gd name="textAreaTop" fmla="*/ 0 h 790920"/>
                        <a:gd name="textAreaBottom" fmla="*/ 791280 h 7909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116"/>
                    <p:cNvSpPr/>
                    <p:nvPr/>
                  </p:nvSpPr>
                  <p:spPr>
                    <a:xfrm>
                      <a:off x="5058720" y="4195080"/>
                      <a:ext cx="904320" cy="837360"/>
                    </a:xfrm>
                    <a:custGeom>
                      <a:avLst/>
                      <a:gdLst>
                        <a:gd name="textAreaLeft" fmla="*/ 0 w 904320"/>
                        <a:gd name="textAreaRight" fmla="*/ 904680 w 904320"/>
                        <a:gd name="textAreaTop" fmla="*/ 0 h 837360"/>
                        <a:gd name="textAreaBottom" fmla="*/ 837720 h 8373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8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Oval 117"/>
                    <p:cNvSpPr/>
                    <p:nvPr/>
                  </p:nvSpPr>
                  <p:spPr>
                    <a:xfrm>
                      <a:off x="5176440" y="475308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Oval 118"/>
                    <p:cNvSpPr/>
                    <p:nvPr/>
                  </p:nvSpPr>
                  <p:spPr>
                    <a:xfrm>
                      <a:off x="5609160" y="470664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Oval 119"/>
                    <p:cNvSpPr/>
                    <p:nvPr/>
                  </p:nvSpPr>
                  <p:spPr>
                    <a:xfrm>
                      <a:off x="5333760" y="4660200"/>
                      <a:ext cx="38880" cy="4608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Oval 120"/>
                    <p:cNvSpPr/>
                    <p:nvPr/>
                  </p:nvSpPr>
                  <p:spPr>
                    <a:xfrm>
                      <a:off x="5216040" y="4846320"/>
                      <a:ext cx="3888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Oval 121"/>
                    <p:cNvSpPr/>
                    <p:nvPr/>
                  </p:nvSpPr>
                  <p:spPr>
                    <a:xfrm>
                      <a:off x="5766480" y="489276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7" name="Freeform 122"/>
                  <p:cNvSpPr/>
                  <p:nvPr/>
                </p:nvSpPr>
                <p:spPr>
                  <a:xfrm flipH="1">
                    <a:off x="5460480" y="5014080"/>
                    <a:ext cx="301320" cy="31068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Freeform 123"/>
                  <p:cNvSpPr/>
                  <p:nvPr/>
                </p:nvSpPr>
                <p:spPr>
                  <a:xfrm flipH="1">
                    <a:off x="6566400" y="4911480"/>
                    <a:ext cx="602640" cy="409320"/>
                  </a:xfrm>
                  <a:custGeom>
                    <a:avLst/>
                    <a:gdLst>
                      <a:gd name="textAreaLeft" fmla="*/ 360 w 602640"/>
                      <a:gd name="textAreaRight" fmla="*/ 603360 w 602640"/>
                      <a:gd name="textAreaTop" fmla="*/ 0 h 409320"/>
                      <a:gd name="textAreaBottom" fmla="*/ 409680 h 409320"/>
                    </a:gdLst>
                    <a:ahLst/>
                    <a:rect l="textAreaLeft" t="textAreaTop" r="textAreaRight" b="textAreaBottom"/>
                    <a:pathLst>
                      <a:path w="480" h="288">
                        <a:moveTo>
                          <a:pt x="0" y="288"/>
                        </a:moveTo>
                        <a:lnTo>
                          <a:pt x="48" y="192"/>
                        </a:lnTo>
                        <a:lnTo>
                          <a:pt x="144" y="144"/>
                        </a:lnTo>
                        <a:lnTo>
                          <a:pt x="192" y="48"/>
                        </a:lnTo>
                        <a:lnTo>
                          <a:pt x="288" y="0"/>
                        </a:lnTo>
                        <a:lnTo>
                          <a:pt x="336" y="48"/>
                        </a:lnTo>
                        <a:lnTo>
                          <a:pt x="432" y="48"/>
                        </a:lnTo>
                        <a:lnTo>
                          <a:pt x="480" y="144"/>
                        </a:lnTo>
                        <a:lnTo>
                          <a:pt x="288" y="192"/>
                        </a:lnTo>
                        <a:lnTo>
                          <a:pt x="336" y="240"/>
                        </a:lnTo>
                        <a:lnTo>
                          <a:pt x="240" y="240"/>
                        </a:lnTo>
                        <a:lnTo>
                          <a:pt x="144" y="288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blipFill rotWithShape="0">
                    <a:blip r:embed="rId49">
                      <a:alphaModFix amt="62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Freeform 124"/>
                  <p:cNvSpPr/>
                  <p:nvPr/>
                </p:nvSpPr>
                <p:spPr>
                  <a:xfrm flipH="1">
                    <a:off x="6264360" y="4911480"/>
                    <a:ext cx="402120" cy="413280"/>
                  </a:xfrm>
                  <a:custGeom>
                    <a:avLst/>
                    <a:gdLst>
                      <a:gd name="textAreaLeft" fmla="*/ -360 w 402120"/>
                      <a:gd name="textAreaRight" fmla="*/ 402120 w 402120"/>
                      <a:gd name="textAreaTop" fmla="*/ 0 h 413280"/>
                      <a:gd name="textAreaBottom" fmla="*/ 413640 h 4132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125"/>
                  <p:cNvSpPr/>
                  <p:nvPr/>
                </p:nvSpPr>
                <p:spPr>
                  <a:xfrm>
                    <a:off x="6164640" y="4502160"/>
                    <a:ext cx="301320" cy="618120"/>
                  </a:xfrm>
                  <a:custGeom>
                    <a:avLst/>
                    <a:gdLst>
                      <a:gd name="textAreaLeft" fmla="*/ 0 w 301320"/>
                      <a:gd name="textAreaRight" fmla="*/ 301680 w 301320"/>
                      <a:gd name="textAreaTop" fmla="*/ 0 h 618120"/>
                      <a:gd name="textAreaBottom" fmla="*/ 618480 h 6181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ff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Freeform 126"/>
                <p:cNvSpPr/>
                <p:nvPr/>
              </p:nvSpPr>
              <p:spPr>
                <a:xfrm flipH="1">
                  <a:off x="5057640" y="5163480"/>
                  <a:ext cx="2986200" cy="375480"/>
                </a:xfrm>
                <a:custGeom>
                  <a:avLst/>
                  <a:gdLst>
                    <a:gd name="textAreaLeft" fmla="*/ -360 w 2986200"/>
                    <a:gd name="textAreaRight" fmla="*/ 2986200 w 298620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152" h="192">
                      <a:moveTo>
                        <a:pt x="192" y="48"/>
                      </a:moveTo>
                      <a:lnTo>
                        <a:pt x="0" y="144"/>
                      </a:lnTo>
                      <a:lnTo>
                        <a:pt x="240" y="192"/>
                      </a:lnTo>
                      <a:lnTo>
                        <a:pt x="480" y="144"/>
                      </a:lnTo>
                      <a:lnTo>
                        <a:pt x="768" y="192"/>
                      </a:lnTo>
                      <a:lnTo>
                        <a:pt x="1152" y="192"/>
                      </a:lnTo>
                      <a:lnTo>
                        <a:pt x="1104" y="96"/>
                      </a:lnTo>
                      <a:lnTo>
                        <a:pt x="1056" y="48"/>
                      </a:lnTo>
                      <a:lnTo>
                        <a:pt x="816" y="48"/>
                      </a:lnTo>
                      <a:lnTo>
                        <a:pt x="528" y="96"/>
                      </a:lnTo>
                      <a:lnTo>
                        <a:pt x="480" y="48"/>
                      </a:lnTo>
                      <a:lnTo>
                        <a:pt x="384" y="0"/>
                      </a:lnTo>
                      <a:lnTo>
                        <a:pt x="288" y="48"/>
                      </a:lnTo>
                      <a:lnTo>
                        <a:pt x="192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15294"/>
                      </a:srgbClr>
                    </a:gs>
                    <a:gs pos="100000">
                      <a:srgbClr val="cccc00">
                        <a:alpha val="9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2" name="Group 137"/>
            <p:cNvGrpSpPr/>
            <p:nvPr/>
          </p:nvGrpSpPr>
          <p:grpSpPr>
            <a:xfrm>
              <a:off x="4774320" y="3883680"/>
              <a:ext cx="378000" cy="584280"/>
              <a:chOff x="4774320" y="3883680"/>
              <a:chExt cx="378000" cy="584280"/>
            </a:xfrm>
          </p:grpSpPr>
          <p:sp>
            <p:nvSpPr>
              <p:cNvPr id="313" name="Freeform 133"/>
              <p:cNvSpPr/>
              <p:nvPr/>
            </p:nvSpPr>
            <p:spPr>
              <a:xfrm>
                <a:off x="4774320" y="4029840"/>
                <a:ext cx="378000" cy="43812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375" h="294">
                    <a:moveTo>
                      <a:pt x="136" y="88"/>
                    </a:moveTo>
                    <a:lnTo>
                      <a:pt x="94" y="179"/>
                    </a:lnTo>
                    <a:lnTo>
                      <a:pt x="0" y="291"/>
                    </a:lnTo>
                    <a:lnTo>
                      <a:pt x="87" y="288"/>
                    </a:lnTo>
                    <a:lnTo>
                      <a:pt x="141" y="267"/>
                    </a:lnTo>
                    <a:lnTo>
                      <a:pt x="183" y="258"/>
                    </a:lnTo>
                    <a:lnTo>
                      <a:pt x="228" y="270"/>
                    </a:lnTo>
                    <a:lnTo>
                      <a:pt x="309" y="294"/>
                    </a:lnTo>
                    <a:lnTo>
                      <a:pt x="375" y="294"/>
                    </a:lnTo>
                    <a:lnTo>
                      <a:pt x="278" y="176"/>
                    </a:lnTo>
                    <a:lnTo>
                      <a:pt x="238" y="88"/>
                    </a:lnTo>
                    <a:lnTo>
                      <a:pt x="198" y="0"/>
                    </a:lnTo>
                    <a:lnTo>
                      <a:pt x="176" y="3"/>
                    </a:lnTo>
                    <a:lnTo>
                      <a:pt x="136" y="88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34"/>
              <p:cNvSpPr/>
              <p:nvPr/>
            </p:nvSpPr>
            <p:spPr>
              <a:xfrm>
                <a:off x="4810320" y="3953160"/>
                <a:ext cx="282960" cy="34776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35"/>
              <p:cNvSpPr/>
              <p:nvPr/>
            </p:nvSpPr>
            <p:spPr>
              <a:xfrm>
                <a:off x="4851000" y="3883680"/>
                <a:ext cx="203400" cy="22284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Group 172"/>
          <p:cNvGrpSpPr/>
          <p:nvPr/>
        </p:nvGrpSpPr>
        <p:grpSpPr>
          <a:xfrm>
            <a:off x="1428840" y="4143240"/>
            <a:ext cx="2499840" cy="2213280"/>
            <a:chOff x="1428840" y="4143240"/>
            <a:chExt cx="2499840" cy="2213280"/>
          </a:xfrm>
        </p:grpSpPr>
        <p:grpSp>
          <p:nvGrpSpPr>
            <p:cNvPr id="317" name="Group 173"/>
            <p:cNvGrpSpPr/>
            <p:nvPr/>
          </p:nvGrpSpPr>
          <p:grpSpPr>
            <a:xfrm>
              <a:off x="3373200" y="4459320"/>
              <a:ext cx="277200" cy="631800"/>
              <a:chOff x="3373200" y="4459320"/>
              <a:chExt cx="277200" cy="631800"/>
            </a:xfrm>
          </p:grpSpPr>
          <p:sp>
            <p:nvSpPr>
              <p:cNvPr id="318" name="Freeform 174"/>
              <p:cNvSpPr/>
              <p:nvPr/>
            </p:nvSpPr>
            <p:spPr>
              <a:xfrm>
                <a:off x="3373200" y="4670280"/>
                <a:ext cx="277200" cy="4208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75"/>
              <p:cNvSpPr/>
              <p:nvPr/>
            </p:nvSpPr>
            <p:spPr>
              <a:xfrm>
                <a:off x="3405240" y="4599360"/>
                <a:ext cx="213480" cy="28044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76"/>
              <p:cNvSpPr/>
              <p:nvPr/>
            </p:nvSpPr>
            <p:spPr>
              <a:xfrm>
                <a:off x="3434040" y="4459320"/>
                <a:ext cx="155880" cy="280440"/>
              </a:xfrm>
              <a:custGeom>
                <a:avLst/>
                <a:gdLst>
                  <a:gd name="textAreaLeft" fmla="*/ 0 w 155880"/>
                  <a:gd name="textAreaRight" fmla="*/ 155880 w 15588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Freeform 177"/>
            <p:cNvSpPr/>
            <p:nvPr/>
          </p:nvSpPr>
          <p:spPr>
            <a:xfrm>
              <a:off x="2169720" y="4143240"/>
              <a:ext cx="1758960" cy="20563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2056320"/>
                <a:gd name="textAreaBottom" fmla="*/ 2056680 h 2056320"/>
              </a:gdLst>
              <a:ahLst/>
              <a:rect l="textAreaLeft" t="textAreaTop" r="textAreaRight" b="textAreaBottom"/>
              <a:pathLst>
                <a:path w="864" h="528">
                  <a:moveTo>
                    <a:pt x="96" y="336"/>
                  </a:moveTo>
                  <a:lnTo>
                    <a:pt x="144" y="288"/>
                  </a:lnTo>
                  <a:lnTo>
                    <a:pt x="240" y="240"/>
                  </a:lnTo>
                  <a:lnTo>
                    <a:pt x="288" y="240"/>
                  </a:lnTo>
                  <a:lnTo>
                    <a:pt x="384" y="144"/>
                  </a:lnTo>
                  <a:lnTo>
                    <a:pt x="432" y="48"/>
                  </a:lnTo>
                  <a:lnTo>
                    <a:pt x="480" y="0"/>
                  </a:lnTo>
                  <a:lnTo>
                    <a:pt x="528" y="48"/>
                  </a:lnTo>
                  <a:lnTo>
                    <a:pt x="576" y="48"/>
                  </a:lnTo>
                  <a:lnTo>
                    <a:pt x="576" y="96"/>
                  </a:lnTo>
                  <a:lnTo>
                    <a:pt x="624" y="144"/>
                  </a:lnTo>
                  <a:lnTo>
                    <a:pt x="624" y="192"/>
                  </a:lnTo>
                  <a:lnTo>
                    <a:pt x="720" y="240"/>
                  </a:lnTo>
                  <a:lnTo>
                    <a:pt x="720" y="288"/>
                  </a:lnTo>
                  <a:lnTo>
                    <a:pt x="768" y="336"/>
                  </a:lnTo>
                  <a:lnTo>
                    <a:pt x="768" y="384"/>
                  </a:lnTo>
                  <a:lnTo>
                    <a:pt x="816" y="384"/>
                  </a:lnTo>
                  <a:lnTo>
                    <a:pt x="864" y="384"/>
                  </a:lnTo>
                  <a:lnTo>
                    <a:pt x="816" y="432"/>
                  </a:lnTo>
                  <a:lnTo>
                    <a:pt x="576" y="480"/>
                  </a:lnTo>
                  <a:lnTo>
                    <a:pt x="384" y="480"/>
                  </a:lnTo>
                  <a:lnTo>
                    <a:pt x="288" y="528"/>
                  </a:lnTo>
                  <a:lnTo>
                    <a:pt x="96" y="480"/>
                  </a:lnTo>
                  <a:lnTo>
                    <a:pt x="0" y="384"/>
                  </a:lnTo>
                  <a:lnTo>
                    <a:pt x="48" y="336"/>
                  </a:lnTo>
                  <a:lnTo>
                    <a:pt x="96" y="336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78"/>
            <p:cNvSpPr/>
            <p:nvPr/>
          </p:nvSpPr>
          <p:spPr>
            <a:xfrm>
              <a:off x="2539800" y="4459320"/>
              <a:ext cx="997200" cy="168444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1684440"/>
                <a:gd name="textAreaBottom" fmla="*/ 1684800 h 1684440"/>
              </a:gdLst>
              <a:ahLst/>
              <a:rect l="textAreaLeft" t="textAreaTop" r="textAreaRight" b="textAreaBottom"/>
              <a:pathLst>
                <a:path w="480" h="336">
                  <a:moveTo>
                    <a:pt x="336" y="0"/>
                  </a:moveTo>
                  <a:lnTo>
                    <a:pt x="384" y="96"/>
                  </a:lnTo>
                  <a:lnTo>
                    <a:pt x="480" y="144"/>
                  </a:lnTo>
                  <a:lnTo>
                    <a:pt x="480" y="240"/>
                  </a:lnTo>
                  <a:lnTo>
                    <a:pt x="336" y="240"/>
                  </a:lnTo>
                  <a:lnTo>
                    <a:pt x="240" y="288"/>
                  </a:lnTo>
                  <a:lnTo>
                    <a:pt x="96" y="336"/>
                  </a:lnTo>
                  <a:lnTo>
                    <a:pt x="0" y="240"/>
                  </a:lnTo>
                  <a:lnTo>
                    <a:pt x="96" y="192"/>
                  </a:lnTo>
                  <a:lnTo>
                    <a:pt x="144" y="144"/>
                  </a:lnTo>
                  <a:lnTo>
                    <a:pt x="240" y="144"/>
                  </a:lnTo>
                  <a:lnTo>
                    <a:pt x="288" y="48"/>
                  </a:lnTo>
                  <a:lnTo>
                    <a:pt x="336" y="0"/>
                  </a:lnTo>
                  <a:close/>
                </a:path>
              </a:pathLst>
            </a:custGeom>
            <a:blipFill rotWithShape="0">
              <a:blip r:embed="rId57">
                <a:alphaModFix amt="51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79"/>
            <p:cNvSpPr/>
            <p:nvPr/>
          </p:nvSpPr>
          <p:spPr>
            <a:xfrm>
              <a:off x="2539800" y="4459320"/>
              <a:ext cx="1018800" cy="1581840"/>
            </a:xfrm>
            <a:custGeom>
              <a:avLst/>
              <a:gdLst>
                <a:gd name="textAreaLeft" fmla="*/ 0 w 1018800"/>
                <a:gd name="textAreaRight" fmla="*/ 1018800 w 1018800"/>
                <a:gd name="textAreaTop" fmla="*/ 0 h 1581840"/>
                <a:gd name="textAreaBottom" fmla="*/ 1582200 h 1581840"/>
              </a:gdLst>
              <a:ahLst/>
              <a:rect l="textAreaLeft" t="textAreaTop" r="textAreaRight" b="textAreaBottom"/>
              <a:pathLst>
                <a:path w="672" h="480">
                  <a:moveTo>
                    <a:pt x="48" y="384"/>
                  </a:moveTo>
                  <a:lnTo>
                    <a:pt x="240" y="480"/>
                  </a:lnTo>
                  <a:lnTo>
                    <a:pt x="336" y="384"/>
                  </a:lnTo>
                  <a:lnTo>
                    <a:pt x="528" y="384"/>
                  </a:lnTo>
                  <a:lnTo>
                    <a:pt x="672" y="336"/>
                  </a:lnTo>
                  <a:lnTo>
                    <a:pt x="672" y="288"/>
                  </a:lnTo>
                  <a:lnTo>
                    <a:pt x="624" y="192"/>
                  </a:lnTo>
                  <a:lnTo>
                    <a:pt x="576" y="144"/>
                  </a:lnTo>
                  <a:lnTo>
                    <a:pt x="576" y="96"/>
                  </a:lnTo>
                  <a:lnTo>
                    <a:pt x="480" y="48"/>
                  </a:lnTo>
                  <a:lnTo>
                    <a:pt x="480" y="0"/>
                  </a:lnTo>
                  <a:lnTo>
                    <a:pt x="384" y="96"/>
                  </a:lnTo>
                  <a:lnTo>
                    <a:pt x="336" y="192"/>
                  </a:lnTo>
                  <a:lnTo>
                    <a:pt x="144" y="240"/>
                  </a:lnTo>
                  <a:lnTo>
                    <a:pt x="96" y="288"/>
                  </a:lnTo>
                  <a:lnTo>
                    <a:pt x="0" y="336"/>
                  </a:lnTo>
                  <a:lnTo>
                    <a:pt x="48" y="384"/>
                  </a:lnTo>
                  <a:close/>
                </a:path>
              </a:pathLst>
            </a:custGeom>
            <a:gradFill rotWithShape="0">
              <a:gsLst>
                <a:gs pos="0">
                  <a:srgbClr val="6b852b">
                    <a:alpha val="13333"/>
                  </a:srgbClr>
                </a:gs>
                <a:gs pos="100000">
                  <a:srgbClr val="000000">
                    <a:alpha val="5607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80"/>
            <p:cNvSpPr/>
            <p:nvPr/>
          </p:nvSpPr>
          <p:spPr>
            <a:xfrm>
              <a:off x="2725200" y="5092200"/>
              <a:ext cx="647640" cy="9489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44"/>
                  </a:moveTo>
                  <a:lnTo>
                    <a:pt x="48" y="0"/>
                  </a:lnTo>
                  <a:lnTo>
                    <a:pt x="96" y="96"/>
                  </a:lnTo>
                  <a:lnTo>
                    <a:pt x="96" y="48"/>
                  </a:lnTo>
                  <a:lnTo>
                    <a:pt x="144" y="144"/>
                  </a:lnTo>
                  <a:lnTo>
                    <a:pt x="96" y="144"/>
                  </a:lnTo>
                  <a:lnTo>
                    <a:pt x="48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>
                <a:alpha val="94000"/>
              </a:srgbClr>
            </a:solidFill>
            <a:ln w="223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181"/>
            <p:cNvGrpSpPr/>
            <p:nvPr/>
          </p:nvGrpSpPr>
          <p:grpSpPr>
            <a:xfrm>
              <a:off x="1428840" y="4617720"/>
              <a:ext cx="1666080" cy="1738800"/>
              <a:chOff x="1428840" y="4617720"/>
              <a:chExt cx="1666080" cy="1738800"/>
            </a:xfrm>
          </p:grpSpPr>
          <p:sp>
            <p:nvSpPr>
              <p:cNvPr id="326" name="Freeform 182"/>
              <p:cNvSpPr/>
              <p:nvPr/>
            </p:nvSpPr>
            <p:spPr>
              <a:xfrm>
                <a:off x="1428840" y="4617720"/>
                <a:ext cx="1666080" cy="1738800"/>
              </a:xfrm>
              <a:custGeom>
                <a:avLst/>
                <a:gdLst>
                  <a:gd name="textAreaLeft" fmla="*/ 0 w 1666080"/>
                  <a:gd name="textAreaRight" fmla="*/ 1666440 w 1666080"/>
                  <a:gd name="textAreaTop" fmla="*/ 0 h 1738800"/>
                  <a:gd name="textAreaBottom" fmla="*/ 1739160 h 1738800"/>
                </a:gdLst>
                <a:ahLst/>
                <a:rect l="textAreaLeft" t="textAreaTop" r="textAreaRight" b="textAreaBottom"/>
                <a:pathLst>
                  <a:path w="864" h="528">
                    <a:moveTo>
                      <a:pt x="96" y="336"/>
                    </a:moveTo>
                    <a:lnTo>
                      <a:pt x="144" y="288"/>
                    </a:lnTo>
                    <a:lnTo>
                      <a:pt x="240" y="240"/>
                    </a:lnTo>
                    <a:lnTo>
                      <a:pt x="288" y="240"/>
                    </a:lnTo>
                    <a:lnTo>
                      <a:pt x="384" y="144"/>
                    </a:lnTo>
                    <a:lnTo>
                      <a:pt x="432" y="48"/>
                    </a:lnTo>
                    <a:lnTo>
                      <a:pt x="480" y="0"/>
                    </a:lnTo>
                    <a:lnTo>
                      <a:pt x="528" y="48"/>
                    </a:lnTo>
                    <a:lnTo>
                      <a:pt x="576" y="48"/>
                    </a:lnTo>
                    <a:lnTo>
                      <a:pt x="576" y="96"/>
                    </a:lnTo>
                    <a:lnTo>
                      <a:pt x="624" y="144"/>
                    </a:lnTo>
                    <a:lnTo>
                      <a:pt x="624" y="192"/>
                    </a:lnTo>
                    <a:lnTo>
                      <a:pt x="720" y="240"/>
                    </a:lnTo>
                    <a:lnTo>
                      <a:pt x="720" y="288"/>
                    </a:lnTo>
                    <a:lnTo>
                      <a:pt x="768" y="336"/>
                    </a:lnTo>
                    <a:lnTo>
                      <a:pt x="768" y="384"/>
                    </a:lnTo>
                    <a:lnTo>
                      <a:pt x="816" y="384"/>
                    </a:lnTo>
                    <a:lnTo>
                      <a:pt x="864" y="384"/>
                    </a:lnTo>
                    <a:lnTo>
                      <a:pt x="816" y="432"/>
                    </a:lnTo>
                    <a:lnTo>
                      <a:pt x="576" y="480"/>
                    </a:lnTo>
                    <a:lnTo>
                      <a:pt x="384" y="480"/>
                    </a:lnTo>
                    <a:lnTo>
                      <a:pt x="288" y="528"/>
                    </a:lnTo>
                    <a:lnTo>
                      <a:pt x="96" y="480"/>
                    </a:lnTo>
                    <a:lnTo>
                      <a:pt x="0" y="384"/>
                    </a:lnTo>
                    <a:lnTo>
                      <a:pt x="48" y="336"/>
                    </a:lnTo>
                    <a:lnTo>
                      <a:pt x="96" y="336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83"/>
              <p:cNvSpPr/>
              <p:nvPr/>
            </p:nvSpPr>
            <p:spPr>
              <a:xfrm>
                <a:off x="1521360" y="4775760"/>
                <a:ext cx="1295640" cy="1580400"/>
              </a:xfrm>
              <a:custGeom>
                <a:avLst/>
                <a:gdLst>
                  <a:gd name="textAreaLeft" fmla="*/ 0 w 1295640"/>
                  <a:gd name="textAreaRight" fmla="*/ 1295640 w 129564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672" h="480">
                    <a:moveTo>
                      <a:pt x="48" y="384"/>
                    </a:moveTo>
                    <a:lnTo>
                      <a:pt x="240" y="480"/>
                    </a:lnTo>
                    <a:lnTo>
                      <a:pt x="336" y="384"/>
                    </a:lnTo>
                    <a:lnTo>
                      <a:pt x="528" y="384"/>
                    </a:lnTo>
                    <a:lnTo>
                      <a:pt x="672" y="336"/>
                    </a:lnTo>
                    <a:lnTo>
                      <a:pt x="672" y="288"/>
                    </a:lnTo>
                    <a:lnTo>
                      <a:pt x="624" y="192"/>
                    </a:lnTo>
                    <a:lnTo>
                      <a:pt x="576" y="144"/>
                    </a:lnTo>
                    <a:lnTo>
                      <a:pt x="576" y="96"/>
                    </a:lnTo>
                    <a:lnTo>
                      <a:pt x="480" y="48"/>
                    </a:lnTo>
                    <a:lnTo>
                      <a:pt x="480" y="0"/>
                    </a:lnTo>
                    <a:lnTo>
                      <a:pt x="384" y="96"/>
                    </a:lnTo>
                    <a:lnTo>
                      <a:pt x="336" y="192"/>
                    </a:lnTo>
                    <a:lnTo>
                      <a:pt x="144" y="240"/>
                    </a:lnTo>
                    <a:lnTo>
                      <a:pt x="96" y="288"/>
                    </a:lnTo>
                    <a:lnTo>
                      <a:pt x="0" y="336"/>
                    </a:lnTo>
                    <a:lnTo>
                      <a:pt x="48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852b">
                      <a:alpha val="13333"/>
                    </a:srgbClr>
                  </a:gs>
                  <a:gs pos="100000">
                    <a:srgbClr val="000000">
                      <a:alpha val="5607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Group 184"/>
              <p:cNvGrpSpPr/>
              <p:nvPr/>
            </p:nvGrpSpPr>
            <p:grpSpPr>
              <a:xfrm>
                <a:off x="1614240" y="4617720"/>
                <a:ext cx="687600" cy="1421640"/>
                <a:chOff x="1614240" y="4617720"/>
                <a:chExt cx="687600" cy="1421640"/>
              </a:xfrm>
            </p:grpSpPr>
            <p:sp>
              <p:nvSpPr>
                <p:cNvPr id="329" name="Freeform 185"/>
                <p:cNvSpPr/>
                <p:nvPr/>
              </p:nvSpPr>
              <p:spPr>
                <a:xfrm>
                  <a:off x="1889640" y="5013000"/>
                  <a:ext cx="412200" cy="78948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789480"/>
                    <a:gd name="textAreaBottom" fmla="*/ 789840 h 789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59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186"/>
                <p:cNvSpPr/>
                <p:nvPr/>
              </p:nvSpPr>
              <p:spPr>
                <a:xfrm>
                  <a:off x="1935000" y="4879440"/>
                  <a:ext cx="320760" cy="5284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528480"/>
                    <a:gd name="textAreaBottom" fmla="*/ 528840 h 528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87"/>
                <p:cNvSpPr/>
                <p:nvPr/>
              </p:nvSpPr>
              <p:spPr>
                <a:xfrm>
                  <a:off x="1981080" y="4617720"/>
                  <a:ext cx="229320" cy="52848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528480"/>
                    <a:gd name="textAreaBottom" fmla="*/ 528840 h 528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88"/>
                <p:cNvSpPr/>
                <p:nvPr/>
              </p:nvSpPr>
              <p:spPr>
                <a:xfrm>
                  <a:off x="1614240" y="5565960"/>
                  <a:ext cx="275400" cy="4734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473400"/>
                    <a:gd name="textAreaBottom" fmla="*/ 473760 h 4734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189"/>
                <p:cNvSpPr/>
                <p:nvPr/>
              </p:nvSpPr>
              <p:spPr>
                <a:xfrm>
                  <a:off x="1645920" y="5486760"/>
                  <a:ext cx="211680" cy="315720"/>
                </a:xfrm>
                <a:custGeom>
                  <a:avLst/>
                  <a:gdLst>
                    <a:gd name="textAreaLeft" fmla="*/ 0 w 211680"/>
                    <a:gd name="textAreaRight" fmla="*/ 212040 w 21168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190"/>
                <p:cNvSpPr/>
                <p:nvPr/>
              </p:nvSpPr>
              <p:spPr>
                <a:xfrm>
                  <a:off x="1674360" y="5328720"/>
                  <a:ext cx="154440" cy="315720"/>
                </a:xfrm>
                <a:custGeom>
                  <a:avLst/>
                  <a:gdLst>
                    <a:gd name="textAreaLeft" fmla="*/ 0 w 154440"/>
                    <a:gd name="textAreaRight" fmla="*/ 154800 w 15444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Freeform 191"/>
              <p:cNvSpPr/>
              <p:nvPr/>
            </p:nvSpPr>
            <p:spPr>
              <a:xfrm>
                <a:off x="1799280" y="5091840"/>
                <a:ext cx="925560" cy="126468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264680"/>
                  <a:gd name="textAreaBottom" fmla="*/ 1265040 h 1264680"/>
                </a:gdLst>
                <a:ahLst/>
                <a:rect l="textAreaLeft" t="textAreaTop" r="textAreaRight" b="textAreaBottom"/>
                <a:pathLst>
                  <a:path w="480" h="336">
                    <a:moveTo>
                      <a:pt x="336" y="0"/>
                    </a:moveTo>
                    <a:lnTo>
                      <a:pt x="384" y="96"/>
                    </a:lnTo>
                    <a:lnTo>
                      <a:pt x="480" y="144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240" y="288"/>
                    </a:lnTo>
                    <a:lnTo>
                      <a:pt x="96" y="336"/>
                    </a:lnTo>
                    <a:lnTo>
                      <a:pt x="0" y="240"/>
                    </a:lnTo>
                    <a:lnTo>
                      <a:pt x="96" y="192"/>
                    </a:lnTo>
                    <a:lnTo>
                      <a:pt x="144" y="144"/>
                    </a:lnTo>
                    <a:lnTo>
                      <a:pt x="240" y="144"/>
                    </a:lnTo>
                    <a:lnTo>
                      <a:pt x="288" y="48"/>
                    </a:lnTo>
                    <a:lnTo>
                      <a:pt x="336" y="0"/>
                    </a:lnTo>
                    <a:close/>
                  </a:path>
                </a:pathLst>
              </a:custGeom>
              <a:blipFill rotWithShape="0">
                <a:blip r:embed="rId65">
                  <a:alphaModFix amt="51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192"/>
            <p:cNvGrpSpPr/>
            <p:nvPr/>
          </p:nvGrpSpPr>
          <p:grpSpPr>
            <a:xfrm>
              <a:off x="2539800" y="5092200"/>
              <a:ext cx="370080" cy="947520"/>
              <a:chOff x="2539800" y="5092200"/>
              <a:chExt cx="370080" cy="947520"/>
            </a:xfrm>
          </p:grpSpPr>
          <p:sp>
            <p:nvSpPr>
              <p:cNvPr id="337" name="Freeform 193"/>
              <p:cNvSpPr/>
              <p:nvPr/>
            </p:nvSpPr>
            <p:spPr>
              <a:xfrm>
                <a:off x="2539800" y="5407560"/>
                <a:ext cx="370080" cy="6321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194"/>
              <p:cNvSpPr/>
              <p:nvPr/>
            </p:nvSpPr>
            <p:spPr>
              <a:xfrm>
                <a:off x="2580840" y="5304600"/>
                <a:ext cx="288000" cy="41868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95"/>
              <p:cNvSpPr/>
              <p:nvPr/>
            </p:nvSpPr>
            <p:spPr>
              <a:xfrm>
                <a:off x="2621880" y="5092200"/>
                <a:ext cx="205560" cy="41976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96"/>
            <p:cNvGrpSpPr/>
            <p:nvPr/>
          </p:nvGrpSpPr>
          <p:grpSpPr>
            <a:xfrm>
              <a:off x="2539800" y="4617720"/>
              <a:ext cx="185040" cy="473760"/>
              <a:chOff x="2539800" y="4617720"/>
              <a:chExt cx="185040" cy="473760"/>
            </a:xfrm>
          </p:grpSpPr>
          <p:sp>
            <p:nvSpPr>
              <p:cNvPr id="341" name="Freeform 197"/>
              <p:cNvSpPr/>
              <p:nvPr/>
            </p:nvSpPr>
            <p:spPr>
              <a:xfrm>
                <a:off x="2539800" y="4775760"/>
                <a:ext cx="185040" cy="31572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98"/>
              <p:cNvSpPr/>
              <p:nvPr/>
            </p:nvSpPr>
            <p:spPr>
              <a:xfrm>
                <a:off x="2560680" y="4722840"/>
                <a:ext cx="142560" cy="2102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99"/>
              <p:cNvSpPr/>
              <p:nvPr/>
            </p:nvSpPr>
            <p:spPr>
              <a:xfrm>
                <a:off x="2579760" y="4617720"/>
                <a:ext cx="104040" cy="2102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200"/>
            <p:cNvGrpSpPr/>
            <p:nvPr/>
          </p:nvGrpSpPr>
          <p:grpSpPr>
            <a:xfrm>
              <a:off x="1706400" y="5250600"/>
              <a:ext cx="348480" cy="895320"/>
              <a:chOff x="1706400" y="5250600"/>
              <a:chExt cx="348480" cy="895320"/>
            </a:xfrm>
          </p:grpSpPr>
          <p:sp>
            <p:nvSpPr>
              <p:cNvPr id="345" name="Freeform 201"/>
              <p:cNvSpPr/>
              <p:nvPr/>
            </p:nvSpPr>
            <p:spPr>
              <a:xfrm>
                <a:off x="1706400" y="5548680"/>
                <a:ext cx="348480" cy="597240"/>
              </a:xfrm>
              <a:custGeom>
                <a:avLst/>
                <a:gdLst>
                  <a:gd name="textAreaLeft" fmla="*/ 0 w 348480"/>
                  <a:gd name="textAreaRight" fmla="*/ 348480 w 34848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202"/>
              <p:cNvSpPr/>
              <p:nvPr/>
            </p:nvSpPr>
            <p:spPr>
              <a:xfrm>
                <a:off x="1745280" y="5451120"/>
                <a:ext cx="271080" cy="39636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203"/>
              <p:cNvSpPr/>
              <p:nvPr/>
            </p:nvSpPr>
            <p:spPr>
              <a:xfrm>
                <a:off x="1783800" y="5250600"/>
                <a:ext cx="193680" cy="3963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Group 204"/>
          <p:cNvGrpSpPr/>
          <p:nvPr/>
        </p:nvGrpSpPr>
        <p:grpSpPr>
          <a:xfrm>
            <a:off x="0" y="5000760"/>
            <a:ext cx="1701360" cy="1066320"/>
            <a:chOff x="0" y="5000760"/>
            <a:chExt cx="1701360" cy="1066320"/>
          </a:xfrm>
        </p:grpSpPr>
        <p:grpSp>
          <p:nvGrpSpPr>
            <p:cNvPr id="349" name="Group 205"/>
            <p:cNvGrpSpPr/>
            <p:nvPr/>
          </p:nvGrpSpPr>
          <p:grpSpPr>
            <a:xfrm>
              <a:off x="376560" y="5000760"/>
              <a:ext cx="334440" cy="541440"/>
              <a:chOff x="376560" y="5000760"/>
              <a:chExt cx="334440" cy="541440"/>
            </a:xfrm>
          </p:grpSpPr>
          <p:sp>
            <p:nvSpPr>
              <p:cNvPr id="350" name="Rectangle 206"/>
              <p:cNvSpPr/>
              <p:nvPr/>
            </p:nvSpPr>
            <p:spPr>
              <a:xfrm>
                <a:off x="515880" y="5446800"/>
                <a:ext cx="55440" cy="95400"/>
              </a:xfrm>
              <a:prstGeom prst="rect">
                <a:avLst/>
              </a:pr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Group 207"/>
              <p:cNvGrpSpPr/>
              <p:nvPr/>
            </p:nvGrpSpPr>
            <p:grpSpPr>
              <a:xfrm>
                <a:off x="376560" y="5000760"/>
                <a:ext cx="334440" cy="477720"/>
                <a:chOff x="376560" y="5000760"/>
                <a:chExt cx="334440" cy="477720"/>
              </a:xfrm>
            </p:grpSpPr>
            <p:sp>
              <p:nvSpPr>
                <p:cNvPr id="352" name="Freeform 208"/>
                <p:cNvSpPr/>
                <p:nvPr/>
              </p:nvSpPr>
              <p:spPr>
                <a:xfrm>
                  <a:off x="376560" y="5159880"/>
                  <a:ext cx="334440" cy="318600"/>
                </a:xfrm>
                <a:custGeom>
                  <a:avLst/>
                  <a:gdLst>
                    <a:gd name="textAreaLeft" fmla="*/ 0 w 334440"/>
                    <a:gd name="textAreaRight" fmla="*/ 334800 w 334440"/>
                    <a:gd name="textAreaTop" fmla="*/ 0 h 318600"/>
                    <a:gd name="textAreaBottom" fmla="*/ 318960 h 3186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209"/>
                <p:cNvSpPr/>
                <p:nvPr/>
              </p:nvSpPr>
              <p:spPr>
                <a:xfrm>
                  <a:off x="413640" y="5106600"/>
                  <a:ext cx="260280" cy="21240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210"/>
                <p:cNvSpPr/>
                <p:nvPr/>
              </p:nvSpPr>
              <p:spPr>
                <a:xfrm>
                  <a:off x="450720" y="5000760"/>
                  <a:ext cx="185760" cy="21204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Group 211"/>
            <p:cNvGrpSpPr/>
            <p:nvPr/>
          </p:nvGrpSpPr>
          <p:grpSpPr>
            <a:xfrm>
              <a:off x="517320" y="5271480"/>
              <a:ext cx="1057320" cy="664920"/>
              <a:chOff x="517320" y="5271480"/>
              <a:chExt cx="1057320" cy="664920"/>
            </a:xfrm>
          </p:grpSpPr>
          <p:sp>
            <p:nvSpPr>
              <p:cNvPr id="356" name="Freeform 212"/>
              <p:cNvSpPr/>
              <p:nvPr/>
            </p:nvSpPr>
            <p:spPr>
              <a:xfrm rot="360600">
                <a:off x="543960" y="5322240"/>
                <a:ext cx="1003680" cy="563040"/>
              </a:xfrm>
              <a:custGeom>
                <a:avLst/>
                <a:gdLst>
                  <a:gd name="textAreaLeft" fmla="*/ 0 w 1003680"/>
                  <a:gd name="textAreaRight" fmla="*/ 1003680 w 100368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672" h="432">
                    <a:moveTo>
                      <a:pt x="288" y="432"/>
                    </a:moveTo>
                    <a:lnTo>
                      <a:pt x="144" y="384"/>
                    </a:lnTo>
                    <a:lnTo>
                      <a:pt x="48" y="288"/>
                    </a:lnTo>
                    <a:lnTo>
                      <a:pt x="0" y="192"/>
                    </a:lnTo>
                    <a:lnTo>
                      <a:pt x="48" y="48"/>
                    </a:lnTo>
                    <a:lnTo>
                      <a:pt x="144" y="0"/>
                    </a:lnTo>
                    <a:lnTo>
                      <a:pt x="240" y="0"/>
                    </a:lnTo>
                    <a:lnTo>
                      <a:pt x="288" y="48"/>
                    </a:lnTo>
                    <a:lnTo>
                      <a:pt x="336" y="48"/>
                    </a:lnTo>
                    <a:lnTo>
                      <a:pt x="528" y="48"/>
                    </a:lnTo>
                    <a:lnTo>
                      <a:pt x="624" y="144"/>
                    </a:lnTo>
                    <a:lnTo>
                      <a:pt x="672" y="288"/>
                    </a:lnTo>
                    <a:lnTo>
                      <a:pt x="624" y="336"/>
                    </a:lnTo>
                    <a:lnTo>
                      <a:pt x="528" y="432"/>
                    </a:lnTo>
                    <a:lnTo>
                      <a:pt x="384" y="384"/>
                    </a:lnTo>
                    <a:lnTo>
                      <a:pt x="288" y="432"/>
                    </a:lnTo>
                    <a:close/>
                  </a:path>
                </a:pathLst>
              </a:custGeom>
              <a:blipFill rotWithShape="0">
                <a:blip r:embed="rId79">
                  <a:alphaModFix amt="50000"/>
                </a:blip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213"/>
              <p:cNvSpPr/>
              <p:nvPr/>
            </p:nvSpPr>
            <p:spPr>
              <a:xfrm rot="360600">
                <a:off x="543960" y="5322240"/>
                <a:ext cx="1003680" cy="563040"/>
              </a:xfrm>
              <a:custGeom>
                <a:avLst/>
                <a:gdLst>
                  <a:gd name="textAreaLeft" fmla="*/ 0 w 1003680"/>
                  <a:gd name="textAreaRight" fmla="*/ 1003680 w 100368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672" h="432">
                    <a:moveTo>
                      <a:pt x="288" y="432"/>
                    </a:moveTo>
                    <a:lnTo>
                      <a:pt x="144" y="384"/>
                    </a:lnTo>
                    <a:lnTo>
                      <a:pt x="48" y="288"/>
                    </a:lnTo>
                    <a:lnTo>
                      <a:pt x="0" y="192"/>
                    </a:lnTo>
                    <a:lnTo>
                      <a:pt x="48" y="48"/>
                    </a:lnTo>
                    <a:lnTo>
                      <a:pt x="144" y="0"/>
                    </a:lnTo>
                    <a:lnTo>
                      <a:pt x="240" y="0"/>
                    </a:lnTo>
                    <a:lnTo>
                      <a:pt x="288" y="48"/>
                    </a:lnTo>
                    <a:lnTo>
                      <a:pt x="336" y="48"/>
                    </a:lnTo>
                    <a:lnTo>
                      <a:pt x="528" y="48"/>
                    </a:lnTo>
                    <a:lnTo>
                      <a:pt x="624" y="144"/>
                    </a:lnTo>
                    <a:lnTo>
                      <a:pt x="672" y="288"/>
                    </a:lnTo>
                    <a:lnTo>
                      <a:pt x="624" y="336"/>
                    </a:lnTo>
                    <a:lnTo>
                      <a:pt x="528" y="432"/>
                    </a:lnTo>
                    <a:lnTo>
                      <a:pt x="384" y="384"/>
                    </a:lnTo>
                    <a:lnTo>
                      <a:pt x="288" y="432"/>
                    </a:lnTo>
                    <a:close/>
                  </a:path>
                </a:pathLst>
              </a:custGeom>
              <a:blipFill rotWithShape="0">
                <a:blip r:embed="rId80">
                  <a:alphaModFix amt="21000"/>
                </a:blip>
                <a:srcRect/>
                <a:stretch/>
              </a:blipFill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Freeform 214"/>
            <p:cNvSpPr/>
            <p:nvPr/>
          </p:nvSpPr>
          <p:spPr>
            <a:xfrm rot="405000">
              <a:off x="208440" y="5563800"/>
              <a:ext cx="753120" cy="34200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432" h="204">
                  <a:moveTo>
                    <a:pt x="384" y="48"/>
                  </a:move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174"/>
                  </a:lnTo>
                  <a:lnTo>
                    <a:pt x="90" y="204"/>
                  </a:lnTo>
                  <a:lnTo>
                    <a:pt x="192" y="192"/>
                  </a:lnTo>
                  <a:lnTo>
                    <a:pt x="336" y="162"/>
                  </a:lnTo>
                  <a:lnTo>
                    <a:pt x="414" y="126"/>
                  </a:lnTo>
                  <a:lnTo>
                    <a:pt x="432" y="108"/>
                  </a:lnTo>
                  <a:lnTo>
                    <a:pt x="384" y="48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15"/>
            <p:cNvSpPr/>
            <p:nvPr/>
          </p:nvSpPr>
          <p:spPr>
            <a:xfrm>
              <a:off x="878760" y="5403240"/>
              <a:ext cx="336240" cy="16056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480" h="288">
                  <a:moveTo>
                    <a:pt x="0" y="288"/>
                  </a:moveTo>
                  <a:lnTo>
                    <a:pt x="48" y="192"/>
                  </a:lnTo>
                  <a:lnTo>
                    <a:pt x="144" y="144"/>
                  </a:lnTo>
                  <a:lnTo>
                    <a:pt x="192" y="48"/>
                  </a:lnTo>
                  <a:lnTo>
                    <a:pt x="288" y="0"/>
                  </a:lnTo>
                  <a:lnTo>
                    <a:pt x="336" y="48"/>
                  </a:lnTo>
                  <a:lnTo>
                    <a:pt x="432" y="48"/>
                  </a:lnTo>
                  <a:lnTo>
                    <a:pt x="480" y="144"/>
                  </a:lnTo>
                  <a:lnTo>
                    <a:pt x="288" y="192"/>
                  </a:lnTo>
                  <a:lnTo>
                    <a:pt x="336" y="240"/>
                  </a:lnTo>
                  <a:lnTo>
                    <a:pt x="240" y="240"/>
                  </a:lnTo>
                  <a:lnTo>
                    <a:pt x="144" y="288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2">
                <a:alphaModFix amt="62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216"/>
            <p:cNvGrpSpPr/>
            <p:nvPr/>
          </p:nvGrpSpPr>
          <p:grpSpPr>
            <a:xfrm>
              <a:off x="119520" y="5646960"/>
              <a:ext cx="170640" cy="204120"/>
              <a:chOff x="119520" y="5646960"/>
              <a:chExt cx="170640" cy="204120"/>
            </a:xfrm>
          </p:grpSpPr>
          <p:sp>
            <p:nvSpPr>
              <p:cNvPr id="361" name="Freeform 217"/>
              <p:cNvSpPr/>
              <p:nvPr/>
            </p:nvSpPr>
            <p:spPr>
              <a:xfrm rot="931200">
                <a:off x="189720" y="5653440"/>
                <a:ext cx="76320" cy="1908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176" h="306">
                    <a:moveTo>
                      <a:pt x="0" y="306"/>
                    </a:moveTo>
                    <a:lnTo>
                      <a:pt x="30" y="59"/>
                    </a:lnTo>
                    <a:lnTo>
                      <a:pt x="40" y="64"/>
                    </a:lnTo>
                    <a:lnTo>
                      <a:pt x="68" y="24"/>
                    </a:lnTo>
                    <a:lnTo>
                      <a:pt x="102" y="0"/>
                    </a:lnTo>
                    <a:lnTo>
                      <a:pt x="146" y="5"/>
                    </a:lnTo>
                    <a:lnTo>
                      <a:pt x="176" y="69"/>
                    </a:lnTo>
                    <a:lnTo>
                      <a:pt x="146" y="31"/>
                    </a:lnTo>
                    <a:lnTo>
                      <a:pt x="110" y="28"/>
                    </a:lnTo>
                    <a:lnTo>
                      <a:pt x="84" y="36"/>
                    </a:lnTo>
                    <a:lnTo>
                      <a:pt x="42" y="126"/>
                    </a:lnTo>
                    <a:lnTo>
                      <a:pt x="22" y="232"/>
                    </a:lnTo>
                    <a:lnTo>
                      <a:pt x="10" y="292"/>
                    </a:lnTo>
                    <a:lnTo>
                      <a:pt x="0" y="306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stretch/>
              </a:blipFill>
              <a:ln cap="rnd" w="9360">
                <a:solidFill>
                  <a:srgbClr val="008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218"/>
              <p:cNvSpPr/>
              <p:nvPr/>
            </p:nvSpPr>
            <p:spPr>
              <a:xfrm rot="117600">
                <a:off x="122400" y="5669280"/>
                <a:ext cx="104040" cy="1796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79640"/>
                  <a:gd name="textAreaBottom" fmla="*/ 179640 h 179640"/>
                </a:gdLst>
                <a:ahLst/>
                <a:rect l="textAreaLeft" t="textAreaTop" r="textAreaRight" b="textAreaBottom"/>
                <a:pathLst>
                  <a:path w="242" h="242">
                    <a:moveTo>
                      <a:pt x="19" y="93"/>
                    </a:moveTo>
                    <a:cubicBezTo>
                      <a:pt x="37" y="98"/>
                      <a:pt x="41" y="107"/>
                      <a:pt x="55" y="117"/>
                    </a:cubicBezTo>
                    <a:cubicBezTo>
                      <a:pt x="63" y="129"/>
                      <a:pt x="76" y="139"/>
                      <a:pt x="88" y="147"/>
                    </a:cubicBezTo>
                    <a:cubicBezTo>
                      <a:pt x="94" y="156"/>
                      <a:pt x="97" y="165"/>
                      <a:pt x="103" y="174"/>
                    </a:cubicBezTo>
                    <a:cubicBezTo>
                      <a:pt x="109" y="196"/>
                      <a:pt x="114" y="218"/>
                      <a:pt x="118" y="240"/>
                    </a:cubicBezTo>
                    <a:cubicBezTo>
                      <a:pt x="132" y="235"/>
                      <a:pt x="133" y="230"/>
                      <a:pt x="148" y="234"/>
                    </a:cubicBezTo>
                    <a:cubicBezTo>
                      <a:pt x="151" y="236"/>
                      <a:pt x="154" y="242"/>
                      <a:pt x="157" y="240"/>
                    </a:cubicBezTo>
                    <a:cubicBezTo>
                      <a:pt x="164" y="235"/>
                      <a:pt x="161" y="224"/>
                      <a:pt x="163" y="216"/>
                    </a:cubicBezTo>
                    <a:cubicBezTo>
                      <a:pt x="168" y="199"/>
                      <a:pt x="173" y="183"/>
                      <a:pt x="181" y="168"/>
                    </a:cubicBezTo>
                    <a:cubicBezTo>
                      <a:pt x="198" y="138"/>
                      <a:pt x="185" y="157"/>
                      <a:pt x="202" y="147"/>
                    </a:cubicBezTo>
                    <a:cubicBezTo>
                      <a:pt x="208" y="143"/>
                      <a:pt x="220" y="135"/>
                      <a:pt x="220" y="135"/>
                    </a:cubicBezTo>
                    <a:cubicBezTo>
                      <a:pt x="224" y="136"/>
                      <a:pt x="228" y="136"/>
                      <a:pt x="232" y="138"/>
                    </a:cubicBezTo>
                    <a:cubicBezTo>
                      <a:pt x="235" y="139"/>
                      <a:pt x="242" y="147"/>
                      <a:pt x="241" y="144"/>
                    </a:cubicBezTo>
                    <a:cubicBezTo>
                      <a:pt x="236" y="129"/>
                      <a:pt x="234" y="120"/>
                      <a:pt x="220" y="111"/>
                    </a:cubicBezTo>
                    <a:cubicBezTo>
                      <a:pt x="212" y="112"/>
                      <a:pt x="204" y="112"/>
                      <a:pt x="196" y="114"/>
                    </a:cubicBezTo>
                    <a:cubicBezTo>
                      <a:pt x="190" y="115"/>
                      <a:pt x="178" y="120"/>
                      <a:pt x="178" y="120"/>
                    </a:cubicBezTo>
                    <a:cubicBezTo>
                      <a:pt x="176" y="123"/>
                      <a:pt x="175" y="127"/>
                      <a:pt x="172" y="129"/>
                    </a:cubicBezTo>
                    <a:cubicBezTo>
                      <a:pt x="170" y="131"/>
                      <a:pt x="165" y="130"/>
                      <a:pt x="163" y="132"/>
                    </a:cubicBezTo>
                    <a:cubicBezTo>
                      <a:pt x="161" y="134"/>
                      <a:pt x="150" y="166"/>
                      <a:pt x="148" y="171"/>
                    </a:cubicBezTo>
                    <a:cubicBezTo>
                      <a:pt x="145" y="132"/>
                      <a:pt x="140" y="72"/>
                      <a:pt x="103" y="48"/>
                    </a:cubicBezTo>
                    <a:cubicBezTo>
                      <a:pt x="96" y="26"/>
                      <a:pt x="62" y="7"/>
                      <a:pt x="40" y="0"/>
                    </a:cubicBezTo>
                    <a:cubicBezTo>
                      <a:pt x="49" y="14"/>
                      <a:pt x="60" y="34"/>
                      <a:pt x="76" y="39"/>
                    </a:cubicBezTo>
                    <a:cubicBezTo>
                      <a:pt x="86" y="54"/>
                      <a:pt x="96" y="68"/>
                      <a:pt x="103" y="84"/>
                    </a:cubicBezTo>
                    <a:cubicBezTo>
                      <a:pt x="107" y="93"/>
                      <a:pt x="112" y="111"/>
                      <a:pt x="112" y="111"/>
                    </a:cubicBezTo>
                    <a:cubicBezTo>
                      <a:pt x="114" y="125"/>
                      <a:pt x="119" y="140"/>
                      <a:pt x="115" y="153"/>
                    </a:cubicBezTo>
                    <a:cubicBezTo>
                      <a:pt x="101" y="132"/>
                      <a:pt x="109" y="139"/>
                      <a:pt x="94" y="129"/>
                    </a:cubicBezTo>
                    <a:cubicBezTo>
                      <a:pt x="90" y="117"/>
                      <a:pt x="80" y="108"/>
                      <a:pt x="70" y="102"/>
                    </a:cubicBezTo>
                    <a:cubicBezTo>
                      <a:pt x="64" y="98"/>
                      <a:pt x="58" y="94"/>
                      <a:pt x="52" y="90"/>
                    </a:cubicBezTo>
                    <a:cubicBezTo>
                      <a:pt x="49" y="88"/>
                      <a:pt x="43" y="84"/>
                      <a:pt x="43" y="84"/>
                    </a:cubicBezTo>
                    <a:cubicBezTo>
                      <a:pt x="34" y="85"/>
                      <a:pt x="25" y="86"/>
                      <a:pt x="16" y="87"/>
                    </a:cubicBezTo>
                    <a:cubicBezTo>
                      <a:pt x="10" y="88"/>
                      <a:pt x="0" y="95"/>
                      <a:pt x="4" y="99"/>
                    </a:cubicBezTo>
                    <a:cubicBezTo>
                      <a:pt x="7" y="102"/>
                      <a:pt x="29" y="83"/>
                      <a:pt x="19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ae471"/>
                  </a:gs>
                  <a:gs pos="50000">
                    <a:srgbClr val="008000"/>
                  </a:gs>
                  <a:gs pos="100000">
                    <a:srgbClr val="5ae471"/>
                  </a:gs>
                </a:gsLst>
                <a:lin ang="816000"/>
              </a:gra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Freeform 219"/>
            <p:cNvSpPr/>
            <p:nvPr/>
          </p:nvSpPr>
          <p:spPr>
            <a:xfrm flipH="1">
              <a:off x="1464120" y="5644800"/>
              <a:ext cx="209520" cy="214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42" h="242">
                  <a:moveTo>
                    <a:pt x="19" y="93"/>
                  </a:moveTo>
                  <a:cubicBezTo>
                    <a:pt x="37" y="98"/>
                    <a:pt x="41" y="107"/>
                    <a:pt x="55" y="117"/>
                  </a:cubicBezTo>
                  <a:cubicBezTo>
                    <a:pt x="63" y="129"/>
                    <a:pt x="76" y="139"/>
                    <a:pt x="88" y="147"/>
                  </a:cubicBezTo>
                  <a:cubicBezTo>
                    <a:pt x="94" y="156"/>
                    <a:pt x="97" y="165"/>
                    <a:pt x="103" y="174"/>
                  </a:cubicBezTo>
                  <a:cubicBezTo>
                    <a:pt x="109" y="196"/>
                    <a:pt x="114" y="218"/>
                    <a:pt x="118" y="240"/>
                  </a:cubicBezTo>
                  <a:cubicBezTo>
                    <a:pt x="132" y="235"/>
                    <a:pt x="133" y="230"/>
                    <a:pt x="148" y="234"/>
                  </a:cubicBezTo>
                  <a:cubicBezTo>
                    <a:pt x="151" y="236"/>
                    <a:pt x="154" y="242"/>
                    <a:pt x="157" y="240"/>
                  </a:cubicBezTo>
                  <a:cubicBezTo>
                    <a:pt x="164" y="235"/>
                    <a:pt x="161" y="224"/>
                    <a:pt x="163" y="216"/>
                  </a:cubicBezTo>
                  <a:cubicBezTo>
                    <a:pt x="168" y="199"/>
                    <a:pt x="173" y="183"/>
                    <a:pt x="181" y="168"/>
                  </a:cubicBezTo>
                  <a:cubicBezTo>
                    <a:pt x="198" y="138"/>
                    <a:pt x="185" y="157"/>
                    <a:pt x="202" y="147"/>
                  </a:cubicBezTo>
                  <a:cubicBezTo>
                    <a:pt x="208" y="143"/>
                    <a:pt x="220" y="135"/>
                    <a:pt x="220" y="135"/>
                  </a:cubicBezTo>
                  <a:cubicBezTo>
                    <a:pt x="224" y="136"/>
                    <a:pt x="228" y="136"/>
                    <a:pt x="232" y="138"/>
                  </a:cubicBezTo>
                  <a:cubicBezTo>
                    <a:pt x="235" y="139"/>
                    <a:pt x="242" y="147"/>
                    <a:pt x="241" y="144"/>
                  </a:cubicBezTo>
                  <a:cubicBezTo>
                    <a:pt x="236" y="129"/>
                    <a:pt x="234" y="120"/>
                    <a:pt x="220" y="111"/>
                  </a:cubicBezTo>
                  <a:cubicBezTo>
                    <a:pt x="212" y="112"/>
                    <a:pt x="204" y="112"/>
                    <a:pt x="196" y="114"/>
                  </a:cubicBezTo>
                  <a:cubicBezTo>
                    <a:pt x="190" y="115"/>
                    <a:pt x="178" y="120"/>
                    <a:pt x="178" y="120"/>
                  </a:cubicBezTo>
                  <a:cubicBezTo>
                    <a:pt x="176" y="123"/>
                    <a:pt x="175" y="127"/>
                    <a:pt x="172" y="129"/>
                  </a:cubicBezTo>
                  <a:cubicBezTo>
                    <a:pt x="170" y="131"/>
                    <a:pt x="165" y="130"/>
                    <a:pt x="163" y="132"/>
                  </a:cubicBezTo>
                  <a:cubicBezTo>
                    <a:pt x="161" y="134"/>
                    <a:pt x="150" y="166"/>
                    <a:pt x="148" y="171"/>
                  </a:cubicBezTo>
                  <a:cubicBezTo>
                    <a:pt x="145" y="132"/>
                    <a:pt x="140" y="72"/>
                    <a:pt x="103" y="48"/>
                  </a:cubicBezTo>
                  <a:cubicBezTo>
                    <a:pt x="96" y="26"/>
                    <a:pt x="62" y="7"/>
                    <a:pt x="40" y="0"/>
                  </a:cubicBezTo>
                  <a:cubicBezTo>
                    <a:pt x="49" y="14"/>
                    <a:pt x="60" y="34"/>
                    <a:pt x="76" y="39"/>
                  </a:cubicBezTo>
                  <a:cubicBezTo>
                    <a:pt x="86" y="54"/>
                    <a:pt x="96" y="68"/>
                    <a:pt x="103" y="84"/>
                  </a:cubicBezTo>
                  <a:cubicBezTo>
                    <a:pt x="107" y="93"/>
                    <a:pt x="112" y="111"/>
                    <a:pt x="112" y="111"/>
                  </a:cubicBezTo>
                  <a:cubicBezTo>
                    <a:pt x="114" y="125"/>
                    <a:pt x="119" y="140"/>
                    <a:pt x="115" y="153"/>
                  </a:cubicBezTo>
                  <a:cubicBezTo>
                    <a:pt x="101" y="132"/>
                    <a:pt x="109" y="139"/>
                    <a:pt x="94" y="129"/>
                  </a:cubicBezTo>
                  <a:cubicBezTo>
                    <a:pt x="90" y="117"/>
                    <a:pt x="80" y="108"/>
                    <a:pt x="70" y="102"/>
                  </a:cubicBezTo>
                  <a:cubicBezTo>
                    <a:pt x="64" y="98"/>
                    <a:pt x="58" y="94"/>
                    <a:pt x="52" y="90"/>
                  </a:cubicBezTo>
                  <a:cubicBezTo>
                    <a:pt x="49" y="88"/>
                    <a:pt x="43" y="84"/>
                    <a:pt x="43" y="84"/>
                  </a:cubicBezTo>
                  <a:cubicBezTo>
                    <a:pt x="34" y="85"/>
                    <a:pt x="25" y="86"/>
                    <a:pt x="16" y="87"/>
                  </a:cubicBezTo>
                  <a:cubicBezTo>
                    <a:pt x="10" y="88"/>
                    <a:pt x="0" y="95"/>
                    <a:pt x="4" y="99"/>
                  </a:cubicBezTo>
                  <a:cubicBezTo>
                    <a:pt x="7" y="102"/>
                    <a:pt x="29" y="83"/>
                    <a:pt x="19" y="93"/>
                  </a:cubicBezTo>
                  <a:close/>
                </a:path>
              </a:pathLst>
            </a:custGeom>
            <a:gradFill rotWithShape="0">
              <a:gsLst>
                <a:gs pos="0">
                  <a:srgbClr val="5ae471"/>
                </a:gs>
                <a:gs pos="50000">
                  <a:srgbClr val="008000"/>
                </a:gs>
                <a:gs pos="100000">
                  <a:srgbClr val="5ae471"/>
                </a:gs>
              </a:gsLst>
              <a:lin ang="0"/>
            </a:gradFill>
            <a:ln w="936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20"/>
            <p:cNvSpPr/>
            <p:nvPr/>
          </p:nvSpPr>
          <p:spPr>
            <a:xfrm>
              <a:off x="543960" y="5644800"/>
              <a:ext cx="169200" cy="27972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42" h="242">
                  <a:moveTo>
                    <a:pt x="19" y="93"/>
                  </a:moveTo>
                  <a:cubicBezTo>
                    <a:pt x="37" y="98"/>
                    <a:pt x="41" y="107"/>
                    <a:pt x="55" y="117"/>
                  </a:cubicBezTo>
                  <a:cubicBezTo>
                    <a:pt x="63" y="129"/>
                    <a:pt x="76" y="139"/>
                    <a:pt x="88" y="147"/>
                  </a:cubicBezTo>
                  <a:cubicBezTo>
                    <a:pt x="94" y="156"/>
                    <a:pt x="97" y="165"/>
                    <a:pt x="103" y="174"/>
                  </a:cubicBezTo>
                  <a:cubicBezTo>
                    <a:pt x="109" y="196"/>
                    <a:pt x="114" y="218"/>
                    <a:pt x="118" y="240"/>
                  </a:cubicBezTo>
                  <a:cubicBezTo>
                    <a:pt x="132" y="235"/>
                    <a:pt x="133" y="230"/>
                    <a:pt x="148" y="234"/>
                  </a:cubicBezTo>
                  <a:cubicBezTo>
                    <a:pt x="151" y="236"/>
                    <a:pt x="154" y="242"/>
                    <a:pt x="157" y="240"/>
                  </a:cubicBezTo>
                  <a:cubicBezTo>
                    <a:pt x="164" y="235"/>
                    <a:pt x="161" y="224"/>
                    <a:pt x="163" y="216"/>
                  </a:cubicBezTo>
                  <a:cubicBezTo>
                    <a:pt x="168" y="199"/>
                    <a:pt x="173" y="183"/>
                    <a:pt x="181" y="168"/>
                  </a:cubicBezTo>
                  <a:cubicBezTo>
                    <a:pt x="198" y="138"/>
                    <a:pt x="185" y="157"/>
                    <a:pt x="202" y="147"/>
                  </a:cubicBezTo>
                  <a:cubicBezTo>
                    <a:pt x="208" y="143"/>
                    <a:pt x="220" y="135"/>
                    <a:pt x="220" y="135"/>
                  </a:cubicBezTo>
                  <a:cubicBezTo>
                    <a:pt x="224" y="136"/>
                    <a:pt x="228" y="136"/>
                    <a:pt x="232" y="138"/>
                  </a:cubicBezTo>
                  <a:cubicBezTo>
                    <a:pt x="235" y="139"/>
                    <a:pt x="242" y="147"/>
                    <a:pt x="241" y="144"/>
                  </a:cubicBezTo>
                  <a:cubicBezTo>
                    <a:pt x="236" y="129"/>
                    <a:pt x="234" y="120"/>
                    <a:pt x="220" y="111"/>
                  </a:cubicBezTo>
                  <a:cubicBezTo>
                    <a:pt x="212" y="112"/>
                    <a:pt x="204" y="112"/>
                    <a:pt x="196" y="114"/>
                  </a:cubicBezTo>
                  <a:cubicBezTo>
                    <a:pt x="190" y="115"/>
                    <a:pt x="178" y="120"/>
                    <a:pt x="178" y="120"/>
                  </a:cubicBezTo>
                  <a:cubicBezTo>
                    <a:pt x="176" y="123"/>
                    <a:pt x="175" y="127"/>
                    <a:pt x="172" y="129"/>
                  </a:cubicBezTo>
                  <a:cubicBezTo>
                    <a:pt x="170" y="131"/>
                    <a:pt x="165" y="130"/>
                    <a:pt x="163" y="132"/>
                  </a:cubicBezTo>
                  <a:cubicBezTo>
                    <a:pt x="161" y="134"/>
                    <a:pt x="150" y="166"/>
                    <a:pt x="148" y="171"/>
                  </a:cubicBezTo>
                  <a:cubicBezTo>
                    <a:pt x="145" y="132"/>
                    <a:pt x="140" y="72"/>
                    <a:pt x="103" y="48"/>
                  </a:cubicBezTo>
                  <a:cubicBezTo>
                    <a:pt x="96" y="26"/>
                    <a:pt x="62" y="7"/>
                    <a:pt x="40" y="0"/>
                  </a:cubicBezTo>
                  <a:cubicBezTo>
                    <a:pt x="49" y="14"/>
                    <a:pt x="60" y="34"/>
                    <a:pt x="76" y="39"/>
                  </a:cubicBezTo>
                  <a:cubicBezTo>
                    <a:pt x="86" y="54"/>
                    <a:pt x="96" y="68"/>
                    <a:pt x="103" y="84"/>
                  </a:cubicBezTo>
                  <a:cubicBezTo>
                    <a:pt x="107" y="93"/>
                    <a:pt x="112" y="111"/>
                    <a:pt x="112" y="111"/>
                  </a:cubicBezTo>
                  <a:cubicBezTo>
                    <a:pt x="114" y="125"/>
                    <a:pt x="119" y="140"/>
                    <a:pt x="115" y="153"/>
                  </a:cubicBezTo>
                  <a:cubicBezTo>
                    <a:pt x="101" y="132"/>
                    <a:pt x="109" y="139"/>
                    <a:pt x="94" y="129"/>
                  </a:cubicBezTo>
                  <a:cubicBezTo>
                    <a:pt x="90" y="117"/>
                    <a:pt x="80" y="108"/>
                    <a:pt x="70" y="102"/>
                  </a:cubicBezTo>
                  <a:cubicBezTo>
                    <a:pt x="64" y="98"/>
                    <a:pt x="58" y="94"/>
                    <a:pt x="52" y="90"/>
                  </a:cubicBezTo>
                  <a:cubicBezTo>
                    <a:pt x="49" y="88"/>
                    <a:pt x="43" y="84"/>
                    <a:pt x="43" y="84"/>
                  </a:cubicBezTo>
                  <a:cubicBezTo>
                    <a:pt x="34" y="85"/>
                    <a:pt x="25" y="86"/>
                    <a:pt x="16" y="87"/>
                  </a:cubicBezTo>
                  <a:cubicBezTo>
                    <a:pt x="10" y="88"/>
                    <a:pt x="0" y="95"/>
                    <a:pt x="4" y="99"/>
                  </a:cubicBezTo>
                  <a:cubicBezTo>
                    <a:pt x="7" y="102"/>
                    <a:pt x="29" y="83"/>
                    <a:pt x="19" y="93"/>
                  </a:cubicBezTo>
                  <a:close/>
                </a:path>
              </a:pathLst>
            </a:custGeom>
            <a:gradFill rotWithShape="0">
              <a:gsLst>
                <a:gs pos="0">
                  <a:srgbClr val="5ae471"/>
                </a:gs>
                <a:gs pos="50000">
                  <a:srgbClr val="008000"/>
                </a:gs>
                <a:gs pos="100000">
                  <a:srgbClr val="5ae471"/>
                </a:gs>
              </a:gsLst>
              <a:lin ang="0"/>
            </a:gra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21"/>
            <p:cNvSpPr/>
            <p:nvPr/>
          </p:nvSpPr>
          <p:spPr>
            <a:xfrm>
              <a:off x="627840" y="5725080"/>
              <a:ext cx="611640" cy="2815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48" h="168">
                  <a:moveTo>
                    <a:pt x="3" y="129"/>
                  </a:moveTo>
                  <a:cubicBezTo>
                    <a:pt x="26" y="121"/>
                    <a:pt x="29" y="99"/>
                    <a:pt x="48" y="87"/>
                  </a:cubicBezTo>
                  <a:cubicBezTo>
                    <a:pt x="57" y="74"/>
                    <a:pt x="58" y="63"/>
                    <a:pt x="72" y="54"/>
                  </a:cubicBezTo>
                  <a:cubicBezTo>
                    <a:pt x="73" y="51"/>
                    <a:pt x="72" y="47"/>
                    <a:pt x="75" y="45"/>
                  </a:cubicBezTo>
                  <a:cubicBezTo>
                    <a:pt x="91" y="34"/>
                    <a:pt x="119" y="31"/>
                    <a:pt x="138" y="18"/>
                  </a:cubicBezTo>
                  <a:cubicBezTo>
                    <a:pt x="144" y="14"/>
                    <a:pt x="149" y="8"/>
                    <a:pt x="156" y="6"/>
                  </a:cubicBezTo>
                  <a:cubicBezTo>
                    <a:pt x="162" y="4"/>
                    <a:pt x="174" y="0"/>
                    <a:pt x="174" y="0"/>
                  </a:cubicBezTo>
                  <a:cubicBezTo>
                    <a:pt x="205" y="6"/>
                    <a:pt x="230" y="19"/>
                    <a:pt x="261" y="24"/>
                  </a:cubicBezTo>
                  <a:cubicBezTo>
                    <a:pt x="278" y="27"/>
                    <a:pt x="276" y="27"/>
                    <a:pt x="294" y="33"/>
                  </a:cubicBezTo>
                  <a:cubicBezTo>
                    <a:pt x="297" y="34"/>
                    <a:pt x="303" y="36"/>
                    <a:pt x="303" y="36"/>
                  </a:cubicBezTo>
                  <a:cubicBezTo>
                    <a:pt x="319" y="60"/>
                    <a:pt x="298" y="31"/>
                    <a:pt x="318" y="51"/>
                  </a:cubicBezTo>
                  <a:cubicBezTo>
                    <a:pt x="326" y="59"/>
                    <a:pt x="327" y="69"/>
                    <a:pt x="336" y="78"/>
                  </a:cubicBezTo>
                  <a:cubicBezTo>
                    <a:pt x="339" y="88"/>
                    <a:pt x="345" y="95"/>
                    <a:pt x="348" y="105"/>
                  </a:cubicBezTo>
                  <a:cubicBezTo>
                    <a:pt x="342" y="109"/>
                    <a:pt x="336" y="113"/>
                    <a:pt x="330" y="117"/>
                  </a:cubicBezTo>
                  <a:cubicBezTo>
                    <a:pt x="327" y="119"/>
                    <a:pt x="321" y="123"/>
                    <a:pt x="321" y="123"/>
                  </a:cubicBezTo>
                  <a:cubicBezTo>
                    <a:pt x="313" y="146"/>
                    <a:pt x="312" y="148"/>
                    <a:pt x="288" y="156"/>
                  </a:cubicBezTo>
                  <a:cubicBezTo>
                    <a:pt x="271" y="153"/>
                    <a:pt x="254" y="149"/>
                    <a:pt x="237" y="147"/>
                  </a:cubicBezTo>
                  <a:cubicBezTo>
                    <a:pt x="223" y="148"/>
                    <a:pt x="205" y="143"/>
                    <a:pt x="195" y="153"/>
                  </a:cubicBezTo>
                  <a:cubicBezTo>
                    <a:pt x="193" y="155"/>
                    <a:pt x="195" y="160"/>
                    <a:pt x="192" y="162"/>
                  </a:cubicBezTo>
                  <a:cubicBezTo>
                    <a:pt x="187" y="166"/>
                    <a:pt x="174" y="168"/>
                    <a:pt x="174" y="168"/>
                  </a:cubicBezTo>
                  <a:cubicBezTo>
                    <a:pt x="138" y="166"/>
                    <a:pt x="117" y="163"/>
                    <a:pt x="84" y="159"/>
                  </a:cubicBezTo>
                  <a:cubicBezTo>
                    <a:pt x="59" y="167"/>
                    <a:pt x="31" y="168"/>
                    <a:pt x="9" y="153"/>
                  </a:cubicBezTo>
                  <a:cubicBezTo>
                    <a:pt x="7" y="150"/>
                    <a:pt x="4" y="148"/>
                    <a:pt x="3" y="144"/>
                  </a:cubicBezTo>
                  <a:cubicBezTo>
                    <a:pt x="0" y="127"/>
                    <a:pt x="31" y="136"/>
                    <a:pt x="3" y="1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>
                    <a:alpha val="88235"/>
                  </a:srgbClr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22"/>
            <p:cNvSpPr/>
            <p:nvPr/>
          </p:nvSpPr>
          <p:spPr>
            <a:xfrm>
              <a:off x="0" y="5691600"/>
              <a:ext cx="1701360" cy="375480"/>
            </a:xfrm>
            <a:custGeom>
              <a:avLst/>
              <a:gdLst>
                <a:gd name="textAreaLeft" fmla="*/ 0 w 1701360"/>
                <a:gd name="textAreaRight" fmla="*/ 1701720 w 170136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976" h="224">
                  <a:moveTo>
                    <a:pt x="120" y="68"/>
                  </a:moveTo>
                  <a:lnTo>
                    <a:pt x="0" y="112"/>
                  </a:lnTo>
                  <a:lnTo>
                    <a:pt x="156" y="172"/>
                  </a:lnTo>
                  <a:lnTo>
                    <a:pt x="424" y="224"/>
                  </a:lnTo>
                  <a:lnTo>
                    <a:pt x="748" y="204"/>
                  </a:lnTo>
                  <a:lnTo>
                    <a:pt x="976" y="136"/>
                  </a:lnTo>
                  <a:lnTo>
                    <a:pt x="952" y="64"/>
                  </a:lnTo>
                  <a:lnTo>
                    <a:pt x="868" y="0"/>
                  </a:lnTo>
                  <a:lnTo>
                    <a:pt x="832" y="92"/>
                  </a:lnTo>
                  <a:lnTo>
                    <a:pt x="736" y="112"/>
                  </a:lnTo>
                  <a:lnTo>
                    <a:pt x="692" y="136"/>
                  </a:lnTo>
                  <a:lnTo>
                    <a:pt x="652" y="180"/>
                  </a:lnTo>
                  <a:lnTo>
                    <a:pt x="572" y="164"/>
                  </a:lnTo>
                  <a:lnTo>
                    <a:pt x="464" y="188"/>
                  </a:lnTo>
                  <a:lnTo>
                    <a:pt x="424" y="152"/>
                  </a:lnTo>
                  <a:lnTo>
                    <a:pt x="372" y="112"/>
                  </a:lnTo>
                  <a:lnTo>
                    <a:pt x="264" y="104"/>
                  </a:lnTo>
                  <a:lnTo>
                    <a:pt x="120" y="68"/>
                  </a:lnTo>
                  <a:close/>
                </a:path>
              </a:pathLst>
            </a:custGeom>
            <a:gradFill rotWithShape="0">
              <a:gsLst>
                <a:gs pos="0">
                  <a:srgbClr val="63e844">
                    <a:alpha val="15294"/>
                  </a:srgbClr>
                </a:gs>
                <a:gs pos="100000">
                  <a:srgbClr val="cccc00">
                    <a:alpha val="9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Group 223"/>
            <p:cNvGrpSpPr/>
            <p:nvPr/>
          </p:nvGrpSpPr>
          <p:grpSpPr>
            <a:xfrm>
              <a:off x="878760" y="5000760"/>
              <a:ext cx="417960" cy="461160"/>
              <a:chOff x="878760" y="5000760"/>
              <a:chExt cx="417960" cy="461160"/>
            </a:xfrm>
          </p:grpSpPr>
          <p:sp>
            <p:nvSpPr>
              <p:cNvPr id="368" name="Freeform 224"/>
              <p:cNvSpPr/>
              <p:nvPr/>
            </p:nvSpPr>
            <p:spPr>
              <a:xfrm>
                <a:off x="951480" y="5105520"/>
                <a:ext cx="272520" cy="35640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720" h="816">
                    <a:moveTo>
                      <a:pt x="336" y="768"/>
                    </a:moveTo>
                    <a:lnTo>
                      <a:pt x="339" y="621"/>
                    </a:lnTo>
                    <a:lnTo>
                      <a:pt x="321" y="546"/>
                    </a:lnTo>
                    <a:lnTo>
                      <a:pt x="234" y="468"/>
                    </a:lnTo>
                    <a:lnTo>
                      <a:pt x="201" y="417"/>
                    </a:lnTo>
                    <a:lnTo>
                      <a:pt x="96" y="336"/>
                    </a:lnTo>
                    <a:lnTo>
                      <a:pt x="0" y="336"/>
                    </a:lnTo>
                    <a:lnTo>
                      <a:pt x="147" y="375"/>
                    </a:lnTo>
                    <a:lnTo>
                      <a:pt x="150" y="342"/>
                    </a:lnTo>
                    <a:lnTo>
                      <a:pt x="228" y="423"/>
                    </a:lnTo>
                    <a:lnTo>
                      <a:pt x="246" y="441"/>
                    </a:lnTo>
                    <a:lnTo>
                      <a:pt x="336" y="528"/>
                    </a:lnTo>
                    <a:lnTo>
                      <a:pt x="384" y="336"/>
                    </a:lnTo>
                    <a:lnTo>
                      <a:pt x="384" y="240"/>
                    </a:lnTo>
                    <a:lnTo>
                      <a:pt x="318" y="195"/>
                    </a:lnTo>
                    <a:lnTo>
                      <a:pt x="240" y="192"/>
                    </a:lnTo>
                    <a:lnTo>
                      <a:pt x="297" y="171"/>
                    </a:lnTo>
                    <a:lnTo>
                      <a:pt x="375" y="198"/>
                    </a:lnTo>
                    <a:lnTo>
                      <a:pt x="408" y="231"/>
                    </a:lnTo>
                    <a:lnTo>
                      <a:pt x="441" y="180"/>
                    </a:lnTo>
                    <a:lnTo>
                      <a:pt x="468" y="126"/>
                    </a:lnTo>
                    <a:lnTo>
                      <a:pt x="528" y="0"/>
                    </a:lnTo>
                    <a:lnTo>
                      <a:pt x="510" y="96"/>
                    </a:lnTo>
                    <a:lnTo>
                      <a:pt x="432" y="288"/>
                    </a:lnTo>
                    <a:lnTo>
                      <a:pt x="384" y="540"/>
                    </a:lnTo>
                    <a:lnTo>
                      <a:pt x="474" y="453"/>
                    </a:lnTo>
                    <a:lnTo>
                      <a:pt x="579" y="405"/>
                    </a:lnTo>
                    <a:lnTo>
                      <a:pt x="720" y="384"/>
                    </a:lnTo>
                    <a:lnTo>
                      <a:pt x="603" y="426"/>
                    </a:lnTo>
                    <a:lnTo>
                      <a:pt x="678" y="507"/>
                    </a:lnTo>
                    <a:lnTo>
                      <a:pt x="576" y="432"/>
                    </a:lnTo>
                    <a:lnTo>
                      <a:pt x="480" y="480"/>
                    </a:lnTo>
                    <a:lnTo>
                      <a:pt x="432" y="576"/>
                    </a:lnTo>
                    <a:lnTo>
                      <a:pt x="432" y="720"/>
                    </a:lnTo>
                    <a:lnTo>
                      <a:pt x="432" y="816"/>
                    </a:lnTo>
                    <a:lnTo>
                      <a:pt x="240" y="816"/>
                    </a:lnTo>
                    <a:lnTo>
                      <a:pt x="303" y="723"/>
                    </a:lnTo>
                    <a:lnTo>
                      <a:pt x="297" y="600"/>
                    </a:lnTo>
                    <a:lnTo>
                      <a:pt x="240" y="480"/>
                    </a:lnTo>
                    <a:lnTo>
                      <a:pt x="288" y="432"/>
                    </a:lnTo>
                    <a:lnTo>
                      <a:pt x="384" y="624"/>
                    </a:lnTo>
                    <a:lnTo>
                      <a:pt x="363" y="678"/>
                    </a:lnTo>
                    <a:lnTo>
                      <a:pt x="336" y="768"/>
                    </a:lnTo>
                    <a:close/>
                  </a:path>
                </a:pathLst>
              </a:custGeom>
              <a:blipFill rotWithShape="0">
                <a:blip r:embed="rId84">
                  <a:alphaModFix amt="90000"/>
                </a:blip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225"/>
              <p:cNvSpPr/>
              <p:nvPr/>
            </p:nvSpPr>
            <p:spPr>
              <a:xfrm>
                <a:off x="878760" y="5000760"/>
                <a:ext cx="417960" cy="3772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1104" h="864">
                    <a:moveTo>
                      <a:pt x="336" y="672"/>
                    </a:moveTo>
                    <a:lnTo>
                      <a:pt x="288" y="720"/>
                    </a:lnTo>
                    <a:lnTo>
                      <a:pt x="240" y="768"/>
                    </a:lnTo>
                    <a:lnTo>
                      <a:pt x="144" y="768"/>
                    </a:lnTo>
                    <a:lnTo>
                      <a:pt x="96" y="720"/>
                    </a:lnTo>
                    <a:lnTo>
                      <a:pt x="0" y="624"/>
                    </a:lnTo>
                    <a:lnTo>
                      <a:pt x="0" y="528"/>
                    </a:lnTo>
                    <a:lnTo>
                      <a:pt x="48" y="432"/>
                    </a:lnTo>
                    <a:lnTo>
                      <a:pt x="96" y="336"/>
                    </a:lnTo>
                    <a:lnTo>
                      <a:pt x="192" y="384"/>
                    </a:lnTo>
                    <a:lnTo>
                      <a:pt x="240" y="336"/>
                    </a:lnTo>
                    <a:lnTo>
                      <a:pt x="240" y="240"/>
                    </a:lnTo>
                    <a:lnTo>
                      <a:pt x="336" y="192"/>
                    </a:lnTo>
                    <a:lnTo>
                      <a:pt x="384" y="96"/>
                    </a:lnTo>
                    <a:lnTo>
                      <a:pt x="432" y="48"/>
                    </a:lnTo>
                    <a:lnTo>
                      <a:pt x="576" y="0"/>
                    </a:lnTo>
                    <a:lnTo>
                      <a:pt x="768" y="48"/>
                    </a:lnTo>
                    <a:lnTo>
                      <a:pt x="912" y="0"/>
                    </a:lnTo>
                    <a:lnTo>
                      <a:pt x="1008" y="96"/>
                    </a:lnTo>
                    <a:lnTo>
                      <a:pt x="1008" y="288"/>
                    </a:lnTo>
                    <a:lnTo>
                      <a:pt x="864" y="336"/>
                    </a:lnTo>
                    <a:lnTo>
                      <a:pt x="960" y="384"/>
                    </a:lnTo>
                    <a:lnTo>
                      <a:pt x="1104" y="528"/>
                    </a:lnTo>
                    <a:lnTo>
                      <a:pt x="1104" y="672"/>
                    </a:lnTo>
                    <a:lnTo>
                      <a:pt x="1008" y="768"/>
                    </a:lnTo>
                    <a:lnTo>
                      <a:pt x="864" y="864"/>
                    </a:lnTo>
                    <a:lnTo>
                      <a:pt x="768" y="816"/>
                    </a:lnTo>
                    <a:lnTo>
                      <a:pt x="720" y="720"/>
                    </a:lnTo>
                    <a:lnTo>
                      <a:pt x="672" y="720"/>
                    </a:lnTo>
                    <a:lnTo>
                      <a:pt x="672" y="624"/>
                    </a:lnTo>
                    <a:lnTo>
                      <a:pt x="576" y="624"/>
                    </a:lnTo>
                    <a:lnTo>
                      <a:pt x="480" y="576"/>
                    </a:lnTo>
                    <a:lnTo>
                      <a:pt x="432" y="576"/>
                    </a:lnTo>
                    <a:lnTo>
                      <a:pt x="384" y="672"/>
                    </a:lnTo>
                    <a:lnTo>
                      <a:pt x="336" y="672"/>
                    </a:lnTo>
                    <a:close/>
                  </a:path>
                </a:pathLst>
              </a:custGeom>
              <a:blipFill rotWithShape="0">
                <a:blip r:embed="rId85">
                  <a:alphaModFix amt="90000"/>
                </a:blip>
                <a:srcRect/>
                <a:tile tx="0" ty="0" sx="100000" sy="100000" algn="ctr"/>
              </a:blipFill>
              <a:ln w="22320">
                <a:solidFill>
                  <a:srgbClr val="99cc00"/>
                </a:solidFill>
                <a:prstDash val="lgDashDot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226"/>
              <p:cNvSpPr/>
              <p:nvPr/>
            </p:nvSpPr>
            <p:spPr>
              <a:xfrm>
                <a:off x="933120" y="525240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227"/>
              <p:cNvSpPr/>
              <p:nvPr/>
            </p:nvSpPr>
            <p:spPr>
              <a:xfrm>
                <a:off x="1133280" y="523116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228"/>
              <p:cNvSpPr/>
              <p:nvPr/>
            </p:nvSpPr>
            <p:spPr>
              <a:xfrm>
                <a:off x="1005840" y="521028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229"/>
              <p:cNvSpPr/>
              <p:nvPr/>
            </p:nvSpPr>
            <p:spPr>
              <a:xfrm>
                <a:off x="951480" y="529416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Oval 230"/>
              <p:cNvSpPr/>
              <p:nvPr/>
            </p:nvSpPr>
            <p:spPr>
              <a:xfrm>
                <a:off x="1206000" y="531504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Rectangle 2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>
                  <a:alpha val="13333"/>
                </a:srgbClr>
              </a:gs>
              <a:gs pos="100000">
                <a:srgbClr val="4a4ef4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71"/>
          <p:cNvGrpSpPr/>
          <p:nvPr/>
        </p:nvGrpSpPr>
        <p:grpSpPr>
          <a:xfrm>
            <a:off x="-642960" y="5072040"/>
            <a:ext cx="5276880" cy="2081880"/>
            <a:chOff x="-642960" y="5072040"/>
            <a:chExt cx="5276880" cy="2081880"/>
          </a:xfrm>
        </p:grpSpPr>
        <p:grpSp>
          <p:nvGrpSpPr>
            <p:cNvPr id="377" name="Group 170"/>
            <p:cNvGrpSpPr/>
            <p:nvPr/>
          </p:nvGrpSpPr>
          <p:grpSpPr>
            <a:xfrm>
              <a:off x="-642960" y="5072040"/>
              <a:ext cx="5276880" cy="2081880"/>
              <a:chOff x="-642960" y="5072040"/>
              <a:chExt cx="5276880" cy="2081880"/>
            </a:xfrm>
          </p:grpSpPr>
          <p:grpSp>
            <p:nvGrpSpPr>
              <p:cNvPr id="378" name="Group 142"/>
              <p:cNvGrpSpPr/>
              <p:nvPr/>
            </p:nvGrpSpPr>
            <p:grpSpPr>
              <a:xfrm>
                <a:off x="-642960" y="5302800"/>
                <a:ext cx="2916720" cy="1356120"/>
                <a:chOff x="-642960" y="5302800"/>
                <a:chExt cx="2916720" cy="1356120"/>
              </a:xfrm>
            </p:grpSpPr>
            <p:grpSp>
              <p:nvGrpSpPr>
                <p:cNvPr id="379" name="Group 128"/>
                <p:cNvGrpSpPr/>
                <p:nvPr/>
              </p:nvGrpSpPr>
              <p:grpSpPr>
                <a:xfrm>
                  <a:off x="-642960" y="5302800"/>
                  <a:ext cx="1968480" cy="1271520"/>
                  <a:chOff x="-642960" y="5302800"/>
                  <a:chExt cx="1968480" cy="1271520"/>
                </a:xfrm>
              </p:grpSpPr>
              <p:sp>
                <p:nvSpPr>
                  <p:cNvPr id="380" name="Freeform 47"/>
                  <p:cNvSpPr/>
                  <p:nvPr/>
                </p:nvSpPr>
                <p:spPr>
                  <a:xfrm>
                    <a:off x="-642960" y="5302800"/>
                    <a:ext cx="1968480" cy="1271520"/>
                  </a:xfrm>
                  <a:custGeom>
                    <a:avLst/>
                    <a:gdLst>
                      <a:gd name="textAreaLeft" fmla="*/ 0 w 1968480"/>
                      <a:gd name="textAreaRight" fmla="*/ 1968840 w 1968480"/>
                      <a:gd name="textAreaTop" fmla="*/ 0 h 1271520"/>
                      <a:gd name="textAreaBottom" fmla="*/ 1271880 h 1271520"/>
                    </a:gdLst>
                    <a:ahLst/>
                    <a:rect l="textAreaLeft" t="textAreaTop" r="textAreaRight" b="textAreaBottom"/>
                    <a:pathLst>
                      <a:path w="831" h="480">
                        <a:moveTo>
                          <a:pt x="92" y="288"/>
                        </a:moveTo>
                        <a:lnTo>
                          <a:pt x="139" y="240"/>
                        </a:lnTo>
                        <a:lnTo>
                          <a:pt x="231" y="192"/>
                        </a:lnTo>
                        <a:lnTo>
                          <a:pt x="277" y="192"/>
                        </a:lnTo>
                        <a:lnTo>
                          <a:pt x="369" y="96"/>
                        </a:lnTo>
                        <a:lnTo>
                          <a:pt x="447" y="52"/>
                        </a:lnTo>
                        <a:lnTo>
                          <a:pt x="491" y="24"/>
                        </a:lnTo>
                        <a:lnTo>
                          <a:pt x="508" y="0"/>
                        </a:lnTo>
                        <a:lnTo>
                          <a:pt x="539" y="32"/>
                        </a:lnTo>
                        <a:lnTo>
                          <a:pt x="554" y="48"/>
                        </a:lnTo>
                        <a:lnTo>
                          <a:pt x="600" y="96"/>
                        </a:lnTo>
                        <a:lnTo>
                          <a:pt x="600" y="144"/>
                        </a:lnTo>
                        <a:lnTo>
                          <a:pt x="693" y="192"/>
                        </a:lnTo>
                        <a:lnTo>
                          <a:pt x="693" y="240"/>
                        </a:lnTo>
                        <a:lnTo>
                          <a:pt x="739" y="288"/>
                        </a:lnTo>
                        <a:lnTo>
                          <a:pt x="739" y="336"/>
                        </a:lnTo>
                        <a:lnTo>
                          <a:pt x="785" y="336"/>
                        </a:lnTo>
                        <a:lnTo>
                          <a:pt x="831" y="336"/>
                        </a:lnTo>
                        <a:lnTo>
                          <a:pt x="785" y="384"/>
                        </a:lnTo>
                        <a:lnTo>
                          <a:pt x="554" y="432"/>
                        </a:lnTo>
                        <a:lnTo>
                          <a:pt x="369" y="432"/>
                        </a:lnTo>
                        <a:lnTo>
                          <a:pt x="277" y="480"/>
                        </a:lnTo>
                        <a:lnTo>
                          <a:pt x="92" y="432"/>
                        </a:lnTo>
                        <a:lnTo>
                          <a:pt x="0" y="336"/>
                        </a:lnTo>
                        <a:lnTo>
                          <a:pt x="46" y="288"/>
                        </a:lnTo>
                        <a:lnTo>
                          <a:pt x="92" y="2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Freeform 48"/>
                  <p:cNvSpPr/>
                  <p:nvPr/>
                </p:nvSpPr>
                <p:spPr>
                  <a:xfrm>
                    <a:off x="-535320" y="5302800"/>
                    <a:ext cx="1533960" cy="1271520"/>
                  </a:xfrm>
                  <a:custGeom>
                    <a:avLst/>
                    <a:gdLst>
                      <a:gd name="textAreaLeft" fmla="*/ 0 w 1533960"/>
                      <a:gd name="textAreaRight" fmla="*/ 1534320 w 1533960"/>
                      <a:gd name="textAreaTop" fmla="*/ 0 h 1271520"/>
                      <a:gd name="textAreaBottom" fmla="*/ 1271880 h 1271520"/>
                    </a:gdLst>
                    <a:ahLst/>
                    <a:rect l="textAreaLeft" t="textAreaTop" r="textAreaRight" b="textAreaBottom"/>
                    <a:pathLst>
                      <a:path w="672" h="480">
                        <a:moveTo>
                          <a:pt x="48" y="384"/>
                        </a:moveTo>
                        <a:lnTo>
                          <a:pt x="240" y="480"/>
                        </a:lnTo>
                        <a:lnTo>
                          <a:pt x="336" y="384"/>
                        </a:lnTo>
                        <a:lnTo>
                          <a:pt x="528" y="384"/>
                        </a:lnTo>
                        <a:lnTo>
                          <a:pt x="672" y="336"/>
                        </a:lnTo>
                        <a:lnTo>
                          <a:pt x="672" y="288"/>
                        </a:lnTo>
                        <a:lnTo>
                          <a:pt x="624" y="192"/>
                        </a:lnTo>
                        <a:lnTo>
                          <a:pt x="576" y="144"/>
                        </a:lnTo>
                        <a:lnTo>
                          <a:pt x="576" y="96"/>
                        </a:lnTo>
                        <a:lnTo>
                          <a:pt x="480" y="48"/>
                        </a:lnTo>
                        <a:lnTo>
                          <a:pt x="480" y="0"/>
                        </a:lnTo>
                        <a:lnTo>
                          <a:pt x="384" y="96"/>
                        </a:lnTo>
                        <a:lnTo>
                          <a:pt x="336" y="192"/>
                        </a:lnTo>
                        <a:lnTo>
                          <a:pt x="144" y="240"/>
                        </a:lnTo>
                        <a:lnTo>
                          <a:pt x="96" y="288"/>
                        </a:lnTo>
                        <a:lnTo>
                          <a:pt x="0" y="336"/>
                        </a:lnTo>
                        <a:lnTo>
                          <a:pt x="48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>
                          <a:alpha val="13333"/>
                        </a:srgbClr>
                      </a:gs>
                      <a:gs pos="100000">
                        <a:srgbClr val="000000">
                          <a:alpha val="56078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Freeform 49"/>
                  <p:cNvSpPr/>
                  <p:nvPr/>
                </p:nvSpPr>
                <p:spPr>
                  <a:xfrm>
                    <a:off x="-206280" y="5557320"/>
                    <a:ext cx="1092960" cy="889560"/>
                  </a:xfrm>
                  <a:custGeom>
                    <a:avLst/>
                    <a:gdLst>
                      <a:gd name="textAreaLeft" fmla="*/ 0 w 1092960"/>
                      <a:gd name="textAreaRight" fmla="*/ 1093320 w 1092960"/>
                      <a:gd name="textAreaTop" fmla="*/ 0 h 889560"/>
                      <a:gd name="textAreaBottom" fmla="*/ 889920 h 889560"/>
                    </a:gdLst>
                    <a:ahLst/>
                    <a:rect l="textAreaLeft" t="textAreaTop" r="textAreaRight" b="textAreaBottom"/>
                    <a:pathLst>
                      <a:path w="461" h="336">
                        <a:moveTo>
                          <a:pt x="342" y="0"/>
                        </a:moveTo>
                        <a:lnTo>
                          <a:pt x="369" y="62"/>
                        </a:lnTo>
                        <a:lnTo>
                          <a:pt x="461" y="117"/>
                        </a:lnTo>
                        <a:lnTo>
                          <a:pt x="461" y="226"/>
                        </a:lnTo>
                        <a:lnTo>
                          <a:pt x="323" y="226"/>
                        </a:lnTo>
                        <a:lnTo>
                          <a:pt x="231" y="281"/>
                        </a:lnTo>
                        <a:lnTo>
                          <a:pt x="92" y="336"/>
                        </a:lnTo>
                        <a:lnTo>
                          <a:pt x="0" y="226"/>
                        </a:lnTo>
                        <a:lnTo>
                          <a:pt x="92" y="171"/>
                        </a:lnTo>
                        <a:lnTo>
                          <a:pt x="138" y="117"/>
                        </a:lnTo>
                        <a:lnTo>
                          <a:pt x="231" y="117"/>
                        </a:lnTo>
                        <a:lnTo>
                          <a:pt x="277" y="7"/>
                        </a:lnTo>
                        <a:lnTo>
                          <a:pt x="342" y="0"/>
                        </a:lnTo>
                        <a:close/>
                      </a:path>
                    </a:pathLst>
                  </a:custGeom>
                  <a:blipFill rotWithShape="0">
                    <a:blip r:embed="rId86">
                      <a:alphaModFix amt="51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Freeform 59"/>
                  <p:cNvSpPr/>
                  <p:nvPr/>
                </p:nvSpPr>
                <p:spPr>
                  <a:xfrm>
                    <a:off x="-313920" y="6066000"/>
                    <a:ext cx="217440" cy="253800"/>
                  </a:xfrm>
                  <a:custGeom>
                    <a:avLst/>
                    <a:gdLst>
                      <a:gd name="textAreaLeft" fmla="*/ 0 w 217440"/>
                      <a:gd name="textAreaRight" fmla="*/ 217800 w 21744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7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Freeform 60"/>
                  <p:cNvSpPr/>
                  <p:nvPr/>
                </p:nvSpPr>
                <p:spPr>
                  <a:xfrm>
                    <a:off x="-291960" y="6023520"/>
                    <a:ext cx="171000" cy="169560"/>
                  </a:xfrm>
                  <a:custGeom>
                    <a:avLst/>
                    <a:gdLst>
                      <a:gd name="textAreaLeft" fmla="*/ 0 w 171000"/>
                      <a:gd name="textAreaRight" fmla="*/ 171360 w 171000"/>
                      <a:gd name="textAreaTop" fmla="*/ 0 h 169560"/>
                      <a:gd name="textAreaBottom" fmla="*/ 169920 h 1695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8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Freeform 61"/>
                  <p:cNvSpPr/>
                  <p:nvPr/>
                </p:nvSpPr>
                <p:spPr>
                  <a:xfrm>
                    <a:off x="-267480" y="5938560"/>
                    <a:ext cx="122760" cy="16956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69560"/>
                      <a:gd name="textAreaBottom" fmla="*/ 169920 h 1695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9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Freeform 65"/>
                <p:cNvSpPr/>
                <p:nvPr/>
              </p:nvSpPr>
              <p:spPr>
                <a:xfrm>
                  <a:off x="304920" y="5450760"/>
                  <a:ext cx="1968840" cy="1208160"/>
                </a:xfrm>
                <a:custGeom>
                  <a:avLst/>
                  <a:gdLst>
                    <a:gd name="textAreaLeft" fmla="*/ 0 w 1968840"/>
                    <a:gd name="textAreaRight" fmla="*/ 1969200 w 1968840"/>
                    <a:gd name="textAreaTop" fmla="*/ 0 h 1208160"/>
                    <a:gd name="textAreaBottom" fmla="*/ 1208520 h 1208160"/>
                  </a:gdLst>
                  <a:ahLst/>
                  <a:rect l="textAreaLeft" t="textAreaTop" r="textAreaRight" b="textAreaBottom"/>
                  <a:pathLst>
                    <a:path w="831" h="456">
                      <a:moveTo>
                        <a:pt x="92" y="264"/>
                      </a:moveTo>
                      <a:lnTo>
                        <a:pt x="139" y="216"/>
                      </a:lnTo>
                      <a:lnTo>
                        <a:pt x="231" y="168"/>
                      </a:lnTo>
                      <a:lnTo>
                        <a:pt x="277" y="168"/>
                      </a:lnTo>
                      <a:lnTo>
                        <a:pt x="369" y="72"/>
                      </a:lnTo>
                      <a:lnTo>
                        <a:pt x="448" y="32"/>
                      </a:lnTo>
                      <a:lnTo>
                        <a:pt x="480" y="0"/>
                      </a:lnTo>
                      <a:lnTo>
                        <a:pt x="508" y="8"/>
                      </a:lnTo>
                      <a:lnTo>
                        <a:pt x="532" y="4"/>
                      </a:lnTo>
                      <a:lnTo>
                        <a:pt x="554" y="24"/>
                      </a:lnTo>
                      <a:lnTo>
                        <a:pt x="600" y="72"/>
                      </a:lnTo>
                      <a:lnTo>
                        <a:pt x="600" y="120"/>
                      </a:lnTo>
                      <a:lnTo>
                        <a:pt x="693" y="168"/>
                      </a:lnTo>
                      <a:lnTo>
                        <a:pt x="693" y="216"/>
                      </a:lnTo>
                      <a:lnTo>
                        <a:pt x="739" y="264"/>
                      </a:lnTo>
                      <a:lnTo>
                        <a:pt x="739" y="312"/>
                      </a:lnTo>
                      <a:lnTo>
                        <a:pt x="785" y="312"/>
                      </a:lnTo>
                      <a:lnTo>
                        <a:pt x="831" y="312"/>
                      </a:lnTo>
                      <a:lnTo>
                        <a:pt x="785" y="360"/>
                      </a:lnTo>
                      <a:lnTo>
                        <a:pt x="554" y="408"/>
                      </a:lnTo>
                      <a:lnTo>
                        <a:pt x="369" y="408"/>
                      </a:lnTo>
                      <a:lnTo>
                        <a:pt x="277" y="456"/>
                      </a:lnTo>
                      <a:lnTo>
                        <a:pt x="92" y="408"/>
                      </a:lnTo>
                      <a:lnTo>
                        <a:pt x="0" y="312"/>
                      </a:lnTo>
                      <a:lnTo>
                        <a:pt x="46" y="264"/>
                      </a:lnTo>
                      <a:lnTo>
                        <a:pt x="92" y="2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130"/>
                <p:cNvSpPr/>
                <p:nvPr/>
              </p:nvSpPr>
              <p:spPr>
                <a:xfrm>
                  <a:off x="-10800" y="5302800"/>
                  <a:ext cx="1968840" cy="1272240"/>
                </a:xfrm>
                <a:custGeom>
                  <a:avLst/>
                  <a:gdLst>
                    <a:gd name="textAreaLeft" fmla="*/ 0 w 1968840"/>
                    <a:gd name="textAreaRight" fmla="*/ 1969200 w 1968840"/>
                    <a:gd name="textAreaTop" fmla="*/ 0 h 1272240"/>
                    <a:gd name="textAreaBottom" fmla="*/ 1272600 h 1272240"/>
                  </a:gdLst>
                  <a:ahLst/>
                  <a:rect l="textAreaLeft" t="textAreaTop" r="textAreaRight" b="textAreaBottom"/>
                  <a:pathLst>
                    <a:path w="831" h="480">
                      <a:moveTo>
                        <a:pt x="92" y="288"/>
                      </a:moveTo>
                      <a:lnTo>
                        <a:pt x="139" y="240"/>
                      </a:lnTo>
                      <a:lnTo>
                        <a:pt x="231" y="192"/>
                      </a:lnTo>
                      <a:lnTo>
                        <a:pt x="277" y="192"/>
                      </a:lnTo>
                      <a:lnTo>
                        <a:pt x="369" y="96"/>
                      </a:lnTo>
                      <a:lnTo>
                        <a:pt x="447" y="52"/>
                      </a:lnTo>
                      <a:lnTo>
                        <a:pt x="491" y="24"/>
                      </a:lnTo>
                      <a:lnTo>
                        <a:pt x="508" y="0"/>
                      </a:lnTo>
                      <a:lnTo>
                        <a:pt x="539" y="32"/>
                      </a:lnTo>
                      <a:lnTo>
                        <a:pt x="554" y="48"/>
                      </a:lnTo>
                      <a:lnTo>
                        <a:pt x="600" y="96"/>
                      </a:lnTo>
                      <a:lnTo>
                        <a:pt x="600" y="144"/>
                      </a:lnTo>
                      <a:lnTo>
                        <a:pt x="693" y="192"/>
                      </a:lnTo>
                      <a:lnTo>
                        <a:pt x="693" y="240"/>
                      </a:lnTo>
                      <a:lnTo>
                        <a:pt x="739" y="288"/>
                      </a:lnTo>
                      <a:lnTo>
                        <a:pt x="739" y="336"/>
                      </a:lnTo>
                      <a:lnTo>
                        <a:pt x="785" y="336"/>
                      </a:lnTo>
                      <a:lnTo>
                        <a:pt x="831" y="336"/>
                      </a:lnTo>
                      <a:lnTo>
                        <a:pt x="785" y="384"/>
                      </a:lnTo>
                      <a:lnTo>
                        <a:pt x="554" y="432"/>
                      </a:lnTo>
                      <a:lnTo>
                        <a:pt x="369" y="432"/>
                      </a:lnTo>
                      <a:lnTo>
                        <a:pt x="277" y="480"/>
                      </a:lnTo>
                      <a:lnTo>
                        <a:pt x="92" y="432"/>
                      </a:lnTo>
                      <a:lnTo>
                        <a:pt x="0" y="336"/>
                      </a:lnTo>
                      <a:lnTo>
                        <a:pt x="46" y="288"/>
                      </a:lnTo>
                      <a:lnTo>
                        <a:pt x="92" y="2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131"/>
                <p:cNvSpPr/>
                <p:nvPr/>
              </p:nvSpPr>
              <p:spPr>
                <a:xfrm>
                  <a:off x="96480" y="5302800"/>
                  <a:ext cx="1534320" cy="1272240"/>
                </a:xfrm>
                <a:custGeom>
                  <a:avLst/>
                  <a:gdLst>
                    <a:gd name="textAreaLeft" fmla="*/ 0 w 1534320"/>
                    <a:gd name="textAreaRight" fmla="*/ 1534680 w 1534320"/>
                    <a:gd name="textAreaTop" fmla="*/ 0 h 1272240"/>
                    <a:gd name="textAreaBottom" fmla="*/ 1272600 h 127224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132"/>
                <p:cNvSpPr/>
                <p:nvPr/>
              </p:nvSpPr>
              <p:spPr>
                <a:xfrm>
                  <a:off x="425880" y="5557320"/>
                  <a:ext cx="1092960" cy="889920"/>
                </a:xfrm>
                <a:custGeom>
                  <a:avLst/>
                  <a:gdLst>
                    <a:gd name="textAreaLeft" fmla="*/ 0 w 1092960"/>
                    <a:gd name="textAreaRight" fmla="*/ 1093320 w 1092960"/>
                    <a:gd name="textAreaTop" fmla="*/ 0 h 889920"/>
                    <a:gd name="textAreaBottom" fmla="*/ 890280 h 889920"/>
                  </a:gdLst>
                  <a:ahLst/>
                  <a:rect l="textAreaLeft" t="textAreaTop" r="textAreaRight" b="textAreaBottom"/>
                  <a:pathLst>
                    <a:path w="461" h="336">
                      <a:moveTo>
                        <a:pt x="342" y="0"/>
                      </a:moveTo>
                      <a:lnTo>
                        <a:pt x="369" y="62"/>
                      </a:lnTo>
                      <a:lnTo>
                        <a:pt x="461" y="117"/>
                      </a:lnTo>
                      <a:lnTo>
                        <a:pt x="461" y="226"/>
                      </a:lnTo>
                      <a:lnTo>
                        <a:pt x="323" y="226"/>
                      </a:lnTo>
                      <a:lnTo>
                        <a:pt x="231" y="281"/>
                      </a:lnTo>
                      <a:lnTo>
                        <a:pt x="92" y="336"/>
                      </a:lnTo>
                      <a:lnTo>
                        <a:pt x="0" y="226"/>
                      </a:lnTo>
                      <a:lnTo>
                        <a:pt x="92" y="171"/>
                      </a:lnTo>
                      <a:lnTo>
                        <a:pt x="138" y="117"/>
                      </a:lnTo>
                      <a:lnTo>
                        <a:pt x="231" y="117"/>
                      </a:lnTo>
                      <a:lnTo>
                        <a:pt x="277" y="7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blipFill rotWithShape="0">
                  <a:blip r:embed="rId90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66"/>
                <p:cNvSpPr/>
                <p:nvPr/>
              </p:nvSpPr>
              <p:spPr>
                <a:xfrm>
                  <a:off x="415080" y="5387400"/>
                  <a:ext cx="1531800" cy="1271160"/>
                </a:xfrm>
                <a:custGeom>
                  <a:avLst/>
                  <a:gdLst>
                    <a:gd name="textAreaLeft" fmla="*/ 0 w 1531800"/>
                    <a:gd name="textAreaRight" fmla="*/ 1532160 w 1531800"/>
                    <a:gd name="textAreaTop" fmla="*/ 0 h 1271160"/>
                    <a:gd name="textAreaBottom" fmla="*/ 1271520 h 127116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67"/>
                <p:cNvSpPr/>
                <p:nvPr/>
              </p:nvSpPr>
              <p:spPr>
                <a:xfrm>
                  <a:off x="744120" y="5610240"/>
                  <a:ext cx="1092960" cy="921960"/>
                </a:xfrm>
                <a:custGeom>
                  <a:avLst/>
                  <a:gdLst>
                    <a:gd name="textAreaLeft" fmla="*/ 0 w 1092960"/>
                    <a:gd name="textAreaRight" fmla="*/ 1093320 w 1092960"/>
                    <a:gd name="textAreaTop" fmla="*/ 0 h 921960"/>
                    <a:gd name="textAreaBottom" fmla="*/ 922320 h 921960"/>
                  </a:gdLst>
                  <a:ahLst/>
                  <a:rect l="textAreaLeft" t="textAreaTop" r="textAreaRight" b="textAreaBottom"/>
                  <a:pathLst>
                    <a:path w="461" h="348">
                      <a:moveTo>
                        <a:pt x="327" y="0"/>
                      </a:moveTo>
                      <a:lnTo>
                        <a:pt x="369" y="74"/>
                      </a:lnTo>
                      <a:lnTo>
                        <a:pt x="461" y="129"/>
                      </a:lnTo>
                      <a:lnTo>
                        <a:pt x="461" y="238"/>
                      </a:lnTo>
                      <a:lnTo>
                        <a:pt x="323" y="238"/>
                      </a:lnTo>
                      <a:lnTo>
                        <a:pt x="231" y="293"/>
                      </a:lnTo>
                      <a:lnTo>
                        <a:pt x="92" y="348"/>
                      </a:lnTo>
                      <a:lnTo>
                        <a:pt x="0" y="238"/>
                      </a:lnTo>
                      <a:lnTo>
                        <a:pt x="92" y="183"/>
                      </a:lnTo>
                      <a:lnTo>
                        <a:pt x="138" y="129"/>
                      </a:lnTo>
                      <a:lnTo>
                        <a:pt x="231" y="129"/>
                      </a:lnTo>
                      <a:lnTo>
                        <a:pt x="277" y="19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blipFill rotWithShape="0">
                  <a:blip r:embed="rId91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Group 138"/>
                <p:cNvGrpSpPr/>
                <p:nvPr/>
              </p:nvGrpSpPr>
              <p:grpSpPr>
                <a:xfrm>
                  <a:off x="-10800" y="5641560"/>
                  <a:ext cx="210960" cy="508320"/>
                  <a:chOff x="-10800" y="5641560"/>
                  <a:chExt cx="210960" cy="508320"/>
                </a:xfrm>
              </p:grpSpPr>
              <p:sp>
                <p:nvSpPr>
                  <p:cNvPr id="393" name="Freeform 139"/>
                  <p:cNvSpPr/>
                  <p:nvPr/>
                </p:nvSpPr>
                <p:spPr>
                  <a:xfrm>
                    <a:off x="-10800" y="5768640"/>
                    <a:ext cx="210960" cy="3812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375" h="294">
                        <a:moveTo>
                          <a:pt x="136" y="88"/>
                        </a:moveTo>
                        <a:lnTo>
                          <a:pt x="94" y="179"/>
                        </a:lnTo>
                        <a:lnTo>
                          <a:pt x="0" y="291"/>
                        </a:lnTo>
                        <a:lnTo>
                          <a:pt x="87" y="288"/>
                        </a:lnTo>
                        <a:lnTo>
                          <a:pt x="141" y="267"/>
                        </a:lnTo>
                        <a:lnTo>
                          <a:pt x="183" y="258"/>
                        </a:lnTo>
                        <a:lnTo>
                          <a:pt x="228" y="270"/>
                        </a:lnTo>
                        <a:lnTo>
                          <a:pt x="309" y="294"/>
                        </a:lnTo>
                        <a:lnTo>
                          <a:pt x="375" y="294"/>
                        </a:lnTo>
                        <a:lnTo>
                          <a:pt x="278" y="176"/>
                        </a:lnTo>
                        <a:lnTo>
                          <a:pt x="238" y="88"/>
                        </a:lnTo>
                        <a:lnTo>
                          <a:pt x="198" y="0"/>
                        </a:lnTo>
                        <a:lnTo>
                          <a:pt x="176" y="3"/>
                        </a:lnTo>
                        <a:lnTo>
                          <a:pt x="136" y="88"/>
                        </a:lnTo>
                        <a:close/>
                      </a:path>
                    </a:pathLst>
                  </a:custGeom>
                  <a:blipFill rotWithShape="0">
                    <a:blip r:embed="rId92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Freeform 140"/>
                  <p:cNvSpPr/>
                  <p:nvPr/>
                </p:nvSpPr>
                <p:spPr>
                  <a:xfrm>
                    <a:off x="9360" y="5702040"/>
                    <a:ext cx="158040" cy="302400"/>
                  </a:xfrm>
                  <a:custGeom>
                    <a:avLst/>
                    <a:gdLst>
                      <a:gd name="textAreaLeft" fmla="*/ 0 w 158040"/>
                      <a:gd name="textAreaRight" fmla="*/ 158400 w 158040"/>
                      <a:gd name="textAreaTop" fmla="*/ 0 h 302400"/>
                      <a:gd name="textAreaBottom" fmla="*/ 302760 h 30240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3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Freeform 141"/>
                  <p:cNvSpPr/>
                  <p:nvPr/>
                </p:nvSpPr>
                <p:spPr>
                  <a:xfrm>
                    <a:off x="32040" y="5641560"/>
                    <a:ext cx="113400" cy="19368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93680"/>
                      <a:gd name="textAreaBottom" fmla="*/ 194040 h 19368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4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Group 144"/>
              <p:cNvGrpSpPr/>
              <p:nvPr/>
            </p:nvGrpSpPr>
            <p:grpSpPr>
              <a:xfrm>
                <a:off x="-151200" y="5644080"/>
                <a:ext cx="1857960" cy="1509840"/>
                <a:chOff x="-151200" y="5644080"/>
                <a:chExt cx="1857960" cy="1509840"/>
              </a:xfrm>
            </p:grpSpPr>
            <p:sp>
              <p:nvSpPr>
                <p:cNvPr id="397" name="Freeform 145"/>
                <p:cNvSpPr/>
                <p:nvPr/>
              </p:nvSpPr>
              <p:spPr>
                <a:xfrm flipH="1">
                  <a:off x="-151560" y="6359040"/>
                  <a:ext cx="1857960" cy="794880"/>
                </a:xfrm>
                <a:custGeom>
                  <a:avLst/>
                  <a:gdLst>
                    <a:gd name="textAreaLeft" fmla="*/ -360 w 1857960"/>
                    <a:gd name="textAreaRight" fmla="*/ 1857960 w 1857960"/>
                    <a:gd name="textAreaTop" fmla="*/ 0 h 794880"/>
                    <a:gd name="textAreaBottom" fmla="*/ 795240 h 794880"/>
                  </a:gdLst>
                  <a:ahLst/>
                  <a:rect l="textAreaLeft" t="textAreaTop" r="textAreaRight" b="textAreaBottom"/>
                  <a:pathLst>
                    <a:path w="1730" h="720">
                      <a:moveTo>
                        <a:pt x="1659" y="602"/>
                      </a:moveTo>
                      <a:cubicBezTo>
                        <a:pt x="1651" y="622"/>
                        <a:pt x="1594" y="617"/>
                        <a:pt x="1575" y="630"/>
                      </a:cubicBezTo>
                      <a:cubicBezTo>
                        <a:pt x="1548" y="649"/>
                        <a:pt x="1571" y="686"/>
                        <a:pt x="1550" y="691"/>
                      </a:cubicBezTo>
                      <a:cubicBezTo>
                        <a:pt x="1510" y="705"/>
                        <a:pt x="1436" y="696"/>
                        <a:pt x="1398" y="699"/>
                      </a:cubicBezTo>
                      <a:cubicBezTo>
                        <a:pt x="1360" y="702"/>
                        <a:pt x="1347" y="710"/>
                        <a:pt x="1324" y="709"/>
                      </a:cubicBezTo>
                      <a:cubicBezTo>
                        <a:pt x="1289" y="719"/>
                        <a:pt x="1290" y="692"/>
                        <a:pt x="1253" y="696"/>
                      </a:cubicBezTo>
                      <a:cubicBezTo>
                        <a:pt x="1170" y="694"/>
                        <a:pt x="1081" y="715"/>
                        <a:pt x="998" y="709"/>
                      </a:cubicBezTo>
                      <a:cubicBezTo>
                        <a:pt x="915" y="697"/>
                        <a:pt x="836" y="720"/>
                        <a:pt x="750" y="713"/>
                      </a:cubicBezTo>
                      <a:cubicBezTo>
                        <a:pt x="710" y="705"/>
                        <a:pt x="673" y="688"/>
                        <a:pt x="633" y="679"/>
                      </a:cubicBezTo>
                      <a:cubicBezTo>
                        <a:pt x="619" y="676"/>
                        <a:pt x="603" y="678"/>
                        <a:pt x="589" y="672"/>
                      </a:cubicBezTo>
                      <a:cubicBezTo>
                        <a:pt x="556" y="657"/>
                        <a:pt x="527" y="641"/>
                        <a:pt x="492" y="628"/>
                      </a:cubicBezTo>
                      <a:cubicBezTo>
                        <a:pt x="481" y="623"/>
                        <a:pt x="482" y="626"/>
                        <a:pt x="468" y="622"/>
                      </a:cubicBezTo>
                      <a:cubicBezTo>
                        <a:pt x="417" y="607"/>
                        <a:pt x="323" y="613"/>
                        <a:pt x="273" y="596"/>
                      </a:cubicBezTo>
                      <a:cubicBezTo>
                        <a:pt x="230" y="580"/>
                        <a:pt x="235" y="569"/>
                        <a:pt x="196" y="552"/>
                      </a:cubicBezTo>
                      <a:cubicBezTo>
                        <a:pt x="184" y="547"/>
                        <a:pt x="149" y="524"/>
                        <a:pt x="136" y="520"/>
                      </a:cubicBezTo>
                      <a:cubicBezTo>
                        <a:pt x="117" y="509"/>
                        <a:pt x="112" y="473"/>
                        <a:pt x="89" y="467"/>
                      </a:cubicBezTo>
                      <a:cubicBezTo>
                        <a:pt x="75" y="457"/>
                        <a:pt x="30" y="443"/>
                        <a:pt x="17" y="432"/>
                      </a:cubicBezTo>
                      <a:cubicBezTo>
                        <a:pt x="0" y="420"/>
                        <a:pt x="20" y="399"/>
                        <a:pt x="13" y="382"/>
                      </a:cubicBezTo>
                      <a:cubicBezTo>
                        <a:pt x="16" y="311"/>
                        <a:pt x="2" y="283"/>
                        <a:pt x="49" y="236"/>
                      </a:cubicBezTo>
                      <a:cubicBezTo>
                        <a:pt x="65" y="199"/>
                        <a:pt x="55" y="169"/>
                        <a:pt x="101" y="152"/>
                      </a:cubicBezTo>
                      <a:cubicBezTo>
                        <a:pt x="123" y="135"/>
                        <a:pt x="162" y="139"/>
                        <a:pt x="180" y="135"/>
                      </a:cubicBezTo>
                      <a:cubicBezTo>
                        <a:pt x="189" y="131"/>
                        <a:pt x="210" y="127"/>
                        <a:pt x="210" y="127"/>
                      </a:cubicBezTo>
                      <a:cubicBezTo>
                        <a:pt x="241" y="95"/>
                        <a:pt x="294" y="90"/>
                        <a:pt x="341" y="78"/>
                      </a:cubicBezTo>
                      <a:cubicBezTo>
                        <a:pt x="360" y="73"/>
                        <a:pt x="379" y="63"/>
                        <a:pt x="399" y="59"/>
                      </a:cubicBezTo>
                      <a:cubicBezTo>
                        <a:pt x="461" y="49"/>
                        <a:pt x="409" y="62"/>
                        <a:pt x="448" y="54"/>
                      </a:cubicBezTo>
                      <a:cubicBezTo>
                        <a:pt x="465" y="51"/>
                        <a:pt x="479" y="42"/>
                        <a:pt x="496" y="39"/>
                      </a:cubicBezTo>
                      <a:cubicBezTo>
                        <a:pt x="531" y="34"/>
                        <a:pt x="574" y="24"/>
                        <a:pt x="610" y="23"/>
                      </a:cubicBezTo>
                      <a:cubicBezTo>
                        <a:pt x="648" y="22"/>
                        <a:pt x="686" y="21"/>
                        <a:pt x="724" y="20"/>
                      </a:cubicBezTo>
                      <a:cubicBezTo>
                        <a:pt x="771" y="9"/>
                        <a:pt x="823" y="13"/>
                        <a:pt x="871" y="11"/>
                      </a:cubicBezTo>
                      <a:cubicBezTo>
                        <a:pt x="925" y="0"/>
                        <a:pt x="945" y="7"/>
                        <a:pt x="1019" y="8"/>
                      </a:cubicBezTo>
                      <a:cubicBezTo>
                        <a:pt x="1046" y="15"/>
                        <a:pt x="1078" y="16"/>
                        <a:pt x="1106" y="20"/>
                      </a:cubicBezTo>
                      <a:cubicBezTo>
                        <a:pt x="1126" y="26"/>
                        <a:pt x="1144" y="36"/>
                        <a:pt x="1163" y="42"/>
                      </a:cubicBezTo>
                      <a:cubicBezTo>
                        <a:pt x="1195" y="50"/>
                        <a:pt x="1233" y="51"/>
                        <a:pt x="1264" y="62"/>
                      </a:cubicBezTo>
                      <a:cubicBezTo>
                        <a:pt x="1284" y="69"/>
                        <a:pt x="1300" y="80"/>
                        <a:pt x="1321" y="85"/>
                      </a:cubicBezTo>
                      <a:cubicBezTo>
                        <a:pt x="1340" y="100"/>
                        <a:pt x="1366" y="107"/>
                        <a:pt x="1385" y="121"/>
                      </a:cubicBezTo>
                      <a:cubicBezTo>
                        <a:pt x="1409" y="140"/>
                        <a:pt x="1437" y="160"/>
                        <a:pt x="1465" y="175"/>
                      </a:cubicBezTo>
                      <a:cubicBezTo>
                        <a:pt x="1475" y="190"/>
                        <a:pt x="1492" y="210"/>
                        <a:pt x="1509" y="220"/>
                      </a:cubicBezTo>
                      <a:cubicBezTo>
                        <a:pt x="1515" y="247"/>
                        <a:pt x="1544" y="273"/>
                        <a:pt x="1566" y="295"/>
                      </a:cubicBezTo>
                      <a:cubicBezTo>
                        <a:pt x="1571" y="299"/>
                        <a:pt x="1573" y="307"/>
                        <a:pt x="1579" y="310"/>
                      </a:cubicBezTo>
                      <a:cubicBezTo>
                        <a:pt x="1592" y="316"/>
                        <a:pt x="1597" y="326"/>
                        <a:pt x="1609" y="333"/>
                      </a:cubicBezTo>
                      <a:cubicBezTo>
                        <a:pt x="1615" y="337"/>
                        <a:pt x="1629" y="344"/>
                        <a:pt x="1629" y="344"/>
                      </a:cubicBezTo>
                      <a:cubicBezTo>
                        <a:pt x="1636" y="351"/>
                        <a:pt x="1643" y="359"/>
                        <a:pt x="1650" y="367"/>
                      </a:cubicBezTo>
                      <a:cubicBezTo>
                        <a:pt x="1652" y="369"/>
                        <a:pt x="1657" y="375"/>
                        <a:pt x="1657" y="375"/>
                      </a:cubicBezTo>
                      <a:cubicBezTo>
                        <a:pt x="1662" y="394"/>
                        <a:pt x="1675" y="420"/>
                        <a:pt x="1693" y="434"/>
                      </a:cubicBezTo>
                      <a:cubicBezTo>
                        <a:pt x="1697" y="444"/>
                        <a:pt x="1677" y="446"/>
                        <a:pt x="1684" y="454"/>
                      </a:cubicBezTo>
                      <a:cubicBezTo>
                        <a:pt x="1694" y="481"/>
                        <a:pt x="1710" y="455"/>
                        <a:pt x="1724" y="478"/>
                      </a:cubicBezTo>
                      <a:cubicBezTo>
                        <a:pt x="1726" y="483"/>
                        <a:pt x="1730" y="493"/>
                        <a:pt x="1730" y="493"/>
                      </a:cubicBezTo>
                      <a:cubicBezTo>
                        <a:pt x="1728" y="516"/>
                        <a:pt x="1723" y="496"/>
                        <a:pt x="1712" y="530"/>
                      </a:cubicBezTo>
                      <a:cubicBezTo>
                        <a:pt x="1708" y="540"/>
                        <a:pt x="1695" y="588"/>
                        <a:pt x="1683" y="594"/>
                      </a:cubicBezTo>
                      <a:cubicBezTo>
                        <a:pt x="1675" y="613"/>
                        <a:pt x="1683" y="609"/>
                        <a:pt x="1663" y="613"/>
                      </a:cubicBezTo>
                      <a:cubicBezTo>
                        <a:pt x="1651" y="618"/>
                        <a:pt x="1656" y="615"/>
                        <a:pt x="1650" y="620"/>
                      </a:cubicBezTo>
                      <a:cubicBezTo>
                        <a:pt x="1650" y="620"/>
                        <a:pt x="1659" y="602"/>
                        <a:pt x="1659" y="602"/>
                      </a:cubicBezTo>
                      <a:close/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47"/>
                <p:cNvSpPr/>
                <p:nvPr/>
              </p:nvSpPr>
              <p:spPr>
                <a:xfrm flipH="1">
                  <a:off x="345600" y="6402960"/>
                  <a:ext cx="890640" cy="326520"/>
                </a:xfrm>
                <a:custGeom>
                  <a:avLst/>
                  <a:gdLst>
                    <a:gd name="textAreaLeft" fmla="*/ 360 w 890640"/>
                    <a:gd name="textAreaRight" fmla="*/ 891360 w 890640"/>
                    <a:gd name="textAreaTop" fmla="*/ 0 h 326520"/>
                    <a:gd name="textAreaBottom" fmla="*/ 326520 h 32652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/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148"/>
                <p:cNvSpPr/>
                <p:nvPr/>
              </p:nvSpPr>
              <p:spPr>
                <a:xfrm>
                  <a:off x="1258560" y="6248880"/>
                  <a:ext cx="131400" cy="3232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Group 149"/>
                <p:cNvGrpSpPr/>
                <p:nvPr/>
              </p:nvGrpSpPr>
              <p:grpSpPr>
                <a:xfrm>
                  <a:off x="63360" y="5789880"/>
                  <a:ext cx="707040" cy="1041840"/>
                  <a:chOff x="63360" y="5789880"/>
                  <a:chExt cx="707040" cy="1041840"/>
                </a:xfrm>
              </p:grpSpPr>
              <p:sp>
                <p:nvSpPr>
                  <p:cNvPr id="401" name="Freeform 150"/>
                  <p:cNvSpPr/>
                  <p:nvPr/>
                </p:nvSpPr>
                <p:spPr>
                  <a:xfrm flipH="1">
                    <a:off x="262440" y="6089760"/>
                    <a:ext cx="402480" cy="741960"/>
                  </a:xfrm>
                  <a:custGeom>
                    <a:avLst/>
                    <a:gdLst>
                      <a:gd name="textAreaLeft" fmla="*/ 360 w 402480"/>
                      <a:gd name="textAreaRight" fmla="*/ 403200 w 402480"/>
                      <a:gd name="textAreaTop" fmla="*/ 0 h 741960"/>
                      <a:gd name="textAreaBottom" fmla="*/ 742320 h 74196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96">
                      <a:alphaModFix amt="90000"/>
                    </a:blip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Freeform 151"/>
                  <p:cNvSpPr/>
                  <p:nvPr/>
                </p:nvSpPr>
                <p:spPr>
                  <a:xfrm flipH="1">
                    <a:off x="63360" y="5789880"/>
                    <a:ext cx="707040" cy="867240"/>
                  </a:xfrm>
                  <a:custGeom>
                    <a:avLst/>
                    <a:gdLst>
                      <a:gd name="textAreaLeft" fmla="*/ 360 w 707040"/>
                      <a:gd name="textAreaRight" fmla="*/ 707760 w 707040"/>
                      <a:gd name="textAreaTop" fmla="*/ 0 h 867240"/>
                      <a:gd name="textAreaBottom" fmla="*/ 867600 h 86724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97">
                      <a:alphaModFix amt="90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Oval 152"/>
                  <p:cNvSpPr/>
                  <p:nvPr/>
                </p:nvSpPr>
                <p:spPr>
                  <a:xfrm flipH="1">
                    <a:off x="664920" y="639540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Oval 153"/>
                  <p:cNvSpPr/>
                  <p:nvPr/>
                </p:nvSpPr>
                <p:spPr>
                  <a:xfrm flipH="1">
                    <a:off x="370080" y="635148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Oval 154"/>
                  <p:cNvSpPr/>
                  <p:nvPr/>
                </p:nvSpPr>
                <p:spPr>
                  <a:xfrm flipH="1">
                    <a:off x="557640" y="6307920"/>
                    <a:ext cx="26640" cy="4320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Oval 155"/>
                  <p:cNvSpPr/>
                  <p:nvPr/>
                </p:nvSpPr>
                <p:spPr>
                  <a:xfrm flipH="1">
                    <a:off x="638280" y="648252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Oval 156"/>
                  <p:cNvSpPr/>
                  <p:nvPr/>
                </p:nvSpPr>
                <p:spPr>
                  <a:xfrm flipH="1">
                    <a:off x="262440" y="652608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Group 157"/>
                <p:cNvGrpSpPr/>
                <p:nvPr/>
              </p:nvGrpSpPr>
              <p:grpSpPr>
                <a:xfrm>
                  <a:off x="767880" y="5644080"/>
                  <a:ext cx="581400" cy="856440"/>
                  <a:chOff x="767880" y="5644080"/>
                  <a:chExt cx="581400" cy="856440"/>
                </a:xfrm>
              </p:grpSpPr>
              <p:sp>
                <p:nvSpPr>
                  <p:cNvPr id="409" name="Freeform 158"/>
                  <p:cNvSpPr/>
                  <p:nvPr/>
                </p:nvSpPr>
                <p:spPr>
                  <a:xfrm>
                    <a:off x="835200" y="6013800"/>
                    <a:ext cx="246600" cy="486720"/>
                  </a:xfrm>
                  <a:custGeom>
                    <a:avLst/>
                    <a:gdLst>
                      <a:gd name="textAreaLeft" fmla="*/ 0 w 246600"/>
                      <a:gd name="textAreaRight" fmla="*/ 246960 w 246600"/>
                      <a:gd name="textAreaTop" fmla="*/ 0 h 486720"/>
                      <a:gd name="textAreaBottom" fmla="*/ 487080 h 48672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Freeform 159"/>
                  <p:cNvSpPr/>
                  <p:nvPr/>
                </p:nvSpPr>
                <p:spPr>
                  <a:xfrm>
                    <a:off x="767880" y="5644080"/>
                    <a:ext cx="581400" cy="739440"/>
                  </a:xfrm>
                  <a:custGeom>
                    <a:avLst/>
                    <a:gdLst>
                      <a:gd name="textAreaLeft" fmla="*/ 0 w 581400"/>
                      <a:gd name="textAreaRight" fmla="*/ 581760 w 581400"/>
                      <a:gd name="textAreaTop" fmla="*/ 0 h 739440"/>
                      <a:gd name="textAreaBottom" fmla="*/ 739800 h 73944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99">
                      <a:alphaModFix amt="45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Oval 160"/>
                  <p:cNvSpPr/>
                  <p:nvPr/>
                </p:nvSpPr>
                <p:spPr>
                  <a:xfrm>
                    <a:off x="818640" y="621432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Oval 161"/>
                  <p:cNvSpPr/>
                  <p:nvPr/>
                </p:nvSpPr>
                <p:spPr>
                  <a:xfrm>
                    <a:off x="999720" y="618552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Oval 162"/>
                  <p:cNvSpPr/>
                  <p:nvPr/>
                </p:nvSpPr>
                <p:spPr>
                  <a:xfrm>
                    <a:off x="884520" y="615708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Oval 163"/>
                  <p:cNvSpPr/>
                  <p:nvPr/>
                </p:nvSpPr>
                <p:spPr>
                  <a:xfrm>
                    <a:off x="835200" y="627156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Oval 164"/>
                  <p:cNvSpPr/>
                  <p:nvPr/>
                </p:nvSpPr>
                <p:spPr>
                  <a:xfrm>
                    <a:off x="1065600" y="630000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" name="Freeform 165"/>
                <p:cNvSpPr/>
                <p:nvPr/>
              </p:nvSpPr>
              <p:spPr>
                <a:xfrm flipH="1">
                  <a:off x="1330560" y="6475320"/>
                  <a:ext cx="248040" cy="527760"/>
                </a:xfrm>
                <a:custGeom>
                  <a:avLst/>
                  <a:gdLst>
                    <a:gd name="textAreaLeft" fmla="*/ -360 w 248040"/>
                    <a:gd name="textAreaRight" fmla="*/ 248040 w 248040"/>
                    <a:gd name="textAreaTop" fmla="*/ 0 h 527760"/>
                    <a:gd name="textAreaBottom" fmla="*/ 528120 h 52776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Group 166"/>
                <p:cNvGrpSpPr/>
                <p:nvPr/>
              </p:nvGrpSpPr>
              <p:grpSpPr>
                <a:xfrm>
                  <a:off x="951480" y="6416280"/>
                  <a:ext cx="289440" cy="409320"/>
                  <a:chOff x="951480" y="6416280"/>
                  <a:chExt cx="289440" cy="409320"/>
                </a:xfrm>
              </p:grpSpPr>
              <p:sp>
                <p:nvSpPr>
                  <p:cNvPr id="418" name="Freeform 167"/>
                  <p:cNvSpPr/>
                  <p:nvPr/>
                </p:nvSpPr>
                <p:spPr>
                  <a:xfrm rot="1243200">
                    <a:off x="1071360" y="6422040"/>
                    <a:ext cx="104760" cy="3844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384480"/>
                      <a:gd name="textAreaBottom" fmla="*/ 384840 h 384480"/>
                    </a:gdLst>
                    <a:ahLst/>
                    <a:rect l="textAreaLeft" t="textAreaTop" r="textAreaRight" b="textAreaBottom"/>
                    <a:pathLst>
                      <a:path w="176" h="306">
                        <a:moveTo>
                          <a:pt x="0" y="306"/>
                        </a:moveTo>
                        <a:lnTo>
                          <a:pt x="30" y="59"/>
                        </a:lnTo>
                        <a:lnTo>
                          <a:pt x="40" y="64"/>
                        </a:lnTo>
                        <a:lnTo>
                          <a:pt x="68" y="24"/>
                        </a:lnTo>
                        <a:lnTo>
                          <a:pt x="102" y="0"/>
                        </a:lnTo>
                        <a:lnTo>
                          <a:pt x="146" y="5"/>
                        </a:lnTo>
                        <a:lnTo>
                          <a:pt x="176" y="69"/>
                        </a:lnTo>
                        <a:lnTo>
                          <a:pt x="146" y="31"/>
                        </a:lnTo>
                        <a:lnTo>
                          <a:pt x="110" y="28"/>
                        </a:lnTo>
                        <a:lnTo>
                          <a:pt x="84" y="36"/>
                        </a:lnTo>
                        <a:lnTo>
                          <a:pt x="42" y="126"/>
                        </a:lnTo>
                        <a:lnTo>
                          <a:pt x="22" y="232"/>
                        </a:lnTo>
                        <a:lnTo>
                          <a:pt x="10" y="292"/>
                        </a:lnTo>
                        <a:lnTo>
                          <a:pt x="0" y="306"/>
                        </a:lnTo>
                        <a:close/>
                      </a:path>
                    </a:pathLst>
                  </a:custGeom>
                  <a:blipFill rotWithShape="0">
                    <a:blip r:embed="rId100"/>
                    <a:srcRect/>
                    <a:stretch/>
                  </a:blipFill>
                  <a:ln cap="rnd" w="9360">
                    <a:solidFill>
                      <a:srgbClr val="008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Freeform 168"/>
                  <p:cNvSpPr/>
                  <p:nvPr/>
                </p:nvSpPr>
                <p:spPr>
                  <a:xfrm rot="429600">
                    <a:off x="973080" y="6455520"/>
                    <a:ext cx="142920" cy="362520"/>
                  </a:xfrm>
                  <a:custGeom>
                    <a:avLst/>
                    <a:gdLst>
                      <a:gd name="textAreaLeft" fmla="*/ 0 w 142920"/>
                      <a:gd name="textAreaRight" fmla="*/ 143280 w 142920"/>
                      <a:gd name="textAreaTop" fmla="*/ 0 h 362520"/>
                      <a:gd name="textAreaBottom" fmla="*/ 362880 h 3625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81600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0" name="Freeform 169"/>
                <p:cNvSpPr/>
                <p:nvPr/>
              </p:nvSpPr>
              <p:spPr>
                <a:xfrm>
                  <a:off x="445680" y="6585480"/>
                  <a:ext cx="652680" cy="257400"/>
                </a:xfrm>
                <a:custGeom>
                  <a:avLst/>
                  <a:gdLst>
                    <a:gd name="textAreaLeft" fmla="*/ 0 w 652680"/>
                    <a:gd name="textAreaRight" fmla="*/ 653040 w 652680"/>
                    <a:gd name="textAreaTop" fmla="*/ 0 h 257400"/>
                    <a:gd name="textAreaBottom" fmla="*/ 257760 h 2574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69019"/>
                      </a:srgbClr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>
                      <a:alpha val="2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82"/>
              <p:cNvGrpSpPr/>
              <p:nvPr/>
            </p:nvGrpSpPr>
            <p:grpSpPr>
              <a:xfrm>
                <a:off x="1095120" y="5072040"/>
                <a:ext cx="3538800" cy="2029680"/>
                <a:chOff x="1095120" y="5072040"/>
                <a:chExt cx="3538800" cy="2029680"/>
              </a:xfrm>
            </p:grpSpPr>
            <p:grpSp>
              <p:nvGrpSpPr>
                <p:cNvPr id="422" name="Group 83"/>
                <p:cNvGrpSpPr/>
                <p:nvPr/>
              </p:nvGrpSpPr>
              <p:grpSpPr>
                <a:xfrm>
                  <a:off x="1423800" y="5072040"/>
                  <a:ext cx="2813040" cy="1947600"/>
                  <a:chOff x="1423800" y="5072040"/>
                  <a:chExt cx="2813040" cy="1947600"/>
                </a:xfrm>
              </p:grpSpPr>
              <p:grpSp>
                <p:nvGrpSpPr>
                  <p:cNvPr id="423" name="Group 84"/>
                  <p:cNvGrpSpPr/>
                  <p:nvPr/>
                </p:nvGrpSpPr>
                <p:grpSpPr>
                  <a:xfrm>
                    <a:off x="3595320" y="5654880"/>
                    <a:ext cx="534960" cy="828360"/>
                    <a:chOff x="3595320" y="5654880"/>
                    <a:chExt cx="534960" cy="828360"/>
                  </a:xfrm>
                </p:grpSpPr>
                <p:sp>
                  <p:nvSpPr>
                    <p:cNvPr id="424" name="Rectangle 85"/>
                    <p:cNvSpPr/>
                    <p:nvPr/>
                  </p:nvSpPr>
                  <p:spPr>
                    <a:xfrm flipH="1">
                      <a:off x="3818160" y="6337080"/>
                      <a:ext cx="88920" cy="146160"/>
                    </a:xfrm>
                    <a:prstGeom prst="rect">
                      <a:avLst/>
                    </a:prstGeom>
                    <a:blipFill rotWithShape="0">
                      <a:blip r:embed="rId10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5" name="Group 86"/>
                    <p:cNvGrpSpPr/>
                    <p:nvPr/>
                  </p:nvGrpSpPr>
                  <p:grpSpPr>
                    <a:xfrm>
                      <a:off x="3595320" y="5654880"/>
                      <a:ext cx="534960" cy="730440"/>
                      <a:chOff x="3595320" y="5654880"/>
                      <a:chExt cx="534960" cy="730440"/>
                    </a:xfrm>
                  </p:grpSpPr>
                  <p:sp>
                    <p:nvSpPr>
                      <p:cNvPr id="426" name="Freeform 87"/>
                      <p:cNvSpPr/>
                      <p:nvPr/>
                    </p:nvSpPr>
                    <p:spPr>
                      <a:xfrm flipH="1">
                        <a:off x="3595320" y="5898240"/>
                        <a:ext cx="534960" cy="487080"/>
                      </a:xfrm>
                      <a:custGeom>
                        <a:avLst/>
                        <a:gdLst>
                          <a:gd name="textAreaLeft" fmla="*/ 360 w 534960"/>
                          <a:gd name="textAreaRight" fmla="*/ 535680 w 534960"/>
                          <a:gd name="textAreaTop" fmla="*/ 0 h 487080"/>
                          <a:gd name="textAreaBottom" fmla="*/ 487440 h 48708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2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Freeform 88"/>
                      <p:cNvSpPr/>
                      <p:nvPr/>
                    </p:nvSpPr>
                    <p:spPr>
                      <a:xfrm flipH="1">
                        <a:off x="3654720" y="5816880"/>
                        <a:ext cx="416160" cy="324720"/>
                      </a:xfrm>
                      <a:custGeom>
                        <a:avLst/>
                        <a:gdLst>
                          <a:gd name="textAreaLeft" fmla="*/ 360 w 416160"/>
                          <a:gd name="textAreaRight" fmla="*/ 416880 w 416160"/>
                          <a:gd name="textAreaTop" fmla="*/ 0 h 324720"/>
                          <a:gd name="textAreaBottom" fmla="*/ 325080 h 32472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3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Freeform 89"/>
                      <p:cNvSpPr/>
                      <p:nvPr/>
                    </p:nvSpPr>
                    <p:spPr>
                      <a:xfrm flipH="1">
                        <a:off x="3714120" y="5654880"/>
                        <a:ext cx="297000" cy="324360"/>
                      </a:xfrm>
                      <a:custGeom>
                        <a:avLst/>
                        <a:gdLst>
                          <a:gd name="textAreaLeft" fmla="*/ -360 w 297000"/>
                          <a:gd name="textAreaRight" fmla="*/ 297000 w 297000"/>
                          <a:gd name="textAreaTop" fmla="*/ 0 h 324360"/>
                          <a:gd name="textAreaBottom" fmla="*/ 324720 h 32436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4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29" name="Group 90"/>
                  <p:cNvGrpSpPr/>
                  <p:nvPr/>
                </p:nvGrpSpPr>
                <p:grpSpPr>
                  <a:xfrm>
                    <a:off x="1423800" y="5902200"/>
                    <a:ext cx="2813040" cy="1117440"/>
                    <a:chOff x="1423800" y="5902200"/>
                    <a:chExt cx="2813040" cy="1117440"/>
                  </a:xfrm>
                </p:grpSpPr>
                <p:sp>
                  <p:nvSpPr>
                    <p:cNvPr id="430" name="Freeform 91"/>
                    <p:cNvSpPr/>
                    <p:nvPr/>
                  </p:nvSpPr>
                  <p:spPr>
                    <a:xfrm flipH="1">
                      <a:off x="1662120" y="5902200"/>
                      <a:ext cx="2574720" cy="1097640"/>
                    </a:xfrm>
                    <a:custGeom>
                      <a:avLst/>
                      <a:gdLst>
                        <a:gd name="textAreaLeft" fmla="*/ 360 w 2574720"/>
                        <a:gd name="textAreaRight" fmla="*/ 2575440 w 2574720"/>
                        <a:gd name="textAreaTop" fmla="*/ 0 h 1097640"/>
                        <a:gd name="textAreaBottom" fmla="*/ 1098000 h 109764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105">
                        <a:alphaModFix amt="92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Freeform 92"/>
                    <p:cNvSpPr/>
                    <p:nvPr/>
                  </p:nvSpPr>
                  <p:spPr>
                    <a:xfrm flipH="1">
                      <a:off x="1423800" y="6021000"/>
                      <a:ext cx="2813040" cy="998640"/>
                    </a:xfrm>
                    <a:custGeom>
                      <a:avLst/>
                      <a:gdLst>
                        <a:gd name="textAreaLeft" fmla="*/ 360 w 2813040"/>
                        <a:gd name="textAreaRight" fmla="*/ 2813760 w 2813040"/>
                        <a:gd name="textAreaTop" fmla="*/ 0 h 998640"/>
                        <a:gd name="textAreaBottom" fmla="*/ 999000 h 99864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106">
                        <a:alphaModFix amt="54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2" name="Freeform 93"/>
                  <p:cNvSpPr/>
                  <p:nvPr/>
                </p:nvSpPr>
                <p:spPr>
                  <a:xfrm>
                    <a:off x="3595680" y="6258240"/>
                    <a:ext cx="214200" cy="360720"/>
                  </a:xfrm>
                  <a:custGeom>
                    <a:avLst/>
                    <a:gdLst>
                      <a:gd name="textAreaLeft" fmla="*/ 0 w 214200"/>
                      <a:gd name="textAreaRight" fmla="*/ 214560 w 214200"/>
                      <a:gd name="textAreaTop" fmla="*/ 0 h 360720"/>
                      <a:gd name="textAreaBottom" fmla="*/ 361080 h 3607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3" name="Group 94"/>
                  <p:cNvGrpSpPr/>
                  <p:nvPr/>
                </p:nvGrpSpPr>
                <p:grpSpPr>
                  <a:xfrm>
                    <a:off x="2098800" y="5190120"/>
                    <a:ext cx="748440" cy="830520"/>
                    <a:chOff x="2098800" y="5190120"/>
                    <a:chExt cx="748440" cy="830520"/>
                  </a:xfrm>
                </p:grpSpPr>
                <p:sp>
                  <p:nvSpPr>
                    <p:cNvPr id="434" name="Freeform 95"/>
                    <p:cNvSpPr/>
                    <p:nvPr/>
                  </p:nvSpPr>
                  <p:spPr>
                    <a:xfrm flipH="1">
                      <a:off x="2229120" y="5378760"/>
                      <a:ext cx="488160" cy="641880"/>
                    </a:xfrm>
                    <a:custGeom>
                      <a:avLst/>
                      <a:gdLst>
                        <a:gd name="textAreaLeft" fmla="*/ 360 w 488160"/>
                        <a:gd name="textAreaRight" fmla="*/ 488880 w 488160"/>
                        <a:gd name="textAreaTop" fmla="*/ 0 h 641880"/>
                        <a:gd name="textAreaBottom" fmla="*/ 641880 h 64188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07">
                        <a:alphaModFix amt="90000"/>
                      </a:blip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Freeform 96"/>
                    <p:cNvSpPr/>
                    <p:nvPr/>
                  </p:nvSpPr>
                  <p:spPr>
                    <a:xfrm flipH="1">
                      <a:off x="2098440" y="5190120"/>
                      <a:ext cx="748440" cy="679320"/>
                    </a:xfrm>
                    <a:custGeom>
                      <a:avLst/>
                      <a:gdLst>
                        <a:gd name="textAreaLeft" fmla="*/ -360 w 748440"/>
                        <a:gd name="textAreaRight" fmla="*/ 748440 w 748440"/>
                        <a:gd name="textAreaTop" fmla="*/ 0 h 679320"/>
                        <a:gd name="textAreaBottom" fmla="*/ 679680 h 67932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08">
                        <a:alphaModFix amt="90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Oval 97"/>
                    <p:cNvSpPr/>
                    <p:nvPr/>
                  </p:nvSpPr>
                  <p:spPr>
                    <a:xfrm flipH="1">
                      <a:off x="2717280" y="56430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Oval 98"/>
                    <p:cNvSpPr/>
                    <p:nvPr/>
                  </p:nvSpPr>
                  <p:spPr>
                    <a:xfrm flipH="1">
                      <a:off x="2359440" y="56052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Oval 99"/>
                    <p:cNvSpPr/>
                    <p:nvPr/>
                  </p:nvSpPr>
                  <p:spPr>
                    <a:xfrm flipH="1">
                      <a:off x="2586960" y="5567400"/>
                      <a:ext cx="32400" cy="3744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Oval 100"/>
                    <p:cNvSpPr/>
                    <p:nvPr/>
                  </p:nvSpPr>
                  <p:spPr>
                    <a:xfrm flipH="1">
                      <a:off x="2684880" y="57186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Oval 101"/>
                    <p:cNvSpPr/>
                    <p:nvPr/>
                  </p:nvSpPr>
                  <p:spPr>
                    <a:xfrm flipH="1">
                      <a:off x="2229120" y="57564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1" name="Freeform 102"/>
                  <p:cNvSpPr/>
                  <p:nvPr/>
                </p:nvSpPr>
                <p:spPr>
                  <a:xfrm>
                    <a:off x="2740680" y="5783760"/>
                    <a:ext cx="213480" cy="360360"/>
                  </a:xfrm>
                  <a:custGeom>
                    <a:avLst/>
                    <a:gdLst>
                      <a:gd name="textAreaLeft" fmla="*/ 0 w 213480"/>
                      <a:gd name="textAreaRight" fmla="*/ 213840 w 21348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Freeform 103"/>
                  <p:cNvSpPr/>
                  <p:nvPr/>
                </p:nvSpPr>
                <p:spPr>
                  <a:xfrm flipH="1">
                    <a:off x="3381480" y="6021000"/>
                    <a:ext cx="320760" cy="24192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241920"/>
                      <a:gd name="textAreaBottom" fmla="*/ 242280 h 2419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104"/>
                  <p:cNvSpPr/>
                  <p:nvPr/>
                </p:nvSpPr>
                <p:spPr>
                  <a:xfrm>
                    <a:off x="1670760" y="6377040"/>
                    <a:ext cx="320760" cy="36072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360720"/>
                      <a:gd name="textAreaBottom" fmla="*/ 361080 h 3607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4" name="Group 105"/>
                  <p:cNvGrpSpPr/>
                  <p:nvPr/>
                </p:nvGrpSpPr>
                <p:grpSpPr>
                  <a:xfrm>
                    <a:off x="2962800" y="5072040"/>
                    <a:ext cx="853200" cy="1067400"/>
                    <a:chOff x="2962800" y="5072040"/>
                    <a:chExt cx="853200" cy="1067400"/>
                  </a:xfrm>
                </p:grpSpPr>
                <p:sp>
                  <p:nvSpPr>
                    <p:cNvPr id="445" name="Freeform 106"/>
                    <p:cNvSpPr/>
                    <p:nvPr/>
                  </p:nvSpPr>
                  <p:spPr>
                    <a:xfrm flipH="1">
                      <a:off x="3111120" y="5314320"/>
                      <a:ext cx="556560" cy="825120"/>
                    </a:xfrm>
                    <a:custGeom>
                      <a:avLst/>
                      <a:gdLst>
                        <a:gd name="textAreaLeft" fmla="*/ 360 w 556560"/>
                        <a:gd name="textAreaRight" fmla="*/ 557280 w 556560"/>
                        <a:gd name="textAreaTop" fmla="*/ 0 h 825120"/>
                        <a:gd name="textAreaBottom" fmla="*/ 825480 h 8251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0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107"/>
                    <p:cNvSpPr/>
                    <p:nvPr/>
                  </p:nvSpPr>
                  <p:spPr>
                    <a:xfrm flipH="1">
                      <a:off x="2962800" y="5072040"/>
                      <a:ext cx="853200" cy="873360"/>
                    </a:xfrm>
                    <a:custGeom>
                      <a:avLst/>
                      <a:gdLst>
                        <a:gd name="textAreaLeft" fmla="*/ 360 w 853200"/>
                        <a:gd name="textAreaRight" fmla="*/ 853920 w 853200"/>
                        <a:gd name="textAreaTop" fmla="*/ 0 h 873360"/>
                        <a:gd name="textAreaBottom" fmla="*/ 873720 h 8733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10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Oval 108"/>
                    <p:cNvSpPr/>
                    <p:nvPr/>
                  </p:nvSpPr>
                  <p:spPr>
                    <a:xfrm flipH="1">
                      <a:off x="3667320" y="56541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Oval 109"/>
                    <p:cNvSpPr/>
                    <p:nvPr/>
                  </p:nvSpPr>
                  <p:spPr>
                    <a:xfrm flipH="1">
                      <a:off x="3259440" y="56055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Oval 110"/>
                    <p:cNvSpPr/>
                    <p:nvPr/>
                  </p:nvSpPr>
                  <p:spPr>
                    <a:xfrm flipH="1">
                      <a:off x="3519720" y="5557320"/>
                      <a:ext cx="36720" cy="482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Oval 111"/>
                    <p:cNvSpPr/>
                    <p:nvPr/>
                  </p:nvSpPr>
                  <p:spPr>
                    <a:xfrm flipH="1">
                      <a:off x="3630960" y="5751360"/>
                      <a:ext cx="3672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Oval 112"/>
                    <p:cNvSpPr/>
                    <p:nvPr/>
                  </p:nvSpPr>
                  <p:spPr>
                    <a:xfrm flipH="1">
                      <a:off x="3110760" y="57999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Freeform 113"/>
                  <p:cNvSpPr/>
                  <p:nvPr/>
                </p:nvSpPr>
                <p:spPr>
                  <a:xfrm flipH="1">
                    <a:off x="3915720" y="6495840"/>
                    <a:ext cx="320760" cy="36036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Group 114"/>
                  <p:cNvGrpSpPr/>
                  <p:nvPr/>
                </p:nvGrpSpPr>
                <p:grpSpPr>
                  <a:xfrm>
                    <a:off x="1457280" y="5546160"/>
                    <a:ext cx="962280" cy="1186560"/>
                    <a:chOff x="1457280" y="5546160"/>
                    <a:chExt cx="962280" cy="1186560"/>
                  </a:xfrm>
                </p:grpSpPr>
                <p:sp>
                  <p:nvSpPr>
                    <p:cNvPr id="454" name="Freeform 115"/>
                    <p:cNvSpPr/>
                    <p:nvPr/>
                  </p:nvSpPr>
                  <p:spPr>
                    <a:xfrm>
                      <a:off x="1623600" y="5815440"/>
                      <a:ext cx="627480" cy="916920"/>
                    </a:xfrm>
                    <a:custGeom>
                      <a:avLst/>
                      <a:gdLst>
                        <a:gd name="textAreaLeft" fmla="*/ 0 w 627480"/>
                        <a:gd name="textAreaRight" fmla="*/ 627480 w 627480"/>
                        <a:gd name="textAreaTop" fmla="*/ 0 h 916920"/>
                        <a:gd name="textAreaBottom" fmla="*/ 917280 h 9169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1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116"/>
                    <p:cNvSpPr/>
                    <p:nvPr/>
                  </p:nvSpPr>
                  <p:spPr>
                    <a:xfrm>
                      <a:off x="1457280" y="5546160"/>
                      <a:ext cx="962280" cy="1186560"/>
                    </a:xfrm>
                    <a:custGeom>
                      <a:avLst/>
                      <a:gdLst>
                        <a:gd name="textAreaLeft" fmla="*/ 0 w 962280"/>
                        <a:gd name="textAreaRight" fmla="*/ 962640 w 962280"/>
                        <a:gd name="textAreaTop" fmla="*/ 0 h 1186560"/>
                        <a:gd name="textAreaBottom" fmla="*/ 1186920 h 11865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12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Oval 117"/>
                    <p:cNvSpPr/>
                    <p:nvPr/>
                  </p:nvSpPr>
                  <p:spPr>
                    <a:xfrm>
                      <a:off x="1581840" y="6193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Oval 118"/>
                    <p:cNvSpPr/>
                    <p:nvPr/>
                  </p:nvSpPr>
                  <p:spPr>
                    <a:xfrm>
                      <a:off x="2041920" y="6139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Oval 119"/>
                    <p:cNvSpPr/>
                    <p:nvPr/>
                  </p:nvSpPr>
                  <p:spPr>
                    <a:xfrm>
                      <a:off x="1749240" y="6085440"/>
                      <a:ext cx="41400" cy="536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Oval 120"/>
                    <p:cNvSpPr/>
                    <p:nvPr/>
                  </p:nvSpPr>
                  <p:spPr>
                    <a:xfrm>
                      <a:off x="1623600" y="6301080"/>
                      <a:ext cx="4140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Oval 121"/>
                    <p:cNvSpPr/>
                    <p:nvPr/>
                  </p:nvSpPr>
                  <p:spPr>
                    <a:xfrm>
                      <a:off x="2209320" y="6355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1" name="Freeform 122"/>
                  <p:cNvSpPr/>
                  <p:nvPr/>
                </p:nvSpPr>
                <p:spPr>
                  <a:xfrm flipH="1">
                    <a:off x="1884240" y="6495840"/>
                    <a:ext cx="320760" cy="36036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123"/>
                  <p:cNvSpPr/>
                  <p:nvPr/>
                </p:nvSpPr>
                <p:spPr>
                  <a:xfrm flipH="1">
                    <a:off x="3061080" y="6377040"/>
                    <a:ext cx="641520" cy="474480"/>
                  </a:xfrm>
                  <a:custGeom>
                    <a:avLst/>
                    <a:gdLst>
                      <a:gd name="textAreaLeft" fmla="*/ 360 w 641520"/>
                      <a:gd name="textAreaRight" fmla="*/ 642240 w 641520"/>
                      <a:gd name="textAreaTop" fmla="*/ 0 h 474480"/>
                      <a:gd name="textAreaBottom" fmla="*/ 474840 h 474480"/>
                    </a:gdLst>
                    <a:ahLst/>
                    <a:rect l="textAreaLeft" t="textAreaTop" r="textAreaRight" b="textAreaBottom"/>
                    <a:pathLst>
                      <a:path w="480" h="288">
                        <a:moveTo>
                          <a:pt x="0" y="288"/>
                        </a:moveTo>
                        <a:lnTo>
                          <a:pt x="48" y="192"/>
                        </a:lnTo>
                        <a:lnTo>
                          <a:pt x="144" y="144"/>
                        </a:lnTo>
                        <a:lnTo>
                          <a:pt x="192" y="48"/>
                        </a:lnTo>
                        <a:lnTo>
                          <a:pt x="288" y="0"/>
                        </a:lnTo>
                        <a:lnTo>
                          <a:pt x="336" y="48"/>
                        </a:lnTo>
                        <a:lnTo>
                          <a:pt x="432" y="48"/>
                        </a:lnTo>
                        <a:lnTo>
                          <a:pt x="480" y="144"/>
                        </a:lnTo>
                        <a:lnTo>
                          <a:pt x="288" y="192"/>
                        </a:lnTo>
                        <a:lnTo>
                          <a:pt x="336" y="240"/>
                        </a:lnTo>
                        <a:lnTo>
                          <a:pt x="240" y="240"/>
                        </a:lnTo>
                        <a:lnTo>
                          <a:pt x="144" y="288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blipFill rotWithShape="0">
                    <a:blip r:embed="rId113">
                      <a:alphaModFix amt="62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Freeform 124"/>
                  <p:cNvSpPr/>
                  <p:nvPr/>
                </p:nvSpPr>
                <p:spPr>
                  <a:xfrm flipH="1">
                    <a:off x="2740320" y="6377040"/>
                    <a:ext cx="427680" cy="479160"/>
                  </a:xfrm>
                  <a:custGeom>
                    <a:avLst/>
                    <a:gdLst>
                      <a:gd name="textAreaLeft" fmla="*/ 360 w 427680"/>
                      <a:gd name="textAreaRight" fmla="*/ 428400 w 427680"/>
                      <a:gd name="textAreaTop" fmla="*/ 0 h 479160"/>
                      <a:gd name="textAreaBottom" fmla="*/ 479520 h 4791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125"/>
                  <p:cNvSpPr/>
                  <p:nvPr/>
                </p:nvSpPr>
                <p:spPr>
                  <a:xfrm>
                    <a:off x="2633400" y="5902200"/>
                    <a:ext cx="320760" cy="71676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716760"/>
                      <a:gd name="textAreaBottom" fmla="*/ 717120 h 7167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ff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Freeform 126"/>
                <p:cNvSpPr/>
                <p:nvPr/>
              </p:nvSpPr>
              <p:spPr>
                <a:xfrm flipH="1">
                  <a:off x="1095120" y="6666120"/>
                  <a:ext cx="3538800" cy="435600"/>
                </a:xfrm>
                <a:custGeom>
                  <a:avLst/>
                  <a:gdLst>
                    <a:gd name="textAreaLeft" fmla="*/ 360 w 3538800"/>
                    <a:gd name="textAreaRight" fmla="*/ 3539520 w 353880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152" h="192">
                      <a:moveTo>
                        <a:pt x="192" y="48"/>
                      </a:moveTo>
                      <a:lnTo>
                        <a:pt x="0" y="144"/>
                      </a:lnTo>
                      <a:lnTo>
                        <a:pt x="240" y="192"/>
                      </a:lnTo>
                      <a:lnTo>
                        <a:pt x="480" y="144"/>
                      </a:lnTo>
                      <a:lnTo>
                        <a:pt x="768" y="192"/>
                      </a:lnTo>
                      <a:lnTo>
                        <a:pt x="1152" y="192"/>
                      </a:lnTo>
                      <a:lnTo>
                        <a:pt x="1104" y="96"/>
                      </a:lnTo>
                      <a:lnTo>
                        <a:pt x="1056" y="48"/>
                      </a:lnTo>
                      <a:lnTo>
                        <a:pt x="816" y="48"/>
                      </a:lnTo>
                      <a:lnTo>
                        <a:pt x="528" y="96"/>
                      </a:lnTo>
                      <a:lnTo>
                        <a:pt x="480" y="48"/>
                      </a:lnTo>
                      <a:lnTo>
                        <a:pt x="384" y="0"/>
                      </a:lnTo>
                      <a:lnTo>
                        <a:pt x="288" y="48"/>
                      </a:lnTo>
                      <a:lnTo>
                        <a:pt x="192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15294"/>
                      </a:srgbClr>
                    </a:gs>
                    <a:gs pos="100000">
                      <a:srgbClr val="cccc00">
                        <a:alpha val="9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" name="Group 137"/>
            <p:cNvGrpSpPr/>
            <p:nvPr/>
          </p:nvGrpSpPr>
          <p:grpSpPr>
            <a:xfrm>
              <a:off x="1160280" y="5189400"/>
              <a:ext cx="401760" cy="677880"/>
              <a:chOff x="1160280" y="5189400"/>
              <a:chExt cx="401760" cy="677880"/>
            </a:xfrm>
          </p:grpSpPr>
          <p:sp>
            <p:nvSpPr>
              <p:cNvPr id="467" name="Freeform 133"/>
              <p:cNvSpPr/>
              <p:nvPr/>
            </p:nvSpPr>
            <p:spPr>
              <a:xfrm>
                <a:off x="1160280" y="5358960"/>
                <a:ext cx="401760" cy="5083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375" h="294">
                    <a:moveTo>
                      <a:pt x="136" y="88"/>
                    </a:moveTo>
                    <a:lnTo>
                      <a:pt x="94" y="179"/>
                    </a:lnTo>
                    <a:lnTo>
                      <a:pt x="0" y="291"/>
                    </a:lnTo>
                    <a:lnTo>
                      <a:pt x="87" y="288"/>
                    </a:lnTo>
                    <a:lnTo>
                      <a:pt x="141" y="267"/>
                    </a:lnTo>
                    <a:lnTo>
                      <a:pt x="183" y="258"/>
                    </a:lnTo>
                    <a:lnTo>
                      <a:pt x="228" y="270"/>
                    </a:lnTo>
                    <a:lnTo>
                      <a:pt x="309" y="294"/>
                    </a:lnTo>
                    <a:lnTo>
                      <a:pt x="375" y="294"/>
                    </a:lnTo>
                    <a:lnTo>
                      <a:pt x="278" y="176"/>
                    </a:lnTo>
                    <a:lnTo>
                      <a:pt x="238" y="88"/>
                    </a:lnTo>
                    <a:lnTo>
                      <a:pt x="198" y="0"/>
                    </a:lnTo>
                    <a:lnTo>
                      <a:pt x="176" y="3"/>
                    </a:lnTo>
                    <a:lnTo>
                      <a:pt x="136" y="88"/>
                    </a:lnTo>
                    <a:close/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134"/>
              <p:cNvSpPr/>
              <p:nvPr/>
            </p:nvSpPr>
            <p:spPr>
              <a:xfrm>
                <a:off x="1196640" y="5262120"/>
                <a:ext cx="300960" cy="40356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135"/>
              <p:cNvSpPr/>
              <p:nvPr/>
            </p:nvSpPr>
            <p:spPr>
              <a:xfrm>
                <a:off x="1241640" y="5189400"/>
                <a:ext cx="216000" cy="25848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70" name="Рисунок 306" descr="sun_2[1].gif"/>
          <p:cNvPicPr/>
          <p:nvPr/>
        </p:nvPicPr>
        <p:blipFill>
          <a:blip r:embed="rId117"/>
          <a:stretch/>
        </p:blipFill>
        <p:spPr>
          <a:xfrm>
            <a:off x="8929800" y="3071880"/>
            <a:ext cx="1590480" cy="140976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ая соединительная линия 309"/>
          <p:cNvSpPr/>
          <p:nvPr/>
        </p:nvSpPr>
        <p:spPr>
          <a:xfrm flipH="1">
            <a:off x="499680" y="2428200"/>
            <a:ext cx="3357720" cy="18572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Прямая соединительная линия 310"/>
          <p:cNvSpPr/>
          <p:nvPr/>
        </p:nvSpPr>
        <p:spPr>
          <a:xfrm flipH="1">
            <a:off x="1143000" y="2571120"/>
            <a:ext cx="2857680" cy="21430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ая соединительная линия 311"/>
          <p:cNvSpPr/>
          <p:nvPr/>
        </p:nvSpPr>
        <p:spPr>
          <a:xfrm flipH="1">
            <a:off x="1999800" y="2857680"/>
            <a:ext cx="2143080" cy="20714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Прямая соединительная линия 312"/>
          <p:cNvSpPr/>
          <p:nvPr/>
        </p:nvSpPr>
        <p:spPr>
          <a:xfrm flipH="1">
            <a:off x="2643120" y="3071880"/>
            <a:ext cx="1571760" cy="2286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Прямая соединительная линия 313"/>
          <p:cNvSpPr/>
          <p:nvPr/>
        </p:nvSpPr>
        <p:spPr>
          <a:xfrm flipH="1">
            <a:off x="3286080" y="3143160"/>
            <a:ext cx="1214640" cy="25005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Прямая соединительная линия 314"/>
          <p:cNvSpPr/>
          <p:nvPr/>
        </p:nvSpPr>
        <p:spPr>
          <a:xfrm flipH="1">
            <a:off x="3714480" y="3286080"/>
            <a:ext cx="928440" cy="28576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Прямая соединительная линия 315"/>
          <p:cNvSpPr/>
          <p:nvPr/>
        </p:nvSpPr>
        <p:spPr>
          <a:xfrm flipH="1">
            <a:off x="4500720" y="3214800"/>
            <a:ext cx="357120" cy="28000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ая соединительная линия 316"/>
          <p:cNvSpPr/>
          <p:nvPr/>
        </p:nvSpPr>
        <p:spPr>
          <a:xfrm>
            <a:off x="5071320" y="3143160"/>
            <a:ext cx="214200" cy="27860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Прямая соединительная линия 317"/>
          <p:cNvSpPr/>
          <p:nvPr/>
        </p:nvSpPr>
        <p:spPr>
          <a:xfrm>
            <a:off x="5285520" y="3214800"/>
            <a:ext cx="1000440" cy="27144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Прямая соединительная линия 318"/>
          <p:cNvSpPr/>
          <p:nvPr/>
        </p:nvSpPr>
        <p:spPr>
          <a:xfrm>
            <a:off x="5500800" y="3071880"/>
            <a:ext cx="1928880" cy="27144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Прямая соединительная линия 319"/>
          <p:cNvSpPr/>
          <p:nvPr/>
        </p:nvSpPr>
        <p:spPr>
          <a:xfrm>
            <a:off x="5643720" y="2857680"/>
            <a:ext cx="3071520" cy="31431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ая соединительная линия 320"/>
          <p:cNvSpPr/>
          <p:nvPr/>
        </p:nvSpPr>
        <p:spPr>
          <a:xfrm>
            <a:off x="5715000" y="2428920"/>
            <a:ext cx="3429000" cy="29289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14"/>
          <p:cNvSpPr/>
          <p:nvPr/>
        </p:nvSpPr>
        <p:spPr>
          <a:xfrm flipH="1">
            <a:off x="1142280" y="457200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8"/>
          <p:cNvSpPr/>
          <p:nvPr/>
        </p:nvSpPr>
        <p:spPr>
          <a:xfrm>
            <a:off x="1071720" y="371484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1428840" y="37148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5"/>
          <p:cNvSpPr/>
          <p:nvPr/>
        </p:nvSpPr>
        <p:spPr>
          <a:xfrm>
            <a:off x="1357200" y="37148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17"/>
          <p:cNvSpPr/>
          <p:nvPr/>
        </p:nvSpPr>
        <p:spPr>
          <a:xfrm>
            <a:off x="7143840" y="435780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27"/>
          <p:cNvSpPr/>
          <p:nvPr/>
        </p:nvSpPr>
        <p:spPr>
          <a:xfrm>
            <a:off x="7072200" y="435780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5"/>
          <p:cNvSpPr/>
          <p:nvPr/>
        </p:nvSpPr>
        <p:spPr>
          <a:xfrm>
            <a:off x="7500960" y="557208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6"/>
          <p:cNvSpPr/>
          <p:nvPr/>
        </p:nvSpPr>
        <p:spPr>
          <a:xfrm>
            <a:off x="7572240" y="5572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ine 18" descr=""/>
          <p:cNvPicPr/>
          <p:nvPr/>
        </p:nvPicPr>
        <p:blipFill>
          <a:blip r:embed="rId118"/>
          <a:stretch/>
        </p:blipFill>
        <p:spPr>
          <a:xfrm>
            <a:off x="5608800" y="5541840"/>
            <a:ext cx="104760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355"/>
          <p:cNvSpPr/>
          <p:nvPr/>
        </p:nvSpPr>
        <p:spPr>
          <a:xfrm>
            <a:off x="4649760" y="5357880"/>
            <a:ext cx="1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Р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11111E-006 L 0.00417 0.19445 E">
                                      <p:cBhvr>
                                        <p:cTn id="4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916 0.01667 L -0.02916 0.17222 E">
                                      <p:cBhvr>
                                        <p:cTn id="4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375 0.03889 L -0.04167 0.22778 E">
                                      <p:cBhvr>
                                        <p:cTn id="5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17 0.00185 0.00278 0.12208 0 0.12208 C -0.00278 0.12208 -0.01806 0.02775 -0.01667 0 C -0.01528 -0.02774 0.00972 -0.06289 0.00833 -0.04439 C 0.00694 -0.02589 -0.025 0.10359 -0.025 0.11098 C -0.025 0.11838 -0.00417 -0.00185 0 0 Z">
                                      <p:cBhvr>
                                        <p:cTn id="5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17 0.00185 0.00278 0.12208 0 0.12208 C -0.00278 0.12208 -0.01806 0.02775 -0.01667 0 C -0.01528 -0.02774 0.00972 -0.06289 0.00833 -0.04439 C 0.00694 -0.02589 -0.025 0.10359 -0.025 0.11098 C -0.025 0.11838 -0.00417 -0.00185 0 0 Z">
                                      <p:cBhvr>
                                        <p:cTn id="55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C 0.00243 -0.04629 0.00504 -0.09213 -0.01562 -0.12847 C -0.03611 -0.16481 -0.07587 -0.19699 -0.12257 -0.21805 C -0.1691 -0.23912 -0.23906 -0.24745 -0.29566 -0.25486 C -0.35226 -0.26203 -0.41979 -0.26111 -0.4625 -0.2618 C -0.50486 -0.2625 -0.52795 -0.26111 -0.55017 -0.25926 E">
                                      <p:cBhvr>
                                        <p:cTn id="61" dur="3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-3.61111E-006 -0.14444 E">
                                      <p:cBhvr>
                                        <p:cTn id="106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L -3.61111E-006 -0.13773 E">
                                      <p:cBhvr>
                                        <p:cTn id="116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0033 -0.14676 E">
                                      <p:cBhvr>
                                        <p:cTn id="126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-0.00555 0.22153 E">
                                      <p:cBhvr>
                                        <p:cTn id="148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-0.00555 0.23217 E">
                                      <p:cBhvr>
                                        <p:cTn id="151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-0.00555 0.23217 E">
                                      <p:cBhvr>
                                        <p:cTn id="15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0.00208 C -0.0934 0.00324 -0.18646 0.00509 -0.24236 -0.00278 C -0.29844 -0.01042 -0.30903 -0.03519 -0.33507 -0.04283 C -0.36146 -0.05 -0.38872 -0.04699 -0.39844 -0.04769 E">
                                      <p:cBhvr>
                                        <p:cTn id="177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63 0.00347 C -0.1724 0.00509 -0.23299 0.00671 -0.2717 0.00347 C -0.31042 0.00023 -0.32518 -0.00602 -0.34341 -0.01667 C -0.36163 -0.02731 -0.37292 -0.05116 -0.3816 -0.06111 C -0.39028 -0.07106 -0.38993 -0.07292 -0.39497 -0.07662 C -0.4 -0.08032 -0.40278 -0.08218 -0.41163 -0.08333 C -0.42049 -0.08449 -0.45538 -0.0831 -0.44827 -0.08333 E">
                                      <p:cBhvr>
                                        <p:cTn id="180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1157 C -0.03386 -0.01134 -0.09254 -0.01088 -0.12604 -0.01157 C -0.15938 -0.01204 -0.1625 -0.01296 -0.17639 -0.01458 C -0.19028 -0.01597 -0.19601 -0.01944 -0.20972 -0.0206 C -0.22344 -0.02153 -0.24097 -0.02153 -0.25851 -0.02153 E">
                                      <p:cBhvr>
                                        <p:cTn id="183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3" descr="black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4" name="Freeform 247"/>
          <p:cNvSpPr/>
          <p:nvPr/>
        </p:nvSpPr>
        <p:spPr>
          <a:xfrm>
            <a:off x="-609480" y="6172200"/>
            <a:ext cx="10134360" cy="838080"/>
          </a:xfrm>
          <a:custGeom>
            <a:avLst/>
            <a:gdLst>
              <a:gd name="textAreaLeft" fmla="*/ 0 w 10134360"/>
              <a:gd name="textAreaRight" fmla="*/ 10134720 w 10134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248"/>
          <p:cNvSpPr/>
          <p:nvPr/>
        </p:nvSpPr>
        <p:spPr>
          <a:xfrm flipV="1">
            <a:off x="152280" y="5790240"/>
            <a:ext cx="8839440" cy="53316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533160"/>
              <a:gd name="textAreaBottom" fmla="*/ 533160 h 5331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249"/>
          <p:cNvSpPr/>
          <p:nvPr/>
        </p:nvSpPr>
        <p:spPr>
          <a:xfrm>
            <a:off x="914400" y="5410080"/>
            <a:ext cx="7772400" cy="45720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reeform 250"/>
          <p:cNvSpPr/>
          <p:nvPr/>
        </p:nvSpPr>
        <p:spPr>
          <a:xfrm flipV="1">
            <a:off x="2209680" y="4876920"/>
            <a:ext cx="5257800" cy="30456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251"/>
          <p:cNvSpPr/>
          <p:nvPr/>
        </p:nvSpPr>
        <p:spPr>
          <a:xfrm flipV="1">
            <a:off x="1143000" y="5105160"/>
            <a:ext cx="6400800" cy="304560"/>
          </a:xfrm>
          <a:custGeom>
            <a:avLst/>
            <a:gdLst>
              <a:gd name="textAreaLeft" fmla="*/ 0 w 6400800"/>
              <a:gd name="textAreaRight" fmla="*/ 6401160 w 640080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w="6384" h="720">
                <a:moveTo>
                  <a:pt x="48" y="288"/>
                </a:moveTo>
                <a:lnTo>
                  <a:pt x="432" y="144"/>
                </a:lnTo>
                <a:lnTo>
                  <a:pt x="1152" y="384"/>
                </a:lnTo>
                <a:lnTo>
                  <a:pt x="2112" y="0"/>
                </a:lnTo>
                <a:lnTo>
                  <a:pt x="3264" y="336"/>
                </a:lnTo>
                <a:lnTo>
                  <a:pt x="4368" y="48"/>
                </a:lnTo>
                <a:lnTo>
                  <a:pt x="5376" y="384"/>
                </a:lnTo>
                <a:lnTo>
                  <a:pt x="6096" y="144"/>
                </a:lnTo>
                <a:lnTo>
                  <a:pt x="6384" y="288"/>
                </a:lnTo>
                <a:lnTo>
                  <a:pt x="6144" y="288"/>
                </a:lnTo>
                <a:lnTo>
                  <a:pt x="5568" y="480"/>
                </a:lnTo>
                <a:lnTo>
                  <a:pt x="5280" y="624"/>
                </a:lnTo>
                <a:lnTo>
                  <a:pt x="5040" y="528"/>
                </a:lnTo>
                <a:lnTo>
                  <a:pt x="4848" y="384"/>
                </a:lnTo>
                <a:lnTo>
                  <a:pt x="4512" y="288"/>
                </a:lnTo>
                <a:lnTo>
                  <a:pt x="4176" y="336"/>
                </a:lnTo>
                <a:lnTo>
                  <a:pt x="3744" y="576"/>
                </a:lnTo>
                <a:lnTo>
                  <a:pt x="3552" y="672"/>
                </a:lnTo>
                <a:lnTo>
                  <a:pt x="3360" y="720"/>
                </a:lnTo>
                <a:lnTo>
                  <a:pt x="2976" y="624"/>
                </a:lnTo>
                <a:lnTo>
                  <a:pt x="2592" y="384"/>
                </a:lnTo>
                <a:lnTo>
                  <a:pt x="2256" y="288"/>
                </a:lnTo>
                <a:lnTo>
                  <a:pt x="1872" y="336"/>
                </a:lnTo>
                <a:lnTo>
                  <a:pt x="1392" y="528"/>
                </a:lnTo>
                <a:lnTo>
                  <a:pt x="960" y="720"/>
                </a:lnTo>
                <a:lnTo>
                  <a:pt x="624" y="528"/>
                </a:lnTo>
                <a:lnTo>
                  <a:pt x="144" y="432"/>
                </a:lnTo>
                <a:lnTo>
                  <a:pt x="0" y="480"/>
                </a:lnTo>
                <a:lnTo>
                  <a:pt x="48" y="288"/>
                </a:lnTo>
                <a:close/>
              </a:path>
            </a:pathLst>
          </a:custGeom>
          <a:gradFill rotWithShape="0">
            <a:gsLst>
              <a:gs pos="0">
                <a:srgbClr val="00cc99">
                  <a:alpha val="35294"/>
                </a:srgbClr>
              </a:gs>
              <a:gs pos="50000">
                <a:srgbClr val="0066ff">
                  <a:alpha val="90196"/>
                </a:srgbClr>
              </a:gs>
              <a:gs pos="100000">
                <a:srgbClr val="00cc99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31"/>
          <p:cNvSpPr/>
          <p:nvPr/>
        </p:nvSpPr>
        <p:spPr>
          <a:xfrm>
            <a:off x="0" y="5143680"/>
            <a:ext cx="9372600" cy="1714320"/>
          </a:xfrm>
          <a:prstGeom prst="rect">
            <a:avLst/>
          </a:prstGeom>
          <a:blipFill rotWithShape="0">
            <a:blip r:embed="rId2">
              <a:alphaModFix amt="5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Rectangle 252"/>
          <p:cNvGrpSpPr/>
          <p:nvPr/>
        </p:nvGrpSpPr>
        <p:grpSpPr>
          <a:xfrm>
            <a:off x="-6480" y="5059440"/>
            <a:ext cx="9315720" cy="1805040"/>
            <a:chOff x="-6480" y="5059440"/>
            <a:chExt cx="9315720" cy="1805040"/>
          </a:xfrm>
        </p:grpSpPr>
        <p:pic>
          <p:nvPicPr>
            <p:cNvPr id="501" name="Rectangle 252" descr=""/>
            <p:cNvPicPr/>
            <p:nvPr/>
          </p:nvPicPr>
          <p:blipFill>
            <a:blip r:embed="rId3"/>
            <a:stretch/>
          </p:blipFill>
          <p:spPr>
            <a:xfrm>
              <a:off x="-6480" y="5059440"/>
              <a:ext cx="931572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0" y="5067360"/>
              <a:ext cx="93013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Freeform 232"/>
          <p:cNvSpPr/>
          <p:nvPr/>
        </p:nvSpPr>
        <p:spPr>
          <a:xfrm>
            <a:off x="0" y="4643280"/>
            <a:ext cx="3857760" cy="1928880"/>
          </a:xfrm>
          <a:custGeom>
            <a:avLst/>
            <a:gdLst>
              <a:gd name="textAreaLeft" fmla="*/ 0 w 3857760"/>
              <a:gd name="textAreaRight" fmla="*/ 3857760 w 385776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418" h="636">
                <a:moveTo>
                  <a:pt x="0" y="12"/>
                </a:moveTo>
                <a:lnTo>
                  <a:pt x="2418" y="0"/>
                </a:lnTo>
                <a:lnTo>
                  <a:pt x="2400" y="300"/>
                </a:lnTo>
                <a:lnTo>
                  <a:pt x="1728" y="348"/>
                </a:lnTo>
                <a:lnTo>
                  <a:pt x="0" y="636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4">
              <a:alphaModFix amt="5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234"/>
          <p:cNvSpPr/>
          <p:nvPr/>
        </p:nvSpPr>
        <p:spPr>
          <a:xfrm>
            <a:off x="-214200" y="4000680"/>
            <a:ext cx="3262320" cy="2071440"/>
          </a:xfrm>
          <a:custGeom>
            <a:avLst/>
            <a:gdLst>
              <a:gd name="textAreaLeft" fmla="*/ 0 w 3262320"/>
              <a:gd name="textAreaRight" fmla="*/ 3262680 w 326232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2208" h="768">
                <a:moveTo>
                  <a:pt x="0" y="720"/>
                </a:moveTo>
                <a:lnTo>
                  <a:pt x="336" y="624"/>
                </a:lnTo>
                <a:lnTo>
                  <a:pt x="576" y="624"/>
                </a:lnTo>
                <a:lnTo>
                  <a:pt x="912" y="528"/>
                </a:lnTo>
                <a:lnTo>
                  <a:pt x="1248" y="480"/>
                </a:lnTo>
                <a:lnTo>
                  <a:pt x="1488" y="480"/>
                </a:lnTo>
                <a:lnTo>
                  <a:pt x="1680" y="432"/>
                </a:lnTo>
                <a:lnTo>
                  <a:pt x="1920" y="288"/>
                </a:lnTo>
                <a:lnTo>
                  <a:pt x="2208" y="288"/>
                </a:lnTo>
                <a:lnTo>
                  <a:pt x="2112" y="144"/>
                </a:lnTo>
                <a:lnTo>
                  <a:pt x="1728" y="144"/>
                </a:lnTo>
                <a:lnTo>
                  <a:pt x="1440" y="96"/>
                </a:lnTo>
                <a:lnTo>
                  <a:pt x="1200" y="144"/>
                </a:lnTo>
                <a:lnTo>
                  <a:pt x="1008" y="96"/>
                </a:lnTo>
                <a:lnTo>
                  <a:pt x="960" y="48"/>
                </a:lnTo>
                <a:lnTo>
                  <a:pt x="720" y="0"/>
                </a:lnTo>
                <a:lnTo>
                  <a:pt x="576" y="0"/>
                </a:lnTo>
                <a:lnTo>
                  <a:pt x="480" y="48"/>
                </a:lnTo>
                <a:lnTo>
                  <a:pt x="288" y="48"/>
                </a:lnTo>
                <a:lnTo>
                  <a:pt x="48" y="144"/>
                </a:lnTo>
                <a:lnTo>
                  <a:pt x="48" y="768"/>
                </a:lnTo>
                <a:lnTo>
                  <a:pt x="48" y="672"/>
                </a:lnTo>
                <a:lnTo>
                  <a:pt x="0" y="72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233"/>
          <p:cNvSpPr/>
          <p:nvPr/>
        </p:nvSpPr>
        <p:spPr>
          <a:xfrm flipH="1">
            <a:off x="4952160" y="4724280"/>
            <a:ext cx="4419720" cy="1133640"/>
          </a:xfrm>
          <a:custGeom>
            <a:avLst/>
            <a:gdLst>
              <a:gd name="textAreaLeft" fmla="*/ -360 w 4419720"/>
              <a:gd name="textAreaRight" fmla="*/ 4419720 w 441972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418" h="636">
                <a:moveTo>
                  <a:pt x="0" y="12"/>
                </a:moveTo>
                <a:lnTo>
                  <a:pt x="2418" y="0"/>
                </a:lnTo>
                <a:lnTo>
                  <a:pt x="2400" y="300"/>
                </a:lnTo>
                <a:lnTo>
                  <a:pt x="1728" y="348"/>
                </a:lnTo>
                <a:lnTo>
                  <a:pt x="0" y="636"/>
                </a:lnTo>
                <a:lnTo>
                  <a:pt x="0" y="12"/>
                </a:lnTo>
                <a:close/>
              </a:path>
            </a:pathLst>
          </a:custGeom>
          <a:blipFill rotWithShape="0">
            <a:blip r:embed="rId6">
              <a:alphaModFix amt="5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236"/>
          <p:cNvSpPr/>
          <p:nvPr/>
        </p:nvSpPr>
        <p:spPr>
          <a:xfrm>
            <a:off x="6357960" y="4572000"/>
            <a:ext cx="3009960" cy="121428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1896" h="972">
                <a:moveTo>
                  <a:pt x="1896" y="972"/>
                </a:moveTo>
                <a:lnTo>
                  <a:pt x="1392" y="882"/>
                </a:lnTo>
                <a:lnTo>
                  <a:pt x="816" y="834"/>
                </a:lnTo>
                <a:lnTo>
                  <a:pt x="624" y="738"/>
                </a:lnTo>
                <a:lnTo>
                  <a:pt x="816" y="642"/>
                </a:lnTo>
                <a:lnTo>
                  <a:pt x="672" y="594"/>
                </a:lnTo>
                <a:lnTo>
                  <a:pt x="960" y="546"/>
                </a:lnTo>
                <a:lnTo>
                  <a:pt x="768" y="498"/>
                </a:lnTo>
                <a:lnTo>
                  <a:pt x="384" y="402"/>
                </a:lnTo>
                <a:lnTo>
                  <a:pt x="0" y="258"/>
                </a:lnTo>
                <a:lnTo>
                  <a:pt x="336" y="114"/>
                </a:lnTo>
                <a:lnTo>
                  <a:pt x="906" y="0"/>
                </a:lnTo>
                <a:lnTo>
                  <a:pt x="1212" y="162"/>
                </a:lnTo>
                <a:lnTo>
                  <a:pt x="1500" y="126"/>
                </a:lnTo>
                <a:lnTo>
                  <a:pt x="1770" y="54"/>
                </a:lnTo>
                <a:lnTo>
                  <a:pt x="1896" y="0"/>
                </a:lnTo>
                <a:lnTo>
                  <a:pt x="1896" y="972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38"/>
          <p:cNvGrpSpPr/>
          <p:nvPr/>
        </p:nvGrpSpPr>
        <p:grpSpPr>
          <a:xfrm>
            <a:off x="7696080" y="4343400"/>
            <a:ext cx="146160" cy="228600"/>
            <a:chOff x="7696080" y="4343400"/>
            <a:chExt cx="146160" cy="228600"/>
          </a:xfrm>
        </p:grpSpPr>
        <p:sp>
          <p:nvSpPr>
            <p:cNvPr id="508" name="Freeform 51"/>
            <p:cNvSpPr/>
            <p:nvPr/>
          </p:nvSpPr>
          <p:spPr>
            <a:xfrm>
              <a:off x="7696080" y="4419360"/>
              <a:ext cx="146160" cy="1526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52"/>
            <p:cNvSpPr/>
            <p:nvPr/>
          </p:nvSpPr>
          <p:spPr>
            <a:xfrm>
              <a:off x="7712280" y="4394160"/>
              <a:ext cx="114120" cy="101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53"/>
            <p:cNvSpPr/>
            <p:nvPr/>
          </p:nvSpPr>
          <p:spPr>
            <a:xfrm>
              <a:off x="7728120" y="434340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237"/>
          <p:cNvGrpSpPr/>
          <p:nvPr/>
        </p:nvGrpSpPr>
        <p:grpSpPr>
          <a:xfrm>
            <a:off x="8305920" y="4191120"/>
            <a:ext cx="380520" cy="685080"/>
            <a:chOff x="8305920" y="4191120"/>
            <a:chExt cx="380520" cy="685080"/>
          </a:xfrm>
        </p:grpSpPr>
        <p:sp>
          <p:nvSpPr>
            <p:cNvPr id="512" name="Freeform 55"/>
            <p:cNvSpPr/>
            <p:nvPr/>
          </p:nvSpPr>
          <p:spPr>
            <a:xfrm>
              <a:off x="8305920" y="4419360"/>
              <a:ext cx="380520" cy="4568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56"/>
            <p:cNvSpPr/>
            <p:nvPr/>
          </p:nvSpPr>
          <p:spPr>
            <a:xfrm>
              <a:off x="8347680" y="4342320"/>
              <a:ext cx="297360" cy="3052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57"/>
            <p:cNvSpPr/>
            <p:nvPr/>
          </p:nvSpPr>
          <p:spPr>
            <a:xfrm>
              <a:off x="8391240" y="4191120"/>
              <a:ext cx="209160" cy="3052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239"/>
          <p:cNvGrpSpPr/>
          <p:nvPr/>
        </p:nvGrpSpPr>
        <p:grpSpPr>
          <a:xfrm>
            <a:off x="8839080" y="4572000"/>
            <a:ext cx="304200" cy="532800"/>
            <a:chOff x="8839080" y="4572000"/>
            <a:chExt cx="304200" cy="532800"/>
          </a:xfrm>
        </p:grpSpPr>
        <p:sp>
          <p:nvSpPr>
            <p:cNvPr id="516" name="Freeform 69"/>
            <p:cNvSpPr/>
            <p:nvPr/>
          </p:nvSpPr>
          <p:spPr>
            <a:xfrm>
              <a:off x="8839080" y="4749120"/>
              <a:ext cx="304200" cy="3556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0"/>
            <p:cNvSpPr/>
            <p:nvPr/>
          </p:nvSpPr>
          <p:spPr>
            <a:xfrm>
              <a:off x="8871840" y="4690080"/>
              <a:ext cx="238320" cy="2365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71"/>
            <p:cNvSpPr/>
            <p:nvPr/>
          </p:nvSpPr>
          <p:spPr>
            <a:xfrm>
              <a:off x="8904960" y="4572000"/>
              <a:ext cx="172080" cy="2365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235"/>
          <p:cNvGrpSpPr/>
          <p:nvPr/>
        </p:nvGrpSpPr>
        <p:grpSpPr>
          <a:xfrm>
            <a:off x="685800" y="4419720"/>
            <a:ext cx="304560" cy="495000"/>
            <a:chOff x="685800" y="4419720"/>
            <a:chExt cx="304560" cy="495000"/>
          </a:xfrm>
        </p:grpSpPr>
        <p:sp>
          <p:nvSpPr>
            <p:cNvPr id="520" name="Freeform 73"/>
            <p:cNvSpPr/>
            <p:nvPr/>
          </p:nvSpPr>
          <p:spPr>
            <a:xfrm>
              <a:off x="685800" y="4602960"/>
              <a:ext cx="304560" cy="311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74"/>
            <p:cNvSpPr/>
            <p:nvPr/>
          </p:nvSpPr>
          <p:spPr>
            <a:xfrm>
              <a:off x="718560" y="4541040"/>
              <a:ext cx="237960" cy="2080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75"/>
            <p:cNvSpPr/>
            <p:nvPr/>
          </p:nvSpPr>
          <p:spPr>
            <a:xfrm>
              <a:off x="754200" y="4419720"/>
              <a:ext cx="167400" cy="208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81"/>
          <p:cNvGrpSpPr/>
          <p:nvPr/>
        </p:nvGrpSpPr>
        <p:grpSpPr>
          <a:xfrm>
            <a:off x="1295280" y="4572000"/>
            <a:ext cx="145800" cy="228600"/>
            <a:chOff x="1295280" y="4572000"/>
            <a:chExt cx="145800" cy="228600"/>
          </a:xfrm>
        </p:grpSpPr>
        <p:sp>
          <p:nvSpPr>
            <p:cNvPr id="524" name="Freeform 77"/>
            <p:cNvSpPr/>
            <p:nvPr/>
          </p:nvSpPr>
          <p:spPr>
            <a:xfrm>
              <a:off x="1295280" y="4648320"/>
              <a:ext cx="145800" cy="152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78"/>
            <p:cNvSpPr/>
            <p:nvPr/>
          </p:nvSpPr>
          <p:spPr>
            <a:xfrm>
              <a:off x="1311120" y="4622760"/>
              <a:ext cx="114120" cy="101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79"/>
            <p:cNvSpPr/>
            <p:nvPr/>
          </p:nvSpPr>
          <p:spPr>
            <a:xfrm>
              <a:off x="1326960" y="457200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32" h="288">
                  <a:moveTo>
                    <a:pt x="165" y="96"/>
                  </a:moveTo>
                  <a:lnTo>
                    <a:pt x="114" y="195"/>
                  </a:lnTo>
                  <a:lnTo>
                    <a:pt x="0" y="288"/>
                  </a:lnTo>
                  <a:lnTo>
                    <a:pt x="144" y="240"/>
                  </a:lnTo>
                  <a:lnTo>
                    <a:pt x="192" y="288"/>
                  </a:lnTo>
                  <a:lnTo>
                    <a:pt x="240" y="288"/>
                  </a:lnTo>
                  <a:lnTo>
                    <a:pt x="288" y="240"/>
                  </a:lnTo>
                  <a:lnTo>
                    <a:pt x="378" y="276"/>
                  </a:lnTo>
                  <a:lnTo>
                    <a:pt x="432" y="288"/>
                  </a:lnTo>
                  <a:lnTo>
                    <a:pt x="336" y="192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213" y="3"/>
                  </a:lnTo>
                  <a:lnTo>
                    <a:pt x="165" y="96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171"/>
          <p:cNvGrpSpPr/>
          <p:nvPr/>
        </p:nvGrpSpPr>
        <p:grpSpPr>
          <a:xfrm>
            <a:off x="3071880" y="3786120"/>
            <a:ext cx="4972320" cy="1781640"/>
            <a:chOff x="3071880" y="3786120"/>
            <a:chExt cx="4972320" cy="1781640"/>
          </a:xfrm>
        </p:grpSpPr>
        <p:grpSp>
          <p:nvGrpSpPr>
            <p:cNvPr id="528" name="Group 170"/>
            <p:cNvGrpSpPr/>
            <p:nvPr/>
          </p:nvGrpSpPr>
          <p:grpSpPr>
            <a:xfrm>
              <a:off x="3071880" y="3786120"/>
              <a:ext cx="4972320" cy="1781640"/>
              <a:chOff x="3071880" y="3786120"/>
              <a:chExt cx="4972320" cy="1781640"/>
            </a:xfrm>
          </p:grpSpPr>
          <p:grpSp>
            <p:nvGrpSpPr>
              <p:cNvPr id="529" name="Group 142"/>
              <p:cNvGrpSpPr/>
              <p:nvPr/>
            </p:nvGrpSpPr>
            <p:grpSpPr>
              <a:xfrm>
                <a:off x="3071880" y="3981240"/>
                <a:ext cx="2741760" cy="1168200"/>
                <a:chOff x="3071880" y="3981240"/>
                <a:chExt cx="2741760" cy="1168200"/>
              </a:xfrm>
            </p:grpSpPr>
            <p:grpSp>
              <p:nvGrpSpPr>
                <p:cNvPr id="530" name="Group 128"/>
                <p:cNvGrpSpPr/>
                <p:nvPr/>
              </p:nvGrpSpPr>
              <p:grpSpPr>
                <a:xfrm>
                  <a:off x="3071880" y="3981240"/>
                  <a:ext cx="1850400" cy="1095480"/>
                  <a:chOff x="3071880" y="3981240"/>
                  <a:chExt cx="1850400" cy="1095480"/>
                </a:xfrm>
              </p:grpSpPr>
              <p:sp>
                <p:nvSpPr>
                  <p:cNvPr id="531" name="Freeform 47"/>
                  <p:cNvSpPr/>
                  <p:nvPr/>
                </p:nvSpPr>
                <p:spPr>
                  <a:xfrm>
                    <a:off x="3071880" y="3981240"/>
                    <a:ext cx="1850400" cy="1095480"/>
                  </a:xfrm>
                  <a:custGeom>
                    <a:avLst/>
                    <a:gdLst>
                      <a:gd name="textAreaLeft" fmla="*/ 0 w 1850400"/>
                      <a:gd name="textAreaRight" fmla="*/ 1850760 w 1850400"/>
                      <a:gd name="textAreaTop" fmla="*/ 0 h 1095480"/>
                      <a:gd name="textAreaBottom" fmla="*/ 1095840 h 1095480"/>
                    </a:gdLst>
                    <a:ahLst/>
                    <a:rect l="textAreaLeft" t="textAreaTop" r="textAreaRight" b="textAreaBottom"/>
                    <a:pathLst>
                      <a:path w="831" h="480">
                        <a:moveTo>
                          <a:pt x="92" y="288"/>
                        </a:moveTo>
                        <a:lnTo>
                          <a:pt x="139" y="240"/>
                        </a:lnTo>
                        <a:lnTo>
                          <a:pt x="231" y="192"/>
                        </a:lnTo>
                        <a:lnTo>
                          <a:pt x="277" y="192"/>
                        </a:lnTo>
                        <a:lnTo>
                          <a:pt x="369" y="96"/>
                        </a:lnTo>
                        <a:lnTo>
                          <a:pt x="447" y="52"/>
                        </a:lnTo>
                        <a:lnTo>
                          <a:pt x="491" y="24"/>
                        </a:lnTo>
                        <a:lnTo>
                          <a:pt x="508" y="0"/>
                        </a:lnTo>
                        <a:lnTo>
                          <a:pt x="539" y="32"/>
                        </a:lnTo>
                        <a:lnTo>
                          <a:pt x="554" y="48"/>
                        </a:lnTo>
                        <a:lnTo>
                          <a:pt x="600" y="96"/>
                        </a:lnTo>
                        <a:lnTo>
                          <a:pt x="600" y="144"/>
                        </a:lnTo>
                        <a:lnTo>
                          <a:pt x="693" y="192"/>
                        </a:lnTo>
                        <a:lnTo>
                          <a:pt x="693" y="240"/>
                        </a:lnTo>
                        <a:lnTo>
                          <a:pt x="739" y="288"/>
                        </a:lnTo>
                        <a:lnTo>
                          <a:pt x="739" y="336"/>
                        </a:lnTo>
                        <a:lnTo>
                          <a:pt x="785" y="336"/>
                        </a:lnTo>
                        <a:lnTo>
                          <a:pt x="831" y="336"/>
                        </a:lnTo>
                        <a:lnTo>
                          <a:pt x="785" y="384"/>
                        </a:lnTo>
                        <a:lnTo>
                          <a:pt x="554" y="432"/>
                        </a:lnTo>
                        <a:lnTo>
                          <a:pt x="369" y="432"/>
                        </a:lnTo>
                        <a:lnTo>
                          <a:pt x="277" y="480"/>
                        </a:lnTo>
                        <a:lnTo>
                          <a:pt x="92" y="432"/>
                        </a:lnTo>
                        <a:lnTo>
                          <a:pt x="0" y="336"/>
                        </a:lnTo>
                        <a:lnTo>
                          <a:pt x="46" y="288"/>
                        </a:lnTo>
                        <a:lnTo>
                          <a:pt x="92" y="2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Freeform 48"/>
                  <p:cNvSpPr/>
                  <p:nvPr/>
                </p:nvSpPr>
                <p:spPr>
                  <a:xfrm>
                    <a:off x="3172680" y="3981240"/>
                    <a:ext cx="1441800" cy="1095480"/>
                  </a:xfrm>
                  <a:custGeom>
                    <a:avLst/>
                    <a:gdLst>
                      <a:gd name="textAreaLeft" fmla="*/ 0 w 1441800"/>
                      <a:gd name="textAreaRight" fmla="*/ 1442160 w 1441800"/>
                      <a:gd name="textAreaTop" fmla="*/ 0 h 1095480"/>
                      <a:gd name="textAreaBottom" fmla="*/ 1095840 h 1095480"/>
                    </a:gdLst>
                    <a:ahLst/>
                    <a:rect l="textAreaLeft" t="textAreaTop" r="textAreaRight" b="textAreaBottom"/>
                    <a:pathLst>
                      <a:path w="672" h="480">
                        <a:moveTo>
                          <a:pt x="48" y="384"/>
                        </a:moveTo>
                        <a:lnTo>
                          <a:pt x="240" y="480"/>
                        </a:lnTo>
                        <a:lnTo>
                          <a:pt x="336" y="384"/>
                        </a:lnTo>
                        <a:lnTo>
                          <a:pt x="528" y="384"/>
                        </a:lnTo>
                        <a:lnTo>
                          <a:pt x="672" y="336"/>
                        </a:lnTo>
                        <a:lnTo>
                          <a:pt x="672" y="288"/>
                        </a:lnTo>
                        <a:lnTo>
                          <a:pt x="624" y="192"/>
                        </a:lnTo>
                        <a:lnTo>
                          <a:pt x="576" y="144"/>
                        </a:lnTo>
                        <a:lnTo>
                          <a:pt x="576" y="96"/>
                        </a:lnTo>
                        <a:lnTo>
                          <a:pt x="480" y="48"/>
                        </a:lnTo>
                        <a:lnTo>
                          <a:pt x="480" y="0"/>
                        </a:lnTo>
                        <a:lnTo>
                          <a:pt x="384" y="96"/>
                        </a:lnTo>
                        <a:lnTo>
                          <a:pt x="336" y="192"/>
                        </a:lnTo>
                        <a:lnTo>
                          <a:pt x="144" y="240"/>
                        </a:lnTo>
                        <a:lnTo>
                          <a:pt x="96" y="288"/>
                        </a:lnTo>
                        <a:lnTo>
                          <a:pt x="0" y="336"/>
                        </a:lnTo>
                        <a:lnTo>
                          <a:pt x="48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>
                          <a:alpha val="13333"/>
                        </a:srgbClr>
                      </a:gs>
                      <a:gs pos="100000">
                        <a:srgbClr val="000000">
                          <a:alpha val="56078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Freeform 49"/>
                  <p:cNvSpPr/>
                  <p:nvPr/>
                </p:nvSpPr>
                <p:spPr>
                  <a:xfrm>
                    <a:off x="3481920" y="4200480"/>
                    <a:ext cx="1027440" cy="766440"/>
                  </a:xfrm>
                  <a:custGeom>
                    <a:avLst/>
                    <a:gdLst>
                      <a:gd name="textAreaLeft" fmla="*/ 0 w 1027440"/>
                      <a:gd name="textAreaRight" fmla="*/ 1027800 w 1027440"/>
                      <a:gd name="textAreaTop" fmla="*/ 0 h 766440"/>
                      <a:gd name="textAreaBottom" fmla="*/ 766800 h 766440"/>
                    </a:gdLst>
                    <a:ahLst/>
                    <a:rect l="textAreaLeft" t="textAreaTop" r="textAreaRight" b="textAreaBottom"/>
                    <a:pathLst>
                      <a:path w="461" h="336">
                        <a:moveTo>
                          <a:pt x="342" y="0"/>
                        </a:moveTo>
                        <a:lnTo>
                          <a:pt x="369" y="62"/>
                        </a:lnTo>
                        <a:lnTo>
                          <a:pt x="461" y="117"/>
                        </a:lnTo>
                        <a:lnTo>
                          <a:pt x="461" y="226"/>
                        </a:lnTo>
                        <a:lnTo>
                          <a:pt x="323" y="226"/>
                        </a:lnTo>
                        <a:lnTo>
                          <a:pt x="231" y="281"/>
                        </a:lnTo>
                        <a:lnTo>
                          <a:pt x="92" y="336"/>
                        </a:lnTo>
                        <a:lnTo>
                          <a:pt x="0" y="226"/>
                        </a:lnTo>
                        <a:lnTo>
                          <a:pt x="92" y="171"/>
                        </a:lnTo>
                        <a:lnTo>
                          <a:pt x="138" y="117"/>
                        </a:lnTo>
                        <a:lnTo>
                          <a:pt x="231" y="117"/>
                        </a:lnTo>
                        <a:lnTo>
                          <a:pt x="277" y="7"/>
                        </a:lnTo>
                        <a:lnTo>
                          <a:pt x="342" y="0"/>
                        </a:lnTo>
                        <a:close/>
                      </a:path>
                    </a:pathLst>
                  </a:custGeom>
                  <a:blipFill rotWithShape="0">
                    <a:blip r:embed="rId23">
                      <a:alphaModFix amt="51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Freeform 59"/>
                  <p:cNvSpPr/>
                  <p:nvPr/>
                </p:nvSpPr>
                <p:spPr>
                  <a:xfrm>
                    <a:off x="3381120" y="4638600"/>
                    <a:ext cx="204480" cy="218520"/>
                  </a:xfrm>
                  <a:custGeom>
                    <a:avLst/>
                    <a:gdLst>
                      <a:gd name="textAreaLeft" fmla="*/ 0 w 204480"/>
                      <a:gd name="textAreaRight" fmla="*/ 204840 w 204480"/>
                      <a:gd name="textAreaTop" fmla="*/ 0 h 218520"/>
                      <a:gd name="textAreaBottom" fmla="*/ 218880 h 21852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Freeform 60"/>
                  <p:cNvSpPr/>
                  <p:nvPr/>
                </p:nvSpPr>
                <p:spPr>
                  <a:xfrm>
                    <a:off x="3401640" y="4601880"/>
                    <a:ext cx="160920" cy="146160"/>
                  </a:xfrm>
                  <a:custGeom>
                    <a:avLst/>
                    <a:gdLst>
                      <a:gd name="textAreaLeft" fmla="*/ 0 w 160920"/>
                      <a:gd name="textAreaRight" fmla="*/ 161280 w 160920"/>
                      <a:gd name="textAreaTop" fmla="*/ 0 h 146160"/>
                      <a:gd name="textAreaBottom" fmla="*/ 146520 h 1461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Freeform 61"/>
                  <p:cNvSpPr/>
                  <p:nvPr/>
                </p:nvSpPr>
                <p:spPr>
                  <a:xfrm>
                    <a:off x="3424680" y="4528800"/>
                    <a:ext cx="115560" cy="146160"/>
                  </a:xfrm>
                  <a:custGeom>
                    <a:avLst/>
                    <a:gdLst>
                      <a:gd name="textAreaLeft" fmla="*/ 0 w 115560"/>
                      <a:gd name="textAreaRight" fmla="*/ 115920 w 115560"/>
                      <a:gd name="textAreaTop" fmla="*/ 0 h 146160"/>
                      <a:gd name="textAreaBottom" fmla="*/ 146520 h 1461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26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Freeform 65"/>
                <p:cNvSpPr/>
                <p:nvPr/>
              </p:nvSpPr>
              <p:spPr>
                <a:xfrm>
                  <a:off x="3962880" y="4108680"/>
                  <a:ext cx="1850760" cy="1040760"/>
                </a:xfrm>
                <a:custGeom>
                  <a:avLst/>
                  <a:gdLst>
                    <a:gd name="textAreaLeft" fmla="*/ 0 w 1850760"/>
                    <a:gd name="textAreaRight" fmla="*/ 1851120 w 1850760"/>
                    <a:gd name="textAreaTop" fmla="*/ 0 h 1040760"/>
                    <a:gd name="textAreaBottom" fmla="*/ 1041120 h 1040760"/>
                  </a:gdLst>
                  <a:ahLst/>
                  <a:rect l="textAreaLeft" t="textAreaTop" r="textAreaRight" b="textAreaBottom"/>
                  <a:pathLst>
                    <a:path w="831" h="456">
                      <a:moveTo>
                        <a:pt x="92" y="264"/>
                      </a:moveTo>
                      <a:lnTo>
                        <a:pt x="139" y="216"/>
                      </a:lnTo>
                      <a:lnTo>
                        <a:pt x="231" y="168"/>
                      </a:lnTo>
                      <a:lnTo>
                        <a:pt x="277" y="168"/>
                      </a:lnTo>
                      <a:lnTo>
                        <a:pt x="369" y="72"/>
                      </a:lnTo>
                      <a:lnTo>
                        <a:pt x="448" y="32"/>
                      </a:lnTo>
                      <a:lnTo>
                        <a:pt x="480" y="0"/>
                      </a:lnTo>
                      <a:lnTo>
                        <a:pt x="508" y="8"/>
                      </a:lnTo>
                      <a:lnTo>
                        <a:pt x="532" y="4"/>
                      </a:lnTo>
                      <a:lnTo>
                        <a:pt x="554" y="24"/>
                      </a:lnTo>
                      <a:lnTo>
                        <a:pt x="600" y="72"/>
                      </a:lnTo>
                      <a:lnTo>
                        <a:pt x="600" y="120"/>
                      </a:lnTo>
                      <a:lnTo>
                        <a:pt x="693" y="168"/>
                      </a:lnTo>
                      <a:lnTo>
                        <a:pt x="693" y="216"/>
                      </a:lnTo>
                      <a:lnTo>
                        <a:pt x="739" y="264"/>
                      </a:lnTo>
                      <a:lnTo>
                        <a:pt x="739" y="312"/>
                      </a:lnTo>
                      <a:lnTo>
                        <a:pt x="785" y="312"/>
                      </a:lnTo>
                      <a:lnTo>
                        <a:pt x="831" y="312"/>
                      </a:lnTo>
                      <a:lnTo>
                        <a:pt x="785" y="360"/>
                      </a:lnTo>
                      <a:lnTo>
                        <a:pt x="554" y="408"/>
                      </a:lnTo>
                      <a:lnTo>
                        <a:pt x="369" y="408"/>
                      </a:lnTo>
                      <a:lnTo>
                        <a:pt x="277" y="456"/>
                      </a:lnTo>
                      <a:lnTo>
                        <a:pt x="92" y="408"/>
                      </a:lnTo>
                      <a:lnTo>
                        <a:pt x="0" y="312"/>
                      </a:lnTo>
                      <a:lnTo>
                        <a:pt x="46" y="264"/>
                      </a:lnTo>
                      <a:lnTo>
                        <a:pt x="92" y="2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130"/>
                <p:cNvSpPr/>
                <p:nvPr/>
              </p:nvSpPr>
              <p:spPr>
                <a:xfrm>
                  <a:off x="3665880" y="3981240"/>
                  <a:ext cx="1850760" cy="1095840"/>
                </a:xfrm>
                <a:custGeom>
                  <a:avLst/>
                  <a:gdLst>
                    <a:gd name="textAreaLeft" fmla="*/ 0 w 1850760"/>
                    <a:gd name="textAreaRight" fmla="*/ 1851120 w 1850760"/>
                    <a:gd name="textAreaTop" fmla="*/ 0 h 1095840"/>
                    <a:gd name="textAreaBottom" fmla="*/ 1096200 h 1095840"/>
                  </a:gdLst>
                  <a:ahLst/>
                  <a:rect l="textAreaLeft" t="textAreaTop" r="textAreaRight" b="textAreaBottom"/>
                  <a:pathLst>
                    <a:path w="831" h="480">
                      <a:moveTo>
                        <a:pt x="92" y="288"/>
                      </a:moveTo>
                      <a:lnTo>
                        <a:pt x="139" y="240"/>
                      </a:lnTo>
                      <a:lnTo>
                        <a:pt x="231" y="192"/>
                      </a:lnTo>
                      <a:lnTo>
                        <a:pt x="277" y="192"/>
                      </a:lnTo>
                      <a:lnTo>
                        <a:pt x="369" y="96"/>
                      </a:lnTo>
                      <a:lnTo>
                        <a:pt x="447" y="52"/>
                      </a:lnTo>
                      <a:lnTo>
                        <a:pt x="491" y="24"/>
                      </a:lnTo>
                      <a:lnTo>
                        <a:pt x="508" y="0"/>
                      </a:lnTo>
                      <a:lnTo>
                        <a:pt x="539" y="32"/>
                      </a:lnTo>
                      <a:lnTo>
                        <a:pt x="554" y="48"/>
                      </a:lnTo>
                      <a:lnTo>
                        <a:pt x="600" y="96"/>
                      </a:lnTo>
                      <a:lnTo>
                        <a:pt x="600" y="144"/>
                      </a:lnTo>
                      <a:lnTo>
                        <a:pt x="693" y="192"/>
                      </a:lnTo>
                      <a:lnTo>
                        <a:pt x="693" y="240"/>
                      </a:lnTo>
                      <a:lnTo>
                        <a:pt x="739" y="288"/>
                      </a:lnTo>
                      <a:lnTo>
                        <a:pt x="739" y="336"/>
                      </a:lnTo>
                      <a:lnTo>
                        <a:pt x="785" y="336"/>
                      </a:lnTo>
                      <a:lnTo>
                        <a:pt x="831" y="336"/>
                      </a:lnTo>
                      <a:lnTo>
                        <a:pt x="785" y="384"/>
                      </a:lnTo>
                      <a:lnTo>
                        <a:pt x="554" y="432"/>
                      </a:lnTo>
                      <a:lnTo>
                        <a:pt x="369" y="432"/>
                      </a:lnTo>
                      <a:lnTo>
                        <a:pt x="277" y="480"/>
                      </a:lnTo>
                      <a:lnTo>
                        <a:pt x="92" y="432"/>
                      </a:lnTo>
                      <a:lnTo>
                        <a:pt x="0" y="336"/>
                      </a:lnTo>
                      <a:lnTo>
                        <a:pt x="46" y="288"/>
                      </a:lnTo>
                      <a:lnTo>
                        <a:pt x="92" y="2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131"/>
                <p:cNvSpPr/>
                <p:nvPr/>
              </p:nvSpPr>
              <p:spPr>
                <a:xfrm>
                  <a:off x="3767040" y="3981240"/>
                  <a:ext cx="1442520" cy="1095840"/>
                </a:xfrm>
                <a:custGeom>
                  <a:avLst/>
                  <a:gdLst>
                    <a:gd name="textAreaLeft" fmla="*/ 0 w 1442520"/>
                    <a:gd name="textAreaRight" fmla="*/ 1442880 w 1442520"/>
                    <a:gd name="textAreaTop" fmla="*/ 0 h 1095840"/>
                    <a:gd name="textAreaBottom" fmla="*/ 1096200 h 109584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132"/>
                <p:cNvSpPr/>
                <p:nvPr/>
              </p:nvSpPr>
              <p:spPr>
                <a:xfrm>
                  <a:off x="4076640" y="4200480"/>
                  <a:ext cx="1027440" cy="76680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766800"/>
                    <a:gd name="textAreaBottom" fmla="*/ 767160 h 766800"/>
                  </a:gdLst>
                  <a:ahLst/>
                  <a:rect l="textAreaLeft" t="textAreaTop" r="textAreaRight" b="textAreaBottom"/>
                  <a:pathLst>
                    <a:path w="461" h="336">
                      <a:moveTo>
                        <a:pt x="342" y="0"/>
                      </a:moveTo>
                      <a:lnTo>
                        <a:pt x="369" y="62"/>
                      </a:lnTo>
                      <a:lnTo>
                        <a:pt x="461" y="117"/>
                      </a:lnTo>
                      <a:lnTo>
                        <a:pt x="461" y="226"/>
                      </a:lnTo>
                      <a:lnTo>
                        <a:pt x="323" y="226"/>
                      </a:lnTo>
                      <a:lnTo>
                        <a:pt x="231" y="281"/>
                      </a:lnTo>
                      <a:lnTo>
                        <a:pt x="92" y="336"/>
                      </a:lnTo>
                      <a:lnTo>
                        <a:pt x="0" y="226"/>
                      </a:lnTo>
                      <a:lnTo>
                        <a:pt x="92" y="171"/>
                      </a:lnTo>
                      <a:lnTo>
                        <a:pt x="138" y="117"/>
                      </a:lnTo>
                      <a:lnTo>
                        <a:pt x="231" y="117"/>
                      </a:lnTo>
                      <a:lnTo>
                        <a:pt x="277" y="7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blipFill rotWithShape="0">
                  <a:blip r:embed="rId27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66"/>
                <p:cNvSpPr/>
                <p:nvPr/>
              </p:nvSpPr>
              <p:spPr>
                <a:xfrm>
                  <a:off x="4066560" y="4054320"/>
                  <a:ext cx="1440000" cy="1095120"/>
                </a:xfrm>
                <a:custGeom>
                  <a:avLst/>
                  <a:gdLst>
                    <a:gd name="textAreaLeft" fmla="*/ 0 w 1440000"/>
                    <a:gd name="textAreaRight" fmla="*/ 1440360 w 1440000"/>
                    <a:gd name="textAreaTop" fmla="*/ 0 h 1095120"/>
                    <a:gd name="textAreaBottom" fmla="*/ 1095480 h 109512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67"/>
                <p:cNvSpPr/>
                <p:nvPr/>
              </p:nvSpPr>
              <p:spPr>
                <a:xfrm>
                  <a:off x="4375800" y="4246200"/>
                  <a:ext cx="1027440" cy="79416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794160"/>
                    <a:gd name="textAreaBottom" fmla="*/ 794520 h 794160"/>
                  </a:gdLst>
                  <a:ahLst/>
                  <a:rect l="textAreaLeft" t="textAreaTop" r="textAreaRight" b="textAreaBottom"/>
                  <a:pathLst>
                    <a:path w="461" h="348">
                      <a:moveTo>
                        <a:pt x="327" y="0"/>
                      </a:moveTo>
                      <a:lnTo>
                        <a:pt x="369" y="74"/>
                      </a:lnTo>
                      <a:lnTo>
                        <a:pt x="461" y="129"/>
                      </a:lnTo>
                      <a:lnTo>
                        <a:pt x="461" y="238"/>
                      </a:lnTo>
                      <a:lnTo>
                        <a:pt x="323" y="238"/>
                      </a:lnTo>
                      <a:lnTo>
                        <a:pt x="231" y="293"/>
                      </a:lnTo>
                      <a:lnTo>
                        <a:pt x="92" y="348"/>
                      </a:lnTo>
                      <a:lnTo>
                        <a:pt x="0" y="238"/>
                      </a:lnTo>
                      <a:lnTo>
                        <a:pt x="92" y="183"/>
                      </a:lnTo>
                      <a:lnTo>
                        <a:pt x="138" y="129"/>
                      </a:lnTo>
                      <a:lnTo>
                        <a:pt x="231" y="129"/>
                      </a:lnTo>
                      <a:lnTo>
                        <a:pt x="277" y="19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blipFill rotWithShape="0">
                  <a:blip r:embed="rId28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Group 138"/>
                <p:cNvGrpSpPr/>
                <p:nvPr/>
              </p:nvGrpSpPr>
              <p:grpSpPr>
                <a:xfrm>
                  <a:off x="3665880" y="4273200"/>
                  <a:ext cx="198360" cy="437760"/>
                  <a:chOff x="3665880" y="4273200"/>
                  <a:chExt cx="198360" cy="437760"/>
                </a:xfrm>
              </p:grpSpPr>
              <p:sp>
                <p:nvSpPr>
                  <p:cNvPr id="544" name="Freeform 139"/>
                  <p:cNvSpPr/>
                  <p:nvPr/>
                </p:nvSpPr>
                <p:spPr>
                  <a:xfrm>
                    <a:off x="3665880" y="4382640"/>
                    <a:ext cx="198360" cy="328320"/>
                  </a:xfrm>
                  <a:custGeom>
                    <a:avLst/>
                    <a:gdLst>
                      <a:gd name="textAreaLeft" fmla="*/ 0 w 198360"/>
                      <a:gd name="textAreaRight" fmla="*/ 198720 w 198360"/>
                      <a:gd name="textAreaTop" fmla="*/ 0 h 328320"/>
                      <a:gd name="textAreaBottom" fmla="*/ 328680 h 328320"/>
                    </a:gdLst>
                    <a:ahLst/>
                    <a:rect l="textAreaLeft" t="textAreaTop" r="textAreaRight" b="textAreaBottom"/>
                    <a:pathLst>
                      <a:path w="375" h="294">
                        <a:moveTo>
                          <a:pt x="136" y="88"/>
                        </a:moveTo>
                        <a:lnTo>
                          <a:pt x="94" y="179"/>
                        </a:lnTo>
                        <a:lnTo>
                          <a:pt x="0" y="291"/>
                        </a:lnTo>
                        <a:lnTo>
                          <a:pt x="87" y="288"/>
                        </a:lnTo>
                        <a:lnTo>
                          <a:pt x="141" y="267"/>
                        </a:lnTo>
                        <a:lnTo>
                          <a:pt x="183" y="258"/>
                        </a:lnTo>
                        <a:lnTo>
                          <a:pt x="228" y="270"/>
                        </a:lnTo>
                        <a:lnTo>
                          <a:pt x="309" y="294"/>
                        </a:lnTo>
                        <a:lnTo>
                          <a:pt x="375" y="294"/>
                        </a:lnTo>
                        <a:lnTo>
                          <a:pt x="278" y="176"/>
                        </a:lnTo>
                        <a:lnTo>
                          <a:pt x="238" y="88"/>
                        </a:lnTo>
                        <a:lnTo>
                          <a:pt x="198" y="0"/>
                        </a:lnTo>
                        <a:lnTo>
                          <a:pt x="176" y="3"/>
                        </a:lnTo>
                        <a:lnTo>
                          <a:pt x="136" y="88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Freeform 140"/>
                  <p:cNvSpPr/>
                  <p:nvPr/>
                </p:nvSpPr>
                <p:spPr>
                  <a:xfrm>
                    <a:off x="3684960" y="4325400"/>
                    <a:ext cx="148680" cy="260640"/>
                  </a:xfrm>
                  <a:custGeom>
                    <a:avLst/>
                    <a:gdLst>
                      <a:gd name="textAreaLeft" fmla="*/ 0 w 148680"/>
                      <a:gd name="textAreaRight" fmla="*/ 149040 w 148680"/>
                      <a:gd name="textAreaTop" fmla="*/ 0 h 260640"/>
                      <a:gd name="textAreaBottom" fmla="*/ 261000 h 26064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30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Freeform 141"/>
                  <p:cNvSpPr/>
                  <p:nvPr/>
                </p:nvSpPr>
                <p:spPr>
                  <a:xfrm>
                    <a:off x="3706200" y="4273200"/>
                    <a:ext cx="106560" cy="16704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167040"/>
                      <a:gd name="textAreaBottom" fmla="*/ 167400 h 16704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31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7" name="Group 144"/>
              <p:cNvGrpSpPr/>
              <p:nvPr/>
            </p:nvGrpSpPr>
            <p:grpSpPr>
              <a:xfrm>
                <a:off x="3642840" y="4464000"/>
                <a:ext cx="1524960" cy="1103760"/>
                <a:chOff x="3642840" y="4464000"/>
                <a:chExt cx="1524960" cy="1103760"/>
              </a:xfrm>
            </p:grpSpPr>
            <p:sp>
              <p:nvSpPr>
                <p:cNvPr id="548" name="Freeform 145"/>
                <p:cNvSpPr/>
                <p:nvPr/>
              </p:nvSpPr>
              <p:spPr>
                <a:xfrm flipH="1">
                  <a:off x="3642840" y="4854240"/>
                  <a:ext cx="1431360" cy="713520"/>
                </a:xfrm>
                <a:custGeom>
                  <a:avLst/>
                  <a:gdLst>
                    <a:gd name="textAreaLeft" fmla="*/ 360 w 1431360"/>
                    <a:gd name="textAreaRight" fmla="*/ 1432080 w 1431360"/>
                    <a:gd name="textAreaTop" fmla="*/ 0 h 713520"/>
                    <a:gd name="textAreaBottom" fmla="*/ 713880 h 713520"/>
                  </a:gdLst>
                  <a:ahLst/>
                  <a:rect l="textAreaLeft" t="textAreaTop" r="textAreaRight" b="textAreaBottom"/>
                  <a:pathLst>
                    <a:path w="1730" h="720">
                      <a:moveTo>
                        <a:pt x="1659" y="602"/>
                      </a:moveTo>
                      <a:cubicBezTo>
                        <a:pt x="1651" y="622"/>
                        <a:pt x="1594" y="617"/>
                        <a:pt x="1575" y="630"/>
                      </a:cubicBezTo>
                      <a:cubicBezTo>
                        <a:pt x="1548" y="649"/>
                        <a:pt x="1571" y="686"/>
                        <a:pt x="1550" y="691"/>
                      </a:cubicBezTo>
                      <a:cubicBezTo>
                        <a:pt x="1510" y="705"/>
                        <a:pt x="1436" y="696"/>
                        <a:pt x="1398" y="699"/>
                      </a:cubicBezTo>
                      <a:cubicBezTo>
                        <a:pt x="1360" y="702"/>
                        <a:pt x="1347" y="710"/>
                        <a:pt x="1324" y="709"/>
                      </a:cubicBezTo>
                      <a:cubicBezTo>
                        <a:pt x="1289" y="719"/>
                        <a:pt x="1290" y="692"/>
                        <a:pt x="1253" y="696"/>
                      </a:cubicBezTo>
                      <a:cubicBezTo>
                        <a:pt x="1170" y="694"/>
                        <a:pt x="1081" y="715"/>
                        <a:pt x="998" y="709"/>
                      </a:cubicBezTo>
                      <a:cubicBezTo>
                        <a:pt x="915" y="697"/>
                        <a:pt x="836" y="720"/>
                        <a:pt x="750" y="713"/>
                      </a:cubicBezTo>
                      <a:cubicBezTo>
                        <a:pt x="710" y="705"/>
                        <a:pt x="673" y="688"/>
                        <a:pt x="633" y="679"/>
                      </a:cubicBezTo>
                      <a:cubicBezTo>
                        <a:pt x="619" y="676"/>
                        <a:pt x="603" y="678"/>
                        <a:pt x="589" y="672"/>
                      </a:cubicBezTo>
                      <a:cubicBezTo>
                        <a:pt x="556" y="657"/>
                        <a:pt x="527" y="641"/>
                        <a:pt x="492" y="628"/>
                      </a:cubicBezTo>
                      <a:cubicBezTo>
                        <a:pt x="481" y="623"/>
                        <a:pt x="482" y="626"/>
                        <a:pt x="468" y="622"/>
                      </a:cubicBezTo>
                      <a:cubicBezTo>
                        <a:pt x="417" y="607"/>
                        <a:pt x="323" y="613"/>
                        <a:pt x="273" y="596"/>
                      </a:cubicBezTo>
                      <a:cubicBezTo>
                        <a:pt x="230" y="580"/>
                        <a:pt x="235" y="569"/>
                        <a:pt x="196" y="552"/>
                      </a:cubicBezTo>
                      <a:cubicBezTo>
                        <a:pt x="184" y="547"/>
                        <a:pt x="149" y="524"/>
                        <a:pt x="136" y="520"/>
                      </a:cubicBezTo>
                      <a:cubicBezTo>
                        <a:pt x="117" y="509"/>
                        <a:pt x="112" y="473"/>
                        <a:pt x="89" y="467"/>
                      </a:cubicBezTo>
                      <a:cubicBezTo>
                        <a:pt x="75" y="457"/>
                        <a:pt x="30" y="443"/>
                        <a:pt x="17" y="432"/>
                      </a:cubicBezTo>
                      <a:cubicBezTo>
                        <a:pt x="0" y="420"/>
                        <a:pt x="20" y="399"/>
                        <a:pt x="13" y="382"/>
                      </a:cubicBezTo>
                      <a:cubicBezTo>
                        <a:pt x="16" y="311"/>
                        <a:pt x="2" y="283"/>
                        <a:pt x="49" y="236"/>
                      </a:cubicBezTo>
                      <a:cubicBezTo>
                        <a:pt x="65" y="199"/>
                        <a:pt x="55" y="169"/>
                        <a:pt x="101" y="152"/>
                      </a:cubicBezTo>
                      <a:cubicBezTo>
                        <a:pt x="123" y="135"/>
                        <a:pt x="162" y="139"/>
                        <a:pt x="180" y="135"/>
                      </a:cubicBezTo>
                      <a:cubicBezTo>
                        <a:pt x="189" y="131"/>
                        <a:pt x="210" y="127"/>
                        <a:pt x="210" y="127"/>
                      </a:cubicBezTo>
                      <a:cubicBezTo>
                        <a:pt x="241" y="95"/>
                        <a:pt x="294" y="90"/>
                        <a:pt x="341" y="78"/>
                      </a:cubicBezTo>
                      <a:cubicBezTo>
                        <a:pt x="360" y="73"/>
                        <a:pt x="379" y="63"/>
                        <a:pt x="399" y="59"/>
                      </a:cubicBezTo>
                      <a:cubicBezTo>
                        <a:pt x="461" y="49"/>
                        <a:pt x="409" y="62"/>
                        <a:pt x="448" y="54"/>
                      </a:cubicBezTo>
                      <a:cubicBezTo>
                        <a:pt x="465" y="51"/>
                        <a:pt x="479" y="42"/>
                        <a:pt x="496" y="39"/>
                      </a:cubicBezTo>
                      <a:cubicBezTo>
                        <a:pt x="531" y="34"/>
                        <a:pt x="574" y="24"/>
                        <a:pt x="610" y="23"/>
                      </a:cubicBezTo>
                      <a:cubicBezTo>
                        <a:pt x="648" y="22"/>
                        <a:pt x="686" y="21"/>
                        <a:pt x="724" y="20"/>
                      </a:cubicBezTo>
                      <a:cubicBezTo>
                        <a:pt x="771" y="9"/>
                        <a:pt x="823" y="13"/>
                        <a:pt x="871" y="11"/>
                      </a:cubicBezTo>
                      <a:cubicBezTo>
                        <a:pt x="925" y="0"/>
                        <a:pt x="945" y="7"/>
                        <a:pt x="1019" y="8"/>
                      </a:cubicBezTo>
                      <a:cubicBezTo>
                        <a:pt x="1046" y="15"/>
                        <a:pt x="1078" y="16"/>
                        <a:pt x="1106" y="20"/>
                      </a:cubicBezTo>
                      <a:cubicBezTo>
                        <a:pt x="1126" y="26"/>
                        <a:pt x="1144" y="36"/>
                        <a:pt x="1163" y="42"/>
                      </a:cubicBezTo>
                      <a:cubicBezTo>
                        <a:pt x="1195" y="50"/>
                        <a:pt x="1233" y="51"/>
                        <a:pt x="1264" y="62"/>
                      </a:cubicBezTo>
                      <a:cubicBezTo>
                        <a:pt x="1284" y="69"/>
                        <a:pt x="1300" y="80"/>
                        <a:pt x="1321" y="85"/>
                      </a:cubicBezTo>
                      <a:cubicBezTo>
                        <a:pt x="1340" y="100"/>
                        <a:pt x="1366" y="107"/>
                        <a:pt x="1385" y="121"/>
                      </a:cubicBezTo>
                      <a:cubicBezTo>
                        <a:pt x="1409" y="140"/>
                        <a:pt x="1437" y="160"/>
                        <a:pt x="1465" y="175"/>
                      </a:cubicBezTo>
                      <a:cubicBezTo>
                        <a:pt x="1475" y="190"/>
                        <a:pt x="1492" y="210"/>
                        <a:pt x="1509" y="220"/>
                      </a:cubicBezTo>
                      <a:cubicBezTo>
                        <a:pt x="1515" y="247"/>
                        <a:pt x="1544" y="273"/>
                        <a:pt x="1566" y="295"/>
                      </a:cubicBezTo>
                      <a:cubicBezTo>
                        <a:pt x="1571" y="299"/>
                        <a:pt x="1573" y="307"/>
                        <a:pt x="1579" y="310"/>
                      </a:cubicBezTo>
                      <a:cubicBezTo>
                        <a:pt x="1592" y="316"/>
                        <a:pt x="1597" y="326"/>
                        <a:pt x="1609" y="333"/>
                      </a:cubicBezTo>
                      <a:cubicBezTo>
                        <a:pt x="1615" y="337"/>
                        <a:pt x="1629" y="344"/>
                        <a:pt x="1629" y="344"/>
                      </a:cubicBezTo>
                      <a:cubicBezTo>
                        <a:pt x="1636" y="351"/>
                        <a:pt x="1643" y="359"/>
                        <a:pt x="1650" y="367"/>
                      </a:cubicBezTo>
                      <a:cubicBezTo>
                        <a:pt x="1652" y="369"/>
                        <a:pt x="1657" y="375"/>
                        <a:pt x="1657" y="375"/>
                      </a:cubicBezTo>
                      <a:cubicBezTo>
                        <a:pt x="1662" y="394"/>
                        <a:pt x="1675" y="420"/>
                        <a:pt x="1693" y="434"/>
                      </a:cubicBezTo>
                      <a:cubicBezTo>
                        <a:pt x="1697" y="444"/>
                        <a:pt x="1677" y="446"/>
                        <a:pt x="1684" y="454"/>
                      </a:cubicBezTo>
                      <a:cubicBezTo>
                        <a:pt x="1694" y="481"/>
                        <a:pt x="1710" y="455"/>
                        <a:pt x="1724" y="478"/>
                      </a:cubicBezTo>
                      <a:cubicBezTo>
                        <a:pt x="1726" y="483"/>
                        <a:pt x="1730" y="493"/>
                        <a:pt x="1730" y="493"/>
                      </a:cubicBezTo>
                      <a:cubicBezTo>
                        <a:pt x="1728" y="516"/>
                        <a:pt x="1723" y="496"/>
                        <a:pt x="1712" y="530"/>
                      </a:cubicBezTo>
                      <a:cubicBezTo>
                        <a:pt x="1708" y="540"/>
                        <a:pt x="1695" y="588"/>
                        <a:pt x="1683" y="594"/>
                      </a:cubicBezTo>
                      <a:cubicBezTo>
                        <a:pt x="1675" y="613"/>
                        <a:pt x="1683" y="609"/>
                        <a:pt x="1663" y="613"/>
                      </a:cubicBezTo>
                      <a:cubicBezTo>
                        <a:pt x="1651" y="618"/>
                        <a:pt x="1656" y="615"/>
                        <a:pt x="1650" y="620"/>
                      </a:cubicBezTo>
                      <a:cubicBezTo>
                        <a:pt x="1650" y="620"/>
                        <a:pt x="1659" y="602"/>
                        <a:pt x="1659" y="602"/>
                      </a:cubicBezTo>
                      <a:close/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147"/>
                <p:cNvSpPr/>
                <p:nvPr/>
              </p:nvSpPr>
              <p:spPr>
                <a:xfrm flipH="1">
                  <a:off x="4006080" y="4920480"/>
                  <a:ext cx="838440" cy="280800"/>
                </a:xfrm>
                <a:custGeom>
                  <a:avLst/>
                  <a:gdLst>
                    <a:gd name="textAreaLeft" fmla="*/ -360 w 838440"/>
                    <a:gd name="textAreaRight" fmla="*/ 838440 w 83844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/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148"/>
                <p:cNvSpPr/>
                <p:nvPr/>
              </p:nvSpPr>
              <p:spPr>
                <a:xfrm>
                  <a:off x="4865400" y="4788000"/>
                  <a:ext cx="123840" cy="2782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278280"/>
                    <a:gd name="textAreaBottom" fmla="*/ 278640 h 27828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1" name="Group 149"/>
                <p:cNvGrpSpPr/>
                <p:nvPr/>
              </p:nvGrpSpPr>
              <p:grpSpPr>
                <a:xfrm>
                  <a:off x="3827880" y="4464000"/>
                  <a:ext cx="580680" cy="825480"/>
                  <a:chOff x="3827880" y="4464000"/>
                  <a:chExt cx="580680" cy="825480"/>
                </a:xfrm>
              </p:grpSpPr>
              <p:sp>
                <p:nvSpPr>
                  <p:cNvPr id="552" name="Freeform 150"/>
                  <p:cNvSpPr/>
                  <p:nvPr/>
                </p:nvSpPr>
                <p:spPr>
                  <a:xfrm flipH="1">
                    <a:off x="3929040" y="4651560"/>
                    <a:ext cx="378720" cy="637920"/>
                  </a:xfrm>
                  <a:custGeom>
                    <a:avLst/>
                    <a:gdLst>
                      <a:gd name="textAreaLeft" fmla="*/ 360 w 378720"/>
                      <a:gd name="textAreaRight" fmla="*/ 379440 w 378720"/>
                      <a:gd name="textAreaTop" fmla="*/ 0 h 637920"/>
                      <a:gd name="textAreaBottom" fmla="*/ 638280 h 63792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33">
                      <a:alphaModFix amt="90000"/>
                    </a:blip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Freeform 151"/>
                  <p:cNvSpPr/>
                  <p:nvPr/>
                </p:nvSpPr>
                <p:spPr>
                  <a:xfrm flipH="1">
                    <a:off x="3827520" y="4464000"/>
                    <a:ext cx="580680" cy="675360"/>
                  </a:xfrm>
                  <a:custGeom>
                    <a:avLst/>
                    <a:gdLst>
                      <a:gd name="textAreaLeft" fmla="*/ -360 w 580680"/>
                      <a:gd name="textAreaRight" fmla="*/ 580680 w 580680"/>
                      <a:gd name="textAreaTop" fmla="*/ 0 h 675360"/>
                      <a:gd name="textAreaBottom" fmla="*/ 675720 h 67536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34">
                      <a:alphaModFix amt="90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Oval 152"/>
                  <p:cNvSpPr/>
                  <p:nvPr/>
                </p:nvSpPr>
                <p:spPr>
                  <a:xfrm flipH="1">
                    <a:off x="4307760" y="491400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Oval 153"/>
                  <p:cNvSpPr/>
                  <p:nvPr/>
                </p:nvSpPr>
                <p:spPr>
                  <a:xfrm flipH="1">
                    <a:off x="4029840" y="487656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Oval 154"/>
                  <p:cNvSpPr/>
                  <p:nvPr/>
                </p:nvSpPr>
                <p:spPr>
                  <a:xfrm flipH="1">
                    <a:off x="4206600" y="4839120"/>
                    <a:ext cx="24840" cy="3708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Oval 155"/>
                  <p:cNvSpPr/>
                  <p:nvPr/>
                </p:nvSpPr>
                <p:spPr>
                  <a:xfrm flipH="1">
                    <a:off x="4282560" y="4989240"/>
                    <a:ext cx="2484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Oval 156"/>
                  <p:cNvSpPr/>
                  <p:nvPr/>
                </p:nvSpPr>
                <p:spPr>
                  <a:xfrm flipH="1">
                    <a:off x="3929040" y="5026680"/>
                    <a:ext cx="25200" cy="3744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9" name="Group 157"/>
                <p:cNvGrpSpPr/>
                <p:nvPr/>
              </p:nvGrpSpPr>
              <p:grpSpPr>
                <a:xfrm>
                  <a:off x="4408920" y="4464000"/>
                  <a:ext cx="357120" cy="541800"/>
                  <a:chOff x="4408920" y="4464000"/>
                  <a:chExt cx="357120" cy="541800"/>
                </a:xfrm>
              </p:grpSpPr>
              <p:sp>
                <p:nvSpPr>
                  <p:cNvPr id="560" name="Freeform 158"/>
                  <p:cNvSpPr/>
                  <p:nvPr/>
                </p:nvSpPr>
                <p:spPr>
                  <a:xfrm>
                    <a:off x="4470840" y="4587120"/>
                    <a:ext cx="232920" cy="418680"/>
                  </a:xfrm>
                  <a:custGeom>
                    <a:avLst/>
                    <a:gdLst>
                      <a:gd name="textAreaLeft" fmla="*/ 0 w 232920"/>
                      <a:gd name="textAreaRight" fmla="*/ 233280 w 232920"/>
                      <a:gd name="textAreaTop" fmla="*/ 0 h 418680"/>
                      <a:gd name="textAreaBottom" fmla="*/ 419040 h 41868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Freeform 159"/>
                  <p:cNvSpPr/>
                  <p:nvPr/>
                </p:nvSpPr>
                <p:spPr>
                  <a:xfrm>
                    <a:off x="4408920" y="4464000"/>
                    <a:ext cx="357120" cy="4431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43160"/>
                      <a:gd name="textAreaBottom" fmla="*/ 443520 h 44316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36">
                      <a:alphaModFix amt="45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Oval 160"/>
                  <p:cNvSpPr/>
                  <p:nvPr/>
                </p:nvSpPr>
                <p:spPr>
                  <a:xfrm>
                    <a:off x="4455360" y="475956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Oval 161"/>
                  <p:cNvSpPr/>
                  <p:nvPr/>
                </p:nvSpPr>
                <p:spPr>
                  <a:xfrm>
                    <a:off x="4626360" y="473472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Oval 162"/>
                  <p:cNvSpPr/>
                  <p:nvPr/>
                </p:nvSpPr>
                <p:spPr>
                  <a:xfrm>
                    <a:off x="4517640" y="471024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Oval 163"/>
                  <p:cNvSpPr/>
                  <p:nvPr/>
                </p:nvSpPr>
                <p:spPr>
                  <a:xfrm>
                    <a:off x="4470840" y="480852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Oval 164"/>
                  <p:cNvSpPr/>
                  <p:nvPr/>
                </p:nvSpPr>
                <p:spPr>
                  <a:xfrm>
                    <a:off x="4688640" y="4833360"/>
                    <a:ext cx="15480" cy="2448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7" name="Freeform 165"/>
                <p:cNvSpPr/>
                <p:nvPr/>
              </p:nvSpPr>
              <p:spPr>
                <a:xfrm flipH="1">
                  <a:off x="4933800" y="4982760"/>
                  <a:ext cx="233640" cy="453960"/>
                </a:xfrm>
                <a:custGeom>
                  <a:avLst/>
                  <a:gdLst>
                    <a:gd name="textAreaLeft" fmla="*/ -360 w 233640"/>
                    <a:gd name="textAreaRight" fmla="*/ 233640 w 23364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8" name="Group 166"/>
                <p:cNvGrpSpPr/>
                <p:nvPr/>
              </p:nvGrpSpPr>
              <p:grpSpPr>
                <a:xfrm>
                  <a:off x="4577040" y="4930920"/>
                  <a:ext cx="263160" cy="352080"/>
                  <a:chOff x="4577040" y="4930920"/>
                  <a:chExt cx="263160" cy="352080"/>
                </a:xfrm>
              </p:grpSpPr>
              <p:sp>
                <p:nvSpPr>
                  <p:cNvPr id="569" name="Freeform 167"/>
                  <p:cNvSpPr/>
                  <p:nvPr/>
                </p:nvSpPr>
                <p:spPr>
                  <a:xfrm rot="1243200">
                    <a:off x="4686120" y="4937400"/>
                    <a:ext cx="98280" cy="33048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330480"/>
                      <a:gd name="textAreaBottom" fmla="*/ 330840 h 330480"/>
                    </a:gdLst>
                    <a:ahLst/>
                    <a:rect l="textAreaLeft" t="textAreaTop" r="textAreaRight" b="textAreaBottom"/>
                    <a:pathLst>
                      <a:path w="176" h="306">
                        <a:moveTo>
                          <a:pt x="0" y="306"/>
                        </a:moveTo>
                        <a:lnTo>
                          <a:pt x="30" y="59"/>
                        </a:lnTo>
                        <a:lnTo>
                          <a:pt x="40" y="64"/>
                        </a:lnTo>
                        <a:lnTo>
                          <a:pt x="68" y="24"/>
                        </a:lnTo>
                        <a:lnTo>
                          <a:pt x="102" y="0"/>
                        </a:lnTo>
                        <a:lnTo>
                          <a:pt x="146" y="5"/>
                        </a:lnTo>
                        <a:lnTo>
                          <a:pt x="176" y="69"/>
                        </a:lnTo>
                        <a:lnTo>
                          <a:pt x="146" y="31"/>
                        </a:lnTo>
                        <a:lnTo>
                          <a:pt x="110" y="28"/>
                        </a:lnTo>
                        <a:lnTo>
                          <a:pt x="84" y="36"/>
                        </a:lnTo>
                        <a:lnTo>
                          <a:pt x="42" y="126"/>
                        </a:lnTo>
                        <a:lnTo>
                          <a:pt x="22" y="232"/>
                        </a:lnTo>
                        <a:lnTo>
                          <a:pt x="10" y="292"/>
                        </a:lnTo>
                        <a:lnTo>
                          <a:pt x="0" y="306"/>
                        </a:lnTo>
                        <a:close/>
                      </a:path>
                    </a:pathLst>
                  </a:custGeom>
                  <a:blipFill rotWithShape="0">
                    <a:blip r:embed="rId37"/>
                    <a:srcRect/>
                    <a:stretch/>
                  </a:blipFill>
                  <a:ln cap="rnd" w="9360">
                    <a:solidFill>
                      <a:srgbClr val="008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Freeform 168"/>
                  <p:cNvSpPr/>
                  <p:nvPr/>
                </p:nvSpPr>
                <p:spPr>
                  <a:xfrm rot="429600">
                    <a:off x="4595400" y="4964040"/>
                    <a:ext cx="133920" cy="311760"/>
                  </a:xfrm>
                  <a:custGeom>
                    <a:avLst/>
                    <a:gdLst>
                      <a:gd name="textAreaLeft" fmla="*/ 0 w 133920"/>
                      <a:gd name="textAreaRight" fmla="*/ 134280 w 133920"/>
                      <a:gd name="textAreaTop" fmla="*/ 0 h 311760"/>
                      <a:gd name="textAreaBottom" fmla="*/ 312120 h 3117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81600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1" name="Freeform 169"/>
                <p:cNvSpPr/>
                <p:nvPr/>
              </p:nvSpPr>
              <p:spPr>
                <a:xfrm>
                  <a:off x="4100760" y="5077440"/>
                  <a:ext cx="614160" cy="22140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69019"/>
                      </a:srgbClr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>
                      <a:alpha val="2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82"/>
              <p:cNvGrpSpPr/>
              <p:nvPr/>
            </p:nvGrpSpPr>
            <p:grpSpPr>
              <a:xfrm>
                <a:off x="5058000" y="3786120"/>
                <a:ext cx="2986200" cy="1752840"/>
                <a:chOff x="5058000" y="3786120"/>
                <a:chExt cx="2986200" cy="1752840"/>
              </a:xfrm>
            </p:grpSpPr>
            <p:grpSp>
              <p:nvGrpSpPr>
                <p:cNvPr id="573" name="Group 83"/>
                <p:cNvGrpSpPr/>
                <p:nvPr/>
              </p:nvGrpSpPr>
              <p:grpSpPr>
                <a:xfrm>
                  <a:off x="5058720" y="3786120"/>
                  <a:ext cx="2612520" cy="1679400"/>
                  <a:chOff x="5058720" y="3786120"/>
                  <a:chExt cx="2612520" cy="1679400"/>
                </a:xfrm>
              </p:grpSpPr>
              <p:grpSp>
                <p:nvGrpSpPr>
                  <p:cNvPr id="574" name="Group 84"/>
                  <p:cNvGrpSpPr/>
                  <p:nvPr/>
                </p:nvGrpSpPr>
                <p:grpSpPr>
                  <a:xfrm>
                    <a:off x="7068600" y="4297680"/>
                    <a:ext cx="502560" cy="716400"/>
                    <a:chOff x="7068600" y="4297680"/>
                    <a:chExt cx="502560" cy="716400"/>
                  </a:xfrm>
                </p:grpSpPr>
                <p:sp>
                  <p:nvSpPr>
                    <p:cNvPr id="575" name="Rectangle 85"/>
                    <p:cNvSpPr/>
                    <p:nvPr/>
                  </p:nvSpPr>
                  <p:spPr>
                    <a:xfrm flipH="1">
                      <a:off x="7278480" y="4887720"/>
                      <a:ext cx="83520" cy="126360"/>
                    </a:xfrm>
                    <a:prstGeom prst="rect">
                      <a:avLst/>
                    </a:pr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6" name="Group 86"/>
                    <p:cNvGrpSpPr/>
                    <p:nvPr/>
                  </p:nvGrpSpPr>
                  <p:grpSpPr>
                    <a:xfrm>
                      <a:off x="7068600" y="4297680"/>
                      <a:ext cx="502560" cy="631800"/>
                      <a:chOff x="7068600" y="4297680"/>
                      <a:chExt cx="502560" cy="631800"/>
                    </a:xfrm>
                  </p:grpSpPr>
                  <p:sp>
                    <p:nvSpPr>
                      <p:cNvPr id="577" name="Freeform 87"/>
                      <p:cNvSpPr/>
                      <p:nvPr/>
                    </p:nvSpPr>
                    <p:spPr>
                      <a:xfrm flipH="1">
                        <a:off x="7068600" y="4508280"/>
                        <a:ext cx="502560" cy="421200"/>
                      </a:xfrm>
                      <a:custGeom>
                        <a:avLst/>
                        <a:gdLst>
                          <a:gd name="textAreaLeft" fmla="*/ 360 w 502560"/>
                          <a:gd name="textAreaRight" fmla="*/ 503280 w 502560"/>
                          <a:gd name="textAreaTop" fmla="*/ 0 h 421200"/>
                          <a:gd name="textAreaBottom" fmla="*/ 421560 h 42120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39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" name="Freeform 88"/>
                      <p:cNvSpPr/>
                      <p:nvPr/>
                    </p:nvSpPr>
                    <p:spPr>
                      <a:xfrm flipH="1">
                        <a:off x="7124400" y="4437720"/>
                        <a:ext cx="390960" cy="280800"/>
                      </a:xfrm>
                      <a:custGeom>
                        <a:avLst/>
                        <a:gdLst>
                          <a:gd name="textAreaLeft" fmla="*/ 360 w 390960"/>
                          <a:gd name="textAreaRight" fmla="*/ 391680 w 390960"/>
                          <a:gd name="textAreaTop" fmla="*/ 0 h 280800"/>
                          <a:gd name="textAreaBottom" fmla="*/ 281160 h 28080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40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9" name="Freeform 89"/>
                      <p:cNvSpPr/>
                      <p:nvPr/>
                    </p:nvSpPr>
                    <p:spPr>
                      <a:xfrm flipH="1">
                        <a:off x="7180200" y="4297680"/>
                        <a:ext cx="279000" cy="280440"/>
                      </a:xfrm>
                      <a:custGeom>
                        <a:avLst/>
                        <a:gdLst>
                          <a:gd name="textAreaLeft" fmla="*/ -360 w 279000"/>
                          <a:gd name="textAreaRight" fmla="*/ 279000 w 279000"/>
                          <a:gd name="textAreaTop" fmla="*/ 0 h 280440"/>
                          <a:gd name="textAreaBottom" fmla="*/ 280800 h 28044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41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80" name="Group 90"/>
                  <p:cNvGrpSpPr/>
                  <p:nvPr/>
                </p:nvGrpSpPr>
                <p:grpSpPr>
                  <a:xfrm>
                    <a:off x="5251680" y="4502160"/>
                    <a:ext cx="2419560" cy="963360"/>
                    <a:chOff x="5251680" y="4502160"/>
                    <a:chExt cx="2419560" cy="963360"/>
                  </a:xfrm>
                </p:grpSpPr>
                <p:sp>
                  <p:nvSpPr>
                    <p:cNvPr id="581" name="Freeform 91"/>
                    <p:cNvSpPr/>
                    <p:nvPr/>
                  </p:nvSpPr>
                  <p:spPr>
                    <a:xfrm flipH="1">
                      <a:off x="5251320" y="4502160"/>
                      <a:ext cx="2419560" cy="946800"/>
                    </a:xfrm>
                    <a:custGeom>
                      <a:avLst/>
                      <a:gdLst>
                        <a:gd name="textAreaLeft" fmla="*/ -360 w 2419560"/>
                        <a:gd name="textAreaRight" fmla="*/ 2419560 w 2419560"/>
                        <a:gd name="textAreaTop" fmla="*/ 0 h 946800"/>
                        <a:gd name="textAreaBottom" fmla="*/ 947160 h 94680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42">
                        <a:alphaModFix amt="92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Freeform 92"/>
                    <p:cNvSpPr/>
                    <p:nvPr/>
                  </p:nvSpPr>
                  <p:spPr>
                    <a:xfrm flipH="1">
                      <a:off x="5251320" y="4604400"/>
                      <a:ext cx="2419560" cy="861120"/>
                    </a:xfrm>
                    <a:custGeom>
                      <a:avLst/>
                      <a:gdLst>
                        <a:gd name="textAreaLeft" fmla="*/ -360 w 2419560"/>
                        <a:gd name="textAreaRight" fmla="*/ 2419560 w 2419560"/>
                        <a:gd name="textAreaTop" fmla="*/ 0 h 861120"/>
                        <a:gd name="textAreaBottom" fmla="*/ 861480 h 86112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43">
                        <a:alphaModFix amt="54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3" name="Freeform 93"/>
                  <p:cNvSpPr/>
                  <p:nvPr/>
                </p:nvSpPr>
                <p:spPr>
                  <a:xfrm>
                    <a:off x="7068960" y="4809240"/>
                    <a:ext cx="201240" cy="311400"/>
                  </a:xfrm>
                  <a:custGeom>
                    <a:avLst/>
                    <a:gdLst>
                      <a:gd name="textAreaLeft" fmla="*/ 0 w 201240"/>
                      <a:gd name="textAreaRight" fmla="*/ 201600 w 20124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4" name="Group 94"/>
                  <p:cNvGrpSpPr/>
                  <p:nvPr/>
                </p:nvGrpSpPr>
                <p:grpSpPr>
                  <a:xfrm>
                    <a:off x="5661720" y="3888000"/>
                    <a:ext cx="703440" cy="716400"/>
                    <a:chOff x="5661720" y="3888000"/>
                    <a:chExt cx="703440" cy="716400"/>
                  </a:xfrm>
                </p:grpSpPr>
                <p:sp>
                  <p:nvSpPr>
                    <p:cNvPr id="585" name="Freeform 95"/>
                    <p:cNvSpPr/>
                    <p:nvPr/>
                  </p:nvSpPr>
                  <p:spPr>
                    <a:xfrm flipH="1">
                      <a:off x="5784120" y="4050720"/>
                      <a:ext cx="458640" cy="553680"/>
                    </a:xfrm>
                    <a:custGeom>
                      <a:avLst/>
                      <a:gdLst>
                        <a:gd name="textAreaLeft" fmla="*/ 360 w 458640"/>
                        <a:gd name="textAreaRight" fmla="*/ 459360 w 458640"/>
                        <a:gd name="textAreaTop" fmla="*/ 0 h 553680"/>
                        <a:gd name="textAreaBottom" fmla="*/ 554040 h 55368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4">
                        <a:alphaModFix amt="90000"/>
                      </a:blip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Freeform 96"/>
                    <p:cNvSpPr/>
                    <p:nvPr/>
                  </p:nvSpPr>
                  <p:spPr>
                    <a:xfrm flipH="1">
                      <a:off x="5661720" y="3888000"/>
                      <a:ext cx="703440" cy="586080"/>
                    </a:xfrm>
                    <a:custGeom>
                      <a:avLst/>
                      <a:gdLst>
                        <a:gd name="textAreaLeft" fmla="*/ 360 w 703440"/>
                        <a:gd name="textAreaRight" fmla="*/ 704160 w 703440"/>
                        <a:gd name="textAreaTop" fmla="*/ 0 h 586080"/>
                        <a:gd name="textAreaBottom" fmla="*/ 586440 h 58608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5">
                        <a:alphaModFix amt="90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Oval 97"/>
                    <p:cNvSpPr/>
                    <p:nvPr/>
                  </p:nvSpPr>
                  <p:spPr>
                    <a:xfrm flipH="1">
                      <a:off x="6242760" y="427860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Oval 98"/>
                    <p:cNvSpPr/>
                    <p:nvPr/>
                  </p:nvSpPr>
                  <p:spPr>
                    <a:xfrm flipH="1">
                      <a:off x="5906160" y="424620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Oval 99"/>
                    <p:cNvSpPr/>
                    <p:nvPr/>
                  </p:nvSpPr>
                  <p:spPr>
                    <a:xfrm flipH="1">
                      <a:off x="6120720" y="4213440"/>
                      <a:ext cx="3024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Oval 100"/>
                    <p:cNvSpPr/>
                    <p:nvPr/>
                  </p:nvSpPr>
                  <p:spPr>
                    <a:xfrm flipH="1">
                      <a:off x="6212520" y="4343760"/>
                      <a:ext cx="3024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Oval 101"/>
                    <p:cNvSpPr/>
                    <p:nvPr/>
                  </p:nvSpPr>
                  <p:spPr>
                    <a:xfrm flipH="1">
                      <a:off x="5783760" y="4376520"/>
                      <a:ext cx="30600" cy="324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2" name="Freeform 102"/>
                  <p:cNvSpPr/>
                  <p:nvPr/>
                </p:nvSpPr>
                <p:spPr>
                  <a:xfrm>
                    <a:off x="6265440" y="4399920"/>
                    <a:ext cx="200520" cy="310680"/>
                  </a:xfrm>
                  <a:custGeom>
                    <a:avLst/>
                    <a:gdLst>
                      <a:gd name="textAreaLeft" fmla="*/ 0 w 200520"/>
                      <a:gd name="textAreaRight" fmla="*/ 200880 w 2005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Freeform 103"/>
                  <p:cNvSpPr/>
                  <p:nvPr/>
                </p:nvSpPr>
                <p:spPr>
                  <a:xfrm flipH="1">
                    <a:off x="6867360" y="4604760"/>
                    <a:ext cx="301320" cy="20880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208800"/>
                      <a:gd name="textAreaBottom" fmla="*/ 209160 h 2088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Freeform 104"/>
                  <p:cNvSpPr/>
                  <p:nvPr/>
                </p:nvSpPr>
                <p:spPr>
                  <a:xfrm>
                    <a:off x="5259960" y="4911480"/>
                    <a:ext cx="301320" cy="311400"/>
                  </a:xfrm>
                  <a:custGeom>
                    <a:avLst/>
                    <a:gdLst>
                      <a:gd name="textAreaLeft" fmla="*/ 0 w 301320"/>
                      <a:gd name="textAreaRight" fmla="*/ 301680 w 301320"/>
                      <a:gd name="textAreaTop" fmla="*/ 0 h 311400"/>
                      <a:gd name="textAreaBottom" fmla="*/ 311760 h 31140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5" name="Group 105"/>
                  <p:cNvGrpSpPr/>
                  <p:nvPr/>
                </p:nvGrpSpPr>
                <p:grpSpPr>
                  <a:xfrm>
                    <a:off x="6465600" y="3786120"/>
                    <a:ext cx="804240" cy="920880"/>
                    <a:chOff x="6465600" y="3786120"/>
                    <a:chExt cx="804240" cy="920880"/>
                  </a:xfrm>
                </p:grpSpPr>
                <p:sp>
                  <p:nvSpPr>
                    <p:cNvPr id="596" name="Freeform 106"/>
                    <p:cNvSpPr/>
                    <p:nvPr/>
                  </p:nvSpPr>
                  <p:spPr>
                    <a:xfrm flipH="1">
                      <a:off x="6605280" y="3995280"/>
                      <a:ext cx="524520" cy="711720"/>
                    </a:xfrm>
                    <a:custGeom>
                      <a:avLst/>
                      <a:gdLst>
                        <a:gd name="textAreaLeft" fmla="*/ -360 w 524520"/>
                        <a:gd name="textAreaRight" fmla="*/ 524520 w 524520"/>
                        <a:gd name="textAreaTop" fmla="*/ 0 h 711720"/>
                        <a:gd name="textAreaBottom" fmla="*/ 711720 h 7117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Freeform 107"/>
                    <p:cNvSpPr/>
                    <p:nvPr/>
                  </p:nvSpPr>
                  <p:spPr>
                    <a:xfrm flipH="1">
                      <a:off x="6465600" y="3786120"/>
                      <a:ext cx="804240" cy="753480"/>
                    </a:xfrm>
                    <a:custGeom>
                      <a:avLst/>
                      <a:gdLst>
                        <a:gd name="textAreaLeft" fmla="*/ 360 w 804240"/>
                        <a:gd name="textAreaRight" fmla="*/ 804960 w 804240"/>
                        <a:gd name="textAreaTop" fmla="*/ 0 h 753480"/>
                        <a:gd name="textAreaBottom" fmla="*/ 753840 h 75348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7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Oval 108"/>
                    <p:cNvSpPr/>
                    <p:nvPr/>
                  </p:nvSpPr>
                  <p:spPr>
                    <a:xfrm flipH="1">
                      <a:off x="7129800" y="428832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Oval 109"/>
                    <p:cNvSpPr/>
                    <p:nvPr/>
                  </p:nvSpPr>
                  <p:spPr>
                    <a:xfrm flipH="1">
                      <a:off x="6744960" y="424620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Oval 110"/>
                    <p:cNvSpPr/>
                    <p:nvPr/>
                  </p:nvSpPr>
                  <p:spPr>
                    <a:xfrm flipH="1">
                      <a:off x="6990480" y="4204800"/>
                      <a:ext cx="34560" cy="414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Oval 111"/>
                    <p:cNvSpPr/>
                    <p:nvPr/>
                  </p:nvSpPr>
                  <p:spPr>
                    <a:xfrm flipH="1">
                      <a:off x="7095600" y="4371840"/>
                      <a:ext cx="3456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Oval 112"/>
                    <p:cNvSpPr/>
                    <p:nvPr/>
                  </p:nvSpPr>
                  <p:spPr>
                    <a:xfrm flipH="1">
                      <a:off x="6605280" y="4413960"/>
                      <a:ext cx="34920" cy="4176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3" name="Freeform 113"/>
                  <p:cNvSpPr/>
                  <p:nvPr/>
                </p:nvSpPr>
                <p:spPr>
                  <a:xfrm flipH="1">
                    <a:off x="7369560" y="5014080"/>
                    <a:ext cx="301320" cy="31068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4" name="Group 114"/>
                  <p:cNvGrpSpPr/>
                  <p:nvPr/>
                </p:nvGrpSpPr>
                <p:grpSpPr>
                  <a:xfrm>
                    <a:off x="5058720" y="4195080"/>
                    <a:ext cx="904320" cy="1023120"/>
                    <a:chOff x="5058720" y="4195080"/>
                    <a:chExt cx="904320" cy="1023120"/>
                  </a:xfrm>
                </p:grpSpPr>
                <p:sp>
                  <p:nvSpPr>
                    <p:cNvPr id="605" name="Freeform 115"/>
                    <p:cNvSpPr/>
                    <p:nvPr/>
                  </p:nvSpPr>
                  <p:spPr>
                    <a:xfrm>
                      <a:off x="5216040" y="4427280"/>
                      <a:ext cx="589680" cy="790920"/>
                    </a:xfrm>
                    <a:custGeom>
                      <a:avLst/>
                      <a:gdLst>
                        <a:gd name="textAreaLeft" fmla="*/ 0 w 589680"/>
                        <a:gd name="textAreaRight" fmla="*/ 590040 w 589680"/>
                        <a:gd name="textAreaTop" fmla="*/ 0 h 790920"/>
                        <a:gd name="textAreaBottom" fmla="*/ 791280 h 7909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Freeform 116"/>
                    <p:cNvSpPr/>
                    <p:nvPr/>
                  </p:nvSpPr>
                  <p:spPr>
                    <a:xfrm>
                      <a:off x="5058720" y="4195080"/>
                      <a:ext cx="904320" cy="837360"/>
                    </a:xfrm>
                    <a:custGeom>
                      <a:avLst/>
                      <a:gdLst>
                        <a:gd name="textAreaLeft" fmla="*/ 0 w 904320"/>
                        <a:gd name="textAreaRight" fmla="*/ 904680 w 904320"/>
                        <a:gd name="textAreaTop" fmla="*/ 0 h 837360"/>
                        <a:gd name="textAreaBottom" fmla="*/ 837720 h 8373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49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Oval 117"/>
                    <p:cNvSpPr/>
                    <p:nvPr/>
                  </p:nvSpPr>
                  <p:spPr>
                    <a:xfrm>
                      <a:off x="5176440" y="475308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Oval 118"/>
                    <p:cNvSpPr/>
                    <p:nvPr/>
                  </p:nvSpPr>
                  <p:spPr>
                    <a:xfrm>
                      <a:off x="5609160" y="470664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Oval 119"/>
                    <p:cNvSpPr/>
                    <p:nvPr/>
                  </p:nvSpPr>
                  <p:spPr>
                    <a:xfrm>
                      <a:off x="5333760" y="4660200"/>
                      <a:ext cx="38880" cy="4608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Oval 120"/>
                    <p:cNvSpPr/>
                    <p:nvPr/>
                  </p:nvSpPr>
                  <p:spPr>
                    <a:xfrm>
                      <a:off x="5216040" y="4846320"/>
                      <a:ext cx="3888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Oval 121"/>
                    <p:cNvSpPr/>
                    <p:nvPr/>
                  </p:nvSpPr>
                  <p:spPr>
                    <a:xfrm>
                      <a:off x="5766480" y="4892760"/>
                      <a:ext cx="39240" cy="464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2" name="Freeform 122"/>
                  <p:cNvSpPr/>
                  <p:nvPr/>
                </p:nvSpPr>
                <p:spPr>
                  <a:xfrm flipH="1">
                    <a:off x="5460480" y="5014080"/>
                    <a:ext cx="301320" cy="310680"/>
                  </a:xfrm>
                  <a:custGeom>
                    <a:avLst/>
                    <a:gdLst>
                      <a:gd name="textAreaLeft" fmla="*/ -360 w 301320"/>
                      <a:gd name="textAreaRight" fmla="*/ 301320 w 301320"/>
                      <a:gd name="textAreaTop" fmla="*/ 0 h 310680"/>
                      <a:gd name="textAreaBottom" fmla="*/ 311040 h 3106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Freeform 123"/>
                  <p:cNvSpPr/>
                  <p:nvPr/>
                </p:nvSpPr>
                <p:spPr>
                  <a:xfrm flipH="1">
                    <a:off x="6566400" y="4911480"/>
                    <a:ext cx="602640" cy="409320"/>
                  </a:xfrm>
                  <a:custGeom>
                    <a:avLst/>
                    <a:gdLst>
                      <a:gd name="textAreaLeft" fmla="*/ 360 w 602640"/>
                      <a:gd name="textAreaRight" fmla="*/ 603360 w 602640"/>
                      <a:gd name="textAreaTop" fmla="*/ 0 h 409320"/>
                      <a:gd name="textAreaBottom" fmla="*/ 409680 h 409320"/>
                    </a:gdLst>
                    <a:ahLst/>
                    <a:rect l="textAreaLeft" t="textAreaTop" r="textAreaRight" b="textAreaBottom"/>
                    <a:pathLst>
                      <a:path w="480" h="288">
                        <a:moveTo>
                          <a:pt x="0" y="288"/>
                        </a:moveTo>
                        <a:lnTo>
                          <a:pt x="48" y="192"/>
                        </a:lnTo>
                        <a:lnTo>
                          <a:pt x="144" y="144"/>
                        </a:lnTo>
                        <a:lnTo>
                          <a:pt x="192" y="48"/>
                        </a:lnTo>
                        <a:lnTo>
                          <a:pt x="288" y="0"/>
                        </a:lnTo>
                        <a:lnTo>
                          <a:pt x="336" y="48"/>
                        </a:lnTo>
                        <a:lnTo>
                          <a:pt x="432" y="48"/>
                        </a:lnTo>
                        <a:lnTo>
                          <a:pt x="480" y="144"/>
                        </a:lnTo>
                        <a:lnTo>
                          <a:pt x="288" y="192"/>
                        </a:lnTo>
                        <a:lnTo>
                          <a:pt x="336" y="240"/>
                        </a:lnTo>
                        <a:lnTo>
                          <a:pt x="240" y="240"/>
                        </a:lnTo>
                        <a:lnTo>
                          <a:pt x="144" y="288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blipFill rotWithShape="0">
                    <a:blip r:embed="rId50">
                      <a:alphaModFix amt="62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Freeform 124"/>
                  <p:cNvSpPr/>
                  <p:nvPr/>
                </p:nvSpPr>
                <p:spPr>
                  <a:xfrm flipH="1">
                    <a:off x="6264360" y="4911480"/>
                    <a:ext cx="402120" cy="413280"/>
                  </a:xfrm>
                  <a:custGeom>
                    <a:avLst/>
                    <a:gdLst>
                      <a:gd name="textAreaLeft" fmla="*/ -360 w 402120"/>
                      <a:gd name="textAreaRight" fmla="*/ 402120 w 402120"/>
                      <a:gd name="textAreaTop" fmla="*/ 0 h 413280"/>
                      <a:gd name="textAreaBottom" fmla="*/ 413640 h 41328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Freeform 125"/>
                  <p:cNvSpPr/>
                  <p:nvPr/>
                </p:nvSpPr>
                <p:spPr>
                  <a:xfrm>
                    <a:off x="6164640" y="4502160"/>
                    <a:ext cx="301320" cy="618120"/>
                  </a:xfrm>
                  <a:custGeom>
                    <a:avLst/>
                    <a:gdLst>
                      <a:gd name="textAreaLeft" fmla="*/ 0 w 301320"/>
                      <a:gd name="textAreaRight" fmla="*/ 301680 w 301320"/>
                      <a:gd name="textAreaTop" fmla="*/ 0 h 618120"/>
                      <a:gd name="textAreaBottom" fmla="*/ 618480 h 6181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ff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6" name="Freeform 126"/>
                <p:cNvSpPr/>
                <p:nvPr/>
              </p:nvSpPr>
              <p:spPr>
                <a:xfrm flipH="1">
                  <a:off x="5057640" y="5163480"/>
                  <a:ext cx="2986200" cy="375480"/>
                </a:xfrm>
                <a:custGeom>
                  <a:avLst/>
                  <a:gdLst>
                    <a:gd name="textAreaLeft" fmla="*/ -360 w 2986200"/>
                    <a:gd name="textAreaRight" fmla="*/ 2986200 w 298620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152" h="192">
                      <a:moveTo>
                        <a:pt x="192" y="48"/>
                      </a:moveTo>
                      <a:lnTo>
                        <a:pt x="0" y="144"/>
                      </a:lnTo>
                      <a:lnTo>
                        <a:pt x="240" y="192"/>
                      </a:lnTo>
                      <a:lnTo>
                        <a:pt x="480" y="144"/>
                      </a:lnTo>
                      <a:lnTo>
                        <a:pt x="768" y="192"/>
                      </a:lnTo>
                      <a:lnTo>
                        <a:pt x="1152" y="192"/>
                      </a:lnTo>
                      <a:lnTo>
                        <a:pt x="1104" y="96"/>
                      </a:lnTo>
                      <a:lnTo>
                        <a:pt x="1056" y="48"/>
                      </a:lnTo>
                      <a:lnTo>
                        <a:pt x="816" y="48"/>
                      </a:lnTo>
                      <a:lnTo>
                        <a:pt x="528" y="96"/>
                      </a:lnTo>
                      <a:lnTo>
                        <a:pt x="480" y="48"/>
                      </a:lnTo>
                      <a:lnTo>
                        <a:pt x="384" y="0"/>
                      </a:lnTo>
                      <a:lnTo>
                        <a:pt x="288" y="48"/>
                      </a:lnTo>
                      <a:lnTo>
                        <a:pt x="192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15294"/>
                      </a:srgbClr>
                    </a:gs>
                    <a:gs pos="100000">
                      <a:srgbClr val="cccc00">
                        <a:alpha val="9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7" name="Group 137"/>
            <p:cNvGrpSpPr/>
            <p:nvPr/>
          </p:nvGrpSpPr>
          <p:grpSpPr>
            <a:xfrm>
              <a:off x="4774320" y="3883680"/>
              <a:ext cx="378000" cy="584280"/>
              <a:chOff x="4774320" y="3883680"/>
              <a:chExt cx="378000" cy="584280"/>
            </a:xfrm>
          </p:grpSpPr>
          <p:sp>
            <p:nvSpPr>
              <p:cNvPr id="618" name="Freeform 133"/>
              <p:cNvSpPr/>
              <p:nvPr/>
            </p:nvSpPr>
            <p:spPr>
              <a:xfrm>
                <a:off x="4774320" y="4029840"/>
                <a:ext cx="378000" cy="43812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375" h="294">
                    <a:moveTo>
                      <a:pt x="136" y="88"/>
                    </a:moveTo>
                    <a:lnTo>
                      <a:pt x="94" y="179"/>
                    </a:lnTo>
                    <a:lnTo>
                      <a:pt x="0" y="291"/>
                    </a:lnTo>
                    <a:lnTo>
                      <a:pt x="87" y="288"/>
                    </a:lnTo>
                    <a:lnTo>
                      <a:pt x="141" y="267"/>
                    </a:lnTo>
                    <a:lnTo>
                      <a:pt x="183" y="258"/>
                    </a:lnTo>
                    <a:lnTo>
                      <a:pt x="228" y="270"/>
                    </a:lnTo>
                    <a:lnTo>
                      <a:pt x="309" y="294"/>
                    </a:lnTo>
                    <a:lnTo>
                      <a:pt x="375" y="294"/>
                    </a:lnTo>
                    <a:lnTo>
                      <a:pt x="278" y="176"/>
                    </a:lnTo>
                    <a:lnTo>
                      <a:pt x="238" y="88"/>
                    </a:lnTo>
                    <a:lnTo>
                      <a:pt x="198" y="0"/>
                    </a:lnTo>
                    <a:lnTo>
                      <a:pt x="176" y="3"/>
                    </a:lnTo>
                    <a:lnTo>
                      <a:pt x="136" y="88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134"/>
              <p:cNvSpPr/>
              <p:nvPr/>
            </p:nvSpPr>
            <p:spPr>
              <a:xfrm>
                <a:off x="4810320" y="3953160"/>
                <a:ext cx="282960" cy="34776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135"/>
              <p:cNvSpPr/>
              <p:nvPr/>
            </p:nvSpPr>
            <p:spPr>
              <a:xfrm>
                <a:off x="4851000" y="3883680"/>
                <a:ext cx="203400" cy="22284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172"/>
          <p:cNvGrpSpPr/>
          <p:nvPr/>
        </p:nvGrpSpPr>
        <p:grpSpPr>
          <a:xfrm>
            <a:off x="1428840" y="4143240"/>
            <a:ext cx="2499840" cy="2213280"/>
            <a:chOff x="1428840" y="4143240"/>
            <a:chExt cx="2499840" cy="2213280"/>
          </a:xfrm>
        </p:grpSpPr>
        <p:grpSp>
          <p:nvGrpSpPr>
            <p:cNvPr id="622" name="Group 173"/>
            <p:cNvGrpSpPr/>
            <p:nvPr/>
          </p:nvGrpSpPr>
          <p:grpSpPr>
            <a:xfrm>
              <a:off x="3373200" y="4459320"/>
              <a:ext cx="277200" cy="631800"/>
              <a:chOff x="3373200" y="4459320"/>
              <a:chExt cx="277200" cy="631800"/>
            </a:xfrm>
          </p:grpSpPr>
          <p:sp>
            <p:nvSpPr>
              <p:cNvPr id="623" name="Freeform 174"/>
              <p:cNvSpPr/>
              <p:nvPr/>
            </p:nvSpPr>
            <p:spPr>
              <a:xfrm>
                <a:off x="3373200" y="4670280"/>
                <a:ext cx="277200" cy="4208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175"/>
              <p:cNvSpPr/>
              <p:nvPr/>
            </p:nvSpPr>
            <p:spPr>
              <a:xfrm>
                <a:off x="3405240" y="4599360"/>
                <a:ext cx="213480" cy="28044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176"/>
              <p:cNvSpPr/>
              <p:nvPr/>
            </p:nvSpPr>
            <p:spPr>
              <a:xfrm>
                <a:off x="3434040" y="4459320"/>
                <a:ext cx="155880" cy="280440"/>
              </a:xfrm>
              <a:custGeom>
                <a:avLst/>
                <a:gdLst>
                  <a:gd name="textAreaLeft" fmla="*/ 0 w 155880"/>
                  <a:gd name="textAreaRight" fmla="*/ 155880 w 15588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Freeform 177"/>
            <p:cNvSpPr/>
            <p:nvPr/>
          </p:nvSpPr>
          <p:spPr>
            <a:xfrm>
              <a:off x="2169720" y="4143240"/>
              <a:ext cx="1758960" cy="20563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2056320"/>
                <a:gd name="textAreaBottom" fmla="*/ 2056680 h 2056320"/>
              </a:gdLst>
              <a:ahLst/>
              <a:rect l="textAreaLeft" t="textAreaTop" r="textAreaRight" b="textAreaBottom"/>
              <a:pathLst>
                <a:path w="864" h="528">
                  <a:moveTo>
                    <a:pt x="96" y="336"/>
                  </a:moveTo>
                  <a:lnTo>
                    <a:pt x="144" y="288"/>
                  </a:lnTo>
                  <a:lnTo>
                    <a:pt x="240" y="240"/>
                  </a:lnTo>
                  <a:lnTo>
                    <a:pt x="288" y="240"/>
                  </a:lnTo>
                  <a:lnTo>
                    <a:pt x="384" y="144"/>
                  </a:lnTo>
                  <a:lnTo>
                    <a:pt x="432" y="48"/>
                  </a:lnTo>
                  <a:lnTo>
                    <a:pt x="480" y="0"/>
                  </a:lnTo>
                  <a:lnTo>
                    <a:pt x="528" y="48"/>
                  </a:lnTo>
                  <a:lnTo>
                    <a:pt x="576" y="48"/>
                  </a:lnTo>
                  <a:lnTo>
                    <a:pt x="576" y="96"/>
                  </a:lnTo>
                  <a:lnTo>
                    <a:pt x="624" y="144"/>
                  </a:lnTo>
                  <a:lnTo>
                    <a:pt x="624" y="192"/>
                  </a:lnTo>
                  <a:lnTo>
                    <a:pt x="720" y="240"/>
                  </a:lnTo>
                  <a:lnTo>
                    <a:pt x="720" y="288"/>
                  </a:lnTo>
                  <a:lnTo>
                    <a:pt x="768" y="336"/>
                  </a:lnTo>
                  <a:lnTo>
                    <a:pt x="768" y="384"/>
                  </a:lnTo>
                  <a:lnTo>
                    <a:pt x="816" y="384"/>
                  </a:lnTo>
                  <a:lnTo>
                    <a:pt x="864" y="384"/>
                  </a:lnTo>
                  <a:lnTo>
                    <a:pt x="816" y="432"/>
                  </a:lnTo>
                  <a:lnTo>
                    <a:pt x="576" y="480"/>
                  </a:lnTo>
                  <a:lnTo>
                    <a:pt x="384" y="480"/>
                  </a:lnTo>
                  <a:lnTo>
                    <a:pt x="288" y="528"/>
                  </a:lnTo>
                  <a:lnTo>
                    <a:pt x="96" y="480"/>
                  </a:lnTo>
                  <a:lnTo>
                    <a:pt x="0" y="384"/>
                  </a:lnTo>
                  <a:lnTo>
                    <a:pt x="48" y="336"/>
                  </a:lnTo>
                  <a:lnTo>
                    <a:pt x="96" y="336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8"/>
            <p:cNvSpPr/>
            <p:nvPr/>
          </p:nvSpPr>
          <p:spPr>
            <a:xfrm>
              <a:off x="2539800" y="4459320"/>
              <a:ext cx="997200" cy="168444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1684440"/>
                <a:gd name="textAreaBottom" fmla="*/ 1684800 h 1684440"/>
              </a:gdLst>
              <a:ahLst/>
              <a:rect l="textAreaLeft" t="textAreaTop" r="textAreaRight" b="textAreaBottom"/>
              <a:pathLst>
                <a:path w="480" h="336">
                  <a:moveTo>
                    <a:pt x="336" y="0"/>
                  </a:moveTo>
                  <a:lnTo>
                    <a:pt x="384" y="96"/>
                  </a:lnTo>
                  <a:lnTo>
                    <a:pt x="480" y="144"/>
                  </a:lnTo>
                  <a:lnTo>
                    <a:pt x="480" y="240"/>
                  </a:lnTo>
                  <a:lnTo>
                    <a:pt x="336" y="240"/>
                  </a:lnTo>
                  <a:lnTo>
                    <a:pt x="240" y="288"/>
                  </a:lnTo>
                  <a:lnTo>
                    <a:pt x="96" y="336"/>
                  </a:lnTo>
                  <a:lnTo>
                    <a:pt x="0" y="240"/>
                  </a:lnTo>
                  <a:lnTo>
                    <a:pt x="96" y="192"/>
                  </a:lnTo>
                  <a:lnTo>
                    <a:pt x="144" y="144"/>
                  </a:lnTo>
                  <a:lnTo>
                    <a:pt x="240" y="144"/>
                  </a:lnTo>
                  <a:lnTo>
                    <a:pt x="288" y="48"/>
                  </a:lnTo>
                  <a:lnTo>
                    <a:pt x="336" y="0"/>
                  </a:lnTo>
                  <a:close/>
                </a:path>
              </a:pathLst>
            </a:custGeom>
            <a:blipFill rotWithShape="0">
              <a:blip r:embed="rId58">
                <a:alphaModFix amt="51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79"/>
            <p:cNvSpPr/>
            <p:nvPr/>
          </p:nvSpPr>
          <p:spPr>
            <a:xfrm>
              <a:off x="2539800" y="4459320"/>
              <a:ext cx="1018800" cy="1581840"/>
            </a:xfrm>
            <a:custGeom>
              <a:avLst/>
              <a:gdLst>
                <a:gd name="textAreaLeft" fmla="*/ 0 w 1018800"/>
                <a:gd name="textAreaRight" fmla="*/ 1018800 w 1018800"/>
                <a:gd name="textAreaTop" fmla="*/ 0 h 1581840"/>
                <a:gd name="textAreaBottom" fmla="*/ 1582200 h 1581840"/>
              </a:gdLst>
              <a:ahLst/>
              <a:rect l="textAreaLeft" t="textAreaTop" r="textAreaRight" b="textAreaBottom"/>
              <a:pathLst>
                <a:path w="672" h="480">
                  <a:moveTo>
                    <a:pt x="48" y="384"/>
                  </a:moveTo>
                  <a:lnTo>
                    <a:pt x="240" y="480"/>
                  </a:lnTo>
                  <a:lnTo>
                    <a:pt x="336" y="384"/>
                  </a:lnTo>
                  <a:lnTo>
                    <a:pt x="528" y="384"/>
                  </a:lnTo>
                  <a:lnTo>
                    <a:pt x="672" y="336"/>
                  </a:lnTo>
                  <a:lnTo>
                    <a:pt x="672" y="288"/>
                  </a:lnTo>
                  <a:lnTo>
                    <a:pt x="624" y="192"/>
                  </a:lnTo>
                  <a:lnTo>
                    <a:pt x="576" y="144"/>
                  </a:lnTo>
                  <a:lnTo>
                    <a:pt x="576" y="96"/>
                  </a:lnTo>
                  <a:lnTo>
                    <a:pt x="480" y="48"/>
                  </a:lnTo>
                  <a:lnTo>
                    <a:pt x="480" y="0"/>
                  </a:lnTo>
                  <a:lnTo>
                    <a:pt x="384" y="96"/>
                  </a:lnTo>
                  <a:lnTo>
                    <a:pt x="336" y="192"/>
                  </a:lnTo>
                  <a:lnTo>
                    <a:pt x="144" y="240"/>
                  </a:lnTo>
                  <a:lnTo>
                    <a:pt x="96" y="288"/>
                  </a:lnTo>
                  <a:lnTo>
                    <a:pt x="0" y="336"/>
                  </a:lnTo>
                  <a:lnTo>
                    <a:pt x="48" y="384"/>
                  </a:lnTo>
                  <a:close/>
                </a:path>
              </a:pathLst>
            </a:custGeom>
            <a:gradFill rotWithShape="0">
              <a:gsLst>
                <a:gs pos="0">
                  <a:srgbClr val="6b852b">
                    <a:alpha val="13333"/>
                  </a:srgbClr>
                </a:gs>
                <a:gs pos="100000">
                  <a:srgbClr val="000000">
                    <a:alpha val="5607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80"/>
            <p:cNvSpPr/>
            <p:nvPr/>
          </p:nvSpPr>
          <p:spPr>
            <a:xfrm>
              <a:off x="2725200" y="5092200"/>
              <a:ext cx="647640" cy="9489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44"/>
                  </a:moveTo>
                  <a:lnTo>
                    <a:pt x="48" y="0"/>
                  </a:lnTo>
                  <a:lnTo>
                    <a:pt x="96" y="96"/>
                  </a:lnTo>
                  <a:lnTo>
                    <a:pt x="96" y="48"/>
                  </a:lnTo>
                  <a:lnTo>
                    <a:pt x="144" y="144"/>
                  </a:lnTo>
                  <a:lnTo>
                    <a:pt x="96" y="144"/>
                  </a:lnTo>
                  <a:lnTo>
                    <a:pt x="48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>
                <a:alpha val="94000"/>
              </a:srgbClr>
            </a:solidFill>
            <a:ln w="223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Group 181"/>
            <p:cNvGrpSpPr/>
            <p:nvPr/>
          </p:nvGrpSpPr>
          <p:grpSpPr>
            <a:xfrm>
              <a:off x="1428840" y="4617720"/>
              <a:ext cx="1666080" cy="1738800"/>
              <a:chOff x="1428840" y="4617720"/>
              <a:chExt cx="1666080" cy="1738800"/>
            </a:xfrm>
          </p:grpSpPr>
          <p:sp>
            <p:nvSpPr>
              <p:cNvPr id="631" name="Freeform 182"/>
              <p:cNvSpPr/>
              <p:nvPr/>
            </p:nvSpPr>
            <p:spPr>
              <a:xfrm>
                <a:off x="1428840" y="4617720"/>
                <a:ext cx="1666080" cy="1738800"/>
              </a:xfrm>
              <a:custGeom>
                <a:avLst/>
                <a:gdLst>
                  <a:gd name="textAreaLeft" fmla="*/ 0 w 1666080"/>
                  <a:gd name="textAreaRight" fmla="*/ 1666440 w 1666080"/>
                  <a:gd name="textAreaTop" fmla="*/ 0 h 1738800"/>
                  <a:gd name="textAreaBottom" fmla="*/ 1739160 h 1738800"/>
                </a:gdLst>
                <a:ahLst/>
                <a:rect l="textAreaLeft" t="textAreaTop" r="textAreaRight" b="textAreaBottom"/>
                <a:pathLst>
                  <a:path w="864" h="528">
                    <a:moveTo>
                      <a:pt x="96" y="336"/>
                    </a:moveTo>
                    <a:lnTo>
                      <a:pt x="144" y="288"/>
                    </a:lnTo>
                    <a:lnTo>
                      <a:pt x="240" y="240"/>
                    </a:lnTo>
                    <a:lnTo>
                      <a:pt x="288" y="240"/>
                    </a:lnTo>
                    <a:lnTo>
                      <a:pt x="384" y="144"/>
                    </a:lnTo>
                    <a:lnTo>
                      <a:pt x="432" y="48"/>
                    </a:lnTo>
                    <a:lnTo>
                      <a:pt x="480" y="0"/>
                    </a:lnTo>
                    <a:lnTo>
                      <a:pt x="528" y="48"/>
                    </a:lnTo>
                    <a:lnTo>
                      <a:pt x="576" y="48"/>
                    </a:lnTo>
                    <a:lnTo>
                      <a:pt x="576" y="96"/>
                    </a:lnTo>
                    <a:lnTo>
                      <a:pt x="624" y="144"/>
                    </a:lnTo>
                    <a:lnTo>
                      <a:pt x="624" y="192"/>
                    </a:lnTo>
                    <a:lnTo>
                      <a:pt x="720" y="240"/>
                    </a:lnTo>
                    <a:lnTo>
                      <a:pt x="720" y="288"/>
                    </a:lnTo>
                    <a:lnTo>
                      <a:pt x="768" y="336"/>
                    </a:lnTo>
                    <a:lnTo>
                      <a:pt x="768" y="384"/>
                    </a:lnTo>
                    <a:lnTo>
                      <a:pt x="816" y="384"/>
                    </a:lnTo>
                    <a:lnTo>
                      <a:pt x="864" y="384"/>
                    </a:lnTo>
                    <a:lnTo>
                      <a:pt x="816" y="432"/>
                    </a:lnTo>
                    <a:lnTo>
                      <a:pt x="576" y="480"/>
                    </a:lnTo>
                    <a:lnTo>
                      <a:pt x="384" y="480"/>
                    </a:lnTo>
                    <a:lnTo>
                      <a:pt x="288" y="528"/>
                    </a:lnTo>
                    <a:lnTo>
                      <a:pt x="96" y="480"/>
                    </a:lnTo>
                    <a:lnTo>
                      <a:pt x="0" y="384"/>
                    </a:lnTo>
                    <a:lnTo>
                      <a:pt x="48" y="336"/>
                    </a:lnTo>
                    <a:lnTo>
                      <a:pt x="96" y="336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183"/>
              <p:cNvSpPr/>
              <p:nvPr/>
            </p:nvSpPr>
            <p:spPr>
              <a:xfrm>
                <a:off x="1521360" y="4775760"/>
                <a:ext cx="1295640" cy="1580400"/>
              </a:xfrm>
              <a:custGeom>
                <a:avLst/>
                <a:gdLst>
                  <a:gd name="textAreaLeft" fmla="*/ 0 w 1295640"/>
                  <a:gd name="textAreaRight" fmla="*/ 1295640 w 129564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672" h="480">
                    <a:moveTo>
                      <a:pt x="48" y="384"/>
                    </a:moveTo>
                    <a:lnTo>
                      <a:pt x="240" y="480"/>
                    </a:lnTo>
                    <a:lnTo>
                      <a:pt x="336" y="384"/>
                    </a:lnTo>
                    <a:lnTo>
                      <a:pt x="528" y="384"/>
                    </a:lnTo>
                    <a:lnTo>
                      <a:pt x="672" y="336"/>
                    </a:lnTo>
                    <a:lnTo>
                      <a:pt x="672" y="288"/>
                    </a:lnTo>
                    <a:lnTo>
                      <a:pt x="624" y="192"/>
                    </a:lnTo>
                    <a:lnTo>
                      <a:pt x="576" y="144"/>
                    </a:lnTo>
                    <a:lnTo>
                      <a:pt x="576" y="96"/>
                    </a:lnTo>
                    <a:lnTo>
                      <a:pt x="480" y="48"/>
                    </a:lnTo>
                    <a:lnTo>
                      <a:pt x="480" y="0"/>
                    </a:lnTo>
                    <a:lnTo>
                      <a:pt x="384" y="96"/>
                    </a:lnTo>
                    <a:lnTo>
                      <a:pt x="336" y="192"/>
                    </a:lnTo>
                    <a:lnTo>
                      <a:pt x="144" y="240"/>
                    </a:lnTo>
                    <a:lnTo>
                      <a:pt x="96" y="288"/>
                    </a:lnTo>
                    <a:lnTo>
                      <a:pt x="0" y="336"/>
                    </a:lnTo>
                    <a:lnTo>
                      <a:pt x="48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852b">
                      <a:alpha val="13333"/>
                    </a:srgbClr>
                  </a:gs>
                  <a:gs pos="100000">
                    <a:srgbClr val="000000">
                      <a:alpha val="5607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Group 184"/>
              <p:cNvGrpSpPr/>
              <p:nvPr/>
            </p:nvGrpSpPr>
            <p:grpSpPr>
              <a:xfrm>
                <a:off x="1614240" y="4617720"/>
                <a:ext cx="687600" cy="1421640"/>
                <a:chOff x="1614240" y="4617720"/>
                <a:chExt cx="687600" cy="1421640"/>
              </a:xfrm>
            </p:grpSpPr>
            <p:sp>
              <p:nvSpPr>
                <p:cNvPr id="634" name="Freeform 185"/>
                <p:cNvSpPr/>
                <p:nvPr/>
              </p:nvSpPr>
              <p:spPr>
                <a:xfrm>
                  <a:off x="1889640" y="5013000"/>
                  <a:ext cx="412200" cy="789480"/>
                </a:xfrm>
                <a:custGeom>
                  <a:avLst/>
                  <a:gdLst>
                    <a:gd name="textAreaLeft" fmla="*/ 0 w 412200"/>
                    <a:gd name="textAreaRight" fmla="*/ 412560 w 412200"/>
                    <a:gd name="textAreaTop" fmla="*/ 0 h 789480"/>
                    <a:gd name="textAreaBottom" fmla="*/ 789840 h 789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0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186"/>
                <p:cNvSpPr/>
                <p:nvPr/>
              </p:nvSpPr>
              <p:spPr>
                <a:xfrm>
                  <a:off x="1935000" y="4879440"/>
                  <a:ext cx="320760" cy="5284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528480"/>
                    <a:gd name="textAreaBottom" fmla="*/ 528840 h 528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187"/>
                <p:cNvSpPr/>
                <p:nvPr/>
              </p:nvSpPr>
              <p:spPr>
                <a:xfrm>
                  <a:off x="1981080" y="4617720"/>
                  <a:ext cx="229320" cy="52848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528480"/>
                    <a:gd name="textAreaBottom" fmla="*/ 528840 h 52848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188"/>
                <p:cNvSpPr/>
                <p:nvPr/>
              </p:nvSpPr>
              <p:spPr>
                <a:xfrm>
                  <a:off x="1614240" y="5565960"/>
                  <a:ext cx="275400" cy="4734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473400"/>
                    <a:gd name="textAreaBottom" fmla="*/ 473760 h 4734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189"/>
                <p:cNvSpPr/>
                <p:nvPr/>
              </p:nvSpPr>
              <p:spPr>
                <a:xfrm>
                  <a:off x="1645920" y="5486760"/>
                  <a:ext cx="211680" cy="315720"/>
                </a:xfrm>
                <a:custGeom>
                  <a:avLst/>
                  <a:gdLst>
                    <a:gd name="textAreaLeft" fmla="*/ 0 w 211680"/>
                    <a:gd name="textAreaRight" fmla="*/ 212040 w 21168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4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Freeform 190"/>
                <p:cNvSpPr/>
                <p:nvPr/>
              </p:nvSpPr>
              <p:spPr>
                <a:xfrm>
                  <a:off x="1674360" y="5328720"/>
                  <a:ext cx="154440" cy="315720"/>
                </a:xfrm>
                <a:custGeom>
                  <a:avLst/>
                  <a:gdLst>
                    <a:gd name="textAreaLeft" fmla="*/ 0 w 154440"/>
                    <a:gd name="textAreaRight" fmla="*/ 154800 w 15444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2232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Freeform 191"/>
              <p:cNvSpPr/>
              <p:nvPr/>
            </p:nvSpPr>
            <p:spPr>
              <a:xfrm>
                <a:off x="1799280" y="5091840"/>
                <a:ext cx="925560" cy="126468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264680"/>
                  <a:gd name="textAreaBottom" fmla="*/ 1265040 h 1264680"/>
                </a:gdLst>
                <a:ahLst/>
                <a:rect l="textAreaLeft" t="textAreaTop" r="textAreaRight" b="textAreaBottom"/>
                <a:pathLst>
                  <a:path w="480" h="336">
                    <a:moveTo>
                      <a:pt x="336" y="0"/>
                    </a:moveTo>
                    <a:lnTo>
                      <a:pt x="384" y="96"/>
                    </a:lnTo>
                    <a:lnTo>
                      <a:pt x="480" y="144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240" y="288"/>
                    </a:lnTo>
                    <a:lnTo>
                      <a:pt x="96" y="336"/>
                    </a:lnTo>
                    <a:lnTo>
                      <a:pt x="0" y="240"/>
                    </a:lnTo>
                    <a:lnTo>
                      <a:pt x="96" y="192"/>
                    </a:lnTo>
                    <a:lnTo>
                      <a:pt x="144" y="144"/>
                    </a:lnTo>
                    <a:lnTo>
                      <a:pt x="240" y="144"/>
                    </a:lnTo>
                    <a:lnTo>
                      <a:pt x="288" y="48"/>
                    </a:lnTo>
                    <a:lnTo>
                      <a:pt x="336" y="0"/>
                    </a:lnTo>
                    <a:close/>
                  </a:path>
                </a:pathLst>
              </a:custGeom>
              <a:blipFill rotWithShape="0">
                <a:blip r:embed="rId66">
                  <a:alphaModFix amt="51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192"/>
            <p:cNvGrpSpPr/>
            <p:nvPr/>
          </p:nvGrpSpPr>
          <p:grpSpPr>
            <a:xfrm>
              <a:off x="2539800" y="5092200"/>
              <a:ext cx="370080" cy="947520"/>
              <a:chOff x="2539800" y="5092200"/>
              <a:chExt cx="370080" cy="947520"/>
            </a:xfrm>
          </p:grpSpPr>
          <p:sp>
            <p:nvSpPr>
              <p:cNvPr id="642" name="Freeform 193"/>
              <p:cNvSpPr/>
              <p:nvPr/>
            </p:nvSpPr>
            <p:spPr>
              <a:xfrm>
                <a:off x="2539800" y="5407560"/>
                <a:ext cx="370080" cy="6321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194"/>
              <p:cNvSpPr/>
              <p:nvPr/>
            </p:nvSpPr>
            <p:spPr>
              <a:xfrm>
                <a:off x="2580840" y="5304600"/>
                <a:ext cx="288000" cy="41868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195"/>
              <p:cNvSpPr/>
              <p:nvPr/>
            </p:nvSpPr>
            <p:spPr>
              <a:xfrm>
                <a:off x="2621880" y="5092200"/>
                <a:ext cx="205560" cy="41976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196"/>
            <p:cNvGrpSpPr/>
            <p:nvPr/>
          </p:nvGrpSpPr>
          <p:grpSpPr>
            <a:xfrm>
              <a:off x="2539800" y="4617720"/>
              <a:ext cx="185040" cy="473760"/>
              <a:chOff x="2539800" y="4617720"/>
              <a:chExt cx="185040" cy="473760"/>
            </a:xfrm>
          </p:grpSpPr>
          <p:sp>
            <p:nvSpPr>
              <p:cNvPr id="646" name="Freeform 197"/>
              <p:cNvSpPr/>
              <p:nvPr/>
            </p:nvSpPr>
            <p:spPr>
              <a:xfrm>
                <a:off x="2539800" y="4775760"/>
                <a:ext cx="185040" cy="31572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198"/>
              <p:cNvSpPr/>
              <p:nvPr/>
            </p:nvSpPr>
            <p:spPr>
              <a:xfrm>
                <a:off x="2560680" y="4722840"/>
                <a:ext cx="142560" cy="2102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99"/>
              <p:cNvSpPr/>
              <p:nvPr/>
            </p:nvSpPr>
            <p:spPr>
              <a:xfrm>
                <a:off x="2579760" y="4617720"/>
                <a:ext cx="104040" cy="2102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Group 200"/>
            <p:cNvGrpSpPr/>
            <p:nvPr/>
          </p:nvGrpSpPr>
          <p:grpSpPr>
            <a:xfrm>
              <a:off x="1706400" y="5250600"/>
              <a:ext cx="348480" cy="895320"/>
              <a:chOff x="1706400" y="5250600"/>
              <a:chExt cx="348480" cy="895320"/>
            </a:xfrm>
          </p:grpSpPr>
          <p:sp>
            <p:nvSpPr>
              <p:cNvPr id="650" name="Freeform 201"/>
              <p:cNvSpPr/>
              <p:nvPr/>
            </p:nvSpPr>
            <p:spPr>
              <a:xfrm>
                <a:off x="1706400" y="5548680"/>
                <a:ext cx="348480" cy="597240"/>
              </a:xfrm>
              <a:custGeom>
                <a:avLst/>
                <a:gdLst>
                  <a:gd name="textAreaLeft" fmla="*/ 0 w 348480"/>
                  <a:gd name="textAreaRight" fmla="*/ 348480 w 34848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202"/>
              <p:cNvSpPr/>
              <p:nvPr/>
            </p:nvSpPr>
            <p:spPr>
              <a:xfrm>
                <a:off x="1745280" y="5451120"/>
                <a:ext cx="271080" cy="39636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203"/>
              <p:cNvSpPr/>
              <p:nvPr/>
            </p:nvSpPr>
            <p:spPr>
              <a:xfrm>
                <a:off x="1783800" y="5250600"/>
                <a:ext cx="193680" cy="3963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Group 204"/>
          <p:cNvGrpSpPr/>
          <p:nvPr/>
        </p:nvGrpSpPr>
        <p:grpSpPr>
          <a:xfrm>
            <a:off x="0" y="5000760"/>
            <a:ext cx="1701360" cy="1066320"/>
            <a:chOff x="0" y="5000760"/>
            <a:chExt cx="1701360" cy="1066320"/>
          </a:xfrm>
        </p:grpSpPr>
        <p:grpSp>
          <p:nvGrpSpPr>
            <p:cNvPr id="654" name="Group 205"/>
            <p:cNvGrpSpPr/>
            <p:nvPr/>
          </p:nvGrpSpPr>
          <p:grpSpPr>
            <a:xfrm>
              <a:off x="376560" y="5000760"/>
              <a:ext cx="334440" cy="541440"/>
              <a:chOff x="376560" y="5000760"/>
              <a:chExt cx="334440" cy="541440"/>
            </a:xfrm>
          </p:grpSpPr>
          <p:sp>
            <p:nvSpPr>
              <p:cNvPr id="655" name="Rectangle 206"/>
              <p:cNvSpPr/>
              <p:nvPr/>
            </p:nvSpPr>
            <p:spPr>
              <a:xfrm>
                <a:off x="515880" y="5446800"/>
                <a:ext cx="55440" cy="95400"/>
              </a:xfrm>
              <a:prstGeom prst="rect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207"/>
              <p:cNvGrpSpPr/>
              <p:nvPr/>
            </p:nvGrpSpPr>
            <p:grpSpPr>
              <a:xfrm>
                <a:off x="376560" y="5000760"/>
                <a:ext cx="334440" cy="477720"/>
                <a:chOff x="376560" y="5000760"/>
                <a:chExt cx="334440" cy="477720"/>
              </a:xfrm>
            </p:grpSpPr>
            <p:sp>
              <p:nvSpPr>
                <p:cNvPr id="657" name="Freeform 208"/>
                <p:cNvSpPr/>
                <p:nvPr/>
              </p:nvSpPr>
              <p:spPr>
                <a:xfrm>
                  <a:off x="376560" y="5159880"/>
                  <a:ext cx="334440" cy="318600"/>
                </a:xfrm>
                <a:custGeom>
                  <a:avLst/>
                  <a:gdLst>
                    <a:gd name="textAreaLeft" fmla="*/ 0 w 334440"/>
                    <a:gd name="textAreaRight" fmla="*/ 334800 w 334440"/>
                    <a:gd name="textAreaTop" fmla="*/ 0 h 318600"/>
                    <a:gd name="textAreaBottom" fmla="*/ 318960 h 3186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209"/>
                <p:cNvSpPr/>
                <p:nvPr/>
              </p:nvSpPr>
              <p:spPr>
                <a:xfrm>
                  <a:off x="413640" y="5106600"/>
                  <a:ext cx="260280" cy="21240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210"/>
                <p:cNvSpPr/>
                <p:nvPr/>
              </p:nvSpPr>
              <p:spPr>
                <a:xfrm>
                  <a:off x="450720" y="5000760"/>
                  <a:ext cx="185760" cy="21204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432" h="288">
                      <a:moveTo>
                        <a:pt x="165" y="96"/>
                      </a:moveTo>
                      <a:lnTo>
                        <a:pt x="114" y="195"/>
                      </a:lnTo>
                      <a:lnTo>
                        <a:pt x="0" y="288"/>
                      </a:lnTo>
                      <a:lnTo>
                        <a:pt x="144" y="240"/>
                      </a:lnTo>
                      <a:lnTo>
                        <a:pt x="192" y="288"/>
                      </a:lnTo>
                      <a:lnTo>
                        <a:pt x="240" y="288"/>
                      </a:lnTo>
                      <a:lnTo>
                        <a:pt x="288" y="240"/>
                      </a:lnTo>
                      <a:lnTo>
                        <a:pt x="378" y="276"/>
                      </a:lnTo>
                      <a:lnTo>
                        <a:pt x="432" y="288"/>
                      </a:lnTo>
                      <a:lnTo>
                        <a:pt x="336" y="192"/>
                      </a:lnTo>
                      <a:lnTo>
                        <a:pt x="288" y="96"/>
                      </a:lnTo>
                      <a:lnTo>
                        <a:pt x="240" y="0"/>
                      </a:lnTo>
                      <a:lnTo>
                        <a:pt x="213" y="3"/>
                      </a:lnTo>
                      <a:lnTo>
                        <a:pt x="165" y="96"/>
                      </a:lnTo>
                      <a:close/>
                    </a:path>
                  </a:pathLst>
                </a:custGeom>
                <a:blipFill rotWithShape="0">
                  <a:blip r:embed="rId79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0" name="Group 211"/>
            <p:cNvGrpSpPr/>
            <p:nvPr/>
          </p:nvGrpSpPr>
          <p:grpSpPr>
            <a:xfrm>
              <a:off x="517320" y="5271480"/>
              <a:ext cx="1057320" cy="664920"/>
              <a:chOff x="517320" y="5271480"/>
              <a:chExt cx="1057320" cy="664920"/>
            </a:xfrm>
          </p:grpSpPr>
          <p:sp>
            <p:nvSpPr>
              <p:cNvPr id="661" name="Freeform 212"/>
              <p:cNvSpPr/>
              <p:nvPr/>
            </p:nvSpPr>
            <p:spPr>
              <a:xfrm rot="360600">
                <a:off x="543960" y="5322240"/>
                <a:ext cx="1003680" cy="563040"/>
              </a:xfrm>
              <a:custGeom>
                <a:avLst/>
                <a:gdLst>
                  <a:gd name="textAreaLeft" fmla="*/ 0 w 1003680"/>
                  <a:gd name="textAreaRight" fmla="*/ 1003680 w 100368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672" h="432">
                    <a:moveTo>
                      <a:pt x="288" y="432"/>
                    </a:moveTo>
                    <a:lnTo>
                      <a:pt x="144" y="384"/>
                    </a:lnTo>
                    <a:lnTo>
                      <a:pt x="48" y="288"/>
                    </a:lnTo>
                    <a:lnTo>
                      <a:pt x="0" y="192"/>
                    </a:lnTo>
                    <a:lnTo>
                      <a:pt x="48" y="48"/>
                    </a:lnTo>
                    <a:lnTo>
                      <a:pt x="144" y="0"/>
                    </a:lnTo>
                    <a:lnTo>
                      <a:pt x="240" y="0"/>
                    </a:lnTo>
                    <a:lnTo>
                      <a:pt x="288" y="48"/>
                    </a:lnTo>
                    <a:lnTo>
                      <a:pt x="336" y="48"/>
                    </a:lnTo>
                    <a:lnTo>
                      <a:pt x="528" y="48"/>
                    </a:lnTo>
                    <a:lnTo>
                      <a:pt x="624" y="144"/>
                    </a:lnTo>
                    <a:lnTo>
                      <a:pt x="672" y="288"/>
                    </a:lnTo>
                    <a:lnTo>
                      <a:pt x="624" y="336"/>
                    </a:lnTo>
                    <a:lnTo>
                      <a:pt x="528" y="432"/>
                    </a:lnTo>
                    <a:lnTo>
                      <a:pt x="384" y="384"/>
                    </a:lnTo>
                    <a:lnTo>
                      <a:pt x="288" y="432"/>
                    </a:lnTo>
                    <a:close/>
                  </a:path>
                </a:pathLst>
              </a:custGeom>
              <a:blipFill rotWithShape="0">
                <a:blip r:embed="rId80">
                  <a:alphaModFix amt="50000"/>
                </a:blip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13"/>
              <p:cNvSpPr/>
              <p:nvPr/>
            </p:nvSpPr>
            <p:spPr>
              <a:xfrm rot="360600">
                <a:off x="543960" y="5322240"/>
                <a:ext cx="1003680" cy="563040"/>
              </a:xfrm>
              <a:custGeom>
                <a:avLst/>
                <a:gdLst>
                  <a:gd name="textAreaLeft" fmla="*/ 0 w 1003680"/>
                  <a:gd name="textAreaRight" fmla="*/ 1003680 w 100368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672" h="432">
                    <a:moveTo>
                      <a:pt x="288" y="432"/>
                    </a:moveTo>
                    <a:lnTo>
                      <a:pt x="144" y="384"/>
                    </a:lnTo>
                    <a:lnTo>
                      <a:pt x="48" y="288"/>
                    </a:lnTo>
                    <a:lnTo>
                      <a:pt x="0" y="192"/>
                    </a:lnTo>
                    <a:lnTo>
                      <a:pt x="48" y="48"/>
                    </a:lnTo>
                    <a:lnTo>
                      <a:pt x="144" y="0"/>
                    </a:lnTo>
                    <a:lnTo>
                      <a:pt x="240" y="0"/>
                    </a:lnTo>
                    <a:lnTo>
                      <a:pt x="288" y="48"/>
                    </a:lnTo>
                    <a:lnTo>
                      <a:pt x="336" y="48"/>
                    </a:lnTo>
                    <a:lnTo>
                      <a:pt x="528" y="48"/>
                    </a:lnTo>
                    <a:lnTo>
                      <a:pt x="624" y="144"/>
                    </a:lnTo>
                    <a:lnTo>
                      <a:pt x="672" y="288"/>
                    </a:lnTo>
                    <a:lnTo>
                      <a:pt x="624" y="336"/>
                    </a:lnTo>
                    <a:lnTo>
                      <a:pt x="528" y="432"/>
                    </a:lnTo>
                    <a:lnTo>
                      <a:pt x="384" y="384"/>
                    </a:lnTo>
                    <a:lnTo>
                      <a:pt x="288" y="432"/>
                    </a:lnTo>
                    <a:close/>
                  </a:path>
                </a:pathLst>
              </a:custGeom>
              <a:blipFill rotWithShape="0">
                <a:blip r:embed="rId81">
                  <a:alphaModFix amt="21000"/>
                </a:blip>
                <a:srcRect/>
                <a:stretch/>
              </a:blipFill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Freeform 214"/>
            <p:cNvSpPr/>
            <p:nvPr/>
          </p:nvSpPr>
          <p:spPr>
            <a:xfrm rot="405000">
              <a:off x="208440" y="5563800"/>
              <a:ext cx="753120" cy="34200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432" h="204">
                  <a:moveTo>
                    <a:pt x="384" y="48"/>
                  </a:move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174"/>
                  </a:lnTo>
                  <a:lnTo>
                    <a:pt x="90" y="204"/>
                  </a:lnTo>
                  <a:lnTo>
                    <a:pt x="192" y="192"/>
                  </a:lnTo>
                  <a:lnTo>
                    <a:pt x="336" y="162"/>
                  </a:lnTo>
                  <a:lnTo>
                    <a:pt x="414" y="126"/>
                  </a:lnTo>
                  <a:lnTo>
                    <a:pt x="432" y="108"/>
                  </a:lnTo>
                  <a:lnTo>
                    <a:pt x="384" y="48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215"/>
            <p:cNvSpPr/>
            <p:nvPr/>
          </p:nvSpPr>
          <p:spPr>
            <a:xfrm>
              <a:off x="878760" y="5403240"/>
              <a:ext cx="336240" cy="16056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480" h="288">
                  <a:moveTo>
                    <a:pt x="0" y="288"/>
                  </a:moveTo>
                  <a:lnTo>
                    <a:pt x="48" y="192"/>
                  </a:lnTo>
                  <a:lnTo>
                    <a:pt x="144" y="144"/>
                  </a:lnTo>
                  <a:lnTo>
                    <a:pt x="192" y="48"/>
                  </a:lnTo>
                  <a:lnTo>
                    <a:pt x="288" y="0"/>
                  </a:lnTo>
                  <a:lnTo>
                    <a:pt x="336" y="48"/>
                  </a:lnTo>
                  <a:lnTo>
                    <a:pt x="432" y="48"/>
                  </a:lnTo>
                  <a:lnTo>
                    <a:pt x="480" y="144"/>
                  </a:lnTo>
                  <a:lnTo>
                    <a:pt x="288" y="192"/>
                  </a:lnTo>
                  <a:lnTo>
                    <a:pt x="336" y="240"/>
                  </a:lnTo>
                  <a:lnTo>
                    <a:pt x="240" y="240"/>
                  </a:lnTo>
                  <a:lnTo>
                    <a:pt x="144" y="288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3">
                <a:alphaModFix amt="62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216"/>
            <p:cNvGrpSpPr/>
            <p:nvPr/>
          </p:nvGrpSpPr>
          <p:grpSpPr>
            <a:xfrm>
              <a:off x="119520" y="5646960"/>
              <a:ext cx="170640" cy="204120"/>
              <a:chOff x="119520" y="5646960"/>
              <a:chExt cx="170640" cy="204120"/>
            </a:xfrm>
          </p:grpSpPr>
          <p:sp>
            <p:nvSpPr>
              <p:cNvPr id="666" name="Freeform 217"/>
              <p:cNvSpPr/>
              <p:nvPr/>
            </p:nvSpPr>
            <p:spPr>
              <a:xfrm rot="931200">
                <a:off x="189720" y="5653440"/>
                <a:ext cx="76320" cy="1908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176" h="306">
                    <a:moveTo>
                      <a:pt x="0" y="306"/>
                    </a:moveTo>
                    <a:lnTo>
                      <a:pt x="30" y="59"/>
                    </a:lnTo>
                    <a:lnTo>
                      <a:pt x="40" y="64"/>
                    </a:lnTo>
                    <a:lnTo>
                      <a:pt x="68" y="24"/>
                    </a:lnTo>
                    <a:lnTo>
                      <a:pt x="102" y="0"/>
                    </a:lnTo>
                    <a:lnTo>
                      <a:pt x="146" y="5"/>
                    </a:lnTo>
                    <a:lnTo>
                      <a:pt x="176" y="69"/>
                    </a:lnTo>
                    <a:lnTo>
                      <a:pt x="146" y="31"/>
                    </a:lnTo>
                    <a:lnTo>
                      <a:pt x="110" y="28"/>
                    </a:lnTo>
                    <a:lnTo>
                      <a:pt x="84" y="36"/>
                    </a:lnTo>
                    <a:lnTo>
                      <a:pt x="42" y="126"/>
                    </a:lnTo>
                    <a:lnTo>
                      <a:pt x="22" y="232"/>
                    </a:lnTo>
                    <a:lnTo>
                      <a:pt x="10" y="292"/>
                    </a:lnTo>
                    <a:lnTo>
                      <a:pt x="0" y="306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stretch/>
              </a:blipFill>
              <a:ln cap="rnd" w="9360">
                <a:solidFill>
                  <a:srgbClr val="008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18"/>
              <p:cNvSpPr/>
              <p:nvPr/>
            </p:nvSpPr>
            <p:spPr>
              <a:xfrm rot="117600">
                <a:off x="122400" y="5669280"/>
                <a:ext cx="104040" cy="1796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79640"/>
                  <a:gd name="textAreaBottom" fmla="*/ 179640 h 179640"/>
                </a:gdLst>
                <a:ahLst/>
                <a:rect l="textAreaLeft" t="textAreaTop" r="textAreaRight" b="textAreaBottom"/>
                <a:pathLst>
                  <a:path w="242" h="242">
                    <a:moveTo>
                      <a:pt x="19" y="93"/>
                    </a:moveTo>
                    <a:cubicBezTo>
                      <a:pt x="37" y="98"/>
                      <a:pt x="41" y="107"/>
                      <a:pt x="55" y="117"/>
                    </a:cubicBezTo>
                    <a:cubicBezTo>
                      <a:pt x="63" y="129"/>
                      <a:pt x="76" y="139"/>
                      <a:pt x="88" y="147"/>
                    </a:cubicBezTo>
                    <a:cubicBezTo>
                      <a:pt x="94" y="156"/>
                      <a:pt x="97" y="165"/>
                      <a:pt x="103" y="174"/>
                    </a:cubicBezTo>
                    <a:cubicBezTo>
                      <a:pt x="109" y="196"/>
                      <a:pt x="114" y="218"/>
                      <a:pt x="118" y="240"/>
                    </a:cubicBezTo>
                    <a:cubicBezTo>
                      <a:pt x="132" y="235"/>
                      <a:pt x="133" y="230"/>
                      <a:pt x="148" y="234"/>
                    </a:cubicBezTo>
                    <a:cubicBezTo>
                      <a:pt x="151" y="236"/>
                      <a:pt x="154" y="242"/>
                      <a:pt x="157" y="240"/>
                    </a:cubicBezTo>
                    <a:cubicBezTo>
                      <a:pt x="164" y="235"/>
                      <a:pt x="161" y="224"/>
                      <a:pt x="163" y="216"/>
                    </a:cubicBezTo>
                    <a:cubicBezTo>
                      <a:pt x="168" y="199"/>
                      <a:pt x="173" y="183"/>
                      <a:pt x="181" y="168"/>
                    </a:cubicBezTo>
                    <a:cubicBezTo>
                      <a:pt x="198" y="138"/>
                      <a:pt x="185" y="157"/>
                      <a:pt x="202" y="147"/>
                    </a:cubicBezTo>
                    <a:cubicBezTo>
                      <a:pt x="208" y="143"/>
                      <a:pt x="220" y="135"/>
                      <a:pt x="220" y="135"/>
                    </a:cubicBezTo>
                    <a:cubicBezTo>
                      <a:pt x="224" y="136"/>
                      <a:pt x="228" y="136"/>
                      <a:pt x="232" y="138"/>
                    </a:cubicBezTo>
                    <a:cubicBezTo>
                      <a:pt x="235" y="139"/>
                      <a:pt x="242" y="147"/>
                      <a:pt x="241" y="144"/>
                    </a:cubicBezTo>
                    <a:cubicBezTo>
                      <a:pt x="236" y="129"/>
                      <a:pt x="234" y="120"/>
                      <a:pt x="220" y="111"/>
                    </a:cubicBezTo>
                    <a:cubicBezTo>
                      <a:pt x="212" y="112"/>
                      <a:pt x="204" y="112"/>
                      <a:pt x="196" y="114"/>
                    </a:cubicBezTo>
                    <a:cubicBezTo>
                      <a:pt x="190" y="115"/>
                      <a:pt x="178" y="120"/>
                      <a:pt x="178" y="120"/>
                    </a:cubicBezTo>
                    <a:cubicBezTo>
                      <a:pt x="176" y="123"/>
                      <a:pt x="175" y="127"/>
                      <a:pt x="172" y="129"/>
                    </a:cubicBezTo>
                    <a:cubicBezTo>
                      <a:pt x="170" y="131"/>
                      <a:pt x="165" y="130"/>
                      <a:pt x="163" y="132"/>
                    </a:cubicBezTo>
                    <a:cubicBezTo>
                      <a:pt x="161" y="134"/>
                      <a:pt x="150" y="166"/>
                      <a:pt x="148" y="171"/>
                    </a:cubicBezTo>
                    <a:cubicBezTo>
                      <a:pt x="145" y="132"/>
                      <a:pt x="140" y="72"/>
                      <a:pt x="103" y="48"/>
                    </a:cubicBezTo>
                    <a:cubicBezTo>
                      <a:pt x="96" y="26"/>
                      <a:pt x="62" y="7"/>
                      <a:pt x="40" y="0"/>
                    </a:cubicBezTo>
                    <a:cubicBezTo>
                      <a:pt x="49" y="14"/>
                      <a:pt x="60" y="34"/>
                      <a:pt x="76" y="39"/>
                    </a:cubicBezTo>
                    <a:cubicBezTo>
                      <a:pt x="86" y="54"/>
                      <a:pt x="96" y="68"/>
                      <a:pt x="103" y="84"/>
                    </a:cubicBezTo>
                    <a:cubicBezTo>
                      <a:pt x="107" y="93"/>
                      <a:pt x="112" y="111"/>
                      <a:pt x="112" y="111"/>
                    </a:cubicBezTo>
                    <a:cubicBezTo>
                      <a:pt x="114" y="125"/>
                      <a:pt x="119" y="140"/>
                      <a:pt x="115" y="153"/>
                    </a:cubicBezTo>
                    <a:cubicBezTo>
                      <a:pt x="101" y="132"/>
                      <a:pt x="109" y="139"/>
                      <a:pt x="94" y="129"/>
                    </a:cubicBezTo>
                    <a:cubicBezTo>
                      <a:pt x="90" y="117"/>
                      <a:pt x="80" y="108"/>
                      <a:pt x="70" y="102"/>
                    </a:cubicBezTo>
                    <a:cubicBezTo>
                      <a:pt x="64" y="98"/>
                      <a:pt x="58" y="94"/>
                      <a:pt x="52" y="90"/>
                    </a:cubicBezTo>
                    <a:cubicBezTo>
                      <a:pt x="49" y="88"/>
                      <a:pt x="43" y="84"/>
                      <a:pt x="43" y="84"/>
                    </a:cubicBezTo>
                    <a:cubicBezTo>
                      <a:pt x="34" y="85"/>
                      <a:pt x="25" y="86"/>
                      <a:pt x="16" y="87"/>
                    </a:cubicBezTo>
                    <a:cubicBezTo>
                      <a:pt x="10" y="88"/>
                      <a:pt x="0" y="95"/>
                      <a:pt x="4" y="99"/>
                    </a:cubicBezTo>
                    <a:cubicBezTo>
                      <a:pt x="7" y="102"/>
                      <a:pt x="29" y="83"/>
                      <a:pt x="19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ae471"/>
                  </a:gs>
                  <a:gs pos="50000">
                    <a:srgbClr val="008000"/>
                  </a:gs>
                  <a:gs pos="100000">
                    <a:srgbClr val="5ae471"/>
                  </a:gs>
                </a:gsLst>
                <a:lin ang="816000"/>
              </a:gra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Freeform 219"/>
            <p:cNvSpPr/>
            <p:nvPr/>
          </p:nvSpPr>
          <p:spPr>
            <a:xfrm flipH="1">
              <a:off x="1464120" y="5644800"/>
              <a:ext cx="209520" cy="214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42" h="242">
                  <a:moveTo>
                    <a:pt x="19" y="93"/>
                  </a:moveTo>
                  <a:cubicBezTo>
                    <a:pt x="37" y="98"/>
                    <a:pt x="41" y="107"/>
                    <a:pt x="55" y="117"/>
                  </a:cubicBezTo>
                  <a:cubicBezTo>
                    <a:pt x="63" y="129"/>
                    <a:pt x="76" y="139"/>
                    <a:pt x="88" y="147"/>
                  </a:cubicBezTo>
                  <a:cubicBezTo>
                    <a:pt x="94" y="156"/>
                    <a:pt x="97" y="165"/>
                    <a:pt x="103" y="174"/>
                  </a:cubicBezTo>
                  <a:cubicBezTo>
                    <a:pt x="109" y="196"/>
                    <a:pt x="114" y="218"/>
                    <a:pt x="118" y="240"/>
                  </a:cubicBezTo>
                  <a:cubicBezTo>
                    <a:pt x="132" y="235"/>
                    <a:pt x="133" y="230"/>
                    <a:pt x="148" y="234"/>
                  </a:cubicBezTo>
                  <a:cubicBezTo>
                    <a:pt x="151" y="236"/>
                    <a:pt x="154" y="242"/>
                    <a:pt x="157" y="240"/>
                  </a:cubicBezTo>
                  <a:cubicBezTo>
                    <a:pt x="164" y="235"/>
                    <a:pt x="161" y="224"/>
                    <a:pt x="163" y="216"/>
                  </a:cubicBezTo>
                  <a:cubicBezTo>
                    <a:pt x="168" y="199"/>
                    <a:pt x="173" y="183"/>
                    <a:pt x="181" y="168"/>
                  </a:cubicBezTo>
                  <a:cubicBezTo>
                    <a:pt x="198" y="138"/>
                    <a:pt x="185" y="157"/>
                    <a:pt x="202" y="147"/>
                  </a:cubicBezTo>
                  <a:cubicBezTo>
                    <a:pt x="208" y="143"/>
                    <a:pt x="220" y="135"/>
                    <a:pt x="220" y="135"/>
                  </a:cubicBezTo>
                  <a:cubicBezTo>
                    <a:pt x="224" y="136"/>
                    <a:pt x="228" y="136"/>
                    <a:pt x="232" y="138"/>
                  </a:cubicBezTo>
                  <a:cubicBezTo>
                    <a:pt x="235" y="139"/>
                    <a:pt x="242" y="147"/>
                    <a:pt x="241" y="144"/>
                  </a:cubicBezTo>
                  <a:cubicBezTo>
                    <a:pt x="236" y="129"/>
                    <a:pt x="234" y="120"/>
                    <a:pt x="220" y="111"/>
                  </a:cubicBezTo>
                  <a:cubicBezTo>
                    <a:pt x="212" y="112"/>
                    <a:pt x="204" y="112"/>
                    <a:pt x="196" y="114"/>
                  </a:cubicBezTo>
                  <a:cubicBezTo>
                    <a:pt x="190" y="115"/>
                    <a:pt x="178" y="120"/>
                    <a:pt x="178" y="120"/>
                  </a:cubicBezTo>
                  <a:cubicBezTo>
                    <a:pt x="176" y="123"/>
                    <a:pt x="175" y="127"/>
                    <a:pt x="172" y="129"/>
                  </a:cubicBezTo>
                  <a:cubicBezTo>
                    <a:pt x="170" y="131"/>
                    <a:pt x="165" y="130"/>
                    <a:pt x="163" y="132"/>
                  </a:cubicBezTo>
                  <a:cubicBezTo>
                    <a:pt x="161" y="134"/>
                    <a:pt x="150" y="166"/>
                    <a:pt x="148" y="171"/>
                  </a:cubicBezTo>
                  <a:cubicBezTo>
                    <a:pt x="145" y="132"/>
                    <a:pt x="140" y="72"/>
                    <a:pt x="103" y="48"/>
                  </a:cubicBezTo>
                  <a:cubicBezTo>
                    <a:pt x="96" y="26"/>
                    <a:pt x="62" y="7"/>
                    <a:pt x="40" y="0"/>
                  </a:cubicBezTo>
                  <a:cubicBezTo>
                    <a:pt x="49" y="14"/>
                    <a:pt x="60" y="34"/>
                    <a:pt x="76" y="39"/>
                  </a:cubicBezTo>
                  <a:cubicBezTo>
                    <a:pt x="86" y="54"/>
                    <a:pt x="96" y="68"/>
                    <a:pt x="103" y="84"/>
                  </a:cubicBezTo>
                  <a:cubicBezTo>
                    <a:pt x="107" y="93"/>
                    <a:pt x="112" y="111"/>
                    <a:pt x="112" y="111"/>
                  </a:cubicBezTo>
                  <a:cubicBezTo>
                    <a:pt x="114" y="125"/>
                    <a:pt x="119" y="140"/>
                    <a:pt x="115" y="153"/>
                  </a:cubicBezTo>
                  <a:cubicBezTo>
                    <a:pt x="101" y="132"/>
                    <a:pt x="109" y="139"/>
                    <a:pt x="94" y="129"/>
                  </a:cubicBezTo>
                  <a:cubicBezTo>
                    <a:pt x="90" y="117"/>
                    <a:pt x="80" y="108"/>
                    <a:pt x="70" y="102"/>
                  </a:cubicBezTo>
                  <a:cubicBezTo>
                    <a:pt x="64" y="98"/>
                    <a:pt x="58" y="94"/>
                    <a:pt x="52" y="90"/>
                  </a:cubicBezTo>
                  <a:cubicBezTo>
                    <a:pt x="49" y="88"/>
                    <a:pt x="43" y="84"/>
                    <a:pt x="43" y="84"/>
                  </a:cubicBezTo>
                  <a:cubicBezTo>
                    <a:pt x="34" y="85"/>
                    <a:pt x="25" y="86"/>
                    <a:pt x="16" y="87"/>
                  </a:cubicBezTo>
                  <a:cubicBezTo>
                    <a:pt x="10" y="88"/>
                    <a:pt x="0" y="95"/>
                    <a:pt x="4" y="99"/>
                  </a:cubicBezTo>
                  <a:cubicBezTo>
                    <a:pt x="7" y="102"/>
                    <a:pt x="29" y="83"/>
                    <a:pt x="19" y="93"/>
                  </a:cubicBezTo>
                  <a:close/>
                </a:path>
              </a:pathLst>
            </a:custGeom>
            <a:gradFill rotWithShape="0">
              <a:gsLst>
                <a:gs pos="0">
                  <a:srgbClr val="5ae471"/>
                </a:gs>
                <a:gs pos="50000">
                  <a:srgbClr val="008000"/>
                </a:gs>
                <a:gs pos="100000">
                  <a:srgbClr val="5ae471"/>
                </a:gs>
              </a:gsLst>
              <a:lin ang="0"/>
            </a:gradFill>
            <a:ln w="936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220"/>
            <p:cNvSpPr/>
            <p:nvPr/>
          </p:nvSpPr>
          <p:spPr>
            <a:xfrm>
              <a:off x="543960" y="5644800"/>
              <a:ext cx="169200" cy="27972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42" h="242">
                  <a:moveTo>
                    <a:pt x="19" y="93"/>
                  </a:moveTo>
                  <a:cubicBezTo>
                    <a:pt x="37" y="98"/>
                    <a:pt x="41" y="107"/>
                    <a:pt x="55" y="117"/>
                  </a:cubicBezTo>
                  <a:cubicBezTo>
                    <a:pt x="63" y="129"/>
                    <a:pt x="76" y="139"/>
                    <a:pt x="88" y="147"/>
                  </a:cubicBezTo>
                  <a:cubicBezTo>
                    <a:pt x="94" y="156"/>
                    <a:pt x="97" y="165"/>
                    <a:pt x="103" y="174"/>
                  </a:cubicBezTo>
                  <a:cubicBezTo>
                    <a:pt x="109" y="196"/>
                    <a:pt x="114" y="218"/>
                    <a:pt x="118" y="240"/>
                  </a:cubicBezTo>
                  <a:cubicBezTo>
                    <a:pt x="132" y="235"/>
                    <a:pt x="133" y="230"/>
                    <a:pt x="148" y="234"/>
                  </a:cubicBezTo>
                  <a:cubicBezTo>
                    <a:pt x="151" y="236"/>
                    <a:pt x="154" y="242"/>
                    <a:pt x="157" y="240"/>
                  </a:cubicBezTo>
                  <a:cubicBezTo>
                    <a:pt x="164" y="235"/>
                    <a:pt x="161" y="224"/>
                    <a:pt x="163" y="216"/>
                  </a:cubicBezTo>
                  <a:cubicBezTo>
                    <a:pt x="168" y="199"/>
                    <a:pt x="173" y="183"/>
                    <a:pt x="181" y="168"/>
                  </a:cubicBezTo>
                  <a:cubicBezTo>
                    <a:pt x="198" y="138"/>
                    <a:pt x="185" y="157"/>
                    <a:pt x="202" y="147"/>
                  </a:cubicBezTo>
                  <a:cubicBezTo>
                    <a:pt x="208" y="143"/>
                    <a:pt x="220" y="135"/>
                    <a:pt x="220" y="135"/>
                  </a:cubicBezTo>
                  <a:cubicBezTo>
                    <a:pt x="224" y="136"/>
                    <a:pt x="228" y="136"/>
                    <a:pt x="232" y="138"/>
                  </a:cubicBezTo>
                  <a:cubicBezTo>
                    <a:pt x="235" y="139"/>
                    <a:pt x="242" y="147"/>
                    <a:pt x="241" y="144"/>
                  </a:cubicBezTo>
                  <a:cubicBezTo>
                    <a:pt x="236" y="129"/>
                    <a:pt x="234" y="120"/>
                    <a:pt x="220" y="111"/>
                  </a:cubicBezTo>
                  <a:cubicBezTo>
                    <a:pt x="212" y="112"/>
                    <a:pt x="204" y="112"/>
                    <a:pt x="196" y="114"/>
                  </a:cubicBezTo>
                  <a:cubicBezTo>
                    <a:pt x="190" y="115"/>
                    <a:pt x="178" y="120"/>
                    <a:pt x="178" y="120"/>
                  </a:cubicBezTo>
                  <a:cubicBezTo>
                    <a:pt x="176" y="123"/>
                    <a:pt x="175" y="127"/>
                    <a:pt x="172" y="129"/>
                  </a:cubicBezTo>
                  <a:cubicBezTo>
                    <a:pt x="170" y="131"/>
                    <a:pt x="165" y="130"/>
                    <a:pt x="163" y="132"/>
                  </a:cubicBezTo>
                  <a:cubicBezTo>
                    <a:pt x="161" y="134"/>
                    <a:pt x="150" y="166"/>
                    <a:pt x="148" y="171"/>
                  </a:cubicBezTo>
                  <a:cubicBezTo>
                    <a:pt x="145" y="132"/>
                    <a:pt x="140" y="72"/>
                    <a:pt x="103" y="48"/>
                  </a:cubicBezTo>
                  <a:cubicBezTo>
                    <a:pt x="96" y="26"/>
                    <a:pt x="62" y="7"/>
                    <a:pt x="40" y="0"/>
                  </a:cubicBezTo>
                  <a:cubicBezTo>
                    <a:pt x="49" y="14"/>
                    <a:pt x="60" y="34"/>
                    <a:pt x="76" y="39"/>
                  </a:cubicBezTo>
                  <a:cubicBezTo>
                    <a:pt x="86" y="54"/>
                    <a:pt x="96" y="68"/>
                    <a:pt x="103" y="84"/>
                  </a:cubicBezTo>
                  <a:cubicBezTo>
                    <a:pt x="107" y="93"/>
                    <a:pt x="112" y="111"/>
                    <a:pt x="112" y="111"/>
                  </a:cubicBezTo>
                  <a:cubicBezTo>
                    <a:pt x="114" y="125"/>
                    <a:pt x="119" y="140"/>
                    <a:pt x="115" y="153"/>
                  </a:cubicBezTo>
                  <a:cubicBezTo>
                    <a:pt x="101" y="132"/>
                    <a:pt x="109" y="139"/>
                    <a:pt x="94" y="129"/>
                  </a:cubicBezTo>
                  <a:cubicBezTo>
                    <a:pt x="90" y="117"/>
                    <a:pt x="80" y="108"/>
                    <a:pt x="70" y="102"/>
                  </a:cubicBezTo>
                  <a:cubicBezTo>
                    <a:pt x="64" y="98"/>
                    <a:pt x="58" y="94"/>
                    <a:pt x="52" y="90"/>
                  </a:cubicBezTo>
                  <a:cubicBezTo>
                    <a:pt x="49" y="88"/>
                    <a:pt x="43" y="84"/>
                    <a:pt x="43" y="84"/>
                  </a:cubicBezTo>
                  <a:cubicBezTo>
                    <a:pt x="34" y="85"/>
                    <a:pt x="25" y="86"/>
                    <a:pt x="16" y="87"/>
                  </a:cubicBezTo>
                  <a:cubicBezTo>
                    <a:pt x="10" y="88"/>
                    <a:pt x="0" y="95"/>
                    <a:pt x="4" y="99"/>
                  </a:cubicBezTo>
                  <a:cubicBezTo>
                    <a:pt x="7" y="102"/>
                    <a:pt x="29" y="83"/>
                    <a:pt x="19" y="93"/>
                  </a:cubicBezTo>
                  <a:close/>
                </a:path>
              </a:pathLst>
            </a:custGeom>
            <a:gradFill rotWithShape="0">
              <a:gsLst>
                <a:gs pos="0">
                  <a:srgbClr val="5ae471"/>
                </a:gs>
                <a:gs pos="50000">
                  <a:srgbClr val="008000"/>
                </a:gs>
                <a:gs pos="100000">
                  <a:srgbClr val="5ae471"/>
                </a:gs>
              </a:gsLst>
              <a:lin ang="0"/>
            </a:gra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221"/>
            <p:cNvSpPr/>
            <p:nvPr/>
          </p:nvSpPr>
          <p:spPr>
            <a:xfrm>
              <a:off x="627840" y="5725080"/>
              <a:ext cx="611640" cy="2815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48" h="168">
                  <a:moveTo>
                    <a:pt x="3" y="129"/>
                  </a:moveTo>
                  <a:cubicBezTo>
                    <a:pt x="26" y="121"/>
                    <a:pt x="29" y="99"/>
                    <a:pt x="48" y="87"/>
                  </a:cubicBezTo>
                  <a:cubicBezTo>
                    <a:pt x="57" y="74"/>
                    <a:pt x="58" y="63"/>
                    <a:pt x="72" y="54"/>
                  </a:cubicBezTo>
                  <a:cubicBezTo>
                    <a:pt x="73" y="51"/>
                    <a:pt x="72" y="47"/>
                    <a:pt x="75" y="45"/>
                  </a:cubicBezTo>
                  <a:cubicBezTo>
                    <a:pt x="91" y="34"/>
                    <a:pt x="119" y="31"/>
                    <a:pt x="138" y="18"/>
                  </a:cubicBezTo>
                  <a:cubicBezTo>
                    <a:pt x="144" y="14"/>
                    <a:pt x="149" y="8"/>
                    <a:pt x="156" y="6"/>
                  </a:cubicBezTo>
                  <a:cubicBezTo>
                    <a:pt x="162" y="4"/>
                    <a:pt x="174" y="0"/>
                    <a:pt x="174" y="0"/>
                  </a:cubicBezTo>
                  <a:cubicBezTo>
                    <a:pt x="205" y="6"/>
                    <a:pt x="230" y="19"/>
                    <a:pt x="261" y="24"/>
                  </a:cubicBezTo>
                  <a:cubicBezTo>
                    <a:pt x="278" y="27"/>
                    <a:pt x="276" y="27"/>
                    <a:pt x="294" y="33"/>
                  </a:cubicBezTo>
                  <a:cubicBezTo>
                    <a:pt x="297" y="34"/>
                    <a:pt x="303" y="36"/>
                    <a:pt x="303" y="36"/>
                  </a:cubicBezTo>
                  <a:cubicBezTo>
                    <a:pt x="319" y="60"/>
                    <a:pt x="298" y="31"/>
                    <a:pt x="318" y="51"/>
                  </a:cubicBezTo>
                  <a:cubicBezTo>
                    <a:pt x="326" y="59"/>
                    <a:pt x="327" y="69"/>
                    <a:pt x="336" y="78"/>
                  </a:cubicBezTo>
                  <a:cubicBezTo>
                    <a:pt x="339" y="88"/>
                    <a:pt x="345" y="95"/>
                    <a:pt x="348" y="105"/>
                  </a:cubicBezTo>
                  <a:cubicBezTo>
                    <a:pt x="342" y="109"/>
                    <a:pt x="336" y="113"/>
                    <a:pt x="330" y="117"/>
                  </a:cubicBezTo>
                  <a:cubicBezTo>
                    <a:pt x="327" y="119"/>
                    <a:pt x="321" y="123"/>
                    <a:pt x="321" y="123"/>
                  </a:cubicBezTo>
                  <a:cubicBezTo>
                    <a:pt x="313" y="146"/>
                    <a:pt x="312" y="148"/>
                    <a:pt x="288" y="156"/>
                  </a:cubicBezTo>
                  <a:cubicBezTo>
                    <a:pt x="271" y="153"/>
                    <a:pt x="254" y="149"/>
                    <a:pt x="237" y="147"/>
                  </a:cubicBezTo>
                  <a:cubicBezTo>
                    <a:pt x="223" y="148"/>
                    <a:pt x="205" y="143"/>
                    <a:pt x="195" y="153"/>
                  </a:cubicBezTo>
                  <a:cubicBezTo>
                    <a:pt x="193" y="155"/>
                    <a:pt x="195" y="160"/>
                    <a:pt x="192" y="162"/>
                  </a:cubicBezTo>
                  <a:cubicBezTo>
                    <a:pt x="187" y="166"/>
                    <a:pt x="174" y="168"/>
                    <a:pt x="174" y="168"/>
                  </a:cubicBezTo>
                  <a:cubicBezTo>
                    <a:pt x="138" y="166"/>
                    <a:pt x="117" y="163"/>
                    <a:pt x="84" y="159"/>
                  </a:cubicBezTo>
                  <a:cubicBezTo>
                    <a:pt x="59" y="167"/>
                    <a:pt x="31" y="168"/>
                    <a:pt x="9" y="153"/>
                  </a:cubicBezTo>
                  <a:cubicBezTo>
                    <a:pt x="7" y="150"/>
                    <a:pt x="4" y="148"/>
                    <a:pt x="3" y="144"/>
                  </a:cubicBezTo>
                  <a:cubicBezTo>
                    <a:pt x="0" y="127"/>
                    <a:pt x="31" y="136"/>
                    <a:pt x="3" y="1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>
                    <a:alpha val="88235"/>
                  </a:srgbClr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222"/>
            <p:cNvSpPr/>
            <p:nvPr/>
          </p:nvSpPr>
          <p:spPr>
            <a:xfrm>
              <a:off x="0" y="5691600"/>
              <a:ext cx="1701360" cy="375480"/>
            </a:xfrm>
            <a:custGeom>
              <a:avLst/>
              <a:gdLst>
                <a:gd name="textAreaLeft" fmla="*/ 0 w 1701360"/>
                <a:gd name="textAreaRight" fmla="*/ 1701720 w 170136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976" h="224">
                  <a:moveTo>
                    <a:pt x="120" y="68"/>
                  </a:moveTo>
                  <a:lnTo>
                    <a:pt x="0" y="112"/>
                  </a:lnTo>
                  <a:lnTo>
                    <a:pt x="156" y="172"/>
                  </a:lnTo>
                  <a:lnTo>
                    <a:pt x="424" y="224"/>
                  </a:lnTo>
                  <a:lnTo>
                    <a:pt x="748" y="204"/>
                  </a:lnTo>
                  <a:lnTo>
                    <a:pt x="976" y="136"/>
                  </a:lnTo>
                  <a:lnTo>
                    <a:pt x="952" y="64"/>
                  </a:lnTo>
                  <a:lnTo>
                    <a:pt x="868" y="0"/>
                  </a:lnTo>
                  <a:lnTo>
                    <a:pt x="832" y="92"/>
                  </a:lnTo>
                  <a:lnTo>
                    <a:pt x="736" y="112"/>
                  </a:lnTo>
                  <a:lnTo>
                    <a:pt x="692" y="136"/>
                  </a:lnTo>
                  <a:lnTo>
                    <a:pt x="652" y="180"/>
                  </a:lnTo>
                  <a:lnTo>
                    <a:pt x="572" y="164"/>
                  </a:lnTo>
                  <a:lnTo>
                    <a:pt x="464" y="188"/>
                  </a:lnTo>
                  <a:lnTo>
                    <a:pt x="424" y="152"/>
                  </a:lnTo>
                  <a:lnTo>
                    <a:pt x="372" y="112"/>
                  </a:lnTo>
                  <a:lnTo>
                    <a:pt x="264" y="104"/>
                  </a:lnTo>
                  <a:lnTo>
                    <a:pt x="120" y="68"/>
                  </a:lnTo>
                  <a:close/>
                </a:path>
              </a:pathLst>
            </a:custGeom>
            <a:gradFill rotWithShape="0">
              <a:gsLst>
                <a:gs pos="0">
                  <a:srgbClr val="63e844">
                    <a:alpha val="15294"/>
                  </a:srgbClr>
                </a:gs>
                <a:gs pos="100000">
                  <a:srgbClr val="cccc00">
                    <a:alpha val="9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223"/>
            <p:cNvGrpSpPr/>
            <p:nvPr/>
          </p:nvGrpSpPr>
          <p:grpSpPr>
            <a:xfrm>
              <a:off x="878760" y="5000760"/>
              <a:ext cx="417960" cy="461160"/>
              <a:chOff x="878760" y="5000760"/>
              <a:chExt cx="417960" cy="461160"/>
            </a:xfrm>
          </p:grpSpPr>
          <p:sp>
            <p:nvSpPr>
              <p:cNvPr id="673" name="Freeform 224"/>
              <p:cNvSpPr/>
              <p:nvPr/>
            </p:nvSpPr>
            <p:spPr>
              <a:xfrm>
                <a:off x="951480" y="5105520"/>
                <a:ext cx="272520" cy="35640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720" h="816">
                    <a:moveTo>
                      <a:pt x="336" y="768"/>
                    </a:moveTo>
                    <a:lnTo>
                      <a:pt x="339" y="621"/>
                    </a:lnTo>
                    <a:lnTo>
                      <a:pt x="321" y="546"/>
                    </a:lnTo>
                    <a:lnTo>
                      <a:pt x="234" y="468"/>
                    </a:lnTo>
                    <a:lnTo>
                      <a:pt x="201" y="417"/>
                    </a:lnTo>
                    <a:lnTo>
                      <a:pt x="96" y="336"/>
                    </a:lnTo>
                    <a:lnTo>
                      <a:pt x="0" y="336"/>
                    </a:lnTo>
                    <a:lnTo>
                      <a:pt x="147" y="375"/>
                    </a:lnTo>
                    <a:lnTo>
                      <a:pt x="150" y="342"/>
                    </a:lnTo>
                    <a:lnTo>
                      <a:pt x="228" y="423"/>
                    </a:lnTo>
                    <a:lnTo>
                      <a:pt x="246" y="441"/>
                    </a:lnTo>
                    <a:lnTo>
                      <a:pt x="336" y="528"/>
                    </a:lnTo>
                    <a:lnTo>
                      <a:pt x="384" y="336"/>
                    </a:lnTo>
                    <a:lnTo>
                      <a:pt x="384" y="240"/>
                    </a:lnTo>
                    <a:lnTo>
                      <a:pt x="318" y="195"/>
                    </a:lnTo>
                    <a:lnTo>
                      <a:pt x="240" y="192"/>
                    </a:lnTo>
                    <a:lnTo>
                      <a:pt x="297" y="171"/>
                    </a:lnTo>
                    <a:lnTo>
                      <a:pt x="375" y="198"/>
                    </a:lnTo>
                    <a:lnTo>
                      <a:pt x="408" y="231"/>
                    </a:lnTo>
                    <a:lnTo>
                      <a:pt x="441" y="180"/>
                    </a:lnTo>
                    <a:lnTo>
                      <a:pt x="468" y="126"/>
                    </a:lnTo>
                    <a:lnTo>
                      <a:pt x="528" y="0"/>
                    </a:lnTo>
                    <a:lnTo>
                      <a:pt x="510" y="96"/>
                    </a:lnTo>
                    <a:lnTo>
                      <a:pt x="432" y="288"/>
                    </a:lnTo>
                    <a:lnTo>
                      <a:pt x="384" y="540"/>
                    </a:lnTo>
                    <a:lnTo>
                      <a:pt x="474" y="453"/>
                    </a:lnTo>
                    <a:lnTo>
                      <a:pt x="579" y="405"/>
                    </a:lnTo>
                    <a:lnTo>
                      <a:pt x="720" y="384"/>
                    </a:lnTo>
                    <a:lnTo>
                      <a:pt x="603" y="426"/>
                    </a:lnTo>
                    <a:lnTo>
                      <a:pt x="678" y="507"/>
                    </a:lnTo>
                    <a:lnTo>
                      <a:pt x="576" y="432"/>
                    </a:lnTo>
                    <a:lnTo>
                      <a:pt x="480" y="480"/>
                    </a:lnTo>
                    <a:lnTo>
                      <a:pt x="432" y="576"/>
                    </a:lnTo>
                    <a:lnTo>
                      <a:pt x="432" y="720"/>
                    </a:lnTo>
                    <a:lnTo>
                      <a:pt x="432" y="816"/>
                    </a:lnTo>
                    <a:lnTo>
                      <a:pt x="240" y="816"/>
                    </a:lnTo>
                    <a:lnTo>
                      <a:pt x="303" y="723"/>
                    </a:lnTo>
                    <a:lnTo>
                      <a:pt x="297" y="600"/>
                    </a:lnTo>
                    <a:lnTo>
                      <a:pt x="240" y="480"/>
                    </a:lnTo>
                    <a:lnTo>
                      <a:pt x="288" y="432"/>
                    </a:lnTo>
                    <a:lnTo>
                      <a:pt x="384" y="624"/>
                    </a:lnTo>
                    <a:lnTo>
                      <a:pt x="363" y="678"/>
                    </a:lnTo>
                    <a:lnTo>
                      <a:pt x="336" y="768"/>
                    </a:lnTo>
                    <a:close/>
                  </a:path>
                </a:pathLst>
              </a:custGeom>
              <a:blipFill rotWithShape="0">
                <a:blip r:embed="rId85">
                  <a:alphaModFix amt="90000"/>
                </a:blip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225"/>
              <p:cNvSpPr/>
              <p:nvPr/>
            </p:nvSpPr>
            <p:spPr>
              <a:xfrm>
                <a:off x="878760" y="5000760"/>
                <a:ext cx="417960" cy="3772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1104" h="864">
                    <a:moveTo>
                      <a:pt x="336" y="672"/>
                    </a:moveTo>
                    <a:lnTo>
                      <a:pt x="288" y="720"/>
                    </a:lnTo>
                    <a:lnTo>
                      <a:pt x="240" y="768"/>
                    </a:lnTo>
                    <a:lnTo>
                      <a:pt x="144" y="768"/>
                    </a:lnTo>
                    <a:lnTo>
                      <a:pt x="96" y="720"/>
                    </a:lnTo>
                    <a:lnTo>
                      <a:pt x="0" y="624"/>
                    </a:lnTo>
                    <a:lnTo>
                      <a:pt x="0" y="528"/>
                    </a:lnTo>
                    <a:lnTo>
                      <a:pt x="48" y="432"/>
                    </a:lnTo>
                    <a:lnTo>
                      <a:pt x="96" y="336"/>
                    </a:lnTo>
                    <a:lnTo>
                      <a:pt x="192" y="384"/>
                    </a:lnTo>
                    <a:lnTo>
                      <a:pt x="240" y="336"/>
                    </a:lnTo>
                    <a:lnTo>
                      <a:pt x="240" y="240"/>
                    </a:lnTo>
                    <a:lnTo>
                      <a:pt x="336" y="192"/>
                    </a:lnTo>
                    <a:lnTo>
                      <a:pt x="384" y="96"/>
                    </a:lnTo>
                    <a:lnTo>
                      <a:pt x="432" y="48"/>
                    </a:lnTo>
                    <a:lnTo>
                      <a:pt x="576" y="0"/>
                    </a:lnTo>
                    <a:lnTo>
                      <a:pt x="768" y="48"/>
                    </a:lnTo>
                    <a:lnTo>
                      <a:pt x="912" y="0"/>
                    </a:lnTo>
                    <a:lnTo>
                      <a:pt x="1008" y="96"/>
                    </a:lnTo>
                    <a:lnTo>
                      <a:pt x="1008" y="288"/>
                    </a:lnTo>
                    <a:lnTo>
                      <a:pt x="864" y="336"/>
                    </a:lnTo>
                    <a:lnTo>
                      <a:pt x="960" y="384"/>
                    </a:lnTo>
                    <a:lnTo>
                      <a:pt x="1104" y="528"/>
                    </a:lnTo>
                    <a:lnTo>
                      <a:pt x="1104" y="672"/>
                    </a:lnTo>
                    <a:lnTo>
                      <a:pt x="1008" y="768"/>
                    </a:lnTo>
                    <a:lnTo>
                      <a:pt x="864" y="864"/>
                    </a:lnTo>
                    <a:lnTo>
                      <a:pt x="768" y="816"/>
                    </a:lnTo>
                    <a:lnTo>
                      <a:pt x="720" y="720"/>
                    </a:lnTo>
                    <a:lnTo>
                      <a:pt x="672" y="720"/>
                    </a:lnTo>
                    <a:lnTo>
                      <a:pt x="672" y="624"/>
                    </a:lnTo>
                    <a:lnTo>
                      <a:pt x="576" y="624"/>
                    </a:lnTo>
                    <a:lnTo>
                      <a:pt x="480" y="576"/>
                    </a:lnTo>
                    <a:lnTo>
                      <a:pt x="432" y="576"/>
                    </a:lnTo>
                    <a:lnTo>
                      <a:pt x="384" y="672"/>
                    </a:lnTo>
                    <a:lnTo>
                      <a:pt x="336" y="672"/>
                    </a:lnTo>
                    <a:close/>
                  </a:path>
                </a:pathLst>
              </a:custGeom>
              <a:blipFill rotWithShape="0">
                <a:blip r:embed="rId86">
                  <a:alphaModFix amt="90000"/>
                </a:blip>
                <a:srcRect/>
                <a:tile tx="0" ty="0" sx="100000" sy="100000" algn="ctr"/>
              </a:blipFill>
              <a:ln w="22320">
                <a:solidFill>
                  <a:srgbClr val="99cc00"/>
                </a:solidFill>
                <a:prstDash val="lgDashDot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226"/>
              <p:cNvSpPr/>
              <p:nvPr/>
            </p:nvSpPr>
            <p:spPr>
              <a:xfrm>
                <a:off x="933120" y="525240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227"/>
              <p:cNvSpPr/>
              <p:nvPr/>
            </p:nvSpPr>
            <p:spPr>
              <a:xfrm>
                <a:off x="1133280" y="523116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228"/>
              <p:cNvSpPr/>
              <p:nvPr/>
            </p:nvSpPr>
            <p:spPr>
              <a:xfrm>
                <a:off x="1005840" y="521028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229"/>
              <p:cNvSpPr/>
              <p:nvPr/>
            </p:nvSpPr>
            <p:spPr>
              <a:xfrm>
                <a:off x="951480" y="529416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Oval 230"/>
              <p:cNvSpPr/>
              <p:nvPr/>
            </p:nvSpPr>
            <p:spPr>
              <a:xfrm>
                <a:off x="1206000" y="5315040"/>
                <a:ext cx="18000" cy="20880"/>
              </a:xfrm>
              <a:prstGeom prst="ellipse">
                <a:avLst/>
              </a:prstGeom>
              <a:solidFill>
                <a:srgbClr val="ffff00">
                  <a:alpha val="90000"/>
                </a:srgbClr>
              </a:solidFill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" name="Rectangle 2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>
                  <a:alpha val="13333"/>
                </a:srgbClr>
              </a:gs>
              <a:gs pos="100000">
                <a:srgbClr val="4a4ef4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171"/>
          <p:cNvGrpSpPr/>
          <p:nvPr/>
        </p:nvGrpSpPr>
        <p:grpSpPr>
          <a:xfrm>
            <a:off x="-642960" y="5072040"/>
            <a:ext cx="5276880" cy="2081880"/>
            <a:chOff x="-642960" y="5072040"/>
            <a:chExt cx="5276880" cy="2081880"/>
          </a:xfrm>
        </p:grpSpPr>
        <p:grpSp>
          <p:nvGrpSpPr>
            <p:cNvPr id="682" name="Group 170"/>
            <p:cNvGrpSpPr/>
            <p:nvPr/>
          </p:nvGrpSpPr>
          <p:grpSpPr>
            <a:xfrm>
              <a:off x="-642960" y="5072040"/>
              <a:ext cx="5276880" cy="2081880"/>
              <a:chOff x="-642960" y="5072040"/>
              <a:chExt cx="5276880" cy="2081880"/>
            </a:xfrm>
          </p:grpSpPr>
          <p:grpSp>
            <p:nvGrpSpPr>
              <p:cNvPr id="683" name="Group 142"/>
              <p:cNvGrpSpPr/>
              <p:nvPr/>
            </p:nvGrpSpPr>
            <p:grpSpPr>
              <a:xfrm>
                <a:off x="-642960" y="5302800"/>
                <a:ext cx="2916720" cy="1356120"/>
                <a:chOff x="-642960" y="5302800"/>
                <a:chExt cx="2916720" cy="1356120"/>
              </a:xfrm>
            </p:grpSpPr>
            <p:grpSp>
              <p:nvGrpSpPr>
                <p:cNvPr id="684" name="Group 128"/>
                <p:cNvGrpSpPr/>
                <p:nvPr/>
              </p:nvGrpSpPr>
              <p:grpSpPr>
                <a:xfrm>
                  <a:off x="-642960" y="5302800"/>
                  <a:ext cx="1968480" cy="1271520"/>
                  <a:chOff x="-642960" y="5302800"/>
                  <a:chExt cx="1968480" cy="1271520"/>
                </a:xfrm>
              </p:grpSpPr>
              <p:sp>
                <p:nvSpPr>
                  <p:cNvPr id="685" name="Freeform 47"/>
                  <p:cNvSpPr/>
                  <p:nvPr/>
                </p:nvSpPr>
                <p:spPr>
                  <a:xfrm>
                    <a:off x="-642960" y="5302800"/>
                    <a:ext cx="1968480" cy="1271520"/>
                  </a:xfrm>
                  <a:custGeom>
                    <a:avLst/>
                    <a:gdLst>
                      <a:gd name="textAreaLeft" fmla="*/ 0 w 1968480"/>
                      <a:gd name="textAreaRight" fmla="*/ 1968840 w 1968480"/>
                      <a:gd name="textAreaTop" fmla="*/ 0 h 1271520"/>
                      <a:gd name="textAreaBottom" fmla="*/ 1271880 h 1271520"/>
                    </a:gdLst>
                    <a:ahLst/>
                    <a:rect l="textAreaLeft" t="textAreaTop" r="textAreaRight" b="textAreaBottom"/>
                    <a:pathLst>
                      <a:path w="831" h="480">
                        <a:moveTo>
                          <a:pt x="92" y="288"/>
                        </a:moveTo>
                        <a:lnTo>
                          <a:pt x="139" y="240"/>
                        </a:lnTo>
                        <a:lnTo>
                          <a:pt x="231" y="192"/>
                        </a:lnTo>
                        <a:lnTo>
                          <a:pt x="277" y="192"/>
                        </a:lnTo>
                        <a:lnTo>
                          <a:pt x="369" y="96"/>
                        </a:lnTo>
                        <a:lnTo>
                          <a:pt x="447" y="52"/>
                        </a:lnTo>
                        <a:lnTo>
                          <a:pt x="491" y="24"/>
                        </a:lnTo>
                        <a:lnTo>
                          <a:pt x="508" y="0"/>
                        </a:lnTo>
                        <a:lnTo>
                          <a:pt x="539" y="32"/>
                        </a:lnTo>
                        <a:lnTo>
                          <a:pt x="554" y="48"/>
                        </a:lnTo>
                        <a:lnTo>
                          <a:pt x="600" y="96"/>
                        </a:lnTo>
                        <a:lnTo>
                          <a:pt x="600" y="144"/>
                        </a:lnTo>
                        <a:lnTo>
                          <a:pt x="693" y="192"/>
                        </a:lnTo>
                        <a:lnTo>
                          <a:pt x="693" y="240"/>
                        </a:lnTo>
                        <a:lnTo>
                          <a:pt x="739" y="288"/>
                        </a:lnTo>
                        <a:lnTo>
                          <a:pt x="739" y="336"/>
                        </a:lnTo>
                        <a:lnTo>
                          <a:pt x="785" y="336"/>
                        </a:lnTo>
                        <a:lnTo>
                          <a:pt x="831" y="336"/>
                        </a:lnTo>
                        <a:lnTo>
                          <a:pt x="785" y="384"/>
                        </a:lnTo>
                        <a:lnTo>
                          <a:pt x="554" y="432"/>
                        </a:lnTo>
                        <a:lnTo>
                          <a:pt x="369" y="432"/>
                        </a:lnTo>
                        <a:lnTo>
                          <a:pt x="277" y="480"/>
                        </a:lnTo>
                        <a:lnTo>
                          <a:pt x="92" y="432"/>
                        </a:lnTo>
                        <a:lnTo>
                          <a:pt x="0" y="336"/>
                        </a:lnTo>
                        <a:lnTo>
                          <a:pt x="46" y="288"/>
                        </a:lnTo>
                        <a:lnTo>
                          <a:pt x="92" y="28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Freeform 48"/>
                  <p:cNvSpPr/>
                  <p:nvPr/>
                </p:nvSpPr>
                <p:spPr>
                  <a:xfrm>
                    <a:off x="-535320" y="5302800"/>
                    <a:ext cx="1533960" cy="1271520"/>
                  </a:xfrm>
                  <a:custGeom>
                    <a:avLst/>
                    <a:gdLst>
                      <a:gd name="textAreaLeft" fmla="*/ 0 w 1533960"/>
                      <a:gd name="textAreaRight" fmla="*/ 1534320 w 1533960"/>
                      <a:gd name="textAreaTop" fmla="*/ 0 h 1271520"/>
                      <a:gd name="textAreaBottom" fmla="*/ 1271880 h 1271520"/>
                    </a:gdLst>
                    <a:ahLst/>
                    <a:rect l="textAreaLeft" t="textAreaTop" r="textAreaRight" b="textAreaBottom"/>
                    <a:pathLst>
                      <a:path w="672" h="480">
                        <a:moveTo>
                          <a:pt x="48" y="384"/>
                        </a:moveTo>
                        <a:lnTo>
                          <a:pt x="240" y="480"/>
                        </a:lnTo>
                        <a:lnTo>
                          <a:pt x="336" y="384"/>
                        </a:lnTo>
                        <a:lnTo>
                          <a:pt x="528" y="384"/>
                        </a:lnTo>
                        <a:lnTo>
                          <a:pt x="672" y="336"/>
                        </a:lnTo>
                        <a:lnTo>
                          <a:pt x="672" y="288"/>
                        </a:lnTo>
                        <a:lnTo>
                          <a:pt x="624" y="192"/>
                        </a:lnTo>
                        <a:lnTo>
                          <a:pt x="576" y="144"/>
                        </a:lnTo>
                        <a:lnTo>
                          <a:pt x="576" y="96"/>
                        </a:lnTo>
                        <a:lnTo>
                          <a:pt x="480" y="48"/>
                        </a:lnTo>
                        <a:lnTo>
                          <a:pt x="480" y="0"/>
                        </a:lnTo>
                        <a:lnTo>
                          <a:pt x="384" y="96"/>
                        </a:lnTo>
                        <a:lnTo>
                          <a:pt x="336" y="192"/>
                        </a:lnTo>
                        <a:lnTo>
                          <a:pt x="144" y="240"/>
                        </a:lnTo>
                        <a:lnTo>
                          <a:pt x="96" y="288"/>
                        </a:lnTo>
                        <a:lnTo>
                          <a:pt x="0" y="336"/>
                        </a:lnTo>
                        <a:lnTo>
                          <a:pt x="48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852b">
                          <a:alpha val="13333"/>
                        </a:srgbClr>
                      </a:gs>
                      <a:gs pos="100000">
                        <a:srgbClr val="000000">
                          <a:alpha val="56078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Freeform 49"/>
                  <p:cNvSpPr/>
                  <p:nvPr/>
                </p:nvSpPr>
                <p:spPr>
                  <a:xfrm>
                    <a:off x="-206280" y="5557320"/>
                    <a:ext cx="1092960" cy="889560"/>
                  </a:xfrm>
                  <a:custGeom>
                    <a:avLst/>
                    <a:gdLst>
                      <a:gd name="textAreaLeft" fmla="*/ 0 w 1092960"/>
                      <a:gd name="textAreaRight" fmla="*/ 1093320 w 1092960"/>
                      <a:gd name="textAreaTop" fmla="*/ 0 h 889560"/>
                      <a:gd name="textAreaBottom" fmla="*/ 889920 h 889560"/>
                    </a:gdLst>
                    <a:ahLst/>
                    <a:rect l="textAreaLeft" t="textAreaTop" r="textAreaRight" b="textAreaBottom"/>
                    <a:pathLst>
                      <a:path w="461" h="336">
                        <a:moveTo>
                          <a:pt x="342" y="0"/>
                        </a:moveTo>
                        <a:lnTo>
                          <a:pt x="369" y="62"/>
                        </a:lnTo>
                        <a:lnTo>
                          <a:pt x="461" y="117"/>
                        </a:lnTo>
                        <a:lnTo>
                          <a:pt x="461" y="226"/>
                        </a:lnTo>
                        <a:lnTo>
                          <a:pt x="323" y="226"/>
                        </a:lnTo>
                        <a:lnTo>
                          <a:pt x="231" y="281"/>
                        </a:lnTo>
                        <a:lnTo>
                          <a:pt x="92" y="336"/>
                        </a:lnTo>
                        <a:lnTo>
                          <a:pt x="0" y="226"/>
                        </a:lnTo>
                        <a:lnTo>
                          <a:pt x="92" y="171"/>
                        </a:lnTo>
                        <a:lnTo>
                          <a:pt x="138" y="117"/>
                        </a:lnTo>
                        <a:lnTo>
                          <a:pt x="231" y="117"/>
                        </a:lnTo>
                        <a:lnTo>
                          <a:pt x="277" y="7"/>
                        </a:lnTo>
                        <a:lnTo>
                          <a:pt x="342" y="0"/>
                        </a:lnTo>
                        <a:close/>
                      </a:path>
                    </a:pathLst>
                  </a:custGeom>
                  <a:blipFill rotWithShape="0">
                    <a:blip r:embed="rId87">
                      <a:alphaModFix amt="51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Freeform 59"/>
                  <p:cNvSpPr/>
                  <p:nvPr/>
                </p:nvSpPr>
                <p:spPr>
                  <a:xfrm>
                    <a:off x="-313920" y="6066000"/>
                    <a:ext cx="217440" cy="253800"/>
                  </a:xfrm>
                  <a:custGeom>
                    <a:avLst/>
                    <a:gdLst>
                      <a:gd name="textAreaLeft" fmla="*/ 0 w 217440"/>
                      <a:gd name="textAreaRight" fmla="*/ 217800 w 21744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8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Freeform 60"/>
                  <p:cNvSpPr/>
                  <p:nvPr/>
                </p:nvSpPr>
                <p:spPr>
                  <a:xfrm>
                    <a:off x="-291960" y="6023520"/>
                    <a:ext cx="171000" cy="169560"/>
                  </a:xfrm>
                  <a:custGeom>
                    <a:avLst/>
                    <a:gdLst>
                      <a:gd name="textAreaLeft" fmla="*/ 0 w 171000"/>
                      <a:gd name="textAreaRight" fmla="*/ 171360 w 171000"/>
                      <a:gd name="textAreaTop" fmla="*/ 0 h 169560"/>
                      <a:gd name="textAreaBottom" fmla="*/ 169920 h 1695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89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Freeform 61"/>
                  <p:cNvSpPr/>
                  <p:nvPr/>
                </p:nvSpPr>
                <p:spPr>
                  <a:xfrm>
                    <a:off x="-267480" y="5938560"/>
                    <a:ext cx="122760" cy="169560"/>
                  </a:xfrm>
                  <a:custGeom>
                    <a:avLst/>
                    <a:gdLst>
                      <a:gd name="textAreaLeft" fmla="*/ 0 w 122760"/>
                      <a:gd name="textAreaRight" fmla="*/ 123120 w 122760"/>
                      <a:gd name="textAreaTop" fmla="*/ 0 h 169560"/>
                      <a:gd name="textAreaBottom" fmla="*/ 169920 h 16956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0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1" name="Freeform 65"/>
                <p:cNvSpPr/>
                <p:nvPr/>
              </p:nvSpPr>
              <p:spPr>
                <a:xfrm>
                  <a:off x="304920" y="5450760"/>
                  <a:ext cx="1968840" cy="1208160"/>
                </a:xfrm>
                <a:custGeom>
                  <a:avLst/>
                  <a:gdLst>
                    <a:gd name="textAreaLeft" fmla="*/ 0 w 1968840"/>
                    <a:gd name="textAreaRight" fmla="*/ 1969200 w 1968840"/>
                    <a:gd name="textAreaTop" fmla="*/ 0 h 1208160"/>
                    <a:gd name="textAreaBottom" fmla="*/ 1208520 h 1208160"/>
                  </a:gdLst>
                  <a:ahLst/>
                  <a:rect l="textAreaLeft" t="textAreaTop" r="textAreaRight" b="textAreaBottom"/>
                  <a:pathLst>
                    <a:path w="831" h="456">
                      <a:moveTo>
                        <a:pt x="92" y="264"/>
                      </a:moveTo>
                      <a:lnTo>
                        <a:pt x="139" y="216"/>
                      </a:lnTo>
                      <a:lnTo>
                        <a:pt x="231" y="168"/>
                      </a:lnTo>
                      <a:lnTo>
                        <a:pt x="277" y="168"/>
                      </a:lnTo>
                      <a:lnTo>
                        <a:pt x="369" y="72"/>
                      </a:lnTo>
                      <a:lnTo>
                        <a:pt x="448" y="32"/>
                      </a:lnTo>
                      <a:lnTo>
                        <a:pt x="480" y="0"/>
                      </a:lnTo>
                      <a:lnTo>
                        <a:pt x="508" y="8"/>
                      </a:lnTo>
                      <a:lnTo>
                        <a:pt x="532" y="4"/>
                      </a:lnTo>
                      <a:lnTo>
                        <a:pt x="554" y="24"/>
                      </a:lnTo>
                      <a:lnTo>
                        <a:pt x="600" y="72"/>
                      </a:lnTo>
                      <a:lnTo>
                        <a:pt x="600" y="120"/>
                      </a:lnTo>
                      <a:lnTo>
                        <a:pt x="693" y="168"/>
                      </a:lnTo>
                      <a:lnTo>
                        <a:pt x="693" y="216"/>
                      </a:lnTo>
                      <a:lnTo>
                        <a:pt x="739" y="264"/>
                      </a:lnTo>
                      <a:lnTo>
                        <a:pt x="739" y="312"/>
                      </a:lnTo>
                      <a:lnTo>
                        <a:pt x="785" y="312"/>
                      </a:lnTo>
                      <a:lnTo>
                        <a:pt x="831" y="312"/>
                      </a:lnTo>
                      <a:lnTo>
                        <a:pt x="785" y="360"/>
                      </a:lnTo>
                      <a:lnTo>
                        <a:pt x="554" y="408"/>
                      </a:lnTo>
                      <a:lnTo>
                        <a:pt x="369" y="408"/>
                      </a:lnTo>
                      <a:lnTo>
                        <a:pt x="277" y="456"/>
                      </a:lnTo>
                      <a:lnTo>
                        <a:pt x="92" y="408"/>
                      </a:lnTo>
                      <a:lnTo>
                        <a:pt x="0" y="312"/>
                      </a:lnTo>
                      <a:lnTo>
                        <a:pt x="46" y="264"/>
                      </a:lnTo>
                      <a:lnTo>
                        <a:pt x="92" y="2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Freeform 130"/>
                <p:cNvSpPr/>
                <p:nvPr/>
              </p:nvSpPr>
              <p:spPr>
                <a:xfrm>
                  <a:off x="-10800" y="5302800"/>
                  <a:ext cx="1968840" cy="1272240"/>
                </a:xfrm>
                <a:custGeom>
                  <a:avLst/>
                  <a:gdLst>
                    <a:gd name="textAreaLeft" fmla="*/ 0 w 1968840"/>
                    <a:gd name="textAreaRight" fmla="*/ 1969200 w 1968840"/>
                    <a:gd name="textAreaTop" fmla="*/ 0 h 1272240"/>
                    <a:gd name="textAreaBottom" fmla="*/ 1272600 h 1272240"/>
                  </a:gdLst>
                  <a:ahLst/>
                  <a:rect l="textAreaLeft" t="textAreaTop" r="textAreaRight" b="textAreaBottom"/>
                  <a:pathLst>
                    <a:path w="831" h="480">
                      <a:moveTo>
                        <a:pt x="92" y="288"/>
                      </a:moveTo>
                      <a:lnTo>
                        <a:pt x="139" y="240"/>
                      </a:lnTo>
                      <a:lnTo>
                        <a:pt x="231" y="192"/>
                      </a:lnTo>
                      <a:lnTo>
                        <a:pt x="277" y="192"/>
                      </a:lnTo>
                      <a:lnTo>
                        <a:pt x="369" y="96"/>
                      </a:lnTo>
                      <a:lnTo>
                        <a:pt x="447" y="52"/>
                      </a:lnTo>
                      <a:lnTo>
                        <a:pt x="491" y="24"/>
                      </a:lnTo>
                      <a:lnTo>
                        <a:pt x="508" y="0"/>
                      </a:lnTo>
                      <a:lnTo>
                        <a:pt x="539" y="32"/>
                      </a:lnTo>
                      <a:lnTo>
                        <a:pt x="554" y="48"/>
                      </a:lnTo>
                      <a:lnTo>
                        <a:pt x="600" y="96"/>
                      </a:lnTo>
                      <a:lnTo>
                        <a:pt x="600" y="144"/>
                      </a:lnTo>
                      <a:lnTo>
                        <a:pt x="693" y="192"/>
                      </a:lnTo>
                      <a:lnTo>
                        <a:pt x="693" y="240"/>
                      </a:lnTo>
                      <a:lnTo>
                        <a:pt x="739" y="288"/>
                      </a:lnTo>
                      <a:lnTo>
                        <a:pt x="739" y="336"/>
                      </a:lnTo>
                      <a:lnTo>
                        <a:pt x="785" y="336"/>
                      </a:lnTo>
                      <a:lnTo>
                        <a:pt x="831" y="336"/>
                      </a:lnTo>
                      <a:lnTo>
                        <a:pt x="785" y="384"/>
                      </a:lnTo>
                      <a:lnTo>
                        <a:pt x="554" y="432"/>
                      </a:lnTo>
                      <a:lnTo>
                        <a:pt x="369" y="432"/>
                      </a:lnTo>
                      <a:lnTo>
                        <a:pt x="277" y="480"/>
                      </a:lnTo>
                      <a:lnTo>
                        <a:pt x="92" y="432"/>
                      </a:lnTo>
                      <a:lnTo>
                        <a:pt x="0" y="336"/>
                      </a:lnTo>
                      <a:lnTo>
                        <a:pt x="46" y="288"/>
                      </a:lnTo>
                      <a:lnTo>
                        <a:pt x="92" y="2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131"/>
                <p:cNvSpPr/>
                <p:nvPr/>
              </p:nvSpPr>
              <p:spPr>
                <a:xfrm>
                  <a:off x="96480" y="5302800"/>
                  <a:ext cx="1534320" cy="1272240"/>
                </a:xfrm>
                <a:custGeom>
                  <a:avLst/>
                  <a:gdLst>
                    <a:gd name="textAreaLeft" fmla="*/ 0 w 1534320"/>
                    <a:gd name="textAreaRight" fmla="*/ 1534680 w 1534320"/>
                    <a:gd name="textAreaTop" fmla="*/ 0 h 1272240"/>
                    <a:gd name="textAreaBottom" fmla="*/ 1272600 h 127224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132"/>
                <p:cNvSpPr/>
                <p:nvPr/>
              </p:nvSpPr>
              <p:spPr>
                <a:xfrm>
                  <a:off x="425880" y="5557320"/>
                  <a:ext cx="1092960" cy="889920"/>
                </a:xfrm>
                <a:custGeom>
                  <a:avLst/>
                  <a:gdLst>
                    <a:gd name="textAreaLeft" fmla="*/ 0 w 1092960"/>
                    <a:gd name="textAreaRight" fmla="*/ 1093320 w 1092960"/>
                    <a:gd name="textAreaTop" fmla="*/ 0 h 889920"/>
                    <a:gd name="textAreaBottom" fmla="*/ 890280 h 889920"/>
                  </a:gdLst>
                  <a:ahLst/>
                  <a:rect l="textAreaLeft" t="textAreaTop" r="textAreaRight" b="textAreaBottom"/>
                  <a:pathLst>
                    <a:path w="461" h="336">
                      <a:moveTo>
                        <a:pt x="342" y="0"/>
                      </a:moveTo>
                      <a:lnTo>
                        <a:pt x="369" y="62"/>
                      </a:lnTo>
                      <a:lnTo>
                        <a:pt x="461" y="117"/>
                      </a:lnTo>
                      <a:lnTo>
                        <a:pt x="461" y="226"/>
                      </a:lnTo>
                      <a:lnTo>
                        <a:pt x="323" y="226"/>
                      </a:lnTo>
                      <a:lnTo>
                        <a:pt x="231" y="281"/>
                      </a:lnTo>
                      <a:lnTo>
                        <a:pt x="92" y="336"/>
                      </a:lnTo>
                      <a:lnTo>
                        <a:pt x="0" y="226"/>
                      </a:lnTo>
                      <a:lnTo>
                        <a:pt x="92" y="171"/>
                      </a:lnTo>
                      <a:lnTo>
                        <a:pt x="138" y="117"/>
                      </a:lnTo>
                      <a:lnTo>
                        <a:pt x="231" y="117"/>
                      </a:lnTo>
                      <a:lnTo>
                        <a:pt x="277" y="7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blipFill rotWithShape="0">
                  <a:blip r:embed="rId91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Freeform 66"/>
                <p:cNvSpPr/>
                <p:nvPr/>
              </p:nvSpPr>
              <p:spPr>
                <a:xfrm>
                  <a:off x="415080" y="5387400"/>
                  <a:ext cx="1531800" cy="1271160"/>
                </a:xfrm>
                <a:custGeom>
                  <a:avLst/>
                  <a:gdLst>
                    <a:gd name="textAreaLeft" fmla="*/ 0 w 1531800"/>
                    <a:gd name="textAreaRight" fmla="*/ 1532160 w 1531800"/>
                    <a:gd name="textAreaTop" fmla="*/ 0 h 1271160"/>
                    <a:gd name="textAreaBottom" fmla="*/ 1271520 h 1271160"/>
                  </a:gdLst>
                  <a:ahLst/>
                  <a:rect l="textAreaLeft" t="textAreaTop" r="textAreaRight" b="textAreaBottom"/>
                  <a:pathLst>
                    <a:path w="672" h="480">
                      <a:moveTo>
                        <a:pt x="48" y="384"/>
                      </a:moveTo>
                      <a:lnTo>
                        <a:pt x="240" y="480"/>
                      </a:lnTo>
                      <a:lnTo>
                        <a:pt x="336" y="384"/>
                      </a:lnTo>
                      <a:lnTo>
                        <a:pt x="528" y="384"/>
                      </a:lnTo>
                      <a:lnTo>
                        <a:pt x="672" y="336"/>
                      </a:lnTo>
                      <a:lnTo>
                        <a:pt x="672" y="288"/>
                      </a:lnTo>
                      <a:lnTo>
                        <a:pt x="624" y="192"/>
                      </a:lnTo>
                      <a:lnTo>
                        <a:pt x="576" y="144"/>
                      </a:lnTo>
                      <a:lnTo>
                        <a:pt x="576" y="96"/>
                      </a:lnTo>
                      <a:lnTo>
                        <a:pt x="480" y="48"/>
                      </a:lnTo>
                      <a:lnTo>
                        <a:pt x="480" y="0"/>
                      </a:lnTo>
                      <a:lnTo>
                        <a:pt x="384" y="96"/>
                      </a:lnTo>
                      <a:lnTo>
                        <a:pt x="336" y="192"/>
                      </a:lnTo>
                      <a:lnTo>
                        <a:pt x="144" y="240"/>
                      </a:lnTo>
                      <a:lnTo>
                        <a:pt x="96" y="288"/>
                      </a:lnTo>
                      <a:lnTo>
                        <a:pt x="0" y="336"/>
                      </a:lnTo>
                      <a:lnTo>
                        <a:pt x="48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852b">
                        <a:alpha val="13333"/>
                      </a:srgbClr>
                    </a:gs>
                    <a:gs pos="100000">
                      <a:srgbClr val="000000">
                        <a:alpha val="56078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67"/>
                <p:cNvSpPr/>
                <p:nvPr/>
              </p:nvSpPr>
              <p:spPr>
                <a:xfrm>
                  <a:off x="744120" y="5610240"/>
                  <a:ext cx="1092960" cy="921960"/>
                </a:xfrm>
                <a:custGeom>
                  <a:avLst/>
                  <a:gdLst>
                    <a:gd name="textAreaLeft" fmla="*/ 0 w 1092960"/>
                    <a:gd name="textAreaRight" fmla="*/ 1093320 w 1092960"/>
                    <a:gd name="textAreaTop" fmla="*/ 0 h 921960"/>
                    <a:gd name="textAreaBottom" fmla="*/ 922320 h 921960"/>
                  </a:gdLst>
                  <a:ahLst/>
                  <a:rect l="textAreaLeft" t="textAreaTop" r="textAreaRight" b="textAreaBottom"/>
                  <a:pathLst>
                    <a:path w="461" h="348">
                      <a:moveTo>
                        <a:pt x="327" y="0"/>
                      </a:moveTo>
                      <a:lnTo>
                        <a:pt x="369" y="74"/>
                      </a:lnTo>
                      <a:lnTo>
                        <a:pt x="461" y="129"/>
                      </a:lnTo>
                      <a:lnTo>
                        <a:pt x="461" y="238"/>
                      </a:lnTo>
                      <a:lnTo>
                        <a:pt x="323" y="238"/>
                      </a:lnTo>
                      <a:lnTo>
                        <a:pt x="231" y="293"/>
                      </a:lnTo>
                      <a:lnTo>
                        <a:pt x="92" y="348"/>
                      </a:lnTo>
                      <a:lnTo>
                        <a:pt x="0" y="238"/>
                      </a:lnTo>
                      <a:lnTo>
                        <a:pt x="92" y="183"/>
                      </a:lnTo>
                      <a:lnTo>
                        <a:pt x="138" y="129"/>
                      </a:lnTo>
                      <a:lnTo>
                        <a:pt x="231" y="129"/>
                      </a:lnTo>
                      <a:lnTo>
                        <a:pt x="277" y="19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blipFill rotWithShape="0">
                  <a:blip r:embed="rId92">
                    <a:alphaModFix amt="51000"/>
                  </a:blip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7" name="Group 138"/>
                <p:cNvGrpSpPr/>
                <p:nvPr/>
              </p:nvGrpSpPr>
              <p:grpSpPr>
                <a:xfrm>
                  <a:off x="-10800" y="5641560"/>
                  <a:ext cx="210960" cy="508320"/>
                  <a:chOff x="-10800" y="5641560"/>
                  <a:chExt cx="210960" cy="508320"/>
                </a:xfrm>
              </p:grpSpPr>
              <p:sp>
                <p:nvSpPr>
                  <p:cNvPr id="698" name="Freeform 139"/>
                  <p:cNvSpPr/>
                  <p:nvPr/>
                </p:nvSpPr>
                <p:spPr>
                  <a:xfrm>
                    <a:off x="-10800" y="5768640"/>
                    <a:ext cx="210960" cy="3812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375" h="294">
                        <a:moveTo>
                          <a:pt x="136" y="88"/>
                        </a:moveTo>
                        <a:lnTo>
                          <a:pt x="94" y="179"/>
                        </a:lnTo>
                        <a:lnTo>
                          <a:pt x="0" y="291"/>
                        </a:lnTo>
                        <a:lnTo>
                          <a:pt x="87" y="288"/>
                        </a:lnTo>
                        <a:lnTo>
                          <a:pt x="141" y="267"/>
                        </a:lnTo>
                        <a:lnTo>
                          <a:pt x="183" y="258"/>
                        </a:lnTo>
                        <a:lnTo>
                          <a:pt x="228" y="270"/>
                        </a:lnTo>
                        <a:lnTo>
                          <a:pt x="309" y="294"/>
                        </a:lnTo>
                        <a:lnTo>
                          <a:pt x="375" y="294"/>
                        </a:lnTo>
                        <a:lnTo>
                          <a:pt x="278" y="176"/>
                        </a:lnTo>
                        <a:lnTo>
                          <a:pt x="238" y="88"/>
                        </a:lnTo>
                        <a:lnTo>
                          <a:pt x="198" y="0"/>
                        </a:lnTo>
                        <a:lnTo>
                          <a:pt x="176" y="3"/>
                        </a:lnTo>
                        <a:lnTo>
                          <a:pt x="136" y="88"/>
                        </a:lnTo>
                        <a:close/>
                      </a:path>
                    </a:pathLst>
                  </a:custGeom>
                  <a:blipFill rotWithShape="0">
                    <a:blip r:embed="rId93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Freeform 140"/>
                  <p:cNvSpPr/>
                  <p:nvPr/>
                </p:nvSpPr>
                <p:spPr>
                  <a:xfrm>
                    <a:off x="9360" y="5702040"/>
                    <a:ext cx="158040" cy="302400"/>
                  </a:xfrm>
                  <a:custGeom>
                    <a:avLst/>
                    <a:gdLst>
                      <a:gd name="textAreaLeft" fmla="*/ 0 w 158040"/>
                      <a:gd name="textAreaRight" fmla="*/ 158400 w 158040"/>
                      <a:gd name="textAreaTop" fmla="*/ 0 h 302400"/>
                      <a:gd name="textAreaBottom" fmla="*/ 302760 h 30240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4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Freeform 141"/>
                  <p:cNvSpPr/>
                  <p:nvPr/>
                </p:nvSpPr>
                <p:spPr>
                  <a:xfrm>
                    <a:off x="32040" y="5641560"/>
                    <a:ext cx="113400" cy="19368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93680"/>
                      <a:gd name="textAreaBottom" fmla="*/ 194040 h 193680"/>
                    </a:gdLst>
                    <a:ahLst/>
                    <a:rect l="textAreaLeft" t="textAreaTop" r="textAreaRight" b="textAreaBottom"/>
                    <a:pathLst>
                      <a:path w="432" h="288">
                        <a:moveTo>
                          <a:pt x="165" y="96"/>
                        </a:moveTo>
                        <a:lnTo>
                          <a:pt x="114" y="195"/>
                        </a:lnTo>
                        <a:lnTo>
                          <a:pt x="0" y="288"/>
                        </a:lnTo>
                        <a:lnTo>
                          <a:pt x="144" y="240"/>
                        </a:lnTo>
                        <a:lnTo>
                          <a:pt x="192" y="288"/>
                        </a:lnTo>
                        <a:lnTo>
                          <a:pt x="240" y="288"/>
                        </a:lnTo>
                        <a:lnTo>
                          <a:pt x="288" y="240"/>
                        </a:lnTo>
                        <a:lnTo>
                          <a:pt x="378" y="276"/>
                        </a:lnTo>
                        <a:lnTo>
                          <a:pt x="432" y="288"/>
                        </a:lnTo>
                        <a:lnTo>
                          <a:pt x="336" y="192"/>
                        </a:lnTo>
                        <a:lnTo>
                          <a:pt x="288" y="96"/>
                        </a:lnTo>
                        <a:lnTo>
                          <a:pt x="240" y="0"/>
                        </a:lnTo>
                        <a:lnTo>
                          <a:pt x="213" y="3"/>
                        </a:lnTo>
                        <a:lnTo>
                          <a:pt x="165" y="96"/>
                        </a:lnTo>
                        <a:close/>
                      </a:path>
                    </a:pathLst>
                  </a:custGeom>
                  <a:blipFill rotWithShape="0">
                    <a:blip r:embed="rId95"/>
                    <a:srcRect/>
                    <a:tile tx="0" ty="0" sx="100000" sy="100000" algn="ctr"/>
                  </a:blipFill>
                  <a:ln w="936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1" name="Group 144"/>
              <p:cNvGrpSpPr/>
              <p:nvPr/>
            </p:nvGrpSpPr>
            <p:grpSpPr>
              <a:xfrm>
                <a:off x="-151200" y="5644080"/>
                <a:ext cx="1857960" cy="1509840"/>
                <a:chOff x="-151200" y="5644080"/>
                <a:chExt cx="1857960" cy="1509840"/>
              </a:xfrm>
            </p:grpSpPr>
            <p:sp>
              <p:nvSpPr>
                <p:cNvPr id="702" name="Freeform 145"/>
                <p:cNvSpPr/>
                <p:nvPr/>
              </p:nvSpPr>
              <p:spPr>
                <a:xfrm flipH="1">
                  <a:off x="-151560" y="6359040"/>
                  <a:ext cx="1857960" cy="794880"/>
                </a:xfrm>
                <a:custGeom>
                  <a:avLst/>
                  <a:gdLst>
                    <a:gd name="textAreaLeft" fmla="*/ -360 w 1857960"/>
                    <a:gd name="textAreaRight" fmla="*/ 1857960 w 1857960"/>
                    <a:gd name="textAreaTop" fmla="*/ 0 h 794880"/>
                    <a:gd name="textAreaBottom" fmla="*/ 795240 h 794880"/>
                  </a:gdLst>
                  <a:ahLst/>
                  <a:rect l="textAreaLeft" t="textAreaTop" r="textAreaRight" b="textAreaBottom"/>
                  <a:pathLst>
                    <a:path w="1730" h="720">
                      <a:moveTo>
                        <a:pt x="1659" y="602"/>
                      </a:moveTo>
                      <a:cubicBezTo>
                        <a:pt x="1651" y="622"/>
                        <a:pt x="1594" y="617"/>
                        <a:pt x="1575" y="630"/>
                      </a:cubicBezTo>
                      <a:cubicBezTo>
                        <a:pt x="1548" y="649"/>
                        <a:pt x="1571" y="686"/>
                        <a:pt x="1550" y="691"/>
                      </a:cubicBezTo>
                      <a:cubicBezTo>
                        <a:pt x="1510" y="705"/>
                        <a:pt x="1436" y="696"/>
                        <a:pt x="1398" y="699"/>
                      </a:cubicBezTo>
                      <a:cubicBezTo>
                        <a:pt x="1360" y="702"/>
                        <a:pt x="1347" y="710"/>
                        <a:pt x="1324" y="709"/>
                      </a:cubicBezTo>
                      <a:cubicBezTo>
                        <a:pt x="1289" y="719"/>
                        <a:pt x="1290" y="692"/>
                        <a:pt x="1253" y="696"/>
                      </a:cubicBezTo>
                      <a:cubicBezTo>
                        <a:pt x="1170" y="694"/>
                        <a:pt x="1081" y="715"/>
                        <a:pt x="998" y="709"/>
                      </a:cubicBezTo>
                      <a:cubicBezTo>
                        <a:pt x="915" y="697"/>
                        <a:pt x="836" y="720"/>
                        <a:pt x="750" y="713"/>
                      </a:cubicBezTo>
                      <a:cubicBezTo>
                        <a:pt x="710" y="705"/>
                        <a:pt x="673" y="688"/>
                        <a:pt x="633" y="679"/>
                      </a:cubicBezTo>
                      <a:cubicBezTo>
                        <a:pt x="619" y="676"/>
                        <a:pt x="603" y="678"/>
                        <a:pt x="589" y="672"/>
                      </a:cubicBezTo>
                      <a:cubicBezTo>
                        <a:pt x="556" y="657"/>
                        <a:pt x="527" y="641"/>
                        <a:pt x="492" y="628"/>
                      </a:cubicBezTo>
                      <a:cubicBezTo>
                        <a:pt x="481" y="623"/>
                        <a:pt x="482" y="626"/>
                        <a:pt x="468" y="622"/>
                      </a:cubicBezTo>
                      <a:cubicBezTo>
                        <a:pt x="417" y="607"/>
                        <a:pt x="323" y="613"/>
                        <a:pt x="273" y="596"/>
                      </a:cubicBezTo>
                      <a:cubicBezTo>
                        <a:pt x="230" y="580"/>
                        <a:pt x="235" y="569"/>
                        <a:pt x="196" y="552"/>
                      </a:cubicBezTo>
                      <a:cubicBezTo>
                        <a:pt x="184" y="547"/>
                        <a:pt x="149" y="524"/>
                        <a:pt x="136" y="520"/>
                      </a:cubicBezTo>
                      <a:cubicBezTo>
                        <a:pt x="117" y="509"/>
                        <a:pt x="112" y="473"/>
                        <a:pt x="89" y="467"/>
                      </a:cubicBezTo>
                      <a:cubicBezTo>
                        <a:pt x="75" y="457"/>
                        <a:pt x="30" y="443"/>
                        <a:pt x="17" y="432"/>
                      </a:cubicBezTo>
                      <a:cubicBezTo>
                        <a:pt x="0" y="420"/>
                        <a:pt x="20" y="399"/>
                        <a:pt x="13" y="382"/>
                      </a:cubicBezTo>
                      <a:cubicBezTo>
                        <a:pt x="16" y="311"/>
                        <a:pt x="2" y="283"/>
                        <a:pt x="49" y="236"/>
                      </a:cubicBezTo>
                      <a:cubicBezTo>
                        <a:pt x="65" y="199"/>
                        <a:pt x="55" y="169"/>
                        <a:pt x="101" y="152"/>
                      </a:cubicBezTo>
                      <a:cubicBezTo>
                        <a:pt x="123" y="135"/>
                        <a:pt x="162" y="139"/>
                        <a:pt x="180" y="135"/>
                      </a:cubicBezTo>
                      <a:cubicBezTo>
                        <a:pt x="189" y="131"/>
                        <a:pt x="210" y="127"/>
                        <a:pt x="210" y="127"/>
                      </a:cubicBezTo>
                      <a:cubicBezTo>
                        <a:pt x="241" y="95"/>
                        <a:pt x="294" y="90"/>
                        <a:pt x="341" y="78"/>
                      </a:cubicBezTo>
                      <a:cubicBezTo>
                        <a:pt x="360" y="73"/>
                        <a:pt x="379" y="63"/>
                        <a:pt x="399" y="59"/>
                      </a:cubicBezTo>
                      <a:cubicBezTo>
                        <a:pt x="461" y="49"/>
                        <a:pt x="409" y="62"/>
                        <a:pt x="448" y="54"/>
                      </a:cubicBezTo>
                      <a:cubicBezTo>
                        <a:pt x="465" y="51"/>
                        <a:pt x="479" y="42"/>
                        <a:pt x="496" y="39"/>
                      </a:cubicBezTo>
                      <a:cubicBezTo>
                        <a:pt x="531" y="34"/>
                        <a:pt x="574" y="24"/>
                        <a:pt x="610" y="23"/>
                      </a:cubicBezTo>
                      <a:cubicBezTo>
                        <a:pt x="648" y="22"/>
                        <a:pt x="686" y="21"/>
                        <a:pt x="724" y="20"/>
                      </a:cubicBezTo>
                      <a:cubicBezTo>
                        <a:pt x="771" y="9"/>
                        <a:pt x="823" y="13"/>
                        <a:pt x="871" y="11"/>
                      </a:cubicBezTo>
                      <a:cubicBezTo>
                        <a:pt x="925" y="0"/>
                        <a:pt x="945" y="7"/>
                        <a:pt x="1019" y="8"/>
                      </a:cubicBezTo>
                      <a:cubicBezTo>
                        <a:pt x="1046" y="15"/>
                        <a:pt x="1078" y="16"/>
                        <a:pt x="1106" y="20"/>
                      </a:cubicBezTo>
                      <a:cubicBezTo>
                        <a:pt x="1126" y="26"/>
                        <a:pt x="1144" y="36"/>
                        <a:pt x="1163" y="42"/>
                      </a:cubicBezTo>
                      <a:cubicBezTo>
                        <a:pt x="1195" y="50"/>
                        <a:pt x="1233" y="51"/>
                        <a:pt x="1264" y="62"/>
                      </a:cubicBezTo>
                      <a:cubicBezTo>
                        <a:pt x="1284" y="69"/>
                        <a:pt x="1300" y="80"/>
                        <a:pt x="1321" y="85"/>
                      </a:cubicBezTo>
                      <a:cubicBezTo>
                        <a:pt x="1340" y="100"/>
                        <a:pt x="1366" y="107"/>
                        <a:pt x="1385" y="121"/>
                      </a:cubicBezTo>
                      <a:cubicBezTo>
                        <a:pt x="1409" y="140"/>
                        <a:pt x="1437" y="160"/>
                        <a:pt x="1465" y="175"/>
                      </a:cubicBezTo>
                      <a:cubicBezTo>
                        <a:pt x="1475" y="190"/>
                        <a:pt x="1492" y="210"/>
                        <a:pt x="1509" y="220"/>
                      </a:cubicBezTo>
                      <a:cubicBezTo>
                        <a:pt x="1515" y="247"/>
                        <a:pt x="1544" y="273"/>
                        <a:pt x="1566" y="295"/>
                      </a:cubicBezTo>
                      <a:cubicBezTo>
                        <a:pt x="1571" y="299"/>
                        <a:pt x="1573" y="307"/>
                        <a:pt x="1579" y="310"/>
                      </a:cubicBezTo>
                      <a:cubicBezTo>
                        <a:pt x="1592" y="316"/>
                        <a:pt x="1597" y="326"/>
                        <a:pt x="1609" y="333"/>
                      </a:cubicBezTo>
                      <a:cubicBezTo>
                        <a:pt x="1615" y="337"/>
                        <a:pt x="1629" y="344"/>
                        <a:pt x="1629" y="344"/>
                      </a:cubicBezTo>
                      <a:cubicBezTo>
                        <a:pt x="1636" y="351"/>
                        <a:pt x="1643" y="359"/>
                        <a:pt x="1650" y="367"/>
                      </a:cubicBezTo>
                      <a:cubicBezTo>
                        <a:pt x="1652" y="369"/>
                        <a:pt x="1657" y="375"/>
                        <a:pt x="1657" y="375"/>
                      </a:cubicBezTo>
                      <a:cubicBezTo>
                        <a:pt x="1662" y="394"/>
                        <a:pt x="1675" y="420"/>
                        <a:pt x="1693" y="434"/>
                      </a:cubicBezTo>
                      <a:cubicBezTo>
                        <a:pt x="1697" y="444"/>
                        <a:pt x="1677" y="446"/>
                        <a:pt x="1684" y="454"/>
                      </a:cubicBezTo>
                      <a:cubicBezTo>
                        <a:pt x="1694" y="481"/>
                        <a:pt x="1710" y="455"/>
                        <a:pt x="1724" y="478"/>
                      </a:cubicBezTo>
                      <a:cubicBezTo>
                        <a:pt x="1726" y="483"/>
                        <a:pt x="1730" y="493"/>
                        <a:pt x="1730" y="493"/>
                      </a:cubicBezTo>
                      <a:cubicBezTo>
                        <a:pt x="1728" y="516"/>
                        <a:pt x="1723" y="496"/>
                        <a:pt x="1712" y="530"/>
                      </a:cubicBezTo>
                      <a:cubicBezTo>
                        <a:pt x="1708" y="540"/>
                        <a:pt x="1695" y="588"/>
                        <a:pt x="1683" y="594"/>
                      </a:cubicBezTo>
                      <a:cubicBezTo>
                        <a:pt x="1675" y="613"/>
                        <a:pt x="1683" y="609"/>
                        <a:pt x="1663" y="613"/>
                      </a:cubicBezTo>
                      <a:cubicBezTo>
                        <a:pt x="1651" y="618"/>
                        <a:pt x="1656" y="615"/>
                        <a:pt x="1650" y="620"/>
                      </a:cubicBezTo>
                      <a:cubicBezTo>
                        <a:pt x="1650" y="620"/>
                        <a:pt x="1659" y="602"/>
                        <a:pt x="1659" y="602"/>
                      </a:cubicBezTo>
                      <a:close/>
                    </a:path>
                  </a:pathLst>
                </a:custGeom>
                <a:blipFill rotWithShape="0">
                  <a:blip r:embed="rId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147"/>
                <p:cNvSpPr/>
                <p:nvPr/>
              </p:nvSpPr>
              <p:spPr>
                <a:xfrm flipH="1">
                  <a:off x="345600" y="6402960"/>
                  <a:ext cx="890640" cy="326520"/>
                </a:xfrm>
                <a:custGeom>
                  <a:avLst/>
                  <a:gdLst>
                    <a:gd name="textAreaLeft" fmla="*/ 360 w 890640"/>
                    <a:gd name="textAreaRight" fmla="*/ 891360 w 890640"/>
                    <a:gd name="textAreaTop" fmla="*/ 0 h 326520"/>
                    <a:gd name="textAreaBottom" fmla="*/ 326520 h 32652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/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Freeform 148"/>
                <p:cNvSpPr/>
                <p:nvPr/>
              </p:nvSpPr>
              <p:spPr>
                <a:xfrm>
                  <a:off x="1258560" y="6248880"/>
                  <a:ext cx="131400" cy="32328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5" name="Group 149"/>
                <p:cNvGrpSpPr/>
                <p:nvPr/>
              </p:nvGrpSpPr>
              <p:grpSpPr>
                <a:xfrm>
                  <a:off x="63360" y="5789880"/>
                  <a:ext cx="707040" cy="1041840"/>
                  <a:chOff x="63360" y="5789880"/>
                  <a:chExt cx="707040" cy="1041840"/>
                </a:xfrm>
              </p:grpSpPr>
              <p:sp>
                <p:nvSpPr>
                  <p:cNvPr id="706" name="Freeform 150"/>
                  <p:cNvSpPr/>
                  <p:nvPr/>
                </p:nvSpPr>
                <p:spPr>
                  <a:xfrm flipH="1">
                    <a:off x="262440" y="6089760"/>
                    <a:ext cx="402480" cy="741960"/>
                  </a:xfrm>
                  <a:custGeom>
                    <a:avLst/>
                    <a:gdLst>
                      <a:gd name="textAreaLeft" fmla="*/ 360 w 402480"/>
                      <a:gd name="textAreaRight" fmla="*/ 403200 w 402480"/>
                      <a:gd name="textAreaTop" fmla="*/ 0 h 741960"/>
                      <a:gd name="textAreaBottom" fmla="*/ 742320 h 74196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97">
                      <a:alphaModFix amt="90000"/>
                    </a:blip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Freeform 151"/>
                  <p:cNvSpPr/>
                  <p:nvPr/>
                </p:nvSpPr>
                <p:spPr>
                  <a:xfrm flipH="1">
                    <a:off x="63360" y="5789880"/>
                    <a:ext cx="707040" cy="867240"/>
                  </a:xfrm>
                  <a:custGeom>
                    <a:avLst/>
                    <a:gdLst>
                      <a:gd name="textAreaLeft" fmla="*/ 360 w 707040"/>
                      <a:gd name="textAreaRight" fmla="*/ 707760 w 707040"/>
                      <a:gd name="textAreaTop" fmla="*/ 0 h 867240"/>
                      <a:gd name="textAreaBottom" fmla="*/ 867600 h 86724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98">
                      <a:alphaModFix amt="90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Oval 152"/>
                  <p:cNvSpPr/>
                  <p:nvPr/>
                </p:nvSpPr>
                <p:spPr>
                  <a:xfrm flipH="1">
                    <a:off x="664920" y="639540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Oval 153"/>
                  <p:cNvSpPr/>
                  <p:nvPr/>
                </p:nvSpPr>
                <p:spPr>
                  <a:xfrm flipH="1">
                    <a:off x="370080" y="635148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Oval 154"/>
                  <p:cNvSpPr/>
                  <p:nvPr/>
                </p:nvSpPr>
                <p:spPr>
                  <a:xfrm flipH="1">
                    <a:off x="557640" y="6307920"/>
                    <a:ext cx="26640" cy="4320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Oval 155"/>
                  <p:cNvSpPr/>
                  <p:nvPr/>
                </p:nvSpPr>
                <p:spPr>
                  <a:xfrm flipH="1">
                    <a:off x="638280" y="648252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Oval 156"/>
                  <p:cNvSpPr/>
                  <p:nvPr/>
                </p:nvSpPr>
                <p:spPr>
                  <a:xfrm flipH="1">
                    <a:off x="262440" y="6526080"/>
                    <a:ext cx="26640" cy="43560"/>
                  </a:xfrm>
                  <a:prstGeom prst="ellipse">
                    <a:avLst/>
                  </a:prstGeom>
                  <a:solidFill>
                    <a:srgbClr val="ffff00">
                      <a:alpha val="90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3" name="Group 157"/>
                <p:cNvGrpSpPr/>
                <p:nvPr/>
              </p:nvGrpSpPr>
              <p:grpSpPr>
                <a:xfrm>
                  <a:off x="767880" y="5644080"/>
                  <a:ext cx="581400" cy="856440"/>
                  <a:chOff x="767880" y="5644080"/>
                  <a:chExt cx="581400" cy="856440"/>
                </a:xfrm>
              </p:grpSpPr>
              <p:sp>
                <p:nvSpPr>
                  <p:cNvPr id="714" name="Freeform 158"/>
                  <p:cNvSpPr/>
                  <p:nvPr/>
                </p:nvSpPr>
                <p:spPr>
                  <a:xfrm>
                    <a:off x="835200" y="6013800"/>
                    <a:ext cx="246600" cy="486720"/>
                  </a:xfrm>
                  <a:custGeom>
                    <a:avLst/>
                    <a:gdLst>
                      <a:gd name="textAreaLeft" fmla="*/ 0 w 246600"/>
                      <a:gd name="textAreaRight" fmla="*/ 246960 w 246600"/>
                      <a:gd name="textAreaTop" fmla="*/ 0 h 486720"/>
                      <a:gd name="textAreaBottom" fmla="*/ 487080 h 486720"/>
                    </a:gdLst>
                    <a:ahLst/>
                    <a:rect l="textAreaLeft" t="textAreaTop" r="textAreaRight" b="textAreaBottom"/>
                    <a:pathLst>
                      <a:path w="720" h="816">
                        <a:moveTo>
                          <a:pt x="336" y="768"/>
                        </a:moveTo>
                        <a:lnTo>
                          <a:pt x="339" y="621"/>
                        </a:lnTo>
                        <a:lnTo>
                          <a:pt x="321" y="546"/>
                        </a:lnTo>
                        <a:lnTo>
                          <a:pt x="234" y="468"/>
                        </a:lnTo>
                        <a:lnTo>
                          <a:pt x="201" y="417"/>
                        </a:lnTo>
                        <a:lnTo>
                          <a:pt x="96" y="336"/>
                        </a:lnTo>
                        <a:lnTo>
                          <a:pt x="0" y="336"/>
                        </a:lnTo>
                        <a:lnTo>
                          <a:pt x="147" y="375"/>
                        </a:lnTo>
                        <a:lnTo>
                          <a:pt x="150" y="342"/>
                        </a:lnTo>
                        <a:lnTo>
                          <a:pt x="228" y="423"/>
                        </a:lnTo>
                        <a:lnTo>
                          <a:pt x="246" y="441"/>
                        </a:lnTo>
                        <a:lnTo>
                          <a:pt x="336" y="528"/>
                        </a:lnTo>
                        <a:lnTo>
                          <a:pt x="384" y="336"/>
                        </a:lnTo>
                        <a:lnTo>
                          <a:pt x="384" y="240"/>
                        </a:lnTo>
                        <a:lnTo>
                          <a:pt x="318" y="195"/>
                        </a:lnTo>
                        <a:lnTo>
                          <a:pt x="240" y="192"/>
                        </a:lnTo>
                        <a:lnTo>
                          <a:pt x="297" y="171"/>
                        </a:lnTo>
                        <a:lnTo>
                          <a:pt x="375" y="198"/>
                        </a:lnTo>
                        <a:lnTo>
                          <a:pt x="408" y="231"/>
                        </a:lnTo>
                        <a:lnTo>
                          <a:pt x="441" y="180"/>
                        </a:lnTo>
                        <a:lnTo>
                          <a:pt x="468" y="126"/>
                        </a:lnTo>
                        <a:lnTo>
                          <a:pt x="528" y="0"/>
                        </a:lnTo>
                        <a:lnTo>
                          <a:pt x="510" y="96"/>
                        </a:lnTo>
                        <a:lnTo>
                          <a:pt x="432" y="288"/>
                        </a:lnTo>
                        <a:lnTo>
                          <a:pt x="384" y="540"/>
                        </a:lnTo>
                        <a:lnTo>
                          <a:pt x="474" y="453"/>
                        </a:lnTo>
                        <a:lnTo>
                          <a:pt x="579" y="405"/>
                        </a:lnTo>
                        <a:lnTo>
                          <a:pt x="720" y="384"/>
                        </a:lnTo>
                        <a:lnTo>
                          <a:pt x="603" y="426"/>
                        </a:lnTo>
                        <a:lnTo>
                          <a:pt x="678" y="507"/>
                        </a:lnTo>
                        <a:lnTo>
                          <a:pt x="576" y="432"/>
                        </a:lnTo>
                        <a:lnTo>
                          <a:pt x="480" y="480"/>
                        </a:lnTo>
                        <a:lnTo>
                          <a:pt x="432" y="576"/>
                        </a:lnTo>
                        <a:lnTo>
                          <a:pt x="432" y="720"/>
                        </a:lnTo>
                        <a:lnTo>
                          <a:pt x="432" y="816"/>
                        </a:lnTo>
                        <a:lnTo>
                          <a:pt x="240" y="816"/>
                        </a:lnTo>
                        <a:lnTo>
                          <a:pt x="303" y="723"/>
                        </a:lnTo>
                        <a:lnTo>
                          <a:pt x="297" y="600"/>
                        </a:lnTo>
                        <a:lnTo>
                          <a:pt x="240" y="480"/>
                        </a:lnTo>
                        <a:lnTo>
                          <a:pt x="288" y="432"/>
                        </a:lnTo>
                        <a:lnTo>
                          <a:pt x="384" y="624"/>
                        </a:lnTo>
                        <a:lnTo>
                          <a:pt x="363" y="678"/>
                        </a:lnTo>
                        <a:lnTo>
                          <a:pt x="336" y="768"/>
                        </a:lnTo>
                        <a:close/>
                      </a:path>
                    </a:pathLst>
                  </a:custGeom>
                  <a:blipFill rotWithShape="0">
                    <a:blip r:embed="rId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Freeform 159"/>
                  <p:cNvSpPr/>
                  <p:nvPr/>
                </p:nvSpPr>
                <p:spPr>
                  <a:xfrm>
                    <a:off x="767880" y="5644080"/>
                    <a:ext cx="581400" cy="739440"/>
                  </a:xfrm>
                  <a:custGeom>
                    <a:avLst/>
                    <a:gdLst>
                      <a:gd name="textAreaLeft" fmla="*/ 0 w 581400"/>
                      <a:gd name="textAreaRight" fmla="*/ 581760 w 581400"/>
                      <a:gd name="textAreaTop" fmla="*/ 0 h 739440"/>
                      <a:gd name="textAreaBottom" fmla="*/ 739800 h 739440"/>
                    </a:gdLst>
                    <a:ahLst/>
                    <a:rect l="textAreaLeft" t="textAreaTop" r="textAreaRight" b="textAreaBottom"/>
                    <a:pathLst>
                      <a:path w="1104" h="864">
                        <a:moveTo>
                          <a:pt x="336" y="672"/>
                        </a:moveTo>
                        <a:lnTo>
                          <a:pt x="288" y="720"/>
                        </a:lnTo>
                        <a:lnTo>
                          <a:pt x="240" y="768"/>
                        </a:lnTo>
                        <a:lnTo>
                          <a:pt x="144" y="768"/>
                        </a:lnTo>
                        <a:lnTo>
                          <a:pt x="96" y="720"/>
                        </a:lnTo>
                        <a:lnTo>
                          <a:pt x="0" y="624"/>
                        </a:lnTo>
                        <a:lnTo>
                          <a:pt x="0" y="528"/>
                        </a:lnTo>
                        <a:lnTo>
                          <a:pt x="48" y="432"/>
                        </a:lnTo>
                        <a:lnTo>
                          <a:pt x="96" y="336"/>
                        </a:lnTo>
                        <a:lnTo>
                          <a:pt x="192" y="384"/>
                        </a:lnTo>
                        <a:lnTo>
                          <a:pt x="240" y="336"/>
                        </a:lnTo>
                        <a:lnTo>
                          <a:pt x="240" y="240"/>
                        </a:lnTo>
                        <a:lnTo>
                          <a:pt x="336" y="192"/>
                        </a:lnTo>
                        <a:lnTo>
                          <a:pt x="384" y="96"/>
                        </a:lnTo>
                        <a:lnTo>
                          <a:pt x="432" y="48"/>
                        </a:lnTo>
                        <a:lnTo>
                          <a:pt x="576" y="0"/>
                        </a:lnTo>
                        <a:lnTo>
                          <a:pt x="768" y="48"/>
                        </a:lnTo>
                        <a:lnTo>
                          <a:pt x="912" y="0"/>
                        </a:lnTo>
                        <a:lnTo>
                          <a:pt x="1008" y="96"/>
                        </a:lnTo>
                        <a:lnTo>
                          <a:pt x="1008" y="288"/>
                        </a:lnTo>
                        <a:lnTo>
                          <a:pt x="864" y="336"/>
                        </a:lnTo>
                        <a:lnTo>
                          <a:pt x="960" y="384"/>
                        </a:lnTo>
                        <a:lnTo>
                          <a:pt x="1104" y="528"/>
                        </a:lnTo>
                        <a:lnTo>
                          <a:pt x="1104" y="672"/>
                        </a:lnTo>
                        <a:lnTo>
                          <a:pt x="1008" y="768"/>
                        </a:lnTo>
                        <a:lnTo>
                          <a:pt x="864" y="864"/>
                        </a:lnTo>
                        <a:lnTo>
                          <a:pt x="768" y="816"/>
                        </a:lnTo>
                        <a:lnTo>
                          <a:pt x="720" y="720"/>
                        </a:lnTo>
                        <a:lnTo>
                          <a:pt x="672" y="720"/>
                        </a:lnTo>
                        <a:lnTo>
                          <a:pt x="672" y="624"/>
                        </a:lnTo>
                        <a:lnTo>
                          <a:pt x="576" y="624"/>
                        </a:lnTo>
                        <a:lnTo>
                          <a:pt x="480" y="576"/>
                        </a:lnTo>
                        <a:lnTo>
                          <a:pt x="432" y="576"/>
                        </a:lnTo>
                        <a:lnTo>
                          <a:pt x="384" y="672"/>
                        </a:lnTo>
                        <a:lnTo>
                          <a:pt x="336" y="672"/>
                        </a:lnTo>
                        <a:close/>
                      </a:path>
                    </a:pathLst>
                  </a:custGeom>
                  <a:blipFill rotWithShape="0">
                    <a:blip r:embed="rId100">
                      <a:alphaModFix amt="45000"/>
                    </a:blip>
                    <a:srcRect/>
                    <a:tile tx="0" ty="0" sx="100000" sy="100000" algn="ctr"/>
                  </a:blipFill>
                  <a:ln w="22320">
                    <a:solidFill>
                      <a:srgbClr val="99cc00"/>
                    </a:solidFill>
                    <a:prstDash val="lgDashDot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Oval 160"/>
                  <p:cNvSpPr/>
                  <p:nvPr/>
                </p:nvSpPr>
                <p:spPr>
                  <a:xfrm>
                    <a:off x="818640" y="621432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Oval 161"/>
                  <p:cNvSpPr/>
                  <p:nvPr/>
                </p:nvSpPr>
                <p:spPr>
                  <a:xfrm>
                    <a:off x="999720" y="618552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Oval 162"/>
                  <p:cNvSpPr/>
                  <p:nvPr/>
                </p:nvSpPr>
                <p:spPr>
                  <a:xfrm>
                    <a:off x="884520" y="615708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Oval 163"/>
                  <p:cNvSpPr/>
                  <p:nvPr/>
                </p:nvSpPr>
                <p:spPr>
                  <a:xfrm>
                    <a:off x="835200" y="627156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Oval 164"/>
                  <p:cNvSpPr/>
                  <p:nvPr/>
                </p:nvSpPr>
                <p:spPr>
                  <a:xfrm>
                    <a:off x="1065600" y="6300000"/>
                    <a:ext cx="16200" cy="28440"/>
                  </a:xfrm>
                  <a:prstGeom prst="ellipse">
                    <a:avLst/>
                  </a:prstGeom>
                  <a:solidFill>
                    <a:srgbClr val="ffff00">
                      <a:alpha val="95000"/>
                    </a:srgbClr>
                  </a:solidFill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1" name="Freeform 165"/>
                <p:cNvSpPr/>
                <p:nvPr/>
              </p:nvSpPr>
              <p:spPr>
                <a:xfrm flipH="1">
                  <a:off x="1330560" y="6475320"/>
                  <a:ext cx="248040" cy="527760"/>
                </a:xfrm>
                <a:custGeom>
                  <a:avLst/>
                  <a:gdLst>
                    <a:gd name="textAreaLeft" fmla="*/ -360 w 248040"/>
                    <a:gd name="textAreaRight" fmla="*/ 248040 w 248040"/>
                    <a:gd name="textAreaTop" fmla="*/ 0 h 527760"/>
                    <a:gd name="textAreaBottom" fmla="*/ 528120 h 527760"/>
                  </a:gdLst>
                  <a:ahLst/>
                  <a:rect l="textAreaLeft" t="textAreaTop" r="textAreaRight" b="textAreaBottom"/>
                  <a:pathLst>
                    <a:path w="242" h="242">
                      <a:moveTo>
                        <a:pt x="19" y="93"/>
                      </a:moveTo>
                      <a:cubicBezTo>
                        <a:pt x="37" y="98"/>
                        <a:pt x="41" y="107"/>
                        <a:pt x="55" y="117"/>
                      </a:cubicBezTo>
                      <a:cubicBezTo>
                        <a:pt x="63" y="129"/>
                        <a:pt x="76" y="139"/>
                        <a:pt x="88" y="147"/>
                      </a:cubicBezTo>
                      <a:cubicBezTo>
                        <a:pt x="94" y="156"/>
                        <a:pt x="97" y="165"/>
                        <a:pt x="103" y="174"/>
                      </a:cubicBezTo>
                      <a:cubicBezTo>
                        <a:pt x="109" y="196"/>
                        <a:pt x="114" y="218"/>
                        <a:pt x="118" y="240"/>
                      </a:cubicBezTo>
                      <a:cubicBezTo>
                        <a:pt x="132" y="235"/>
                        <a:pt x="133" y="230"/>
                        <a:pt x="148" y="234"/>
                      </a:cubicBezTo>
                      <a:cubicBezTo>
                        <a:pt x="151" y="236"/>
                        <a:pt x="154" y="242"/>
                        <a:pt x="157" y="240"/>
                      </a:cubicBezTo>
                      <a:cubicBezTo>
                        <a:pt x="164" y="235"/>
                        <a:pt x="161" y="224"/>
                        <a:pt x="163" y="216"/>
                      </a:cubicBezTo>
                      <a:cubicBezTo>
                        <a:pt x="168" y="199"/>
                        <a:pt x="173" y="183"/>
                        <a:pt x="181" y="168"/>
                      </a:cubicBezTo>
                      <a:cubicBezTo>
                        <a:pt x="198" y="138"/>
                        <a:pt x="185" y="157"/>
                        <a:pt x="202" y="147"/>
                      </a:cubicBezTo>
                      <a:cubicBezTo>
                        <a:pt x="208" y="143"/>
                        <a:pt x="220" y="135"/>
                        <a:pt x="220" y="135"/>
                      </a:cubicBezTo>
                      <a:cubicBezTo>
                        <a:pt x="224" y="136"/>
                        <a:pt x="228" y="136"/>
                        <a:pt x="232" y="138"/>
                      </a:cubicBezTo>
                      <a:cubicBezTo>
                        <a:pt x="235" y="139"/>
                        <a:pt x="242" y="147"/>
                        <a:pt x="241" y="144"/>
                      </a:cubicBezTo>
                      <a:cubicBezTo>
                        <a:pt x="236" y="129"/>
                        <a:pt x="234" y="120"/>
                        <a:pt x="220" y="111"/>
                      </a:cubicBezTo>
                      <a:cubicBezTo>
                        <a:pt x="212" y="112"/>
                        <a:pt x="204" y="112"/>
                        <a:pt x="196" y="114"/>
                      </a:cubicBezTo>
                      <a:cubicBezTo>
                        <a:pt x="190" y="115"/>
                        <a:pt x="178" y="120"/>
                        <a:pt x="178" y="120"/>
                      </a:cubicBezTo>
                      <a:cubicBezTo>
                        <a:pt x="176" y="123"/>
                        <a:pt x="175" y="127"/>
                        <a:pt x="172" y="129"/>
                      </a:cubicBezTo>
                      <a:cubicBezTo>
                        <a:pt x="170" y="131"/>
                        <a:pt x="165" y="130"/>
                        <a:pt x="163" y="132"/>
                      </a:cubicBezTo>
                      <a:cubicBezTo>
                        <a:pt x="161" y="134"/>
                        <a:pt x="150" y="166"/>
                        <a:pt x="148" y="171"/>
                      </a:cubicBezTo>
                      <a:cubicBezTo>
                        <a:pt x="145" y="132"/>
                        <a:pt x="140" y="72"/>
                        <a:pt x="103" y="48"/>
                      </a:cubicBezTo>
                      <a:cubicBezTo>
                        <a:pt x="96" y="26"/>
                        <a:pt x="62" y="7"/>
                        <a:pt x="40" y="0"/>
                      </a:cubicBezTo>
                      <a:cubicBezTo>
                        <a:pt x="49" y="14"/>
                        <a:pt x="60" y="34"/>
                        <a:pt x="76" y="39"/>
                      </a:cubicBezTo>
                      <a:cubicBezTo>
                        <a:pt x="86" y="54"/>
                        <a:pt x="96" y="68"/>
                        <a:pt x="103" y="84"/>
                      </a:cubicBezTo>
                      <a:cubicBezTo>
                        <a:pt x="107" y="93"/>
                        <a:pt x="112" y="111"/>
                        <a:pt x="112" y="111"/>
                      </a:cubicBezTo>
                      <a:cubicBezTo>
                        <a:pt x="114" y="125"/>
                        <a:pt x="119" y="140"/>
                        <a:pt x="115" y="153"/>
                      </a:cubicBezTo>
                      <a:cubicBezTo>
                        <a:pt x="101" y="132"/>
                        <a:pt x="109" y="139"/>
                        <a:pt x="94" y="129"/>
                      </a:cubicBezTo>
                      <a:cubicBezTo>
                        <a:pt x="90" y="117"/>
                        <a:pt x="80" y="108"/>
                        <a:pt x="70" y="102"/>
                      </a:cubicBezTo>
                      <a:cubicBezTo>
                        <a:pt x="64" y="98"/>
                        <a:pt x="58" y="94"/>
                        <a:pt x="52" y="90"/>
                      </a:cubicBezTo>
                      <a:cubicBezTo>
                        <a:pt x="49" y="88"/>
                        <a:pt x="43" y="84"/>
                        <a:pt x="43" y="84"/>
                      </a:cubicBezTo>
                      <a:cubicBezTo>
                        <a:pt x="34" y="85"/>
                        <a:pt x="25" y="86"/>
                        <a:pt x="16" y="87"/>
                      </a:cubicBezTo>
                      <a:cubicBezTo>
                        <a:pt x="10" y="88"/>
                        <a:pt x="0" y="95"/>
                        <a:pt x="4" y="99"/>
                      </a:cubicBezTo>
                      <a:cubicBezTo>
                        <a:pt x="7" y="102"/>
                        <a:pt x="29" y="83"/>
                        <a:pt x="19" y="9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ae471"/>
                    </a:gs>
                    <a:gs pos="50000">
                      <a:srgbClr val="008000"/>
                    </a:gs>
                    <a:gs pos="100000">
                      <a:srgbClr val="5ae471"/>
                    </a:gs>
                  </a:gsLst>
                  <a:lin ang="0"/>
                </a:gra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Group 166"/>
                <p:cNvGrpSpPr/>
                <p:nvPr/>
              </p:nvGrpSpPr>
              <p:grpSpPr>
                <a:xfrm>
                  <a:off x="951480" y="6416280"/>
                  <a:ext cx="289440" cy="409320"/>
                  <a:chOff x="951480" y="6416280"/>
                  <a:chExt cx="289440" cy="409320"/>
                </a:xfrm>
              </p:grpSpPr>
              <p:sp>
                <p:nvSpPr>
                  <p:cNvPr id="723" name="Freeform 167"/>
                  <p:cNvSpPr/>
                  <p:nvPr/>
                </p:nvSpPr>
                <p:spPr>
                  <a:xfrm rot="1243200">
                    <a:off x="1071360" y="6422040"/>
                    <a:ext cx="104760" cy="3844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384480"/>
                      <a:gd name="textAreaBottom" fmla="*/ 384840 h 384480"/>
                    </a:gdLst>
                    <a:ahLst/>
                    <a:rect l="textAreaLeft" t="textAreaTop" r="textAreaRight" b="textAreaBottom"/>
                    <a:pathLst>
                      <a:path w="176" h="306">
                        <a:moveTo>
                          <a:pt x="0" y="306"/>
                        </a:moveTo>
                        <a:lnTo>
                          <a:pt x="30" y="59"/>
                        </a:lnTo>
                        <a:lnTo>
                          <a:pt x="40" y="64"/>
                        </a:lnTo>
                        <a:lnTo>
                          <a:pt x="68" y="24"/>
                        </a:lnTo>
                        <a:lnTo>
                          <a:pt x="102" y="0"/>
                        </a:lnTo>
                        <a:lnTo>
                          <a:pt x="146" y="5"/>
                        </a:lnTo>
                        <a:lnTo>
                          <a:pt x="176" y="69"/>
                        </a:lnTo>
                        <a:lnTo>
                          <a:pt x="146" y="31"/>
                        </a:lnTo>
                        <a:lnTo>
                          <a:pt x="110" y="28"/>
                        </a:lnTo>
                        <a:lnTo>
                          <a:pt x="84" y="36"/>
                        </a:lnTo>
                        <a:lnTo>
                          <a:pt x="42" y="126"/>
                        </a:lnTo>
                        <a:lnTo>
                          <a:pt x="22" y="232"/>
                        </a:lnTo>
                        <a:lnTo>
                          <a:pt x="10" y="292"/>
                        </a:lnTo>
                        <a:lnTo>
                          <a:pt x="0" y="306"/>
                        </a:lnTo>
                        <a:close/>
                      </a:path>
                    </a:pathLst>
                  </a:custGeom>
                  <a:blipFill rotWithShape="0">
                    <a:blip r:embed="rId101"/>
                    <a:srcRect/>
                    <a:stretch/>
                  </a:blipFill>
                  <a:ln cap="rnd" w="9360">
                    <a:solidFill>
                      <a:srgbClr val="008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Freeform 168"/>
                  <p:cNvSpPr/>
                  <p:nvPr/>
                </p:nvSpPr>
                <p:spPr>
                  <a:xfrm rot="429600">
                    <a:off x="973080" y="6455520"/>
                    <a:ext cx="142920" cy="362520"/>
                  </a:xfrm>
                  <a:custGeom>
                    <a:avLst/>
                    <a:gdLst>
                      <a:gd name="textAreaLeft" fmla="*/ 0 w 142920"/>
                      <a:gd name="textAreaRight" fmla="*/ 143280 w 142920"/>
                      <a:gd name="textAreaTop" fmla="*/ 0 h 362520"/>
                      <a:gd name="textAreaBottom" fmla="*/ 362880 h 3625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81600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5" name="Freeform 169"/>
                <p:cNvSpPr/>
                <p:nvPr/>
              </p:nvSpPr>
              <p:spPr>
                <a:xfrm>
                  <a:off x="445680" y="6585480"/>
                  <a:ext cx="652680" cy="257400"/>
                </a:xfrm>
                <a:custGeom>
                  <a:avLst/>
                  <a:gdLst>
                    <a:gd name="textAreaLeft" fmla="*/ 0 w 652680"/>
                    <a:gd name="textAreaRight" fmla="*/ 653040 w 652680"/>
                    <a:gd name="textAreaTop" fmla="*/ 0 h 257400"/>
                    <a:gd name="textAreaBottom" fmla="*/ 257760 h 257400"/>
                  </a:gdLst>
                  <a:ahLst/>
                  <a:rect l="textAreaLeft" t="textAreaTop" r="textAreaRight" b="textAreaBottom"/>
                  <a:pathLst>
                    <a:path w="1180" h="432">
                      <a:moveTo>
                        <a:pt x="104" y="352"/>
                      </a:moveTo>
                      <a:lnTo>
                        <a:pt x="192" y="236"/>
                      </a:lnTo>
                      <a:lnTo>
                        <a:pt x="364" y="52"/>
                      </a:lnTo>
                      <a:lnTo>
                        <a:pt x="608" y="0"/>
                      </a:lnTo>
                      <a:lnTo>
                        <a:pt x="812" y="4"/>
                      </a:lnTo>
                      <a:lnTo>
                        <a:pt x="948" y="80"/>
                      </a:lnTo>
                      <a:lnTo>
                        <a:pt x="1048" y="164"/>
                      </a:lnTo>
                      <a:lnTo>
                        <a:pt x="1096" y="322"/>
                      </a:lnTo>
                      <a:lnTo>
                        <a:pt x="1148" y="372"/>
                      </a:lnTo>
                      <a:lnTo>
                        <a:pt x="1180" y="432"/>
                      </a:lnTo>
                      <a:lnTo>
                        <a:pt x="0" y="428"/>
                      </a:lnTo>
                      <a:lnTo>
                        <a:pt x="104" y="3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69019"/>
                      </a:srgbClr>
                    </a:gs>
                    <a:gs pos="100000">
                      <a:srgbClr val="58925f"/>
                    </a:gs>
                  </a:gsLst>
                  <a:lin ang="5400000"/>
                </a:gradFill>
                <a:ln w="25560">
                  <a:solidFill>
                    <a:srgbClr val="cccc00">
                      <a:alpha val="2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82"/>
              <p:cNvGrpSpPr/>
              <p:nvPr/>
            </p:nvGrpSpPr>
            <p:grpSpPr>
              <a:xfrm>
                <a:off x="1095120" y="5072040"/>
                <a:ext cx="3538800" cy="2029680"/>
                <a:chOff x="1095120" y="5072040"/>
                <a:chExt cx="3538800" cy="2029680"/>
              </a:xfrm>
            </p:grpSpPr>
            <p:grpSp>
              <p:nvGrpSpPr>
                <p:cNvPr id="727" name="Group 83"/>
                <p:cNvGrpSpPr/>
                <p:nvPr/>
              </p:nvGrpSpPr>
              <p:grpSpPr>
                <a:xfrm>
                  <a:off x="1423800" y="5072040"/>
                  <a:ext cx="2813040" cy="1947600"/>
                  <a:chOff x="1423800" y="5072040"/>
                  <a:chExt cx="2813040" cy="1947600"/>
                </a:xfrm>
              </p:grpSpPr>
              <p:grpSp>
                <p:nvGrpSpPr>
                  <p:cNvPr id="728" name="Group 84"/>
                  <p:cNvGrpSpPr/>
                  <p:nvPr/>
                </p:nvGrpSpPr>
                <p:grpSpPr>
                  <a:xfrm>
                    <a:off x="3595320" y="5654880"/>
                    <a:ext cx="534960" cy="828360"/>
                    <a:chOff x="3595320" y="5654880"/>
                    <a:chExt cx="534960" cy="828360"/>
                  </a:xfrm>
                </p:grpSpPr>
                <p:sp>
                  <p:nvSpPr>
                    <p:cNvPr id="729" name="Rectangle 85"/>
                    <p:cNvSpPr/>
                    <p:nvPr/>
                  </p:nvSpPr>
                  <p:spPr>
                    <a:xfrm flipH="1">
                      <a:off x="3818160" y="6337080"/>
                      <a:ext cx="88920" cy="146160"/>
                    </a:xfrm>
                    <a:prstGeom prst="rect">
                      <a:avLst/>
                    </a:prstGeom>
                    <a:blipFill rotWithShape="0">
                      <a:blip r:embed="rId10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30" name="Group 86"/>
                    <p:cNvGrpSpPr/>
                    <p:nvPr/>
                  </p:nvGrpSpPr>
                  <p:grpSpPr>
                    <a:xfrm>
                      <a:off x="3595320" y="5654880"/>
                      <a:ext cx="534960" cy="730440"/>
                      <a:chOff x="3595320" y="5654880"/>
                      <a:chExt cx="534960" cy="730440"/>
                    </a:xfrm>
                  </p:grpSpPr>
                  <p:sp>
                    <p:nvSpPr>
                      <p:cNvPr id="731" name="Freeform 87"/>
                      <p:cNvSpPr/>
                      <p:nvPr/>
                    </p:nvSpPr>
                    <p:spPr>
                      <a:xfrm flipH="1">
                        <a:off x="3595320" y="5898240"/>
                        <a:ext cx="534960" cy="487080"/>
                      </a:xfrm>
                      <a:custGeom>
                        <a:avLst/>
                        <a:gdLst>
                          <a:gd name="textAreaLeft" fmla="*/ 360 w 534960"/>
                          <a:gd name="textAreaRight" fmla="*/ 535680 w 534960"/>
                          <a:gd name="textAreaTop" fmla="*/ 0 h 487080"/>
                          <a:gd name="textAreaBottom" fmla="*/ 487440 h 48708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3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2" name="Freeform 88"/>
                      <p:cNvSpPr/>
                      <p:nvPr/>
                    </p:nvSpPr>
                    <p:spPr>
                      <a:xfrm flipH="1">
                        <a:off x="3654720" y="5816880"/>
                        <a:ext cx="416160" cy="324720"/>
                      </a:xfrm>
                      <a:custGeom>
                        <a:avLst/>
                        <a:gdLst>
                          <a:gd name="textAreaLeft" fmla="*/ 360 w 416160"/>
                          <a:gd name="textAreaRight" fmla="*/ 416880 w 416160"/>
                          <a:gd name="textAreaTop" fmla="*/ 0 h 324720"/>
                          <a:gd name="textAreaBottom" fmla="*/ 325080 h 32472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4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3" name="Freeform 89"/>
                      <p:cNvSpPr/>
                      <p:nvPr/>
                    </p:nvSpPr>
                    <p:spPr>
                      <a:xfrm flipH="1">
                        <a:off x="3714120" y="5654880"/>
                        <a:ext cx="297000" cy="324360"/>
                      </a:xfrm>
                      <a:custGeom>
                        <a:avLst/>
                        <a:gdLst>
                          <a:gd name="textAreaLeft" fmla="*/ -360 w 297000"/>
                          <a:gd name="textAreaRight" fmla="*/ 297000 w 297000"/>
                          <a:gd name="textAreaTop" fmla="*/ 0 h 324360"/>
                          <a:gd name="textAreaBottom" fmla="*/ 324720 h 324360"/>
                        </a:gdLst>
                        <a:ahLst/>
                        <a:rect l="textAreaLeft" t="textAreaTop" r="textAreaRight" b="textAreaBottom"/>
                        <a:pathLst>
                          <a:path w="432" h="288">
                            <a:moveTo>
                              <a:pt x="165" y="96"/>
                            </a:moveTo>
                            <a:lnTo>
                              <a:pt x="114" y="195"/>
                            </a:lnTo>
                            <a:lnTo>
                              <a:pt x="0" y="288"/>
                            </a:lnTo>
                            <a:lnTo>
                              <a:pt x="144" y="240"/>
                            </a:lnTo>
                            <a:lnTo>
                              <a:pt x="192" y="288"/>
                            </a:lnTo>
                            <a:lnTo>
                              <a:pt x="240" y="288"/>
                            </a:lnTo>
                            <a:lnTo>
                              <a:pt x="288" y="240"/>
                            </a:lnTo>
                            <a:lnTo>
                              <a:pt x="378" y="276"/>
                            </a:lnTo>
                            <a:lnTo>
                              <a:pt x="432" y="288"/>
                            </a:lnTo>
                            <a:lnTo>
                              <a:pt x="336" y="192"/>
                            </a:lnTo>
                            <a:lnTo>
                              <a:pt x="288" y="96"/>
                            </a:lnTo>
                            <a:lnTo>
                              <a:pt x="240" y="0"/>
                            </a:lnTo>
                            <a:lnTo>
                              <a:pt x="213" y="3"/>
                            </a:lnTo>
                            <a:lnTo>
                              <a:pt x="165" y="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5"/>
                        <a:srcRect/>
                        <a:tile tx="0" ty="0" sx="100000" sy="100000" algn="ctr"/>
                      </a:blipFill>
                      <a:ln w="936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34" name="Group 90"/>
                  <p:cNvGrpSpPr/>
                  <p:nvPr/>
                </p:nvGrpSpPr>
                <p:grpSpPr>
                  <a:xfrm>
                    <a:off x="1423800" y="5902200"/>
                    <a:ext cx="2813040" cy="1117440"/>
                    <a:chOff x="1423800" y="5902200"/>
                    <a:chExt cx="2813040" cy="1117440"/>
                  </a:xfrm>
                </p:grpSpPr>
                <p:sp>
                  <p:nvSpPr>
                    <p:cNvPr id="735" name="Freeform 91"/>
                    <p:cNvSpPr/>
                    <p:nvPr/>
                  </p:nvSpPr>
                  <p:spPr>
                    <a:xfrm flipH="1">
                      <a:off x="1662120" y="5902200"/>
                      <a:ext cx="2574720" cy="1097640"/>
                    </a:xfrm>
                    <a:custGeom>
                      <a:avLst/>
                      <a:gdLst>
                        <a:gd name="textAreaLeft" fmla="*/ 360 w 2574720"/>
                        <a:gd name="textAreaRight" fmla="*/ 2575440 w 2574720"/>
                        <a:gd name="textAreaTop" fmla="*/ 0 h 1097640"/>
                        <a:gd name="textAreaBottom" fmla="*/ 1098000 h 109764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106">
                        <a:alphaModFix amt="92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Freeform 92"/>
                    <p:cNvSpPr/>
                    <p:nvPr/>
                  </p:nvSpPr>
                  <p:spPr>
                    <a:xfrm flipH="1">
                      <a:off x="1423800" y="6021000"/>
                      <a:ext cx="2813040" cy="998640"/>
                    </a:xfrm>
                    <a:custGeom>
                      <a:avLst/>
                      <a:gdLst>
                        <a:gd name="textAreaLeft" fmla="*/ 360 w 2813040"/>
                        <a:gd name="textAreaRight" fmla="*/ 2813760 w 2813040"/>
                        <a:gd name="textAreaTop" fmla="*/ 0 h 998640"/>
                        <a:gd name="textAreaBottom" fmla="*/ 999000 h 998640"/>
                      </a:gdLst>
                      <a:ahLst/>
                      <a:rect l="textAreaLeft" t="textAreaTop" r="textAreaRight" b="textAreaBottom"/>
                      <a:pathLst>
                        <a:path w="1156" h="444">
                          <a:moveTo>
                            <a:pt x="124" y="268"/>
                          </a:moveTo>
                          <a:lnTo>
                            <a:pt x="204" y="224"/>
                          </a:lnTo>
                          <a:lnTo>
                            <a:pt x="312" y="112"/>
                          </a:lnTo>
                          <a:lnTo>
                            <a:pt x="392" y="60"/>
                          </a:lnTo>
                          <a:lnTo>
                            <a:pt x="488" y="24"/>
                          </a:lnTo>
                          <a:lnTo>
                            <a:pt x="615" y="0"/>
                          </a:lnTo>
                          <a:lnTo>
                            <a:pt x="735" y="0"/>
                          </a:lnTo>
                          <a:lnTo>
                            <a:pt x="859" y="48"/>
                          </a:lnTo>
                          <a:lnTo>
                            <a:pt x="924" y="104"/>
                          </a:lnTo>
                          <a:lnTo>
                            <a:pt x="1036" y="200"/>
                          </a:lnTo>
                          <a:lnTo>
                            <a:pt x="1091" y="300"/>
                          </a:lnTo>
                          <a:lnTo>
                            <a:pt x="1156" y="423"/>
                          </a:lnTo>
                          <a:lnTo>
                            <a:pt x="188" y="436"/>
                          </a:lnTo>
                          <a:lnTo>
                            <a:pt x="0" y="444"/>
                          </a:lnTo>
                          <a:lnTo>
                            <a:pt x="24" y="376"/>
                          </a:lnTo>
                          <a:lnTo>
                            <a:pt x="76" y="308"/>
                          </a:lnTo>
                          <a:lnTo>
                            <a:pt x="124" y="268"/>
                          </a:lnTo>
                          <a:close/>
                        </a:path>
                      </a:pathLst>
                    </a:custGeom>
                    <a:blipFill rotWithShape="0">
                      <a:blip r:embed="rId107">
                        <a:alphaModFix amt="54000"/>
                      </a:blip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7" name="Freeform 93"/>
                  <p:cNvSpPr/>
                  <p:nvPr/>
                </p:nvSpPr>
                <p:spPr>
                  <a:xfrm>
                    <a:off x="3595680" y="6258240"/>
                    <a:ext cx="214200" cy="360720"/>
                  </a:xfrm>
                  <a:custGeom>
                    <a:avLst/>
                    <a:gdLst>
                      <a:gd name="textAreaLeft" fmla="*/ 0 w 214200"/>
                      <a:gd name="textAreaRight" fmla="*/ 214560 w 214200"/>
                      <a:gd name="textAreaTop" fmla="*/ 0 h 360720"/>
                      <a:gd name="textAreaBottom" fmla="*/ 361080 h 3607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8" name="Group 94"/>
                  <p:cNvGrpSpPr/>
                  <p:nvPr/>
                </p:nvGrpSpPr>
                <p:grpSpPr>
                  <a:xfrm>
                    <a:off x="2098800" y="5190120"/>
                    <a:ext cx="748440" cy="830520"/>
                    <a:chOff x="2098800" y="5190120"/>
                    <a:chExt cx="748440" cy="830520"/>
                  </a:xfrm>
                </p:grpSpPr>
                <p:sp>
                  <p:nvSpPr>
                    <p:cNvPr id="739" name="Freeform 95"/>
                    <p:cNvSpPr/>
                    <p:nvPr/>
                  </p:nvSpPr>
                  <p:spPr>
                    <a:xfrm flipH="1">
                      <a:off x="2229120" y="5378760"/>
                      <a:ext cx="488160" cy="641880"/>
                    </a:xfrm>
                    <a:custGeom>
                      <a:avLst/>
                      <a:gdLst>
                        <a:gd name="textAreaLeft" fmla="*/ 360 w 488160"/>
                        <a:gd name="textAreaRight" fmla="*/ 488880 w 488160"/>
                        <a:gd name="textAreaTop" fmla="*/ 0 h 641880"/>
                        <a:gd name="textAreaBottom" fmla="*/ 641880 h 64188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08">
                        <a:alphaModFix amt="90000"/>
                      </a:blip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Freeform 96"/>
                    <p:cNvSpPr/>
                    <p:nvPr/>
                  </p:nvSpPr>
                  <p:spPr>
                    <a:xfrm flipH="1">
                      <a:off x="2098440" y="5190120"/>
                      <a:ext cx="748440" cy="679320"/>
                    </a:xfrm>
                    <a:custGeom>
                      <a:avLst/>
                      <a:gdLst>
                        <a:gd name="textAreaLeft" fmla="*/ -360 w 748440"/>
                        <a:gd name="textAreaRight" fmla="*/ 748440 w 748440"/>
                        <a:gd name="textAreaTop" fmla="*/ 0 h 679320"/>
                        <a:gd name="textAreaBottom" fmla="*/ 679680 h 67932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09">
                        <a:alphaModFix amt="90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Oval 97"/>
                    <p:cNvSpPr/>
                    <p:nvPr/>
                  </p:nvSpPr>
                  <p:spPr>
                    <a:xfrm flipH="1">
                      <a:off x="2717280" y="56430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Oval 98"/>
                    <p:cNvSpPr/>
                    <p:nvPr/>
                  </p:nvSpPr>
                  <p:spPr>
                    <a:xfrm flipH="1">
                      <a:off x="2359440" y="56052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Oval 99"/>
                    <p:cNvSpPr/>
                    <p:nvPr/>
                  </p:nvSpPr>
                  <p:spPr>
                    <a:xfrm flipH="1">
                      <a:off x="2586960" y="5567400"/>
                      <a:ext cx="32400" cy="3744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Oval 100"/>
                    <p:cNvSpPr/>
                    <p:nvPr/>
                  </p:nvSpPr>
                  <p:spPr>
                    <a:xfrm flipH="1">
                      <a:off x="2684880" y="57186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Oval 101"/>
                    <p:cNvSpPr/>
                    <p:nvPr/>
                  </p:nvSpPr>
                  <p:spPr>
                    <a:xfrm flipH="1">
                      <a:off x="2229120" y="5756400"/>
                      <a:ext cx="32400" cy="37800"/>
                    </a:xfrm>
                    <a:prstGeom prst="ellipse">
                      <a:avLst/>
                    </a:prstGeom>
                    <a:solidFill>
                      <a:srgbClr val="ffff00">
                        <a:alpha val="90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6" name="Freeform 102"/>
                  <p:cNvSpPr/>
                  <p:nvPr/>
                </p:nvSpPr>
                <p:spPr>
                  <a:xfrm>
                    <a:off x="2740680" y="5783760"/>
                    <a:ext cx="213480" cy="360360"/>
                  </a:xfrm>
                  <a:custGeom>
                    <a:avLst/>
                    <a:gdLst>
                      <a:gd name="textAreaLeft" fmla="*/ 0 w 213480"/>
                      <a:gd name="textAreaRight" fmla="*/ 213840 w 21348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Freeform 103"/>
                  <p:cNvSpPr/>
                  <p:nvPr/>
                </p:nvSpPr>
                <p:spPr>
                  <a:xfrm flipH="1">
                    <a:off x="3381480" y="6021000"/>
                    <a:ext cx="320760" cy="24192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241920"/>
                      <a:gd name="textAreaBottom" fmla="*/ 242280 h 2419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Freeform 104"/>
                  <p:cNvSpPr/>
                  <p:nvPr/>
                </p:nvSpPr>
                <p:spPr>
                  <a:xfrm>
                    <a:off x="1670760" y="6377040"/>
                    <a:ext cx="320760" cy="36072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360720"/>
                      <a:gd name="textAreaBottom" fmla="*/ 361080 h 36072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49" name="Group 105"/>
                  <p:cNvGrpSpPr/>
                  <p:nvPr/>
                </p:nvGrpSpPr>
                <p:grpSpPr>
                  <a:xfrm>
                    <a:off x="2962800" y="5072040"/>
                    <a:ext cx="853200" cy="1067400"/>
                    <a:chOff x="2962800" y="5072040"/>
                    <a:chExt cx="853200" cy="1067400"/>
                  </a:xfrm>
                </p:grpSpPr>
                <p:sp>
                  <p:nvSpPr>
                    <p:cNvPr id="750" name="Freeform 106"/>
                    <p:cNvSpPr/>
                    <p:nvPr/>
                  </p:nvSpPr>
                  <p:spPr>
                    <a:xfrm flipH="1">
                      <a:off x="3111120" y="5314320"/>
                      <a:ext cx="556560" cy="825120"/>
                    </a:xfrm>
                    <a:custGeom>
                      <a:avLst/>
                      <a:gdLst>
                        <a:gd name="textAreaLeft" fmla="*/ 360 w 556560"/>
                        <a:gd name="textAreaRight" fmla="*/ 557280 w 556560"/>
                        <a:gd name="textAreaTop" fmla="*/ 0 h 825120"/>
                        <a:gd name="textAreaBottom" fmla="*/ 825480 h 8251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1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Freeform 107"/>
                    <p:cNvSpPr/>
                    <p:nvPr/>
                  </p:nvSpPr>
                  <p:spPr>
                    <a:xfrm flipH="1">
                      <a:off x="2962800" y="5072040"/>
                      <a:ext cx="853200" cy="873360"/>
                    </a:xfrm>
                    <a:custGeom>
                      <a:avLst/>
                      <a:gdLst>
                        <a:gd name="textAreaLeft" fmla="*/ 360 w 853200"/>
                        <a:gd name="textAreaRight" fmla="*/ 853920 w 853200"/>
                        <a:gd name="textAreaTop" fmla="*/ 0 h 873360"/>
                        <a:gd name="textAreaBottom" fmla="*/ 873720 h 8733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11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Oval 108"/>
                    <p:cNvSpPr/>
                    <p:nvPr/>
                  </p:nvSpPr>
                  <p:spPr>
                    <a:xfrm flipH="1">
                      <a:off x="3667320" y="56541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Oval 109"/>
                    <p:cNvSpPr/>
                    <p:nvPr/>
                  </p:nvSpPr>
                  <p:spPr>
                    <a:xfrm flipH="1">
                      <a:off x="3259440" y="56055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Oval 110"/>
                    <p:cNvSpPr/>
                    <p:nvPr/>
                  </p:nvSpPr>
                  <p:spPr>
                    <a:xfrm flipH="1">
                      <a:off x="3519720" y="5557320"/>
                      <a:ext cx="36720" cy="482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Oval 111"/>
                    <p:cNvSpPr/>
                    <p:nvPr/>
                  </p:nvSpPr>
                  <p:spPr>
                    <a:xfrm flipH="1">
                      <a:off x="3630960" y="5751360"/>
                      <a:ext cx="3672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Oval 112"/>
                    <p:cNvSpPr/>
                    <p:nvPr/>
                  </p:nvSpPr>
                  <p:spPr>
                    <a:xfrm flipH="1">
                      <a:off x="3110760" y="5799960"/>
                      <a:ext cx="37080" cy="486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7" name="Freeform 113"/>
                  <p:cNvSpPr/>
                  <p:nvPr/>
                </p:nvSpPr>
                <p:spPr>
                  <a:xfrm flipH="1">
                    <a:off x="3915720" y="6495840"/>
                    <a:ext cx="320760" cy="36036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8" name="Group 114"/>
                  <p:cNvGrpSpPr/>
                  <p:nvPr/>
                </p:nvGrpSpPr>
                <p:grpSpPr>
                  <a:xfrm>
                    <a:off x="1457280" y="5546160"/>
                    <a:ext cx="962280" cy="1186560"/>
                    <a:chOff x="1457280" y="5546160"/>
                    <a:chExt cx="962280" cy="1186560"/>
                  </a:xfrm>
                </p:grpSpPr>
                <p:sp>
                  <p:nvSpPr>
                    <p:cNvPr id="759" name="Freeform 115"/>
                    <p:cNvSpPr/>
                    <p:nvPr/>
                  </p:nvSpPr>
                  <p:spPr>
                    <a:xfrm>
                      <a:off x="1623600" y="5815440"/>
                      <a:ext cx="627480" cy="916920"/>
                    </a:xfrm>
                    <a:custGeom>
                      <a:avLst/>
                      <a:gdLst>
                        <a:gd name="textAreaLeft" fmla="*/ 0 w 627480"/>
                        <a:gd name="textAreaRight" fmla="*/ 627480 w 627480"/>
                        <a:gd name="textAreaTop" fmla="*/ 0 h 916920"/>
                        <a:gd name="textAreaBottom" fmla="*/ 917280 h 916920"/>
                      </a:gdLst>
                      <a:ahLst/>
                      <a:rect l="textAreaLeft" t="textAreaTop" r="textAreaRight" b="textAreaBottom"/>
                      <a:pathLst>
                        <a:path w="720" h="816">
                          <a:moveTo>
                            <a:pt x="336" y="768"/>
                          </a:moveTo>
                          <a:lnTo>
                            <a:pt x="339" y="621"/>
                          </a:lnTo>
                          <a:lnTo>
                            <a:pt x="321" y="546"/>
                          </a:lnTo>
                          <a:lnTo>
                            <a:pt x="234" y="468"/>
                          </a:lnTo>
                          <a:lnTo>
                            <a:pt x="201" y="417"/>
                          </a:lnTo>
                          <a:lnTo>
                            <a:pt x="96" y="336"/>
                          </a:lnTo>
                          <a:lnTo>
                            <a:pt x="0" y="336"/>
                          </a:lnTo>
                          <a:lnTo>
                            <a:pt x="147" y="375"/>
                          </a:lnTo>
                          <a:lnTo>
                            <a:pt x="150" y="342"/>
                          </a:lnTo>
                          <a:lnTo>
                            <a:pt x="228" y="423"/>
                          </a:lnTo>
                          <a:lnTo>
                            <a:pt x="246" y="441"/>
                          </a:lnTo>
                          <a:lnTo>
                            <a:pt x="336" y="528"/>
                          </a:lnTo>
                          <a:lnTo>
                            <a:pt x="384" y="336"/>
                          </a:lnTo>
                          <a:lnTo>
                            <a:pt x="384" y="240"/>
                          </a:lnTo>
                          <a:lnTo>
                            <a:pt x="318" y="195"/>
                          </a:lnTo>
                          <a:lnTo>
                            <a:pt x="240" y="192"/>
                          </a:lnTo>
                          <a:lnTo>
                            <a:pt x="297" y="171"/>
                          </a:lnTo>
                          <a:lnTo>
                            <a:pt x="375" y="198"/>
                          </a:lnTo>
                          <a:lnTo>
                            <a:pt x="408" y="231"/>
                          </a:lnTo>
                          <a:lnTo>
                            <a:pt x="441" y="180"/>
                          </a:lnTo>
                          <a:lnTo>
                            <a:pt x="468" y="126"/>
                          </a:lnTo>
                          <a:lnTo>
                            <a:pt x="528" y="0"/>
                          </a:lnTo>
                          <a:lnTo>
                            <a:pt x="510" y="96"/>
                          </a:lnTo>
                          <a:lnTo>
                            <a:pt x="432" y="288"/>
                          </a:lnTo>
                          <a:lnTo>
                            <a:pt x="384" y="540"/>
                          </a:lnTo>
                          <a:lnTo>
                            <a:pt x="474" y="453"/>
                          </a:lnTo>
                          <a:lnTo>
                            <a:pt x="579" y="405"/>
                          </a:lnTo>
                          <a:lnTo>
                            <a:pt x="720" y="384"/>
                          </a:lnTo>
                          <a:lnTo>
                            <a:pt x="603" y="426"/>
                          </a:lnTo>
                          <a:lnTo>
                            <a:pt x="678" y="507"/>
                          </a:lnTo>
                          <a:lnTo>
                            <a:pt x="576" y="432"/>
                          </a:lnTo>
                          <a:lnTo>
                            <a:pt x="480" y="480"/>
                          </a:lnTo>
                          <a:lnTo>
                            <a:pt x="432" y="576"/>
                          </a:lnTo>
                          <a:lnTo>
                            <a:pt x="432" y="720"/>
                          </a:lnTo>
                          <a:lnTo>
                            <a:pt x="432" y="816"/>
                          </a:lnTo>
                          <a:lnTo>
                            <a:pt x="240" y="816"/>
                          </a:lnTo>
                          <a:lnTo>
                            <a:pt x="303" y="723"/>
                          </a:lnTo>
                          <a:lnTo>
                            <a:pt x="297" y="600"/>
                          </a:lnTo>
                          <a:lnTo>
                            <a:pt x="240" y="480"/>
                          </a:lnTo>
                          <a:lnTo>
                            <a:pt x="288" y="432"/>
                          </a:lnTo>
                          <a:lnTo>
                            <a:pt x="384" y="624"/>
                          </a:lnTo>
                          <a:lnTo>
                            <a:pt x="363" y="678"/>
                          </a:lnTo>
                          <a:lnTo>
                            <a:pt x="336" y="768"/>
                          </a:lnTo>
                          <a:close/>
                        </a:path>
                      </a:pathLst>
                    </a:custGeom>
                    <a:blipFill rotWithShape="0">
                      <a:blip r:embed="rId11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Freeform 116"/>
                    <p:cNvSpPr/>
                    <p:nvPr/>
                  </p:nvSpPr>
                  <p:spPr>
                    <a:xfrm>
                      <a:off x="1457280" y="5546160"/>
                      <a:ext cx="962280" cy="1186560"/>
                    </a:xfrm>
                    <a:custGeom>
                      <a:avLst/>
                      <a:gdLst>
                        <a:gd name="textAreaLeft" fmla="*/ 0 w 962280"/>
                        <a:gd name="textAreaRight" fmla="*/ 962640 w 962280"/>
                        <a:gd name="textAreaTop" fmla="*/ 0 h 1186560"/>
                        <a:gd name="textAreaBottom" fmla="*/ 1186920 h 1186560"/>
                      </a:gdLst>
                      <a:ahLst/>
                      <a:rect l="textAreaLeft" t="textAreaTop" r="textAreaRight" b="textAreaBottom"/>
                      <a:pathLst>
                        <a:path w="1104" h="864">
                          <a:moveTo>
                            <a:pt x="336" y="672"/>
                          </a:moveTo>
                          <a:lnTo>
                            <a:pt x="288" y="720"/>
                          </a:lnTo>
                          <a:lnTo>
                            <a:pt x="240" y="768"/>
                          </a:lnTo>
                          <a:lnTo>
                            <a:pt x="144" y="768"/>
                          </a:lnTo>
                          <a:lnTo>
                            <a:pt x="96" y="720"/>
                          </a:lnTo>
                          <a:lnTo>
                            <a:pt x="0" y="624"/>
                          </a:lnTo>
                          <a:lnTo>
                            <a:pt x="0" y="528"/>
                          </a:lnTo>
                          <a:lnTo>
                            <a:pt x="48" y="432"/>
                          </a:lnTo>
                          <a:lnTo>
                            <a:pt x="96" y="336"/>
                          </a:lnTo>
                          <a:lnTo>
                            <a:pt x="192" y="384"/>
                          </a:lnTo>
                          <a:lnTo>
                            <a:pt x="240" y="336"/>
                          </a:lnTo>
                          <a:lnTo>
                            <a:pt x="240" y="240"/>
                          </a:lnTo>
                          <a:lnTo>
                            <a:pt x="336" y="192"/>
                          </a:lnTo>
                          <a:lnTo>
                            <a:pt x="384" y="96"/>
                          </a:lnTo>
                          <a:lnTo>
                            <a:pt x="432" y="48"/>
                          </a:lnTo>
                          <a:lnTo>
                            <a:pt x="576" y="0"/>
                          </a:lnTo>
                          <a:lnTo>
                            <a:pt x="768" y="48"/>
                          </a:lnTo>
                          <a:lnTo>
                            <a:pt x="912" y="0"/>
                          </a:lnTo>
                          <a:lnTo>
                            <a:pt x="1008" y="96"/>
                          </a:lnTo>
                          <a:lnTo>
                            <a:pt x="1008" y="288"/>
                          </a:lnTo>
                          <a:lnTo>
                            <a:pt x="864" y="336"/>
                          </a:lnTo>
                          <a:lnTo>
                            <a:pt x="960" y="384"/>
                          </a:lnTo>
                          <a:lnTo>
                            <a:pt x="1104" y="528"/>
                          </a:lnTo>
                          <a:lnTo>
                            <a:pt x="1104" y="672"/>
                          </a:lnTo>
                          <a:lnTo>
                            <a:pt x="1008" y="768"/>
                          </a:lnTo>
                          <a:lnTo>
                            <a:pt x="864" y="864"/>
                          </a:lnTo>
                          <a:lnTo>
                            <a:pt x="768" y="816"/>
                          </a:lnTo>
                          <a:lnTo>
                            <a:pt x="720" y="720"/>
                          </a:lnTo>
                          <a:lnTo>
                            <a:pt x="672" y="720"/>
                          </a:lnTo>
                          <a:lnTo>
                            <a:pt x="672" y="624"/>
                          </a:lnTo>
                          <a:lnTo>
                            <a:pt x="576" y="624"/>
                          </a:lnTo>
                          <a:lnTo>
                            <a:pt x="480" y="576"/>
                          </a:lnTo>
                          <a:lnTo>
                            <a:pt x="432" y="576"/>
                          </a:lnTo>
                          <a:lnTo>
                            <a:pt x="384" y="672"/>
                          </a:lnTo>
                          <a:lnTo>
                            <a:pt x="336" y="672"/>
                          </a:lnTo>
                          <a:close/>
                        </a:path>
                      </a:pathLst>
                    </a:custGeom>
                    <a:blipFill rotWithShape="0">
                      <a:blip r:embed="rId113">
                        <a:alphaModFix amt="45000"/>
                      </a:blip>
                      <a:srcRect/>
                      <a:tile tx="0" ty="0" sx="100000" sy="100000" algn="ctr"/>
                    </a:blipFill>
                    <a:ln w="22320">
                      <a:solidFill>
                        <a:srgbClr val="99cc00"/>
                      </a:solidFill>
                      <a:prstDash val="lgDashDot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Oval 117"/>
                    <p:cNvSpPr/>
                    <p:nvPr/>
                  </p:nvSpPr>
                  <p:spPr>
                    <a:xfrm>
                      <a:off x="1581840" y="6193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Oval 118"/>
                    <p:cNvSpPr/>
                    <p:nvPr/>
                  </p:nvSpPr>
                  <p:spPr>
                    <a:xfrm>
                      <a:off x="2041920" y="6139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Oval 119"/>
                    <p:cNvSpPr/>
                    <p:nvPr/>
                  </p:nvSpPr>
                  <p:spPr>
                    <a:xfrm>
                      <a:off x="1749240" y="6085440"/>
                      <a:ext cx="41400" cy="5364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Oval 120"/>
                    <p:cNvSpPr/>
                    <p:nvPr/>
                  </p:nvSpPr>
                  <p:spPr>
                    <a:xfrm>
                      <a:off x="1623600" y="6301080"/>
                      <a:ext cx="4140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Oval 121"/>
                    <p:cNvSpPr/>
                    <p:nvPr/>
                  </p:nvSpPr>
                  <p:spPr>
                    <a:xfrm>
                      <a:off x="2209320" y="6355080"/>
                      <a:ext cx="41760" cy="54000"/>
                    </a:xfrm>
                    <a:prstGeom prst="ellipse">
                      <a:avLst/>
                    </a:prstGeom>
                    <a:solidFill>
                      <a:srgbClr val="ffff00">
                        <a:alpha val="95000"/>
                      </a:srgbClr>
                    </a:solidFill>
                    <a:ln cap="rnd" w="1908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6" name="Freeform 122"/>
                  <p:cNvSpPr/>
                  <p:nvPr/>
                </p:nvSpPr>
                <p:spPr>
                  <a:xfrm flipH="1">
                    <a:off x="1884240" y="6495840"/>
                    <a:ext cx="320760" cy="360360"/>
                  </a:xfrm>
                  <a:custGeom>
                    <a:avLst/>
                    <a:gdLst>
                      <a:gd name="textAreaLeft" fmla="*/ -360 w 320760"/>
                      <a:gd name="textAreaRight" fmla="*/ 320760 w 320760"/>
                      <a:gd name="textAreaTop" fmla="*/ 0 h 360360"/>
                      <a:gd name="textAreaBottom" fmla="*/ 360720 h 3603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Freeform 123"/>
                  <p:cNvSpPr/>
                  <p:nvPr/>
                </p:nvSpPr>
                <p:spPr>
                  <a:xfrm flipH="1">
                    <a:off x="3061080" y="6377040"/>
                    <a:ext cx="641520" cy="474480"/>
                  </a:xfrm>
                  <a:custGeom>
                    <a:avLst/>
                    <a:gdLst>
                      <a:gd name="textAreaLeft" fmla="*/ 360 w 641520"/>
                      <a:gd name="textAreaRight" fmla="*/ 642240 w 641520"/>
                      <a:gd name="textAreaTop" fmla="*/ 0 h 474480"/>
                      <a:gd name="textAreaBottom" fmla="*/ 474840 h 474480"/>
                    </a:gdLst>
                    <a:ahLst/>
                    <a:rect l="textAreaLeft" t="textAreaTop" r="textAreaRight" b="textAreaBottom"/>
                    <a:pathLst>
                      <a:path w="480" h="288">
                        <a:moveTo>
                          <a:pt x="0" y="288"/>
                        </a:moveTo>
                        <a:lnTo>
                          <a:pt x="48" y="192"/>
                        </a:lnTo>
                        <a:lnTo>
                          <a:pt x="144" y="144"/>
                        </a:lnTo>
                        <a:lnTo>
                          <a:pt x="192" y="48"/>
                        </a:lnTo>
                        <a:lnTo>
                          <a:pt x="288" y="0"/>
                        </a:lnTo>
                        <a:lnTo>
                          <a:pt x="336" y="48"/>
                        </a:lnTo>
                        <a:lnTo>
                          <a:pt x="432" y="48"/>
                        </a:lnTo>
                        <a:lnTo>
                          <a:pt x="480" y="144"/>
                        </a:lnTo>
                        <a:lnTo>
                          <a:pt x="288" y="192"/>
                        </a:lnTo>
                        <a:lnTo>
                          <a:pt x="336" y="240"/>
                        </a:lnTo>
                        <a:lnTo>
                          <a:pt x="240" y="240"/>
                        </a:lnTo>
                        <a:lnTo>
                          <a:pt x="144" y="288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blipFill rotWithShape="0">
                    <a:blip r:embed="rId114">
                      <a:alphaModFix amt="62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Freeform 124"/>
                  <p:cNvSpPr/>
                  <p:nvPr/>
                </p:nvSpPr>
                <p:spPr>
                  <a:xfrm flipH="1">
                    <a:off x="2740320" y="6377040"/>
                    <a:ext cx="427680" cy="479160"/>
                  </a:xfrm>
                  <a:custGeom>
                    <a:avLst/>
                    <a:gdLst>
                      <a:gd name="textAreaLeft" fmla="*/ 360 w 427680"/>
                      <a:gd name="textAreaRight" fmla="*/ 428400 w 427680"/>
                      <a:gd name="textAreaTop" fmla="*/ 0 h 479160"/>
                      <a:gd name="textAreaBottom" fmla="*/ 479520 h 4791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Freeform 125"/>
                  <p:cNvSpPr/>
                  <p:nvPr/>
                </p:nvSpPr>
                <p:spPr>
                  <a:xfrm>
                    <a:off x="2633400" y="5902200"/>
                    <a:ext cx="320760" cy="71676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716760"/>
                      <a:gd name="textAreaBottom" fmla="*/ 717120 h 716760"/>
                    </a:gdLst>
                    <a:ahLst/>
                    <a:rect l="textAreaLeft" t="textAreaTop" r="textAreaRight" b="textAreaBottom"/>
                    <a:pathLst>
                      <a:path w="242" h="242">
                        <a:moveTo>
                          <a:pt x="19" y="93"/>
                        </a:moveTo>
                        <a:cubicBezTo>
                          <a:pt x="37" y="98"/>
                          <a:pt x="41" y="107"/>
                          <a:pt x="55" y="117"/>
                        </a:cubicBezTo>
                        <a:cubicBezTo>
                          <a:pt x="63" y="129"/>
                          <a:pt x="76" y="139"/>
                          <a:pt x="88" y="147"/>
                        </a:cubicBezTo>
                        <a:cubicBezTo>
                          <a:pt x="94" y="156"/>
                          <a:pt x="97" y="165"/>
                          <a:pt x="103" y="174"/>
                        </a:cubicBezTo>
                        <a:cubicBezTo>
                          <a:pt x="109" y="196"/>
                          <a:pt x="114" y="218"/>
                          <a:pt x="118" y="240"/>
                        </a:cubicBezTo>
                        <a:cubicBezTo>
                          <a:pt x="132" y="235"/>
                          <a:pt x="133" y="230"/>
                          <a:pt x="148" y="234"/>
                        </a:cubicBezTo>
                        <a:cubicBezTo>
                          <a:pt x="151" y="236"/>
                          <a:pt x="154" y="242"/>
                          <a:pt x="157" y="240"/>
                        </a:cubicBezTo>
                        <a:cubicBezTo>
                          <a:pt x="164" y="235"/>
                          <a:pt x="161" y="224"/>
                          <a:pt x="163" y="216"/>
                        </a:cubicBezTo>
                        <a:cubicBezTo>
                          <a:pt x="168" y="199"/>
                          <a:pt x="173" y="183"/>
                          <a:pt x="181" y="168"/>
                        </a:cubicBezTo>
                        <a:cubicBezTo>
                          <a:pt x="198" y="138"/>
                          <a:pt x="185" y="157"/>
                          <a:pt x="202" y="147"/>
                        </a:cubicBezTo>
                        <a:cubicBezTo>
                          <a:pt x="208" y="143"/>
                          <a:pt x="220" y="135"/>
                          <a:pt x="220" y="135"/>
                        </a:cubicBezTo>
                        <a:cubicBezTo>
                          <a:pt x="224" y="136"/>
                          <a:pt x="228" y="136"/>
                          <a:pt x="232" y="138"/>
                        </a:cubicBezTo>
                        <a:cubicBezTo>
                          <a:pt x="235" y="139"/>
                          <a:pt x="242" y="147"/>
                          <a:pt x="241" y="144"/>
                        </a:cubicBezTo>
                        <a:cubicBezTo>
                          <a:pt x="236" y="129"/>
                          <a:pt x="234" y="120"/>
                          <a:pt x="220" y="111"/>
                        </a:cubicBezTo>
                        <a:cubicBezTo>
                          <a:pt x="212" y="112"/>
                          <a:pt x="204" y="112"/>
                          <a:pt x="196" y="114"/>
                        </a:cubicBezTo>
                        <a:cubicBezTo>
                          <a:pt x="190" y="115"/>
                          <a:pt x="178" y="120"/>
                          <a:pt x="178" y="120"/>
                        </a:cubicBezTo>
                        <a:cubicBezTo>
                          <a:pt x="176" y="123"/>
                          <a:pt x="175" y="127"/>
                          <a:pt x="172" y="129"/>
                        </a:cubicBezTo>
                        <a:cubicBezTo>
                          <a:pt x="170" y="131"/>
                          <a:pt x="165" y="130"/>
                          <a:pt x="163" y="132"/>
                        </a:cubicBezTo>
                        <a:cubicBezTo>
                          <a:pt x="161" y="134"/>
                          <a:pt x="150" y="166"/>
                          <a:pt x="148" y="171"/>
                        </a:cubicBezTo>
                        <a:cubicBezTo>
                          <a:pt x="145" y="132"/>
                          <a:pt x="140" y="72"/>
                          <a:pt x="103" y="48"/>
                        </a:cubicBezTo>
                        <a:cubicBezTo>
                          <a:pt x="96" y="26"/>
                          <a:pt x="62" y="7"/>
                          <a:pt x="40" y="0"/>
                        </a:cubicBezTo>
                        <a:cubicBezTo>
                          <a:pt x="49" y="14"/>
                          <a:pt x="60" y="34"/>
                          <a:pt x="76" y="39"/>
                        </a:cubicBezTo>
                        <a:cubicBezTo>
                          <a:pt x="86" y="54"/>
                          <a:pt x="96" y="68"/>
                          <a:pt x="103" y="84"/>
                        </a:cubicBezTo>
                        <a:cubicBezTo>
                          <a:pt x="107" y="93"/>
                          <a:pt x="112" y="111"/>
                          <a:pt x="112" y="111"/>
                        </a:cubicBezTo>
                        <a:cubicBezTo>
                          <a:pt x="114" y="125"/>
                          <a:pt x="119" y="140"/>
                          <a:pt x="115" y="153"/>
                        </a:cubicBezTo>
                        <a:cubicBezTo>
                          <a:pt x="101" y="132"/>
                          <a:pt x="109" y="139"/>
                          <a:pt x="94" y="129"/>
                        </a:cubicBezTo>
                        <a:cubicBezTo>
                          <a:pt x="90" y="117"/>
                          <a:pt x="80" y="108"/>
                          <a:pt x="70" y="102"/>
                        </a:cubicBezTo>
                        <a:cubicBezTo>
                          <a:pt x="64" y="98"/>
                          <a:pt x="58" y="94"/>
                          <a:pt x="52" y="90"/>
                        </a:cubicBezTo>
                        <a:cubicBezTo>
                          <a:pt x="49" y="88"/>
                          <a:pt x="43" y="84"/>
                          <a:pt x="43" y="84"/>
                        </a:cubicBezTo>
                        <a:cubicBezTo>
                          <a:pt x="34" y="85"/>
                          <a:pt x="25" y="86"/>
                          <a:pt x="16" y="87"/>
                        </a:cubicBezTo>
                        <a:cubicBezTo>
                          <a:pt x="10" y="88"/>
                          <a:pt x="0" y="95"/>
                          <a:pt x="4" y="99"/>
                        </a:cubicBezTo>
                        <a:cubicBezTo>
                          <a:pt x="7" y="102"/>
                          <a:pt x="29" y="83"/>
                          <a:pt x="19" y="9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ae471"/>
                      </a:gs>
                      <a:gs pos="50000">
                        <a:srgbClr val="008000"/>
                      </a:gs>
                      <a:gs pos="100000">
                        <a:srgbClr val="5ae471"/>
                      </a:gs>
                    </a:gsLst>
                    <a:lin ang="0"/>
                  </a:gradFill>
                  <a:ln w="9360">
                    <a:solidFill>
                      <a:srgbClr val="00ff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0" name="Freeform 126"/>
                <p:cNvSpPr/>
                <p:nvPr/>
              </p:nvSpPr>
              <p:spPr>
                <a:xfrm flipH="1">
                  <a:off x="1095120" y="6666120"/>
                  <a:ext cx="3538800" cy="435600"/>
                </a:xfrm>
                <a:custGeom>
                  <a:avLst/>
                  <a:gdLst>
                    <a:gd name="textAreaLeft" fmla="*/ 360 w 3538800"/>
                    <a:gd name="textAreaRight" fmla="*/ 3539520 w 353880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152" h="192">
                      <a:moveTo>
                        <a:pt x="192" y="48"/>
                      </a:moveTo>
                      <a:lnTo>
                        <a:pt x="0" y="144"/>
                      </a:lnTo>
                      <a:lnTo>
                        <a:pt x="240" y="192"/>
                      </a:lnTo>
                      <a:lnTo>
                        <a:pt x="480" y="144"/>
                      </a:lnTo>
                      <a:lnTo>
                        <a:pt x="768" y="192"/>
                      </a:lnTo>
                      <a:lnTo>
                        <a:pt x="1152" y="192"/>
                      </a:lnTo>
                      <a:lnTo>
                        <a:pt x="1104" y="96"/>
                      </a:lnTo>
                      <a:lnTo>
                        <a:pt x="1056" y="48"/>
                      </a:lnTo>
                      <a:lnTo>
                        <a:pt x="816" y="48"/>
                      </a:lnTo>
                      <a:lnTo>
                        <a:pt x="528" y="96"/>
                      </a:lnTo>
                      <a:lnTo>
                        <a:pt x="480" y="48"/>
                      </a:lnTo>
                      <a:lnTo>
                        <a:pt x="384" y="0"/>
                      </a:lnTo>
                      <a:lnTo>
                        <a:pt x="288" y="48"/>
                      </a:lnTo>
                      <a:lnTo>
                        <a:pt x="192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3e844">
                        <a:alpha val="15294"/>
                      </a:srgbClr>
                    </a:gs>
                    <a:gs pos="100000">
                      <a:srgbClr val="cccc00">
                        <a:alpha val="9215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1" name="Group 137"/>
            <p:cNvGrpSpPr/>
            <p:nvPr/>
          </p:nvGrpSpPr>
          <p:grpSpPr>
            <a:xfrm>
              <a:off x="1160280" y="5189400"/>
              <a:ext cx="401760" cy="677880"/>
              <a:chOff x="1160280" y="5189400"/>
              <a:chExt cx="401760" cy="677880"/>
            </a:xfrm>
          </p:grpSpPr>
          <p:sp>
            <p:nvSpPr>
              <p:cNvPr id="772" name="Freeform 133"/>
              <p:cNvSpPr/>
              <p:nvPr/>
            </p:nvSpPr>
            <p:spPr>
              <a:xfrm>
                <a:off x="1160280" y="5358960"/>
                <a:ext cx="401760" cy="5083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375" h="294">
                    <a:moveTo>
                      <a:pt x="136" y="88"/>
                    </a:moveTo>
                    <a:lnTo>
                      <a:pt x="94" y="179"/>
                    </a:lnTo>
                    <a:lnTo>
                      <a:pt x="0" y="291"/>
                    </a:lnTo>
                    <a:lnTo>
                      <a:pt x="87" y="288"/>
                    </a:lnTo>
                    <a:lnTo>
                      <a:pt x="141" y="267"/>
                    </a:lnTo>
                    <a:lnTo>
                      <a:pt x="183" y="258"/>
                    </a:lnTo>
                    <a:lnTo>
                      <a:pt x="228" y="270"/>
                    </a:lnTo>
                    <a:lnTo>
                      <a:pt x="309" y="294"/>
                    </a:lnTo>
                    <a:lnTo>
                      <a:pt x="375" y="294"/>
                    </a:lnTo>
                    <a:lnTo>
                      <a:pt x="278" y="176"/>
                    </a:lnTo>
                    <a:lnTo>
                      <a:pt x="238" y="88"/>
                    </a:lnTo>
                    <a:lnTo>
                      <a:pt x="198" y="0"/>
                    </a:lnTo>
                    <a:lnTo>
                      <a:pt x="176" y="3"/>
                    </a:lnTo>
                    <a:lnTo>
                      <a:pt x="136" y="88"/>
                    </a:lnTo>
                    <a:close/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134"/>
              <p:cNvSpPr/>
              <p:nvPr/>
            </p:nvSpPr>
            <p:spPr>
              <a:xfrm>
                <a:off x="1198800" y="5270040"/>
                <a:ext cx="300960" cy="40356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135"/>
              <p:cNvSpPr/>
              <p:nvPr/>
            </p:nvSpPr>
            <p:spPr>
              <a:xfrm>
                <a:off x="1241640" y="5189400"/>
                <a:ext cx="216000" cy="25848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165" y="96"/>
                    </a:moveTo>
                    <a:lnTo>
                      <a:pt x="114" y="195"/>
                    </a:lnTo>
                    <a:lnTo>
                      <a:pt x="0" y="288"/>
                    </a:lnTo>
                    <a:lnTo>
                      <a:pt x="144" y="240"/>
                    </a:lnTo>
                    <a:lnTo>
                      <a:pt x="192" y="288"/>
                    </a:lnTo>
                    <a:lnTo>
                      <a:pt x="240" y="288"/>
                    </a:lnTo>
                    <a:lnTo>
                      <a:pt x="288" y="240"/>
                    </a:lnTo>
                    <a:lnTo>
                      <a:pt x="378" y="276"/>
                    </a:lnTo>
                    <a:lnTo>
                      <a:pt x="432" y="288"/>
                    </a:lnTo>
                    <a:lnTo>
                      <a:pt x="336" y="192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213" y="3"/>
                    </a:lnTo>
                    <a:lnTo>
                      <a:pt x="165" y="96"/>
                    </a:lnTo>
                    <a:close/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5" name="AutoShape 14"/>
          <p:cNvSpPr/>
          <p:nvPr/>
        </p:nvSpPr>
        <p:spPr>
          <a:xfrm flipH="1">
            <a:off x="7214400" y="550080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28"/>
          <p:cNvSpPr/>
          <p:nvPr/>
        </p:nvSpPr>
        <p:spPr>
          <a:xfrm>
            <a:off x="7215120" y="4643280"/>
            <a:ext cx="287280" cy="1295640"/>
          </a:xfrm>
          <a:prstGeom prst="upArrow">
            <a:avLst>
              <a:gd name="adj1" fmla="val 50000"/>
              <a:gd name="adj2" fmla="val 11275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6"/>
          <p:cNvSpPr/>
          <p:nvPr/>
        </p:nvSpPr>
        <p:spPr>
          <a:xfrm>
            <a:off x="7643880" y="54291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15"/>
          <p:cNvSpPr/>
          <p:nvPr/>
        </p:nvSpPr>
        <p:spPr>
          <a:xfrm>
            <a:off x="7572240" y="542916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7"/>
          <p:cNvSpPr/>
          <p:nvPr/>
        </p:nvSpPr>
        <p:spPr>
          <a:xfrm>
            <a:off x="1000080" y="3500280"/>
            <a:ext cx="287280" cy="432000"/>
          </a:xfrm>
          <a:prstGeom prst="downArrow">
            <a:avLst>
              <a:gd name="adj1" fmla="val 50000"/>
              <a:gd name="adj2" fmla="val 3759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27"/>
          <p:cNvSpPr/>
          <p:nvPr/>
        </p:nvSpPr>
        <p:spPr>
          <a:xfrm>
            <a:off x="1000080" y="3500280"/>
            <a:ext cx="358920" cy="1440000"/>
          </a:xfrm>
          <a:prstGeom prst="downArrow">
            <a:avLst>
              <a:gd name="adj1" fmla="val 50000"/>
              <a:gd name="adj2" fmla="val 10030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15"/>
          <p:cNvSpPr/>
          <p:nvPr/>
        </p:nvSpPr>
        <p:spPr>
          <a:xfrm>
            <a:off x="1428840" y="3643200"/>
            <a:ext cx="685800" cy="609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1500120" y="36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Прямоугольник 355"/>
          <p:cNvSpPr/>
          <p:nvPr/>
        </p:nvSpPr>
        <p:spPr>
          <a:xfrm>
            <a:off x="3943080" y="607212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ЧНОЙ БР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Рисунок 321" descr="9[1].gif"/>
          <p:cNvPicPr/>
          <p:nvPr/>
        </p:nvPicPr>
        <p:blipFill>
          <a:blip r:embed="rId118"/>
          <a:stretch/>
        </p:blipFill>
        <p:spPr>
          <a:xfrm>
            <a:off x="-1558800" y="2286000"/>
            <a:ext cx="1558800" cy="1633680"/>
          </a:xfrm>
          <a:prstGeom prst="rect">
            <a:avLst/>
          </a:prstGeom>
          <a:ln w="0">
            <a:noFill/>
          </a:ln>
        </p:spPr>
      </p:pic>
      <p:sp>
        <p:nvSpPr>
          <p:cNvPr id="785" name="Стрелка вправо 322"/>
          <p:cNvSpPr/>
          <p:nvPr/>
        </p:nvSpPr>
        <p:spPr>
          <a:xfrm flipV="1">
            <a:off x="3000240" y="5500080"/>
            <a:ext cx="428760" cy="214200"/>
          </a:xfrm>
          <a:prstGeom prst="rightArrow">
            <a:avLst>
              <a:gd name="adj1" fmla="val 50000"/>
              <a:gd name="adj2" fmla="val 42508"/>
            </a:avLst>
          </a:prstGeom>
          <a:solidFill>
            <a:srgbClr val="ffffff"/>
          </a:solidFill>
          <a:ln w="101520">
            <a:solidFill>
              <a:srgbClr val="0d0d0d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1.48148E-006 C -0.00521 -0.04861 -0.01233 -0.09676 0.03368 -0.13588 C 0.07934 -0.175 0.19514 -0.21458 0.27812 -0.23518 C 0.36076 -0.25509 0.48784 -0.25417 0.5309 -0.25741 E">
                                      <p:cBhvr>
                                        <p:cTn id="198" dur="20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11111E-006 L 0.00417 0.19445 E">
                                      <p:cBhvr>
                                        <p:cTn id="200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916 0.01667 L -0.02916 0.17222 E">
                                      <p:cBhvr>
                                        <p:cTn id="202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0 L -0.00416 0.18889 E">
                                      <p:cBhvr>
                                        <p:cTn id="204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17 0.00185 0.00278 0.12208 0 0.12208 C -0.00278 0.12208 -0.01806 0.02775 -0.01667 0 C -0.01528 -0.02774 0.00972 -0.06289 0.00833 -0.04439 C 0.00694 -0.02589 -0.025 0.10359 -0.025 0.11098 C -0.025 0.11838 -0.00417 -0.00185 0 0 Z">
                                      <p:cBhvr>
                                        <p:cTn id="20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17 0.00185 0.00278 0.12208 0 0.12208 C -0.00278 0.12208 -0.01806 0.02775 -0.01667 0 C -0.01528 -0.02774 0.00972 -0.06289 0.00833 -0.04439 C 0.00694 -0.02589 -0.025 0.10359 -0.025 0.11098 C -0.025 0.11838 -0.00417 -0.00185 0 0 Z">
                                      <p:cBhvr>
                                        <p:cTn id="208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16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26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6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.00486 0.2206 E">
                                      <p:cBhvr>
                                        <p:cTn id="258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.00486 0.23102 E">
                                      <p:cBhvr>
                                        <p:cTn id="261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8148E-006 L -0.00313 0.23009 E">
                                      <p:cBhvr>
                                        <p:cTn id="264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C 0.02396 0.00347 0.04914 0.00764 0.07361 0.01782 C 0.09792 0.02801 0.12101 0.04884 0.14584 0.06134 C 0.17049 0.07384 0.17587 0.08241 0.22361 0.09236 C 0.27136 0.10231 0.39341 0.11504 0.43247 0.12037 C 0.4724 0.12616 0.46563 0.12454 0.45903 0.12315 E">
                                      <p:cBhvr>
                                        <p:cTn id="287" dur="2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7" name="Text Box 16"/>
          <p:cNvSpPr/>
          <p:nvPr/>
        </p:nvSpPr>
        <p:spPr>
          <a:xfrm>
            <a:off x="708120" y="1052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Флюгер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прибор для определения направления и скорости вет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5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2640240" cy="397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0" name="Прямоугольник 1"/>
          <p:cNvSpPr/>
          <p:nvPr/>
        </p:nvSpPr>
        <p:spPr>
          <a:xfrm>
            <a:off x="468360" y="2349360"/>
            <a:ext cx="66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уроке мне понравило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этом уроке я узнал(а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ым трудным для меня был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Прямоугольник 2" descr=""/>
          <p:cNvPicPr/>
          <p:nvPr/>
        </p:nvPicPr>
        <p:blipFill>
          <a:blip r:embed="rId2"/>
          <a:stretch/>
        </p:blipFill>
        <p:spPr>
          <a:xfrm>
            <a:off x="2120760" y="573120"/>
            <a:ext cx="4256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0" descr="ramki18"/>
          <p:cNvPicPr/>
          <p:nvPr/>
        </p:nvPicPr>
        <p:blipFill>
          <a:blip r:embed="rId1"/>
          <a:stretch/>
        </p:blipFill>
        <p:spPr>
          <a:xfrm>
            <a:off x="22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3" name="Прямоугольник 5" descr=""/>
          <p:cNvPicPr/>
          <p:nvPr/>
        </p:nvPicPr>
        <p:blipFill>
          <a:blip r:embed="rId2"/>
          <a:stretch/>
        </p:blipFill>
        <p:spPr>
          <a:xfrm>
            <a:off x="231840" y="811080"/>
            <a:ext cx="6845400" cy="164628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"/>
          <p:cNvSpPr/>
          <p:nvPr/>
        </p:nvSpPr>
        <p:spPr>
          <a:xfrm>
            <a:off x="534960" y="24598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497880" y="3290400"/>
            <a:ext cx="69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ть творческое задание по ряд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ряд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тер - друг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ряд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тер - враг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30" descr="ramki1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7" name="Прямоугольник 5" descr=""/>
          <p:cNvPicPr/>
          <p:nvPr/>
        </p:nvPicPr>
        <p:blipFill>
          <a:blip r:embed="rId2"/>
          <a:stretch/>
        </p:blipFill>
        <p:spPr>
          <a:xfrm>
            <a:off x="171360" y="378000"/>
            <a:ext cx="8728200" cy="77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294920"/>
            <a:ext cx="7772400" cy="480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" descr=""/>
          <p:cNvPicPr/>
          <p:nvPr/>
        </p:nvPicPr>
        <p:blipFill>
          <a:blip r:embed="rId3"/>
          <a:stretch/>
        </p:blipFill>
        <p:spPr>
          <a:xfrm>
            <a:off x="3529080" y="682560"/>
            <a:ext cx="55116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474840" y="882720"/>
            <a:ext cx="32004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umbrela35.gif"/>
          <p:cNvPicPr/>
          <p:nvPr/>
        </p:nvPicPr>
        <p:blipFill>
          <a:blip r:embed="rId2"/>
          <a:stretch/>
        </p:blipFill>
        <p:spPr>
          <a:xfrm>
            <a:off x="468360" y="907920"/>
            <a:ext cx="2701800" cy="9795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blizzard4.gif"/>
          <p:cNvPicPr/>
          <p:nvPr/>
        </p:nvPicPr>
        <p:blipFill>
          <a:blip r:embed="rId3"/>
          <a:stretch/>
        </p:blipFill>
        <p:spPr>
          <a:xfrm>
            <a:off x="1042920" y="5084640"/>
            <a:ext cx="1906560" cy="87804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6" descr=""/>
          <p:cNvPicPr/>
          <p:nvPr/>
        </p:nvPicPr>
        <p:blipFill>
          <a:blip r:embed="rId4"/>
          <a:stretch/>
        </p:blipFill>
        <p:spPr>
          <a:xfrm>
            <a:off x="3097080" y="3243240"/>
            <a:ext cx="3090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59495_or"/>
          <p:cNvPicPr/>
          <p:nvPr/>
        </p:nvPicPr>
        <p:blipFill>
          <a:blip r:embed="rId5"/>
          <a:stretch/>
        </p:blipFill>
        <p:spPr>
          <a:xfrm>
            <a:off x="5810400" y="3284640"/>
            <a:ext cx="33336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210"/>
          <p:cNvPicPr/>
          <p:nvPr/>
        </p:nvPicPr>
        <p:blipFill>
          <a:blip r:embed="rId2"/>
          <a:stretch/>
        </p:blipFill>
        <p:spPr>
          <a:xfrm flipH="1">
            <a:off x="611280" y="2924280"/>
            <a:ext cx="2643120" cy="3197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6" name="Picture 4" descr="W:\korovkina\media_materials\j0254500.gif"/>
          <p:cNvPicPr/>
          <p:nvPr/>
        </p:nvPicPr>
        <p:blipFill>
          <a:blip r:embed="rId3"/>
          <a:stretch/>
        </p:blipFill>
        <p:spPr>
          <a:xfrm>
            <a:off x="3279600" y="1920960"/>
            <a:ext cx="1640160" cy="16398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8" descr=""/>
          <p:cNvPicPr/>
          <p:nvPr/>
        </p:nvPicPr>
        <p:blipFill>
          <a:blip r:embed="rId4"/>
          <a:stretch/>
        </p:blipFill>
        <p:spPr>
          <a:xfrm>
            <a:off x="396720" y="523800"/>
            <a:ext cx="6480360" cy="145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dg54.mycdn.me/getImage?photoId=475797473865&amp;photoType=0"/>
          <p:cNvPicPr/>
          <p:nvPr/>
        </p:nvPicPr>
        <p:blipFill>
          <a:blip r:embed="rId5"/>
          <a:stretch/>
        </p:blipFill>
        <p:spPr>
          <a:xfrm>
            <a:off x="5003640" y="1628640"/>
            <a:ext cx="3810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umbrela35.gif"/>
          <p:cNvPicPr/>
          <p:nvPr/>
        </p:nvPicPr>
        <p:blipFill>
          <a:blip r:embed="rId2"/>
          <a:stretch/>
        </p:blipFill>
        <p:spPr>
          <a:xfrm>
            <a:off x="468360" y="907920"/>
            <a:ext cx="2701800" cy="979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8" descr="blizzard4.gif"/>
          <p:cNvPicPr/>
          <p:nvPr/>
        </p:nvPicPr>
        <p:blipFill>
          <a:blip r:embed="rId3"/>
          <a:stretch/>
        </p:blipFill>
        <p:spPr>
          <a:xfrm>
            <a:off x="1042920" y="5084640"/>
            <a:ext cx="1906560" cy="87804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1" descr=""/>
          <p:cNvPicPr/>
          <p:nvPr/>
        </p:nvPicPr>
        <p:blipFill>
          <a:blip r:embed="rId4"/>
          <a:stretch/>
        </p:blipFill>
        <p:spPr>
          <a:xfrm>
            <a:off x="133200" y="1925640"/>
            <a:ext cx="9107640" cy="17193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6" descr=""/>
          <p:cNvPicPr/>
          <p:nvPr/>
        </p:nvPicPr>
        <p:blipFill>
          <a:blip r:embed="rId5"/>
          <a:stretch/>
        </p:blipFill>
        <p:spPr>
          <a:xfrm>
            <a:off x="3097080" y="3243240"/>
            <a:ext cx="3090960" cy="120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59495_or"/>
          <p:cNvPicPr/>
          <p:nvPr/>
        </p:nvPicPr>
        <p:blipFill>
          <a:blip r:embed="rId6"/>
          <a:stretch/>
        </p:blipFill>
        <p:spPr>
          <a:xfrm>
            <a:off x="5810400" y="3284640"/>
            <a:ext cx="33336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52720" y="530028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ванджелист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ричел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барометр"/>
          <p:cNvPicPr/>
          <p:nvPr/>
        </p:nvPicPr>
        <p:blipFill>
          <a:blip r:embed="rId2"/>
          <a:stretch/>
        </p:blipFill>
        <p:spPr>
          <a:xfrm>
            <a:off x="4511520" y="1785960"/>
            <a:ext cx="3894120" cy="4535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4660200" y="580536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рометр - анеро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1"/>
          <p:cNvSpPr/>
          <p:nvPr/>
        </p:nvSpPr>
        <p:spPr>
          <a:xfrm>
            <a:off x="3966840" y="476280"/>
            <a:ext cx="4812120" cy="1373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тмосферное давл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э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, с которой воздух дав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земную поверх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07"/>
          <p:cNvPicPr/>
          <p:nvPr/>
        </p:nvPicPr>
        <p:blipFill>
          <a:blip r:embed="rId3"/>
          <a:stretch/>
        </p:blipFill>
        <p:spPr>
          <a:xfrm>
            <a:off x="468360" y="549360"/>
            <a:ext cx="29336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210"/>
          <p:cNvPicPr/>
          <p:nvPr/>
        </p:nvPicPr>
        <p:blipFill>
          <a:blip r:embed="rId2"/>
          <a:stretch/>
        </p:blipFill>
        <p:spPr>
          <a:xfrm flipH="1">
            <a:off x="611280" y="2924280"/>
            <a:ext cx="2643120" cy="3197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3" name="Picture 4" descr="W:\korovkina\media_materials\j0254500.gif"/>
          <p:cNvPicPr/>
          <p:nvPr/>
        </p:nvPicPr>
        <p:blipFill>
          <a:blip r:embed="rId3"/>
          <a:stretch/>
        </p:blipFill>
        <p:spPr>
          <a:xfrm>
            <a:off x="7169040" y="480960"/>
            <a:ext cx="1578240" cy="15796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8" descr=""/>
          <p:cNvPicPr/>
          <p:nvPr/>
        </p:nvPicPr>
        <p:blipFill>
          <a:blip r:embed="rId4"/>
          <a:stretch/>
        </p:blipFill>
        <p:spPr>
          <a:xfrm>
            <a:off x="249120" y="512640"/>
            <a:ext cx="6480360" cy="1071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www.grand-podarki.ru/_sh/9/924.jpg"/>
          <p:cNvPicPr/>
          <p:nvPr/>
        </p:nvPicPr>
        <p:blipFill>
          <a:blip r:embed="rId5"/>
          <a:stretch/>
        </p:blipFill>
        <p:spPr>
          <a:xfrm>
            <a:off x="5219640" y="299736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511200" y="1418040"/>
            <a:ext cx="6125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человек не ощущает на с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е воздуха,  а барометр та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ьны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www.grand-podarki.ru/_sh/9/924.jpg"/>
          <p:cNvPicPr/>
          <p:nvPr/>
        </p:nvPicPr>
        <p:blipFill>
          <a:blip r:embed="rId2"/>
          <a:stretch/>
        </p:blipFill>
        <p:spPr>
          <a:xfrm>
            <a:off x="5219640" y="299736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321840" y="698040"/>
            <a:ext cx="7480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сотой давление понижает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к. уменьшается воздушный столб и возду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тся легч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20120" y="2858760"/>
            <a:ext cx="445860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с высотой пониж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ые 10 м подъ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мм рт. 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0" descr="ramki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2819520" y="2819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78469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етер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– это перемещение воздуха из области высокого давления в область низкого дав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1258920" y="292428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1619280" y="292428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1908000" y="4005360"/>
            <a:ext cx="475164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7020000" y="299700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4"/>
          <p:cNvSpPr/>
          <p:nvPr/>
        </p:nvSpPr>
        <p:spPr>
          <a:xfrm flipV="1">
            <a:off x="7380360" y="299700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3419640" y="335772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ет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474480" y="24400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7511040" y="24400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1407600" y="539280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хема образования вет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8:03:59Z</dcterms:created>
  <dc:creator>Сухинские</dc:creator>
  <dc:description/>
  <dc:language>en-US</dc:language>
  <cp:lastModifiedBy>Администратор безопасности</cp:lastModifiedBy>
  <dcterms:modified xsi:type="dcterms:W3CDTF">2020-11-30T07:55:06Z</dcterms:modified>
  <cp:revision>62</cp:revision>
  <dc:subject/>
  <dc:title>Тема урока:</dc:title>
</cp:coreProperties>
</file>