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2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07A2-0F47-4E60-8FF4-6B879E86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E38-3DE7-4ADE-942D-9765716B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FAF-89D3-48AA-918D-078EDA13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FC1-B855-405A-ACD6-0A7D09D1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B3F-F074-48F5-A239-06A6797F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D55-5AD4-43A6-B92E-6BBE8CC9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861-B2D3-4378-A954-DC858DAA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D04-6C15-432E-A7A2-B3D15DED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2FBF-3BAA-461A-B7BB-936ADCEA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4A6B-1B79-4222-BC36-F7CA1A95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7F7B-7E64-4D4F-BA63-D5153857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C29F-5A07-4C7D-A58E-568E568E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139F-AAAD-4330-9A34-1BC78D87D66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1"/>
          <a:stretch/>
        </p:blipFill>
        <p:spPr>
          <a:xfrm>
            <a:off x="920880" y="566640"/>
            <a:ext cx="722952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User\Рабочий стол\К ПРЕЗЕНТАЦИИ\ф 13.jpg"/>
          <p:cNvPicPr/>
          <p:nvPr/>
        </p:nvPicPr>
        <p:blipFill>
          <a:blip r:embed="rId1"/>
          <a:srcRect l="0" t="8749" r="1251" b="3751"/>
          <a:stretch/>
        </p:blipFill>
        <p:spPr>
          <a:xfrm>
            <a:off x="142920" y="1857240"/>
            <a:ext cx="7094520" cy="471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User\Рабочий стол\К ПРЕЗЕНТАЦИИ\ф 14.jpg"/>
          <p:cNvPicPr/>
          <p:nvPr/>
        </p:nvPicPr>
        <p:blipFill>
          <a:blip r:embed="rId2"/>
          <a:stretch/>
        </p:blipFill>
        <p:spPr>
          <a:xfrm>
            <a:off x="5400720" y="154080"/>
            <a:ext cx="357336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User\Рабочий стол\К ПРЕЗЕНТАЦИИ\ф 16.jpg"/>
          <p:cNvPicPr/>
          <p:nvPr/>
        </p:nvPicPr>
        <p:blipFill>
          <a:blip r:embed="rId1"/>
          <a:srcRect l="2345" t="3126" r="10937" b="6252"/>
          <a:stretch/>
        </p:blipFill>
        <p:spPr>
          <a:xfrm>
            <a:off x="285840" y="214200"/>
            <a:ext cx="5286240" cy="4143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User\Рабочий стол\К ПРЕЗЕНТАЦИИ\ф 155.jpg"/>
          <p:cNvPicPr/>
          <p:nvPr/>
        </p:nvPicPr>
        <p:blipFill>
          <a:blip r:embed="rId2"/>
          <a:srcRect l="2963" t="4658" r="2963" b="4658"/>
          <a:stretch/>
        </p:blipFill>
        <p:spPr>
          <a:xfrm>
            <a:off x="4714920" y="3143160"/>
            <a:ext cx="44290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1" descr=""/>
          <p:cNvPicPr/>
          <p:nvPr/>
        </p:nvPicPr>
        <p:blipFill>
          <a:blip r:embed="rId1"/>
          <a:stretch/>
        </p:blipFill>
        <p:spPr>
          <a:xfrm>
            <a:off x="103320" y="493560"/>
            <a:ext cx="854712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1352520" y="993600"/>
            <a:ext cx="60850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extBox 1" descr=""/>
          <p:cNvPicPr/>
          <p:nvPr/>
        </p:nvPicPr>
        <p:blipFill>
          <a:blip r:embed="rId1"/>
          <a:stretch/>
        </p:blipFill>
        <p:spPr>
          <a:xfrm>
            <a:off x="1852560" y="1841400"/>
            <a:ext cx="59389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1" descr=""/>
          <p:cNvPicPr/>
          <p:nvPr/>
        </p:nvPicPr>
        <p:blipFill>
          <a:blip r:embed="rId1"/>
          <a:stretch/>
        </p:blipFill>
        <p:spPr>
          <a:xfrm>
            <a:off x="2066760" y="853920"/>
            <a:ext cx="52977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566640" y="208080"/>
            <a:ext cx="83948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6500880" y="42876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анц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714840" y="35712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понц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57120" y="357120"/>
            <a:ext cx="194328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ранцуз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428760" y="3857760"/>
            <a:ext cx="180000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гличан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3429000" y="3643200"/>
            <a:ext cx="180036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тальянц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1928880" y="5000760"/>
            <a:ext cx="180000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рхангело -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родц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785960" y="200016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уля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857840" y="2071800"/>
            <a:ext cx="194292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листинц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7072200" y="342900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рвеж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ц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5357880" y="5072040"/>
            <a:ext cx="180000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несе-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вц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ext Box 4" descr=""/>
          <p:cNvPicPr/>
          <p:nvPr/>
        </p:nvPicPr>
        <p:blipFill>
          <a:blip r:embed="rId1"/>
          <a:stretch/>
        </p:blipFill>
        <p:spPr>
          <a:xfrm>
            <a:off x="3316320" y="-96840"/>
            <a:ext cx="2975040" cy="687240"/>
          </a:xfrm>
          <a:prstGeom prst="rect">
            <a:avLst/>
          </a:prstGeom>
          <a:ln w="0">
            <a:noFill/>
          </a:ln>
        </p:spPr>
      </p:pic>
      <p:pic>
        <p:nvPicPr>
          <p:cNvPr id="54" name="Text Box 5" descr=""/>
          <p:cNvPicPr/>
          <p:nvPr/>
        </p:nvPicPr>
        <p:blipFill>
          <a:blip r:embed="rId2"/>
          <a:stretch/>
        </p:blipFill>
        <p:spPr>
          <a:xfrm>
            <a:off x="365040" y="493560"/>
            <a:ext cx="835812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85840" y="35712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ак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57120" y="235728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туац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85840" y="47862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мюник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5286240" y="642960"/>
            <a:ext cx="208620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озунг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5429160" y="2857680"/>
            <a:ext cx="18003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трак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5429160" y="500076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нумен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000160" y="85716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гово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071800" y="264312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ожен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214720" y="507204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глашен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6929280" y="135720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зы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6929280" y="3357720"/>
            <a:ext cx="18003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ры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7000920" y="514368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мят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к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Documents and Settings\User\Рабочий стол\К ПРЕЗЕНТАЦИИ 2\img8.jpg"/>
          <p:cNvPicPr/>
          <p:nvPr/>
        </p:nvPicPr>
        <p:blipFill>
          <a:blip r:embed="rId1"/>
          <a:srcRect l="0" t="0" r="47657" b="5209"/>
          <a:stretch/>
        </p:blipFill>
        <p:spPr>
          <a:xfrm>
            <a:off x="214200" y="142920"/>
            <a:ext cx="2643480" cy="3589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User\Рабочий стол\К ПРЕЗЕНТАЦИИ\ф 6.jpg"/>
          <p:cNvPicPr/>
          <p:nvPr/>
        </p:nvPicPr>
        <p:blipFill>
          <a:blip r:embed="rId2"/>
          <a:srcRect l="14839" t="0" r="6025" b="17003"/>
          <a:stretch/>
        </p:blipFill>
        <p:spPr>
          <a:xfrm>
            <a:off x="4357800" y="1429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Documents and Settings\User\Рабочий стол\К ПРЕЗЕНТАЦИИ 2\img25.jpg"/>
          <p:cNvPicPr/>
          <p:nvPr/>
        </p:nvPicPr>
        <p:blipFill>
          <a:blip r:embed="rId3"/>
          <a:srcRect l="1955" t="3126" r="3124" b="3126"/>
          <a:stretch/>
        </p:blipFill>
        <p:spPr>
          <a:xfrm>
            <a:off x="1285920" y="2786040"/>
            <a:ext cx="5303880" cy="3929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User\Рабочий стол\К ПРЕЗЕНТАЦИИ 2\img8.jpg"/>
          <p:cNvPicPr/>
          <p:nvPr/>
        </p:nvPicPr>
        <p:blipFill>
          <a:blip r:embed="rId4"/>
          <a:srcRect l="53125" t="34319" r="0" b="40299"/>
          <a:stretch/>
        </p:blipFill>
        <p:spPr>
          <a:xfrm>
            <a:off x="6429240" y="3929040"/>
            <a:ext cx="25783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User\Рабочий стол\К ПРЕЗЕНТАЦИИ\ф 9.jpg"/>
          <p:cNvPicPr/>
          <p:nvPr/>
        </p:nvPicPr>
        <p:blipFill>
          <a:blip r:embed="rId1"/>
          <a:stretch/>
        </p:blipFill>
        <p:spPr>
          <a:xfrm>
            <a:off x="2786040" y="142920"/>
            <a:ext cx="5943600" cy="434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User\Рабочий стол\К ПРЕЗЕНТАЦИИ\ф 8.jpg"/>
          <p:cNvPicPr/>
          <p:nvPr/>
        </p:nvPicPr>
        <p:blipFill>
          <a:blip r:embed="rId2"/>
          <a:stretch/>
        </p:blipFill>
        <p:spPr>
          <a:xfrm>
            <a:off x="285840" y="2786040"/>
            <a:ext cx="66434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User\Рабочий стол\К ПРЕЗЕНТАЦИИ\ф 12.jpg"/>
          <p:cNvPicPr/>
          <p:nvPr/>
        </p:nvPicPr>
        <p:blipFill>
          <a:blip r:embed="rId1"/>
          <a:srcRect l="4117" t="9003" r="8435" b="998"/>
          <a:stretch/>
        </p:blipFill>
        <p:spPr>
          <a:xfrm>
            <a:off x="214200" y="2357280"/>
            <a:ext cx="6072480" cy="4286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User\Рабочий стол\К ПРЕЗЕНТАЦИИ\ф 10.jpg"/>
          <p:cNvPicPr/>
          <p:nvPr/>
        </p:nvPicPr>
        <p:blipFill>
          <a:blip r:embed="rId2"/>
          <a:srcRect l="8097" t="28126" r="6673" b="21874"/>
          <a:stretch/>
        </p:blipFill>
        <p:spPr>
          <a:xfrm>
            <a:off x="1785960" y="142920"/>
            <a:ext cx="71438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User\Рабочий стол\К ПРЕЗЕНТАЦИИ\ф 2.jpg"/>
          <p:cNvPicPr/>
          <p:nvPr/>
        </p:nvPicPr>
        <p:blipFill>
          <a:blip r:embed="rId1"/>
          <a:srcRect l="0" t="0" r="0" b="20000"/>
          <a:stretch/>
        </p:blipFill>
        <p:spPr>
          <a:xfrm>
            <a:off x="285840" y="285840"/>
            <a:ext cx="7619760" cy="457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User\Рабочий стол\К ПРЕЗЕНТАЦИИ 2\0019-019-Spustja-rukava.jpg"/>
          <p:cNvPicPr/>
          <p:nvPr/>
        </p:nvPicPr>
        <p:blipFill>
          <a:blip r:embed="rId2"/>
          <a:srcRect l="4055" t="17228" r="12161" b="0"/>
          <a:stretch/>
        </p:blipFill>
        <p:spPr>
          <a:xfrm>
            <a:off x="5572080" y="4429080"/>
            <a:ext cx="3375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4T18:30:13Z</dcterms:created>
  <dc:creator>Master</dc:creator>
  <dc:description/>
  <dc:language>en-US</dc:language>
  <cp:lastModifiedBy>Master</cp:lastModifiedBy>
  <dcterms:modified xsi:type="dcterms:W3CDTF">2017-02-14T21:47:37Z</dcterms:modified>
  <cp:revision>20</cp:revision>
  <dc:subject/>
  <dc:title>Слайд 1</dc:title>
</cp:coreProperties>
</file>