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731-9B15-4369-85A8-D8A545CC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01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2003760"/>
            <a:ext cx="701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E2E-88D9-4DC3-AC90-4D34B906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12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FE2-9B8E-4944-A12A-885C6029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7280" y="110304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7520" y="110304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200376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7280" y="200376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7520" y="200376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E86-2067-4183-B8BB-23533D33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103040"/>
            <a:ext cx="701064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B6B-1AFD-4A19-9C8A-5F322D5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01064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368-7283-4ED5-A91F-EF58B3E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559-36B1-4F10-A697-D03CB67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2B3-CFC7-41D4-A0BA-5B83FE83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2240" y="474840"/>
            <a:ext cx="74995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898-EA3A-4BC0-96B2-D6556810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48A-F52E-455D-A813-321EDF4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12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80D-AFE9-45EF-BCC2-BC9DA1C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2003760"/>
            <a:ext cx="701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CB6-C47D-4BAE-B948-2A9E609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103040"/>
            <a:ext cx="701064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A85-A076-4EEF-BF32-BA41B48D1AC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69184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Комитет образования и науки Курской области</a:t>
            </a:r>
            <a:br>
              <a:rPr sz="1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бластное бюджетное профессиональное образовательное учереждение  </a:t>
            </a:r>
            <a:br>
              <a:rPr sz="1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«Рыльский аграрный техникум»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Courier New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Courier New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СПЕЦИАЛЬНОСТЬ  08.02.01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«СТРОИТЕЛЬСТВО И ЭКСПЛУАТАЦИЯ ЗДАНИЙ И СООРУЖЕНИЙ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ПРЕЗЕНТАЦИЯ УРОКА НА ТЕМУ:</a:t>
            </a: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«Виды каменной кладки»</a:t>
            </a: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по ПМ.05 МДК 05.01 «Технология каменных работ»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Arial"/>
                <a:ea typeface="Courier New"/>
              </a:rPr>
              <a:t>                                                 Студент группы 3/1 СЭЗС: Сапегина М.С</a:t>
            </a: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Arial"/>
                <a:ea typeface="Courier New"/>
              </a:rPr>
              <a:t>                                         Руководитель:            Шевцова Л.А.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97862-A6E0-41E4-AB58-D8A4BF69851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s://s11.stc.all.kpcdn.net/share/i/12/5047933/inx960x640.jpg"/>
          <p:cNvPicPr/>
          <p:nvPr/>
        </p:nvPicPr>
        <p:blipFill>
          <a:blip r:embed="rId1"/>
          <a:stretch/>
        </p:blipFill>
        <p:spPr>
          <a:xfrm>
            <a:off x="3000240" y="1500120"/>
            <a:ext cx="3214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Arial"/>
              </a:rPr>
              <a:t>Элементы каменной кладки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 </a:t>
            </a:r>
            <a:br>
              <a:rPr sz="3200"/>
            </a:b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Лож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длинная боковая грань камн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Тыч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короткая боковая грань камн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Постел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нижняя и верхняя грани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Ложковый ряд 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яд камней в стене, уложенных ложком вдоль сте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Тычковый ряд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яд камней, уложенных поперек стены наружу тычк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Наружной верстой</a:t>
            </a: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зывается наружный, по отношению к фасаду, ряд кам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Внутренней верстой</a:t>
            </a: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нутренний, по отношению к фасаду, ряд кам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З</a:t>
            </a: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абутк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зывается заполненное пространство между верстами (при кладке ст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лщиной в 2 или более кирпич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664F9F-B81A-4C3C-AA15-6072718C44FF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643120" y="3500280"/>
            <a:ext cx="4143600" cy="2895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3880" y="1714680"/>
            <a:ext cx="7858440" cy="17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Швом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зывается заполненное полностью или частично раствором пространство между укладываемыми камнями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Кладка в пустошовку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При этом шов на 1 – 1,5 см с наружной стороны не заполняется раствором для лучшего сцепления клад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Кладка под расшивку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- ведется со специальной обработкой наружной части швов. Эта часть может быть: выпуклой, вогнутой, прямоугольной, треугольной. В этом случае пространство между камнями полностью заполнено раствором, и стенка не штукатури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81B5-F716-41A9-A372-828A2C43CF29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irp4"/>
          <p:cNvPicPr/>
          <p:nvPr/>
        </p:nvPicPr>
        <p:blipFill>
          <a:blip r:embed="rId1"/>
          <a:stretch/>
        </p:blipFill>
        <p:spPr>
          <a:xfrm>
            <a:off x="785880" y="3714840"/>
            <a:ext cx="4876560" cy="1527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1" name="Picture 6" descr="Расшивки"/>
          <p:cNvPicPr/>
          <p:nvPr/>
        </p:nvPicPr>
        <p:blipFill>
          <a:blip r:embed="rId2"/>
          <a:stretch/>
        </p:blipFill>
        <p:spPr>
          <a:xfrm>
            <a:off x="5967360" y="3714840"/>
            <a:ext cx="2438280" cy="1527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  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иды расшивки швов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равила разрезки каменной кладки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868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f6228"/>
                </a:solidFill>
                <a:uFillTx/>
                <a:latin typeface="Arial"/>
              </a:rPr>
              <a:t>1 правило: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нтаж камней перпендикулярен к силам, действующим на ни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еобходимо исключить условия сдвижки камней и излом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f6228"/>
                </a:solidFill>
                <a:uFillTx/>
                <a:latin typeface="Arial"/>
              </a:rPr>
              <a:t>2 правило</a:t>
            </a:r>
            <a:r>
              <a:rPr b="0" lang="ru-RU" sz="1600" spc="-1" strike="noStrike">
                <a:solidFill>
                  <a:srgbClr val="4f6228"/>
                </a:solidFill>
                <a:latin typeface="Arial"/>
              </a:rPr>
              <a:t>: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ассив кладки должен быть разделен швами только перпендикулярно или параллельно верстовым рядам кладк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евыполнение этого правила приводит к расклиниванию рядов или скалыванию частей камн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f6228"/>
                </a:solidFill>
                <a:uFillTx/>
                <a:latin typeface="Arial"/>
              </a:rPr>
              <a:t>3 правило</a:t>
            </a:r>
            <a:r>
              <a:rPr b="0" lang="ru-RU" sz="1600" spc="-1" strike="noStrike">
                <a:solidFill>
                  <a:srgbClr val="4f6228"/>
                </a:solidFill>
                <a:latin typeface="Arial"/>
              </a:rPr>
              <a:t>: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еобходима «перевязка» вертикальных швов, т.е. исключить совпадение в смежных рядах кладки поперечных и продольных шво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есоблюдение этого правила разделит весь массив на отдельные столбики, они могут деформироваться под действием нагрузки, что приведет к разрушению массив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— воздействие на горизонтальный ряд кладки наклонной силы; б—правильное                               расположение вертикальных плоскостей разрезки кладки; в —то же, неправильное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—кладка с перевязкой вертикальных шв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B17664-A07B-42D7-A8BF-69AE7C7B9666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143000" y="3929040"/>
            <a:ext cx="6553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F00-73C3-4970-BDDE-15535897FFC8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Кладка кирпичных стен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1. Способ «вприжим»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28760" y="1771560"/>
            <a:ext cx="398916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ельмой разравнивают растворную постель, затем ребром кельмы подгребают часть раствора и прижимают его к вертикальной грани ранее уложенного кирпича, а левой рукой доносят новый кирпич к месту укладки. После этого опускают кирпич на подготовленную постель и, двигая его левой рукой к ранее уложенному, прижимают к полотну кельмы. Движением вверх правой руки вынимают кельму, а кирпичом, придвигаемым левой рукой, зажимают раствор между вертикальными гранями укладываемого и ранее уложенного кирпичей. Избыток раствора, выжатый из шва на лицевую сторону кладки, подрезается кельм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Кладка получается прочной, с полным заполнением швов раствором, плотной и чистой. Однако этот способ требует большего количества движений, чем другие, и поэтому считается наиболее трудоемким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i_025"/>
          <p:cNvPicPr/>
          <p:nvPr/>
        </p:nvPicPr>
        <p:blipFill>
          <a:blip r:embed="rId1"/>
          <a:stretch/>
        </p:blipFill>
        <p:spPr>
          <a:xfrm>
            <a:off x="5000760" y="2000160"/>
            <a:ext cx="3373200" cy="4038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1B94-5B19-4268-A1D9-A87DE9A22A24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800000"/>
                </a:solidFill>
                <a:latin typeface="Arial"/>
              </a:rPr>
              <a:t>Кладка кирпичных стен</a:t>
            </a:r>
            <a:br>
              <a:rPr sz="3300"/>
            </a:br>
            <a:r>
              <a:rPr b="1" i="1" lang="ru-RU" sz="3300" spc="-1" strike="noStrike">
                <a:solidFill>
                  <a:srgbClr val="800000"/>
                </a:solidFill>
                <a:latin typeface="Arial"/>
              </a:rPr>
              <a:t>2. Способ «вприсык»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71600" y="1924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яв кирпич и держа его наклонно, загребают тычковой гранью кирпича часть раствора, предварительно разостланного на постели. Придвигая кирпич к уже уложенному, постепенно выправляется его положение и он прижимается к постели. При этом часть раствора, снятая с постели, заполняет вертикальный поперечный шов. При таком методе кладка получается менее прочной, но более теплой, скорость производства работ повышается, трудоемкость снижается. 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_026"/>
          <p:cNvPicPr/>
          <p:nvPr/>
        </p:nvPicPr>
        <p:blipFill>
          <a:blip r:embed="rId1"/>
          <a:stretch/>
        </p:blipFill>
        <p:spPr>
          <a:xfrm>
            <a:off x="4357800" y="2000160"/>
            <a:ext cx="4317840" cy="3386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b050"/>
                </a:solidFill>
                <a:latin typeface="Arial"/>
              </a:rPr>
              <a:t>Организация рабочего места каменщиков</a:t>
            </a:r>
            <a:endParaRPr b="0" lang="en-US" sz="35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AFE01A-A752-4E07-9FF0-ED5D55D37D54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icture"/>
          <p:cNvPicPr/>
          <p:nvPr/>
        </p:nvPicPr>
        <p:blipFill>
          <a:blip r:embed="rId1"/>
          <a:stretch/>
        </p:blipFill>
        <p:spPr>
          <a:xfrm>
            <a:off x="1143000" y="1785960"/>
            <a:ext cx="7000920" cy="3857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8" name="Прямоугольник 5"/>
          <p:cNvSpPr/>
          <p:nvPr/>
        </p:nvSpPr>
        <p:spPr>
          <a:xfrm>
            <a:off x="1143000" y="1785960"/>
            <a:ext cx="7000920" cy="3857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Arial"/>
              </a:rPr>
              <a:t>Организация труда</a:t>
            </a:r>
            <a:r>
              <a:rPr b="0" lang="ru-RU" sz="33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00b050"/>
                </a:solidFill>
                <a:latin typeface="Arial"/>
              </a:rPr>
              <a:t>каменщиков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14680"/>
            <a:ext cx="701064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менщик высокой квалификации выкладывает маяки, закрепляет порядовку, устанавливает причалку, выкладывает верс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менщик низкой квалификации подает и растилает раствор, раскладывает кирпичи и бло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менщик средней квалификации выкладывает забут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ладку ведут звеньями рабочие по 2, 3, 4, 5 человек в зависимости от видов кл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32582A-BD4B-4D4E-A524-0AF57DA503AD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Arial"/>
              </a:rPr>
              <a:t>Общие правила перевязки швов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14320"/>
            <a:ext cx="701064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зависимо от системы перевязки кладку стен начинают и заканчивают тычковым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) Тычковые ряды прокладывают также под опорными частями балок, прогонов, п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) В тычковых рядах используют только целый кирпич (так как эти ряды служат для перевязки продольных швов кла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) При кладке стремятся делать толщину швов минимальной (верт. - 8 мм, горизонт. - 10 мм.), чтобы получить большую прочность с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B32AC8-4114-4D3D-817B-08C6B73F51A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Виды кладок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576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) Сплошна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еармирова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рмирова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) Кладка с облицо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) Облегч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9760" y="1127160"/>
            <a:ext cx="449424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ы допуск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5 мм,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…10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мм горизонтальные ш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мм вертикальные швы, т.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дку стен ведут кратной половине кирпича (250х120х6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счетная толщина стен вместе со ш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½ кирпича  - 120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ирпич      -25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кирпича - 38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ирпича    - 51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5 кирпича - 64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0 кирпича - 77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AFBBA-D192-412F-89D4-F77393EC5457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039-51BA-41F6-A683-EA8C9DCB0019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317-6A8B-44B4-8BF2-B0D9636FA9B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714840" y="1571760"/>
            <a:ext cx="43290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аспространенными системами перевязки швов кирпичной кладк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ен и простенков - двухрядная и многорядн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олбов и узких простенков /до 1м/- четырехря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ухрядной (цепной, однорядной) перевязке швов каждый ложковый ряд чередуется с одним тычковым ря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многорядной /шестирядной, пятирядной/ перевязке каждые пять ложковых рядов чередуются с одним тычковым рядом кирпи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274760" y="1457280"/>
            <a:ext cx="2108160" cy="4370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Сплошная кладка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7C3941-D197-4F91-B37B-EC69BB57B77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3440" y="659880"/>
            <a:ext cx="7499160" cy="6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1f497d"/>
                </a:solidFill>
                <a:latin typeface="Arial"/>
              </a:rPr>
              <a:t>Материалы для каменной кладки</a:t>
            </a:r>
            <a:br>
              <a:rPr sz="3400"/>
            </a:br>
            <a:endParaRPr b="0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0040" y="4786200"/>
            <a:ext cx="528624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ликатный кирпич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яют для стен с относительной влажно­стью не более 75%, марки кирпича - 75, 100 и 150. Кирпич изготовляют посредством автоклавной обрабо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28760" y="1357200"/>
            <a:ext cx="5286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нотелый глиняный кирпич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ы 250 х 120 х 65 мм и модульный (утолщенный) - 250 х 120 х 88 мм, масса кирпича 3,6...5 кг. Плотность 1,6—1,8 т/м3, марки кирпича 75, 100, 150, 200, 250 и 300, водопоглощение до 8%. Кирпич изготовляют пластическим прессованием с последующим обжигом. Основной недостаток - высокая теплопровод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714240" y="3071880"/>
            <a:ext cx="5000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стотелый, пористый и дырчатый кирпи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при тех же раз­мерах в плане высоту 65, 88, 103 и 138 мм (в 1,25, 1,5 и 2 раза большую высоту по сравнению с полнотелым кирпичом), меньшую плотность - 1,35... 1,45 т/ м3. Марки кирпича - 75, 100 и 150. Применение этой разновидности кирпичей позволяет уменьшить массу стеновых изделий до 3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7"/>
          <p:cNvPicPr/>
          <p:nvPr/>
        </p:nvPicPr>
        <p:blipFill>
          <a:blip r:embed="rId1"/>
          <a:stretch/>
        </p:blipFill>
        <p:spPr>
          <a:xfrm>
            <a:off x="6143760" y="3143160"/>
            <a:ext cx="1611000" cy="1447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1" name="Picture 7" descr="5"/>
          <p:cNvPicPr/>
          <p:nvPr/>
        </p:nvPicPr>
        <p:blipFill>
          <a:blip r:embed="rId2"/>
          <a:stretch/>
        </p:blipFill>
        <p:spPr>
          <a:xfrm>
            <a:off x="6143760" y="1428840"/>
            <a:ext cx="1600200" cy="1401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2" name="Picture 9" descr="C:\Users\Андрей\Desktop\Новый точечный рисунок.bmp"/>
          <p:cNvPicPr/>
          <p:nvPr/>
        </p:nvPicPr>
        <p:blipFill>
          <a:blip r:embed="rId3"/>
          <a:stretch/>
        </p:blipFill>
        <p:spPr>
          <a:xfrm>
            <a:off x="6143760" y="492912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6143760" y="4929120"/>
            <a:ext cx="1643040" cy="1214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07F4-4E44-4A87-8D93-2C3D6334D0A6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800000"/>
                </a:solidFill>
                <a:latin typeface="Arial"/>
              </a:rPr>
              <a:t>Кладка с облицовкой.</a:t>
            </a:r>
            <a:endParaRPr b="0" lang="en-US" sz="37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71680" y="1285920"/>
            <a:ext cx="8358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облицовке каменной кладки лицевым кирпич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рис. 46) вначале выкладывают кирпичную облицовочную версту. Первый ряд облицовки делают из целых кирпичей, уложенных тычком, а три следующих — из цельных кирпичей уложенных ложком либо из половинок кирпича, уложенных тычком. Затем выкладывают внутреннюю часть стены из двух рядов камней по цепной системе перевязк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Облицовка лицевым кирпичом"/>
          <p:cNvPicPr/>
          <p:nvPr/>
        </p:nvPicPr>
        <p:blipFill>
          <a:blip r:embed="rId1"/>
          <a:stretch/>
        </p:blipFill>
        <p:spPr>
          <a:xfrm>
            <a:off x="4929120" y="3071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s://images.ru.prom.st/590386943_w640_h640_keramicheskie-bloki.jpg"/>
          <p:cNvPicPr/>
          <p:nvPr/>
        </p:nvPicPr>
        <p:blipFill>
          <a:blip r:embed="rId2"/>
          <a:stretch/>
        </p:blipFill>
        <p:spPr>
          <a:xfrm>
            <a:off x="1143000" y="3071880"/>
            <a:ext cx="3214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28440" y="856800"/>
            <a:ext cx="7643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честв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свойств, определяющих степень пригодности строительной продукции для использования ее по назначению. Качество готовых работ проверяют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нструкцией по оценке качества строительно-монтажных рабо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мые отклонения определяются сборником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Ни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аздел: Правила производства  и приемки рабо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о определяется обычно 3-мя основными показател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c0504d"/>
                </a:solidFill>
                <a:latin typeface="Arial"/>
              </a:rPr>
              <a:t>технологически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тель характеризует надежность продукции, т.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ее сохранять заданные свойства на протяж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c0504d"/>
                </a:solidFill>
                <a:latin typeface="Arial"/>
              </a:rPr>
              <a:t>художественно- эстетиче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ценивает внешний и внутренний в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c0504d"/>
                </a:solidFill>
                <a:latin typeface="Arial"/>
              </a:rPr>
              <a:t>социологиче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епень соответствия строительной продукции уров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и нас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опус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азность между наибольшим и наименьшим допустимыми размер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ад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еличина допустимого зазора между двумя сопрягаемыми конструкц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35994F-BC7E-4BF4-90ED-704BFC5E45E9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1360" y="928440"/>
            <a:ext cx="701028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ерамические и силикатные пустотелые кам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размеры: •обычные - 250 х 120 х 138 мм, укрупненные - 250 х 250 х 138 мм и модульные - 288 х 138 х 138 мм. Толщина камня соответствует двум кирпичам, уложенным на постель, с учетом толщины шва между ними. Поверхность камней бывает гладкой и рифле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мни бетонные и гипсовые стенов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пускают сплошными и пустотелыми. Их изготовляют из тяжелых, облегченных и легких бе­тонов и гипсобетона с размерами 400 х 200 х 200 мм, 400 х 200 х 90 мм и массой до 35 к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отелые и силикатные кирпичи нельзя применять для кладки стен ниже гидроизоляционного слоя, для кладки цоколей, стен мокрых помещ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43E-F143-49A0-857D-0988BB4CD04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2826"/>
          <p:cNvPicPr/>
          <p:nvPr/>
        </p:nvPicPr>
        <p:blipFill>
          <a:blip r:embed="rId1"/>
          <a:stretch/>
        </p:blipFill>
        <p:spPr>
          <a:xfrm>
            <a:off x="4857840" y="3286080"/>
            <a:ext cx="292896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357635"/>
          <p:cNvPicPr/>
          <p:nvPr/>
        </p:nvPicPr>
        <p:blipFill>
          <a:blip r:embed="rId2"/>
          <a:stretch/>
        </p:blipFill>
        <p:spPr>
          <a:xfrm>
            <a:off x="1089000" y="451476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kamen"/>
          <p:cNvPicPr/>
          <p:nvPr/>
        </p:nvPicPr>
        <p:blipFill>
          <a:blip r:embed="rId3"/>
          <a:stretch/>
        </p:blipFill>
        <p:spPr>
          <a:xfrm>
            <a:off x="2428920" y="3071880"/>
            <a:ext cx="22860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1f497d"/>
                </a:solidFill>
                <a:latin typeface="Century Schoolbook (Заголовки)"/>
              </a:rPr>
              <a:t>Растворы для каменной кладки</a:t>
            </a:r>
            <a:endParaRPr b="0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880" y="1213920"/>
            <a:ext cx="736272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ментные раств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ют для конструкций ниже поверхности земли, в сильно загруженных столбах, простенках, в армированной кладке. Состав от 1: 2,5 до 1: 6, марки раствора от 100 до 30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сход цемента на 1 м3 песка - для подземной ча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аний не менее 75 кг, для надземной части - 125 кг. Портландцемен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шлакопортландцемент применяют только в растворах высоких марок для ответственных конструкций, в армированной кладке, 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подземных конструкций, в грунтах, насыщенных водой, или при зимних кладках, выполняемых методом заморажи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вестковые раств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ют в сухих местах и при небольшой нагрузке. Они обладают большой подвижностью, пластичностью, обеспечивают наибольшую производительность труда. Применяют составы от 1: 4 до 1: 8 и марки 4, 10 и 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мешанны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ожные раств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цементно-известковые и цементно-глиняные состава от 1: 0,1: 3 до 1: 2: 15, марки растворов 10, 25, 50, 75 и 100. Такие растворы применяют для кладки большинства строительных конструкций. Второе вяжущее отодвигает начало схватывания, улучшает удобоукладываемость и пластичность, но значительно снижает прочность раствора. В объемной дозировке смешанных растворов первая цифра обозначает расход цемента, вторая - известкового или глиняного теста, третья — пе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F06-DB90-466E-A55E-5A5612ABD8A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Arial"/>
              </a:rPr>
              <a:t>Производственный инструмент и приспособления</a:t>
            </a:r>
            <a:endParaRPr b="0" lang="en-US" sz="25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3" name="Picture 4" descr="picture"/>
          <p:cNvPicPr/>
          <p:nvPr/>
        </p:nvPicPr>
        <p:blipFill>
          <a:blip r:embed="rId1"/>
          <a:stretch/>
        </p:blipFill>
        <p:spPr>
          <a:xfrm>
            <a:off x="642960" y="1285920"/>
            <a:ext cx="4214880" cy="443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4920" y="1316160"/>
            <a:ext cx="471816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кель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 молоток-кироч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растворная лопа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г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расшивка вогнутая и выпукл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ичальные скоб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ичальный шнур в корпу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омежуточный мая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уголковый шабло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шаблон из двух лине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отвес;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л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авил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м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орядовка для внутренних уг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орядовка для наружных уг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—причальный шну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 —фиксато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 —раздвижные линей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 — прижимный вин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 — крюки-держат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—скоба с винтовым зажим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1E577D-1CF5-45E4-A671-0E9493893D95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Контрольно-измерительный инструмент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7" name="Picture 7" descr="picture"/>
          <p:cNvPicPr/>
          <p:nvPr/>
        </p:nvPicPr>
        <p:blipFill>
          <a:blip r:embed="rId1"/>
          <a:stretch/>
        </p:blipFill>
        <p:spPr>
          <a:xfrm>
            <a:off x="2286000" y="1500120"/>
            <a:ext cx="4786200" cy="3105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71400" y="4785840"/>
            <a:ext cx="6357960" cy="14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40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складной метр; б—рулетка длиной 2 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рулетка длиной 20 м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г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уровень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шаблон для сортировки кирпича и камней;1—корпус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ампулы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кры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F6729-CD5C-4A61-A050-284FC7ABC2D1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Arial"/>
              </a:rPr>
              <a:t>Инвентарь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1" name="Picture 7" descr="picture"/>
          <p:cNvPicPr/>
          <p:nvPr/>
        </p:nvPicPr>
        <p:blipFill>
          <a:blip r:embed="rId1"/>
          <a:stretch/>
        </p:blipFill>
        <p:spPr>
          <a:xfrm>
            <a:off x="1330200" y="1214280"/>
            <a:ext cx="3876840" cy="464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38880" y="1197000"/>
            <a:ext cx="37051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становка для приема и выдачи раст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 - бункер с челюстным затво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– растворный ящ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 – подхват-футля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 –самозатягивающийся захв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ж – переносной светильник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 – 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FFDE0-29AB-4685-9EFD-7EDA5B0A9239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b050"/>
                </a:solidFill>
                <a:latin typeface="Arial"/>
              </a:rPr>
              <a:t>Подмости</a:t>
            </a:r>
            <a:r>
              <a:rPr b="0" lang="ru-RU" sz="41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5" name="Picture 8" descr="picture"/>
          <p:cNvPicPr/>
          <p:nvPr/>
        </p:nvPicPr>
        <p:blipFill>
          <a:blip r:embed="rId1"/>
          <a:stretch/>
        </p:blipFill>
        <p:spPr>
          <a:xfrm>
            <a:off x="4286160" y="1143000"/>
            <a:ext cx="3776760" cy="3643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5000760"/>
            <a:ext cx="80010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а —шарнирно-панельные в верхнем (/) и нижнем (II) положениях; б—универсальные панельные самоустанавливающиеся;  в—панельные; г—площадки-подмости;  д—рычажные с гидроприводом; 1 —настил; 2 —откидная опора (для кладки 2-го яруса); 3 —то же, для кладки 3-го яруса;4 —стропы для перевода опор из горизонтального в вертикальное положение; 5 — диагональная связь для закрепления опор; 6 — наружные рычаги; 7 — шарнир; 8 — гидроприв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37AF5-6840-4377-A387-A566EDE20DDF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Андрей\Desktop\Новый точечный рисунок.bmp"/>
          <p:cNvPicPr/>
          <p:nvPr/>
        </p:nvPicPr>
        <p:blipFill>
          <a:blip r:embed="rId2"/>
          <a:stretch/>
        </p:blipFill>
        <p:spPr>
          <a:xfrm>
            <a:off x="928800" y="1143000"/>
            <a:ext cx="3071880" cy="3643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928800" y="1143000"/>
            <a:ext cx="3071880" cy="3643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4286160" y="1143000"/>
            <a:ext cx="3786120" cy="3643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иды каменных кладок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Кирпичн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ет быть из обыкновенного и силикатного кирпича. Применяется: для стен подвалов, цоколей подпорных стен, для стен 1-2-х этажных зд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Мелкоблочн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выполняется из естественных или искусственных камней правильной формы с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≤16 кг (керамических, бетонных, шлакобетонных, гипсовых, силикатных камней, из известняка, туфа и др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Бутов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это кладка из природных каменей неправильной формы. Применяется: для стен подвалов, цоколей подпорных стен, для стен 1-2-х этажных зд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Бутобетонн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выполняется из камня неправильной формы и бетона. Применяется: для фундаментов и стен подвалов. Ведется обычно в траншеях или в опалуб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Крупноблочная кладка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это кладка из блоков (бетонных, керамзитобетонных, шлакобетонных, кирпичных). Применяют для устройства фундаментов, стен подвалов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F360AA-A4C0-4A0D-ABCE-14CA9219D06D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09:12:11Z</dcterms:created>
  <dc:creator>qwerty</dc:creator>
  <dc:description/>
  <dc:language>en-US</dc:language>
  <cp:lastModifiedBy>Андрей</cp:lastModifiedBy>
  <dcterms:modified xsi:type="dcterms:W3CDTF">2020-11-30T05:11:23Z</dcterms:modified>
  <cp:revision>112</cp:revision>
  <dc:subject/>
  <dc:title>Тема 22 Технология процессов каменной кладки</dc:title>
</cp:coreProperties>
</file>