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8BB-AB8D-4DE4-A1CC-656EE9F5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7010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2003760"/>
            <a:ext cx="7010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060-4F6D-469C-8109-C3E918D9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200376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120" y="200376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8F2-1444-4FE4-BA23-F2CAAB1D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7280" y="110304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7520" y="110304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200376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7280" y="200376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7520" y="2003760"/>
            <a:ext cx="2257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1C3-96B2-4620-8F6C-87AD85B5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103040"/>
            <a:ext cx="701064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A58-BE2A-48FE-A7D3-72510B03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701064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0B1-8F39-4288-8FC4-ECA98B16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439-5F27-4F73-B4B1-22401F52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B16-8CB3-45CC-8D08-FBB1E851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2240" y="474840"/>
            <a:ext cx="74995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EE5-A889-4401-A6EC-EEB47F90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200376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660-E8EA-4CD1-99E7-BE62064B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120" y="200376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FAE-A80F-42C4-9D17-A54B674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103040"/>
            <a:ext cx="342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2003760"/>
            <a:ext cx="7010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214-CC5F-42B2-8977-BD2C214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2240" y="474840"/>
            <a:ext cx="74995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103040"/>
            <a:ext cx="701064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71760" indent="-9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EE76-3CB2-4C76-81B6-D110CE75913E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56760"/>
            <a:ext cx="69184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Комитет образования и науки Курской области</a:t>
            </a:r>
            <a:br>
              <a:rPr sz="1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Областное бюджетное профессиональное образовательное учереждение  </a:t>
            </a:r>
            <a:br>
              <a:rPr sz="1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«Рыльский аграрный техникум»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Courier New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Courier New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СПЕЦИАЛЬНОСТЬ  08.02.01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«СТРОИТЕЛЬСТВО И ЭКСПЛУАТАЦИЯ ЗДАНИЙ И СООРУЖЕНИЙ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ПРЕЗЕНТАЦИЯ УРОКА НА ТЕМУ:</a:t>
            </a: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«Виды каменной кладки»</a:t>
            </a: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Courier New"/>
              </a:rPr>
              <a:t>по ПМ.05 МДК 05.01 «Технология каменных работ»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Arial"/>
                <a:ea typeface="Courier New"/>
              </a:rPr>
              <a:t>                                                 Студент группы 3/1 СЭЗС: Сапегина М.С</a:t>
            </a: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Arial"/>
                <a:ea typeface="Courier New"/>
              </a:rPr>
              <a:t>                                         Руководитель:            Шевцова Л.А.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72BBEB-0BE8-48EC-8A29-5358B8FEC7A0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s://s11.stc.all.kpcdn.net/share/i/12/5047933/inx960x640.jpg"/>
          <p:cNvPicPr/>
          <p:nvPr/>
        </p:nvPicPr>
        <p:blipFill>
          <a:blip r:embed="rId1"/>
          <a:stretch/>
        </p:blipFill>
        <p:spPr>
          <a:xfrm>
            <a:off x="3000240" y="1500120"/>
            <a:ext cx="3214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Arial"/>
              </a:rPr>
              <a:t>Элементы каменной кладки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 </a:t>
            </a:r>
            <a:br>
              <a:rPr sz="3200"/>
            </a:b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84297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Ложок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- длинная боковая грань камн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Тычок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- короткая боковая грань камн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Постел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- нижняя и верхняя грани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Ложковый ряд 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яд камней в стене, уложенных ложком вдоль сте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Тычковый ряд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яд камней, уложенных поперек стены наружу тычк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Наружной верстой</a:t>
            </a:r>
            <a:r>
              <a:rPr b="0" lang="ru-RU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зывается наружный, по отношению к фасаду, ряд кам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Внутренней верстой</a:t>
            </a:r>
            <a:r>
              <a:rPr b="0" lang="ru-RU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0" lang="ru-RU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нутренний, по отношению к фасаду, ряд кам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Arial"/>
              </a:rPr>
              <a:t>З</a:t>
            </a: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абутк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зывается заполненное пространство между верстами (при кладке сте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лщиной в 2 или более кирпич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A357CB-C4D5-42FE-88F4-5D3692480F63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643120" y="3500280"/>
            <a:ext cx="4143600" cy="2895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13880" y="1714680"/>
            <a:ext cx="7858440" cy="17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Швом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зывается заполненное полностью или частично раствором пространство между укладываемыми камнями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Кладка в пустошовку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При этом шов на 1 – 1,5 см с наружной стороны не заполняется раствором для лучшего сцепления клад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6600"/>
                </a:solidFill>
                <a:latin typeface="Arial"/>
              </a:rPr>
              <a:t>Кладка под расшивку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- ведется со специальной обработкой наружной части швов. Эта часть может быть: выпуклой, вогнутой, прямоугольной, треугольной. В этом случае пространство между камнями полностью заполнено раствором, и стенка не штукатури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E6EF-1DDB-473A-921C-90857EBB098B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kirp4"/>
          <p:cNvPicPr/>
          <p:nvPr/>
        </p:nvPicPr>
        <p:blipFill>
          <a:blip r:embed="rId1"/>
          <a:stretch/>
        </p:blipFill>
        <p:spPr>
          <a:xfrm>
            <a:off x="785880" y="3714840"/>
            <a:ext cx="4876560" cy="1527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1" name="Picture 6" descr="Расшивки"/>
          <p:cNvPicPr/>
          <p:nvPr/>
        </p:nvPicPr>
        <p:blipFill>
          <a:blip r:embed="rId2"/>
          <a:stretch/>
        </p:blipFill>
        <p:spPr>
          <a:xfrm>
            <a:off x="5967360" y="3714840"/>
            <a:ext cx="2438280" cy="1527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  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Виды расшивки швов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равила разрезки каменной кладки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868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f6228"/>
                </a:solidFill>
                <a:uFillTx/>
                <a:latin typeface="Arial"/>
              </a:rPr>
              <a:t>1 правило:</a:t>
            </a: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онтаж камней перпендикулярен к силам, действующим на ни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еобходимо исключить условия сдвижки камней и излома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f6228"/>
                </a:solidFill>
                <a:uFillTx/>
                <a:latin typeface="Arial"/>
              </a:rPr>
              <a:t>2 правило</a:t>
            </a:r>
            <a:r>
              <a:rPr b="0" lang="ru-RU" sz="1600" spc="-1" strike="noStrike">
                <a:solidFill>
                  <a:srgbClr val="4f6228"/>
                </a:solidFill>
                <a:latin typeface="Arial"/>
              </a:rPr>
              <a:t>: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ассив кладки должен быть разделен швами только перпендикулярно или параллельно верстовым рядам кладк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евыполнение этого правила приводит к расклиниванию рядов или скалыванию частей камн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f6228"/>
                </a:solidFill>
                <a:uFillTx/>
                <a:latin typeface="Arial"/>
              </a:rPr>
              <a:t>3 правило</a:t>
            </a:r>
            <a:r>
              <a:rPr b="0" lang="ru-RU" sz="1600" spc="-1" strike="noStrike">
                <a:solidFill>
                  <a:srgbClr val="4f6228"/>
                </a:solidFill>
                <a:latin typeface="Arial"/>
              </a:rPr>
              <a:t>: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еобходима «перевязка» вертикальных швов, т.е. исключить совпадение в смежных рядах кладки поперечных и продольных шво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есоблюдение этого правила разделит весь массив на отдельные столбики, они могут деформироваться под действием нагрузки, что приведет к разрушению массив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— воздействие на горизонтальный ряд кладки наклонной силы; б—правильное                               расположение вертикальных плоскостей разрезки кладки; в —то же, неправильное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—кладка с перевязкой вертикальных шв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331CE2-F914-42EE-AFCA-0BF0AAA5CC4D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143000" y="3929040"/>
            <a:ext cx="6553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ACC1-46FA-4A8A-9B11-6E4632100F1D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Кладка кирпичных стен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1. Способ «вприжим»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28760" y="1771560"/>
            <a:ext cx="398916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ельмой разравнивают растворную постель, затем ребром кельмы подгребают часть раствора и прижимают его к вертикальной грани ранее уложенного кирпича, а левой рукой доносят новый кирпич к месту укладки. После этого опускают кирпич на подготовленную постель и, двигая его левой рукой к ранее уложенному, прижимают к полотну кельмы. Движением вверх правой руки вынимают кельму, а кирпичом, придвигаемым левой рукой, зажимают раствор между вертикальными гранями укладываемого и ранее уложенного кирпичей. Избыток раствора, выжатый из шва на лицевую сторону кладки, подрезается кельм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Кладка получается прочной, с полным заполнением швов раствором, плотной и чистой. Однако этот способ требует большего количества движений, чем другие, и поэтому считается наиболее трудоемким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i_025"/>
          <p:cNvPicPr/>
          <p:nvPr/>
        </p:nvPicPr>
        <p:blipFill>
          <a:blip r:embed="rId1"/>
          <a:stretch/>
        </p:blipFill>
        <p:spPr>
          <a:xfrm>
            <a:off x="5000760" y="2000160"/>
            <a:ext cx="3373200" cy="4038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C983-B46E-4567-81BC-E4D104FA70DF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3300" spc="-1" strike="noStrike">
                <a:solidFill>
                  <a:srgbClr val="800000"/>
                </a:solidFill>
                <a:latin typeface="Arial"/>
              </a:rPr>
              <a:t>Кладка кирпичных стен</a:t>
            </a:r>
            <a:br>
              <a:rPr sz="3300"/>
            </a:br>
            <a:r>
              <a:rPr b="1" i="1" lang="ru-RU" sz="3300" spc="-1" strike="noStrike">
                <a:solidFill>
                  <a:srgbClr val="800000"/>
                </a:solidFill>
                <a:latin typeface="Arial"/>
              </a:rPr>
              <a:t>2. Способ «вприсык»</a:t>
            </a:r>
            <a:endParaRPr b="0" lang="en-US" sz="3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71600" y="192420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яв кирпич и держа его наклонно, загребают тычковой гранью кирпича часть раствора, предварительно разостланного на постели. Придвигая кирпич к уже уложенному, постепенно выправляется его положение и он прижимается к постели. При этом часть раствора, снятая с постели, заполняет вертикальный поперечный шов. При таком методе кладка получается менее прочной, но более теплой, скорость производства работ повышается, трудоемкость снижается.   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_026"/>
          <p:cNvPicPr/>
          <p:nvPr/>
        </p:nvPicPr>
        <p:blipFill>
          <a:blip r:embed="rId1"/>
          <a:stretch/>
        </p:blipFill>
        <p:spPr>
          <a:xfrm>
            <a:off x="4357800" y="2000160"/>
            <a:ext cx="4317840" cy="3386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b050"/>
                </a:solidFill>
                <a:latin typeface="Arial"/>
              </a:rPr>
              <a:t>Организация рабочего места каменщиков</a:t>
            </a:r>
            <a:endParaRPr b="0" lang="en-US" sz="35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FD3931-312A-4E97-AA39-690B7C8D7833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icture"/>
          <p:cNvPicPr/>
          <p:nvPr/>
        </p:nvPicPr>
        <p:blipFill>
          <a:blip r:embed="rId1"/>
          <a:stretch/>
        </p:blipFill>
        <p:spPr>
          <a:xfrm>
            <a:off x="1143000" y="1785960"/>
            <a:ext cx="7000920" cy="3857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8" name="Прямоугольник 5"/>
          <p:cNvSpPr/>
          <p:nvPr/>
        </p:nvSpPr>
        <p:spPr>
          <a:xfrm>
            <a:off x="1143000" y="1785960"/>
            <a:ext cx="7000920" cy="38577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Arial"/>
              </a:rPr>
              <a:t>Организация труда</a:t>
            </a:r>
            <a:r>
              <a:rPr b="0" lang="ru-RU" sz="33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00b050"/>
                </a:solidFill>
                <a:latin typeface="Arial"/>
              </a:rPr>
              <a:t>каменщиков</a:t>
            </a:r>
            <a:endParaRPr b="0" lang="en-US" sz="3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14680"/>
            <a:ext cx="701064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аменщик высокой квалификации выкладывает маяки, закрепляет порядовку, устанавливает причалку, выкладывает верс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аменщик низкой квалификации подает и растилает раствор, раскладывает кирпичи и бло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аменщик средней квалификации выкладывает забут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ладку ведут звеньями рабочие по 2, 3, 4, 5 человек в зависимости от видов кл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9F3BFE-4E8D-4ED3-A3FD-9DB6D39D6696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50"/>
                </a:solidFill>
                <a:latin typeface="Arial"/>
              </a:rPr>
              <a:t>Общие правила перевязки швов</a:t>
            </a:r>
            <a:endParaRPr b="0" lang="en-US" sz="3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14320"/>
            <a:ext cx="701064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зависимо от системы перевязки кладку стен начинают и заканчивают тычковым ря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) Тычковые ряды прокладывают также под опорными частями балок, прогонов, п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) В тычковых рядах используют только целый кирпич (так как эти ряды служат для перевязки продольных швов кла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) При кладке стремятся делать толщину швов минимальной (верт. - 8 мм, горизонт. - 10 мм.), чтобы получить большую прочность с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CBE66E-017E-45CB-88DD-5F473EFE9310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Виды кладок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576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) Сплошна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еармирован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рмирова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) Кладка с облицо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87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) Облегч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9760" y="1127160"/>
            <a:ext cx="449424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ы допуск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5 мм,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…10 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мм горизонтальные ш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мм вертикальные швы, т.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дку стен ведут кратной половине кирпича (250х120х6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счетная толщина стен вместе со ш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½ кирпича  - 120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ирпич      -25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5 кирпича - 38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кирпича    - 51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5 кирпича - 64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0 кирпича - 77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C7643B-4590-4A51-9B4F-30A1E8F95C0E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4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E7AD-D72D-474A-A417-E53D8C260CC4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5B17-4B43-4AAD-AC0C-FEE9B2EA8C76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714840" y="1571760"/>
            <a:ext cx="43290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распространенными системами перевязки швов кирпичной кладк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тен и простенков - двухрядная и многорядна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толбов и узких простенков /до 1м/- четырехря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вухрядной (цепной, однорядной) перевязке швов каждый ложковый ряд чередуется с одним тычковым ря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многорядной /шестирядной, пятирядной/ перевязке каждые пять ложковых рядов чередуются с одним тычковым рядом кирпи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274760" y="1457280"/>
            <a:ext cx="2108160" cy="43704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Сплошная кладка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AB571A-6FA2-434F-9AA1-2F025B8BEABE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3440" y="659880"/>
            <a:ext cx="7499160" cy="6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1f497d"/>
                </a:solidFill>
                <a:latin typeface="Arial"/>
              </a:rPr>
              <a:t>Материалы для каменной кладки</a:t>
            </a:r>
            <a:br>
              <a:rPr sz="3400"/>
            </a:br>
            <a:endParaRPr b="0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0040" y="4786200"/>
            <a:ext cx="528624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ликатный кирпич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няют для стен с относительной влажно­стью не более 75%, марки кирпича - 75, 100 и 150. Кирпич изготовляют посредством автоклавной обработ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28760" y="1357200"/>
            <a:ext cx="5286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нотелый глиняный кирпич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ы 250 х 120 х 65 мм и модульный (утолщенный) - 250 х 120 х 88 мм, масса кирпича 3,6...5 кг. Плотность 1,6—1,8 т/м3, марки кирпича 75, 100, 150, 200, 250 и 300, водопоглощение до 8%. Кирпич изготовляют пластическим прессованием с последующим обжигом. Основной недостаток - высокая теплопровод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714240" y="3071880"/>
            <a:ext cx="50007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стотелый, пористый и дырчатый кирпич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при тех же раз­мерах в плане высоту 65, 88, 103 и 138 мм (в 1,25, 1,5 и 2 раза большую высоту по сравнению с полнотелым кирпичом), меньшую плотность - 1,35... 1,45 т/ м3. Марки кирпича - 75, 100 и 150. Применение этой разновидности кирпичей позволяет уменьшить массу стеновых изделий до 3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7"/>
          <p:cNvPicPr/>
          <p:nvPr/>
        </p:nvPicPr>
        <p:blipFill>
          <a:blip r:embed="rId1"/>
          <a:stretch/>
        </p:blipFill>
        <p:spPr>
          <a:xfrm>
            <a:off x="6143760" y="3143160"/>
            <a:ext cx="1611000" cy="14479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51" name="Picture 7" descr="5"/>
          <p:cNvPicPr/>
          <p:nvPr/>
        </p:nvPicPr>
        <p:blipFill>
          <a:blip r:embed="rId2"/>
          <a:stretch/>
        </p:blipFill>
        <p:spPr>
          <a:xfrm>
            <a:off x="6143760" y="1428840"/>
            <a:ext cx="1600200" cy="1401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52" name="Picture 9" descr="C:\Users\Андрей\Desktop\Новый точечный рисунок.bmp"/>
          <p:cNvPicPr/>
          <p:nvPr/>
        </p:nvPicPr>
        <p:blipFill>
          <a:blip r:embed="rId3"/>
          <a:stretch/>
        </p:blipFill>
        <p:spPr>
          <a:xfrm>
            <a:off x="6143760" y="4929120"/>
            <a:ext cx="1643040" cy="1214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6143760" y="4929120"/>
            <a:ext cx="1643040" cy="1214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6379-0207-41A8-9E2B-7A540DC47F83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800000"/>
                </a:solidFill>
                <a:latin typeface="Arial"/>
              </a:rPr>
              <a:t>Кладка с облицовкой.</a:t>
            </a:r>
            <a:endParaRPr b="0" lang="en-US" sz="37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71680" y="1285920"/>
            <a:ext cx="8358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облицовке каменной кладки лицевым кирпич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рис. 46) вначале выкладывают кирпичную облицовочную версту. Первый ряд облицовки делают из целых кирпичей, уложенных тычком, а три следующих — из цельных кирпичей уложенных ложком либо из половинок кирпича, уложенных тычком. Затем выкладывают внутреннюю часть стены из двух рядов камней по цепной системе перевязк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Облицовка лицевым кирпичом"/>
          <p:cNvPicPr/>
          <p:nvPr/>
        </p:nvPicPr>
        <p:blipFill>
          <a:blip r:embed="rId1"/>
          <a:stretch/>
        </p:blipFill>
        <p:spPr>
          <a:xfrm>
            <a:off x="4929120" y="3071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s://images.ru.prom.st/590386943_w640_h640_keramicheskie-bloki.jpg"/>
          <p:cNvPicPr/>
          <p:nvPr/>
        </p:nvPicPr>
        <p:blipFill>
          <a:blip r:embed="rId2"/>
          <a:stretch/>
        </p:blipFill>
        <p:spPr>
          <a:xfrm>
            <a:off x="1143000" y="3071880"/>
            <a:ext cx="3214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28440" y="856800"/>
            <a:ext cx="7643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честв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свойств, определяющих степень пригодности строительной продукции для использования ее по назначению. Качество готовых работ проверяют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Инструкцией по оценке качества строительно-монтажных рабо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тимые отклонения определяются сборником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СНи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аздел: Правила производства  и приемки рабо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о определяется обычно 3-мя основными показателя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600" spc="-1" strike="noStrike">
                <a:solidFill>
                  <a:srgbClr val="c0504d"/>
                </a:solidFill>
                <a:latin typeface="Arial"/>
              </a:rPr>
              <a:t>технологически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тель характеризует надежность продукции, т.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ее сохранять заданные свойства на протяж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600" spc="-1" strike="noStrike">
                <a:solidFill>
                  <a:srgbClr val="c0504d"/>
                </a:solidFill>
                <a:latin typeface="Arial"/>
              </a:rPr>
              <a:t>художественно- эстетичес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ценивает внешний и внутренний ви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600" spc="-1" strike="noStrike">
                <a:solidFill>
                  <a:srgbClr val="c0504d"/>
                </a:solidFill>
                <a:latin typeface="Arial"/>
              </a:rPr>
              <a:t>социологичес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епень соответствия строительной продукции уровн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и насе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опус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азность между наибольшим и наименьшим допустимыми размер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ад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еличина допустимого зазора между двумя сопрягаемыми конструкц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DF602E-1981-42FA-9BCB-3604C5EB80F2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71360" y="928440"/>
            <a:ext cx="701028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ерамические и силикатные пустотелые кам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размеры: •обычные - 250 х 120 х 138 мм, укрупненные - 250 х 250 х 138 мм и модульные - 288 х 138 х 138 мм. Толщина камня соответствует двум кирпичам, уложенным на постель, с учетом толщины шва между ними. Поверхность камней бывает гладкой и рифле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мни бетонные и гипсовые стенов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пускают сплошными и пустотелыми. Их изготовляют из тяжелых, облегченных и легких бе­тонов и гипсобетона с размерами 400 х 200 х 200 мм, 400 х 200 х 90 мм и массой до 35 к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отелые и силикатные кирпичи нельзя применять для кладки стен ниже гидроизоляционного слоя, для кладки цоколей, стен мокрых помещ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8EB2-D88F-4CD4-B89E-10118ACF8340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2826"/>
          <p:cNvPicPr/>
          <p:nvPr/>
        </p:nvPicPr>
        <p:blipFill>
          <a:blip r:embed="rId1"/>
          <a:stretch/>
        </p:blipFill>
        <p:spPr>
          <a:xfrm>
            <a:off x="4857840" y="3286080"/>
            <a:ext cx="292896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357635"/>
          <p:cNvPicPr/>
          <p:nvPr/>
        </p:nvPicPr>
        <p:blipFill>
          <a:blip r:embed="rId2"/>
          <a:stretch/>
        </p:blipFill>
        <p:spPr>
          <a:xfrm>
            <a:off x="1089000" y="451476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kamen"/>
          <p:cNvPicPr/>
          <p:nvPr/>
        </p:nvPicPr>
        <p:blipFill>
          <a:blip r:embed="rId3"/>
          <a:stretch/>
        </p:blipFill>
        <p:spPr>
          <a:xfrm>
            <a:off x="2428920" y="3071880"/>
            <a:ext cx="22860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499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1f497d"/>
                </a:solidFill>
                <a:latin typeface="Century Schoolbook (Заголовки)"/>
              </a:rPr>
              <a:t>Растворы для каменной кладки</a:t>
            </a:r>
            <a:endParaRPr b="0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880" y="1213920"/>
            <a:ext cx="736272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ментные раствор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ют для конструкций ниже поверхности земли, в сильно загруженных столбах, простенках, в армированной кладке. Состав от 1: 2,5 до 1: 6, марки раствора от 100 до 30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сход цемента на 1 м3 песка - для подземной ча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аний не менее 75 кг, для надземной части - 125 кг. Портландцемен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шлакопортландцемент применяют только в растворах высоких марок для ответственных конструкций, в армированной кладке, 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подземных конструкций, в грунтах, насыщенных водой, или при зимних кладках, выполняемых методом заморажи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вестковые раствор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ют в сухих местах и при небольшой нагрузке. Они обладают большой подвижностью, пластичностью, обеспечивают наибольшую производительность труда. Применяют составы от 1: 4 до 1: 8 и марки 4, 10 и 2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мешанны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ложные раствор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цементно-известковые и цементно-глиняные состава от 1: 0,1: 3 до 1: 2: 15, марки растворов 10, 25, 50, 75 и 100. Такие растворы применяют для кладки большинства строительных конструкций. Второе вяжущее отодвигает начало схватывания, улучшает удобоукладываемость и пластичность, но значительно снижает прочность раствора. В объемной дозировке смешанных растворов первая цифра обозначает расход цемента, вторая - известкового или глиняного теста, третья — пе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F211-5DCD-4EA2-95E0-8144EAC49C89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Arial"/>
              </a:rPr>
              <a:t>Производственный инструмент и приспособления</a:t>
            </a:r>
            <a:endParaRPr b="0" lang="en-US" sz="25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3" name="Picture 4" descr="picture"/>
          <p:cNvPicPr/>
          <p:nvPr/>
        </p:nvPicPr>
        <p:blipFill>
          <a:blip r:embed="rId1"/>
          <a:stretch/>
        </p:blipFill>
        <p:spPr>
          <a:xfrm>
            <a:off x="642960" y="1285920"/>
            <a:ext cx="4214880" cy="443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4920" y="1316160"/>
            <a:ext cx="471816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кель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 молоток-кироч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растворная лопа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г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расшивка вогнутая и выпукл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ричальные скоб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ричальный шнур в корпус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ромежуточный мая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уголковый шабло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шаблон из двух лине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отвес;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л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равил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м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орядовка для внутренних уг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н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—порядовка для наружных уг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—причальный шну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 —фиксато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 —раздвижные линей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 — прижимный вин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 — крюки-держат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б—скоба с винтовым зажим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191850-A0D5-47F7-80EC-3DD6A1B36EF4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Контрольно-измерительный инструмент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7" name="Picture 7" descr="picture"/>
          <p:cNvPicPr/>
          <p:nvPr/>
        </p:nvPicPr>
        <p:blipFill>
          <a:blip r:embed="rId1"/>
          <a:stretch/>
        </p:blipFill>
        <p:spPr>
          <a:xfrm>
            <a:off x="2286000" y="1500120"/>
            <a:ext cx="4786200" cy="3105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71400" y="4785840"/>
            <a:ext cx="6357960" cy="14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40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складной метр; б—рулетка длиной 2 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рулетка длиной 20 м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г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уровень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д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шаблон для сортировки кирпича и камней;1—корпус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ампулы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— кры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D86090-DF59-46B7-A353-267C5383F6B1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50"/>
                </a:solidFill>
                <a:latin typeface="Arial"/>
              </a:rPr>
              <a:t>Инвентарь</a:t>
            </a:r>
            <a:endParaRPr b="0" lang="en-US" sz="33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71" name="Picture 7" descr="picture"/>
          <p:cNvPicPr/>
          <p:nvPr/>
        </p:nvPicPr>
        <p:blipFill>
          <a:blip r:embed="rId1"/>
          <a:stretch/>
        </p:blipFill>
        <p:spPr>
          <a:xfrm>
            <a:off x="1330200" y="1214280"/>
            <a:ext cx="3876840" cy="464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38880" y="1197000"/>
            <a:ext cx="37051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становка для приема и выдачи раств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 - бункер с челюстным затво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– растворный ящ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 – подхват-футля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 –самозатягивающийся захв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ж – переносной светильник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 – 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86405F-0F88-4820-B0FF-0CC9FB8F539E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b050"/>
                </a:solidFill>
                <a:latin typeface="Arial"/>
              </a:rPr>
              <a:t>Подмости</a:t>
            </a:r>
            <a:r>
              <a:rPr b="0" lang="ru-RU" sz="41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75" name="Picture 8" descr="picture"/>
          <p:cNvPicPr/>
          <p:nvPr/>
        </p:nvPicPr>
        <p:blipFill>
          <a:blip r:embed="rId1"/>
          <a:stretch/>
        </p:blipFill>
        <p:spPr>
          <a:xfrm>
            <a:off x="4286160" y="1143000"/>
            <a:ext cx="3776760" cy="3643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5000760"/>
            <a:ext cx="80010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а —шарнирно-панельные в верхнем (/) и нижнем (II) положениях; б—универсальные панельные самоустанавливающиеся;  в—панельные; г—площадки-подмости;  д—рычажные с гидроприводом; 1 —настил; 2 —откидная опора (для кладки 2-го яруса); 3 —то же, для кладки 3-го яруса;4 —стропы для перевода опор из горизонтального в вертикальное положение; 5 — диагональная связь для закрепления опор; 6 — наружные рычаги; 7 — шарнир; 8 — гидроприво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CF1D39-21A9-46D3-88EE-BEEFBDA9B8A4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Users\Андрей\Desktop\Новый точечный рисунок.bmp"/>
          <p:cNvPicPr/>
          <p:nvPr/>
        </p:nvPicPr>
        <p:blipFill>
          <a:blip r:embed="rId2"/>
          <a:stretch/>
        </p:blipFill>
        <p:spPr>
          <a:xfrm>
            <a:off x="928800" y="1143000"/>
            <a:ext cx="3071880" cy="3643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928800" y="1143000"/>
            <a:ext cx="3071880" cy="3643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4286160" y="1143000"/>
            <a:ext cx="3786120" cy="3643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Виды каменных кладок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Кирпичная кладка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ет быть из обыкновенного и силикатного кирпича. Применяется: для стен подвалов, цоколей подпорных стен, для стен 1-2-х этажных зда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Мелкоблочная кладка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выполняется из естественных или искусственных камней правильной формы с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≤16 кг (керамических, бетонных, шлакобетонных, гипсовых, силикатных камней, из известняка, туфа и др.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Бутовая кладка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это кладка из природных каменей неправильной формы. Применяется: для стен подвалов, цоколей подпорных стен, для стен 1-2-х этажных зда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Бутобетонная кладка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выполняется из камня неправильной формы и бетона. Применяется: для фундаментов и стен подвалов. Ведется обычно в траншеях или в опалубк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Крупноблочная кладка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это кладка из блоков (бетонных, керамзитобетонных, шлакобетонных, кирпичных). Применяют для устройства фундаментов, стен подвалов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5"/>
          <p:cNvSpPr/>
          <p:nvPr/>
        </p:nvSpPr>
        <p:spPr>
          <a:xfrm>
            <a:off x="6583320" y="6378480"/>
            <a:ext cx="2103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A57D4-3A24-40F4-9540-755A5477A98F}" type="slidenum">
              <a:rPr b="0" lang="ru-RU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09:12:11Z</dcterms:created>
  <dc:creator>qwerty</dc:creator>
  <dc:description/>
  <dc:language>en-US</dc:language>
  <cp:lastModifiedBy>Андрей</cp:lastModifiedBy>
  <dcterms:modified xsi:type="dcterms:W3CDTF">2020-11-30T05:11:23Z</dcterms:modified>
  <cp:revision>112</cp:revision>
  <dc:subject/>
  <dc:title>Тема 22 Технология процессов каменной кладки</dc:title>
</cp:coreProperties>
</file>