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F5D-0078-43F6-B827-B64329AF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891-3785-4721-9DF4-4BE6CCC8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03A-1B58-4667-8178-B393038F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89D-8F6E-4E52-BCFB-0C069AA3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820-4FD9-439A-98CC-831F81DD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AE5-B77A-4077-890A-07E20DBD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D3C-6E71-4CDE-9B04-066D5D4E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145-96CF-4A60-8216-9600556E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781-49EE-476C-BD67-A55037A3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33C7-7C60-4CD0-B554-9F9DF772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F13-C862-4AF7-A959-3B3860D8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47E-BFF4-44F4-885E-ECFB3A22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2E79-B85E-4D86-A35F-7B74847DB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hyperlink" Target="http://karamelka29.kuz-edu.ru/" TargetMode="External"/><Relationship Id="rId4" Type="http://schemas.openxmlformats.org/officeDocument/2006/relationships/hyperlink" Target="http://nsportal.ru/tartykova-oksana-viktorovna" TargetMode="External"/><Relationship Id="rId5" Type="http://schemas.openxmlformats.org/officeDocument/2006/relationships/hyperlink" Target="http://nsportal.ru/tartykova-oksana-viktorovna" TargetMode="External"/><Relationship Id="rId6" Type="http://schemas.openxmlformats.org/officeDocument/2006/relationships/hyperlink" Target="http://nsportal.ru/tartykova-oksana-viktorovna" TargetMode="External"/><Relationship Id="rId7" Type="http://schemas.openxmlformats.org/officeDocument/2006/relationships/hyperlink" Target="http://nsportal.ru/tartykova-oksana-viktorovna" TargetMode="External"/><Relationship Id="rId8" Type="http://schemas.openxmlformats.org/officeDocument/2006/relationships/hyperlink" Target="http://nsportal.ru/tartykova-oksana-viktorovna" TargetMode="External"/><Relationship Id="rId9" Type="http://schemas.openxmlformats.org/officeDocument/2006/relationships/hyperlink" Target="http://nsportal.ru/tartykova-oksana-viktorovna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Admin\Downloads\zimnii-fon-dlya-prezentacii-12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4859280" y="0"/>
            <a:ext cx="42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комбинированного вида № 29 «Карамел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755640" y="2852640"/>
            <a:ext cx="7632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ий совет №2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звитие речи детей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словиях ДОУ 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ответствии с ФГОС 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1"/>
          <p:cNvSpPr/>
          <p:nvPr/>
        </p:nvSpPr>
        <p:spPr>
          <a:xfrm>
            <a:off x="3655080" y="587700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Юргинский ГО, 2019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42920" y="498960"/>
            <a:ext cx="9253440" cy="56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достаточно хорошо владеет устной речью, может выражать свои мысли и желания, может использовать речь для выражения своих мыслей, чувств и желаний, построения речевого высказывания в ситуации общения, может выделять звуки в словах, у ребенка складываются предпосылки грамо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 с произведениями детск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ёнок проявляет инициативность и самостоятельность в  общ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н охотно общается со взрослыми и сверстни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суждает    возникающие проблемы, может поддержать разговор на интересную для него 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179280" y="1413000"/>
            <a:ext cx="9217080" cy="21049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ловая игр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Умники и умницы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260280"/>
            <a:ext cx="939636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2771640" y="0"/>
            <a:ext cx="3961080" cy="398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минка «Быстры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дзаголовок 2"/>
          <p:cNvSpPr/>
          <p:nvPr/>
        </p:nvSpPr>
        <p:spPr>
          <a:xfrm>
            <a:off x="395280" y="620640"/>
            <a:ext cx="9001080" cy="5904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зовите формы речи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алогическая и мон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умения развиваются в диалоге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лушать собеседника, задать вопрос, ответить в зависимости от кон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 прием обучения правильному произнош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сказ, описание игрушек и сюжетных картин, рассказывание из опыта, творческое расска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возрастной группы начинается работа по обучению детей монологической речи?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ня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возрастной группы начинается работа по обучению детей диалогической реч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ладш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рганизовать работу по развитию речи во 2-й половине д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горитмика, мнемотаблицы, дидактические игры, театрализованная деятельность, чтение худ.литературы и т.д. младш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2771640" y="0"/>
            <a:ext cx="5545440" cy="6426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ясни   выра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395280" y="620640"/>
            <a:ext cx="9001080" cy="5904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ло в шляпе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 в поряд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лясать под чужую дудк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йствовать не по собственной во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к на иголках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ояние крайнего волнения, беспок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есать язык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тать попус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орочить голову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лекать от основного дела пустыми разгово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4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619280" y="0"/>
            <a:ext cx="7524720" cy="9288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 назвать полностью пословицу (по 2 данным словам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одзаголовок 2"/>
          <p:cNvSpPr/>
          <p:nvPr/>
        </p:nvSpPr>
        <p:spPr>
          <a:xfrm>
            <a:off x="468360" y="954000"/>
            <a:ext cx="9001080" cy="5570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емья - душа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семья вместе, так и душа на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ом - ст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воём доме и стены помог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ером - ученьем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а птица пером, а человек учень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ормит - порти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уд кормит, а лень порт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ремя - час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лу время, потехе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1619280" y="189000"/>
            <a:ext cx="7772400" cy="765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мените предложения пословиц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одзаголовок 2"/>
          <p:cNvSpPr/>
          <p:nvPr/>
        </p:nvSpPr>
        <p:spPr>
          <a:xfrm>
            <a:off x="468360" y="954000"/>
            <a:ext cx="9001080" cy="5570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епло - добро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солнышке тепло, а при матери - до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сь всю жиз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к живи и век уч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беречь время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лу время, потехе -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ереги своё здоровь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реги платье снову, а здоровье - смол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 бол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ржи язык за зу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84" name="Подзаголовок 2"/>
          <p:cNvSpPr/>
          <p:nvPr/>
        </p:nvSpPr>
        <p:spPr>
          <a:xfrm>
            <a:off x="324000" y="692280"/>
            <a:ext cx="9001080" cy="55720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10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 торопись, делай всё аккуратно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пешишь, людей насмешишь. Делаю наспех, делаю насме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води начатое дело до кон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верь началу, верь концу. Сделал дело – гуляй сме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е, который вот-вот хорошо освоит свое дело</a:t>
            </a:r>
            <a:r>
              <a:rPr b="1" lang="ru-RU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пяти минут маст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 получить желаемый результат, нужно обязательно стараться и прилагать усилия</a:t>
            </a:r>
            <a:r>
              <a:rPr b="1" lang="ru-RU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труда не вытащишь и рыбку из пр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мысленно стоять, если есть возможность присе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ногах правды н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826920" y="4456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250920" y="642960"/>
            <a:ext cx="889308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испытываете затруднения в работе по развитию речи, то планируйте этот вид деятельности не иногда, не часто, а очень часто. Через 5 лет станет легч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отвечайте сами на свой же вопрос. Терпите, и вы дождетесь того, что на него станут отвечать ваши дети. Помогать можно только ещё одним вопросом, или двумя, или десятью… Но знайте: количество вопросов обратно пропорционально уровню мастер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задавайте вопрос, на который можно ответить «да», или «нет». Это не имеет смыс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ведения занятия просмотрите конспект еще раз, вспомните все вопросы, которые вы задавали детям, и замените его одним более точны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ссказ не получился или получился с трудом – улыбнитесь, ведь это здорово, потому что успех впере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Заголовок 1"/>
          <p:cNvSpPr/>
          <p:nvPr/>
        </p:nvSpPr>
        <p:spPr>
          <a:xfrm>
            <a:off x="1119240" y="260280"/>
            <a:ext cx="8024760" cy="693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для смелых и упорных педаг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50920" y="1103040"/>
            <a:ext cx="90741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нсценировка каких-либо рифмованных историй, сказок при помощи пальцев. Игровые тренажеры и упражнения подбираются и используются на занятиях в соответствии с лексической темой.  Многие игры требуют участия обеих рук, что дает возможность детям ориентироваться в понятиях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право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лево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верх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низ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д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тарше 5 лет могут оформить игры разнообразным реквизитом - кубиками, мелкими предметами и т.п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е упражнения в воде должны быть построены таким образом, чтобы сочетались сжатие, растяжение, расслабление кисти руки, а также использовались изолированные движения каждого из паль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2484360" y="189000"/>
            <a:ext cx="4969080" cy="693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ва - гимн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50920" y="2736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 «Медуз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ходное положение (И.П.) – кисти рук под водой, пальцы собраны вместе. Раскрываем кисть и опять закрываем в И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 «Морская 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.П. – кисти лежат на дне тазика, пальцы разведены в стороны. В хаотичном порядке поднимаем пальцы вверх, не отрывая ладонь от поверхности ван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179280" y="907920"/>
            <a:ext cx="921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тизация знаний педагогов об особенностях современных форм и методов работы по развитию речи дошкольников в ДО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987640" y="115920"/>
            <a:ext cx="2808360" cy="703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29880"/>
            <a:ext cx="93963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 «Парох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.П. – обе ладони соединены ковшиком, все пальцы кроме больших направлены в сторону от себя, а большие пальцы подняты вверх и соединены – это тр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оход плывет впере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м подарки он не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 «Дожд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.П. – пальцы разведены в стороны. Выполняем легкое постукивание пальцами по поверхности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ждь полил, как из вед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дет лить он до у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 «Вол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.П. – ладони поставлены на поверхности воды на ребро, пальцами друг к другу. Пальцы выпрямлены. Выполняем напряженные движения ладонями от себя и к себе так, чтобы образовались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ны по морю гу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кораблик подгон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684360" y="350028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ие к сотрудничест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11280" y="1052640"/>
            <a:ext cx="756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4" descr=""/>
          <p:cNvPicPr/>
          <p:nvPr/>
        </p:nvPicPr>
        <p:blipFill>
          <a:blip r:embed="rId2"/>
          <a:stretch/>
        </p:blipFill>
        <p:spPr>
          <a:xfrm>
            <a:off x="291960" y="12600"/>
            <a:ext cx="8944200" cy="18226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395280" y="50133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йт МБДОУ ДСКВ №29 «Карамелька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aramelka29.kuz-edu.ru/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йт старшего воспитателя Тартыковой О.В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nsportal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r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/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rtykova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ksana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ktoro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Users\Марат\Desktop\02292266.jpg"/>
          <p:cNvPicPr/>
          <p:nvPr/>
        </p:nvPicPr>
        <p:blipFill>
          <a:blip r:embed="rId10"/>
          <a:stretch/>
        </p:blipFill>
        <p:spPr>
          <a:xfrm>
            <a:off x="2556000" y="1160640"/>
            <a:ext cx="412272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987640" y="115920"/>
            <a:ext cx="2808360" cy="703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250920" y="1052640"/>
            <a:ext cx="91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изировать знания педагогов о методах, приёмах и средствах развития речи до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сить у педагогов компетентность в области речев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енствовать умение дискутировать, выступ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изировать навыки по генерированию идей дидактических игр для речевого развития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личностные профессиональные качества педаг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енствовать навыки    логическ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2303640" y="115920"/>
            <a:ext cx="450036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естка засед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179280" y="1125360"/>
            <a:ext cx="921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налитическая справка по  итогам тематического контроля.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ктуальность проблем и создание условий  для успешного речевого развития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3. Речевое развитие в соответствии с ФГОС ДО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Деловая игра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Современные образовательные технологи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Решение педсовет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332000" y="-171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ечевое развитие» 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оответствии с ФГОС 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дети с книги"/>
          <p:cNvPicPr/>
          <p:nvPr/>
        </p:nvPicPr>
        <p:blipFill>
          <a:blip r:embed="rId2"/>
          <a:stretch/>
        </p:blipFill>
        <p:spPr>
          <a:xfrm>
            <a:off x="2124000" y="1916280"/>
            <a:ext cx="5442120" cy="44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03640" y="11592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2"/>
          <a:srcRect l="3748" t="5045" r="3752" b="10000"/>
          <a:stretch/>
        </p:blipFill>
        <p:spPr>
          <a:xfrm>
            <a:off x="576360" y="404640"/>
            <a:ext cx="8567640" cy="606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"/>
          <p:cNvPicPr/>
          <p:nvPr/>
        </p:nvPicPr>
        <p:blipFill>
          <a:blip r:embed="rId2"/>
          <a:srcRect l="4366" t="6257" r="4366" b="10000"/>
          <a:stretch/>
        </p:blipFill>
        <p:spPr>
          <a:xfrm>
            <a:off x="358920" y="0"/>
            <a:ext cx="898344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2"/>
          <a:srcRect l="3752" t="2194" r="3752" b="10000"/>
          <a:stretch/>
        </p:blipFill>
        <p:spPr>
          <a:xfrm>
            <a:off x="173160" y="0"/>
            <a:ext cx="9223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Картинки по запросу фон для презентации зима"/>
          <p:cNvPicPr/>
          <p:nvPr/>
        </p:nvPicPr>
        <p:blipFill>
          <a:blip r:embed="rId1"/>
          <a:stretch/>
        </p:blipFill>
        <p:spPr>
          <a:xfrm>
            <a:off x="0" y="-29520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0" y="786240"/>
            <a:ext cx="9540720" cy="466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качествами должен обладать ребёнок на этапе завершения дошкольного образования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3:39:49Z</dcterms:created>
  <dc:creator>Admin</dc:creator>
  <dc:description/>
  <dc:language>en-US</dc:language>
  <cp:lastModifiedBy>Admin</cp:lastModifiedBy>
  <dcterms:modified xsi:type="dcterms:W3CDTF">2020-01-10T03:07:03Z</dcterms:modified>
  <cp:revision>573</cp:revision>
  <dc:subject/>
  <dc:title> Методы обеспечения ранней социализации детей дошкольного возраста          посредством интеграции  в изобразительной  деятельности.</dc:title>
</cp:coreProperties>
</file>