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A09-149A-4B79-A80E-761FA389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9EA-9EA8-425B-8ADC-CE3FCF9C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0FE-8648-420C-9245-3510AED7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4CC1-E479-478E-A2D3-0F366770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1F2-D186-47EF-B920-2F04C78B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C7C-4F67-4162-9823-A5FEDD5D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09C-0E44-44D1-9624-D08E817C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3D2-C4D9-464E-A1E8-A3ED0F05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26B-5D48-4317-9EBD-B0D7C1A0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6C1-8C33-472F-A2AF-9FB074DE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52A-37E5-4900-9583-21A168C9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550-2CA8-4E9B-892B-4DB499B4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7FC5-FD89-40FC-A923-59910C8116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hyperlink" Target="http://karamelka29.kuz-edu.ru/" TargetMode="External"/><Relationship Id="rId4" Type="http://schemas.openxmlformats.org/officeDocument/2006/relationships/hyperlink" Target="http://nsportal.ru/tartykova-oksana-viktorovna" TargetMode="External"/><Relationship Id="rId5" Type="http://schemas.openxmlformats.org/officeDocument/2006/relationships/hyperlink" Target="http://nsportal.ru/tartykova-oksana-viktorovna" TargetMode="External"/><Relationship Id="rId6" Type="http://schemas.openxmlformats.org/officeDocument/2006/relationships/hyperlink" Target="http://nsportal.ru/tartykova-oksana-viktorovna" TargetMode="External"/><Relationship Id="rId7" Type="http://schemas.openxmlformats.org/officeDocument/2006/relationships/hyperlink" Target="http://nsportal.ru/tartykova-oksana-viktorovna" TargetMode="External"/><Relationship Id="rId8" Type="http://schemas.openxmlformats.org/officeDocument/2006/relationships/hyperlink" Target="http://nsportal.ru/tartykova-oksana-viktorovna" TargetMode="External"/><Relationship Id="rId9" Type="http://schemas.openxmlformats.org/officeDocument/2006/relationships/hyperlink" Target="http://nsportal.ru/tartykova-oksana-viktorovna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Users\Admin\Downloads\zimnii-fon-dlya-prezentacii-12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4859280" y="0"/>
            <a:ext cx="42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комбинированного вида № 29 «Карамел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755640" y="2852640"/>
            <a:ext cx="7632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ий совет №2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звитие речи детей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условиях ДОУ 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оответствии с ФГОС 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1"/>
          <p:cNvSpPr/>
          <p:nvPr/>
        </p:nvSpPr>
        <p:spPr>
          <a:xfrm>
            <a:off x="3655080" y="587700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Юргинский ГО, 2019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42920" y="498960"/>
            <a:ext cx="9253440" cy="56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достаточно хорошо владеет устной речью, может выражать свои мысли и желания, может использовать речь для выражения своих мыслей, чувств и желаний, построения речевого высказывания в ситуации общения, может выделять звуки в словах, у ребенка складываются предпосылки грамо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 с произведениями детск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ёнок проявляет инициативность и самостоятельность в  общ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н охотно общается со взрослыми и сверстни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суждает    возникающие проблемы, может поддержать разговор на интересную для него 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179280" y="1413000"/>
            <a:ext cx="9217080" cy="21049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ловая игр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Умники и умницы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0" y="260280"/>
            <a:ext cx="939636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2771640" y="0"/>
            <a:ext cx="3961080" cy="398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минка «Быстр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дзаголовок 2"/>
          <p:cNvSpPr/>
          <p:nvPr/>
        </p:nvSpPr>
        <p:spPr>
          <a:xfrm>
            <a:off x="395280" y="620640"/>
            <a:ext cx="9001080" cy="5904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азовите формы речи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алогическая и монол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умения развиваются в диалоге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лушать собеседника, задать вопрос, ответить в зависимости от кон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 прием обучения правильному произнош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сказ, описание игрушек и сюжетных картин, рассказывание из опыта, творческое расска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й возрастной группы начинается работа по обучению детей монологической речи?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ня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й возрастной группы начинается работа по обучению детей диалогической реч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ладш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рганизовать работу по развитию речи во 2-й половине д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горитмика, мнемотаблицы, дидактические игры, театрализованная деятельность, чтение худ.литературы и т.д. младш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2771640" y="0"/>
            <a:ext cx="5545440" cy="6426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ясни   выра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395280" y="620640"/>
            <a:ext cx="9001080" cy="5904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ло в шляпе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 в поряд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лясать под чужую дудк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йствовать не по собственной во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к на иголках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ояние крайнего волнения, беспок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есать язык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лтать попус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орочить голову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лекать от основного дела пустыми разгово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4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619280" y="0"/>
            <a:ext cx="7524720" cy="9288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: назвать полностью пословицу (по 2 данным словам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одзаголовок 2"/>
          <p:cNvSpPr/>
          <p:nvPr/>
        </p:nvSpPr>
        <p:spPr>
          <a:xfrm>
            <a:off x="468360" y="954000"/>
            <a:ext cx="9001080" cy="5570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емья - душа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я семья вместе, так и душа на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ом - ст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своём доме и стены помог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ером - ученьем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а птица пером, а человек учень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ормит - порти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уд кормит, а лень порт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ремя - час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лу время, потехе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1619280" y="189000"/>
            <a:ext cx="7772400" cy="765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мените предложения пословиц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одзаголовок 2"/>
          <p:cNvSpPr/>
          <p:nvPr/>
        </p:nvSpPr>
        <p:spPr>
          <a:xfrm>
            <a:off x="468360" y="954000"/>
            <a:ext cx="9001080" cy="5570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епло - добро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солнышке тепло, а при матери - доб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сь всю жиз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к живи и век уч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беречь время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лу время, потехе -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ереги своё здоровь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реги платье снову, а здоровье - смол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 бол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ржи язык за зу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84" name="Подзаголовок 2"/>
          <p:cNvSpPr/>
          <p:nvPr/>
        </p:nvSpPr>
        <p:spPr>
          <a:xfrm>
            <a:off x="324000" y="692280"/>
            <a:ext cx="9001080" cy="557208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10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 торопись, делай всё аккуратно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пешишь, людей насмешишь. Делаю наспех, делаю насме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води начатое дело до кон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верь началу, верь концу. Сделал дело – гуляй сме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е, который вот-вот хорошо освоит свое дело</a:t>
            </a:r>
            <a:r>
              <a:rPr b="1" lang="ru-RU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пяти минут маст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 получить желаемый результат, нужно обязательно стараться и прилагать усилия</a:t>
            </a:r>
            <a:r>
              <a:rPr b="1" lang="ru-RU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труда не вытащишь и рыбку из пр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мысленно стоять, если есть возможность присе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ногах правды н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826920" y="4456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250920" y="642960"/>
            <a:ext cx="889308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испытываете затруднения в работе по развитию речи, то планируйте этот вид деятельности не иногда, не часто, а очень часто. Через 5 лет станет легч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отвечайте сами на свой же вопрос. Терпите, и вы дождетесь того, что на него станут отвечать ваши дети. Помогать можно только ещё одним вопросом, или двумя, или десятью… Но знайте: количество вопросов обратно пропорционально уровню мастер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задавайте вопрос, на который можно ответить «да», или «нет». Это не имеет смыс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оведения занятия просмотрите конспект еще раз, вспомните все вопросы, которые вы задавали детям, и замените его одним более точны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ассказ не получился или получился с трудом – улыбнитесь, ведь это здорово, потому что успех вперед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Заголовок 1"/>
          <p:cNvSpPr/>
          <p:nvPr/>
        </p:nvSpPr>
        <p:spPr>
          <a:xfrm>
            <a:off x="1119240" y="260280"/>
            <a:ext cx="8024760" cy="6937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для смелых и упорных педаг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250920" y="1103040"/>
            <a:ext cx="90741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нсценировка каких-либо рифмованных историй, сказок при помощи пальцев. Игровые тренажеры и упражнения подбираются и используются на занятиях в соответствии с лексической темой.  Многие игры требуют участия обеих рук, что дает возможность детям ориентироваться в понятиях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право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лево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верх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низ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д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тарше 5 лет могут оформить игры разнообразным реквизитом - кубиками, мелкими предметами и т.п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ые упражнения в воде должны быть построены таким образом, чтобы сочетались сжатие, растяжение, расслабление кисти руки, а также использовались изолированные движения каждого из паль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2484360" y="189000"/>
            <a:ext cx="4969080" cy="6937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ва - гимн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50920" y="2736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а «Медуз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ходное положение (И.П.) – кисти рук под водой, пальцы собраны вместе. Раскрываем кисть и опять закрываем в И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а «Морская звез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.П. – кисти лежат на дне тазика, пальцы разведены в стороны. В хаотичном порядке поднимаем пальцы вверх, не отрывая ладонь от поверхности ван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179280" y="907920"/>
            <a:ext cx="921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тизация знаний педагогов об особенностях современных форм и методов работы по развитию речи дошкольников в ДО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987640" y="115920"/>
            <a:ext cx="2808360" cy="703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29880"/>
            <a:ext cx="939636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а «Парох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.П. – обе ладони соединены ковшиком, все пальцы кроме больших направлены в сторону от себя, а большие пальцы подняты вверх и соединены – это тр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оход плывет впере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м подарки он не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а «Дожд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.П. – пальцы разведены в стороны. Выполняем легкое постукивание пальцами по поверхности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ждь полил, как из вед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дет лить он до у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а «Вол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.П. – ладони поставлены на поверхности воды на ребро, пальцами друг к другу. Пальцы выпрямлены. Выполняем напряженные движения ладонями от себя и к себе так, чтобы образовались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ны по морю гу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кораблик подгон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684360" y="350028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ие к сотрудничест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611280" y="1052640"/>
            <a:ext cx="7561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4" descr=""/>
          <p:cNvPicPr/>
          <p:nvPr/>
        </p:nvPicPr>
        <p:blipFill>
          <a:blip r:embed="rId2"/>
          <a:stretch/>
        </p:blipFill>
        <p:spPr>
          <a:xfrm>
            <a:off x="291960" y="12600"/>
            <a:ext cx="8944200" cy="18226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395280" y="501336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йт МБДОУ ДСКВ №29 «Карамелька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karamelka29.kuz-edu.ru/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йт старшего воспитателя Тартыковой О.В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nsportal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r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/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rtykova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ksana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ktoro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Users\Марат\Desktop\02292266.jpg"/>
          <p:cNvPicPr/>
          <p:nvPr/>
        </p:nvPicPr>
        <p:blipFill>
          <a:blip r:embed="rId10"/>
          <a:stretch/>
        </p:blipFill>
        <p:spPr>
          <a:xfrm>
            <a:off x="2556000" y="1160640"/>
            <a:ext cx="412272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987640" y="115920"/>
            <a:ext cx="2808360" cy="703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250920" y="1052640"/>
            <a:ext cx="91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изировать знания педагогов о методах, приёмах и средствах развития речи до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сить у педагогов компетентность в области речев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енствовать умение дискутировать, выступ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изировать навыки по генерированию идей дидактических игр для речевого развития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личностные профессиональные качества педаг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енствовать навыки    логического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2303640" y="115920"/>
            <a:ext cx="4500360" cy="581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естка засед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179280" y="1125360"/>
            <a:ext cx="921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Аналитическая справка по  итогам тематического контроля.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ктуальность проблем и создание условий  для успешного речевого развития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3. Речевое развитие в соответствии с ФГОС ДО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Деловая игра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Современные образовательные технологии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Решение педсовет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1332000" y="-171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тельная область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ечевое развитие» 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соответствии с ФГОС 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дети с книги"/>
          <p:cNvPicPr/>
          <p:nvPr/>
        </p:nvPicPr>
        <p:blipFill>
          <a:blip r:embed="rId2"/>
          <a:stretch/>
        </p:blipFill>
        <p:spPr>
          <a:xfrm>
            <a:off x="2124000" y="1916280"/>
            <a:ext cx="5442120" cy="44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03640" y="11592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2"/>
          <a:srcRect l="3748" t="5045" r="3752" b="10000"/>
          <a:stretch/>
        </p:blipFill>
        <p:spPr>
          <a:xfrm>
            <a:off x="576360" y="404640"/>
            <a:ext cx="8567640" cy="606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"/>
          <p:cNvPicPr/>
          <p:nvPr/>
        </p:nvPicPr>
        <p:blipFill>
          <a:blip r:embed="rId2"/>
          <a:srcRect l="4366" t="6257" r="4366" b="10000"/>
          <a:stretch/>
        </p:blipFill>
        <p:spPr>
          <a:xfrm>
            <a:off x="358920" y="0"/>
            <a:ext cx="898344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"/>
          <p:cNvPicPr/>
          <p:nvPr/>
        </p:nvPicPr>
        <p:blipFill>
          <a:blip r:embed="rId2"/>
          <a:srcRect l="3752" t="2194" r="3752" b="10000"/>
          <a:stretch/>
        </p:blipFill>
        <p:spPr>
          <a:xfrm>
            <a:off x="173160" y="0"/>
            <a:ext cx="9223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0" y="786240"/>
            <a:ext cx="9540720" cy="466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качествами должен обладать ребёнок на этапе завершения дошкольного образования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3:39:49Z</dcterms:created>
  <dc:creator>Admin</dc:creator>
  <dc:description/>
  <dc:language>en-US</dc:language>
  <cp:lastModifiedBy>Admin</cp:lastModifiedBy>
  <dcterms:modified xsi:type="dcterms:W3CDTF">2020-01-10T03:07:03Z</dcterms:modified>
  <cp:revision>573</cp:revision>
  <dc:subject/>
  <dc:title> Методы обеспечения ранней социализации детей дошкольного возраста          посредством интеграции  в изобразительной  деятельности.</dc:title>
</cp:coreProperties>
</file>