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B785-23B0-4798-9527-7998BD8A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3EAF-9782-41E5-A87D-761DB1F7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83FE-FAEB-4E40-B457-0865C074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3FF1-C019-466F-8D9F-9E921341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3A55-A8B8-487C-8785-38E713F2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F996-CB75-4389-AECA-333AC49E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72CC-BA7C-4556-A316-A8EA2B3A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C0C0-2B48-42F7-BCBC-1733D2D1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FA4C-BBE8-48F1-A2F3-CE47B8D7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DB2-EEC8-4E65-9BDC-B78D2E5B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9826-6826-4E26-AA8F-9AAF5384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0F09-B5FB-4705-BAF6-CC699B29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0b5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b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b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b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b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b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60b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60b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dcb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dcb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b5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dcb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17A7-7824-4749-9568-B30607BC6DFF}" type="slidenum">
              <a:rPr b="0" lang="en-US" sz="1200" spc="-1" strike="noStrike">
                <a:solidFill>
                  <a:srgbClr val="9dcb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3.png"/><Relationship Id="rId9" Type="http://schemas.openxmlformats.org/officeDocument/2006/relationships/image" Target="../media/image7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14.png"/><Relationship Id="rId10" Type="http://schemas.openxmlformats.org/officeDocument/2006/relationships/image" Target="../media/image7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42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44" name="Picture 2" descr="C:\Documents and Settings\Иятта\Рабочий стол\ЭТО СРОЧНО\ПРЕЗЕНТАЦИЯ\0b1046f41010b46599801122fdb6b725.jpeg"/>
          <p:cNvPicPr/>
          <p:nvPr/>
        </p:nvPicPr>
        <p:blipFill>
          <a:blip r:embed="rId2"/>
          <a:stretch/>
        </p:blipFill>
        <p:spPr>
          <a:xfrm>
            <a:off x="560520" y="1182600"/>
            <a:ext cx="3139920" cy="4761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Иятта\Рабочий стол\ЭТО СРОЧНО\ПРЕЗЕНТАЦИЯ\0_6d5dd_fa218c92_L.png"/>
          <p:cNvPicPr/>
          <p:nvPr/>
        </p:nvPicPr>
        <p:blipFill>
          <a:blip r:embed="rId3"/>
          <a:stretch/>
        </p:blipFill>
        <p:spPr>
          <a:xfrm>
            <a:off x="6553080" y="4495680"/>
            <a:ext cx="2590920" cy="2362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Иятта\Рабочий стол\ЭТО СРОЧНО\ПРЕЗЕНТАЦИЯ\0_6d5e4_a4e0eb9c_L.png"/>
          <p:cNvPicPr/>
          <p:nvPr/>
        </p:nvPicPr>
        <p:blipFill>
          <a:blip r:embed="rId4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Иятта\Рабочий стол\ЭТО СРОЧНО\ПРЕЗЕНТАЦИЯ\0_6d5dd_fa218c92_L.png"/>
          <p:cNvPicPr/>
          <p:nvPr/>
        </p:nvPicPr>
        <p:blipFill>
          <a:blip r:embed="rId6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2" descr=""/>
          <p:cNvPicPr/>
          <p:nvPr/>
        </p:nvPicPr>
        <p:blipFill>
          <a:blip r:embed="rId9"/>
          <a:stretch/>
        </p:blipFill>
        <p:spPr>
          <a:xfrm>
            <a:off x="2359080" y="1762200"/>
            <a:ext cx="5889600" cy="2163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495320" y="44953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273af"/>
                </a:solidFill>
                <a:latin typeface="Calibri"/>
              </a:rPr>
              <a:t>Презентацию подготовили: Воспитатели 2 ранней группы «Кнопочки»</a:t>
            </a:r>
            <a:endParaRPr b="0" lang="en-US" sz="1600" spc="-1" strike="noStrike">
              <a:solidFill>
                <a:srgbClr val="60b5ff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273af"/>
                </a:solidFill>
                <a:latin typeface="Calibri"/>
              </a:rPr>
              <a:t>Ковалёва А.В. Толкач И.А.</a:t>
            </a:r>
            <a:endParaRPr b="0" lang="en-US" sz="1600" spc="-1" strike="noStrike">
              <a:solidFill>
                <a:srgbClr val="60b5ff"/>
              </a:solidFill>
              <a:latin typeface="Calibri"/>
            </a:endParaRPr>
          </a:p>
        </p:txBody>
      </p:sp>
      <p:pic>
        <p:nvPicPr>
          <p:cNvPr id="53" name="Picture 4" descr="C:\Documents and Settings\Иятта\Рабочий стол\ЭТО СРОЧНО\ПРЕЗЕНТАЦИЯ\0_6d5e4_a4e0eb9c_L.png"/>
          <p:cNvPicPr/>
          <p:nvPr/>
        </p:nvPicPr>
        <p:blipFill>
          <a:blip r:embed="rId10"/>
          <a:stretch/>
        </p:blipFill>
        <p:spPr>
          <a:xfrm>
            <a:off x="243000" y="106200"/>
            <a:ext cx="3568680" cy="1276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Documents and Settings\Иятта\Рабочий стол\ЭТО СРОЧНО\ПРЕЗЕНТАЦИЯ\0_6d5e4_a4e0eb9c_L.png"/>
          <p:cNvPicPr/>
          <p:nvPr/>
        </p:nvPicPr>
        <p:blipFill>
          <a:blip r:embed="rId11"/>
          <a:stretch/>
        </p:blipFill>
        <p:spPr>
          <a:xfrm>
            <a:off x="14400" y="1063800"/>
            <a:ext cx="127620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Прямоугольник 4"/>
          <p:cNvGrpSpPr/>
          <p:nvPr/>
        </p:nvGrpSpPr>
        <p:grpSpPr>
          <a:xfrm>
            <a:off x="-6480" y="-6480"/>
            <a:ext cx="9199800" cy="6913800"/>
            <a:chOff x="-6480" y="-6480"/>
            <a:chExt cx="9199800" cy="6913800"/>
          </a:xfrm>
        </p:grpSpPr>
        <p:pic>
          <p:nvPicPr>
            <p:cNvPr id="56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99800" cy="691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3760" y="2052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58" name="Picture 3" descr="C:\Documents and Settings\Иятта\Рабочий стол\ЭТО СРОЧНО\ПРЕЗЕНТАЦИЯ\0_6d5dd_fa218c92_L.png"/>
          <p:cNvPicPr/>
          <p:nvPr/>
        </p:nvPicPr>
        <p:blipFill>
          <a:blip r:embed="rId2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Иятта\Рабочий стол\ЭТО СРОЧНО\ПРЕЗЕНТАЦИЯ\0_6d5e4_a4e0eb9c_L.png"/>
          <p:cNvPicPr/>
          <p:nvPr/>
        </p:nvPicPr>
        <p:blipFill>
          <a:blip r:embed="rId3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Documents and Settings\Иятта\Рабочий стол\ЭТО СРОЧНО\ПРЕЗЕНТАЦИЯ\0_6d5dd_fa218c92_L.png"/>
          <p:cNvPicPr/>
          <p:nvPr/>
        </p:nvPicPr>
        <p:blipFill>
          <a:blip r:embed="rId4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Иятта\Рабочий стол\ЭТО СРОЧНО\ПРЕЗЕНТАЦИЯ\0_6d5e4_a4e0eb9c_L.png"/>
          <p:cNvPicPr/>
          <p:nvPr/>
        </p:nvPicPr>
        <p:blipFill>
          <a:blip r:embed="rId6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2" descr=""/>
          <p:cNvPicPr/>
          <p:nvPr/>
        </p:nvPicPr>
        <p:blipFill>
          <a:blip r:embed="rId8"/>
          <a:stretch/>
        </p:blipFill>
        <p:spPr>
          <a:xfrm>
            <a:off x="1725480" y="1378080"/>
            <a:ext cx="5570640" cy="4157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Documents and Settings\Иятта\Рабочий стол\ЭТО СРОЧНО\ПРЕЗЕНТАЦИЯ\0_6d5e4_a4e0eb9c_L.png"/>
          <p:cNvPicPr/>
          <p:nvPr/>
        </p:nvPicPr>
        <p:blipFill>
          <a:blip r:embed="rId9"/>
          <a:stretch/>
        </p:blipFill>
        <p:spPr>
          <a:xfrm>
            <a:off x="23760" y="-4752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Documents and Settings\Иятта\Рабочий стол\ЭТО СРОЧНО\ПРЕЗЕНТАЦИЯ\0_6d5e4_a4e0eb9c_L.png"/>
          <p:cNvPicPr/>
          <p:nvPr/>
        </p:nvPicPr>
        <p:blipFill>
          <a:blip r:embed="rId10"/>
          <a:stretch/>
        </p:blipFill>
        <p:spPr>
          <a:xfrm>
            <a:off x="49320" y="1125360"/>
            <a:ext cx="1276200" cy="35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Прямоугольник 4"/>
          <p:cNvGrpSpPr/>
          <p:nvPr/>
        </p:nvGrpSpPr>
        <p:grpSpPr>
          <a:xfrm>
            <a:off x="-42840" y="-73080"/>
            <a:ext cx="9199440" cy="6912000"/>
            <a:chOff x="-42840" y="-73080"/>
            <a:chExt cx="9199440" cy="6912000"/>
          </a:xfrm>
        </p:grpSpPr>
        <p:pic>
          <p:nvPicPr>
            <p:cNvPr id="68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42840" y="-73080"/>
              <a:ext cx="9199440" cy="691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-14400" y="-4752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70" name="Picture 2" descr="C:\Documents and Settings\Иятта\Рабочий стол\ЭТО СРОЧНО\ПРЕЗЕНТАЦИЯ\0b1046f41010b46599801122fdb6b725.jpeg"/>
          <p:cNvPicPr/>
          <p:nvPr/>
        </p:nvPicPr>
        <p:blipFill>
          <a:blip r:embed="rId2"/>
          <a:stretch/>
        </p:blipFill>
        <p:spPr>
          <a:xfrm>
            <a:off x="450720" y="1322280"/>
            <a:ext cx="3140280" cy="4761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cuments and Settings\Иятта\Рабочий стол\ЭТО СРОЧНО\ПРЕЗЕНТАЦИЯ\0_6d5dd_fa218c92_L.png"/>
          <p:cNvPicPr/>
          <p:nvPr/>
        </p:nvPicPr>
        <p:blipFill>
          <a:blip r:embed="rId3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Documents and Settings\Иятта\Рабочий стол\ЭТО СРОЧНО\ПРЕЗЕНТАЦИЯ\0_6d5e4_a4e0eb9c_L.png"/>
          <p:cNvPicPr/>
          <p:nvPr/>
        </p:nvPicPr>
        <p:blipFill>
          <a:blip r:embed="rId4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Documents and Settings\Иятта\Рабочий стол\ЭТО СРОЧНО\ПРЕЗЕНТАЦИЯ\0_6d5dd_fa218c92_L.png"/>
          <p:cNvPicPr/>
          <p:nvPr/>
        </p:nvPicPr>
        <p:blipFill>
          <a:blip r:embed="rId6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12" descr=""/>
          <p:cNvPicPr/>
          <p:nvPr/>
        </p:nvPicPr>
        <p:blipFill>
          <a:blip r:embed="rId9"/>
          <a:stretch/>
        </p:blipFill>
        <p:spPr>
          <a:xfrm>
            <a:off x="2743200" y="1371600"/>
            <a:ext cx="5572080" cy="3786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Documents and Settings\Иятта\Рабочий стол\ЭТО СРОЧНО\ПРЕЗЕНТАЦИЯ\0_6d5e4_a4e0eb9c_L.png"/>
          <p:cNvPicPr/>
          <p:nvPr/>
        </p:nvPicPr>
        <p:blipFill>
          <a:blip r:embed="rId10"/>
          <a:stretch/>
        </p:blipFill>
        <p:spPr>
          <a:xfrm>
            <a:off x="23760" y="-4752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Documents and Settings\Иятта\Рабочий стол\ЭТО СРОЧНО\ПРЕЗЕНТАЦИЯ\0_6d5e4_a4e0eb9c_L.png"/>
          <p:cNvPicPr/>
          <p:nvPr/>
        </p:nvPicPr>
        <p:blipFill>
          <a:blip r:embed="rId11"/>
          <a:stretch/>
        </p:blipFill>
        <p:spPr>
          <a:xfrm>
            <a:off x="49320" y="1125360"/>
            <a:ext cx="1276200" cy="35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81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83" name="Picture 3" descr="C:\Documents and Settings\Иятта\Рабочий стол\ЭТО СРОЧНО\ПРЕЗЕНТАЦИЯ\0_6d5dd_fa218c92_L.png"/>
          <p:cNvPicPr/>
          <p:nvPr/>
        </p:nvPicPr>
        <p:blipFill>
          <a:blip r:embed="rId2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Documents and Settings\Иятта\Рабочий стол\ЭТО СРОЧНО\ПРЕЗЕНТАЦИЯ\0_6d5e4_a4e0eb9c_L.png"/>
          <p:cNvPicPr/>
          <p:nvPr/>
        </p:nvPicPr>
        <p:blipFill>
          <a:blip r:embed="rId3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Documents and Settings\Иятта\Рабочий стол\ЭТО СРОЧНО\ПРЕЗЕНТАЦИЯ\0_6d5dd_fa218c92_L.png"/>
          <p:cNvPicPr/>
          <p:nvPr/>
        </p:nvPicPr>
        <p:blipFill>
          <a:blip r:embed="rId4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Documents and Settings\Иятта\Рабочий стол\ЭТО СРОЧНО\ПРЕЗЕНТАЦИЯ\0_6d5e4_a4e0eb9c_L.png"/>
          <p:cNvPicPr/>
          <p:nvPr/>
        </p:nvPicPr>
        <p:blipFill>
          <a:blip r:embed="rId6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0" y="648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Documents and Settings\Иятта\Рабочий стол\ЭТО СРОЧНО\ПРЕЗЕНТАЦИЯ\0_6d5e4_a4e0eb9c_L.png"/>
          <p:cNvPicPr/>
          <p:nvPr/>
        </p:nvPicPr>
        <p:blipFill>
          <a:blip r:embed="rId9"/>
          <a:stretch/>
        </p:blipFill>
        <p:spPr>
          <a:xfrm>
            <a:off x="101520" y="927000"/>
            <a:ext cx="1276560" cy="35686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" descr=""/>
          <p:cNvPicPr/>
          <p:nvPr/>
        </p:nvPicPr>
        <p:blipFill>
          <a:blip r:embed="rId10"/>
          <a:stretch/>
        </p:blipFill>
        <p:spPr>
          <a:xfrm>
            <a:off x="1378080" y="1449360"/>
            <a:ext cx="2641320" cy="29210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" descr=""/>
          <p:cNvPicPr/>
          <p:nvPr/>
        </p:nvPicPr>
        <p:blipFill>
          <a:blip r:embed="rId11"/>
          <a:stretch/>
        </p:blipFill>
        <p:spPr>
          <a:xfrm>
            <a:off x="4255920" y="2674800"/>
            <a:ext cx="320220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94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96" name="Picture 3" descr="C:\Documents and Settings\Иятта\Рабочий стол\ЭТО СРОЧНО\ПРЕЗЕНТАЦИЯ\0_6d5dd_fa218c92_L.png"/>
          <p:cNvPicPr/>
          <p:nvPr/>
        </p:nvPicPr>
        <p:blipFill>
          <a:blip r:embed="rId2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Documents and Settings\Иятта\Рабочий стол\ЭТО СРОЧНО\ПРЕЗЕНТАЦИЯ\0_6d5e4_a4e0eb9c_L.png"/>
          <p:cNvPicPr/>
          <p:nvPr/>
        </p:nvPicPr>
        <p:blipFill>
          <a:blip r:embed="rId3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Иятта\Рабочий стол\ЭТО СРОЧНО\ПРЕЗЕНТАЦИЯ\0_6d5dd_fa218c92_L.png"/>
          <p:cNvPicPr/>
          <p:nvPr/>
        </p:nvPicPr>
        <p:blipFill>
          <a:blip r:embed="rId4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Иятта\Рабочий стол\ЭТО СРОЧНО\ПРЕЗЕНТАЦИЯ\0_6d5e4_a4e0eb9c_L.png"/>
          <p:cNvPicPr/>
          <p:nvPr/>
        </p:nvPicPr>
        <p:blipFill>
          <a:blip r:embed="rId6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0" y="648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Иятта\Рабочий стол\ЭТО СРОЧНО\ПРЕЗЕНТАЦИЯ\0_6d5e4_a4e0eb9c_L.png"/>
          <p:cNvPicPr/>
          <p:nvPr/>
        </p:nvPicPr>
        <p:blipFill>
          <a:blip r:embed="rId9"/>
          <a:stretch/>
        </p:blipFill>
        <p:spPr>
          <a:xfrm>
            <a:off x="101520" y="927000"/>
            <a:ext cx="1276560" cy="35686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" descr=""/>
          <p:cNvPicPr/>
          <p:nvPr/>
        </p:nvPicPr>
        <p:blipFill>
          <a:blip r:embed="rId10"/>
          <a:stretch/>
        </p:blipFill>
        <p:spPr>
          <a:xfrm>
            <a:off x="1054080" y="1174680"/>
            <a:ext cx="2938320" cy="3648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2" descr=""/>
          <p:cNvPicPr/>
          <p:nvPr/>
        </p:nvPicPr>
        <p:blipFill>
          <a:blip r:embed="rId11"/>
          <a:stretch/>
        </p:blipFill>
        <p:spPr>
          <a:xfrm>
            <a:off x="4732200" y="1839960"/>
            <a:ext cx="293688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107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109" name="Picture 2" descr="C:\Documents and Settings\Иятта\Рабочий стол\ЭТО СРОЧНО\ПРЕЗЕНТАЦИЯ\0b1046f41010b46599801122fdb6b725.jpeg"/>
          <p:cNvPicPr/>
          <p:nvPr/>
        </p:nvPicPr>
        <p:blipFill>
          <a:blip r:embed="rId2"/>
          <a:stretch/>
        </p:blipFill>
        <p:spPr>
          <a:xfrm>
            <a:off x="426960" y="1195560"/>
            <a:ext cx="3144960" cy="4760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Documents and Settings\Иятта\Рабочий стол\ЭТО СРОЧНО\ПРЕЗЕНТАЦИЯ\0_6d5dd_fa218c92_L.png"/>
          <p:cNvPicPr/>
          <p:nvPr/>
        </p:nvPicPr>
        <p:blipFill>
          <a:blip r:embed="rId3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Иятта\Рабочий стол\ЭТО СРОЧНО\ПРЕЗЕНТАЦИЯ\0_6d5e4_a4e0eb9c_L.png"/>
          <p:cNvPicPr/>
          <p:nvPr/>
        </p:nvPicPr>
        <p:blipFill>
          <a:blip r:embed="rId4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Documents and Settings\Иятта\Рабочий стол\ЭТО СРОЧНО\ПРЕЗЕНТАЦИЯ\0_6d5dd_fa218c92_L.png"/>
          <p:cNvPicPr/>
          <p:nvPr/>
        </p:nvPicPr>
        <p:blipFill>
          <a:blip r:embed="rId6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74284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ама... Простое, казалось бы, слово,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 сколько в нем нежности, ласки, тепла,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бенок лопочет его бестолково,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учонки раскинув, припухший от сна.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печали и в радости мы произносим, 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о робкое "Мама", то резкое "Мать".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рой на чужбине вдруг сердце запросит 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всем незнакомую - мамой назвать.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 дома так часто ей делаем больно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ступками, взглядами, жестами мы, 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том вдалеке вспоминаем невольно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 том, что прибавило ей седины.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пишем на школьных листках торопливо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изнанья своей запоздалой вины.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на их читает, краснеет стыдливо, 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в горьких морщинах слезинки видны.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авно без письма все обиды простила, 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 тут ей до боли приятно прочесть: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"Спасибо, родная, за то, что растила, 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 то, что ты любишь, За то что ты есть!!!</a:t>
            </a:r>
            <a:endParaRPr b="0" lang="en-US" sz="1600" spc="-1" strike="noStrike">
              <a:solidFill>
                <a:srgbClr val="60b5ff"/>
              </a:solidFill>
              <a:latin typeface="Calibri"/>
            </a:endParaRPr>
          </a:p>
        </p:txBody>
      </p:sp>
      <p:pic>
        <p:nvPicPr>
          <p:cNvPr id="117" name="Picture 4" descr="C:\Documents and Settings\Иятта\Рабочий стол\ЭТО СРОЧНО\ПРЕЗЕНТАЦИЯ\0_6d5e4_a4e0eb9c_L.png"/>
          <p:cNvPicPr/>
          <p:nvPr/>
        </p:nvPicPr>
        <p:blipFill>
          <a:blip r:embed="rId9"/>
          <a:stretch/>
        </p:blipFill>
        <p:spPr>
          <a:xfrm>
            <a:off x="-160200" y="540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Documents and Settings\Иятта\Рабочий стол\ЭТО СРОЧНО\ПРЕЗЕНТАЦИЯ\0_6d5e4_a4e0eb9c_L.png"/>
          <p:cNvPicPr/>
          <p:nvPr/>
        </p:nvPicPr>
        <p:blipFill>
          <a:blip r:embed="rId10"/>
          <a:stretch/>
        </p:blipFill>
        <p:spPr>
          <a:xfrm>
            <a:off x="-28440" y="1003320"/>
            <a:ext cx="127620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120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122" name="Picture 3" descr="C:\Documents and Settings\Иятта\Рабочий стол\ЭТО СРОЧНО\ПРЕЗЕНТАЦИЯ\0_6d5dd_fa218c92_L.png"/>
          <p:cNvPicPr/>
          <p:nvPr/>
        </p:nvPicPr>
        <p:blipFill>
          <a:blip r:embed="rId2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Иятта\Рабочий стол\ЭТО СРОЧНО\ПРЕЗЕНТАЦИЯ\0_6d5e4_a4e0eb9c_L.png"/>
          <p:cNvPicPr/>
          <p:nvPr/>
        </p:nvPicPr>
        <p:blipFill>
          <a:blip r:embed="rId3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:\Documents and Settings\Иятта\Рабочий стол\ЭТО СРОЧНО\ПРЕЗЕНТАЦИЯ\0_6d5dd_fa218c92_L.png"/>
          <p:cNvPicPr/>
          <p:nvPr/>
        </p:nvPicPr>
        <p:blipFill>
          <a:blip r:embed="rId4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C:\Documents and Settings\Иятта\Рабочий стол\ЭТО СРОЧНО\ПРЕЗЕНТАЦИЯ\0_6d5e4_a4e0eb9c_L.png"/>
          <p:cNvPicPr/>
          <p:nvPr/>
        </p:nvPicPr>
        <p:blipFill>
          <a:blip r:embed="rId6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0" y="648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Documents and Settings\Иятта\Рабочий стол\ЭТО СРОЧНО\ПРЕЗЕНТАЦИЯ\0_6d5e4_a4e0eb9c_L.png"/>
          <p:cNvPicPr/>
          <p:nvPr/>
        </p:nvPicPr>
        <p:blipFill>
          <a:blip r:embed="rId9"/>
          <a:stretch/>
        </p:blipFill>
        <p:spPr>
          <a:xfrm>
            <a:off x="101520" y="927000"/>
            <a:ext cx="1276560" cy="35686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" descr=""/>
          <p:cNvPicPr/>
          <p:nvPr/>
        </p:nvPicPr>
        <p:blipFill>
          <a:blip r:embed="rId10"/>
          <a:stretch/>
        </p:blipFill>
        <p:spPr>
          <a:xfrm>
            <a:off x="1479600" y="1289160"/>
            <a:ext cx="3098880" cy="35240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" descr=""/>
          <p:cNvPicPr/>
          <p:nvPr/>
        </p:nvPicPr>
        <p:blipFill>
          <a:blip r:embed="rId11"/>
          <a:stretch/>
        </p:blipFill>
        <p:spPr>
          <a:xfrm>
            <a:off x="4786200" y="2624040"/>
            <a:ext cx="305136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133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135" name="Picture 3" descr="C:\Documents and Settings\Иятта\Рабочий стол\ЭТО СРОЧНО\ПРЕЗЕНТАЦИЯ\0_6d5dd_fa218c92_L.png"/>
          <p:cNvPicPr/>
          <p:nvPr/>
        </p:nvPicPr>
        <p:blipFill>
          <a:blip r:embed="rId2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C:\Documents and Settings\Иятта\Рабочий стол\ЭТО СРОЧНО\ПРЕЗЕНТАЦИЯ\0_6d5e4_a4e0eb9c_L.png"/>
          <p:cNvPicPr/>
          <p:nvPr/>
        </p:nvPicPr>
        <p:blipFill>
          <a:blip r:embed="rId3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Documents and Settings\Иятта\Рабочий стол\ЭТО СРОЧНО\ПРЕЗЕНТАЦИЯ\0_6d5dd_fa218c92_L.png"/>
          <p:cNvPicPr/>
          <p:nvPr/>
        </p:nvPicPr>
        <p:blipFill>
          <a:blip r:embed="rId4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Documents and Settings\Иятта\Рабочий стол\ЭТО СРОЧНО\ПРЕЗЕНТАЦИЯ\0_6d5e4_a4e0eb9c_L.png"/>
          <p:cNvPicPr/>
          <p:nvPr/>
        </p:nvPicPr>
        <p:blipFill>
          <a:blip r:embed="rId6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0" y="648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nts and Settings\Иятта\Рабочий стол\ЭТО СРОЧНО\ПРЕЗЕНТАЦИЯ\0_6d5e4_a4e0eb9c_L.png"/>
          <p:cNvPicPr/>
          <p:nvPr/>
        </p:nvPicPr>
        <p:blipFill>
          <a:blip r:embed="rId9"/>
          <a:stretch/>
        </p:blipFill>
        <p:spPr>
          <a:xfrm>
            <a:off x="101520" y="927000"/>
            <a:ext cx="1276560" cy="35686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" descr=""/>
          <p:cNvPicPr/>
          <p:nvPr/>
        </p:nvPicPr>
        <p:blipFill>
          <a:blip r:embed="rId10"/>
          <a:stretch/>
        </p:blipFill>
        <p:spPr>
          <a:xfrm>
            <a:off x="1647720" y="1289160"/>
            <a:ext cx="2730600" cy="35607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2" descr=""/>
          <p:cNvPicPr/>
          <p:nvPr/>
        </p:nvPicPr>
        <p:blipFill>
          <a:blip r:embed="rId11"/>
          <a:stretch/>
        </p:blipFill>
        <p:spPr>
          <a:xfrm>
            <a:off x="4668840" y="1994040"/>
            <a:ext cx="312408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146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148" name="Picture 2" descr="C:\Documents and Settings\Иятта\Рабочий стол\ЭТО СРОЧНО\ПРЕЗЕНТАЦИЯ\0b1046f41010b46599801122fdb6b725.jpeg"/>
          <p:cNvPicPr/>
          <p:nvPr/>
        </p:nvPicPr>
        <p:blipFill>
          <a:blip r:embed="rId2"/>
          <a:stretch/>
        </p:blipFill>
        <p:spPr>
          <a:xfrm>
            <a:off x="244440" y="901800"/>
            <a:ext cx="3138480" cy="4760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:\Documents and Settings\Иятта\Рабочий стол\ЭТО СРОЧНО\ПРЕЗЕНТАЦИЯ\0_6d5dd_fa218c92_L.png"/>
          <p:cNvPicPr/>
          <p:nvPr/>
        </p:nvPicPr>
        <p:blipFill>
          <a:blip r:embed="rId3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C:\Documents and Settings\Иятта\Рабочий стол\ЭТО СРОЧНО\ПРЕЗЕНТАЦИЯ\0_6d5e4_a4e0eb9c_L.png"/>
          <p:cNvPicPr/>
          <p:nvPr/>
        </p:nvPicPr>
        <p:blipFill>
          <a:blip r:embed="rId4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Documents and Settings\Иятта\Рабочий стол\ЭТО СРОЧНО\ПРЕЗЕНТАЦИЯ\0_6d5dd_fa218c92_L.png"/>
          <p:cNvPicPr/>
          <p:nvPr/>
        </p:nvPicPr>
        <p:blipFill>
          <a:blip r:embed="rId6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33720" y="2666880"/>
            <a:ext cx="6324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Берегите своих матерей, как цветы от холодной вьюги,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Их любовь во сто крат горячей,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 чем друзей и любимой подруги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Материнской любви не объять – в летний зной,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 и в пургу, и в стужу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Она все вам готова отдать, все до грамма и даже душу!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Берегите своих матерей – вам, их ласки никто не заменит,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Среди пасмурных жизни дней кто поймет вас и кто оценит?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Кто возьмет на себя всю боль, все терзанья души и муки?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Мать не даст вместо хлеба соль, 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мать всегда к вам протянет руки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Пусть она и накажет строго - матерям никогда не лгите.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Им ведь надо от вас не много – только очень их берегите!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Берегите своих матерей как цветы от холодной вьюги, 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И сыновей заботой своей уврачуйте их все недуги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Не оставьте их без участья, берегите всегда их дети!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Ведь не может быть полного счастья,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 если матери нет на свете!!!</a:t>
            </a:r>
            <a:endParaRPr b="0" lang="en-US" sz="1600" spc="-1" strike="noStrike">
              <a:solidFill>
                <a:srgbClr val="60b5ff"/>
              </a:solidFill>
              <a:latin typeface="Calibri"/>
            </a:endParaRPr>
          </a:p>
        </p:txBody>
      </p:sp>
      <p:pic>
        <p:nvPicPr>
          <p:cNvPr id="156" name="Picture 4" descr="C:\Documents and Settings\Иятта\Рабочий стол\ЭТО СРОЧНО\ПРЕЗЕНТАЦИЯ\0_6d5e4_a4e0eb9c_L.png"/>
          <p:cNvPicPr/>
          <p:nvPr/>
        </p:nvPicPr>
        <p:blipFill>
          <a:blip r:embed="rId9"/>
          <a:stretch/>
        </p:blipFill>
        <p:spPr>
          <a:xfrm>
            <a:off x="-12600" y="-25560"/>
            <a:ext cx="3568680" cy="1276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Documents and Settings\Иятта\Рабочий стол\ЭТО СРОЧНО\ПРЕЗЕНТАЦИЯ\0_6d5e4_a4e0eb9c_L.png"/>
          <p:cNvPicPr/>
          <p:nvPr/>
        </p:nvPicPr>
        <p:blipFill>
          <a:blip r:embed="rId10"/>
          <a:stretch/>
        </p:blipFill>
        <p:spPr>
          <a:xfrm>
            <a:off x="20520" y="1236600"/>
            <a:ext cx="127656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</dc:creator>
  <dc:description/>
  <dc:language>en-US</dc:language>
  <cp:lastModifiedBy>ads</cp:lastModifiedBy>
  <dcterms:modified xsi:type="dcterms:W3CDTF">2020-11-24T15:44:56Z</dcterms:modified>
  <cp:revision>27</cp:revision>
  <dc:subject/>
  <dc:title>Слайд 1</dc:title>
</cp:coreProperties>
</file>