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6161-ABA6-4125-94BF-765732E5C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DDE7-4EDD-4EC0-A98E-AC8C3F3A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8F67-4525-4D06-AD5F-C580C8112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3783-0F9A-4ED3-BE8E-B4C5E298C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3CA4-E222-43F1-8A04-9173176C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7DE4-D797-4900-AA22-4E188C5D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6EC7-CCFA-4E89-B9AA-A9213A46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6B7B-7447-4DF0-BAAF-A0F7D3E3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07F6-FF48-436B-A64A-B66D6FC6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8766-B6C6-4422-9A59-F1A5C76A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FE0E-15C1-4156-BF15-05EDF398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7334-B462-448D-A148-6DC9E47F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0b5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b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b5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b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b5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b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b5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b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b5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b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b5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60b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b5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60b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b5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60b5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dcb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dcb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0b5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dcb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BD5F-C809-43D5-B6E4-08A7F6F4D7A9}" type="slidenum">
              <a:rPr b="0" lang="en-US" sz="1200" spc="-1" strike="noStrike">
                <a:solidFill>
                  <a:srgbClr val="9dcb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7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3.png"/><Relationship Id="rId9" Type="http://schemas.openxmlformats.org/officeDocument/2006/relationships/image" Target="../media/image7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14.png"/><Relationship Id="rId10" Type="http://schemas.openxmlformats.org/officeDocument/2006/relationships/image" Target="../media/image7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10.pn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10.pn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1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10.pn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10.pn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оугольник 4"/>
          <p:cNvGrpSpPr/>
          <p:nvPr/>
        </p:nvGrpSpPr>
        <p:grpSpPr>
          <a:xfrm>
            <a:off x="-30240" y="-30240"/>
            <a:ext cx="9204480" cy="6918480"/>
            <a:chOff x="-30240" y="-30240"/>
            <a:chExt cx="9204480" cy="6918480"/>
          </a:xfrm>
        </p:grpSpPr>
        <p:pic>
          <p:nvPicPr>
            <p:cNvPr id="42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-30240" y="-30240"/>
              <a:ext cx="9204480" cy="691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0b5ff"/>
                </a:solidFill>
                <a:latin typeface="Arial"/>
              </a:endParaRPr>
            </a:p>
          </p:txBody>
        </p:sp>
      </p:grpSp>
      <p:pic>
        <p:nvPicPr>
          <p:cNvPr id="44" name="Picture 2" descr="C:\Documents and Settings\Иятта\Рабочий стол\ЭТО СРОЧНО\ПРЕЗЕНТАЦИЯ\0b1046f41010b46599801122fdb6b725.jpeg"/>
          <p:cNvPicPr/>
          <p:nvPr/>
        </p:nvPicPr>
        <p:blipFill>
          <a:blip r:embed="rId2"/>
          <a:stretch/>
        </p:blipFill>
        <p:spPr>
          <a:xfrm>
            <a:off x="560520" y="1182600"/>
            <a:ext cx="3139920" cy="4761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Documents and Settings\Иятта\Рабочий стол\ЭТО СРОЧНО\ПРЕЗЕНТАЦИЯ\0_6d5dd_fa218c92_L.png"/>
          <p:cNvPicPr/>
          <p:nvPr/>
        </p:nvPicPr>
        <p:blipFill>
          <a:blip r:embed="rId3"/>
          <a:stretch/>
        </p:blipFill>
        <p:spPr>
          <a:xfrm>
            <a:off x="6553080" y="4495680"/>
            <a:ext cx="2590920" cy="2362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Documents and Settings\Иятта\Рабочий стол\ЭТО СРОЧНО\ПРЕЗЕНТАЦИЯ\0_6d5e4_a4e0eb9c_L.png"/>
          <p:cNvPicPr/>
          <p:nvPr/>
        </p:nvPicPr>
        <p:blipFill>
          <a:blip r:embed="rId4"/>
          <a:stretch/>
        </p:blipFill>
        <p:spPr>
          <a:xfrm>
            <a:off x="2743200" y="558180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Documents and Settings\Иятта\Рабочий стол\ЭТО СРОЧНО\ПРЕЗЕНТАЦИЯ\0_6d5dd_fa218c92_L.png"/>
          <p:cNvPicPr/>
          <p:nvPr/>
        </p:nvPicPr>
        <p:blipFill>
          <a:blip r:embed="rId5"/>
          <a:stretch/>
        </p:blipFill>
        <p:spPr>
          <a:xfrm>
            <a:off x="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Documents and Settings\Иятта\Рабочий стол\ЭТО СРОЧНО\ПРЕЗЕНТАЦИЯ\0_6d5dd_fa218c92_L.png"/>
          <p:cNvPicPr/>
          <p:nvPr/>
        </p:nvPicPr>
        <p:blipFill>
          <a:blip r:embed="rId6"/>
          <a:stretch/>
        </p:blipFill>
        <p:spPr>
          <a:xfrm>
            <a:off x="6734160" y="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C:\Documents and Settings\Иятта\Рабочий стол\ЭТО СРОЧНО\ПРЕЗЕНТАЦИЯ\0_6d5e4_a4e0eb9c_L.png"/>
          <p:cNvPicPr/>
          <p:nvPr/>
        </p:nvPicPr>
        <p:blipFill>
          <a:blip r:embed="rId7"/>
          <a:stretch/>
        </p:blipFill>
        <p:spPr>
          <a:xfrm>
            <a:off x="2895480" y="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Documents and Settings\Иятта\Рабочий стол\ЭТО СРОЧНО\ПРЕЗЕНТАЦИЯ\0_6d5e4_a4e0eb9c_L.png"/>
          <p:cNvPicPr/>
          <p:nvPr/>
        </p:nvPicPr>
        <p:blipFill>
          <a:blip r:embed="rId8"/>
          <a:stretch/>
        </p:blipFill>
        <p:spPr>
          <a:xfrm>
            <a:off x="7696080" y="2286000"/>
            <a:ext cx="1276560" cy="228600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12" descr=""/>
          <p:cNvPicPr/>
          <p:nvPr/>
        </p:nvPicPr>
        <p:blipFill>
          <a:blip r:embed="rId9"/>
          <a:stretch/>
        </p:blipFill>
        <p:spPr>
          <a:xfrm>
            <a:off x="2359080" y="1762200"/>
            <a:ext cx="5889600" cy="21636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495320" y="449532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273af"/>
                </a:solidFill>
                <a:latin typeface="Calibri"/>
              </a:rPr>
              <a:t>Презентацию подготовили: Воспитатели 2 ранней группы «Кнопочки»</a:t>
            </a:r>
            <a:endParaRPr b="0" lang="en-US" sz="1600" spc="-1" strike="noStrike">
              <a:solidFill>
                <a:srgbClr val="60b5ff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273af"/>
                </a:solidFill>
                <a:latin typeface="Calibri"/>
              </a:rPr>
              <a:t>Ковалёва А.В. Толкач И.А.</a:t>
            </a:r>
            <a:endParaRPr b="0" lang="en-US" sz="1600" spc="-1" strike="noStrike">
              <a:solidFill>
                <a:srgbClr val="60b5ff"/>
              </a:solidFill>
              <a:latin typeface="Calibri"/>
            </a:endParaRPr>
          </a:p>
        </p:txBody>
      </p:sp>
      <p:pic>
        <p:nvPicPr>
          <p:cNvPr id="53" name="Picture 4" descr="C:\Documents and Settings\Иятта\Рабочий стол\ЭТО СРОЧНО\ПРЕЗЕНТАЦИЯ\0_6d5e4_a4e0eb9c_L.png"/>
          <p:cNvPicPr/>
          <p:nvPr/>
        </p:nvPicPr>
        <p:blipFill>
          <a:blip r:embed="rId10"/>
          <a:stretch/>
        </p:blipFill>
        <p:spPr>
          <a:xfrm>
            <a:off x="243000" y="106200"/>
            <a:ext cx="3568680" cy="1276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Documents and Settings\Иятта\Рабочий стол\ЭТО СРОЧНО\ПРЕЗЕНТАЦИЯ\0_6d5e4_a4e0eb9c_L.png"/>
          <p:cNvPicPr/>
          <p:nvPr/>
        </p:nvPicPr>
        <p:blipFill>
          <a:blip r:embed="rId11"/>
          <a:stretch/>
        </p:blipFill>
        <p:spPr>
          <a:xfrm>
            <a:off x="14400" y="1063800"/>
            <a:ext cx="127620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Прямоугольник 4"/>
          <p:cNvGrpSpPr/>
          <p:nvPr/>
        </p:nvGrpSpPr>
        <p:grpSpPr>
          <a:xfrm>
            <a:off x="-6480" y="-6480"/>
            <a:ext cx="9199800" cy="6913800"/>
            <a:chOff x="-6480" y="-6480"/>
            <a:chExt cx="9199800" cy="6913800"/>
          </a:xfrm>
        </p:grpSpPr>
        <p:pic>
          <p:nvPicPr>
            <p:cNvPr id="56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-6480" y="-6480"/>
              <a:ext cx="9199800" cy="691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23760" y="2052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0b5ff"/>
                </a:solidFill>
                <a:latin typeface="Arial"/>
              </a:endParaRPr>
            </a:p>
          </p:txBody>
        </p:sp>
      </p:grpSp>
      <p:pic>
        <p:nvPicPr>
          <p:cNvPr id="58" name="Picture 3" descr="C:\Documents and Settings\Иятта\Рабочий стол\ЭТО СРОЧНО\ПРЕЗЕНТАЦИЯ\0_6d5dd_fa218c92_L.png"/>
          <p:cNvPicPr/>
          <p:nvPr/>
        </p:nvPicPr>
        <p:blipFill>
          <a:blip r:embed="rId2"/>
          <a:stretch/>
        </p:blipFill>
        <p:spPr>
          <a:xfrm>
            <a:off x="673416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Documents and Settings\Иятта\Рабочий стол\ЭТО СРОЧНО\ПРЕЗЕНТАЦИЯ\0_6d5e4_a4e0eb9c_L.png"/>
          <p:cNvPicPr/>
          <p:nvPr/>
        </p:nvPicPr>
        <p:blipFill>
          <a:blip r:embed="rId3"/>
          <a:stretch/>
        </p:blipFill>
        <p:spPr>
          <a:xfrm>
            <a:off x="2743200" y="558180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Documents and Settings\Иятта\Рабочий стол\ЭТО СРОЧНО\ПРЕЗЕНТАЦИЯ\0_6d5dd_fa218c92_L.png"/>
          <p:cNvPicPr/>
          <p:nvPr/>
        </p:nvPicPr>
        <p:blipFill>
          <a:blip r:embed="rId4"/>
          <a:stretch/>
        </p:blipFill>
        <p:spPr>
          <a:xfrm>
            <a:off x="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Documents and Settings\Иятта\Рабочий стол\ЭТО СРОЧНО\ПРЕЗЕНТАЦИЯ\0_6d5dd_fa218c92_L.png"/>
          <p:cNvPicPr/>
          <p:nvPr/>
        </p:nvPicPr>
        <p:blipFill>
          <a:blip r:embed="rId5"/>
          <a:stretch/>
        </p:blipFill>
        <p:spPr>
          <a:xfrm>
            <a:off x="6734160" y="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Documents and Settings\Иятта\Рабочий стол\ЭТО СРОЧНО\ПРЕЗЕНТАЦИЯ\0_6d5e4_a4e0eb9c_L.png"/>
          <p:cNvPicPr/>
          <p:nvPr/>
        </p:nvPicPr>
        <p:blipFill>
          <a:blip r:embed="rId6"/>
          <a:stretch/>
        </p:blipFill>
        <p:spPr>
          <a:xfrm>
            <a:off x="2895480" y="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C:\Documents and Settings\Иятта\Рабочий стол\ЭТО СРОЧНО\ПРЕЗЕНТАЦИЯ\0_6d5e4_a4e0eb9c_L.png"/>
          <p:cNvPicPr/>
          <p:nvPr/>
        </p:nvPicPr>
        <p:blipFill>
          <a:blip r:embed="rId7"/>
          <a:stretch/>
        </p:blipFill>
        <p:spPr>
          <a:xfrm>
            <a:off x="7696080" y="2286000"/>
            <a:ext cx="1276560" cy="228600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12" descr=""/>
          <p:cNvPicPr/>
          <p:nvPr/>
        </p:nvPicPr>
        <p:blipFill>
          <a:blip r:embed="rId8"/>
          <a:stretch/>
        </p:blipFill>
        <p:spPr>
          <a:xfrm>
            <a:off x="1725480" y="1378080"/>
            <a:ext cx="5570640" cy="4157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C:\Documents and Settings\Иятта\Рабочий стол\ЭТО СРОЧНО\ПРЕЗЕНТАЦИЯ\0_6d5e4_a4e0eb9c_L.png"/>
          <p:cNvPicPr/>
          <p:nvPr/>
        </p:nvPicPr>
        <p:blipFill>
          <a:blip r:embed="rId9"/>
          <a:stretch/>
        </p:blipFill>
        <p:spPr>
          <a:xfrm>
            <a:off x="23760" y="-4752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:\Documents and Settings\Иятта\Рабочий стол\ЭТО СРОЧНО\ПРЕЗЕНТАЦИЯ\0_6d5e4_a4e0eb9c_L.png"/>
          <p:cNvPicPr/>
          <p:nvPr/>
        </p:nvPicPr>
        <p:blipFill>
          <a:blip r:embed="rId10"/>
          <a:stretch/>
        </p:blipFill>
        <p:spPr>
          <a:xfrm>
            <a:off x="49320" y="1125360"/>
            <a:ext cx="1276200" cy="35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Прямоугольник 4"/>
          <p:cNvGrpSpPr/>
          <p:nvPr/>
        </p:nvGrpSpPr>
        <p:grpSpPr>
          <a:xfrm>
            <a:off x="-42840" y="-73080"/>
            <a:ext cx="9199440" cy="6912000"/>
            <a:chOff x="-42840" y="-73080"/>
            <a:chExt cx="9199440" cy="6912000"/>
          </a:xfrm>
        </p:grpSpPr>
        <p:pic>
          <p:nvPicPr>
            <p:cNvPr id="68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-42840" y="-73080"/>
              <a:ext cx="9199440" cy="691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-14400" y="-4752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0b5ff"/>
                </a:solidFill>
                <a:latin typeface="Arial"/>
              </a:endParaRPr>
            </a:p>
          </p:txBody>
        </p:sp>
      </p:grpSp>
      <p:pic>
        <p:nvPicPr>
          <p:cNvPr id="70" name="Picture 2" descr="C:\Documents and Settings\Иятта\Рабочий стол\ЭТО СРОЧНО\ПРЕЗЕНТАЦИЯ\0b1046f41010b46599801122fdb6b725.jpeg"/>
          <p:cNvPicPr/>
          <p:nvPr/>
        </p:nvPicPr>
        <p:blipFill>
          <a:blip r:embed="rId2"/>
          <a:stretch/>
        </p:blipFill>
        <p:spPr>
          <a:xfrm>
            <a:off x="450720" y="1322280"/>
            <a:ext cx="3140280" cy="4761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Documents and Settings\Иятта\Рабочий стол\ЭТО СРОЧНО\ПРЕЗЕНТАЦИЯ\0_6d5dd_fa218c92_L.png"/>
          <p:cNvPicPr/>
          <p:nvPr/>
        </p:nvPicPr>
        <p:blipFill>
          <a:blip r:embed="rId3"/>
          <a:stretch/>
        </p:blipFill>
        <p:spPr>
          <a:xfrm>
            <a:off x="673416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C:\Documents and Settings\Иятта\Рабочий стол\ЭТО СРОЧНО\ПРЕЗЕНТАЦИЯ\0_6d5e4_a4e0eb9c_L.png"/>
          <p:cNvPicPr/>
          <p:nvPr/>
        </p:nvPicPr>
        <p:blipFill>
          <a:blip r:embed="rId4"/>
          <a:stretch/>
        </p:blipFill>
        <p:spPr>
          <a:xfrm>
            <a:off x="2743200" y="558180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Documents and Settings\Иятта\Рабочий стол\ЭТО СРОЧНО\ПРЕЗЕНТАЦИЯ\0_6d5dd_fa218c92_L.png"/>
          <p:cNvPicPr/>
          <p:nvPr/>
        </p:nvPicPr>
        <p:blipFill>
          <a:blip r:embed="rId5"/>
          <a:stretch/>
        </p:blipFill>
        <p:spPr>
          <a:xfrm>
            <a:off x="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Documents and Settings\Иятта\Рабочий стол\ЭТО СРОЧНО\ПРЕЗЕНТАЦИЯ\0_6d5dd_fa218c92_L.png"/>
          <p:cNvPicPr/>
          <p:nvPr/>
        </p:nvPicPr>
        <p:blipFill>
          <a:blip r:embed="rId6"/>
          <a:stretch/>
        </p:blipFill>
        <p:spPr>
          <a:xfrm>
            <a:off x="6734160" y="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Documents and Settings\Иятта\Рабочий стол\ЭТО СРОЧНО\ПРЕЗЕНТАЦИЯ\0_6d5e4_a4e0eb9c_L.png"/>
          <p:cNvPicPr/>
          <p:nvPr/>
        </p:nvPicPr>
        <p:blipFill>
          <a:blip r:embed="rId7"/>
          <a:stretch/>
        </p:blipFill>
        <p:spPr>
          <a:xfrm>
            <a:off x="2895480" y="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C:\Documents and Settings\Иятта\Рабочий стол\ЭТО СРОЧНО\ПРЕЗЕНТАЦИЯ\0_6d5e4_a4e0eb9c_L.png"/>
          <p:cNvPicPr/>
          <p:nvPr/>
        </p:nvPicPr>
        <p:blipFill>
          <a:blip r:embed="rId8"/>
          <a:stretch/>
        </p:blipFill>
        <p:spPr>
          <a:xfrm>
            <a:off x="7696080" y="2286000"/>
            <a:ext cx="1276560" cy="228600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12" descr=""/>
          <p:cNvPicPr/>
          <p:nvPr/>
        </p:nvPicPr>
        <p:blipFill>
          <a:blip r:embed="rId9"/>
          <a:stretch/>
        </p:blipFill>
        <p:spPr>
          <a:xfrm>
            <a:off x="2743200" y="1371600"/>
            <a:ext cx="5572080" cy="3786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:\Documents and Settings\Иятта\Рабочий стол\ЭТО СРОЧНО\ПРЕЗЕНТАЦИЯ\0_6d5e4_a4e0eb9c_L.png"/>
          <p:cNvPicPr/>
          <p:nvPr/>
        </p:nvPicPr>
        <p:blipFill>
          <a:blip r:embed="rId10"/>
          <a:stretch/>
        </p:blipFill>
        <p:spPr>
          <a:xfrm>
            <a:off x="23760" y="-4752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C:\Documents and Settings\Иятта\Рабочий стол\ЭТО СРОЧНО\ПРЕЗЕНТАЦИЯ\0_6d5e4_a4e0eb9c_L.png"/>
          <p:cNvPicPr/>
          <p:nvPr/>
        </p:nvPicPr>
        <p:blipFill>
          <a:blip r:embed="rId11"/>
          <a:stretch/>
        </p:blipFill>
        <p:spPr>
          <a:xfrm>
            <a:off x="49320" y="1125360"/>
            <a:ext cx="1276200" cy="35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Прямоугольник 4"/>
          <p:cNvGrpSpPr/>
          <p:nvPr/>
        </p:nvGrpSpPr>
        <p:grpSpPr>
          <a:xfrm>
            <a:off x="-30240" y="-30240"/>
            <a:ext cx="9204480" cy="6918480"/>
            <a:chOff x="-30240" y="-30240"/>
            <a:chExt cx="9204480" cy="6918480"/>
          </a:xfrm>
        </p:grpSpPr>
        <p:pic>
          <p:nvPicPr>
            <p:cNvPr id="81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-30240" y="-30240"/>
              <a:ext cx="9204480" cy="691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0b5ff"/>
                </a:solidFill>
                <a:latin typeface="Arial"/>
              </a:endParaRPr>
            </a:p>
          </p:txBody>
        </p:sp>
      </p:grpSp>
      <p:pic>
        <p:nvPicPr>
          <p:cNvPr id="83" name="Picture 3" descr="C:\Documents and Settings\Иятта\Рабочий стол\ЭТО СРОЧНО\ПРЕЗЕНТАЦИЯ\0_6d5dd_fa218c92_L.png"/>
          <p:cNvPicPr/>
          <p:nvPr/>
        </p:nvPicPr>
        <p:blipFill>
          <a:blip r:embed="rId2"/>
          <a:stretch/>
        </p:blipFill>
        <p:spPr>
          <a:xfrm>
            <a:off x="673416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C:\Documents and Settings\Иятта\Рабочий стол\ЭТО СРОЧНО\ПРЕЗЕНТАЦИЯ\0_6d5e4_a4e0eb9c_L.png"/>
          <p:cNvPicPr/>
          <p:nvPr/>
        </p:nvPicPr>
        <p:blipFill>
          <a:blip r:embed="rId3"/>
          <a:stretch/>
        </p:blipFill>
        <p:spPr>
          <a:xfrm>
            <a:off x="2743200" y="558180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C:\Documents and Settings\Иятта\Рабочий стол\ЭТО СРОЧНО\ПРЕЗЕНТАЦИЯ\0_6d5dd_fa218c92_L.png"/>
          <p:cNvPicPr/>
          <p:nvPr/>
        </p:nvPicPr>
        <p:blipFill>
          <a:blip r:embed="rId4"/>
          <a:stretch/>
        </p:blipFill>
        <p:spPr>
          <a:xfrm>
            <a:off x="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Documents and Settings\Иятта\Рабочий стол\ЭТО СРОЧНО\ПРЕЗЕНТАЦИЯ\0_6d5dd_fa218c92_L.png"/>
          <p:cNvPicPr/>
          <p:nvPr/>
        </p:nvPicPr>
        <p:blipFill>
          <a:blip r:embed="rId5"/>
          <a:stretch/>
        </p:blipFill>
        <p:spPr>
          <a:xfrm>
            <a:off x="6734160" y="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C:\Documents and Settings\Иятта\Рабочий стол\ЭТО СРОЧНО\ПРЕЗЕНТАЦИЯ\0_6d5e4_a4e0eb9c_L.png"/>
          <p:cNvPicPr/>
          <p:nvPr/>
        </p:nvPicPr>
        <p:blipFill>
          <a:blip r:embed="rId6"/>
          <a:stretch/>
        </p:blipFill>
        <p:spPr>
          <a:xfrm>
            <a:off x="2895480" y="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C:\Documents and Settings\Иятта\Рабочий стол\ЭТО СРОЧНО\ПРЕЗЕНТАЦИЯ\0_6d5e4_a4e0eb9c_L.png"/>
          <p:cNvPicPr/>
          <p:nvPr/>
        </p:nvPicPr>
        <p:blipFill>
          <a:blip r:embed="rId7"/>
          <a:stretch/>
        </p:blipFill>
        <p:spPr>
          <a:xfrm>
            <a:off x="7696080" y="2286000"/>
            <a:ext cx="1276560" cy="2286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C:\Documents and Settings\Иятта\Рабочий стол\ЭТО СРОЧНО\ПРЕЗЕНТАЦИЯ\0_6d5e4_a4e0eb9c_L.png"/>
          <p:cNvPicPr/>
          <p:nvPr/>
        </p:nvPicPr>
        <p:blipFill>
          <a:blip r:embed="rId8"/>
          <a:stretch/>
        </p:blipFill>
        <p:spPr>
          <a:xfrm>
            <a:off x="0" y="648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C:\Documents and Settings\Иятта\Рабочий стол\ЭТО СРОЧНО\ПРЕЗЕНТАЦИЯ\0_6d5e4_a4e0eb9c_L.png"/>
          <p:cNvPicPr/>
          <p:nvPr/>
        </p:nvPicPr>
        <p:blipFill>
          <a:blip r:embed="rId9"/>
          <a:stretch/>
        </p:blipFill>
        <p:spPr>
          <a:xfrm>
            <a:off x="101520" y="927000"/>
            <a:ext cx="1276560" cy="35686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2" descr=""/>
          <p:cNvPicPr/>
          <p:nvPr/>
        </p:nvPicPr>
        <p:blipFill>
          <a:blip r:embed="rId10"/>
          <a:stretch/>
        </p:blipFill>
        <p:spPr>
          <a:xfrm>
            <a:off x="1378080" y="1449360"/>
            <a:ext cx="2641320" cy="292104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1" descr=""/>
          <p:cNvPicPr/>
          <p:nvPr/>
        </p:nvPicPr>
        <p:blipFill>
          <a:blip r:embed="rId11"/>
          <a:stretch/>
        </p:blipFill>
        <p:spPr>
          <a:xfrm>
            <a:off x="4255920" y="2674800"/>
            <a:ext cx="320220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Прямоугольник 4"/>
          <p:cNvGrpSpPr/>
          <p:nvPr/>
        </p:nvGrpSpPr>
        <p:grpSpPr>
          <a:xfrm>
            <a:off x="-30240" y="-30240"/>
            <a:ext cx="9204480" cy="6918480"/>
            <a:chOff x="-30240" y="-30240"/>
            <a:chExt cx="9204480" cy="6918480"/>
          </a:xfrm>
        </p:grpSpPr>
        <p:pic>
          <p:nvPicPr>
            <p:cNvPr id="94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-30240" y="-30240"/>
              <a:ext cx="9204480" cy="691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0b5ff"/>
                </a:solidFill>
                <a:latin typeface="Arial"/>
              </a:endParaRPr>
            </a:p>
          </p:txBody>
        </p:sp>
      </p:grpSp>
      <p:pic>
        <p:nvPicPr>
          <p:cNvPr id="96" name="Picture 3" descr="C:\Documents and Settings\Иятта\Рабочий стол\ЭТО СРОЧНО\ПРЕЗЕНТАЦИЯ\0_6d5dd_fa218c92_L.png"/>
          <p:cNvPicPr/>
          <p:nvPr/>
        </p:nvPicPr>
        <p:blipFill>
          <a:blip r:embed="rId2"/>
          <a:stretch/>
        </p:blipFill>
        <p:spPr>
          <a:xfrm>
            <a:off x="673416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C:\Documents and Settings\Иятта\Рабочий стол\ЭТО СРОЧНО\ПРЕЗЕНТАЦИЯ\0_6d5e4_a4e0eb9c_L.png"/>
          <p:cNvPicPr/>
          <p:nvPr/>
        </p:nvPicPr>
        <p:blipFill>
          <a:blip r:embed="rId3"/>
          <a:stretch/>
        </p:blipFill>
        <p:spPr>
          <a:xfrm>
            <a:off x="2743200" y="558180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Documents and Settings\Иятта\Рабочий стол\ЭТО СРОЧНО\ПРЕЗЕНТАЦИЯ\0_6d5dd_fa218c92_L.png"/>
          <p:cNvPicPr/>
          <p:nvPr/>
        </p:nvPicPr>
        <p:blipFill>
          <a:blip r:embed="rId4"/>
          <a:stretch/>
        </p:blipFill>
        <p:spPr>
          <a:xfrm>
            <a:off x="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Documents and Settings\Иятта\Рабочий стол\ЭТО СРОЧНО\ПРЕЗЕНТАЦИЯ\0_6d5dd_fa218c92_L.png"/>
          <p:cNvPicPr/>
          <p:nvPr/>
        </p:nvPicPr>
        <p:blipFill>
          <a:blip r:embed="rId5"/>
          <a:stretch/>
        </p:blipFill>
        <p:spPr>
          <a:xfrm>
            <a:off x="6734160" y="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Documents and Settings\Иятта\Рабочий стол\ЭТО СРОЧНО\ПРЕЗЕНТАЦИЯ\0_6d5e4_a4e0eb9c_L.png"/>
          <p:cNvPicPr/>
          <p:nvPr/>
        </p:nvPicPr>
        <p:blipFill>
          <a:blip r:embed="rId6"/>
          <a:stretch/>
        </p:blipFill>
        <p:spPr>
          <a:xfrm>
            <a:off x="2895480" y="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C:\Documents and Settings\Иятта\Рабочий стол\ЭТО СРОЧНО\ПРЕЗЕНТАЦИЯ\0_6d5e4_a4e0eb9c_L.png"/>
          <p:cNvPicPr/>
          <p:nvPr/>
        </p:nvPicPr>
        <p:blipFill>
          <a:blip r:embed="rId7"/>
          <a:stretch/>
        </p:blipFill>
        <p:spPr>
          <a:xfrm>
            <a:off x="7696080" y="2286000"/>
            <a:ext cx="1276560" cy="2286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Documents and Settings\Иятта\Рабочий стол\ЭТО СРОЧНО\ПРЕЗЕНТАЦИЯ\0_6d5e4_a4e0eb9c_L.png"/>
          <p:cNvPicPr/>
          <p:nvPr/>
        </p:nvPicPr>
        <p:blipFill>
          <a:blip r:embed="rId8"/>
          <a:stretch/>
        </p:blipFill>
        <p:spPr>
          <a:xfrm>
            <a:off x="0" y="648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:\Documents and Settings\Иятта\Рабочий стол\ЭТО СРОЧНО\ПРЕЗЕНТАЦИЯ\0_6d5e4_a4e0eb9c_L.png"/>
          <p:cNvPicPr/>
          <p:nvPr/>
        </p:nvPicPr>
        <p:blipFill>
          <a:blip r:embed="rId9"/>
          <a:stretch/>
        </p:blipFill>
        <p:spPr>
          <a:xfrm>
            <a:off x="101520" y="927000"/>
            <a:ext cx="1276560" cy="35686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2" descr=""/>
          <p:cNvPicPr/>
          <p:nvPr/>
        </p:nvPicPr>
        <p:blipFill>
          <a:blip r:embed="rId10"/>
          <a:stretch/>
        </p:blipFill>
        <p:spPr>
          <a:xfrm>
            <a:off x="1054080" y="1174680"/>
            <a:ext cx="2938320" cy="36482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2" descr=""/>
          <p:cNvPicPr/>
          <p:nvPr/>
        </p:nvPicPr>
        <p:blipFill>
          <a:blip r:embed="rId11"/>
          <a:stretch/>
        </p:blipFill>
        <p:spPr>
          <a:xfrm>
            <a:off x="4732200" y="1839960"/>
            <a:ext cx="2936880" cy="37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Прямоугольник 4"/>
          <p:cNvGrpSpPr/>
          <p:nvPr/>
        </p:nvGrpSpPr>
        <p:grpSpPr>
          <a:xfrm>
            <a:off x="-30240" y="-30240"/>
            <a:ext cx="9204480" cy="6918480"/>
            <a:chOff x="-30240" y="-30240"/>
            <a:chExt cx="9204480" cy="6918480"/>
          </a:xfrm>
        </p:grpSpPr>
        <p:pic>
          <p:nvPicPr>
            <p:cNvPr id="107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-30240" y="-30240"/>
              <a:ext cx="9204480" cy="691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0b5ff"/>
                </a:solidFill>
                <a:latin typeface="Arial"/>
              </a:endParaRPr>
            </a:p>
          </p:txBody>
        </p:sp>
      </p:grpSp>
      <p:pic>
        <p:nvPicPr>
          <p:cNvPr id="109" name="Picture 2" descr="C:\Documents and Settings\Иятта\Рабочий стол\ЭТО СРОЧНО\ПРЕЗЕНТАЦИЯ\0b1046f41010b46599801122fdb6b725.jpeg"/>
          <p:cNvPicPr/>
          <p:nvPr/>
        </p:nvPicPr>
        <p:blipFill>
          <a:blip r:embed="rId2"/>
          <a:stretch/>
        </p:blipFill>
        <p:spPr>
          <a:xfrm>
            <a:off x="426960" y="1195560"/>
            <a:ext cx="3144960" cy="4760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Documents and Settings\Иятта\Рабочий стол\ЭТО СРОЧНО\ПРЕЗЕНТАЦИЯ\0_6d5dd_fa218c92_L.png"/>
          <p:cNvPicPr/>
          <p:nvPr/>
        </p:nvPicPr>
        <p:blipFill>
          <a:blip r:embed="rId3"/>
          <a:stretch/>
        </p:blipFill>
        <p:spPr>
          <a:xfrm>
            <a:off x="673416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Documents and Settings\Иятта\Рабочий стол\ЭТО СРОЧНО\ПРЕЗЕНТАЦИЯ\0_6d5e4_a4e0eb9c_L.png"/>
          <p:cNvPicPr/>
          <p:nvPr/>
        </p:nvPicPr>
        <p:blipFill>
          <a:blip r:embed="rId4"/>
          <a:stretch/>
        </p:blipFill>
        <p:spPr>
          <a:xfrm>
            <a:off x="2743200" y="558180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Documents and Settings\Иятта\Рабочий стол\ЭТО СРОЧНО\ПРЕЗЕНТАЦИЯ\0_6d5dd_fa218c92_L.png"/>
          <p:cNvPicPr/>
          <p:nvPr/>
        </p:nvPicPr>
        <p:blipFill>
          <a:blip r:embed="rId5"/>
          <a:stretch/>
        </p:blipFill>
        <p:spPr>
          <a:xfrm>
            <a:off x="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C:\Documents and Settings\Иятта\Рабочий стол\ЭТО СРОЧНО\ПРЕЗЕНТАЦИЯ\0_6d5dd_fa218c92_L.png"/>
          <p:cNvPicPr/>
          <p:nvPr/>
        </p:nvPicPr>
        <p:blipFill>
          <a:blip r:embed="rId6"/>
          <a:stretch/>
        </p:blipFill>
        <p:spPr>
          <a:xfrm>
            <a:off x="6734160" y="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C:\Documents and Settings\Иятта\Рабочий стол\ЭТО СРОЧНО\ПРЕЗЕНТАЦИЯ\0_6d5e4_a4e0eb9c_L.png"/>
          <p:cNvPicPr/>
          <p:nvPr/>
        </p:nvPicPr>
        <p:blipFill>
          <a:blip r:embed="rId7"/>
          <a:stretch/>
        </p:blipFill>
        <p:spPr>
          <a:xfrm>
            <a:off x="2895480" y="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C:\Documents and Settings\Иятта\Рабочий стол\ЭТО СРОЧНО\ПРЕЗЕНТАЦИЯ\0_6d5e4_a4e0eb9c_L.png"/>
          <p:cNvPicPr/>
          <p:nvPr/>
        </p:nvPicPr>
        <p:blipFill>
          <a:blip r:embed="rId8"/>
          <a:stretch/>
        </p:blipFill>
        <p:spPr>
          <a:xfrm>
            <a:off x="7696080" y="2286000"/>
            <a:ext cx="1276560" cy="2286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742840"/>
            <a:ext cx="5639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Мама... Простое, казалось бы, слово,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 сколько в нем нежности, ласки, тепла,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ебенок лопочет его бестолково,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учонки раскинув, припухший от сна.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 печали и в радости мы произносим, 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о робкое "Мама", то резкое "Мать".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рой на чужбине вдруг сердце запросит 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овсем незнакомую - мамой назвать.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 дома так часто ей делаем больно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ступками, взглядами, жестами мы, 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том вдалеке вспоминаем невольно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 том, что прибавило ей седины.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 пишем на школьных листках торопливо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изнанья своей запоздалой вины.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на их читает, краснеет стыдливо, 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 в горьких морщинах слезинки видны.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авно без письма все обиды простила, 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 тут ей до боли приятно прочесть: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"Спасибо, родная, за то, что растила, </a:t>
            </a:r>
            <a:br>
              <a:rPr sz="1600"/>
            </a:b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 то, что ты любишь, За то что ты есть!!!</a:t>
            </a:r>
            <a:endParaRPr b="0" lang="en-US" sz="1600" spc="-1" strike="noStrike">
              <a:solidFill>
                <a:srgbClr val="60b5ff"/>
              </a:solidFill>
              <a:latin typeface="Calibri"/>
            </a:endParaRPr>
          </a:p>
        </p:txBody>
      </p:sp>
      <p:pic>
        <p:nvPicPr>
          <p:cNvPr id="117" name="Picture 4" descr="C:\Documents and Settings\Иятта\Рабочий стол\ЭТО СРОЧНО\ПРЕЗЕНТАЦИЯ\0_6d5e4_a4e0eb9c_L.png"/>
          <p:cNvPicPr/>
          <p:nvPr/>
        </p:nvPicPr>
        <p:blipFill>
          <a:blip r:embed="rId9"/>
          <a:stretch/>
        </p:blipFill>
        <p:spPr>
          <a:xfrm>
            <a:off x="-160200" y="5400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C:\Documents and Settings\Иятта\Рабочий стол\ЭТО СРОЧНО\ПРЕЗЕНТАЦИЯ\0_6d5e4_a4e0eb9c_L.png"/>
          <p:cNvPicPr/>
          <p:nvPr/>
        </p:nvPicPr>
        <p:blipFill>
          <a:blip r:embed="rId10"/>
          <a:stretch/>
        </p:blipFill>
        <p:spPr>
          <a:xfrm>
            <a:off x="-28440" y="1003320"/>
            <a:ext cx="127620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Прямоугольник 4"/>
          <p:cNvGrpSpPr/>
          <p:nvPr/>
        </p:nvGrpSpPr>
        <p:grpSpPr>
          <a:xfrm>
            <a:off x="-30240" y="-30240"/>
            <a:ext cx="9204480" cy="6918480"/>
            <a:chOff x="-30240" y="-30240"/>
            <a:chExt cx="9204480" cy="6918480"/>
          </a:xfrm>
        </p:grpSpPr>
        <p:pic>
          <p:nvPicPr>
            <p:cNvPr id="120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-30240" y="-30240"/>
              <a:ext cx="9204480" cy="691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0b5ff"/>
                </a:solidFill>
                <a:latin typeface="Arial"/>
              </a:endParaRPr>
            </a:p>
          </p:txBody>
        </p:sp>
      </p:grpSp>
      <p:pic>
        <p:nvPicPr>
          <p:cNvPr id="122" name="Picture 3" descr="C:\Documents and Settings\Иятта\Рабочий стол\ЭТО СРОЧНО\ПРЕЗЕНТАЦИЯ\0_6d5dd_fa218c92_L.png"/>
          <p:cNvPicPr/>
          <p:nvPr/>
        </p:nvPicPr>
        <p:blipFill>
          <a:blip r:embed="rId2"/>
          <a:stretch/>
        </p:blipFill>
        <p:spPr>
          <a:xfrm>
            <a:off x="673416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C:\Documents and Settings\Иятта\Рабочий стол\ЭТО СРОЧНО\ПРЕЗЕНТАЦИЯ\0_6d5e4_a4e0eb9c_L.png"/>
          <p:cNvPicPr/>
          <p:nvPr/>
        </p:nvPicPr>
        <p:blipFill>
          <a:blip r:embed="rId3"/>
          <a:stretch/>
        </p:blipFill>
        <p:spPr>
          <a:xfrm>
            <a:off x="2743200" y="558180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:\Documents and Settings\Иятта\Рабочий стол\ЭТО СРОЧНО\ПРЕЗЕНТАЦИЯ\0_6d5dd_fa218c92_L.png"/>
          <p:cNvPicPr/>
          <p:nvPr/>
        </p:nvPicPr>
        <p:blipFill>
          <a:blip r:embed="rId4"/>
          <a:stretch/>
        </p:blipFill>
        <p:spPr>
          <a:xfrm>
            <a:off x="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C:\Documents and Settings\Иятта\Рабочий стол\ЭТО СРОЧНО\ПРЕЗЕНТАЦИЯ\0_6d5dd_fa218c92_L.png"/>
          <p:cNvPicPr/>
          <p:nvPr/>
        </p:nvPicPr>
        <p:blipFill>
          <a:blip r:embed="rId5"/>
          <a:stretch/>
        </p:blipFill>
        <p:spPr>
          <a:xfrm>
            <a:off x="6734160" y="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C:\Documents and Settings\Иятта\Рабочий стол\ЭТО СРОЧНО\ПРЕЗЕНТАЦИЯ\0_6d5e4_a4e0eb9c_L.png"/>
          <p:cNvPicPr/>
          <p:nvPr/>
        </p:nvPicPr>
        <p:blipFill>
          <a:blip r:embed="rId6"/>
          <a:stretch/>
        </p:blipFill>
        <p:spPr>
          <a:xfrm>
            <a:off x="2895480" y="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C:\Documents and Settings\Иятта\Рабочий стол\ЭТО СРОЧНО\ПРЕЗЕНТАЦИЯ\0_6d5e4_a4e0eb9c_L.png"/>
          <p:cNvPicPr/>
          <p:nvPr/>
        </p:nvPicPr>
        <p:blipFill>
          <a:blip r:embed="rId7"/>
          <a:stretch/>
        </p:blipFill>
        <p:spPr>
          <a:xfrm>
            <a:off x="7696080" y="2286000"/>
            <a:ext cx="1276560" cy="2286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C:\Documents and Settings\Иятта\Рабочий стол\ЭТО СРОЧНО\ПРЕЗЕНТАЦИЯ\0_6d5e4_a4e0eb9c_L.png"/>
          <p:cNvPicPr/>
          <p:nvPr/>
        </p:nvPicPr>
        <p:blipFill>
          <a:blip r:embed="rId8"/>
          <a:stretch/>
        </p:blipFill>
        <p:spPr>
          <a:xfrm>
            <a:off x="0" y="648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C:\Documents and Settings\Иятта\Рабочий стол\ЭТО СРОЧНО\ПРЕЗЕНТАЦИЯ\0_6d5e4_a4e0eb9c_L.png"/>
          <p:cNvPicPr/>
          <p:nvPr/>
        </p:nvPicPr>
        <p:blipFill>
          <a:blip r:embed="rId9"/>
          <a:stretch/>
        </p:blipFill>
        <p:spPr>
          <a:xfrm>
            <a:off x="101520" y="927000"/>
            <a:ext cx="1276560" cy="356868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" descr=""/>
          <p:cNvPicPr/>
          <p:nvPr/>
        </p:nvPicPr>
        <p:blipFill>
          <a:blip r:embed="rId10"/>
          <a:stretch/>
        </p:blipFill>
        <p:spPr>
          <a:xfrm>
            <a:off x="1479600" y="1289160"/>
            <a:ext cx="3098880" cy="352404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1" descr=""/>
          <p:cNvPicPr/>
          <p:nvPr/>
        </p:nvPicPr>
        <p:blipFill>
          <a:blip r:embed="rId11"/>
          <a:stretch/>
        </p:blipFill>
        <p:spPr>
          <a:xfrm>
            <a:off x="4786200" y="2624040"/>
            <a:ext cx="305136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Прямоугольник 4"/>
          <p:cNvGrpSpPr/>
          <p:nvPr/>
        </p:nvGrpSpPr>
        <p:grpSpPr>
          <a:xfrm>
            <a:off x="-30240" y="-30240"/>
            <a:ext cx="9204480" cy="6918480"/>
            <a:chOff x="-30240" y="-30240"/>
            <a:chExt cx="9204480" cy="6918480"/>
          </a:xfrm>
        </p:grpSpPr>
        <p:pic>
          <p:nvPicPr>
            <p:cNvPr id="133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-30240" y="-30240"/>
              <a:ext cx="9204480" cy="691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0b5ff"/>
                </a:solidFill>
                <a:latin typeface="Arial"/>
              </a:endParaRPr>
            </a:p>
          </p:txBody>
        </p:sp>
      </p:grpSp>
      <p:pic>
        <p:nvPicPr>
          <p:cNvPr id="135" name="Picture 3" descr="C:\Documents and Settings\Иятта\Рабочий стол\ЭТО СРОЧНО\ПРЕЗЕНТАЦИЯ\0_6d5dd_fa218c92_L.png"/>
          <p:cNvPicPr/>
          <p:nvPr/>
        </p:nvPicPr>
        <p:blipFill>
          <a:blip r:embed="rId2"/>
          <a:stretch/>
        </p:blipFill>
        <p:spPr>
          <a:xfrm>
            <a:off x="673416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C:\Documents and Settings\Иятта\Рабочий стол\ЭТО СРОЧНО\ПРЕЗЕНТАЦИЯ\0_6d5e4_a4e0eb9c_L.png"/>
          <p:cNvPicPr/>
          <p:nvPr/>
        </p:nvPicPr>
        <p:blipFill>
          <a:blip r:embed="rId3"/>
          <a:stretch/>
        </p:blipFill>
        <p:spPr>
          <a:xfrm>
            <a:off x="2743200" y="558180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C:\Documents and Settings\Иятта\Рабочий стол\ЭТО СРОЧНО\ПРЕЗЕНТАЦИЯ\0_6d5dd_fa218c92_L.png"/>
          <p:cNvPicPr/>
          <p:nvPr/>
        </p:nvPicPr>
        <p:blipFill>
          <a:blip r:embed="rId4"/>
          <a:stretch/>
        </p:blipFill>
        <p:spPr>
          <a:xfrm>
            <a:off x="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:\Documents and Settings\Иятта\Рабочий стол\ЭТО СРОЧНО\ПРЕЗЕНТАЦИЯ\0_6d5dd_fa218c92_L.png"/>
          <p:cNvPicPr/>
          <p:nvPr/>
        </p:nvPicPr>
        <p:blipFill>
          <a:blip r:embed="rId5"/>
          <a:stretch/>
        </p:blipFill>
        <p:spPr>
          <a:xfrm>
            <a:off x="6734160" y="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C:\Documents and Settings\Иятта\Рабочий стол\ЭТО СРОЧНО\ПРЕЗЕНТАЦИЯ\0_6d5e4_a4e0eb9c_L.png"/>
          <p:cNvPicPr/>
          <p:nvPr/>
        </p:nvPicPr>
        <p:blipFill>
          <a:blip r:embed="rId6"/>
          <a:stretch/>
        </p:blipFill>
        <p:spPr>
          <a:xfrm>
            <a:off x="2895480" y="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C:\Documents and Settings\Иятта\Рабочий стол\ЭТО СРОЧНО\ПРЕЗЕНТАЦИЯ\0_6d5e4_a4e0eb9c_L.png"/>
          <p:cNvPicPr/>
          <p:nvPr/>
        </p:nvPicPr>
        <p:blipFill>
          <a:blip r:embed="rId7"/>
          <a:stretch/>
        </p:blipFill>
        <p:spPr>
          <a:xfrm>
            <a:off x="7696080" y="2286000"/>
            <a:ext cx="1276560" cy="2286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C:\Documents and Settings\Иятта\Рабочий стол\ЭТО СРОЧНО\ПРЕЗЕНТАЦИЯ\0_6d5e4_a4e0eb9c_L.png"/>
          <p:cNvPicPr/>
          <p:nvPr/>
        </p:nvPicPr>
        <p:blipFill>
          <a:blip r:embed="rId8"/>
          <a:stretch/>
        </p:blipFill>
        <p:spPr>
          <a:xfrm>
            <a:off x="0" y="648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C:\Documents and Settings\Иятта\Рабочий стол\ЭТО СРОЧНО\ПРЕЗЕНТАЦИЯ\0_6d5e4_a4e0eb9c_L.png"/>
          <p:cNvPicPr/>
          <p:nvPr/>
        </p:nvPicPr>
        <p:blipFill>
          <a:blip r:embed="rId9"/>
          <a:stretch/>
        </p:blipFill>
        <p:spPr>
          <a:xfrm>
            <a:off x="101520" y="927000"/>
            <a:ext cx="1276560" cy="35686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2" descr=""/>
          <p:cNvPicPr/>
          <p:nvPr/>
        </p:nvPicPr>
        <p:blipFill>
          <a:blip r:embed="rId10"/>
          <a:stretch/>
        </p:blipFill>
        <p:spPr>
          <a:xfrm>
            <a:off x="1647720" y="1289160"/>
            <a:ext cx="2730600" cy="356076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2" descr=""/>
          <p:cNvPicPr/>
          <p:nvPr/>
        </p:nvPicPr>
        <p:blipFill>
          <a:blip r:embed="rId11"/>
          <a:stretch/>
        </p:blipFill>
        <p:spPr>
          <a:xfrm>
            <a:off x="4668840" y="1994040"/>
            <a:ext cx="312408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Прямоугольник 4"/>
          <p:cNvGrpSpPr/>
          <p:nvPr/>
        </p:nvGrpSpPr>
        <p:grpSpPr>
          <a:xfrm>
            <a:off x="-30240" y="-30240"/>
            <a:ext cx="9204480" cy="6918480"/>
            <a:chOff x="-30240" y="-30240"/>
            <a:chExt cx="9204480" cy="6918480"/>
          </a:xfrm>
        </p:grpSpPr>
        <p:pic>
          <p:nvPicPr>
            <p:cNvPr id="146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-30240" y="-30240"/>
              <a:ext cx="9204480" cy="691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0b5ff"/>
                </a:solidFill>
                <a:latin typeface="Arial"/>
              </a:endParaRPr>
            </a:p>
          </p:txBody>
        </p:sp>
      </p:grpSp>
      <p:pic>
        <p:nvPicPr>
          <p:cNvPr id="148" name="Picture 2" descr="C:\Documents and Settings\Иятта\Рабочий стол\ЭТО СРОЧНО\ПРЕЗЕНТАЦИЯ\0b1046f41010b46599801122fdb6b725.jpeg"/>
          <p:cNvPicPr/>
          <p:nvPr/>
        </p:nvPicPr>
        <p:blipFill>
          <a:blip r:embed="rId2"/>
          <a:stretch/>
        </p:blipFill>
        <p:spPr>
          <a:xfrm>
            <a:off x="244440" y="901800"/>
            <a:ext cx="3138480" cy="4760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C:\Documents and Settings\Иятта\Рабочий стол\ЭТО СРОЧНО\ПРЕЗЕНТАЦИЯ\0_6d5dd_fa218c92_L.png"/>
          <p:cNvPicPr/>
          <p:nvPr/>
        </p:nvPicPr>
        <p:blipFill>
          <a:blip r:embed="rId3"/>
          <a:stretch/>
        </p:blipFill>
        <p:spPr>
          <a:xfrm>
            <a:off x="673416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C:\Documents and Settings\Иятта\Рабочий стол\ЭТО СРОЧНО\ПРЕЗЕНТАЦИЯ\0_6d5e4_a4e0eb9c_L.png"/>
          <p:cNvPicPr/>
          <p:nvPr/>
        </p:nvPicPr>
        <p:blipFill>
          <a:blip r:embed="rId4"/>
          <a:stretch/>
        </p:blipFill>
        <p:spPr>
          <a:xfrm>
            <a:off x="2743200" y="558180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C:\Documents and Settings\Иятта\Рабочий стол\ЭТО СРОЧНО\ПРЕЗЕНТАЦИЯ\0_6d5dd_fa218c92_L.png"/>
          <p:cNvPicPr/>
          <p:nvPr/>
        </p:nvPicPr>
        <p:blipFill>
          <a:blip r:embed="rId5"/>
          <a:stretch/>
        </p:blipFill>
        <p:spPr>
          <a:xfrm>
            <a:off x="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C:\Documents and Settings\Иятта\Рабочий стол\ЭТО СРОЧНО\ПРЕЗЕНТАЦИЯ\0_6d5dd_fa218c92_L.png"/>
          <p:cNvPicPr/>
          <p:nvPr/>
        </p:nvPicPr>
        <p:blipFill>
          <a:blip r:embed="rId6"/>
          <a:stretch/>
        </p:blipFill>
        <p:spPr>
          <a:xfrm>
            <a:off x="6734160" y="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C:\Documents and Settings\Иятта\Рабочий стол\ЭТО СРОЧНО\ПРЕЗЕНТАЦИЯ\0_6d5e4_a4e0eb9c_L.png"/>
          <p:cNvPicPr/>
          <p:nvPr/>
        </p:nvPicPr>
        <p:blipFill>
          <a:blip r:embed="rId7"/>
          <a:stretch/>
        </p:blipFill>
        <p:spPr>
          <a:xfrm>
            <a:off x="2895480" y="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C:\Documents and Settings\Иятта\Рабочий стол\ЭТО СРОЧНО\ПРЕЗЕНТАЦИЯ\0_6d5e4_a4e0eb9c_L.png"/>
          <p:cNvPicPr/>
          <p:nvPr/>
        </p:nvPicPr>
        <p:blipFill>
          <a:blip r:embed="rId8"/>
          <a:stretch/>
        </p:blipFill>
        <p:spPr>
          <a:xfrm>
            <a:off x="7696080" y="2286000"/>
            <a:ext cx="1276560" cy="2286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33720" y="2666880"/>
            <a:ext cx="6324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Берегите своих матерей, как цветы от холодной вьюги,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Их любовь во сто крат горячей,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 чем друзей и любимой подруги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Материнской любви не объять – в летний зной,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 и в пургу, и в стужу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Она все вам готова отдать, все до грамма и даже душу!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Берегите своих матерей – вам, их ласки никто не заменит,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Среди пасмурных жизни дней кто поймет вас и кто оценит?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Кто возьмет на себя всю боль, все терзанья души и муки?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Мать не даст вместо хлеба соль, 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мать всегда к вам протянет руки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Пусть она и накажет строго - матерям никогда не лгите.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Им ведь надо от вас не много – только очень их берегите!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Берегите своих матерей как цветы от холодной вьюги, 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И сыновей заботой своей уврачуйте их все недуги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Не оставьте их без участья, берегите всегда их дети!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Ведь не может быть полного счастья,</a:t>
            </a:r>
            <a:br>
              <a:rPr sz="1600"/>
            </a:br>
            <a:r>
              <a:rPr b="1" i="1" lang="ru-RU" sz="1600" spc="-1" strike="noStrike">
                <a:solidFill>
                  <a:srgbClr val="088cff"/>
                </a:solidFill>
                <a:latin typeface="Book Antiqua"/>
              </a:rPr>
              <a:t> если матери нет на свете!!!</a:t>
            </a:r>
            <a:endParaRPr b="0" lang="en-US" sz="1600" spc="-1" strike="noStrike">
              <a:solidFill>
                <a:srgbClr val="60b5ff"/>
              </a:solidFill>
              <a:latin typeface="Calibri"/>
            </a:endParaRPr>
          </a:p>
        </p:txBody>
      </p:sp>
      <p:pic>
        <p:nvPicPr>
          <p:cNvPr id="156" name="Picture 4" descr="C:\Documents and Settings\Иятта\Рабочий стол\ЭТО СРОЧНО\ПРЕЗЕНТАЦИЯ\0_6d5e4_a4e0eb9c_L.png"/>
          <p:cNvPicPr/>
          <p:nvPr/>
        </p:nvPicPr>
        <p:blipFill>
          <a:blip r:embed="rId9"/>
          <a:stretch/>
        </p:blipFill>
        <p:spPr>
          <a:xfrm>
            <a:off x="-12600" y="-25560"/>
            <a:ext cx="3568680" cy="1276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C:\Documents and Settings\Иятта\Рабочий стол\ЭТО СРОЧНО\ПРЕЗЕНТАЦИЯ\0_6d5e4_a4e0eb9c_L.png"/>
          <p:cNvPicPr/>
          <p:nvPr/>
        </p:nvPicPr>
        <p:blipFill>
          <a:blip r:embed="rId10"/>
          <a:stretch/>
        </p:blipFill>
        <p:spPr>
          <a:xfrm>
            <a:off x="20520" y="1236600"/>
            <a:ext cx="127656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лья</dc:creator>
  <dc:description/>
  <dc:language>en-US</dc:language>
  <cp:lastModifiedBy>ads</cp:lastModifiedBy>
  <dcterms:modified xsi:type="dcterms:W3CDTF">2020-11-24T15:44:56Z</dcterms:modified>
  <cp:revision>27</cp:revision>
  <dc:subject/>
  <dc:title>Слайд 1</dc:title>
</cp:coreProperties>
</file>