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0F6-8DE5-4FC7-954C-A414E7EB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FD9-098F-4AE1-944C-8A5FF0EA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82B-1A8A-4D2A-90FE-4838BECA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63E-89D1-474E-AB6C-C7E90B97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E18-A04A-4DA4-8C92-65994B6C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D85-C118-4ADD-B7AA-D150C55E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A61-E77D-4AB3-8A03-D568C79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10A-EF95-4762-ABF1-B2ACC817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446-0512-4058-A6AA-392046BE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5C4-6B18-476A-BD9D-868E264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F70-6B56-4BC9-AE88-87D3860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630-20D0-441C-9922-5790FA0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467-2B34-4094-A777-82AF130D3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Родительское собрание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в1 класс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четвер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1516"/>
                </a:solidFill>
                <a:latin typeface="Calibri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4b1516"/>
                </a:solidFill>
                <a:latin typeface="Calibri"/>
                <a:ea typeface="Times New Roman"/>
              </a:rPr>
              <a:t>13 ноября 202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Греф О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класс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)Участие в школьных  конкурсах    «Золотая осень» и к 125-летию С. Есе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)  Участие в  олимпиаде «КИТ»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) Праздник «День зна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)Праздник «Посвящение в гимназис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 стихов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5 –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тие С.Есенина»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аствовало 9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20201113_145948.jpg"/>
          <p:cNvPicPr/>
          <p:nvPr/>
        </p:nvPicPr>
        <p:blipFill>
          <a:blip r:embed="rId1"/>
          <a:stretch/>
        </p:blipFill>
        <p:spPr>
          <a:xfrm>
            <a:off x="1714680" y="1428840"/>
            <a:ext cx="46432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42920"/>
            <a:ext cx="8208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 поделок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олотая осень»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аствовало 1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user\Desktop\20201113_145923.jpg"/>
          <p:cNvPicPr/>
          <p:nvPr/>
        </p:nvPicPr>
        <p:blipFill>
          <a:blip r:embed="rId1"/>
          <a:stretch/>
        </p:blipFill>
        <p:spPr>
          <a:xfrm>
            <a:off x="1857240" y="1571760"/>
            <a:ext cx="457200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День Знаний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Посвящение в гимназис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user\Desktop\IMG-20200901-WA0022.jpg"/>
          <p:cNvPicPr/>
          <p:nvPr/>
        </p:nvPicPr>
        <p:blipFill>
          <a:blip r:embed="rId1"/>
          <a:stretch/>
        </p:blipFill>
        <p:spPr>
          <a:xfrm>
            <a:off x="214200" y="1571760"/>
            <a:ext cx="3573720" cy="190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user\Desktop\IMG_0347.JPG"/>
          <p:cNvPicPr/>
          <p:nvPr/>
        </p:nvPicPr>
        <p:blipFill>
          <a:blip r:embed="rId2"/>
          <a:stretch/>
        </p:blipFill>
        <p:spPr>
          <a:xfrm>
            <a:off x="-4214880" y="-714384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user\Desktop\IMG_0347.JPG"/>
          <p:cNvPicPr/>
          <p:nvPr/>
        </p:nvPicPr>
        <p:blipFill>
          <a:blip r:embed="rId3"/>
          <a:stretch/>
        </p:blipFill>
        <p:spPr>
          <a:xfrm>
            <a:off x="-4214880" y="-714384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user\Desktop\IMG_0365.JPG"/>
          <p:cNvPicPr/>
          <p:nvPr/>
        </p:nvPicPr>
        <p:blipFill>
          <a:blip r:embed="rId4"/>
          <a:stretch/>
        </p:blipFill>
        <p:spPr>
          <a:xfrm>
            <a:off x="-4857840" y="-10287000"/>
            <a:ext cx="6856560" cy="763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user\Desktop\IMG_0347.png"/>
          <p:cNvPicPr/>
          <p:nvPr/>
        </p:nvPicPr>
        <p:blipFill>
          <a:blip r:embed="rId5"/>
          <a:stretch/>
        </p:blipFill>
        <p:spPr>
          <a:xfrm>
            <a:off x="-20002680" y="-10858680"/>
            <a:ext cx="6480360" cy="431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esktop\IMG_0365.JPG"/>
          <p:cNvPicPr/>
          <p:nvPr/>
        </p:nvPicPr>
        <p:blipFill>
          <a:blip r:embed="rId6"/>
          <a:stretch/>
        </p:blipFill>
        <p:spPr>
          <a:xfrm>
            <a:off x="4643280" y="1571760"/>
            <a:ext cx="3508560" cy="2319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user\Desktop\20201030_092129.jpg"/>
          <p:cNvPicPr/>
          <p:nvPr/>
        </p:nvPicPr>
        <p:blipFill>
          <a:blip r:embed="rId7"/>
          <a:stretch/>
        </p:blipFill>
        <p:spPr>
          <a:xfrm>
            <a:off x="4929120" y="3929040"/>
            <a:ext cx="2468520" cy="271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user\Desktop\IMG_0369.JPG"/>
          <p:cNvPicPr/>
          <p:nvPr/>
        </p:nvPicPr>
        <p:blipFill>
          <a:blip r:embed="rId8"/>
          <a:stretch/>
        </p:blipFill>
        <p:spPr>
          <a:xfrm>
            <a:off x="857160" y="3643200"/>
            <a:ext cx="38577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Техника чтения в 1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920" y="1600200"/>
            <a:ext cx="7274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ильное,осознанное чтение целыми словами с элементами слогового чтения многосложных с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 чтения —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30-40 слов в мину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ивитие интереса к чте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ирайте яркие книги с красивыми картинками и крупным шрифтом. У детей есть привычка сначала полистать книгу, и, если ребенок увидит красочные изображения на страницах, его интерес возрасте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бегайте больших книг с обилием текста на каждой странице. Переизбыток информации препятствует детскому восприятию. Важно, чтобы ребенок мог чаще перелистывать странички — это создает ощущение динамики и удерживает внимание к книг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1116000" y="1125360"/>
            <a:ext cx="574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ирайте небольшие произведения, лучше всего приключенческих жанрах, — детям нравятся захватывающие истории. Хорошо, когда героями книги становятся сказочные персонажи, животные или дети-школьники, — ваш ребенок будет в восторг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1000080" y="785880"/>
            <a:ext cx="616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ку нужна поддержка: изучите новую книгу вместе с ним, устройте вечер чтения вслух, а после обсудите сюжет и героев. Так Вы научитесь лучше понимать интересы своего малыша и сможете проводить время вместе с пользой и удовольстви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476360" y="765000"/>
            <a:ext cx="53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иги для детей 7 лет должны соответствовать их возрасту, а значит, быть яркими, несложными для восприятия и в то же время нести «зерно» знаний, то есть пополнять словарный запас ребенка, расширять его кругозо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мая литература для чтения в 1 класс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и А.С.Пуш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и К.И.Чуко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 С.Я.Марш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ы Е.Чарушина, В.Бианки, М.Пришвина, В.Суте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ы Н.Носова«Мишкина каша», «Живая шляпа»., В. Драгунского «Денискины рассказ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одные сказки и сказки зарубежных авт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Итоги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I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четвер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е 2 месяца учебной деятельности-период «острой адаптац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интенсивности и напряженности изменений, происходящих в организме ребенка в процессе учебных занятий в первые недели обучения, учебную нагрузку можно сравнить с воздействием на взрослый, хорошо тренированный организм экстремальных нагруз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на 2 четвер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16280"/>
            <a:ext cx="7499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чный классный час посвященный  «Дню Матер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посвященная Дню Мат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е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творительная ярмарка «Свет рождественской   звезды»  - 17 декаб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Успехов в воспитани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4038480" cy="2016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1"/>
          <p:cNvSpPr/>
          <p:nvPr/>
        </p:nvSpPr>
        <p:spPr>
          <a:xfrm>
            <a:off x="1979640" y="234936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Monotype Corsiv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уроках ч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3640" y="1052280"/>
            <a:ext cx="7848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течение 1 четверти д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за особенностями устной и письменной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количество слов в предложении,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ичество предложений в тексте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т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правильно интонировали предлож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тноси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ние изображенного предмета со схемой слова, обозначающего этот предм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андиро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о слогам слова-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количество слогов в словах и ставили в словах уда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количеством слогов и количеством гласных звуков в сло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99640" y="404280"/>
            <a:ext cx="7775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в звучащем слове твёрдого  и мягкого звук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лич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ги и слова, слова и предлож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олиро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ою работу по разгадыванию загадок, соотнося слова-отгадки с их звуковыми моделя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бира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 звуковым моделям соответствующие с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многозначностью слов с опорой на иллюст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Выделя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и слов имена люде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оставля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охожие по написанию, но разные по значению слов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полня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ги до сл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шифровы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квенную символ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изирова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уковой и буквенный составы с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овали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ой и буквенный составы с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 уроках пись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и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положением ручки при письме, посадкой за сто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лись ориентироватьс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азлиновке прописи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личать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ую и дополнительную строчки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людать наклон при письм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енировались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в написании различных элементов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олн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работу по образцу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ва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олненную работу с образцом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ходи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несовпадения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500040"/>
            <a:ext cx="720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остав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охожие элементы прописных букв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ходи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ходства и различия в их написании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ались контролир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расстояние между элементами во время их написа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изиро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азцы письма: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ходи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ста соединения элементов в букве и в сло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ментиро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вслух написание изученных элементов, слов, предложений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ассифициро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чатные и письменные бук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ги и слова по образцу (по пунктиру и самостоятельно)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 уроках матема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тноси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количество предметов на рисунке и количество символов в тетради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ния чисел с количеством предметов и с цифр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ва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у, цвет, размер изображён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вали чис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от 1 до 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«на глаз» длины отрез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ти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отре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енировались 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ьме циф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ение фигур в таблице, чисел в числовом ряду с помощью слов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, перед, за, межд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т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венства и неравенства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&gt;, &lt;,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письменной записи равенств и неравен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826920" y="1028880"/>
            <a:ext cx="74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ивали и уменьш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число на 1, называя следующее и предыдуще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станавли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ропущенные числа в числовом ря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рисунках и схемах закономерность увеличения и уменьшения чисел в числовом ряду, учились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ать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и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свойствами геометрических фигур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ходства и различия, делали выводы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исывал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линии, используя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ые, кривые, ломаные, луч, отрез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 уроках окружающего ми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зыв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изображено на иллюстрации в учебн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ча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на вопросы учителя (с опорой на иллюстраци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остав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ризнаки предметов и явле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я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сходства и различ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авлив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бщие о отличительные призна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ерм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ди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имеры, опираясь на свои з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Захарка</cp:lastModifiedBy>
  <dcterms:modified xsi:type="dcterms:W3CDTF">2020-11-30T16:41:18Z</dcterms:modified>
  <cp:revision>54</cp:revision>
  <dc:subject/>
  <dc:title>Презентация PowerPoint</dc:title>
</cp:coreProperties>
</file>