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EC7-1EB6-436D-9964-48C5FA33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311-C082-44FA-BC2F-52F0895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5D0-D817-4D19-97F1-DE6E0C56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2A4-B0A6-4BC1-9C7D-F6A674D5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FC2-67FE-4D30-940B-438C89D8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A0D-D0F7-4709-8569-D499335D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D66-2DEC-4FF6-8AA7-DE719EB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75A-5BF3-45CA-AD62-BEC5D79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A1D-A945-4349-ABA6-0DB7E27A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780-BE89-4466-A5DC-9FD0486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9D3-9185-4970-BA94-8D3AFC7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DD5-D5A7-47AD-91A5-1D30210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392-ABC8-4BB4-B52F-96E236F7B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1 класс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етвер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1516"/>
                </a:solidFill>
                <a:latin typeface="Calibri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4b1516"/>
                </a:solidFill>
                <a:latin typeface="Calibri"/>
                <a:ea typeface="Times New Roman"/>
              </a:rPr>
              <a:t>13 ноября 202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Греф О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класс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)Участие в школьных  конкурсах    «Золотая осень» и к 125-летию С. Есе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)  Участие в  олимпиаде «КИТ»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) Праздник «День зна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)Праздник «Посвящение в гимназис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стих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5 –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ие С.Есенина»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аствовало 9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20201113_145948.jpg"/>
          <p:cNvPicPr/>
          <p:nvPr/>
        </p:nvPicPr>
        <p:blipFill>
          <a:blip r:embed="rId1"/>
          <a:stretch/>
        </p:blipFill>
        <p:spPr>
          <a:xfrm>
            <a:off x="1714680" y="1428840"/>
            <a:ext cx="46432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42920"/>
            <a:ext cx="8208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поделок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олотая осень»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аствовало 1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user\Desktop\20201113_145923.jpg"/>
          <p:cNvPicPr/>
          <p:nvPr/>
        </p:nvPicPr>
        <p:blipFill>
          <a:blip r:embed="rId1"/>
          <a:stretch/>
        </p:blipFill>
        <p:spPr>
          <a:xfrm>
            <a:off x="1857240" y="1571760"/>
            <a:ext cx="45720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День Знаний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Посвящение в гимназис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IMG-20200901-WA0022.jpg"/>
          <p:cNvPicPr/>
          <p:nvPr/>
        </p:nvPicPr>
        <p:blipFill>
          <a:blip r:embed="rId1"/>
          <a:stretch/>
        </p:blipFill>
        <p:spPr>
          <a:xfrm>
            <a:off x="214200" y="1571760"/>
            <a:ext cx="3573720" cy="19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user\Desktop\IMG_0347.JPG"/>
          <p:cNvPicPr/>
          <p:nvPr/>
        </p:nvPicPr>
        <p:blipFill>
          <a:blip r:embed="rId2"/>
          <a:stretch/>
        </p:blipFill>
        <p:spPr>
          <a:xfrm>
            <a:off x="-4214880" y="-714384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Desktop\IMG_0347.JPG"/>
          <p:cNvPicPr/>
          <p:nvPr/>
        </p:nvPicPr>
        <p:blipFill>
          <a:blip r:embed="rId3"/>
          <a:stretch/>
        </p:blipFill>
        <p:spPr>
          <a:xfrm>
            <a:off x="-4214880" y="-714384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user\Desktop\IMG_0365.JPG"/>
          <p:cNvPicPr/>
          <p:nvPr/>
        </p:nvPicPr>
        <p:blipFill>
          <a:blip r:embed="rId4"/>
          <a:stretch/>
        </p:blipFill>
        <p:spPr>
          <a:xfrm>
            <a:off x="-4857840" y="-10287000"/>
            <a:ext cx="6856560" cy="763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user\Desktop\IMG_0347.png"/>
          <p:cNvPicPr/>
          <p:nvPr/>
        </p:nvPicPr>
        <p:blipFill>
          <a:blip r:embed="rId5"/>
          <a:stretch/>
        </p:blipFill>
        <p:spPr>
          <a:xfrm>
            <a:off x="-20002680" y="-10858680"/>
            <a:ext cx="6480360" cy="43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IMG_0365.JPG"/>
          <p:cNvPicPr/>
          <p:nvPr/>
        </p:nvPicPr>
        <p:blipFill>
          <a:blip r:embed="rId6"/>
          <a:stretch/>
        </p:blipFill>
        <p:spPr>
          <a:xfrm>
            <a:off x="4643280" y="1571760"/>
            <a:ext cx="3508560" cy="2319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user\Desktop\20201030_092129.jpg"/>
          <p:cNvPicPr/>
          <p:nvPr/>
        </p:nvPicPr>
        <p:blipFill>
          <a:blip r:embed="rId7"/>
          <a:stretch/>
        </p:blipFill>
        <p:spPr>
          <a:xfrm>
            <a:off x="4929120" y="3929040"/>
            <a:ext cx="2468520" cy="271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user\Desktop\IMG_0369.JPG"/>
          <p:cNvPicPr/>
          <p:nvPr/>
        </p:nvPicPr>
        <p:blipFill>
          <a:blip r:embed="rId8"/>
          <a:stretch/>
        </p:blipFill>
        <p:spPr>
          <a:xfrm>
            <a:off x="857160" y="3643200"/>
            <a:ext cx="38577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Техника чтения в 1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1600200"/>
            <a:ext cx="7274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ьное,осознанное чтение целыми словами с элементами слогового чтения многосложных с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 чтения —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30-40 слов в мину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ивитие интереса к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ирайте яркие книги с красивыми картинками и крупным шрифтом. У детей есть привычка сначала полистать книгу, и, если ребенок увидит красочные изображения на страницах, его интерес возраст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бегайте больших книг с обилием текста на каждой странице. Переизбыток информации препятствует детскому восприятию. Важно, чтобы ребенок мог чаще перелистывать странички — это создает ощущение динамики и удерживает внимание к книг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1116000" y="1125360"/>
            <a:ext cx="57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ирайте небольшие произведения, лучше всего приключенческих жанрах, — детям нравятся захватывающие истории. Хорошо, когда героями книги становятся сказочные персонажи, животные или дети-школьники, — ваш ребенок будет в восторг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1000080" y="785880"/>
            <a:ext cx="616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ку нужна поддержка: изучите новую книгу вместе с ним, устройте вечер чтения вслух, а после обсудите сюжет и героев. Так Вы научитесь лучше понимать интересы своего малыша и сможете проводить время вместе с пользой и удовольстви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76360" y="765000"/>
            <a:ext cx="53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иги для детей 7 лет должны соответствовать их возрасту, а значит, быть яркими, несложными для восприятия и в то же время нести «зерно» знаний, то есть пополнять словарный запас ребенка, расширять его кругозо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мая литература для чтения в 1 класс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К.И.Чу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.Я.Марш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Е.Чарушина, В.Бианки, М.Пришвина, В.Сут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Н.Носова«Мишкина каша», «Живая шляпа»., В. Драгунского «Денискины рассказ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одные сказки и сказки зарубежных ав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четвер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е 2 месяца учебной деятельности-период «острой адаптац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интенсивности и напряженности изменений, происходящих в организме ребенка в процессе учебных занятий в первые недели обучения, учебную нагрузку можно сравнить с воздействием на взрослый, хорошо тренированный организм экстремальных нагруз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на 2 четвер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6280"/>
            <a:ext cx="749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чный классный час посвященный  «Дню Матер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посвященная Дню Ма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е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творительная ярмарка «Свет рождественской   звезды»  - 17 декаб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Успехов в воспитани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4038480" cy="2016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1"/>
          <p:cNvSpPr/>
          <p:nvPr/>
        </p:nvSpPr>
        <p:spPr>
          <a:xfrm>
            <a:off x="1979640" y="2349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уроках ч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3640" y="1052280"/>
            <a:ext cx="784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течение 1 четверти д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за особенностями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слов в предложении,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ичество предложений в тексте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т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правильно интонировали пред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носи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изображенного предмета со схемой слова, обозначающего этот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андиро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 слогам слова-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слогов в словах и ставили в словах уда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количеством слогов и количеством гласных звуков в сло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99640" y="404280"/>
            <a:ext cx="7775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в звучащем слове твёрдого  и мягкого звук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ч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и слова, слова и пред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ол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ою работу по разгадыванию загадок, соотнося слова-отгадки с их звуковыми моделя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бира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 звуковым моделям соответствующие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многозначностью слов с опорой на иллюст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ыделя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и слов имена люде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хожие по написанию, но разные по значению слов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полня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до сл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шифровы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квенную символ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изиров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уковой и буквенный составы с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ли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ой и буквенный составы с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пись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положением ручки при письме, посадкой за сто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лись ориентироватьс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азлиновке прописи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чать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ую и дополнительную строчки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людать наклон при письм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енировались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в написании различных элементов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работу по образцу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енную работу с образцом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несовпадения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500040"/>
            <a:ext cx="72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хожие элементы прописных букв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ходства и различия в их написании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лись контрол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расстояние между элементами во время их написа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из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цы письма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та соединения элементов в букве и в сло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ентиро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вслух написание изученных элементов, слов, предложений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ифиц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чатные и письменные бук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и слова по образцу (по пунктиру и самостоятельно)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мате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нос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предметов на рисунке и количество символов в тетради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я чисел с количеством предметов и с циф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у, цвет, размер изображён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 чис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от 1 до 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на глаз» длины отрез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т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ре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енировались 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е циф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ение фигур в таблице, чисел в числовом ряду с помощью слов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, перед, за, межд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т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венства и неравенства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&gt;, &lt;,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письменной записи равенств и неравен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826920" y="102888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ивали и уменьш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число на 1, называя следующее и предыдуще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станавли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ропущенные числа в числовом ря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исунках и схемах закономерность увеличения и уменьшения чисел в числовом ряду, учились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свойствами геометрических фигур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ходства и различия, делали выводы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исы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линии, используя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ые, кривые, ломаные, луч, отре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окружающего ми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зы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изображено на иллюстрации в учеб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ч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на вопросы учителя (с опорой на иллюстраци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ризнаки предметов и явле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сходства и различ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авлив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бщие о отличительные призна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рм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д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имеры, опираясь на свои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Захарка</cp:lastModifiedBy>
  <dcterms:modified xsi:type="dcterms:W3CDTF">2020-11-30T16:41:18Z</dcterms:modified>
  <cp:revision>54</cp:revision>
  <dc:subject/>
  <dc:title>Презентация PowerPoint</dc:title>
</cp:coreProperties>
</file>