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4.png" ContentType="image/png"/>
  <Override PartName="/ppt/media/image12.jpeg" ContentType="image/jpeg"/>
  <Override PartName="/ppt/media/image9.jpeg" ContentType="image/jpe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1.jpeg" ContentType="image/jpeg"/>
  <Override PartName="/ppt/media/image11.jpeg" ContentType="image/jpeg"/>
  <Override PartName="/ppt/media/image24.png" ContentType="image/png"/>
  <Override PartName="/ppt/media/image25.png" ContentType="image/pn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657F-71E6-49C6-8407-E72964F0F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F7A7-00A9-4E25-8EAA-6851D473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279D-3739-44BD-98CD-597E3B87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5D62-061A-46B0-8B27-38C7FF095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CB0F-58A1-44F1-87AF-31DC7406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0A4A-DE66-4CF0-9DDF-5C51876B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BA43-9667-4D60-BB50-DC45EFBC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1B02-4540-4E14-BCB5-C8094304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B9AC-69A5-4727-9B52-C05EBDAB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F86A-CA55-4C00-B1A3-636CFE58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16DC-D38D-4B25-80DD-EE515597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199F-F387-4DB1-9C2F-3BD353D5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C3A9-DA68-42DA-B03D-652678473C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5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" descr="images (22)"/>
          <p:cNvPicPr/>
          <p:nvPr/>
        </p:nvPicPr>
        <p:blipFill>
          <a:blip r:embed="rId2"/>
          <a:stretch/>
        </p:blipFill>
        <p:spPr>
          <a:xfrm>
            <a:off x="179280" y="3357720"/>
            <a:ext cx="5256360" cy="33112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9"/>
          <p:cNvSpPr/>
          <p:nvPr/>
        </p:nvSpPr>
        <p:spPr>
          <a:xfrm>
            <a:off x="179280" y="3357720"/>
            <a:ext cx="5256360" cy="331128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1" descr="images (18)"/>
          <p:cNvPicPr/>
          <p:nvPr/>
        </p:nvPicPr>
        <p:blipFill>
          <a:blip r:embed="rId3"/>
          <a:srcRect l="0" t="3020" r="0" b="0"/>
          <a:stretch/>
        </p:blipFill>
        <p:spPr>
          <a:xfrm>
            <a:off x="5651640" y="3357720"/>
            <a:ext cx="3313080" cy="33112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0"/>
          <p:cNvSpPr/>
          <p:nvPr/>
        </p:nvSpPr>
        <p:spPr>
          <a:xfrm>
            <a:off x="5651640" y="3357720"/>
            <a:ext cx="3313080" cy="331128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2" descr="Вежливость3"/>
          <p:cNvPicPr/>
          <p:nvPr/>
        </p:nvPicPr>
        <p:blipFill>
          <a:blip r:embed="rId4"/>
          <a:stretch/>
        </p:blipFill>
        <p:spPr>
          <a:xfrm>
            <a:off x="4392720" y="-25560"/>
            <a:ext cx="4787640" cy="31384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8"/>
          <p:cNvSpPr/>
          <p:nvPr/>
        </p:nvSpPr>
        <p:spPr>
          <a:xfrm>
            <a:off x="4788000" y="115920"/>
            <a:ext cx="4176720" cy="302580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3" descr="Вежливость5"/>
          <p:cNvPicPr/>
          <p:nvPr/>
        </p:nvPicPr>
        <p:blipFill>
          <a:blip r:embed="rId5"/>
          <a:stretch/>
        </p:blipFill>
        <p:spPr>
          <a:xfrm>
            <a:off x="179280" y="106200"/>
            <a:ext cx="4392720" cy="30117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7"/>
          <p:cNvSpPr/>
          <p:nvPr/>
        </p:nvSpPr>
        <p:spPr>
          <a:xfrm>
            <a:off x="179280" y="115920"/>
            <a:ext cx="4392720" cy="302580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Фон1"/>
          <p:cNvPicPr/>
          <p:nvPr/>
        </p:nvPicPr>
        <p:blipFill>
          <a:blip r:embed="rId1"/>
          <a:stretch/>
        </p:blipFill>
        <p:spPr>
          <a:xfrm>
            <a:off x="-76320" y="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WordArt 5"/>
          <p:cNvSpPr txBox="1"/>
          <p:nvPr/>
        </p:nvSpPr>
        <p:spPr>
          <a:xfrm>
            <a:off x="468360" y="620640"/>
            <a:ext cx="842472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81" name="Прямоугольник 1"/>
          <p:cNvSpPr/>
          <p:nvPr/>
        </p:nvSpPr>
        <p:spPr>
          <a:xfrm>
            <a:off x="1547640" y="333360"/>
            <a:ext cx="5310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минутка:  Вежливыми могут быть ни только люди,но и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едставьте себе, что животные тоже решили стать  вежлив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при  встречи всегда здоров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:  придумайте и покажи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могли бы здороваться  друг с друг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раф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ь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зья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вед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5"/>
          <p:cNvSpPr txBox="1"/>
          <p:nvPr/>
        </p:nvSpPr>
        <p:spPr>
          <a:xfrm>
            <a:off x="468360" y="620640"/>
            <a:ext cx="842472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84" name="Прямоугольник 1"/>
          <p:cNvSpPr/>
          <p:nvPr/>
        </p:nvSpPr>
        <p:spPr>
          <a:xfrm>
            <a:off x="826920" y="612720"/>
            <a:ext cx="7705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ситуации «Двое прохожи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улице шли двое прохожих. Одному 62 года, другому 8 лет. У первого в руках было 5 предметов: 1 портфель, 3 книжки, 1 сверток. Одна из книг уп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вас упала книга! – закричал мальчик, догоняя прохож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е? – удивился т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ечно, объяснил мальчик, – у вас было 3 книги, 1 портфель и пакет – всего 5 вещей, а теперь осталось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, по-вашему, что ответил прохожий мальчик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вижу, ты хорошо знаешь вычитание и сложение, – сказал прохожий, с трудом поднимая упавшую книгу, – однако есть правило, которого ты еще не усво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это за правило? Для чего нужны эти прави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WordArt 5"/>
          <p:cNvSpPr txBox="1"/>
          <p:nvPr/>
        </p:nvSpPr>
        <p:spPr>
          <a:xfrm>
            <a:off x="468360" y="620640"/>
            <a:ext cx="842472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250920" y="404640"/>
            <a:ext cx="8642160" cy="78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ИЛО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жливый человек постоянно думает об ………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ИЛО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дь вежлив со своими ………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ИЛО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жливый человек не причинит ……………. другому человеку, не обидит его оскорбительным…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ИЛО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жливый человек ………………. к люд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ИЛО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жливый человек ……………. с друзьями, работает и играет друж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ещё правила вежливых людей можете назв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9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7"/>
          <p:cNvSpPr/>
          <p:nvPr/>
        </p:nvSpPr>
        <p:spPr>
          <a:xfrm>
            <a:off x="6384960" y="-1012680"/>
            <a:ext cx="2506320" cy="84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5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8"/>
          <p:cNvSpPr txBox="1"/>
          <p:nvPr/>
        </p:nvSpPr>
        <p:spPr>
          <a:xfrm>
            <a:off x="395280" y="907920"/>
            <a:ext cx="5975280" cy="4897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Правила</a:t>
            </a:r>
            <a:endParaRPr b="0" lang="en-US" sz="1800" spc="1" strike="noStrike">
              <a:ln w="324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вежливых</a:t>
            </a:r>
            <a:endParaRPr b="0" lang="en-US" sz="1800" spc="1" strike="noStrike">
              <a:ln w="324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людей</a:t>
            </a:r>
            <a:endParaRPr b="0" lang="en-US" sz="1800" spc="1" strike="noStrike">
              <a:ln w="324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0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611280" y="1341360"/>
            <a:ext cx="7416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ежливый челове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думает об окружающих людя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49840" y="404640"/>
            <a:ext cx="3621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00"/>
                </a:solidFill>
                <a:latin typeface="Arial"/>
              </a:rPr>
              <a:t>1 правило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motivator-38746"/>
          <p:cNvPicPr/>
          <p:nvPr/>
        </p:nvPicPr>
        <p:blipFill>
          <a:blip r:embed="rId2"/>
          <a:stretch/>
        </p:blipFill>
        <p:spPr>
          <a:xfrm>
            <a:off x="3708360" y="2565360"/>
            <a:ext cx="5256360" cy="388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7"/>
          <p:cNvSpPr/>
          <p:nvPr/>
        </p:nvSpPr>
        <p:spPr>
          <a:xfrm>
            <a:off x="3708360" y="2565360"/>
            <a:ext cx="5256360" cy="388800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Вежливость2"/>
          <p:cNvPicPr/>
          <p:nvPr/>
        </p:nvPicPr>
        <p:blipFill>
          <a:blip r:embed="rId3"/>
          <a:stretch/>
        </p:blipFill>
        <p:spPr>
          <a:xfrm>
            <a:off x="250920" y="2546280"/>
            <a:ext cx="3241440" cy="38926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8"/>
          <p:cNvSpPr/>
          <p:nvPr/>
        </p:nvSpPr>
        <p:spPr>
          <a:xfrm>
            <a:off x="250920" y="2565360"/>
            <a:ext cx="3241440" cy="388800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2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611280" y="1557360"/>
            <a:ext cx="7416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будь вежли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со своими товарищ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249840" y="620640"/>
            <a:ext cx="3621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00"/>
                </a:solidFill>
                <a:latin typeface="Arial"/>
              </a:rPr>
              <a:t>2 правило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ec7f346604f518906d35ef0492709"/>
          <p:cNvPicPr/>
          <p:nvPr/>
        </p:nvPicPr>
        <p:blipFill>
          <a:blip r:embed="rId2"/>
          <a:stretch/>
        </p:blipFill>
        <p:spPr>
          <a:xfrm>
            <a:off x="5448240" y="2787480"/>
            <a:ext cx="3516480" cy="38102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0"/>
          <p:cNvSpPr/>
          <p:nvPr/>
        </p:nvSpPr>
        <p:spPr>
          <a:xfrm>
            <a:off x="5435640" y="2781360"/>
            <a:ext cx="3530520" cy="381636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Вежливость4"/>
          <p:cNvPicPr/>
          <p:nvPr/>
        </p:nvPicPr>
        <p:blipFill>
          <a:blip r:embed="rId3"/>
          <a:stretch/>
        </p:blipFill>
        <p:spPr>
          <a:xfrm>
            <a:off x="179280" y="2781360"/>
            <a:ext cx="5040360" cy="38163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9"/>
          <p:cNvSpPr/>
          <p:nvPr/>
        </p:nvSpPr>
        <p:spPr>
          <a:xfrm>
            <a:off x="179280" y="2781360"/>
            <a:ext cx="5040360" cy="381636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1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611280" y="1325520"/>
            <a:ext cx="7416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ежливый челове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не причинит неприятностей другому человек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49840" y="388800"/>
            <a:ext cx="3621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00"/>
                </a:solidFill>
                <a:latin typeface="Arial"/>
              </a:rPr>
              <a:t>3 правило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Вежливость"/>
          <p:cNvPicPr/>
          <p:nvPr/>
        </p:nvPicPr>
        <p:blipFill>
          <a:blip r:embed="rId2"/>
          <a:stretch/>
        </p:blipFill>
        <p:spPr>
          <a:xfrm>
            <a:off x="250920" y="2924280"/>
            <a:ext cx="4321080" cy="35272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9"/>
          <p:cNvSpPr/>
          <p:nvPr/>
        </p:nvSpPr>
        <p:spPr>
          <a:xfrm>
            <a:off x="250920" y="2909880"/>
            <a:ext cx="4321080" cy="352728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3" descr="Вежливость2"/>
          <p:cNvPicPr/>
          <p:nvPr/>
        </p:nvPicPr>
        <p:blipFill>
          <a:blip r:embed="rId3"/>
          <a:stretch/>
        </p:blipFill>
        <p:spPr>
          <a:xfrm>
            <a:off x="4788000" y="2924280"/>
            <a:ext cx="4190760" cy="35208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0"/>
          <p:cNvSpPr/>
          <p:nvPr/>
        </p:nvSpPr>
        <p:spPr>
          <a:xfrm>
            <a:off x="4788000" y="2909880"/>
            <a:ext cx="4176720" cy="352728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4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611280" y="1413000"/>
            <a:ext cx="7416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ежливый челове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нимателен к людя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49840" y="476280"/>
            <a:ext cx="3621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00"/>
                </a:solidFill>
                <a:latin typeface="Arial"/>
              </a:rPr>
              <a:t>4 правило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2" descr="Вежливость6"/>
          <p:cNvPicPr/>
          <p:nvPr/>
        </p:nvPicPr>
        <p:blipFill>
          <a:blip r:embed="rId2"/>
          <a:stretch/>
        </p:blipFill>
        <p:spPr>
          <a:xfrm>
            <a:off x="179280" y="2637000"/>
            <a:ext cx="4032360" cy="38289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1"/>
          <p:cNvSpPr/>
          <p:nvPr/>
        </p:nvSpPr>
        <p:spPr>
          <a:xfrm>
            <a:off x="179280" y="2637000"/>
            <a:ext cx="4032360" cy="381636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3" descr="Вежливость7"/>
          <p:cNvPicPr/>
          <p:nvPr/>
        </p:nvPicPr>
        <p:blipFill>
          <a:blip r:embed="rId3"/>
          <a:stretch/>
        </p:blipFill>
        <p:spPr>
          <a:xfrm>
            <a:off x="4427640" y="2637000"/>
            <a:ext cx="4537080" cy="38163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4427640" y="2637000"/>
            <a:ext cx="4538520" cy="381636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4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611280" y="1413000"/>
            <a:ext cx="7416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ежливый челове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не ссорится с друзь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249840" y="476280"/>
            <a:ext cx="3621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00"/>
                </a:solidFill>
                <a:latin typeface="Arial"/>
              </a:rPr>
              <a:t>5 правило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1" descr="Дети"/>
          <p:cNvPicPr/>
          <p:nvPr/>
        </p:nvPicPr>
        <p:blipFill>
          <a:blip r:embed="rId2"/>
          <a:stretch/>
        </p:blipFill>
        <p:spPr>
          <a:xfrm>
            <a:off x="250920" y="2563920"/>
            <a:ext cx="4680000" cy="38894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0"/>
          <p:cNvSpPr/>
          <p:nvPr/>
        </p:nvSpPr>
        <p:spPr>
          <a:xfrm>
            <a:off x="250920" y="2563920"/>
            <a:ext cx="4681440" cy="388944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Дети2"/>
          <p:cNvPicPr/>
          <p:nvPr/>
        </p:nvPicPr>
        <p:blipFill>
          <a:blip r:embed="rId3"/>
          <a:stretch/>
        </p:blipFill>
        <p:spPr>
          <a:xfrm>
            <a:off x="5076720" y="2563920"/>
            <a:ext cx="3888000" cy="38685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3"/>
          <p:cNvSpPr/>
          <p:nvPr/>
        </p:nvSpPr>
        <p:spPr>
          <a:xfrm>
            <a:off x="5076720" y="2563920"/>
            <a:ext cx="3888000" cy="388944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Дети3"/>
          <p:cNvPicPr/>
          <p:nvPr/>
        </p:nvPicPr>
        <p:blipFill>
          <a:blip r:embed="rId2"/>
          <a:stretch/>
        </p:blipFill>
        <p:spPr>
          <a:xfrm>
            <a:off x="250920" y="189000"/>
            <a:ext cx="8713800" cy="64864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>
            <a:off x="468360" y="620640"/>
            <a:ext cx="842472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Вежливость -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это сила, слабость,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необходимость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143160" cy="68580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тор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Содержимое 3" descr="sova.gif"/>
          <p:cNvPicPr/>
          <p:nvPr/>
        </p:nvPicPr>
        <p:blipFill>
          <a:blip r:embed="rId1"/>
          <a:stretch/>
        </p:blipFill>
        <p:spPr>
          <a:xfrm>
            <a:off x="4643280" y="1484280"/>
            <a:ext cx="3654720" cy="3986280"/>
          </a:xfrm>
          <a:prstGeom prst="rect">
            <a:avLst/>
          </a:prstGeom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1:</a:t>
            </a:r>
            <a:br>
              <a:rPr sz="24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вежливость?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Вежливость на дороге»)</a:t>
            </a:r>
            <a:br>
              <a:rPr sz="2800"/>
            </a:br>
            <a:br>
              <a:rPr sz="2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4" descr="september_03.jpg"/>
          <p:cNvPicPr/>
          <p:nvPr/>
        </p:nvPicPr>
        <p:blipFill>
          <a:blip r:embed="rId1"/>
          <a:srcRect l="3334" t="0" r="3334" b="0"/>
          <a:stretch/>
        </p:blipFill>
        <p:spPr>
          <a:xfrm>
            <a:off x="1785960" y="178596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ильный ответ №1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ово «вежливость» происходит от старославянского «веже», т. е.        «знаток»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ыть вежливым, следовательно, знать,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себя вести, с уважением относится к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кружающим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прос №2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дверях школы вы встретились с одноклассницей. Кто первым должен поздороватьс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ильный ответ №2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первым здоровается младший со старшим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альчик с девочкой)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: </a:t>
            </a:r>
            <a:br>
              <a:rPr sz="28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ервым здоровается при входе в помещение?</a:t>
            </a:r>
            <a:br>
              <a:rPr sz="36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ильный ответ №3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вым всегда здоровается входящий,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зависимо от пола и возраста.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: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о кому представляют?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C:\Documents and Settings\Ай-Кат\Мои документы\Мои рисунки\e4.jpg"/>
          <p:cNvPicPr/>
          <p:nvPr/>
        </p:nvPicPr>
        <p:blipFill>
          <a:blip r:embed="rId1"/>
          <a:stretch/>
        </p:blipFill>
        <p:spPr>
          <a:xfrm>
            <a:off x="2000160" y="1928880"/>
            <a:ext cx="478656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ильный ответ №4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ладшего – старшему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ужчину – женщине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нее известного – более           известному.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: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должен здороваться первым: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ящий или проходящий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ильный ответ №5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ходящий.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: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существуют варианты ответных реплик по поводу состоявшегося знакомств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C:\Documents and Settings\Ай-Кат\Мои документы\Мои рисунки\LVCH5CAB2N0POCAI2T41UCAQTHJVACAJPWB8WCATU57DNCAXPP8T3CAIHLP37CAFXFHALCA41HAFSCATQ3S4FCAJL0BTUCAI70HQFCA350LBFCAB0WP07CAZOIKMNCADEOKYACABYWHTRCARVGRHBCAYWJLOJ.jpg"/>
          <p:cNvPicPr/>
          <p:nvPr/>
        </p:nvPicPr>
        <p:blipFill>
          <a:blip r:embed="rId1"/>
          <a:stretch/>
        </p:blipFill>
        <p:spPr>
          <a:xfrm>
            <a:off x="1116000" y="981000"/>
            <a:ext cx="21240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600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ильный ответ №6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Очень приятно!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Очень рад!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Мне приятно, что мы с вам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знакомились! и т. д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Подзаголовок 2"/>
          <p:cNvGrpSpPr/>
          <p:nvPr/>
        </p:nvGrpSpPr>
        <p:grpSpPr>
          <a:xfrm>
            <a:off x="-92160" y="3511440"/>
            <a:ext cx="9412200" cy="3425760"/>
            <a:chOff x="-92160" y="3511440"/>
            <a:chExt cx="9412200" cy="3425760"/>
          </a:xfrm>
        </p:grpSpPr>
        <p:pic>
          <p:nvPicPr>
            <p:cNvPr id="142" name="Подзаголовок 2" descr=""/>
            <p:cNvPicPr/>
            <p:nvPr/>
          </p:nvPicPr>
          <p:blipFill>
            <a:blip r:embed="rId1"/>
            <a:stretch/>
          </p:blipFill>
          <p:spPr>
            <a:xfrm>
              <a:off x="-92160" y="3511440"/>
              <a:ext cx="9412200" cy="34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0" y="3643200"/>
              <a:ext cx="9144000" cy="32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 магазине: </a:t>
              </a:r>
              <a:br>
                <a:rPr sz="4000"/>
              </a:br>
              <a:r>
                <a:rPr b="0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опрос №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: </a:t>
              </a:r>
              <a:br>
                <a:rPr sz="3200"/>
              </a:br>
              <a:r>
                <a:rPr b="0" i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то кого должен пропустить : тот, кто входит в магазин, или тот, кто выходит?</a:t>
              </a:r>
              <a:br>
                <a:rPr sz="3200"/>
              </a:b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Заголовок 1"/>
          <p:cNvGrpSpPr/>
          <p:nvPr/>
        </p:nvGrpSpPr>
        <p:grpSpPr>
          <a:xfrm>
            <a:off x="-55440" y="-30240"/>
            <a:ext cx="9254880" cy="6967440"/>
            <a:chOff x="-55440" y="-30240"/>
            <a:chExt cx="9254880" cy="6967440"/>
          </a:xfrm>
        </p:grpSpPr>
        <p:pic>
          <p:nvPicPr>
            <p:cNvPr id="14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55440" y="-30240"/>
              <a:ext cx="925488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Правильный ответ №1:</a:t>
              </a:r>
              <a:br>
                <a:rPr sz="3600"/>
              </a:b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Надо пропустить того, кто выходит из магазина.</a:t>
              </a:r>
              <a:br>
                <a:rPr sz="3600"/>
              </a:br>
              <a:br>
                <a:rPr sz="3600"/>
              </a:b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br>
                <a:rPr sz="3600"/>
              </a:b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опрос №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: </a:t>
              </a:r>
              <a:br>
                <a:rPr sz="2800"/>
              </a:br>
              <a:r>
                <a:rPr b="0" i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ак правильно спросить: </a:t>
              </a:r>
              <a:br>
                <a:rPr sz="3200"/>
              </a:br>
              <a:r>
                <a:rPr b="0" i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Кто последний?» или «Кто крайний?»</a:t>
              </a:r>
              <a:br>
                <a:rPr sz="3200"/>
              </a:br>
              <a:br>
                <a:rPr sz="3200"/>
              </a:b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Заголовок 1"/>
          <p:cNvGrpSpPr/>
          <p:nvPr/>
        </p:nvGrpSpPr>
        <p:grpSpPr>
          <a:xfrm>
            <a:off x="-55440" y="-30240"/>
            <a:ext cx="9254880" cy="6967440"/>
            <a:chOff x="-55440" y="-30240"/>
            <a:chExt cx="9254880" cy="6967440"/>
          </a:xfrm>
        </p:grpSpPr>
        <p:pic>
          <p:nvPicPr>
            <p:cNvPr id="14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55440" y="-30240"/>
              <a:ext cx="925488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Правильный ответ №2:</a:t>
              </a:r>
              <a:br>
                <a:rPr sz="3600"/>
              </a:b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«Кто последний?» </a:t>
              </a:r>
              <a:br>
                <a:rPr sz="3600"/>
              </a:br>
              <a:br>
                <a:rPr sz="3600"/>
              </a:b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br>
                <a:rPr sz="3600"/>
              </a:b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опрос №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: </a:t>
              </a:r>
              <a:br>
                <a:rPr sz="2800"/>
              </a:br>
              <a:r>
                <a:rPr b="0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жно ли входить в магазин с собакой?</a:t>
              </a:r>
              <a:br>
                <a:rPr sz="3600"/>
              </a:br>
              <a:br>
                <a:rPr sz="2800"/>
              </a:b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5"/>
          <p:cNvSpPr txBox="1"/>
          <p:nvPr/>
        </p:nvSpPr>
        <p:spPr>
          <a:xfrm>
            <a:off x="468360" y="620640"/>
            <a:ext cx="842472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54" name="Прямоугольник 1"/>
          <p:cNvSpPr/>
          <p:nvPr/>
        </p:nvSpPr>
        <p:spPr>
          <a:xfrm>
            <a:off x="971640" y="196920"/>
            <a:ext cx="73454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ире вежливость стала не в почёте: люди стали забывать помогать старым людям, сопереживать друг другу, помогать ближним и не просить за это плату. Очень жа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вайте, попробуем открыть секреты вежливости и определи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слова помогают людям общать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необходимо делать, чтобы тебя понимали сверстники и взрос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Вежливыми рождаются или становят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Всегда ли нужно быть вежливым человек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Как стать вежливы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ли считать человека вежливым, если он знает вежливые сло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будет, если не будет вежливых слов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ответить на главный вопрос: «Вежливость – это сила, слабость, необходимос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вы понимаете слово «вежливость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Заголовок 1"/>
          <p:cNvGrpSpPr/>
          <p:nvPr/>
        </p:nvGrpSpPr>
        <p:grpSpPr>
          <a:xfrm>
            <a:off x="-55440" y="-30240"/>
            <a:ext cx="9254880" cy="6967440"/>
            <a:chOff x="-55440" y="-30240"/>
            <a:chExt cx="9254880" cy="6967440"/>
          </a:xfrm>
        </p:grpSpPr>
        <p:pic>
          <p:nvPicPr>
            <p:cNvPr id="15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55440" y="-30240"/>
              <a:ext cx="925488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Правильный ответ №3:</a:t>
              </a:r>
              <a:br>
                <a:rPr sz="3600"/>
              </a:b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 Нет, даже если собака небольшая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3600"/>
              </a:br>
              <a:br>
                <a:rPr sz="3600"/>
              </a:b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br>
                <a:rPr sz="3600"/>
              </a:b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опрос №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: </a:t>
              </a:r>
              <a:br>
                <a:rPr sz="2800"/>
              </a:b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Как обратиться к продавцу?</a:t>
              </a:r>
              <a:br>
                <a:rPr sz="2800"/>
              </a:br>
              <a:br>
                <a:rPr sz="2800"/>
              </a:b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Заголовок 1"/>
          <p:cNvGrpSpPr/>
          <p:nvPr/>
        </p:nvGrpSpPr>
        <p:grpSpPr>
          <a:xfrm>
            <a:off x="-208080" y="-30240"/>
            <a:ext cx="9553680" cy="6967440"/>
            <a:chOff x="-208080" y="-30240"/>
            <a:chExt cx="9553680" cy="6967440"/>
          </a:xfrm>
        </p:grpSpPr>
        <p:pic>
          <p:nvPicPr>
            <p:cNvPr id="15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208080" y="-30240"/>
              <a:ext cx="955368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Правильный ответ №4:</a:t>
              </a:r>
              <a:br>
                <a:rPr sz="3600"/>
              </a:br>
              <a:br>
                <a:rPr sz="3600"/>
              </a:b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По имени-отчеству, которое указано на бэйдже (специальная табличка на груди),</a:t>
              </a:r>
              <a:br>
                <a:rPr sz="3600"/>
              </a:b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 со словами «будьте добры», «пожалуйста», «будьте любезны».</a:t>
              </a:r>
              <a:br>
                <a:rPr sz="3600"/>
              </a:b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br>
                <a:rPr sz="3600"/>
              </a:br>
              <a:r>
                <a:rPr b="1" i="1" lang="ru-RU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br>
                <a:rPr sz="3600"/>
              </a:br>
              <a:br>
                <a:rPr sz="2800"/>
              </a:b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6432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лице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анспорте: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br>
              <a:rPr sz="4000"/>
            </a:b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4643280"/>
            <a:ext cx="9144000" cy="22147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акой стороны обходят прохожи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C:\Documents and Settings\Ай-Кат\Мои документы\Мои рисунки\62008345_1280218261_etiquette060619_2_560[1].jpg"/>
          <p:cNvPicPr/>
          <p:nvPr/>
        </p:nvPicPr>
        <p:blipFill>
          <a:blip r:embed="rId1"/>
          <a:stretch/>
        </p:blipFill>
        <p:spPr>
          <a:xfrm>
            <a:off x="3571920" y="214200"/>
            <a:ext cx="55720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ьный ответ №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ущих вперед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ходят сле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идущ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встречу – спр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ходе или выходе из общественного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а кому отдается первенст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6" descr="1JGNYCA5UUM53CALN301DCAKWHWIPCAZYZH33CARIFEFPCAP7U6ZYCA7NNTB1CAEPP2GICAYBZAB4CA2WIRJVCAC06A5WCAG3L5YMCANC494BCAECUCNHCAS3TVDUCALTMQU7CAYHUWTZCAIWNQNWCA8I5MEE.jpg"/>
          <p:cNvPicPr/>
          <p:nvPr/>
        </p:nvPicPr>
        <p:blipFill>
          <a:blip r:embed="rId1"/>
          <a:stretch/>
        </p:blipFill>
        <p:spPr>
          <a:xfrm>
            <a:off x="395280" y="260280"/>
            <a:ext cx="349236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ьный ответ №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ой заходит дама, затем мужчина, при выходе наобор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оступить, если рядом с вами в транспорте стоит человек старше в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0719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ильный ответ №3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до встать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уступить место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0" y="4071600"/>
            <a:ext cx="9144000" cy="27860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В театр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Вопрос №</a:t>
            </a:r>
            <a:r>
              <a:rPr b="1" i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Паре нужно в театре пройти к ме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Кто идет перв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4" descr="1315222063_pravila-etiketa-dlya-samyx-malenkix-8.jpg"/>
          <p:cNvPicPr/>
          <p:nvPr/>
        </p:nvPicPr>
        <p:blipFill>
          <a:blip r:embed="rId1"/>
          <a:stretch/>
        </p:blipFill>
        <p:spPr>
          <a:xfrm>
            <a:off x="0" y="0"/>
            <a:ext cx="370836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c8c93"/>
                </a:solidFill>
                <a:latin typeface="Arial"/>
              </a:rPr>
              <a:t>Правильный ответ №1:</a:t>
            </a:r>
            <a:br>
              <a:rPr sz="3200"/>
            </a:br>
            <a:r>
              <a:rPr b="0" lang="ru-RU" sz="3200" spc="-1" strike="noStrike">
                <a:solidFill>
                  <a:srgbClr val="3c8c93"/>
                </a:solidFill>
                <a:latin typeface="Arial"/>
              </a:rPr>
              <a:t> Идет и 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c8c9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c8c93"/>
                </a:solidFill>
                <a:latin typeface="Arial"/>
              </a:rPr>
              <a:t>к месту мужчи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c8c9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c8c93"/>
                </a:solidFill>
                <a:latin typeface="Arial"/>
              </a:rPr>
              <a:t>причем лиц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c8c9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c8c93"/>
                </a:solidFill>
                <a:latin typeface="Arial"/>
              </a:rPr>
              <a:t>к сидящ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Вопрос №</a:t>
            </a:r>
            <a:r>
              <a:rPr b="1" i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Чего нельзя делать во время спектакл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c8c93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3" descr="untitled.bmp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ьный ответ №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говаривать, шуршать бумажками или программой, ерзать, кушать, делиться впечатлениями, вставать и уходить во время предст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9" descr="Фон1"/>
          <p:cNvPicPr/>
          <p:nvPr/>
        </p:nvPicPr>
        <p:blipFill>
          <a:blip r:embed="rId1"/>
          <a:stretch/>
        </p:blipFill>
        <p:spPr>
          <a:xfrm>
            <a:off x="-63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4"/>
          <p:cNvSpPr/>
          <p:nvPr/>
        </p:nvSpPr>
        <p:spPr>
          <a:xfrm>
            <a:off x="0" y="1341360"/>
            <a:ext cx="91440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"/>
          <p:cNvSpPr/>
          <p:nvPr/>
        </p:nvSpPr>
        <p:spPr>
          <a:xfrm>
            <a:off x="108000" y="115920"/>
            <a:ext cx="85676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ст" Оцени свою вежливость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Здороваешься ли ты с соседями по до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” – 2балла;          “иногда” – 1 балл;           “нет” –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Благодаришь ли ты маму или бабушку за обед (завтрак, ужин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” – 2балла;          “иногда” – 1 балл;           “нет” –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Извиняешься ли ты, если опоздал  на урок и вошел в класс после учител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” – 2балла;          “иногда” – 1 балл;           “нет” –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Ты извиняешься перед малышом, которого случайно толкну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” – 2балла;          “иногда” – 1 балл;           “нет” –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апа (дедушка, мама....) помог тебе  решить трудную задачу. Благодаришь ли ты его (ее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” – 2балла;          “иногда” – 1 балл;           “нет” –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0" y="1341360"/>
            <a:ext cx="91440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"/>
          <p:cNvSpPr/>
          <p:nvPr/>
        </p:nvSpPr>
        <p:spPr>
          <a:xfrm>
            <a:off x="826920" y="476280"/>
            <a:ext cx="7490160" cy="64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Говоришь ли спокойно, не повышая голоса, даже если спориш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” – 2балла;          “иногда” – 1 балл;           “нет” –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Поздравляешь ли ты маму, бабушку,  сестру... с праздником 8 Мар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” – 2балла;          “иногда” – 1 балл;           “нет” –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Когда ты ложишься спать,  желаешь ли ты своим род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спокойной ночи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” – 2балла;          “иногда” – 1 балл;           “нет” –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иваем баллами: “да” – 2балла; “иногда” – 1 балл; “нет” –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читайте баллы. Подымите руку, у кого получилось 12 баллов и больше? Молодцы! С вами все в порядке, так держа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кого меньше 12 баллов? Вы не всегда вежливы, будьте внимательны. Вы хорошо уже сегодня поработ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WordArt 5"/>
          <p:cNvSpPr txBox="1"/>
          <p:nvPr/>
        </p:nvSpPr>
        <p:spPr>
          <a:xfrm>
            <a:off x="468360" y="620640"/>
            <a:ext cx="842472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57" name="Прямоугольник 1"/>
          <p:cNvSpPr/>
          <p:nvPr/>
        </p:nvSpPr>
        <p:spPr>
          <a:xfrm>
            <a:off x="468360" y="476280"/>
            <a:ext cx="8136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жливость - почтительность, приветливость, доброжелательность, стремление не причинять неприятностей другим, готовность прийти на помощ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жливость - это прежде всего искусство человеческого общения. Вежливый человек всегда внимателен к другим. Он старается  не оскорблять ни словом, ни д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вот так дает объяснение толковый слова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ревнерусском языке слово “вежа” – знаток. Следовательно, “вежливый” – знающий, как себя вести; “невежда” – необразованный, малосведущий человек, “невежа” – грубый, невоспита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9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4"/>
          <p:cNvSpPr/>
          <p:nvPr/>
        </p:nvSpPr>
        <p:spPr>
          <a:xfrm>
            <a:off x="0" y="1341360"/>
            <a:ext cx="91440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1"/>
          <p:cNvSpPr/>
          <p:nvPr/>
        </p:nvSpPr>
        <p:spPr>
          <a:xfrm>
            <a:off x="755640" y="404640"/>
            <a:ext cx="75614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А ВЕЖЛИВ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Будь вежлив. Вежливость – это умение вести себя так, чтобы другим было приятно  общаться с тоб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Будь всегда приветлив: при встрече здоровайся; за помощь и заботу благодари; уходя, не забудь попрощ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таршим, больным и усталым уступай место в трамвае, троллейбусе, автобусе, вагоне поезда, на уличной скамье; постарайся делать это не напоказ; не жди, чтобы тебя попросили уступить мес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Упавшему помоги встать. Старому, слабому, слепому помоги перейти через дорогу. И делай это сердечно, от души, любезно, не хмуря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Никогда и никуда не опаздывай. Всегда приходи в назначенный час, минутка в минутку – береги время други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Не заставляй волноваться о себе. Уходишь из дома – скажи, куда пошел, когда вернешься. И уж не опаздыв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Не капризничай. Твой каприз может испортить настроение другим, причинить им беспокой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9" descr="Фон1"/>
          <p:cNvPicPr/>
          <p:nvPr/>
        </p:nvPicPr>
        <p:blipFill>
          <a:blip r:embed="rId1"/>
          <a:stretch/>
        </p:blipFill>
        <p:spPr>
          <a:xfrm>
            <a:off x="-334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4"/>
          <p:cNvSpPr/>
          <p:nvPr/>
        </p:nvSpPr>
        <p:spPr>
          <a:xfrm>
            <a:off x="0" y="1341360"/>
            <a:ext cx="91440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1"/>
          <p:cNvSpPr/>
          <p:nvPr/>
        </p:nvSpPr>
        <p:spPr>
          <a:xfrm>
            <a:off x="324000" y="474840"/>
            <a:ext cx="7561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ЗАЧЕМ БЫТЬ ВЕЖЛИВЫМ?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к вежливому, воспитанному и доброму человеку окружающие люди относятся чаще всего по добро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такого человека все любят и уважают. И у него есть верные и надёжные друзья, с которыми ему никогда не бывает скуч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, впрочем, вежливому, хорошо воспитанному человеку и некогда скучать. Вежливый человек всегда помогает маме и бабушке приготовить завтрак и накрыть на стол, убрать в квартире, полить цветы, накормить кошку и рыб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жливый человек всегда заботится о близких и друзьях, готов помочь им. И это очень правильно. Ведь если хорошо разобраться , все люди на белом свете помогают друг другу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9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4"/>
          <p:cNvSpPr/>
          <p:nvPr/>
        </p:nvSpPr>
        <p:spPr>
          <a:xfrm>
            <a:off x="0" y="1341360"/>
            <a:ext cx="91440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1"/>
          <p:cNvSpPr/>
          <p:nvPr/>
        </p:nvSpPr>
        <p:spPr>
          <a:xfrm>
            <a:off x="539640" y="692280"/>
            <a:ext cx="7704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флек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ового узнали про себя или для себ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ончите предло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считаю, что мы не напрасно провели эти минуты вместе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м было нужно это занятие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хочу себя похвалит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хочу похвалить одноклассников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думаю, что я вежлив, потому чт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не всегда вежлив, мне нужно научиться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9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4"/>
          <p:cNvSpPr/>
          <p:nvPr/>
        </p:nvSpPr>
        <p:spPr>
          <a:xfrm>
            <a:off x="0" y="1341360"/>
            <a:ext cx="91440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"/>
          <p:cNvSpPr/>
          <p:nvPr/>
        </p:nvSpPr>
        <p:spPr>
          <a:xfrm>
            <a:off x="971640" y="765000"/>
            <a:ext cx="7632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я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янёмся вежливыми бы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гда спасибо говор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рый день, до свиданья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в мире выше званья!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янём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янёмся вежливыми бы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лень, и грубость позабы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ся культуре поведения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оброму общению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янём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янёмся вежливыми бы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борьбе со злом добро добы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ежу разить словом  волшебн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трогим поступком  целебным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янём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9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"/>
          <p:cNvSpPr/>
          <p:nvPr/>
        </p:nvSpPr>
        <p:spPr>
          <a:xfrm>
            <a:off x="0" y="1341360"/>
            <a:ext cx="91440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2"/>
          <p:cNvSpPr/>
          <p:nvPr/>
        </p:nvSpPr>
        <p:spPr>
          <a:xfrm>
            <a:off x="1258920" y="765000"/>
            <a:ext cx="5599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в играх с друзьями мы с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жны оставаться друзь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 здравствует смелость, азарт, быстр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 здравствует вежливость и добр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 здравствуют добрые ли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пусть тот, кто злится, – стыдит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8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1116000" y="2060640"/>
            <a:ext cx="48243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это качество человек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для которого уважение к людям стало обычной нормой повед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и привычным способ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общения с окружающи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(Словарь этик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283680" y="1052640"/>
            <a:ext cx="460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00"/>
                </a:solidFill>
                <a:latin typeface="Arial"/>
              </a:rPr>
              <a:t>Вежливость –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5" descr="images (21)"/>
          <p:cNvPicPr/>
          <p:nvPr/>
        </p:nvPicPr>
        <p:blipFill>
          <a:blip r:embed="rId2"/>
          <a:stretch/>
        </p:blipFill>
        <p:spPr>
          <a:xfrm>
            <a:off x="6372360" y="189000"/>
            <a:ext cx="2663640" cy="1871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1"/>
          <p:cNvSpPr/>
          <p:nvPr/>
        </p:nvSpPr>
        <p:spPr>
          <a:xfrm>
            <a:off x="6372360" y="189000"/>
            <a:ext cx="2663640" cy="187164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6" descr="Вежливость"/>
          <p:cNvPicPr/>
          <p:nvPr/>
        </p:nvPicPr>
        <p:blipFill>
          <a:blip r:embed="rId3"/>
          <a:stretch/>
        </p:blipFill>
        <p:spPr>
          <a:xfrm>
            <a:off x="6372360" y="4869000"/>
            <a:ext cx="2663640" cy="18018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3"/>
          <p:cNvSpPr/>
          <p:nvPr/>
        </p:nvSpPr>
        <p:spPr>
          <a:xfrm>
            <a:off x="6372360" y="4869000"/>
            <a:ext cx="2663640" cy="180000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7" descr="Вежливость1"/>
          <p:cNvPicPr/>
          <p:nvPr/>
        </p:nvPicPr>
        <p:blipFill>
          <a:blip r:embed="rId4"/>
          <a:stretch/>
        </p:blipFill>
        <p:spPr>
          <a:xfrm>
            <a:off x="6372360" y="2276640"/>
            <a:ext cx="2663640" cy="23842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2"/>
          <p:cNvSpPr/>
          <p:nvPr/>
        </p:nvSpPr>
        <p:spPr>
          <a:xfrm>
            <a:off x="6372360" y="2276640"/>
            <a:ext cx="2663640" cy="237636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5"/>
          <p:cNvSpPr txBox="1"/>
          <p:nvPr/>
        </p:nvSpPr>
        <p:spPr>
          <a:xfrm>
            <a:off x="468360" y="620640"/>
            <a:ext cx="842472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69" name="Прямоугольник 1"/>
          <p:cNvSpPr/>
          <p:nvPr/>
        </p:nvSpPr>
        <p:spPr>
          <a:xfrm>
            <a:off x="179280" y="476280"/>
            <a:ext cx="8496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ловарь – синоним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тив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очтительно-вежливый в обращении с люд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рект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тактичный, вежливый, учтив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ажительный – проявляющий уважение к собеседни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упредитель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кромный, обязательный, вежлив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ез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бходительный, предупредительный, учтив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алант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изысканно вежливый, любез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где должны соблюдаться привила приличия?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жлив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одно из важнейших качеств воспитанного челове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WordArt 5"/>
          <p:cNvSpPr txBox="1"/>
          <p:nvPr/>
        </p:nvSpPr>
        <p:spPr>
          <a:xfrm>
            <a:off x="468360" y="620640"/>
            <a:ext cx="842472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72" name="Прямоугольник 1"/>
          <p:cNvSpPr/>
          <p:nvPr/>
        </p:nvSpPr>
        <p:spPr>
          <a:xfrm>
            <a:off x="684360" y="260280"/>
            <a:ext cx="77752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е две ситу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Денис сказа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кита, дай карандаш, и побыстре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Саша попрос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кита, дай мне, пожалуйста, карандаш, а то мой слома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ажите, чем отличаются эти просьбы? Как вы думаете, кому Никита даст карандаш? Почем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вежливые слова просьбы вы знае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ята, как вы думаете, после этих слов хочется выполнить просьбу? Сейчас будем учиться грамотно выражать обращение с просьбой.  А поможет нам в этом пл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бращ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осьба помо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Благодар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этой последовательности должно строиться обращение с просьбой. С чего начнем? Если это ваш ровесник, то обратимся к нему по имени. А если взрослый человек - по имени и отчеству. Дальше сама просьба. Что обязательно должно быть в просьбе?  И когда нам ответят согласием, мы должны поблагодарить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WordArt 5"/>
          <p:cNvSpPr txBox="1"/>
          <p:nvPr/>
        </p:nvSpPr>
        <p:spPr>
          <a:xfrm>
            <a:off x="468360" y="620640"/>
            <a:ext cx="842472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75" name="Прямоугольник 1"/>
          <p:cNvSpPr/>
          <p:nvPr/>
        </p:nvSpPr>
        <p:spPr>
          <a:xfrm>
            <a:off x="971640" y="620640"/>
            <a:ext cx="7632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ята вежливые слова называют ещё волшебными. А почему их так называют? С помощью волшебных слов можно даже грустному или обиженному человеку вернуть хорошее настроение. Вежливые слова оказывают «волшебное» действие на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гр. Найти и подчеркнуть формы приветств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гр.- Найти и подчеркнуть формы прощ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гр.- Найти и подчеркнуть формы благодар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гр.- Найти и подчеркнуть формы изви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гр.- Найти и подчеркнуть формы просьб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WordArt 5"/>
          <p:cNvSpPr txBox="1"/>
          <p:nvPr/>
        </p:nvSpPr>
        <p:spPr>
          <a:xfrm>
            <a:off x="468360" y="620640"/>
            <a:ext cx="842472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78" name="Прямоугольник 1"/>
          <p:cNvSpPr/>
          <p:nvPr/>
        </p:nvSpPr>
        <p:spPr>
          <a:xfrm>
            <a:off x="324000" y="404640"/>
            <a:ext cx="85690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гр. Формы приветствия: здравствуйте, доброе утро, добрый день, добрый вечер , привет, приветствую вас, рад приветствовать в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гр. Формы прощания: до свидания, до скорой встречи, пока, счастливого пу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гр. Формы благодарности: спасибо, большое спасибо, благодарю ва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гр.Формы извинения: извините , простите пожалуйста, я винов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гр. Формы просьбы: прошу вас, будьте добры, будьте любезны, пожалуйс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как обратиться к пожилому киоскёру и узнать , поступил ли свежий номер журнала «Трамвай»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школьный буфет: спросите, есть ли в продаже пирожки с повидло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обратитесь к прохожему и узнайте , как удобнее доехать до центра гор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6:03:05Z</dcterms:created>
  <dc:creator>Галина</dc:creator>
  <dc:description/>
  <dc:language>en-US</dc:language>
  <cp:lastModifiedBy>Пользователь</cp:lastModifiedBy>
  <dcterms:modified xsi:type="dcterms:W3CDTF">2020-11-27T13:49:13Z</dcterms:modified>
  <cp:revision>9</cp:revision>
  <dc:subject/>
  <dc:title>Слайд 1</dc:title>
</cp:coreProperties>
</file>