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75BA-DDCA-476D-AB8D-1C465383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C84-372F-4FAD-8163-7BC4033F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EA8-744B-4A55-9E57-3F748CE0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E8B2-BB34-4171-A834-4FBB1E39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83E-B15E-4E6A-96CB-125A47E9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14E7-DDC8-49D2-B857-8E6FAFA8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3CA3-1173-48FD-AA0B-F5F4622B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D6D6-9B90-4094-A36E-24F32B58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D0B6-2CE5-4587-82CF-AEA94616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4C4-AC99-47E7-8E89-440ADC62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9C9-751F-408B-89A2-F46A1149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CDE7-CC29-4DAC-909D-22076E5C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EBE5-A18E-44A5-A6E2-8B13DA0304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0_d9e2_50261f9b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250920" y="189000"/>
            <a:ext cx="84247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ДРЕВНИЙ КИТАЙ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2484360" y="1484280"/>
            <a:ext cx="403236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Шорина Татьяна 4"А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486133039"/>
          <p:cNvPicPr/>
          <p:nvPr/>
        </p:nvPicPr>
        <p:blipFill>
          <a:blip r:embed="rId1"/>
          <a:srcRect l="92639" t="0" r="0" b="0"/>
          <a:stretch/>
        </p:blipFill>
        <p:spPr>
          <a:xfrm>
            <a:off x="0" y="0"/>
            <a:ext cx="86364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187280" y="1773360"/>
            <a:ext cx="76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Verdana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hinese_symbols_for_thank_6932_2_25"/>
          <p:cNvPicPr/>
          <p:nvPr/>
        </p:nvPicPr>
        <p:blipFill>
          <a:blip r:embed="rId2"/>
          <a:stretch/>
        </p:blipFill>
        <p:spPr>
          <a:xfrm>
            <a:off x="2627280" y="3429000"/>
            <a:ext cx="4600440" cy="21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486133039"/>
          <p:cNvPicPr/>
          <p:nvPr/>
        </p:nvPicPr>
        <p:blipFill>
          <a:blip r:embed="rId1"/>
          <a:srcRect l="92639" t="0" r="0" b="0"/>
          <a:stretch/>
        </p:blipFill>
        <p:spPr>
          <a:xfrm>
            <a:off x="0" y="0"/>
            <a:ext cx="863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116000" y="189000"/>
            <a:ext cx="76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Возникновение китайской цивил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258920" y="1265040"/>
            <a:ext cx="722484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тайской древней цивилизации насчитывается около 500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 221 года до н.э. Китай был поделён на несколько царств, воевавших между собой. Победу одержало царство Цинь. Его правитель объединил древнекитайские царства в единое государство и взял себе титул «первый император Цин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dc8071ded4e86cd2f56f0c4f204f9c6e"/>
          <p:cNvPicPr/>
          <p:nvPr/>
        </p:nvPicPr>
        <p:blipFill>
          <a:blip r:embed="rId2"/>
          <a:stretch/>
        </p:blipFill>
        <p:spPr>
          <a:xfrm>
            <a:off x="6227640" y="4005360"/>
            <a:ext cx="2617920" cy="2527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1479960" y="4149720"/>
            <a:ext cx="404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а получила наз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однебесно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486133039"/>
          <p:cNvPicPr/>
          <p:nvPr/>
        </p:nvPicPr>
        <p:blipFill>
          <a:blip r:embed="rId1"/>
          <a:srcRect l="92639" t="0" r="0" b="0"/>
          <a:stretch/>
        </p:blipFill>
        <p:spPr>
          <a:xfrm>
            <a:off x="0" y="0"/>
            <a:ext cx="8636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ap-kitai"/>
          <p:cNvPicPr/>
          <p:nvPr/>
        </p:nvPicPr>
        <p:blipFill>
          <a:blip r:embed="rId2"/>
          <a:stretch/>
        </p:blipFill>
        <p:spPr>
          <a:xfrm>
            <a:off x="1042920" y="692280"/>
            <a:ext cx="5124600" cy="587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gunnes"/>
          <p:cNvPicPr/>
          <p:nvPr/>
        </p:nvPicPr>
        <p:blipFill>
          <a:blip r:embed="rId3"/>
          <a:stretch/>
        </p:blipFill>
        <p:spPr>
          <a:xfrm>
            <a:off x="1692360" y="1197000"/>
            <a:ext cx="1904760" cy="165744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54" name="Line 7"/>
          <p:cNvSpPr/>
          <p:nvPr/>
        </p:nvSpPr>
        <p:spPr>
          <a:xfrm>
            <a:off x="3708360" y="2708280"/>
            <a:ext cx="28728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3203640" y="3141720"/>
            <a:ext cx="431640" cy="504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4140360" y="2347920"/>
            <a:ext cx="215640" cy="576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771640" y="3645000"/>
            <a:ext cx="576360" cy="503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116000" y="0"/>
            <a:ext cx="76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Набеги гун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227640" y="1268280"/>
            <a:ext cx="273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севера на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али набе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чевые плем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ннов. Для защиты от них возводили высокие оборонительные ст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486133039"/>
          <p:cNvPicPr/>
          <p:nvPr/>
        </p:nvPicPr>
        <p:blipFill>
          <a:blip r:embed="rId1"/>
          <a:srcRect l="92639" t="0" r="0" b="0"/>
          <a:stretch/>
        </p:blipFill>
        <p:spPr>
          <a:xfrm>
            <a:off x="0" y="0"/>
            <a:ext cx="8636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1116000" y="0"/>
            <a:ext cx="76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Великая Китайская ст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stena1"/>
          <p:cNvPicPr/>
          <p:nvPr/>
        </p:nvPicPr>
        <p:blipFill>
          <a:blip r:embed="rId2"/>
          <a:stretch/>
        </p:blipFill>
        <p:spPr>
          <a:xfrm>
            <a:off x="2627280" y="2205000"/>
            <a:ext cx="4438800" cy="4286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1116000" y="524160"/>
            <a:ext cx="7632720" cy="176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защиты от набегов гуннов император распорядился соединить стены в одну гигантскую пограничную стену. Так появилась «Великая Китайская стена» – самое грандиозное оборонительное сооружение на Земле, протяженностью более 6000 км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486133039"/>
          <p:cNvPicPr/>
          <p:nvPr/>
        </p:nvPicPr>
        <p:blipFill>
          <a:blip r:embed="rId1"/>
          <a:srcRect l="92639" t="0" r="0" b="0"/>
          <a:stretch/>
        </p:blipFill>
        <p:spPr>
          <a:xfrm>
            <a:off x="0" y="0"/>
            <a:ext cx="8636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116000" y="0"/>
            <a:ext cx="76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Великая Китайская ст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116000" y="692640"/>
            <a:ext cx="784872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строительстве, которое длилось 10 лет, участвовало более 1 миллиона человек. Толщина Великой стены около 5-8 метров, а высота от 6 до 10 мет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p44_Mutianyu"/>
          <p:cNvPicPr/>
          <p:nvPr/>
        </p:nvPicPr>
        <p:blipFill>
          <a:blip r:embed="rId2"/>
          <a:stretch/>
        </p:blipFill>
        <p:spPr>
          <a:xfrm>
            <a:off x="5508720" y="1916280"/>
            <a:ext cx="3247920" cy="458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Mutianyu"/>
          <p:cNvPicPr/>
          <p:nvPr/>
        </p:nvPicPr>
        <p:blipFill>
          <a:blip r:embed="rId3"/>
          <a:stretch/>
        </p:blipFill>
        <p:spPr>
          <a:xfrm>
            <a:off x="1258920" y="3716280"/>
            <a:ext cx="4038480" cy="26384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"/>
          <p:cNvSpPr/>
          <p:nvPr/>
        </p:nvSpPr>
        <p:spPr>
          <a:xfrm>
            <a:off x="1258920" y="1700280"/>
            <a:ext cx="374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ена идёт вдоль горной цепи, преодолевая подъёмы и ущель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486133039"/>
          <p:cNvPicPr/>
          <p:nvPr/>
        </p:nvPicPr>
        <p:blipFill>
          <a:blip r:embed="rId1"/>
          <a:srcRect l="92639" t="0" r="0" b="0"/>
          <a:stretch/>
        </p:blipFill>
        <p:spPr>
          <a:xfrm>
            <a:off x="0" y="0"/>
            <a:ext cx="8636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1116000" y="189000"/>
            <a:ext cx="76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Терракотовая ар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116000" y="979920"/>
            <a:ext cx="784872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вый император Цинь был похоронен в огромном мавзолее, который строили 38 лет. Вместе с ним были захоронены 8100 терракотовых (глиняных) статуй воинов, которые должны были сопровождать его после смер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150px-Soldier_Horse"/>
          <p:cNvPicPr/>
          <p:nvPr/>
        </p:nvPicPr>
        <p:blipFill>
          <a:blip r:embed="rId2"/>
          <a:stretch/>
        </p:blipFill>
        <p:spPr>
          <a:xfrm>
            <a:off x="5508720" y="2708280"/>
            <a:ext cx="2825640" cy="376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1692360" y="2708280"/>
            <a:ext cx="2813040" cy="384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486133039"/>
          <p:cNvPicPr/>
          <p:nvPr/>
        </p:nvPicPr>
        <p:blipFill>
          <a:blip r:embed="rId1"/>
          <a:srcRect l="92639" t="0" r="0" b="0"/>
          <a:stretch/>
        </p:blipFill>
        <p:spPr>
          <a:xfrm>
            <a:off x="0" y="0"/>
            <a:ext cx="8636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116000" y="189000"/>
            <a:ext cx="76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Китайский мудрец Конфу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116000" y="1149840"/>
            <a:ext cx="784872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фуций (551-479 гг. до н. э.) – древнекитайский проповедник, философ, основоположник особой религии под названием «конфуцианство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1258920" y="2637000"/>
            <a:ext cx="2925720" cy="34066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0"/>
          <p:cNvSpPr/>
          <p:nvPr/>
        </p:nvSpPr>
        <p:spPr>
          <a:xfrm>
            <a:off x="4788000" y="2538360"/>
            <a:ext cx="4032000" cy="34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ение Конфуция – это свод строгих моральных правил, по которым должен жить народ и его правител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нно благодаря учению Конфуция основными чертами характера китайцев стали уважение к старшим, сдержанность и строгое соблюдение порядк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486133039"/>
          <p:cNvPicPr/>
          <p:nvPr/>
        </p:nvPicPr>
        <p:blipFill>
          <a:blip r:embed="rId1"/>
          <a:srcRect l="92639" t="0" r="0" b="0"/>
          <a:stretch/>
        </p:blipFill>
        <p:spPr>
          <a:xfrm>
            <a:off x="0" y="0"/>
            <a:ext cx="8636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116000" y="189000"/>
            <a:ext cx="76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Архитек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116000" y="984600"/>
            <a:ext cx="784872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личительная черта архитектуры Китая – пагоды. Это многоярусные башни с нечетным числом ярусов (1, 3, 5 и т.д.). Пагоды возводились для защиты от врагов и злых дух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1116000" y="3068640"/>
            <a:ext cx="2440080" cy="27147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3780000" y="3068640"/>
            <a:ext cx="2439720" cy="27147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85" name="Picture 7" descr=""/>
          <p:cNvPicPr/>
          <p:nvPr/>
        </p:nvPicPr>
        <p:blipFill>
          <a:blip r:embed="rId4"/>
          <a:stretch/>
        </p:blipFill>
        <p:spPr>
          <a:xfrm>
            <a:off x="6443640" y="3068640"/>
            <a:ext cx="2438280" cy="27147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826920" y="1197000"/>
            <a:ext cx="77043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ревние китайцы были очень талантливы. Целый ряд изобретений и открытий они сделали на 1000 ле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ньше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чем европейцы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Рисунок6"/>
          <p:cNvPicPr/>
          <p:nvPr/>
        </p:nvPicPr>
        <p:blipFill>
          <a:blip r:embed="rId1"/>
          <a:stretch/>
        </p:blipFill>
        <p:spPr>
          <a:xfrm>
            <a:off x="2987640" y="429264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836720" y="2565360"/>
            <a:ext cx="2232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ост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40360" y="2565360"/>
            <a:ext cx="223200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зобре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616720" y="2997360"/>
            <a:ext cx="3527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л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м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гопеча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рф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нестрельное оруж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обус небесных светил и зве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бор, предсказывающий землетря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16278-24"/>
          <p:cNvPicPr/>
          <p:nvPr/>
        </p:nvPicPr>
        <p:blipFill>
          <a:blip r:embed="rId2"/>
          <a:stretch/>
        </p:blipFill>
        <p:spPr>
          <a:xfrm>
            <a:off x="1042920" y="4292640"/>
            <a:ext cx="1762200" cy="2349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1"/>
          <p:cNvSpPr/>
          <p:nvPr/>
        </p:nvSpPr>
        <p:spPr>
          <a:xfrm>
            <a:off x="1692360" y="2997360"/>
            <a:ext cx="30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цина (лекар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хитектура (Великая   Китайская сте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евые 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187280" y="189000"/>
            <a:ext cx="76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Достижения и открытия китайской цивил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486133039"/>
          <p:cNvPicPr/>
          <p:nvPr/>
        </p:nvPicPr>
        <p:blipFill>
          <a:blip r:embed="rId3"/>
          <a:srcRect l="92639" t="0" r="0" b="0"/>
          <a:stretch/>
        </p:blipFill>
        <p:spPr>
          <a:xfrm>
            <a:off x="0" y="0"/>
            <a:ext cx="86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3T19:30:42Z</dcterms:created>
  <dc:creator>admin</dc:creator>
  <dc:description/>
  <dc:language>en-US</dc:language>
  <cp:lastModifiedBy>shorin</cp:lastModifiedBy>
  <dcterms:modified xsi:type="dcterms:W3CDTF">2018-03-14T11:54:43Z</dcterms:modified>
  <cp:revision>23</cp:revision>
  <dc:subject/>
  <dc:title>Слайд 1</dc:title>
</cp:coreProperties>
</file>