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212-C6B2-4561-9900-50710502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FA7-AC78-4DBA-84F7-81EBF4E6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22A1B-7532-421F-A7EF-B48E5C5D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FBF52-2FB1-4883-9038-61117174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73BF6-E0E0-431D-8A1E-42D482E7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09700-FD21-4AF1-9106-BE81A5F9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1D504-C70C-4D85-86C1-13153E5F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7C119-295B-49A1-A3F7-AF0700F2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D425F-89A2-42C4-9846-659139C1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D0422-857F-4D8F-A701-ED52285F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34780-101E-44B1-A7C9-602FCF73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735-203E-4D1E-BF5C-45C017D4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CE1-56AC-4855-945E-FF1AA395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6098-78ED-472C-9A3E-1C236FF7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5508-75B8-4AA5-807E-A7E060BA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1D32-6C91-4D98-B064-0D6D4443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4840-04D1-4933-B84C-513D4B2F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7226-91F2-4860-A6FF-D3AE5E8F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46FD-174F-49E3-AB60-65DB4C19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1465-8DA9-4E4E-BD55-0AADCF2B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240-2086-4A4B-AD05-E76C87F5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CF9E-1C76-42C6-B31D-BFF3FA5B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9341-791E-4640-9C73-4AD90FCD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B873-C94D-4158-B28D-72C8B6EC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290F-DE18-45C6-900A-E3517891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0DE4-EF7B-4996-8F81-07B7C5F7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4D49E-231B-4B8F-B217-F6CA9D04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2C602-EC50-4A2F-B593-1B125994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210AA-B516-4853-AAAE-71C8CACE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F667-36A6-4E7C-BC16-B6F226D8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AFD45-2F31-484E-AAA0-B43774BC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7ED-6D4E-476A-8B98-6DBA2861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3F052-2D06-441C-B0D2-0236B65F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1F2A6-CC09-4A01-BE32-BD71BA4E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4367E-8BE8-47AA-8EB7-C0E97C2C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DBDEE-9FAE-4807-BBC8-3C0FF273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09A4D-056A-411C-9B5C-DF1FC4AC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2C6E6-3F06-44C7-968E-57798132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CE3D7-660B-4A9D-9CC0-D8330882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FAF13-D2E0-4FB9-8E7F-BC882000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15473-F796-43F0-BD19-51CD0B33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7F0F4-DEE8-41BB-82A2-87428DF1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6FC-09C9-492A-AC1B-D384989D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E6FB-0FE1-402B-8FDF-3D1C7089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4DCD2-0118-4C4C-B453-B68E43FE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9ADA8-9D51-49D3-8913-39E5603E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6A3EC-715C-4937-905B-6B430268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2C465-8234-4BF7-ABD9-88A33455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EA479-3B0F-4904-9B31-A6ABC7F8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E027D-39D1-416B-8B50-FB2A8521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ADAC7-D9EA-4A02-9172-1091CEF7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F2B78-66A0-4A02-9A78-1E4F83B5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D7B20-DB91-4FEA-B4D4-0CB31E8E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739-B4BE-4EC9-B817-EB4243C7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DE290-77D4-459A-89B0-6E0A3111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701FA-51F9-476C-BF06-90D73E14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E180F-EB37-4126-9F4B-26C96334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219DE-BBEA-4730-8338-FF639DD9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D4F25-26AE-4C62-B4BB-7C3BDA50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75CFB-5F73-4564-962A-C193833E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74618-B43F-4886-9149-743BA8A2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5FE18-4175-4A93-9DF9-792CC8F3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F5109-758F-4FA9-AC83-050BEADE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4041E-907A-4466-8A5C-F51D9377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4EB-6F39-4DF6-93FC-B000090F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C0FCE-C77F-4EF4-956D-EF92788C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6682F-3746-4AD5-9718-3B6D0155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B87BA-3D88-4F2B-9103-32F0FDD8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10E12-80B7-4371-AECC-143BB314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66061-3754-430F-8297-55AF07CE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04B0F-6EAD-4B36-A0EB-E82840F8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3E256-F7E7-42B7-9885-2581BE0A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A7EDC-73D7-4DA9-AC1E-35C6B058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BDD36-BA4C-4F89-AC9D-844E5B3D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211BA-DA58-4F95-8A08-314F2879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A97-44CE-4A91-BDEB-00FB40F2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2F1D9-1D7E-4CD6-8C98-653794CB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1A71B-4FC7-4E90-ABE1-F3B4D6D3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CE438-433D-4779-B8BA-B5A54B5A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331DB-EF6F-4760-B07A-61320207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75E16-98CF-4792-8614-8FAA3E64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AF9E3-1728-4DFA-9789-A79FF7B3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3D9DA-FA4E-42E7-95F1-2A3062F2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65E29-8CB1-4427-8E7C-DDD42383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BA2DA-CC28-412F-BAB1-3B3FE81F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29080-97F5-4702-9CB8-73B5C74A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5D1-6E93-43EB-9B03-2F725201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366A8-0779-4572-8BC7-173946DE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6074C-4E87-47F4-A834-A6DD3A1E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DE1FE-D433-4D93-8026-408E504E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3D468-DA1A-4365-A21C-2A25024A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0FB11-7761-4C61-8405-610F3D12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D0692-838F-41F1-A04C-1A8AE96D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1A9BC-7E0E-42BF-A718-7A63563C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FBEA1-6695-426C-A452-EB0369FE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C541B-5CCE-45A3-9D9A-18A71875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6D23C-39A0-4D2E-BDAA-DE90CE7F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3D3-7A3A-472F-B9BA-D424A4A0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B6D9C-911D-4985-9DE3-ED015359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041FE-E800-43D9-A74C-30F045FB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2CF38-759C-4766-9902-F44EDBD7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73B0C-712C-4387-8C6D-83EC600C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37D47-5E38-47A4-8F67-0BAAD5CE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2D9A6-EE7A-46A5-8F2E-49C62671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6F158-1E6D-4901-AF6D-A535838B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4A9A1-1D1A-4E2E-8C48-07232700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DBFEC-9CBF-4CFF-A715-7B8DFF90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C380F-EADD-41FE-B243-8C923FA2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Arial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8949BD0-1743-4757-A57C-ACF99697239A}" type="slidenum">
              <a:rPr b="1" lang="ru-RU" sz="12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Arial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80CC2DB-0619-4B90-804A-E5C9B2242D05}" type="slidenum">
              <a:rPr b="1" lang="ru-RU" sz="12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7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Arial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FE47C69-EE6F-4E8A-928D-0F53C5C17076}" type="slidenum">
              <a:rPr b="1" lang="ru-RU" sz="12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 hidden="1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36" name="Rectangle 7" hidden="1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37" name="Rectangle 8" hidden="1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38" name="Oval 9" hidden="1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3866760"/>
            <a:ext cx="9143640" cy="29908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0" y="0"/>
            <a:ext cx="9143640" cy="386640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0" y="2652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dt" idx="10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Arial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11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73E985-495B-462D-B4CA-E02BE561FDEC}" type="slidenum">
              <a:rPr b="1" lang="ru-RU" sz="12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87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dt" idx="13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Arial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ftr" idx="14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995F8C5-886F-4B51-BAB3-870975C4CC1F}" type="slidenum">
              <a:rPr b="1" lang="ru-RU" sz="12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Arial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C09D942-8159-4475-8573-D563B62DAC89}" type="slidenum">
              <a:rPr b="1" lang="ru-RU" sz="12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16"/>
          <p:cNvGrpSpPr/>
          <p:nvPr/>
        </p:nvGrpSpPr>
        <p:grpSpPr>
          <a:xfrm>
            <a:off x="-8640" y="-8640"/>
            <a:ext cx="9171000" cy="6874920"/>
            <a:chOff x="-8640" y="-8640"/>
            <a:chExt cx="9171000" cy="6874920"/>
          </a:xfrm>
        </p:grpSpPr>
        <p:sp>
          <p:nvSpPr>
            <p:cNvPr id="275" name="Freeform 6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6" name="Straight Connector 7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277" name="Straight Connector 8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278" name="Freeform 9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0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1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2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3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4"/>
            <p:cNvSpPr/>
            <p:nvPr/>
          </p:nvSpPr>
          <p:spPr>
            <a:xfrm>
              <a:off x="809424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5"/>
            <p:cNvSpPr/>
            <p:nvPr/>
          </p:nvSpPr>
          <p:spPr>
            <a:xfrm>
              <a:off x="806868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09480" y="2160720"/>
            <a:ext cx="634752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16"/>
          <p:cNvGrpSpPr/>
          <p:nvPr/>
        </p:nvGrpSpPr>
        <p:grpSpPr>
          <a:xfrm>
            <a:off x="-8640" y="-8640"/>
            <a:ext cx="9171000" cy="6874920"/>
            <a:chOff x="-8640" y="-8640"/>
            <a:chExt cx="9171000" cy="6874920"/>
          </a:xfrm>
        </p:grpSpPr>
        <p:sp>
          <p:nvSpPr>
            <p:cNvPr id="327" name="Freeform 6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8" name="Straight Connector 7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329" name="Straight Connector 8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330" name="Freeform 9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1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2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3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4"/>
            <p:cNvSpPr/>
            <p:nvPr/>
          </p:nvSpPr>
          <p:spPr>
            <a:xfrm>
              <a:off x="809424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5"/>
            <p:cNvSpPr/>
            <p:nvPr/>
          </p:nvSpPr>
          <p:spPr>
            <a:xfrm>
              <a:off x="806868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2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3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16"/>
          <p:cNvGrpSpPr/>
          <p:nvPr/>
        </p:nvGrpSpPr>
        <p:grpSpPr>
          <a:xfrm>
            <a:off x="-8640" y="-8640"/>
            <a:ext cx="9171000" cy="6874920"/>
            <a:chOff x="-8640" y="-8640"/>
            <a:chExt cx="9171000" cy="6874920"/>
          </a:xfrm>
        </p:grpSpPr>
        <p:sp>
          <p:nvSpPr>
            <p:cNvPr id="379" name="Freeform 6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0" name="Straight Connector 7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381" name="Straight Connector 8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382" name="Freeform 9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0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1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2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3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4"/>
            <p:cNvSpPr/>
            <p:nvPr/>
          </p:nvSpPr>
          <p:spPr>
            <a:xfrm>
              <a:off x="809424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5"/>
            <p:cNvSpPr/>
            <p:nvPr/>
          </p:nvSpPr>
          <p:spPr>
            <a:xfrm>
              <a:off x="806868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5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6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2"/>
          <p:cNvSpPr/>
          <p:nvPr/>
        </p:nvSpPr>
        <p:spPr>
          <a:xfrm>
            <a:off x="1007280" y="620640"/>
            <a:ext cx="7264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a3afff"/>
                </a:solidFill>
                <a:latin typeface="Trebuchet MS"/>
              </a:rPr>
              <a:t>«Как воспитать инициативно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a3afff"/>
                </a:solidFill>
                <a:latin typeface="Trebuchet MS"/>
              </a:rPr>
              <a:t>самостоятель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a3afff"/>
                </a:solidFill>
                <a:latin typeface="Trebuchet MS"/>
              </a:rPr>
              <a:t>и ответственного ребен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pasowanie_foto"/>
          <p:cNvPicPr/>
          <p:nvPr/>
        </p:nvPicPr>
        <p:blipFill>
          <a:blip r:embed="rId1"/>
          <a:stretch/>
        </p:blipFill>
        <p:spPr>
          <a:xfrm>
            <a:off x="1547640" y="2997360"/>
            <a:ext cx="57146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395640" y="731520"/>
            <a:ext cx="849672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А так как </a:t>
            </a:r>
            <a:r>
              <a:rPr b="0" lang="ru-RU" sz="2200" spc="-1" strike="noStrike">
                <a:solidFill>
                  <a:schemeClr val="accent6"/>
                </a:solidFill>
                <a:latin typeface="Trebuchet MS"/>
              </a:rPr>
              <a:t>ведущая деятельность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ошкольного возраста - </a:t>
            </a:r>
            <a:r>
              <a:rPr b="1" i="1" lang="ru-RU" sz="2200" spc="-1" strike="noStrike">
                <a:solidFill>
                  <a:schemeClr val="accent6"/>
                </a:solidFill>
                <a:latin typeface="Trebuchet MS"/>
              </a:rPr>
              <a:t>игра</a:t>
            </a:r>
            <a:r>
              <a:rPr b="1" lang="ru-RU" sz="2200" spc="-1" strike="noStrike">
                <a:solidFill>
                  <a:schemeClr val="accent6"/>
                </a:solidFill>
                <a:latin typeface="Trebuchet MS"/>
              </a:rPr>
              <a:t>,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то, чем выше уровень развития творческой инициативы, тем разнообразнее игровая деятельность, а следовательно и динамичнее развитие личност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WordArt 14"/>
          <p:cNvSpPr txBox="1"/>
          <p:nvPr/>
        </p:nvSpPr>
        <p:spPr>
          <a:xfrm>
            <a:off x="457200" y="2514600"/>
            <a:ext cx="3428640" cy="8377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ff00ff"/>
                </a:solidFill>
                <a:latin typeface="Times New Roman"/>
                <a:ea typeface="Arial"/>
              </a:rPr>
              <a:t>игра</a:t>
            </a:r>
            <a:endParaRPr b="0" lang="en-US" sz="3600" spc="-1" strike="noStrike">
              <a:ln w="0">
                <a:noFill/>
              </a:ln>
              <a:solidFill>
                <a:srgbClr val="ff00ff"/>
              </a:solidFill>
              <a:latin typeface="Arial"/>
            </a:endParaRPr>
          </a:p>
        </p:txBody>
      </p:sp>
      <p:sp>
        <p:nvSpPr>
          <p:cNvPr id="470" name="WordArt 10"/>
          <p:cNvSpPr txBox="1"/>
          <p:nvPr/>
        </p:nvSpPr>
        <p:spPr>
          <a:xfrm>
            <a:off x="1447920" y="3657600"/>
            <a:ext cx="3428640" cy="1752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801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4800" spc="-1" strike="noStrike">
                <a:ln w="0">
                  <a:noFill/>
                </a:ln>
                <a:solidFill>
                  <a:srgbClr val="ff00ff"/>
                </a:solidFill>
                <a:latin typeface="Times New Roman"/>
                <a:ea typeface="Arial"/>
              </a:rPr>
              <a:t>- это</a:t>
            </a:r>
            <a:endParaRPr b="0" lang="en-US" sz="4800" spc="-1" strike="noStrike">
              <a:ln w="0">
                <a:noFill/>
              </a:ln>
              <a:solidFill>
                <a:srgbClr val="ff00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800" spc="-1" strike="noStrike">
                <a:ln w="0">
                  <a:noFill/>
                </a:ln>
                <a:solidFill>
                  <a:srgbClr val="ff00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ln w="0">
                <a:noFill/>
              </a:ln>
              <a:solidFill>
                <a:srgbClr val="ff00ff"/>
              </a:solidFill>
              <a:latin typeface="Arial"/>
            </a:endParaRPr>
          </a:p>
        </p:txBody>
      </p:sp>
      <p:sp>
        <p:nvSpPr>
          <p:cNvPr id="471" name="WordArt 12"/>
          <p:cNvSpPr txBox="1"/>
          <p:nvPr/>
        </p:nvSpPr>
        <p:spPr>
          <a:xfrm>
            <a:off x="228600" y="4724280"/>
            <a:ext cx="4723920" cy="13712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ff00ff"/>
                </a:solidFill>
                <a:latin typeface="Times New Roman"/>
                <a:ea typeface="Arial"/>
              </a:rPr>
              <a:t>серьезно</a:t>
            </a:r>
            <a:endParaRPr b="0" lang="en-US" sz="3600" spc="-1" strike="noStrike">
              <a:ln w="0">
                <a:noFill/>
              </a:ln>
              <a:solidFill>
                <a:srgbClr val="ff00ff"/>
              </a:solidFill>
              <a:latin typeface="Arial"/>
            </a:endParaRPr>
          </a:p>
        </p:txBody>
      </p:sp>
      <p:pic>
        <p:nvPicPr>
          <p:cNvPr id="472" name="Picture 8" descr="C:\Users\Заведующая\Desktop\1232412323412.jpg"/>
          <p:cNvPicPr/>
          <p:nvPr/>
        </p:nvPicPr>
        <p:blipFill>
          <a:blip r:embed="rId1"/>
          <a:stretch/>
        </p:blipFill>
        <p:spPr>
          <a:xfrm>
            <a:off x="5436000" y="2514600"/>
            <a:ext cx="3577320" cy="41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51640" y="426240"/>
            <a:ext cx="8712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инципы организации сюжетной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51640" y="1772640"/>
            <a:ext cx="8496720" cy="46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42d0a2"/>
              </a:buClr>
              <a:buSzPct val="95000"/>
              <a:buFont typeface="Arial"/>
              <a:buAutoNum type="arabicPeriod"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Воспитатель должен играть вместе с детьми (позиция «играющий партнер»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42d0a2"/>
              </a:buClr>
              <a:buSzPct val="95000"/>
              <a:buFont typeface="Arial"/>
              <a:buAutoNum type="arabicPeriod"/>
            </a:pPr>
            <a:r>
              <a:rPr b="0" lang="ru-RU" sz="3200" spc="-1" strike="noStrike">
                <a:solidFill>
                  <a:srgbClr val="00b0f0"/>
                </a:solidFill>
                <a:latin typeface="Arial"/>
                <a:ea typeface="Arial"/>
              </a:rPr>
              <a:t>Воспитатель должен играть с детьми на протяжении всего дошкольного детства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42d0a2"/>
              </a:buClr>
              <a:buSzPct val="95000"/>
              <a:buFont typeface="Arial"/>
              <a:buAutoNum type="arabicPeriod"/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На каждом этапе дошкольного детства формировать игровые умения, ориентируя ребенка на осуществление игрового действия и пояснение его смысла партнеру по игре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http://fs00.infourok.ru/images/doc/242/217203/2/img0.jpg"/>
          <p:cNvPicPr/>
          <p:nvPr/>
        </p:nvPicPr>
        <p:blipFill>
          <a:blip r:embed="rId1"/>
          <a:stretch/>
        </p:blipFill>
        <p:spPr>
          <a:xfrm>
            <a:off x="0" y="-65520"/>
            <a:ext cx="9231120" cy="69231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476" name="WordArt 4"/>
          <p:cNvSpPr txBox="1"/>
          <p:nvPr/>
        </p:nvSpPr>
        <p:spPr>
          <a:xfrm>
            <a:off x="1043640" y="3501000"/>
            <a:ext cx="6248160" cy="685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70c0"/>
                </a:solidFill>
                <a:latin typeface="Georgia"/>
              </a:rPr>
              <a:t>Позволь мне сделать</a:t>
            </a:r>
            <a:r>
              <a:rPr b="0" lang="ru-RU" sz="3600" spc="-1" strike="noStrike">
                <a:ln w="0">
                  <a:noFill/>
                </a:ln>
                <a:solidFill>
                  <a:srgbClr val="0070c0"/>
                </a:solidFill>
                <a:latin typeface="Georgia"/>
              </a:rPr>
              <a:t>,</a:t>
            </a:r>
            <a:endParaRPr b="0" lang="en-US" sz="3600" spc="-1" strike="noStrike">
              <a:ln w="0">
                <a:noFill/>
              </a:ln>
              <a:solidFill>
                <a:srgbClr val="0070c0"/>
              </a:solidFill>
              <a:latin typeface="Arial"/>
            </a:endParaRPr>
          </a:p>
        </p:txBody>
      </p:sp>
      <p:sp>
        <p:nvSpPr>
          <p:cNvPr id="477" name="WordArt 5"/>
          <p:cNvSpPr txBox="1"/>
          <p:nvPr/>
        </p:nvSpPr>
        <p:spPr>
          <a:xfrm>
            <a:off x="637920" y="5158440"/>
            <a:ext cx="7543440" cy="761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70c0"/>
                </a:solidFill>
                <a:latin typeface="Georgia"/>
                <a:ea typeface="Arial"/>
              </a:rPr>
              <a:t>и это станет моим навсегда</a:t>
            </a:r>
            <a:endParaRPr b="0" lang="en-US" sz="3600" spc="-1" strike="noStrike">
              <a:ln w="0">
                <a:noFill/>
              </a:ln>
              <a:solidFill>
                <a:srgbClr val="0070c0"/>
              </a:solidFill>
              <a:latin typeface="Arial"/>
            </a:endParaRPr>
          </a:p>
        </p:txBody>
      </p:sp>
      <p:pic>
        <p:nvPicPr>
          <p:cNvPr id="478" name="Рисунок 3" descr=""/>
          <p:cNvPicPr/>
          <p:nvPr/>
        </p:nvPicPr>
        <p:blipFill>
          <a:blip r:embed="rId2"/>
          <a:stretch/>
        </p:blipFill>
        <p:spPr>
          <a:xfrm>
            <a:off x="1378800" y="2402280"/>
            <a:ext cx="5577840" cy="408240"/>
          </a:xfrm>
          <a:prstGeom prst="rect">
            <a:avLst/>
          </a:prstGeom>
          <a:ln w="0">
            <a:noFill/>
          </a:ln>
        </p:spPr>
      </p:pic>
      <p:sp>
        <p:nvSpPr>
          <p:cNvPr id="479" name="Прямоугольник 7"/>
          <p:cNvSpPr/>
          <p:nvPr/>
        </p:nvSpPr>
        <p:spPr>
          <a:xfrm>
            <a:off x="1287360" y="1134000"/>
            <a:ext cx="545544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Arial"/>
              </a:rPr>
              <a:t>Скажи мне, и я забу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Рисунок 2" descr=""/>
          <p:cNvPicPr/>
          <p:nvPr/>
        </p:nvPicPr>
        <p:blipFill>
          <a:blip r:embed="rId1"/>
          <a:stretch/>
        </p:blipFill>
        <p:spPr>
          <a:xfrm>
            <a:off x="107640" y="260640"/>
            <a:ext cx="2400120" cy="208800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8" descr=""/>
          <p:cNvPicPr/>
          <p:nvPr/>
        </p:nvPicPr>
        <p:blipFill>
          <a:blip r:embed="rId2"/>
          <a:stretch/>
        </p:blipFill>
        <p:spPr>
          <a:xfrm>
            <a:off x="2843640" y="292680"/>
            <a:ext cx="2704680" cy="205560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9" descr=""/>
          <p:cNvPicPr/>
          <p:nvPr/>
        </p:nvPicPr>
        <p:blipFill>
          <a:blip r:embed="rId3"/>
          <a:stretch/>
        </p:blipFill>
        <p:spPr>
          <a:xfrm>
            <a:off x="5884920" y="485640"/>
            <a:ext cx="2790360" cy="163800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10" descr=""/>
          <p:cNvPicPr/>
          <p:nvPr/>
        </p:nvPicPr>
        <p:blipFill>
          <a:blip r:embed="rId4"/>
          <a:stretch/>
        </p:blipFill>
        <p:spPr>
          <a:xfrm>
            <a:off x="109800" y="2565000"/>
            <a:ext cx="2466720" cy="184752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11" descr=""/>
          <p:cNvPicPr/>
          <p:nvPr/>
        </p:nvPicPr>
        <p:blipFill>
          <a:blip r:embed="rId5"/>
          <a:stretch/>
        </p:blipFill>
        <p:spPr>
          <a:xfrm>
            <a:off x="3060000" y="2565000"/>
            <a:ext cx="1914120" cy="239040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12" descr=""/>
          <p:cNvPicPr/>
          <p:nvPr/>
        </p:nvPicPr>
        <p:blipFill>
          <a:blip r:embed="rId6"/>
          <a:stretch/>
        </p:blipFill>
        <p:spPr>
          <a:xfrm>
            <a:off x="5874120" y="2369520"/>
            <a:ext cx="2523600" cy="180936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13" descr=""/>
          <p:cNvPicPr/>
          <p:nvPr/>
        </p:nvPicPr>
        <p:blipFill>
          <a:blip r:embed="rId7"/>
          <a:stretch/>
        </p:blipFill>
        <p:spPr>
          <a:xfrm>
            <a:off x="303120" y="4955760"/>
            <a:ext cx="2571480" cy="178092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14" descr=""/>
          <p:cNvPicPr/>
          <p:nvPr/>
        </p:nvPicPr>
        <p:blipFill>
          <a:blip r:embed="rId8"/>
          <a:stretch/>
        </p:blipFill>
        <p:spPr>
          <a:xfrm>
            <a:off x="3139560" y="5171760"/>
            <a:ext cx="2704680" cy="1685520"/>
          </a:xfrm>
          <a:prstGeom prst="rect">
            <a:avLst/>
          </a:prstGeom>
          <a:ln w="0">
            <a:noFill/>
          </a:ln>
        </p:spPr>
      </p:pic>
      <p:pic>
        <p:nvPicPr>
          <p:cNvPr id="488" name="Рисунок 15" descr=""/>
          <p:cNvPicPr/>
          <p:nvPr/>
        </p:nvPicPr>
        <p:blipFill>
          <a:blip r:embed="rId9"/>
          <a:stretch/>
        </p:blipFill>
        <p:spPr>
          <a:xfrm>
            <a:off x="6284880" y="4822200"/>
            <a:ext cx="2390400" cy="19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Рисунок 1" descr=""/>
          <p:cNvPicPr/>
          <p:nvPr/>
        </p:nvPicPr>
        <p:blipFill>
          <a:blip r:embed="rId1"/>
          <a:stretch/>
        </p:blipFill>
        <p:spPr>
          <a:xfrm>
            <a:off x="0" y="332640"/>
            <a:ext cx="3203640" cy="256536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2" descr=""/>
          <p:cNvPicPr/>
          <p:nvPr/>
        </p:nvPicPr>
        <p:blipFill>
          <a:blip r:embed="rId2"/>
          <a:stretch/>
        </p:blipFill>
        <p:spPr>
          <a:xfrm>
            <a:off x="4212000" y="691560"/>
            <a:ext cx="2952000" cy="220644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3" descr=""/>
          <p:cNvPicPr/>
          <p:nvPr/>
        </p:nvPicPr>
        <p:blipFill>
          <a:blip r:embed="rId3"/>
          <a:stretch/>
        </p:blipFill>
        <p:spPr>
          <a:xfrm>
            <a:off x="3060000" y="3573000"/>
            <a:ext cx="2448000" cy="26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7640" y="2444760"/>
            <a:ext cx="8305560" cy="119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Arial"/>
                <a:ea typeface="Arial"/>
              </a:rPr>
              <a:t>Благодарим за внимани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2"/>
          <p:cNvSpPr/>
          <p:nvPr/>
        </p:nvSpPr>
        <p:spPr>
          <a:xfrm>
            <a:off x="323640" y="332640"/>
            <a:ext cx="8676000" cy="1796040"/>
          </a:xfrm>
          <a:prstGeom prst="rect">
            <a:avLst/>
          </a:prstGeom>
          <a:solidFill>
            <a:srgbClr val="ffffff"/>
          </a:solidFill>
          <a:ln>
            <a:solidFill>
              <a:srgbClr val="1998c5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c3260c"/>
                </a:solidFill>
                <a:latin typeface="Times New Roman"/>
                <a:ea typeface="Arial"/>
              </a:rPr>
              <a:t>ФГОС ДО в основу ставит конструирование социальной ситуации, которая способствует поддержке индивидуальности и детской инициативы каждого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трелка вниз 3"/>
          <p:cNvSpPr/>
          <p:nvPr/>
        </p:nvSpPr>
        <p:spPr>
          <a:xfrm>
            <a:off x="3852000" y="2148480"/>
            <a:ext cx="503640" cy="848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400" spc="-1" strike="noStrike">
              <a:solidFill>
                <a:schemeClr val="lt1"/>
              </a:solidFill>
              <a:latin typeface="Trebuchet MS"/>
              <a:ea typeface="Arial"/>
            </a:endParaRPr>
          </a:p>
        </p:txBody>
      </p:sp>
      <p:sp>
        <p:nvSpPr>
          <p:cNvPr id="434" name="Прямоугольник 4"/>
          <p:cNvSpPr/>
          <p:nvPr/>
        </p:nvSpPr>
        <p:spPr>
          <a:xfrm>
            <a:off x="323640" y="3492360"/>
            <a:ext cx="8064360" cy="26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апе завершения этапа дошкольного образования целевыми ориентирами, определенными ФГОС, предусматриваются следующие возрастные характеристики возможности детей: проявляют инициативу и самостоятельность в различных видах деятельности, способен выбирать себе род занятий, участников по совместной деятельности, ребенок способен к волевым усилиям, пытается самостоятельно придумывать объяснения явлениям природы и поступкам людей, ребенок способен к принятию собственных ре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2"/>
          <p:cNvSpPr/>
          <p:nvPr/>
        </p:nvSpPr>
        <p:spPr>
          <a:xfrm>
            <a:off x="212760" y="764640"/>
            <a:ext cx="8607240" cy="944280"/>
          </a:xfrm>
          <a:prstGeom prst="rect">
            <a:avLst/>
          </a:prstGeom>
          <a:solidFill>
            <a:srgbClr val="ffffff"/>
          </a:solidFill>
          <a:ln>
            <a:solidFill>
              <a:srgbClr val="1998c5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anchor="t">
            <a:sp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800" spc="-1" strike="noStrike" cap="all">
                <a:solidFill>
                  <a:srgbClr val="495dc6"/>
                </a:solidFill>
                <a:latin typeface="Times New Roman"/>
                <a:ea typeface="Arial"/>
              </a:rPr>
              <a:t>Инициативный, самостоятельный ребенок– что это знач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http://www.robparkerassociates.co.uk/wp-content/uploads/2015/07/Question-Mark.jpg"/>
          <p:cNvPicPr/>
          <p:nvPr/>
        </p:nvPicPr>
        <p:blipFill>
          <a:blip r:embed="rId1"/>
          <a:stretch/>
        </p:blipFill>
        <p:spPr>
          <a:xfrm>
            <a:off x="4212000" y="2637000"/>
            <a:ext cx="4608000" cy="345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437" name="Picture 2"/>
          <p:cNvSpPr/>
          <p:nvPr/>
        </p:nvSpPr>
        <p:spPr>
          <a:xfrm>
            <a:off x="611640" y="2637000"/>
            <a:ext cx="4407840" cy="293400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1"/>
          <p:cNvSpPr/>
          <p:nvPr/>
        </p:nvSpPr>
        <p:spPr>
          <a:xfrm>
            <a:off x="755640" y="5524560"/>
            <a:ext cx="770436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69440">
              <a:lnSpc>
                <a:spcPct val="115000"/>
              </a:lnSpc>
              <a:spcBef>
                <a:spcPts val="1500"/>
              </a:spcBef>
              <a:spcAft>
                <a:spcPts val="374"/>
              </a:spcAft>
            </a:pPr>
            <a:r>
              <a:rPr b="1" i="1" lang="ru-RU" sz="1800" spc="-1" strike="noStrike">
                <a:solidFill>
                  <a:schemeClr val="accent6"/>
                </a:solidFill>
                <a:latin typeface="Times New Roman"/>
                <a:ea typeface="Times New Roman"/>
              </a:rPr>
              <a:t>«Что такое инициатива? Это то, что человек делает так, как надо, хотя его об этом не просят». »</a:t>
            </a:r>
            <a:r>
              <a:rPr b="1" lang="ru-RU" sz="1800" spc="-1" strike="noStrike">
                <a:solidFill>
                  <a:schemeClr val="accent6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ru-RU" sz="1800" spc="-1" strike="noStrike">
                <a:solidFill>
                  <a:schemeClr val="accent6"/>
                </a:solidFill>
                <a:latin typeface="Times New Roman"/>
                <a:ea typeface="Times New Roman"/>
              </a:rPr>
              <a:t>Элберт Грин Хабб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56872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chemeClr val="accent6"/>
                </a:solidFill>
                <a:latin typeface="Times New Roman"/>
              </a:rPr>
              <a:t>Самостоятельно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– обобщенное свойство личности, проявляющееся в  инициативности, критичности, адекватной самооценке и чувстве личной ответственности за свою деятельность и поведение.</a:t>
            </a:r>
            <a:br>
              <a:rPr sz="2000"/>
            </a:br>
            <a:r>
              <a:rPr b="1" i="1" lang="ru-RU" sz="2000" spc="-1" strike="noStrike">
                <a:solidFill>
                  <a:schemeClr val="accent6"/>
                </a:solidFill>
                <a:latin typeface="Times New Roman"/>
              </a:rPr>
              <a:t>Инициативность</a:t>
            </a:r>
            <a:r>
              <a:rPr b="1" lang="ru-RU" sz="2000" spc="-1" strike="noStrike">
                <a:solidFill>
                  <a:schemeClr val="accent6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частный случай самостоятельности, стремление к инициативе, изменение форм деятельности или уклада жизни. Это мотивационное качество, рассматривается и как волевая характеристика поведения человека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определению в «Советском энциклопедическом словаре», инициатива — (от латинского initium — начало) почин, первый шаг в каком-либо деле; внутреннее побуждение к новым формам деятельности, предприимчивости; руководящая роль в каких-либо действиях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«Справочнике по психологии и психиатрии детей и подростков» инициативность определяется, как «характеристика деятельности, поведения и личности человека, означающая способность действовать по внутреннему побуждению, в отличие от реактивности — поведении, осуществляемом на внешние стиму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icture 2"/>
          <p:cNvSpPr/>
          <p:nvPr/>
        </p:nvSpPr>
        <p:spPr>
          <a:xfrm>
            <a:off x="2366640" y="2790360"/>
            <a:ext cx="3288600" cy="274032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1"/>
          <p:cNvSpPr/>
          <p:nvPr/>
        </p:nvSpPr>
        <p:spPr>
          <a:xfrm>
            <a:off x="190440" y="332640"/>
            <a:ext cx="8925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 cap="all">
                <a:solidFill>
                  <a:srgbClr val="495dc6"/>
                </a:solidFill>
                <a:latin typeface="Times New Roman"/>
              </a:rPr>
              <a:t>Черты инициативной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Овал 2"/>
          <p:cNvSpPr/>
          <p:nvPr/>
        </p:nvSpPr>
        <p:spPr>
          <a:xfrm rot="2118000">
            <a:off x="1431360" y="1847880"/>
            <a:ext cx="2448000" cy="1872000"/>
          </a:xfrm>
          <a:prstGeom prst="ellipse">
            <a:avLst/>
          </a:prstGeom>
          <a:solidFill>
            <a:srgbClr val="f14124"/>
          </a:solidFill>
          <a:ln>
            <a:solidFill>
              <a:srgbClr val="ffffff"/>
            </a:solidFill>
            <a:round/>
          </a:ln>
          <a:effectLst>
            <a:outerShdw blurRad="63360" dir="5400000" dist="50760" rotWithShape="0" sx="98000" sy="98000">
              <a:srgbClr val="000000">
                <a:alpha val="20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  <a:ea typeface="Arial"/>
              </a:rPr>
              <a:t>Стремление к само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Овал 4"/>
          <p:cNvSpPr/>
          <p:nvPr/>
        </p:nvSpPr>
        <p:spPr>
          <a:xfrm>
            <a:off x="1115640" y="3417840"/>
            <a:ext cx="2372040" cy="1761480"/>
          </a:xfrm>
          <a:prstGeom prst="ellipse">
            <a:avLst/>
          </a:prstGeom>
          <a:solidFill>
            <a:srgbClr val="ffc000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Trebuchet MS"/>
                <a:ea typeface="Arial"/>
              </a:rPr>
              <a:t>Познавательная 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Овал 5"/>
          <p:cNvSpPr/>
          <p:nvPr/>
        </p:nvSpPr>
        <p:spPr>
          <a:xfrm>
            <a:off x="3375000" y="764640"/>
            <a:ext cx="1868040" cy="2180160"/>
          </a:xfrm>
          <a:prstGeom prst="ellipse">
            <a:avLst/>
          </a:prstGeom>
          <a:solidFill>
            <a:srgbClr val="ff8021"/>
          </a:solidFill>
          <a:ln>
            <a:solidFill>
              <a:srgbClr val="ffffff"/>
            </a:solidFill>
            <a:round/>
          </a:ln>
          <a:effectLst>
            <a:outerShdw blurRad="63360" dir="5400000" dist="50760" rotWithShape="0" sx="98000" sy="98000">
              <a:srgbClr val="000000">
                <a:alpha val="2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  <a:ea typeface="Arial"/>
              </a:rPr>
              <a:t>Произвольность по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Овал 6"/>
          <p:cNvSpPr/>
          <p:nvPr/>
        </p:nvSpPr>
        <p:spPr>
          <a:xfrm rot="18208800">
            <a:off x="2347200" y="4714200"/>
            <a:ext cx="2281320" cy="1884240"/>
          </a:xfrm>
          <a:prstGeom prst="ellipse">
            <a:avLst/>
          </a:prstGeom>
          <a:gradFill rotWithShape="0">
            <a:gsLst>
              <a:gs pos="0">
                <a:srgbClr val="a0e844"/>
              </a:gs>
              <a:gs pos="100000">
                <a:srgbClr val="75bf17"/>
              </a:gs>
            </a:gsLst>
            <a:lin ang="2004000"/>
          </a:gradFill>
          <a:ln w="0">
            <a:noFill/>
          </a:ln>
          <a:effectLst>
            <a:reflection blurRad="38100" dir="5400000" dist="25400" endPos="23000" rotWithShape="0" stA="26000" sy="-100000"/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  <a:ea typeface="Arial"/>
              </a:rPr>
              <a:t>Творческий подход к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Овал 7"/>
          <p:cNvSpPr/>
          <p:nvPr/>
        </p:nvSpPr>
        <p:spPr>
          <a:xfrm rot="19928400">
            <a:off x="4908960" y="1775880"/>
            <a:ext cx="2448000" cy="1879920"/>
          </a:xfrm>
          <a:prstGeom prst="ellipse">
            <a:avLst/>
          </a:prstGeom>
          <a:solidFill>
            <a:srgbClr val="5dceaf"/>
          </a:solidFill>
          <a:ln>
            <a:solidFill>
              <a:srgbClr val="ffffff"/>
            </a:solidFill>
            <a:round/>
          </a:ln>
          <a:effectLst>
            <a:outerShdw blurRad="63360" dir="5400000" dist="50760" rotWithShape="0" sx="98000" sy="98000">
              <a:srgbClr val="000000">
                <a:alpha val="2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  <a:ea typeface="Arial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Овал 8"/>
          <p:cNvSpPr/>
          <p:nvPr/>
        </p:nvSpPr>
        <p:spPr>
          <a:xfrm>
            <a:off x="5350680" y="3417840"/>
            <a:ext cx="2160000" cy="1761480"/>
          </a:xfrm>
          <a:prstGeom prst="ellipse">
            <a:avLst/>
          </a:prstGeom>
          <a:gradFill rotWithShape="0">
            <a:gsLst>
              <a:gs pos="28000">
                <a:srgbClr val="fbb1b1"/>
              </a:gs>
              <a:gs pos="100000">
                <a:srgbClr val="ef7873"/>
              </a:gs>
            </a:gsLst>
            <a:lin ang="5400000"/>
          </a:gradFill>
          <a:ln>
            <a:solidFill>
              <a:srgbClr val="f14124"/>
            </a:solidFill>
            <a:round/>
          </a:ln>
          <a:effectLst>
            <a:outerShdw blurRad="63360" dir="5400000" dist="50760" rotWithShape="0" sx="98000" sy="98000">
              <a:srgbClr val="000000">
                <a:alpha val="2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Trebuchet MS"/>
                <a:ea typeface="Arial"/>
              </a:rPr>
              <a:t>Развитая эмоционально-волева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Овал 9"/>
          <p:cNvSpPr/>
          <p:nvPr/>
        </p:nvSpPr>
        <p:spPr>
          <a:xfrm rot="2361600">
            <a:off x="4199400" y="4796640"/>
            <a:ext cx="2460600" cy="1884240"/>
          </a:xfrm>
          <a:prstGeom prst="ellips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  <a:ea typeface="Arial"/>
              </a:rPr>
              <a:t>общ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Итак…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2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chemeClr val="accent6"/>
                </a:solidFill>
                <a:uFillTx/>
                <a:latin typeface="Times New Roman"/>
              </a:rPr>
              <a:t>Где проявляется инициатива</a:t>
            </a:r>
            <a:r>
              <a:rPr b="0" lang="ru-RU" sz="2800" spc="-1" strike="noStrike">
                <a:solidFill>
                  <a:schemeClr val="accent6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исследовательская деятельность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-сюжетно- ролевая игра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-коммуникативная игра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-игра – импровизация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36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Необходимым условием развитием инициативного поведения является воспитание его в условиях развивающего, не авторитарного общ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240" cy="17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едагогическое общение, основанное на принципах любви, понимания, терпимости и упорядоченности деятельности, станет условием полноценного развития позитивной свободы и инициативности ребен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4348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Как развивать инициативность и самостоятельность в дошкольник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15280" indent="0" algn="ctr">
              <a:lnSpc>
                <a:spcPct val="9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5280" indent="0" algn="ctr">
              <a:lnSpc>
                <a:spcPct val="9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5280" indent="0" algn="ctr">
              <a:lnSpc>
                <a:spcPct val="90000"/>
              </a:lnSpc>
              <a:spcBef>
                <a:spcPts val="9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31489f"/>
                </a:solidFill>
                <a:latin typeface="Times New Roman"/>
              </a:rPr>
              <a:t>Создавать условия для свободного выбора детьми различных видов деятельности, форм совместности, а также для принятия ими решений, выражения своих чувств и мыслей.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215280" indent="0" algn="ctr">
              <a:lnSpc>
                <a:spcPct val="90000"/>
              </a:lnSpc>
              <a:spcBef>
                <a:spcPts val="961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215280" indent="0" algn="ctr">
              <a:lnSpc>
                <a:spcPct val="90000"/>
              </a:lnSpc>
              <a:spcBef>
                <a:spcPts val="9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404040"/>
                </a:solidFill>
                <a:latin typeface="Trebuchet MS"/>
              </a:rPr>
              <a:t>Инициативная личность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215280" indent="0" algn="ctr">
              <a:lnSpc>
                <a:spcPct val="90000"/>
              </a:lnSpc>
              <a:spcBef>
                <a:spcPts val="9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404040"/>
                </a:solidFill>
                <a:latin typeface="Trebuchet MS"/>
              </a:rPr>
              <a:t>развивается в деятельности!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215280" indent="0" algn="ctr">
              <a:lnSpc>
                <a:spcPct val="9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5280" indent="0">
              <a:lnSpc>
                <a:spcPct val="9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Прямоугольник 1"/>
          <p:cNvSpPr/>
          <p:nvPr/>
        </p:nvSpPr>
        <p:spPr>
          <a:xfrm>
            <a:off x="1157040" y="2493000"/>
            <a:ext cx="7124400" cy="2102040"/>
          </a:xfrm>
          <a:prstGeom prst="rect">
            <a:avLst/>
          </a:prstGeom>
          <a:solidFill>
            <a:srgbClr val="a7ea52"/>
          </a:solidFill>
          <a:ln>
            <a:solidFill>
              <a:srgbClr val="ffffff"/>
            </a:solidFill>
            <a:round/>
          </a:ln>
          <a:effectLst>
            <a:outerShdw blurRad="63360" dir="5400000" dist="50760" rotWithShape="0" sx="98000" sy="98000">
              <a:srgbClr val="000000">
                <a:alpha val="2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a3afff"/>
                </a:solidFill>
                <a:latin typeface="Trebuchet MS"/>
                <a:ea typeface="Arial"/>
              </a:rPr>
              <a:t>Развитие детс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a3afff"/>
                </a:solidFill>
                <a:latin typeface="Trebuchet MS"/>
                <a:ea typeface="Arial"/>
              </a:rPr>
              <a:t> </a:t>
            </a:r>
            <a:r>
              <a:rPr b="1" lang="ru-RU" sz="4400" spc="-1" strike="noStrike">
                <a:solidFill>
                  <a:srgbClr val="a3afff"/>
                </a:solidFill>
                <a:latin typeface="Trebuchet MS"/>
                <a:ea typeface="Arial"/>
              </a:rPr>
              <a:t>инициативы в раз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a3afff"/>
                </a:solidFill>
                <a:latin typeface="Trebuchet MS"/>
                <a:ea typeface="Arial"/>
              </a:rPr>
              <a:t>видах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"/>
          <p:cNvSpPr/>
          <p:nvPr/>
        </p:nvSpPr>
        <p:spPr>
          <a:xfrm>
            <a:off x="467640" y="704880"/>
            <a:ext cx="3168000" cy="1583640"/>
          </a:xfrm>
          <a:prstGeom prst="rect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457" name="Прямоугольник 3"/>
          <p:cNvSpPr/>
          <p:nvPr/>
        </p:nvSpPr>
        <p:spPr>
          <a:xfrm>
            <a:off x="5544000" y="704880"/>
            <a:ext cx="3168000" cy="1583640"/>
          </a:xfrm>
          <a:prstGeom prst="rect">
            <a:avLst/>
          </a:prstGeom>
          <a:solidFill>
            <a:srgbClr val="5eccf3"/>
          </a:solidFill>
          <a:ln>
            <a:solidFill>
              <a:srgbClr val="24677f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b050"/>
              </a:solidFill>
              <a:latin typeface="Trebuchet MS"/>
              <a:ea typeface="Arial"/>
            </a:endParaRPr>
          </a:p>
        </p:txBody>
      </p:sp>
      <p:sp>
        <p:nvSpPr>
          <p:cNvPr id="458" name="Прямоугольник 4"/>
          <p:cNvSpPr/>
          <p:nvPr/>
        </p:nvSpPr>
        <p:spPr>
          <a:xfrm>
            <a:off x="683640" y="4797000"/>
            <a:ext cx="3168000" cy="1800000"/>
          </a:xfrm>
          <a:prstGeom prst="rect">
            <a:avLst/>
          </a:prstGeom>
          <a:solidFill>
            <a:srgbClr val="ff8021"/>
          </a:solidFill>
          <a:ln>
            <a:solidFill>
              <a:srgbClr val="ffffff"/>
            </a:solidFill>
            <a:round/>
          </a:ln>
          <a:effectLst>
            <a:outerShdw blurRad="63360" dir="5400000" dist="50760" rotWithShape="0" sx="98000" sy="98000">
              <a:srgbClr val="000000">
                <a:alpha val="2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Trebuchet MS"/>
              <a:ea typeface="Arial"/>
            </a:endParaRPr>
          </a:p>
        </p:txBody>
      </p:sp>
      <p:sp>
        <p:nvSpPr>
          <p:cNvPr id="459" name="Прямоугольник 5"/>
          <p:cNvSpPr/>
          <p:nvPr/>
        </p:nvSpPr>
        <p:spPr>
          <a:xfrm>
            <a:off x="5436000" y="4797000"/>
            <a:ext cx="3384000" cy="1800000"/>
          </a:xfrm>
          <a:prstGeom prst="rect">
            <a:avLst/>
          </a:prstGeom>
          <a:gradFill rotWithShape="0">
            <a:gsLst>
              <a:gs pos="28000">
                <a:srgbClr val="fbb1b1"/>
              </a:gs>
              <a:gs pos="100000">
                <a:srgbClr val="ef7873"/>
              </a:gs>
            </a:gsLst>
            <a:lin ang="5400000"/>
          </a:gradFill>
          <a:ln>
            <a:solidFill>
              <a:srgbClr val="f14124"/>
            </a:solidFill>
            <a:round/>
          </a:ln>
          <a:effectLst>
            <a:outerShdw blurRad="63360" dir="5400000" dist="50760" rotWithShape="0" sx="98000" sy="98000">
              <a:srgbClr val="000000">
                <a:alpha val="2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  <a:ea typeface="Arial"/>
            </a:endParaRPr>
          </a:p>
        </p:txBody>
      </p:sp>
      <p:sp>
        <p:nvSpPr>
          <p:cNvPr id="460" name="TextBox 6"/>
          <p:cNvSpPr/>
          <p:nvPr/>
        </p:nvSpPr>
        <p:spPr>
          <a:xfrm>
            <a:off x="550440" y="704880"/>
            <a:ext cx="30024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ЕК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7"/>
          <p:cNvSpPr/>
          <p:nvPr/>
        </p:nvSpPr>
        <p:spPr>
          <a:xfrm>
            <a:off x="5792760" y="1192320"/>
            <a:ext cx="2670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chemeClr val="accent6"/>
                </a:solidFill>
                <a:latin typeface="Times New Roman"/>
              </a:rPr>
              <a:t>ТРУД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8"/>
          <p:cNvSpPr/>
          <p:nvPr/>
        </p:nvSpPr>
        <p:spPr>
          <a:xfrm>
            <a:off x="1115640" y="5301360"/>
            <a:ext cx="2520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Г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9"/>
          <p:cNvSpPr/>
          <p:nvPr/>
        </p:nvSpPr>
        <p:spPr>
          <a:xfrm>
            <a:off x="5436000" y="5301360"/>
            <a:ext cx="338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ВОР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Прямая со стрелкой 11"/>
          <p:cNvCxnSpPr>
            <a:stCxn id="455" idx="1"/>
          </p:cNvCxnSpPr>
          <p:nvPr/>
        </p:nvCxnSpPr>
        <p:spPr>
          <a:xfrm flipH="1" flipV="1">
            <a:off x="683280" y="2492640"/>
            <a:ext cx="792720" cy="1062360"/>
          </a:xfrm>
          <a:prstGeom prst="straightConnector1">
            <a:avLst/>
          </a:prstGeom>
          <a:ln>
            <a:solidFill>
              <a:srgbClr val="4e67c8"/>
            </a:solidFill>
            <a:round/>
            <a:tailEnd len="med" type="arrow" w="med"/>
          </a:ln>
        </p:spPr>
      </p:cxnSp>
      <p:cxnSp>
        <p:nvCxnSpPr>
          <p:cNvPr id="465" name="Прямая со стрелкой 13"/>
          <p:cNvCxnSpPr/>
          <p:nvPr/>
        </p:nvCxnSpPr>
        <p:spPr>
          <a:xfrm flipV="1">
            <a:off x="7963200" y="2276640"/>
            <a:ext cx="353520" cy="1080360"/>
          </a:xfrm>
          <a:prstGeom prst="straightConnector1">
            <a:avLst/>
          </a:prstGeom>
          <a:ln>
            <a:solidFill>
              <a:srgbClr val="4e67c8"/>
            </a:solidFill>
            <a:round/>
            <a:tailEnd len="med" type="arrow" w="med"/>
          </a:ln>
        </p:spPr>
      </p:cxnSp>
      <p:cxnSp>
        <p:nvCxnSpPr>
          <p:cNvPr id="466" name="Прямая со стрелкой 15"/>
          <p:cNvCxnSpPr/>
          <p:nvPr/>
        </p:nvCxnSpPr>
        <p:spPr>
          <a:xfrm flipH="1">
            <a:off x="827280" y="3789000"/>
            <a:ext cx="648720" cy="827640"/>
          </a:xfrm>
          <a:prstGeom prst="straightConnector1">
            <a:avLst/>
          </a:prstGeom>
          <a:ln>
            <a:solidFill>
              <a:srgbClr val="4e67c8"/>
            </a:solidFill>
            <a:round/>
            <a:tailEnd len="med" type="arrow" w="med"/>
          </a:ln>
        </p:spPr>
      </p:cxnSp>
      <p:cxnSp>
        <p:nvCxnSpPr>
          <p:cNvPr id="467" name="Прямая со стрелкой 17"/>
          <p:cNvCxnSpPr>
            <a:stCxn id="455" idx="3"/>
          </p:cNvCxnSpPr>
          <p:nvPr/>
        </p:nvCxnSpPr>
        <p:spPr>
          <a:xfrm>
            <a:off x="7963200" y="3554640"/>
            <a:ext cx="353520" cy="1062000"/>
          </a:xfrm>
          <a:prstGeom prst="straightConnector1">
            <a:avLst/>
          </a:prstGeom>
          <a:ln>
            <a:solidFill>
              <a:srgbClr val="4e67c8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6_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4_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_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3_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2_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1_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797</TotalTime>
  <Application>LibreOffice/7.4.7.2$Linux_X86_64 LibreOffice_project/40$Build-2</Application>
  <AppVersion>15.0000</AppVersion>
  <Words>311</Words>
  <Paragraphs>5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тя</dc:creator>
  <dc:description/>
  <dc:language>en-US</dc:language>
  <cp:lastModifiedBy>DOU-75</cp:lastModifiedBy>
  <dcterms:modified xsi:type="dcterms:W3CDTF">2020-12-01T05:20:27Z</dcterms:modified>
  <cp:revision>44</cp:revision>
  <dc:subject/>
  <dc:title>Организация  сюжетно-ролевой игры  в детском сад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15</vt:r8>
  </property>
</Properties>
</file>