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C39-7BC4-402B-8D89-88E764DA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065-EE25-4B95-BC2A-77EB25A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49E3B-F20B-4B76-8A2A-19395743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A8E4B-0839-4721-AC52-F9779D1C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F7B9B-CC2A-4B86-9ECA-1029928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48E8D-F4E9-4353-81C1-4FA61E4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3E3E1-9EE7-452C-B531-75475216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ADB58-707A-499C-8C28-7BFB9B14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367E-A2A3-4EE5-B5C3-B54A489C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E2651-1429-441A-8F98-056FEA01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31EC6-630E-4CE7-946C-DB482160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40E-65B1-4ED3-B825-19172367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0F6-7229-413B-B0E1-99D7E39C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A99C-C65D-464E-ACDE-E9945136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3E41-9084-44F1-8434-BD675870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2106-5935-457D-82D4-A7385E26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478-4ABD-4C7D-806F-5EF2EB0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8BC1-6578-4DA9-AE63-91A7FF17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BC3-CAA4-4FED-B34D-B6D8949A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24F1-5768-4495-B3E0-7D160F06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3CC-DB98-4707-AD71-121A6253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E953-608C-49FE-AFED-DB33A40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DA4-3495-457E-9F83-8DA9D4EE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450D-9782-4611-9C47-F28E951B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CD7-3B3A-47BC-832C-1BDDC18E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F973-81D6-4E8B-A480-35D42026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7392-84E2-4660-A86A-EE90602D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8FF6-E4E4-4582-B6D1-107A8B8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1B4F3-55A6-45D2-BF09-0F02B44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2352-F1B5-4A3B-AAF7-921E048C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47AE-092D-4852-93CC-E30DB98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CA2-4E3B-46D1-A8C1-F09D251A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71CA-B52C-43CC-9FB3-EF260905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183C-81C6-40C2-86FC-D350AD6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7A79-2E49-4CAA-AC1D-DFD0454E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BCC1-4B57-4E62-9B5C-CF4F187A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055F-E830-4E39-852C-2EE739AA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038B-AA6F-4C4D-BB74-B4EA09A5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D68F-25B8-4DC9-A569-FDE19847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8548-9FB6-4B9F-BB91-F8C8844D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8D809-8458-4173-B48A-1AE4C01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96F7-5F5F-4B0B-B9E8-2BB6B6E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5D8-0C2D-4B98-82FA-5DCC5DE2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A3EF0-C3C9-40F3-A685-DAC99A83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C75C-C2A4-4B8C-ABE4-8068A641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F347-DEDA-47E5-BAFF-D38787CC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778D-8502-47B4-947B-951491CF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EDFB-858F-463A-AE58-FB56ECA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8FB31-2003-487F-B6BC-8490BE7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C3DBE-DC47-4941-A71D-ECC74076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7C24-3376-46A8-8829-67CEC598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9033-0CA3-4F9E-AACF-93593F72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12911-100B-474C-BEFA-02FDB02C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2E6-F6D5-46A4-84FA-B7C23816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3E281-28E1-4A6F-97F2-53D8916A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12281-FC28-4480-9675-5E9D2D02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D67DB-829D-42AA-B5BB-417C5766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4BD19-FE87-4AF1-B675-D2621287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939CF-083F-4E6B-8A0B-9C816183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9FD45-F721-4205-A9F6-BC45F6EE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5F995-1E35-4521-9847-FFFA73AB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FC74-1A64-4E88-91C4-84CE620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36AB4-5E4F-4369-8CA9-ABC22D9A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8A443-6FBF-444D-ACCD-A39B7BC3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637-09BE-4765-8C8C-19656E96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DAB98-F5EF-47DA-847E-ACCD0FED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4962D-D0B8-4109-BEB7-579D6816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3B9A1-8871-48AA-81F4-8BA9327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CE514-830F-482C-9F1D-CB47A9A9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22DC-0C75-44E4-AB71-F239FF4D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7070-6CDA-4771-9F8F-0BB2BDA8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5D8E1-04CE-4264-BF37-1469683F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1199D-F9B4-4292-A033-CF77BDA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0A0A6-1B15-4591-8C97-214FAF45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58848-EC28-404C-AD0C-AA2FD176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FDE-C179-43C3-959D-1D25871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470B3-4BA6-422C-8FD3-DD8C5E0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89FD5-EA07-4C74-AD85-F8837EB2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D6C12-C9CC-48E9-897E-56C617DF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8D49-38C4-48E1-A5AF-EA0E783E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5DBF-023B-4562-AC1C-2CAF07E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5246F-AC48-4FDA-9D85-5CF0D96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2885-47E6-4378-85D0-E9AC276B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F3BDF-A49A-489A-B956-B9A1E24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7E47-B514-414F-B7D3-E87C842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ED58-B6FF-4883-AA8F-52F1803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40D-FCC3-490A-B30A-0DAA011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A78E9-3F02-48CD-AB00-7577B7DB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8CA95-7378-46AD-9CCA-57DCA909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54ED-FECB-4531-841B-074694A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2DE70-7B52-46BC-B17B-372E3258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7B9B-48F3-4DA0-BA75-C76FD4D3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2C8E4-D079-41E9-B229-45BE4C99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9DECE-AE4B-4CFF-816E-18D5A2E7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C1C2-5CDA-47CC-94CE-F664A74C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C3115-B830-480B-9760-46F2763A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51A16-0B8D-45D9-878F-BA9CF3FA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FBB-1704-4BC7-805F-4826A04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52CE1-0D11-4070-A4CD-ED01EAC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AAB0E-8591-4945-BB78-EDFE0E6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4C953-1B12-468B-802A-531A6EB0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EFED8-6883-4B14-9AA5-06143758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4D56-591B-4865-9E3E-63D1DEE1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2967-3004-4E9A-AF7F-49A3E283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4378-0DC4-4272-AC42-4EE96D7D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C02F6-66E9-45D6-872B-AC9E47BC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80B35-AE6E-47CD-BC40-37612C9A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27D52-1A97-41D0-AF2B-A80CF5C0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A7D594-5C44-404B-A12C-3EA7A00C1498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3683EA-371D-4DCA-B7D2-52DFF62E35E0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4CF96B-9321-453E-A3D2-F91A8C7950C1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6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7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8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C852475-B333-4D69-9DA7-71E46B2E470A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dt" idx="13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4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95BC29-4205-48E5-8BFD-6C01A4699848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11700F5-DE80-4731-9AB1-8603BADFF564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sp>
          <p:nvSpPr>
            <p:cNvPr id="275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6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77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278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sp>
          <p:nvSpPr>
            <p:cNvPr id="327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8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329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30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5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sp>
          <p:nvSpPr>
            <p:cNvPr id="379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0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381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82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4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5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5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6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2"/>
          <p:cNvSpPr/>
          <p:nvPr/>
        </p:nvSpPr>
        <p:spPr>
          <a:xfrm>
            <a:off x="1007280" y="620640"/>
            <a:ext cx="7264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a3afff"/>
                </a:solidFill>
                <a:latin typeface="Trebuchet MS"/>
              </a:rPr>
              <a:t>«Как воспитать инициативн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a3afff"/>
                </a:solidFill>
                <a:latin typeface="Trebuchet MS"/>
              </a:rPr>
              <a:t>самостоя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a3afff"/>
                </a:solidFill>
                <a:latin typeface="Trebuchet MS"/>
              </a:rPr>
              <a:t>и ответственного ребе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pasowanie_foto"/>
          <p:cNvPicPr/>
          <p:nvPr/>
        </p:nvPicPr>
        <p:blipFill>
          <a:blip r:embed="rId1"/>
          <a:stretch/>
        </p:blipFill>
        <p:spPr>
          <a:xfrm>
            <a:off x="1547640" y="2997360"/>
            <a:ext cx="5714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5640" y="731520"/>
            <a:ext cx="84967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 так как </a:t>
            </a:r>
            <a:r>
              <a:rPr b="0" lang="ru-RU" sz="2200" spc="-1" strike="noStrike">
                <a:solidFill>
                  <a:schemeClr val="accent6"/>
                </a:solidFill>
                <a:latin typeface="Trebuchet MS"/>
              </a:rPr>
              <a:t>ведущая деятельность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ошкольного возраста - </a:t>
            </a:r>
            <a:r>
              <a:rPr b="1" i="1" lang="ru-RU" sz="2200" spc="-1" strike="noStrike">
                <a:solidFill>
                  <a:schemeClr val="accent6"/>
                </a:solidFill>
                <a:latin typeface="Trebuchet MS"/>
              </a:rPr>
              <a:t>игра</a:t>
            </a:r>
            <a:r>
              <a:rPr b="1" lang="ru-RU" sz="2200" spc="-1" strike="noStrike">
                <a:solidFill>
                  <a:schemeClr val="accent6"/>
                </a:solidFill>
                <a:latin typeface="Trebuchet MS"/>
              </a:rPr>
              <a:t>,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то, чем выше уровень развития творческой инициативы, тем разнообразнее игровая деятельность, а следовательно и динамичнее развитие личнос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WordArt 14"/>
          <p:cNvSpPr txBox="1"/>
          <p:nvPr/>
        </p:nvSpPr>
        <p:spPr>
          <a:xfrm>
            <a:off x="457200" y="2514600"/>
            <a:ext cx="3428640" cy="837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игра</a:t>
            </a:r>
            <a:endParaRPr b="0" lang="en-US" sz="36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  <p:sp>
        <p:nvSpPr>
          <p:cNvPr id="470" name="WordArt 10"/>
          <p:cNvSpPr txBox="1"/>
          <p:nvPr/>
        </p:nvSpPr>
        <p:spPr>
          <a:xfrm>
            <a:off x="1447920" y="3657600"/>
            <a:ext cx="3428640" cy="1752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80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- это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  <p:sp>
        <p:nvSpPr>
          <p:cNvPr id="471" name="WordArt 12"/>
          <p:cNvSpPr txBox="1"/>
          <p:nvPr/>
        </p:nvSpPr>
        <p:spPr>
          <a:xfrm>
            <a:off x="228600" y="4724280"/>
            <a:ext cx="4723920" cy="1371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серьезно</a:t>
            </a:r>
            <a:endParaRPr b="0" lang="en-US" sz="36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  <p:pic>
        <p:nvPicPr>
          <p:cNvPr id="472" name="Picture 8" descr="C:\Users\Заведующая\Desktop\1232412323412.jpg"/>
          <p:cNvPicPr/>
          <p:nvPr/>
        </p:nvPicPr>
        <p:blipFill>
          <a:blip r:embed="rId1"/>
          <a:stretch/>
        </p:blipFill>
        <p:spPr>
          <a:xfrm>
            <a:off x="5436000" y="2514600"/>
            <a:ext cx="357732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640" y="426240"/>
            <a:ext cx="8712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нципы организации сюжетной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1640" y="1772640"/>
            <a:ext cx="8496720" cy="46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42d0a2"/>
              </a:buClr>
              <a:buSzPct val="95000"/>
              <a:buFont typeface="Arial"/>
              <a:buAutoNum type="arabicPeriod"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Воспитатель должен играть вместе с детьми (позиция «играющий партнер»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42d0a2"/>
              </a:buClr>
              <a:buSzPct val="95000"/>
              <a:buFont typeface="Arial"/>
              <a:buAutoNum type="arabicPeriod"/>
            </a:pPr>
            <a:r>
              <a:rPr b="0" lang="ru-RU" sz="3200" spc="-1" strike="noStrike">
                <a:solidFill>
                  <a:srgbClr val="00b0f0"/>
                </a:solidFill>
                <a:latin typeface="Arial"/>
                <a:ea typeface="Arial"/>
              </a:rPr>
              <a:t>Воспитатель должен играть с детьми на протяжении всего дошкольного детств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42d0a2"/>
              </a:buClr>
              <a:buSzPct val="95000"/>
              <a:buFont typeface="Arial"/>
              <a:buAutoNum type="arabicPeriod"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 каждом этапе дошкольного детства формировать игровые умения, ориентируя ребенка на осуществление игрового действия и пояснение его смысла партнеру по игр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http://fs00.infourok.ru/images/doc/242/217203/2/img0.jpg"/>
          <p:cNvPicPr/>
          <p:nvPr/>
        </p:nvPicPr>
        <p:blipFill>
          <a:blip r:embed="rId1"/>
          <a:stretch/>
        </p:blipFill>
        <p:spPr>
          <a:xfrm>
            <a:off x="0" y="-65520"/>
            <a:ext cx="9231120" cy="6923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76" name="WordArt 4"/>
          <p:cNvSpPr txBox="1"/>
          <p:nvPr/>
        </p:nvSpPr>
        <p:spPr>
          <a:xfrm>
            <a:off x="1043640" y="3501000"/>
            <a:ext cx="6248160" cy="685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Georgia"/>
              </a:rPr>
              <a:t>Позволь мне сделать</a:t>
            </a: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Georgia"/>
              </a:rPr>
              <a:t>,</a:t>
            </a:r>
            <a:endParaRPr b="0" lang="en-US" sz="3600" spc="-1" strike="noStrike">
              <a:ln w="0">
                <a:noFill/>
              </a:ln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WordArt 5"/>
          <p:cNvSpPr txBox="1"/>
          <p:nvPr/>
        </p:nvSpPr>
        <p:spPr>
          <a:xfrm>
            <a:off x="637920" y="5158440"/>
            <a:ext cx="7543440" cy="761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Georgia"/>
                <a:ea typeface="Arial"/>
              </a:rPr>
              <a:t>и это станет моим навсегда</a:t>
            </a:r>
            <a:endParaRPr b="0" lang="en-US" sz="3600" spc="-1" strike="noStrike">
              <a:ln w="0">
                <a:noFill/>
              </a:ln>
              <a:solidFill>
                <a:srgbClr val="0070c0"/>
              </a:solidFill>
              <a:latin typeface="Arial"/>
            </a:endParaRPr>
          </a:p>
        </p:txBody>
      </p:sp>
      <p:pic>
        <p:nvPicPr>
          <p:cNvPr id="478" name="Рисунок 3" descr=""/>
          <p:cNvPicPr/>
          <p:nvPr/>
        </p:nvPicPr>
        <p:blipFill>
          <a:blip r:embed="rId2"/>
          <a:stretch/>
        </p:blipFill>
        <p:spPr>
          <a:xfrm>
            <a:off x="1378800" y="2402280"/>
            <a:ext cx="5577840" cy="408240"/>
          </a:xfrm>
          <a:prstGeom prst="rect">
            <a:avLst/>
          </a:prstGeom>
          <a:ln w="0">
            <a:noFill/>
          </a:ln>
        </p:spPr>
      </p:pic>
      <p:sp>
        <p:nvSpPr>
          <p:cNvPr id="479" name="Прямоугольник 7"/>
          <p:cNvSpPr/>
          <p:nvPr/>
        </p:nvSpPr>
        <p:spPr>
          <a:xfrm>
            <a:off x="1287360" y="1134000"/>
            <a:ext cx="54554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Arial"/>
              </a:rPr>
              <a:t>Скажи мне, и я заб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2" descr=""/>
          <p:cNvPicPr/>
          <p:nvPr/>
        </p:nvPicPr>
        <p:blipFill>
          <a:blip r:embed="rId1"/>
          <a:stretch/>
        </p:blipFill>
        <p:spPr>
          <a:xfrm>
            <a:off x="107640" y="260640"/>
            <a:ext cx="2400120" cy="208800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8" descr=""/>
          <p:cNvPicPr/>
          <p:nvPr/>
        </p:nvPicPr>
        <p:blipFill>
          <a:blip r:embed="rId2"/>
          <a:stretch/>
        </p:blipFill>
        <p:spPr>
          <a:xfrm>
            <a:off x="2843640" y="292680"/>
            <a:ext cx="2704680" cy="205560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9" descr=""/>
          <p:cNvPicPr/>
          <p:nvPr/>
        </p:nvPicPr>
        <p:blipFill>
          <a:blip r:embed="rId3"/>
          <a:stretch/>
        </p:blipFill>
        <p:spPr>
          <a:xfrm>
            <a:off x="5884920" y="485640"/>
            <a:ext cx="2790360" cy="163800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10" descr=""/>
          <p:cNvPicPr/>
          <p:nvPr/>
        </p:nvPicPr>
        <p:blipFill>
          <a:blip r:embed="rId4"/>
          <a:stretch/>
        </p:blipFill>
        <p:spPr>
          <a:xfrm>
            <a:off x="109800" y="256500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11" descr=""/>
          <p:cNvPicPr/>
          <p:nvPr/>
        </p:nvPicPr>
        <p:blipFill>
          <a:blip r:embed="rId5"/>
          <a:stretch/>
        </p:blipFill>
        <p:spPr>
          <a:xfrm>
            <a:off x="3060000" y="2565000"/>
            <a:ext cx="1914120" cy="239040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12" descr=""/>
          <p:cNvPicPr/>
          <p:nvPr/>
        </p:nvPicPr>
        <p:blipFill>
          <a:blip r:embed="rId6"/>
          <a:stretch/>
        </p:blipFill>
        <p:spPr>
          <a:xfrm>
            <a:off x="5874120" y="2369520"/>
            <a:ext cx="2523600" cy="180936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13" descr=""/>
          <p:cNvPicPr/>
          <p:nvPr/>
        </p:nvPicPr>
        <p:blipFill>
          <a:blip r:embed="rId7"/>
          <a:stretch/>
        </p:blipFill>
        <p:spPr>
          <a:xfrm>
            <a:off x="303120" y="4955760"/>
            <a:ext cx="2571480" cy="17809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4" descr=""/>
          <p:cNvPicPr/>
          <p:nvPr/>
        </p:nvPicPr>
        <p:blipFill>
          <a:blip r:embed="rId8"/>
          <a:stretch/>
        </p:blipFill>
        <p:spPr>
          <a:xfrm>
            <a:off x="3139560" y="5171760"/>
            <a:ext cx="2704680" cy="168552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5" descr=""/>
          <p:cNvPicPr/>
          <p:nvPr/>
        </p:nvPicPr>
        <p:blipFill>
          <a:blip r:embed="rId9"/>
          <a:stretch/>
        </p:blipFill>
        <p:spPr>
          <a:xfrm>
            <a:off x="6284880" y="4822200"/>
            <a:ext cx="2390400" cy="19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0" y="332640"/>
            <a:ext cx="3203640" cy="256536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2" descr=""/>
          <p:cNvPicPr/>
          <p:nvPr/>
        </p:nvPicPr>
        <p:blipFill>
          <a:blip r:embed="rId2"/>
          <a:stretch/>
        </p:blipFill>
        <p:spPr>
          <a:xfrm>
            <a:off x="4212000" y="691560"/>
            <a:ext cx="2952000" cy="22064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3" descr=""/>
          <p:cNvPicPr/>
          <p:nvPr/>
        </p:nvPicPr>
        <p:blipFill>
          <a:blip r:embed="rId3"/>
          <a:stretch/>
        </p:blipFill>
        <p:spPr>
          <a:xfrm>
            <a:off x="3060000" y="3573000"/>
            <a:ext cx="2448000" cy="26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7640" y="2444760"/>
            <a:ext cx="830556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Arial"/>
                <a:ea typeface="Arial"/>
              </a:rPr>
              <a:t>Благодарим за внима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2"/>
          <p:cNvSpPr/>
          <p:nvPr/>
        </p:nvSpPr>
        <p:spPr>
          <a:xfrm>
            <a:off x="323640" y="332640"/>
            <a:ext cx="8676000" cy="1796040"/>
          </a:xfrm>
          <a:prstGeom prst="rect">
            <a:avLst/>
          </a:prstGeom>
          <a:solidFill>
            <a:srgbClr val="ffffff"/>
          </a:solidFill>
          <a:ln>
            <a:solidFill>
              <a:srgbClr val="1998c5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c3260c"/>
                </a:solidFill>
                <a:latin typeface="Times New Roman"/>
                <a:ea typeface="Arial"/>
              </a:rPr>
              <a:t>ФГОС ДО в основу ставит конструирование социальной ситуации, которая способствует поддержке индивидуальности и детской инициативы каждо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трелка вниз 3"/>
          <p:cNvSpPr/>
          <p:nvPr/>
        </p:nvSpPr>
        <p:spPr>
          <a:xfrm>
            <a:off x="3852000" y="2148480"/>
            <a:ext cx="503640" cy="848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400" spc="-1" strike="noStrike">
              <a:solidFill>
                <a:schemeClr val="lt1"/>
              </a:solidFill>
              <a:latin typeface="Trebuchet MS"/>
              <a:ea typeface="Arial"/>
            </a:endParaRPr>
          </a:p>
        </p:txBody>
      </p:sp>
      <p:sp>
        <p:nvSpPr>
          <p:cNvPr id="434" name="Прямоугольник 4"/>
          <p:cNvSpPr/>
          <p:nvPr/>
        </p:nvSpPr>
        <p:spPr>
          <a:xfrm>
            <a:off x="323640" y="3492360"/>
            <a:ext cx="8064360" cy="26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завершения этапа дошкольного образования целевыми ориентирами, определенными ФГОС, предусматриваются следующие возрастные характеристики возможности детей: проявляют инициативу и самостоятельность в различных видах деятельности, способен выбирать себе род занятий, участников по совместной деятельности, ребенок способен к волевым усилиям, пытается самостоятельно придумывать объяснения явлениям природы и поступкам людей, ребенок способен к принятию собственны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2"/>
          <p:cNvSpPr/>
          <p:nvPr/>
        </p:nvSpPr>
        <p:spPr>
          <a:xfrm>
            <a:off x="212760" y="764640"/>
            <a:ext cx="8607240" cy="944280"/>
          </a:xfrm>
          <a:prstGeom prst="rect">
            <a:avLst/>
          </a:prstGeom>
          <a:solidFill>
            <a:srgbClr val="ffffff"/>
          </a:solidFill>
          <a:ln>
            <a:solidFill>
              <a:srgbClr val="1998c5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 cap="all">
                <a:solidFill>
                  <a:srgbClr val="495dc6"/>
                </a:solidFill>
                <a:latin typeface="Times New Roman"/>
                <a:ea typeface="Arial"/>
              </a:rPr>
              <a:t>Инициативный, самостоятельный ребенок– что это зна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http://www.robparkerassociates.co.uk/wp-content/uploads/2015/07/Question-Mark.jpg"/>
          <p:cNvPicPr/>
          <p:nvPr/>
        </p:nvPicPr>
        <p:blipFill>
          <a:blip r:embed="rId1"/>
          <a:stretch/>
        </p:blipFill>
        <p:spPr>
          <a:xfrm>
            <a:off x="4212000" y="2637000"/>
            <a:ext cx="4608000" cy="34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37" name="Picture 2"/>
          <p:cNvSpPr/>
          <p:nvPr/>
        </p:nvSpPr>
        <p:spPr>
          <a:xfrm>
            <a:off x="611640" y="2637000"/>
            <a:ext cx="4407840" cy="29340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"/>
          <p:cNvSpPr/>
          <p:nvPr/>
        </p:nvSpPr>
        <p:spPr>
          <a:xfrm>
            <a:off x="755640" y="5524560"/>
            <a:ext cx="770436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69440">
              <a:lnSpc>
                <a:spcPct val="115000"/>
              </a:lnSpc>
              <a:spcBef>
                <a:spcPts val="1500"/>
              </a:spcBef>
              <a:spcAft>
                <a:spcPts val="374"/>
              </a:spcAft>
            </a:pPr>
            <a:r>
              <a:rPr b="1" i="1" lang="ru-RU" sz="1800" spc="-1" strike="noStrike">
                <a:solidFill>
                  <a:schemeClr val="accent6"/>
                </a:solidFill>
                <a:latin typeface="Times New Roman"/>
                <a:ea typeface="Times New Roman"/>
              </a:rPr>
              <a:t>«Что такое инициатива? Это то, что человек делает так, как надо, хотя его об этом не просят». »</a:t>
            </a:r>
            <a:r>
              <a:rPr b="1" lang="ru-RU" sz="1800" spc="-1" strike="noStrike">
                <a:solidFill>
                  <a:schemeClr val="accent6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1800" spc="-1" strike="noStrike">
                <a:solidFill>
                  <a:schemeClr val="accent6"/>
                </a:solidFill>
                <a:latin typeface="Times New Roman"/>
                <a:ea typeface="Times New Roman"/>
              </a:rPr>
              <a:t>Элберт Грин Хабб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568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chemeClr val="accent6"/>
                </a:solidFill>
                <a:latin typeface="Times New Roman"/>
              </a:rPr>
              <a:t>Самостоя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– обобщенное свойство личности, проявляющееся в  инициативности, критичности, адекватной самооценке и чувстве личной ответственности за свою деятельность и поведение.</a:t>
            </a:r>
            <a:br>
              <a:rPr sz="2000"/>
            </a:br>
            <a:r>
              <a:rPr b="1" i="1" lang="ru-RU" sz="2000" spc="-1" strike="noStrike">
                <a:solidFill>
                  <a:schemeClr val="accent6"/>
                </a:solidFill>
                <a:latin typeface="Times New Roman"/>
              </a:rPr>
              <a:t>Инициативность</a:t>
            </a:r>
            <a:r>
              <a:rPr b="1" lang="ru-RU" sz="2000" spc="-1" strike="noStrike">
                <a:solidFill>
                  <a:schemeClr val="accent6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частный случай самостоятельности, стремление к инициативе, изменение форм деятельности или уклада жизни. Это мотивационное качество, рассматривается и как волевая характеристика поведения человек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определению в «Советском энциклопедическом словаре», инициатива — (от латинского initium — начало) почин, первый шаг в каком-либо деле; внутреннее побуждение к новым формам деятельности, предприимчивости; руководящая роль в каких-либо действия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«Справочнике по психологии и психиатрии детей и подростков» инициативность определяется, как «характеристика деятельности, поведения и личности человека, означающая способность действовать по внутреннему побуждению, в отличие от реактивности — поведении, осуществляемом на внешние стим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icture 2"/>
          <p:cNvSpPr/>
          <p:nvPr/>
        </p:nvSpPr>
        <p:spPr>
          <a:xfrm>
            <a:off x="2366640" y="2790360"/>
            <a:ext cx="3288600" cy="27403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"/>
          <p:cNvSpPr/>
          <p:nvPr/>
        </p:nvSpPr>
        <p:spPr>
          <a:xfrm>
            <a:off x="190440" y="332640"/>
            <a:ext cx="8925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495dc6"/>
                </a:solidFill>
                <a:latin typeface="Times New Roman"/>
              </a:rPr>
              <a:t>Черты инициативной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2"/>
          <p:cNvSpPr/>
          <p:nvPr/>
        </p:nvSpPr>
        <p:spPr>
          <a:xfrm rot="2118000">
            <a:off x="1431360" y="1847880"/>
            <a:ext cx="2448000" cy="1872000"/>
          </a:xfrm>
          <a:prstGeom prst="ellipse">
            <a:avLst/>
          </a:prstGeom>
          <a:solidFill>
            <a:srgbClr val="f14124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  <a:ea typeface="Arial"/>
              </a:rPr>
              <a:t>Стремление к само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4"/>
          <p:cNvSpPr/>
          <p:nvPr/>
        </p:nvSpPr>
        <p:spPr>
          <a:xfrm>
            <a:off x="1115640" y="3417840"/>
            <a:ext cx="2372040" cy="1761480"/>
          </a:xfrm>
          <a:prstGeom prst="ellipse">
            <a:avLst/>
          </a:prstGeom>
          <a:solidFill>
            <a:srgbClr val="ffc000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  <a:ea typeface="Arial"/>
              </a:rPr>
              <a:t>Познавате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5"/>
          <p:cNvSpPr/>
          <p:nvPr/>
        </p:nvSpPr>
        <p:spPr>
          <a:xfrm>
            <a:off x="3375000" y="764640"/>
            <a:ext cx="1868040" cy="2180160"/>
          </a:xfrm>
          <a:prstGeom prst="ellipse">
            <a:avLst/>
          </a:prstGeom>
          <a:solidFill>
            <a:srgbClr val="ff8021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  <a:ea typeface="Arial"/>
              </a:rPr>
              <a:t>Произвольность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6"/>
          <p:cNvSpPr/>
          <p:nvPr/>
        </p:nvSpPr>
        <p:spPr>
          <a:xfrm rot="18208800">
            <a:off x="2347200" y="4714200"/>
            <a:ext cx="2281320" cy="1884240"/>
          </a:xfrm>
          <a:prstGeom prst="ellipse">
            <a:avLst/>
          </a:prstGeom>
          <a:gradFill rotWithShape="0">
            <a:gsLst>
              <a:gs pos="0">
                <a:srgbClr val="a0e844"/>
              </a:gs>
              <a:gs pos="100000">
                <a:srgbClr val="75bf17"/>
              </a:gs>
            </a:gsLst>
            <a:lin ang="2004000"/>
          </a:gradFill>
          <a:ln w="0">
            <a:noFill/>
          </a:ln>
          <a:effectLst>
            <a:reflection blurRad="38100" dir="5400000" dist="25400" endPos="23000" rotWithShape="0" stA="26000" sy="-100000"/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  <a:ea typeface="Arial"/>
              </a:rPr>
              <a:t>Творческий подход к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7"/>
          <p:cNvSpPr/>
          <p:nvPr/>
        </p:nvSpPr>
        <p:spPr>
          <a:xfrm rot="19928400">
            <a:off x="4908960" y="1775880"/>
            <a:ext cx="2448000" cy="1879920"/>
          </a:xfrm>
          <a:prstGeom prst="ellipse">
            <a:avLst/>
          </a:prstGeom>
          <a:solidFill>
            <a:srgbClr val="5dceaf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  <a:ea typeface="Arial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8"/>
          <p:cNvSpPr/>
          <p:nvPr/>
        </p:nvSpPr>
        <p:spPr>
          <a:xfrm>
            <a:off x="5350680" y="3417840"/>
            <a:ext cx="2160000" cy="1761480"/>
          </a:xfrm>
          <a:prstGeom prst="ellipse">
            <a:avLst/>
          </a:prstGeom>
          <a:gradFill rotWithShape="0">
            <a:gsLst>
              <a:gs pos="28000">
                <a:srgbClr val="fbb1b1"/>
              </a:gs>
              <a:gs pos="100000">
                <a:srgbClr val="ef7873"/>
              </a:gs>
            </a:gsLst>
            <a:lin ang="5400000"/>
          </a:gradFill>
          <a:ln>
            <a:solidFill>
              <a:srgbClr val="f14124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  <a:ea typeface="Arial"/>
              </a:rPr>
              <a:t>Развитая эмоционально-волев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9"/>
          <p:cNvSpPr/>
          <p:nvPr/>
        </p:nvSpPr>
        <p:spPr>
          <a:xfrm rot="2361600">
            <a:off x="4199400" y="4796640"/>
            <a:ext cx="2460600" cy="1884240"/>
          </a:xfrm>
          <a:prstGeom prst="ellips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  <a:ea typeface="Arial"/>
              </a:rPr>
              <a:t>общ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Итак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chemeClr val="accent6"/>
                </a:solidFill>
                <a:uFillTx/>
                <a:latin typeface="Times New Roman"/>
              </a:rPr>
              <a:t>Где проявляется инициатива</a:t>
            </a:r>
            <a:r>
              <a:rPr b="0" lang="ru-RU" sz="2800" spc="-1" strike="noStrike">
                <a:solidFill>
                  <a:schemeClr val="accent6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исследовательская деятельность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сюжетно- ролевая игра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коммуникативная игра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игра – импровизация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Необходимым условием развитием инициативного поведения является воспитание его в условиях развивающего, не авторитарного общ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24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дагогическое общение, основанное на принципах любви, понимания, терпимости и упорядоченности деятельности, станет условием полноценного развития позитивной свободы и инициативности ребен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348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ак развивать инициативность и самостоятельность в дошкольни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15280" indent="0" algn="ctr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31489f"/>
                </a:solidFill>
                <a:latin typeface="Times New Roman"/>
              </a:rPr>
              <a:t>Создавать условия для свободного выбора детьми различных видов деятельности, форм совместности, а также для принятия ими решений, выражения своих чувств и мыслей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404040"/>
                </a:solidFill>
                <a:latin typeface="Trebuchet MS"/>
              </a:rPr>
              <a:t>Инициативная личность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404040"/>
                </a:solidFill>
                <a:latin typeface="Trebuchet MS"/>
              </a:rPr>
              <a:t>развивается в деятельности!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1"/>
          <p:cNvSpPr/>
          <p:nvPr/>
        </p:nvSpPr>
        <p:spPr>
          <a:xfrm>
            <a:off x="1157040" y="2493000"/>
            <a:ext cx="7124400" cy="2102040"/>
          </a:xfrm>
          <a:prstGeom prst="rect">
            <a:avLst/>
          </a:prstGeom>
          <a:solidFill>
            <a:srgbClr val="a7ea52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Развитие дет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 </a:t>
            </a: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инициативы в раз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видах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"/>
          <p:cNvSpPr/>
          <p:nvPr/>
        </p:nvSpPr>
        <p:spPr>
          <a:xfrm>
            <a:off x="467640" y="704880"/>
            <a:ext cx="3168000" cy="1583640"/>
          </a:xfrm>
          <a:prstGeom prst="rect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57" name="Прямоугольник 3"/>
          <p:cNvSpPr/>
          <p:nvPr/>
        </p:nvSpPr>
        <p:spPr>
          <a:xfrm>
            <a:off x="5544000" y="704880"/>
            <a:ext cx="3168000" cy="1583640"/>
          </a:xfrm>
          <a:prstGeom prst="rect">
            <a:avLst/>
          </a:prstGeom>
          <a:solidFill>
            <a:srgbClr val="5eccf3"/>
          </a:solidFill>
          <a:ln>
            <a:solidFill>
              <a:srgbClr val="24677f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Trebuchet MS"/>
              <a:ea typeface="Arial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683640" y="4797000"/>
            <a:ext cx="3168000" cy="1800000"/>
          </a:xfrm>
          <a:prstGeom prst="rect">
            <a:avLst/>
          </a:prstGeom>
          <a:solidFill>
            <a:srgbClr val="ff8021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59" name="Прямоугольник 5"/>
          <p:cNvSpPr/>
          <p:nvPr/>
        </p:nvSpPr>
        <p:spPr>
          <a:xfrm>
            <a:off x="5436000" y="4797000"/>
            <a:ext cx="3384000" cy="1800000"/>
          </a:xfrm>
          <a:prstGeom prst="rect">
            <a:avLst/>
          </a:prstGeom>
          <a:gradFill rotWithShape="0">
            <a:gsLst>
              <a:gs pos="28000">
                <a:srgbClr val="fbb1b1"/>
              </a:gs>
              <a:gs pos="100000">
                <a:srgbClr val="ef7873"/>
              </a:gs>
            </a:gsLst>
            <a:lin ang="5400000"/>
          </a:gradFill>
          <a:ln>
            <a:solidFill>
              <a:srgbClr val="f14124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  <a:ea typeface="Arial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550440" y="704880"/>
            <a:ext cx="3002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ЕК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5792760" y="1192320"/>
            <a:ext cx="2670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6"/>
                </a:solidFill>
                <a:latin typeface="Times New Roman"/>
              </a:rPr>
              <a:t>ТРУД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1115640" y="5301360"/>
            <a:ext cx="252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Г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5436000" y="5301360"/>
            <a:ext cx="338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Прямая со стрелкой 11"/>
          <p:cNvCxnSpPr>
            <a:stCxn id="455" idx="1"/>
          </p:cNvCxnSpPr>
          <p:nvPr/>
        </p:nvCxnSpPr>
        <p:spPr>
          <a:xfrm flipH="1" flipV="1">
            <a:off x="683280" y="2492640"/>
            <a:ext cx="792720" cy="106236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  <p:cxnSp>
        <p:nvCxnSpPr>
          <p:cNvPr id="465" name="Прямая со стрелкой 13"/>
          <p:cNvCxnSpPr/>
          <p:nvPr/>
        </p:nvCxnSpPr>
        <p:spPr>
          <a:xfrm flipV="1">
            <a:off x="7963200" y="2276640"/>
            <a:ext cx="353520" cy="108036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  <p:cxnSp>
        <p:nvCxnSpPr>
          <p:cNvPr id="466" name="Прямая со стрелкой 15"/>
          <p:cNvCxnSpPr/>
          <p:nvPr/>
        </p:nvCxnSpPr>
        <p:spPr>
          <a:xfrm flipH="1">
            <a:off x="827280" y="3789000"/>
            <a:ext cx="648720" cy="82764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  <p:cxnSp>
        <p:nvCxnSpPr>
          <p:cNvPr id="467" name="Прямая со стрелкой 17"/>
          <p:cNvCxnSpPr>
            <a:stCxn id="455" idx="3"/>
          </p:cNvCxnSpPr>
          <p:nvPr/>
        </p:nvCxnSpPr>
        <p:spPr>
          <a:xfrm>
            <a:off x="7963200" y="3554640"/>
            <a:ext cx="353520" cy="106200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6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4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797</TotalTime>
  <Application>LibreOffice/7.4.7.2$Linux_X86_64 LibreOffice_project/40$Build-2</Application>
  <AppVersion>15.0000</AppVersion>
  <Words>311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DOU-75</cp:lastModifiedBy>
  <dcterms:modified xsi:type="dcterms:W3CDTF">2020-12-01T05:20:27Z</dcterms:modified>
  <cp:revision>44</cp:revision>
  <dc:subject/>
  <dc:title>Организация  сюжетно-ролевой игры  в детском са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