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0D9-3486-4ED1-BD76-920C27BB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880-E6B5-41D7-8CD5-40D2011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BC3-F1BE-4D77-BC89-BF6BAD50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B09-BE61-4836-8681-DA461CB7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2D1-84AA-4D48-ABA8-8F72F70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DDC-7634-48FA-AFD7-2D8D477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87F2-70FE-4BC2-820E-9C7B03D8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C4FB-499C-4B64-B66A-45C54E1B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8CF-6D20-4F40-8D63-BC3419C7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D1D-D48F-4938-9054-0FF648D9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08DD-2A67-49FE-9831-EC57424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05D-0BBF-42E0-A557-FDD50A7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5B68-5655-4E34-A84D-B07AD23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338-4718-4724-92C1-87E2CF8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CBEA-E529-40A3-B2C4-4B0A4EF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3F92-59F5-479E-805A-9E81AE8A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2C9C-D65D-4728-9E14-0A2D797B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077-AA76-4C41-A54D-FEDF0B5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7FA-19D0-4BB1-A9AB-4525406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68D-8FC7-4562-8BFE-D579CD3A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5EE-FBBD-4CAD-AA6E-BD42683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FBF-D473-49D7-BB05-72B5F0C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408-9F14-457F-BFDF-836FA04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678-FC91-483F-BBFD-A08B537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E01-2178-4979-88FF-19CD23666A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060-7E72-489A-A24F-69AF7DB83D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учно-исследовательская деятельность как одно из направлений повышения качества образовательного процесс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научного общества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№51 ОАО «РЖ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кова Ю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7-2018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2 место в районной конференции «История одной вещ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это еще н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59092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320760" y="41529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4"/>
          <a:stretch/>
        </p:blipFill>
        <p:spPr>
          <a:xfrm>
            <a:off x="2743200" y="378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5"/>
          <a:stretch/>
        </p:blipFill>
        <p:spPr>
          <a:xfrm>
            <a:off x="5486400" y="41529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user-71\Pictures\kvu3hidhbsi.jpg"/>
          <p:cNvPicPr/>
          <p:nvPr/>
        </p:nvPicPr>
        <p:blipFill>
          <a:blip r:embed="rId6"/>
          <a:stretch/>
        </p:blipFill>
        <p:spPr>
          <a:xfrm>
            <a:off x="2571840" y="251460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7"/>
          <a:stretch/>
        </p:blipFill>
        <p:spPr>
          <a:xfrm>
            <a:off x="128520" y="1523880"/>
            <a:ext cx="27385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юсы и минусы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4114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вные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овые (исследовательские)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оценочной самосто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я и навыки работы в сотрудниче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еджерские умения и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онные умения и навыки, ораторское масте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3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сть нагрузки учащихся и преподавателей на разных этапах работы (ВРЕМ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к неудачного окончания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эмоциональной нагруз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озможность включить значительное число учащихся в исследовательскую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rcRect l="0" t="0" r="0" b="5434"/>
          <a:stretch/>
        </p:blipFill>
        <p:spPr>
          <a:xfrm>
            <a:off x="2428920" y="1819440"/>
            <a:ext cx="428616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существует сколько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товерных тестов на одарен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ме тех, которые про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результате активного уч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тя бы в самой малень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исковой исследовательск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.Н. Колмогор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й школе научное общество учащихся существует с 2016 года, и основу его составляют учащиеся, тематика исследований которых связана с различными школьными дисциплинами. В настоящее время научная деятельность учащихся раскрывает все большие возможности и творческие способности к новым успех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Топонимика родных мест», «Школьный музей: вчера и сегодня», «Экологическое состояние реки Белый Урюм», «История библиотеки села Ульякан», «Ульяканский источник: прошлое и настоящее», «Профессия космонавт», «Луноход-Т», «Они строили мое будущее», «Из семейного архива», «Вера Панченко – поэт и земляк», «Начальная школа №49» ежегодные научно-исследовательские работы на декабристскую тематику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– вот некоторые работы наших учащихс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Первые шаги в нау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в осмыслении первых успешных шагов в работе является участие юных исследователей в школьной конференции «Родник» (Первые шаги в нау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формы представления материа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фера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ворческая работа, написанная на основе нескольких источников, предполагающая  выполнение задачи сбора и представления максимально полной информации по избранной т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ебное ис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его главной целью является развитие личности, а не получение объективно нового результата, приобретение учащимися функционального навыка исследования как универсального способа освоения действительности, активизация личностной позиции уча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ворческая работа связанна с планированием, достижением и описанием определенного результата - построением установки, нахождением какого-либо объект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представления материа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ник сти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и выпуск брошюры, тематического буклета, путеводи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нстрация опытов и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одели защиты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ческая модель защ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вается на устном выступлении с непременным отражением главных исследовательских аспектов разработки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ьность и новизна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использованных источников и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основных научных подходов к решению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 выбора методов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выводы по содержанию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р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защ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стенда с документами и иллюстративными материалами по заявленной теме, их коммента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я видеозаписей, слайдов, прослушивание аудиозаписей, подготовленных в процесс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инальное представление фрагмента основной части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 п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2/2013 уч.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работы на декабристских чтениях – 1место (с путевкой в «Орленок») и 2 место – ценный приз (Чи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3-2014 год – 2 работы на конференции «Юные исследователи Забайкалья» -  1место – лучшая работа (с путевкой в «Орленок») и 2 место – ценный приз (Чи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5/2016 уч.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-призер (2 место) всероссийской конференции исследовательских и творческих работ учащихся             (г.Санкт-Петербур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6-2017 уч. г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 два 1 места и 2 место на районной конференции «История одной вещ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боты заня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в конференции «Юные исследователи» (Чернышевск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боты отмечены ценными призами в конференции «Юные исследователи Забайкалья» (Чи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2 место и ценные призы в краевой научно-практической конференции «ЗабИЖТ-Юниор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6:04:02Z</dcterms:created>
  <dc:creator>ВАСИЛИЙ</dc:creator>
  <dc:description/>
  <dc:language>en-US</dc:language>
  <cp:lastModifiedBy>Admin</cp:lastModifiedBy>
  <dcterms:modified xsi:type="dcterms:W3CDTF">2020-12-01T05:43:1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