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E38-4BB2-453B-B151-ED8709D8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DA1-67FE-4CF8-AB49-28739969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71B-884F-4085-8B81-74474BEA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D92-071B-4E2C-B073-CF86942E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B769-4058-4111-A2F3-72880708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F59E-1799-4F13-BE58-DA8D77D6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6315-CCEF-47A8-92C5-F4E59CFF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28FE-CBDD-40B0-9757-6B5CCEA1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56B7-8209-4E14-806A-3ED520EE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5762-12DA-455C-95C3-FF9C386B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02EE-E090-4724-A38B-8E71F67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86C-6401-474A-98D3-6917B055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89ED-E0FC-4E51-BAF7-AEA8A536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DC18-5C8F-4407-ADB6-761D7958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717B-0B8A-4ACC-BF4C-B4E6B670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F533-996C-4C7B-A4F0-DF996376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1D9E-EA36-44E8-876E-1DCB1631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65B-1036-4449-B62E-72344925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3DB-5EC0-4540-B7E8-8679B390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12F-1E10-468D-8F43-51B5FFFC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6D76-C6B2-4517-BAEA-80616954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427-8D2D-4AE1-82F2-AD8ADB9E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C90-CFB2-4F6D-81FD-56EB4720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57C-D0EA-48E2-B5C5-0B4C9CE8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85DE-C709-4F2A-87BB-08A6159F57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1ABF-3418-401D-8C73-472DC2B898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аучно-исследовательская деятельность как одно из направлений повышения качества образовательного процесс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научного общества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ы №51 ОАО «РЖ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кова Ю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7-2018 уч.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и 2 место в районной конференции «История одной вещ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это еще н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590920" y="4800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5638680" y="1143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320760" y="415296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4"/>
          <a:stretch/>
        </p:blipFill>
        <p:spPr>
          <a:xfrm>
            <a:off x="2743200" y="378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5"/>
          <a:stretch/>
        </p:blipFill>
        <p:spPr>
          <a:xfrm>
            <a:off x="5486400" y="415296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user-71\Pictures\kvu3hidhbsi.jpg"/>
          <p:cNvPicPr/>
          <p:nvPr/>
        </p:nvPicPr>
        <p:blipFill>
          <a:blip r:embed="rId6"/>
          <a:stretch/>
        </p:blipFill>
        <p:spPr>
          <a:xfrm>
            <a:off x="2571840" y="2514600"/>
            <a:ext cx="308592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7"/>
          <a:stretch/>
        </p:blipFill>
        <p:spPr>
          <a:xfrm>
            <a:off x="128520" y="1523880"/>
            <a:ext cx="273852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люсы и минусы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29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41148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флексивные ум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овые (исследовательские) ум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ыки оценочной самосто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я и навыки работы в сотрудниче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еджерские умения и навы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 ум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онные умения и навыки, ораторское масте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3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сть нагрузки учащихся и преподавателей на разных этапах работы (ВРЕМ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к неудачного окончания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эмоциональной нагруз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озможность включить значительное число учащихся в исследовательскую раб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9480" y="1599840"/>
            <a:ext cx="7925040" cy="441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rcRect l="0" t="0" r="0" b="5434"/>
          <a:stretch/>
        </p:blipFill>
        <p:spPr>
          <a:xfrm>
            <a:off x="2428920" y="1819440"/>
            <a:ext cx="4286160" cy="3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2193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существует сколько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стоверных тестов на одаренн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оме тех, которые проявля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результате активного учас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отя бы в самой малень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исковой исследовательской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.Н. Колмогор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й школе научное общество учащихся существует с 2016 года, и основу его составляют учащиеся, тематика исследований которых связана с различными школьными дисциплинами. В настоящее время научная деятельность учащихся раскрывает все большие возможности и творческие способности к новым успех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«Топонимика родных мест», «Школьный музей: вчера и сегодня», «Экологическое состояние реки Белый Урюм», «История библиотеки села Ульякан», «Ульяканский источник: прошлое и настоящее», «Профессия космонавт», «Луноход-Т», «Они строили мое будущее», «Из семейного архива», «Вера Панченко – поэт и земляк», «Начальная школа №49» ежегодные научно-исследовательские работы на декабристскую тематику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– вот некоторые работы наших учащихс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Первые шаги в нау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ым этапом в осмыслении первых успешных шагов в работе является участие юных исследователей в школьной конференции «Родник» (Первые шаги в наук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сновные формы представления материал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фера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ворческая работа, написанная на основе нескольких источников, предполагающая  выполнение задачи сбора и представления максимально полной информации по избранной тем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чебное исслед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его главной целью является развитие личности, а не получение объективно нового результата, приобретение учащимися функционального навыка исследования как универсального способа освоения действительности, активизация личностной позиции учащихс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творческая работа связанна с планированием, достижением и описанием определенного результата - построением установки, нахождением какого-либо объект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Формы представления материал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ера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ник сти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и выпуск брошюры, тематического буклета, путеводи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нстрация опытов и мод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одели защиты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ческая модель защи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ывается на устном выступлении с непременным отражением главных исследовательских аспектов разработки 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уальность и новизна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а использованных источников и 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а основных научных подходов к решению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ие выбора методов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выводы по содержанию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р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ь защи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стенда с документами и иллюстративными материалами по заявленной теме, их комментар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нстрация видеозаписей, слайдов, прослушивание аудиозаписей, подготовленных в процессе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гинальное представление фрагмента основной части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ы по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Наши достиж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012/2013 уч.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работы на декабристских чтениях – 1место (с путевкой в «Орленок») и 2 место – ценный приз (Чи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3-2014 год – 2 работы на конференции «Юные исследователи Забайкалья» -  1место – лучшая работа (с путевкой в «Орленок») и 2 место – ценный приз (Чи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015/2016 уч.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-призер (2 место) всероссийской конференции исследовательских и творческих работ учащихся             (г.Санкт-Петербург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016-2017 уч. г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 два 1 места и 2 место на районной конференции «История одной вещи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Наши достиж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работы заня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в конференции «Юные исследователи» (Чернышевск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работы отмечены ценными призами в конференции «Юные исследователи Забайкалья» (Чит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и 2 место и ценные призы в краевой научно-практической конференции «ЗабИЖТ-Юниор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6:04:02Z</dcterms:created>
  <dc:creator>ВАСИЛИЙ</dc:creator>
  <dc:description/>
  <dc:language>en-US</dc:language>
  <cp:lastModifiedBy>Admin</cp:lastModifiedBy>
  <dcterms:modified xsi:type="dcterms:W3CDTF">2020-12-01T05:43:1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