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wmf" ContentType="image/x-wmf"/>
  <Override PartName="/ppt/media/image12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4.jpeg" ContentType="image/jpeg"/>
  <Override PartName="/ppt/media/image19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AF14-B172-4023-8937-BBD13CCE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6550-1DE7-4D78-BD78-BF1F44CE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CD1C-76CC-4E9C-AED6-85171B6C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F137-D392-487B-A97F-6F300225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AA8B-0619-4C66-B825-5DE94CF3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A2E9-A61B-4901-99EC-7743A56B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0EC1-845F-4CCF-BF61-F059851B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6B16-6723-4F35-944F-8C19FDC2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8E4F-9F00-4588-8AC5-F4C86A9A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A1DE-9E02-4D03-8AE6-19B30DAB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14B6-0F67-4481-8340-1B44386B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E829-6C4E-4F4F-B4B2-44DD5664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496B-4FFF-420C-BAAD-7812D0A3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17E0-1363-49DC-A35A-7934E8DF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0C1F-C2CE-49E3-93B7-F1130FF2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8271-B944-42E6-A2C2-98D212FB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CF10-CA56-4B34-9526-FB7770D3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82FA55-50F4-4ECD-86A8-66A59BA9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49167A-9E15-4CC6-927C-D39E01CF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E91D1B-795C-46C1-9E29-DC4AFAB1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ACAE1B-368A-4E5F-B53D-DD550901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65CB9F-0E97-43B6-8F28-74277CD3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FE6D-D916-4840-9AA4-7C50A960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B7C55D-F8A1-4AC4-A9D8-1675D032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9983E7-977C-45E9-8F99-EF66BF4E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AFCC51-4808-49D1-A245-40995A7B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3F0A7-2B30-4D26-9C49-29A56E2A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54CD8-01C5-4A7A-B7AF-DCFBF4DC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FFFBD4-1A9E-41FA-901E-9622642F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41FF9-DA32-4238-8D95-4847D5C3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07BDB-0661-4963-AC9D-D85E3420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DEBC9-7D27-4BA5-811B-033364F6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6AC87-944F-4E2A-A694-D73936ED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EDFA-0171-412D-B7CB-BA36371C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0A11D-9738-46A4-AF64-4923E7A3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B5F45-5166-41BC-A44C-33897A15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1D0A1-76AB-4208-AC26-EBC3FDB8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24CD3-BB1C-4B80-9BE8-E56447EF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26F2A-6335-4727-8613-B21AEA2A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D56CC-1AA5-4D70-8E52-A3C36F25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09651-DE91-49C1-92D8-128E5C2B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CD981-5B8F-4AA7-B463-B3A04351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41AE3-4B3A-4C1C-91D0-0631FA3F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10E1D7-5D1A-473F-9029-591BD2BE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D69D-6F7F-4BEB-B5A5-BF59F149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BBA7D4-967E-4F83-A402-6EB6626D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2550C3-903E-4866-B1BF-8B6B2B5E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597FDE-D806-4574-802A-A6403B3E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DBE475-E5FC-42F3-9903-99C54EA7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C77461-2AE4-448D-81F5-D863C08A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9C0787-B3C5-4563-A324-0AB5EDB4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E1C38B-C1EF-482D-AD3C-621D028C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AC8914-9D49-4A5C-AC3A-2F6B5B4E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44B232-57D9-4010-AB81-D71EB12C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614289-52BA-4C41-B634-D04812A7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5F47-2494-4C74-84F2-BB49B0BC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6E59CB-247D-417D-8BEE-E8F64639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7F00B9-BED2-4452-8469-68E5F8B9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869465-92B0-4B33-8F1C-E42E8AFC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D2645F-C688-4F49-B724-99119943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2FC21A-6FE5-415D-819A-A9584E33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D8D44F-65C9-4D4B-A294-8905C05D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6AF7C1-754F-42C9-9C5F-1BF1D944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765528-4852-4267-86E6-A9DA2238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37EC23-2CFA-492D-91DA-F7AE6184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2CC510-ED14-40FC-A195-B9C66C0D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A536-888A-4CA5-9F4F-3FC0ED50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463096-292B-4205-A4F1-3978BF79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9A77E0-3F35-45FB-85EE-9789C9FA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A71D7F-6477-4E34-8242-D1AF83D1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CAD4FE-FBE0-4D02-9DB1-E4BF2D16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B6A737-1156-4EC2-9327-3553FC96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B33471-A5D0-4E5E-87B5-3BC1C801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FBFAE4-FE79-4BD0-AC9D-DA052FDC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1FFCA5-620E-4D5C-B48C-E0037820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4B0BD7-247D-42DA-97D5-D7B8ABD8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18289C-8A5A-4E8C-B1FB-BE506E62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B446-2787-4AA1-8B71-12CEF1AF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D28E38-F842-4B94-9714-A1EF6ECF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8878F1-D66E-4A7F-9819-8618B667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2891DA-2C1C-423A-8F5A-E528A541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CD44CF-FA10-4F83-A2A0-D03E5F08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9B61A8-74BF-436C-B3B5-8C44F699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690E-6EB5-4F8F-B872-895E1264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0c2b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784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7847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3746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0c2b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d4f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0c2b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7FA1-C33E-463B-8F7D-915BF20766A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0c2b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1d9d5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1d9d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1ed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0c2b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1ed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0c2b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0c2b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784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7847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3746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0c2b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d4f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AF42-593A-4054-BF6E-AA9A5C968F9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0c2b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0c2b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784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7847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3746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0c2b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d4f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902C-FEC6-412C-8088-1A241772851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0c2b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1d9d5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1d9d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1ed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0c2b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1ed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0c2b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0c2b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92d050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784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7847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3746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0c2b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d4f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2d05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2d05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4457-5AA0-4ED3-A42F-F59EAEB42F4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0c2b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0c2b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784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7847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3746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0c2b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d4f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6E0D-CF5F-4907-B23A-F2566CB8BF4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0c2b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0c2b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784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7847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3746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0c2b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d4f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4271-93A4-41B9-AD51-89B57B7FD16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0c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784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7847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3746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0c2b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d4f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6112-E0B9-4CED-A969-9E51B5B3B16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babyblog.ru/user/25042009yana/2917833" TargetMode="External"/><Relationship Id="rId2" Type="http://schemas.openxmlformats.org/officeDocument/2006/relationships/hyperlink" Target="http://forchel.ru/forum/textversion.html?t357" TargetMode="External"/><Relationship Id="rId3" Type="http://schemas.openxmlformats.org/officeDocument/2006/relationships/hyperlink" Target="http://razvivashka33.ru/publ/professii/maminy_professii/13-1-0-82" TargetMode="External"/><Relationship Id="rId4" Type="http://schemas.openxmlformats.org/officeDocument/2006/relationships/hyperlink" Target="http://9terminal.ru/cat/view/work/vacancy/14336.html" TargetMode="External"/><Relationship Id="rId5" Type="http://schemas.openxmlformats.org/officeDocument/2006/relationships/hyperlink" Target="http://ust-ilimsk.su/media/news/32/851c24aa-165b-49a3-ba8c-efcc7256e898.png" TargetMode="External"/><Relationship Id="rId6" Type="http://schemas.openxmlformats.org/officeDocument/2006/relationships/hyperlink" Target="http://www.clipartoday.com/_thumbs/011/agriculture/garden_gardening/gardener22_000481_tnb.png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Рисунок 5" descr=""/>
          <p:cNvPicPr/>
          <p:nvPr/>
        </p:nvPicPr>
        <p:blipFill>
          <a:blip r:embed="rId1"/>
          <a:srcRect l="0" t="0" r="43" b="-44"/>
          <a:stretch/>
        </p:blipFill>
        <p:spPr>
          <a:xfrm>
            <a:off x="1857240" y="1214280"/>
            <a:ext cx="7072560" cy="23432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714560" y="5428800"/>
            <a:ext cx="44290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Monotype Corsiva"/>
              </a:rPr>
              <a:t>Подготовила и провел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Monotype Corsiva"/>
              </a:rPr>
              <a:t>Педагог  ДО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Monotype Corsiva"/>
              </a:rPr>
              <a:t>Коростова  Инна  Петровн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Рисунок 10" descr="6a0133f37436c0970b01348971b32c970c-320wi.jpg"/>
          <p:cNvPicPr/>
          <p:nvPr/>
        </p:nvPicPr>
        <p:blipFill>
          <a:blip r:embed="rId2"/>
          <a:stretch/>
        </p:blipFill>
        <p:spPr>
          <a:xfrm>
            <a:off x="8050320" y="285840"/>
            <a:ext cx="1093680" cy="177300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11" descr="400x400.jpg"/>
          <p:cNvPicPr/>
          <p:nvPr/>
        </p:nvPicPr>
        <p:blipFill>
          <a:blip r:embed="rId3"/>
          <a:stretch/>
        </p:blipFill>
        <p:spPr>
          <a:xfrm>
            <a:off x="1857240" y="0"/>
            <a:ext cx="1611360" cy="132084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12" descr="profi.jpg"/>
          <p:cNvPicPr/>
          <p:nvPr/>
        </p:nvPicPr>
        <p:blipFill>
          <a:blip r:embed="rId4"/>
          <a:stretch/>
        </p:blipFill>
        <p:spPr>
          <a:xfrm>
            <a:off x="2714760" y="4286160"/>
            <a:ext cx="19256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Рисунок 4" descr="cb.jpg"/>
          <p:cNvPicPr/>
          <p:nvPr/>
        </p:nvPicPr>
        <p:blipFill>
          <a:blip r:embed="rId1"/>
          <a:stretch/>
        </p:blipFill>
        <p:spPr>
          <a:xfrm>
            <a:off x="642960" y="785880"/>
            <a:ext cx="4286160" cy="52149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  <p:sp>
        <p:nvSpPr>
          <p:cNvPr id="391" name="TextBox 3"/>
          <p:cNvSpPr/>
          <p:nvPr/>
        </p:nvSpPr>
        <p:spPr>
          <a:xfrm>
            <a:off x="4488480" y="785880"/>
            <a:ext cx="4704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Разные в ми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бывают род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Есть мамы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делопроизводите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Все 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у них на учё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Мамы так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конечно, в почё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Рисунок 4" descr="медсестра.jpg"/>
          <p:cNvPicPr/>
          <p:nvPr/>
        </p:nvPicPr>
        <p:blipFill>
          <a:blip r:embed="rId1"/>
          <a:srcRect l="0" t="0" r="-93" b="-39"/>
          <a:stretch/>
        </p:blipFill>
        <p:spPr>
          <a:xfrm>
            <a:off x="1071720" y="857160"/>
            <a:ext cx="3286080" cy="52149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  <p:sp>
        <p:nvSpPr>
          <p:cNvPr id="395" name="TextBox 3"/>
          <p:cNvSpPr/>
          <p:nvPr/>
        </p:nvSpPr>
        <p:spPr>
          <a:xfrm>
            <a:off x="4945320" y="714240"/>
            <a:ext cx="3884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Лучший доктор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мама-вр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Если леч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ты не пла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Не достав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страшных  м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Шприц из са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добрых  ру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Рисунок 4" descr="кассир.jpg"/>
          <p:cNvPicPr/>
          <p:nvPr/>
        </p:nvPicPr>
        <p:blipFill>
          <a:blip r:embed="rId1"/>
          <a:srcRect l="0" t="0" r="-8" b="0"/>
          <a:stretch/>
        </p:blipFill>
        <p:spPr>
          <a:xfrm>
            <a:off x="642960" y="1071720"/>
            <a:ext cx="4214880" cy="46432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  <p:sp>
        <p:nvSpPr>
          <p:cNvPr id="399" name="TextBox 3"/>
          <p:cNvSpPr/>
          <p:nvPr/>
        </p:nvSpPr>
        <p:spPr>
          <a:xfrm>
            <a:off x="4424400" y="1714680"/>
            <a:ext cx="492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Вкусной колба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Достала с витр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Мама – 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Продавец в магази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http://www.illustrationsof.com/royalty-free-parachute-clipart-illustration-33885.jpg"/>
          <p:cNvPicPr/>
          <p:nvPr/>
        </p:nvPicPr>
        <p:blipFill>
          <a:blip r:embed="rId1"/>
          <a:stretch/>
        </p:blipFill>
        <p:spPr>
          <a:xfrm>
            <a:off x="571680" y="1143000"/>
            <a:ext cx="4354200" cy="4410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3"/>
          <p:cNvSpPr/>
          <p:nvPr/>
        </p:nvSpPr>
        <p:spPr>
          <a:xfrm>
            <a:off x="5143680" y="1500120"/>
            <a:ext cx="3500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Из самолё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прыгает с риском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Смелая мама-парашютис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D:\Мои документы\Рисунки и анимашки\Рамки\рамки 1\3978976.png"/>
          <p:cNvPicPr/>
          <p:nvPr/>
        </p:nvPicPr>
        <p:blipFill>
          <a:blip r:embed="rId1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"/>
          <p:cNvSpPr/>
          <p:nvPr/>
        </p:nvSpPr>
        <p:spPr>
          <a:xfrm>
            <a:off x="5429160" y="1953720"/>
            <a:ext cx="3214800" cy="341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  <a:ea typeface="Arial"/>
              </a:rPr>
              <a:t>Зубки больные без всяких уколов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Monotype Corsiva"/>
                <a:ea typeface="Arial"/>
              </a:rPr>
              <a:t>Вылечит мама – врач-стоматолог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8" descr="D:\Мои документы\Рисунки и анимашки\Уголки\60882215_1277701184_10.png"/>
          <p:cNvPicPr/>
          <p:nvPr/>
        </p:nvPicPr>
        <p:blipFill>
          <a:blip r:embed="rId2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I:\CLIPART\Clipart\stddir4\PE02715_.WMF"/>
          <p:cNvPicPr/>
          <p:nvPr/>
        </p:nvPicPr>
        <p:blipFill>
          <a:blip r:embed="rId3"/>
          <a:stretch/>
        </p:blipFill>
        <p:spPr>
          <a:xfrm>
            <a:off x="857160" y="1500120"/>
            <a:ext cx="37861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Рисунок 4" descr="0_d9f61_6b154e05_XXL.png"/>
          <p:cNvPicPr/>
          <p:nvPr/>
        </p:nvPicPr>
        <p:blipFill>
          <a:blip r:embed="rId1"/>
          <a:stretch/>
        </p:blipFill>
        <p:spPr>
          <a:xfrm>
            <a:off x="785880" y="1285920"/>
            <a:ext cx="3929040" cy="429876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1"/>
          <p:cNvSpPr/>
          <p:nvPr/>
        </p:nvSpPr>
        <p:spPr>
          <a:xfrm>
            <a:off x="5000760" y="2428920"/>
            <a:ext cx="3500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Мама- парикмахер 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непременно 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Подстрижё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вас современно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Рисунок 3" descr="бухгалтер.gif"/>
          <p:cNvPicPr/>
          <p:nvPr/>
        </p:nvPicPr>
        <p:blipFill>
          <a:blip r:embed="rId1"/>
          <a:stretch/>
        </p:blipFill>
        <p:spPr>
          <a:xfrm>
            <a:off x="714240" y="1285920"/>
            <a:ext cx="4143600" cy="435780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оугольник 1"/>
          <p:cNvSpPr/>
          <p:nvPr/>
        </p:nvSpPr>
        <p:spPr>
          <a:xfrm>
            <a:off x="5143680" y="928800"/>
            <a:ext cx="35715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Мама – бухгалте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Вот это 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В денежках пол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порядок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Всё посчита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запомнит, учт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С мамочкой оч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кому-то вез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D:\Мои документы\Рисунки и анимашки\Рамки\рамки 1\3978976.png"/>
          <p:cNvPicPr/>
          <p:nvPr/>
        </p:nvPicPr>
        <p:blipFill>
          <a:blip r:embed="rId1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8" descr="D:\Мои документы\Рисунки и анимашки\Уголки\60882215_1277701184_10.png"/>
          <p:cNvPicPr/>
          <p:nvPr/>
        </p:nvPicPr>
        <p:blipFill>
          <a:blip r:embed="rId2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1"/>
          <p:cNvSpPr/>
          <p:nvPr/>
        </p:nvSpPr>
        <p:spPr>
          <a:xfrm>
            <a:off x="5214960" y="785880"/>
            <a:ext cx="36432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Мама на 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                  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не сидит -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По дорогам колесит.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Если что-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            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где случится –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Журналист с блокнотом мч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Рисунок 5" descr="TVINTERVIEWWOMAN.jpg"/>
          <p:cNvPicPr/>
          <p:nvPr/>
        </p:nvPicPr>
        <p:blipFill>
          <a:blip r:embed="rId3"/>
          <a:stretch/>
        </p:blipFill>
        <p:spPr>
          <a:xfrm>
            <a:off x="785880" y="1428840"/>
            <a:ext cx="385740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Рисунок 5" descr="royalty-free-pharmacist-clipart-illustration-436206.jpg"/>
          <p:cNvPicPr/>
          <p:nvPr/>
        </p:nvPicPr>
        <p:blipFill>
          <a:blip r:embed="rId1"/>
          <a:srcRect l="0" t="0" r="130" b="-47"/>
          <a:stretch/>
        </p:blipFill>
        <p:spPr>
          <a:xfrm>
            <a:off x="285840" y="714240"/>
            <a:ext cx="4794120" cy="5096160"/>
          </a:xfrm>
          <a:prstGeom prst="rect">
            <a:avLst/>
          </a:prstGeom>
          <a:ln w="0">
            <a:noFill/>
          </a:ln>
        </p:spPr>
      </p:pic>
      <p:sp>
        <p:nvSpPr>
          <p:cNvPr id="421" name="Прямоугольник 1"/>
          <p:cNvSpPr/>
          <p:nvPr/>
        </p:nvSpPr>
        <p:spPr>
          <a:xfrm>
            <a:off x="5286240" y="2000160"/>
            <a:ext cx="3857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Мамы-фармацев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в аптеках обит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Про лекарства ма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всё на свете знаю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Рисунок 3" descr="Image59.jpg"/>
          <p:cNvPicPr/>
          <p:nvPr/>
        </p:nvPicPr>
        <p:blipFill>
          <a:blip r:embed="rId1"/>
          <a:stretch/>
        </p:blipFill>
        <p:spPr>
          <a:xfrm>
            <a:off x="571680" y="1000080"/>
            <a:ext cx="4257360" cy="47530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500040"/>
            <a:ext cx="4500720" cy="5929200"/>
          </a:xfrm>
          <a:prstGeom prst="rect">
            <a:avLst/>
          </a:prstGeom>
          <a:ln w="0">
            <a:noFill/>
          </a:ln>
        </p:spPr>
      </p:pic>
      <p:sp>
        <p:nvSpPr>
          <p:cNvPr id="426" name="Прямоугольник 1"/>
          <p:cNvSpPr/>
          <p:nvPr/>
        </p:nvSpPr>
        <p:spPr>
          <a:xfrm>
            <a:off x="5286240" y="1000080"/>
            <a:ext cx="3357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Ну а мамы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                    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пова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На все руки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             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хоть ку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Котлет пожар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               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и блинов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Нет ум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            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повар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4" descr="0_orig.jpg"/>
          <p:cNvPicPr/>
          <p:nvPr/>
        </p:nvPicPr>
        <p:blipFill>
          <a:blip r:embed="rId1"/>
          <a:stretch/>
        </p:blipFill>
        <p:spPr>
          <a:xfrm>
            <a:off x="500040" y="1000080"/>
            <a:ext cx="4429080" cy="4800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428760" y="428760"/>
            <a:ext cx="4500360" cy="59292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3"/>
          <p:cNvSpPr/>
          <p:nvPr/>
        </p:nvSpPr>
        <p:spPr>
          <a:xfrm>
            <a:off x="4827240" y="2000160"/>
            <a:ext cx="423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Monotype Corsiva"/>
              </a:rPr>
              <a:t>Тёплые ве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Monotype Corsiva"/>
              </a:rPr>
              <a:t>быстро и тих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Monotype Corsiva"/>
              </a:rPr>
              <a:t>Шьёт для детиш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Monotype Corsiva"/>
              </a:rPr>
              <a:t>мама-портни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http://www.grafamania.net/uploads/posts/2010-06/1277183691_29zpifp.jpg"/>
          <p:cNvPicPr/>
          <p:nvPr/>
        </p:nvPicPr>
        <p:blipFill>
          <a:blip r:embed="rId1"/>
          <a:stretch/>
        </p:blipFill>
        <p:spPr>
          <a:xfrm>
            <a:off x="500040" y="1714680"/>
            <a:ext cx="4762440" cy="314316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оугольник 1"/>
          <p:cNvSpPr/>
          <p:nvPr/>
        </p:nvSpPr>
        <p:spPr>
          <a:xfrm>
            <a:off x="5357880" y="2357280"/>
            <a:ext cx="3786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Мама строитель - профессия нужна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Строит до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проектирует ули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2"/>
          <p:cNvSpPr/>
          <p:nvPr/>
        </p:nvSpPr>
        <p:spPr>
          <a:xfrm>
            <a:off x="0" y="1428840"/>
            <a:ext cx="8929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63300"/>
                </a:solidFill>
                <a:latin typeface="Monotype Corsiva"/>
              </a:rPr>
              <a:t>Мамы всякие  нужны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63300"/>
                </a:solidFill>
                <a:latin typeface="Monotype Corsiva"/>
              </a:rPr>
              <a:t>Мамы всякие важны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8" descr="D:\Мои документы\Рисунки и анимашки\Уголки\60882215_1277701184_10.png"/>
          <p:cNvPicPr/>
          <p:nvPr/>
        </p:nvPicPr>
        <p:blipFill>
          <a:blip r:embed="rId1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1"/>
          <p:cNvSpPr/>
          <p:nvPr/>
        </p:nvSpPr>
        <p:spPr>
          <a:xfrm>
            <a:off x="571680" y="164304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d1f1f"/>
                </a:solidFill>
                <a:uFillTx/>
                <a:latin typeface="Arial"/>
                <a:hlinkClick r:id="rId1"/>
              </a:rPr>
              <a:t>http://www.babyblog.ru/user/25042009yana/29178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d1f1f"/>
                </a:solidFill>
                <a:uFillTx/>
                <a:latin typeface="Arial"/>
                <a:hlinkClick r:id="rId2"/>
              </a:rPr>
              <a:t>http://forchel.ru/forum/textversion.html?t3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3"/>
              </a:rPr>
              <a:t>http://razvivashka33.ru/publ/professii/maminy_professii/13-1-0-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4"/>
              </a:rPr>
              <a:t>http://9terminal.ru/cat/view/work/vacancy/14336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5"/>
              </a:rPr>
              <a:t>http://ust-ilimsk.su/media/news/32/851c24aa-165b-49a3-ba8c-efcc7256e898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6"/>
              </a:rPr>
              <a:t>http://www.clipartoday.com/_thumbs/011/agriculture/garden_gardening/gardener22_000481_tnb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b2c24"/>
                </a:solidFill>
                <a:uFillTx/>
                <a:latin typeface="Arial"/>
              </a:rPr>
              <a:t>http://img-fotki.yandex.ru/get/4707/56001699.346/0_786e0_415d29ce_X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b2c24"/>
                </a:solidFill>
                <a:uFillTx/>
                <a:latin typeface="Arial"/>
              </a:rPr>
              <a:t>http://www.picgifs.com/clip-art/gardening/clip-art-gardening-595441-692395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b2c24"/>
                </a:solidFill>
                <a:uFillTx/>
                <a:latin typeface="Arial"/>
              </a:rPr>
              <a:t>http://www.valtrompianews.it/files/magazine/img/farmacista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b2c24"/>
                </a:solidFill>
                <a:uFillTx/>
                <a:latin typeface="Arial"/>
              </a:rPr>
              <a:t>http://ru.123rf.com/photo_8225066_docto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b2c24"/>
                </a:solidFill>
                <a:uFillTx/>
                <a:latin typeface="Arial"/>
              </a:rPr>
              <a:t>http://cybercaro.com/wp-content/uploads/2013/05/cb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2c24"/>
                </a:solidFill>
                <a:latin typeface="Arial"/>
              </a:rPr>
              <a:t>http://www.finchpark.com/books/twa/meet/images/Image59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2"/>
          <p:cNvSpPr/>
          <p:nvPr/>
        </p:nvSpPr>
        <p:spPr>
          <a:xfrm>
            <a:off x="0" y="285840"/>
            <a:ext cx="89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3300"/>
                </a:solidFill>
                <a:latin typeface="Monotype Corsiva"/>
              </a:rPr>
              <a:t>Используемые  ресурсы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D:\Мои документы\Рисунки и анимашки\Рамки\рамки 1\3978976.png"/>
          <p:cNvPicPr/>
          <p:nvPr/>
        </p:nvPicPr>
        <p:blipFill>
          <a:blip r:embed="rId1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sp>
        <p:nvSpPr>
          <p:cNvPr id="361" name="TextBox 2"/>
          <p:cNvSpPr/>
          <p:nvPr/>
        </p:nvSpPr>
        <p:spPr>
          <a:xfrm>
            <a:off x="4803120" y="1500120"/>
            <a:ext cx="3912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Monotype Corsiva"/>
              </a:rPr>
              <a:t>Пишет в газ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Monotype Corsiva"/>
              </a:rPr>
              <a:t>статьи и запи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Monotype Corsiva"/>
              </a:rPr>
              <a:t>Мама-пис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Monotype Corsiva"/>
              </a:rPr>
              <a:t>и журналис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8" descr="D:\Мои документы\Рисунки и анимашки\Уголки\60882215_1277701184_10.png"/>
          <p:cNvPicPr/>
          <p:nvPr/>
        </p:nvPicPr>
        <p:blipFill>
          <a:blip r:embed="rId2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0" descr="I:\CLIPART\Clipart\stddir3\PE01678_.WMF"/>
          <p:cNvPicPr/>
          <p:nvPr/>
        </p:nvPicPr>
        <p:blipFill>
          <a:blip r:embed="rId3"/>
          <a:stretch/>
        </p:blipFill>
        <p:spPr>
          <a:xfrm flipH="1">
            <a:off x="842760" y="1285920"/>
            <a:ext cx="375444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D:\Мои документы\Рисунки и анимашки\Профессии\воспитатель.jpg"/>
          <p:cNvPicPr/>
          <p:nvPr/>
        </p:nvPicPr>
        <p:blipFill>
          <a:blip r:embed="rId1"/>
          <a:stretch/>
        </p:blipFill>
        <p:spPr>
          <a:xfrm>
            <a:off x="576360" y="708120"/>
            <a:ext cx="4424400" cy="5435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71680" y="428760"/>
            <a:ext cx="4500360" cy="5929200"/>
          </a:xfrm>
          <a:prstGeom prst="rect">
            <a:avLst/>
          </a:prstGeom>
          <a:ln w="0">
            <a:noFill/>
          </a:ln>
        </p:spPr>
      </p:pic>
      <p:sp>
        <p:nvSpPr>
          <p:cNvPr id="366" name="TextBox 2"/>
          <p:cNvSpPr/>
          <p:nvPr/>
        </p:nvSpPr>
        <p:spPr>
          <a:xfrm>
            <a:off x="4471200" y="2286000"/>
            <a:ext cx="4888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Monotype Corsiva"/>
              </a:rPr>
              <a:t>В детском с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Monotype Corsiva"/>
              </a:rPr>
              <a:t>очень много зан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Monotype Corsiva"/>
              </a:rPr>
              <a:t>Мама там ня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Monotype Corsiva"/>
              </a:rPr>
              <a:t>и воспита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Рисунок 4" descr="clipart_tuinieren_animaatjes-93.jpg"/>
          <p:cNvPicPr/>
          <p:nvPr/>
        </p:nvPicPr>
        <p:blipFill>
          <a:blip r:embed="rId1"/>
          <a:stretch/>
        </p:blipFill>
        <p:spPr>
          <a:xfrm>
            <a:off x="785880" y="1357200"/>
            <a:ext cx="4000320" cy="371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sp>
        <p:nvSpPr>
          <p:cNvPr id="370" name="TextBox 2"/>
          <p:cNvSpPr/>
          <p:nvPr/>
        </p:nvSpPr>
        <p:spPr>
          <a:xfrm>
            <a:off x="4771440" y="2357280"/>
            <a:ext cx="4254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Из кореш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растить не уста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Чудо-раст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мама-бота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Рисунок 4" descr="Cucinare_dolci.jpg"/>
          <p:cNvPicPr/>
          <p:nvPr/>
        </p:nvPicPr>
        <p:blipFill>
          <a:blip r:embed="rId1"/>
          <a:stretch/>
        </p:blipFill>
        <p:spPr>
          <a:xfrm>
            <a:off x="571680" y="1000080"/>
            <a:ext cx="4429080" cy="49910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2"/>
          <p:cNvSpPr/>
          <p:nvPr/>
        </p:nvSpPr>
        <p:spPr>
          <a:xfrm>
            <a:off x="4735440" y="1785960"/>
            <a:ext cx="4353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Плюшки и бул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кушать спеш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Их испекла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мама-кондит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Рисунок 3" descr="учитель.jpg"/>
          <p:cNvPicPr/>
          <p:nvPr/>
        </p:nvPicPr>
        <p:blipFill>
          <a:blip r:embed="rId1"/>
          <a:srcRect l="0" t="0" r="33" b="-49"/>
          <a:stretch/>
        </p:blipFill>
        <p:spPr>
          <a:xfrm>
            <a:off x="571680" y="714240"/>
            <a:ext cx="4143240" cy="55008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sp>
        <p:nvSpPr>
          <p:cNvPr id="378" name="TextBox 2"/>
          <p:cNvSpPr/>
          <p:nvPr/>
        </p:nvSpPr>
        <p:spPr>
          <a:xfrm>
            <a:off x="4737600" y="1857240"/>
            <a:ext cx="441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В школе не мен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занятий. Смотр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Ставит  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мама-уч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Рисунок 3" descr="доярка.jpg"/>
          <p:cNvPicPr/>
          <p:nvPr/>
        </p:nvPicPr>
        <p:blipFill>
          <a:blip r:embed="rId1"/>
          <a:srcRect l="0" t="0" r="-16" b="-27"/>
          <a:stretch/>
        </p:blipFill>
        <p:spPr>
          <a:xfrm>
            <a:off x="571680" y="1000080"/>
            <a:ext cx="4357440" cy="50720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sp>
        <p:nvSpPr>
          <p:cNvPr id="382" name="TextBox 2"/>
          <p:cNvSpPr/>
          <p:nvPr/>
        </p:nvSpPr>
        <p:spPr>
          <a:xfrm>
            <a:off x="4700520" y="2000160"/>
            <a:ext cx="401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Доит коро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с утра спозаран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В чистом заг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мама-дояр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Рисунок 3" descr="1341919704_cartoon_housewife_allclipart.ru_1.jpg"/>
          <p:cNvPicPr/>
          <p:nvPr/>
        </p:nvPicPr>
        <p:blipFill>
          <a:blip r:embed="rId1"/>
          <a:stretch/>
        </p:blipFill>
        <p:spPr>
          <a:xfrm>
            <a:off x="571680" y="1357200"/>
            <a:ext cx="4286160" cy="39290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  <p:sp>
        <p:nvSpPr>
          <p:cNvPr id="387" name="TextBox 2"/>
          <p:cNvSpPr/>
          <p:nvPr/>
        </p:nvSpPr>
        <p:spPr>
          <a:xfrm>
            <a:off x="4510800" y="1571760"/>
            <a:ext cx="482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Я вам о мам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расскажу.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А кто она? – Узнай-ка.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Ну, так и б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я подскажу: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Она – домохозяй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04:11:23Z</dcterms:created>
  <dc:creator>Прокопьева Л.Н.</dc:creator>
  <dc:description/>
  <dc:language>en-US</dc:language>
  <cp:lastModifiedBy>Владимир</cp:lastModifiedBy>
  <dcterms:modified xsi:type="dcterms:W3CDTF">2020-11-27T03:41:34Z</dcterms:modified>
  <cp:revision>46</cp:revision>
  <dc:subject>Внеклассная работа.</dc:subject>
  <dc:title>Мамины професси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1f0000000000010243100207f6000400038000</vt:lpwstr>
  </property>
</Properties>
</file>