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1C1-CB0A-42FA-93B1-06737DB1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477-05E1-41F0-98D8-8F08DF18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A5D-8E45-4356-9318-DB1DBA33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BE7-F638-4AA4-A796-9804F44B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94F-FA81-4961-A3A0-B17C6AAC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04E3-9372-4627-991E-AA0894E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2C7-C803-43C6-98F2-DFBBD86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6BDE-321E-43B1-ADCF-57E66B36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498B-4682-4563-85FA-8C2C77D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F11-2834-4020-9887-8E3229EE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60B5-7851-458B-B46A-742B30D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69D-5795-4145-9DF3-E70EA5C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70DF-296E-4D1A-8AD4-4D3AF72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352-89BE-462F-A799-B1CF444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ACCD-8959-4EEE-A6FA-DC9EB33A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F33F-BA84-4B24-BCE2-E3B767F5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D7BB-E3D3-4D27-9334-CFD39FD3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1DFBD-6CD7-4E82-8C1D-798E64D1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E1C01-F09F-4826-9165-5862CD9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C4B72-0CDD-44D3-BF14-4A79545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CA768-D05E-4840-A725-1F3E9C8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FAAC9-D4A1-4360-913F-C4F2778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F56-3BE1-4DF6-93B0-7B7AB3C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B5816-BD94-4977-944B-2C3FC7B5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46C3D-0E49-4811-90B4-29D6465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B1144-2E61-4225-91E1-D84300A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3CFBF-D325-44A7-9D3B-BDF17D1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6D940-1FF1-478F-B297-F0723863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6BB24-0C3A-41D4-B24D-E3962F74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387F3-0757-4E7E-85B1-E51052D2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7FD9-8BA8-4EA4-A0B8-24332DC6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9F21-1BA8-4136-B75D-19C2D05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0019-32C6-4A55-BB2D-CBF0961D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5BD-F2F4-4E74-AA32-083DEB2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19F1-A56B-461C-9DBD-B1290AD6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2C76-21C6-4267-90BD-22218E79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0D62-D825-45CC-A3FB-DDF48A7E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6500-CC19-4D11-8CB6-2846E77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64D9-0130-4BAB-9435-E60397F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6ED7-9DF3-4DA1-B26F-3CCA03F0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035C-20AD-439E-9A80-362DB17D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0E38-77D8-469B-88F8-AAA9B1ED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D6BE-4DE2-4B26-B493-C3BFEA45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D7A2C-44EB-43EC-BC72-FDB10C91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349-EB0D-4C71-8A38-BF1D299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D459C-22BE-4A1E-B989-8D04295A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1E213-E8B9-499E-900F-4A004E6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66BE3-D635-490C-8B0E-1C6A0A28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F9467-3686-44A4-AFAF-8556BE4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B3548-A18E-4371-9B0D-5DE3C7E4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250E5-0D02-4152-A512-63F383F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41CA6-9CCB-47A5-9762-8AAA7C3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886CE-8CDB-4F98-966F-3C3467E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8BC9D-CDE3-4A34-9449-1C5DA56C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28763-D6AC-45FB-8A2D-7BD34930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6EE-DFEC-45D4-8656-E63807E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F3E94-7938-43ED-B735-2D147579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31160-A7CB-4909-9BD5-4BE56C99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F9A3B-D036-4E44-BA5C-E479C732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79BFC-CA63-4CE3-8D68-D1995BB8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1524B-B9AB-4F92-B96D-6CC6AC6C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77BBD-3F65-48A6-889D-3295507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0FCB7-5743-4D28-AFB5-E93769CF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3F3FE-733E-4FF3-BDD8-99C060D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C3FE7-D751-4EEC-97CD-916410F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D736C-98AA-423A-BBA7-2F77092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224-329C-4CB1-8644-034C8597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D68FF-561E-482D-ABC1-7AB5E7C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3DDD7-6DDD-4087-B06A-BAB8D8EB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07E01-2191-491F-9FE9-6CA6D8EF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908EA-104B-4926-826C-26189C51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58604-3DAC-4600-BE9B-A690CD70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2A309-3586-407F-AC5F-7DD13949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B5CB0-9A45-450E-8370-076CE69A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C46B4-5548-4847-AF2E-AD3D31A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972FC-E689-4B42-84E0-B5B05CE9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FEBFE-E919-4138-A504-7B57152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3BC-AE39-413A-B73E-003273B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FD189-1B20-4C7E-84A0-9858B464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8E226-22C8-45C5-A39D-1170BA2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E6DA4-A1F4-4213-B52C-13A3AA1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8F2E7-F7E5-4F70-B42B-A5458BC1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10621-08FA-49BE-A870-197C4E58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A1A-6969-4F8E-AD4D-9E9875C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224-8D76-4A1A-871C-C10044F90A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0c2b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d9d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d9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d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0c2b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d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0c2b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0c2b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CEB0-E413-4E0B-AFA6-148A8A8030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5CF9-8A78-4C2E-B9D7-79CA3AE343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0c2b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d9d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d9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d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0c2b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d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0c2b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0c2b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92d05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922-AC76-4CF1-BC35-9739EB175E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88FA-D3E4-4D40-A3ED-2A6F12549E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C75-67E4-43CF-81E0-79C4DB9EA9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FD1-12CC-4C50-9440-A90ED670B9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abyblog.ru/user/25042009yana/2917833" TargetMode="External"/><Relationship Id="rId2" Type="http://schemas.openxmlformats.org/officeDocument/2006/relationships/hyperlink" Target="http://forchel.ru/forum/textversion.html?t357" TargetMode="External"/><Relationship Id="rId3" Type="http://schemas.openxmlformats.org/officeDocument/2006/relationships/hyperlink" Target="http://razvivashka33.ru/publ/professii/maminy_professii/13-1-0-82" TargetMode="External"/><Relationship Id="rId4" Type="http://schemas.openxmlformats.org/officeDocument/2006/relationships/hyperlink" Target="http://9terminal.ru/cat/view/work/vacancy/14336.html" TargetMode="External"/><Relationship Id="rId5" Type="http://schemas.openxmlformats.org/officeDocument/2006/relationships/hyperlink" Target="http://ust-ilimsk.su/media/news/32/851c24aa-165b-49a3-ba8c-efcc7256e898.png" TargetMode="External"/><Relationship Id="rId6" Type="http://schemas.openxmlformats.org/officeDocument/2006/relationships/hyperlink" Target="http://www.clipartoday.com/_thumbs/011/agriculture/garden_gardening/gardener22_000481_tnb.png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5" descr=""/>
          <p:cNvPicPr/>
          <p:nvPr/>
        </p:nvPicPr>
        <p:blipFill>
          <a:blip r:embed="rId1"/>
          <a:srcRect l="0" t="0" r="43" b="-44"/>
          <a:stretch/>
        </p:blipFill>
        <p:spPr>
          <a:xfrm>
            <a:off x="1857240" y="1214280"/>
            <a:ext cx="7072560" cy="23432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714560" y="5428800"/>
            <a:ext cx="44290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Подготовила и прове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Педагог  Д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Коростова  Инна  Петр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10" descr="6a0133f37436c0970b01348971b32c970c-320wi.jpg"/>
          <p:cNvPicPr/>
          <p:nvPr/>
        </p:nvPicPr>
        <p:blipFill>
          <a:blip r:embed="rId2"/>
          <a:stretch/>
        </p:blipFill>
        <p:spPr>
          <a:xfrm>
            <a:off x="8050320" y="285840"/>
            <a:ext cx="1093680" cy="17730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1" descr="400x400.jpg"/>
          <p:cNvPicPr/>
          <p:nvPr/>
        </p:nvPicPr>
        <p:blipFill>
          <a:blip r:embed="rId3"/>
          <a:stretch/>
        </p:blipFill>
        <p:spPr>
          <a:xfrm>
            <a:off x="1857240" y="0"/>
            <a:ext cx="1611360" cy="13208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2" descr="profi.jpg"/>
          <p:cNvPicPr/>
          <p:nvPr/>
        </p:nvPicPr>
        <p:blipFill>
          <a:blip r:embed="rId4"/>
          <a:stretch/>
        </p:blipFill>
        <p:spPr>
          <a:xfrm>
            <a:off x="2714760" y="4286160"/>
            <a:ext cx="19256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4" descr="cb.jpg"/>
          <p:cNvPicPr/>
          <p:nvPr/>
        </p:nvPicPr>
        <p:blipFill>
          <a:blip r:embed="rId1"/>
          <a:stretch/>
        </p:blipFill>
        <p:spPr>
          <a:xfrm>
            <a:off x="642960" y="78588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4488480" y="785880"/>
            <a:ext cx="4704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зные в ми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бывают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Есть мам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елопроизвод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с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у них на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ы та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онечно, в почё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4" descr="медсестра.jpg"/>
          <p:cNvPicPr/>
          <p:nvPr/>
        </p:nvPicPr>
        <p:blipFill>
          <a:blip r:embed="rId1"/>
          <a:srcRect l="0" t="0" r="-93" b="-39"/>
          <a:stretch/>
        </p:blipFill>
        <p:spPr>
          <a:xfrm>
            <a:off x="1071720" y="857160"/>
            <a:ext cx="3286080" cy="5214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3"/>
          <p:cNvSpPr/>
          <p:nvPr/>
        </p:nvSpPr>
        <p:spPr>
          <a:xfrm>
            <a:off x="4945320" y="714240"/>
            <a:ext cx="3884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Лучший докто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вр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Если ле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ты не пл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 достав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рашных  м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Шприц из са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обрых 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4" descr="кассир.jpg"/>
          <p:cNvPicPr/>
          <p:nvPr/>
        </p:nvPicPr>
        <p:blipFill>
          <a:blip r:embed="rId1"/>
          <a:srcRect l="0" t="0" r="-8" b="0"/>
          <a:stretch/>
        </p:blipFill>
        <p:spPr>
          <a:xfrm>
            <a:off x="642960" y="1071720"/>
            <a:ext cx="4214880" cy="464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3"/>
          <p:cNvSpPr/>
          <p:nvPr/>
        </p:nvSpPr>
        <p:spPr>
          <a:xfrm>
            <a:off x="4424400" y="1714680"/>
            <a:ext cx="492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кусной колб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остала с витр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–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давец в магаз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illustrationsof.com/royalty-free-parachute-clipart-illustration-33885.jpg"/>
          <p:cNvPicPr/>
          <p:nvPr/>
        </p:nvPicPr>
        <p:blipFill>
          <a:blip r:embed="rId1"/>
          <a:stretch/>
        </p:blipFill>
        <p:spPr>
          <a:xfrm>
            <a:off x="571680" y="1143000"/>
            <a:ext cx="4354200" cy="4410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3"/>
          <p:cNvSpPr/>
          <p:nvPr/>
        </p:nvSpPr>
        <p:spPr>
          <a:xfrm>
            <a:off x="5143680" y="1500120"/>
            <a:ext cx="350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з самолё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ыгает с риском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мелая мама-парашюти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5429160" y="1953720"/>
            <a:ext cx="3214800" cy="34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  <a:ea typeface="Arial"/>
              </a:rPr>
              <a:t>Зубки больные без всяких уколов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  <a:ea typeface="Arial"/>
              </a:rPr>
              <a:t>Вылечит мама – врач-стоматоло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I:\CLIPART\Clipart\stddir4\PE02715_.WMF"/>
          <p:cNvPicPr/>
          <p:nvPr/>
        </p:nvPicPr>
        <p:blipFill>
          <a:blip r:embed="rId3"/>
          <a:stretch/>
        </p:blipFill>
        <p:spPr>
          <a:xfrm>
            <a:off x="857160" y="1500120"/>
            <a:ext cx="37861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4" descr="0_d9f61_6b154e05_XXL.png"/>
          <p:cNvPicPr/>
          <p:nvPr/>
        </p:nvPicPr>
        <p:blipFill>
          <a:blip r:embed="rId1"/>
          <a:stretch/>
        </p:blipFill>
        <p:spPr>
          <a:xfrm>
            <a:off x="785880" y="1285920"/>
            <a:ext cx="3929040" cy="42987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"/>
          <p:cNvSpPr/>
          <p:nvPr/>
        </p:nvSpPr>
        <p:spPr>
          <a:xfrm>
            <a:off x="5000760" y="2428920"/>
            <a:ext cx="350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 парикмахер 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пременно 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дстриж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ас современно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бухгалтер.gif"/>
          <p:cNvPicPr/>
          <p:nvPr/>
        </p:nvPicPr>
        <p:blipFill>
          <a:blip r:embed="rId1"/>
          <a:stretch/>
        </p:blipFill>
        <p:spPr>
          <a:xfrm>
            <a:off x="714240" y="12859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1"/>
          <p:cNvSpPr/>
          <p:nvPr/>
        </p:nvSpPr>
        <p:spPr>
          <a:xfrm>
            <a:off x="5143680" y="928800"/>
            <a:ext cx="357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– бухгалт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от это 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 денежках пол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рядок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сё посчит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запомнит, учт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 мамочкой о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ому-то вез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5214960" y="785880"/>
            <a:ext cx="3643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 сидит -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 дорогам колесит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Если ч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где случится –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Журналист с блокнотом мч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TVINTERVIEWWOMAN.jpg"/>
          <p:cNvPicPr/>
          <p:nvPr/>
        </p:nvPicPr>
        <p:blipFill>
          <a:blip r:embed="rId3"/>
          <a:stretch/>
        </p:blipFill>
        <p:spPr>
          <a:xfrm>
            <a:off x="785880" y="1428840"/>
            <a:ext cx="3857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5" descr="royalty-free-pharmacist-clipart-illustration-436206.jpg"/>
          <p:cNvPicPr/>
          <p:nvPr/>
        </p:nvPicPr>
        <p:blipFill>
          <a:blip r:embed="rId1"/>
          <a:srcRect l="0" t="0" r="130" b="-47"/>
          <a:stretch/>
        </p:blipFill>
        <p:spPr>
          <a:xfrm>
            <a:off x="285840" y="714240"/>
            <a:ext cx="4794120" cy="50961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"/>
          <p:cNvSpPr/>
          <p:nvPr/>
        </p:nvSpPr>
        <p:spPr>
          <a:xfrm>
            <a:off x="5286240" y="2000160"/>
            <a:ext cx="385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ы-фармацев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 аптеках обит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 лекарства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сё на свете зн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3" descr="Image59.jpg"/>
          <p:cNvPicPr/>
          <p:nvPr/>
        </p:nvPicPr>
        <p:blipFill>
          <a:blip r:embed="rId1"/>
          <a:stretch/>
        </p:blipFill>
        <p:spPr>
          <a:xfrm>
            <a:off x="571680" y="1000080"/>
            <a:ext cx="4257360" cy="4753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50004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1"/>
          <p:cNvSpPr/>
          <p:nvPr/>
        </p:nvSpPr>
        <p:spPr>
          <a:xfrm>
            <a:off x="5286240" y="1000080"/>
            <a:ext cx="33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у а мам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в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а все ру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хоть к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отлет пожа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 блинов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т у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вар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0_orig.jpg"/>
          <p:cNvPicPr/>
          <p:nvPr/>
        </p:nvPicPr>
        <p:blipFill>
          <a:blip r:embed="rId1"/>
          <a:stretch/>
        </p:blipFill>
        <p:spPr>
          <a:xfrm>
            <a:off x="500040" y="1000080"/>
            <a:ext cx="4429080" cy="480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428760" y="428760"/>
            <a:ext cx="4500360" cy="5929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4827240" y="2000160"/>
            <a:ext cx="42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Тёпл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быстро 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Шьёт для дети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мама-порт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http://www.grafamania.net/uploads/posts/2010-06/1277183691_29zpifp.jpg"/>
          <p:cNvPicPr/>
          <p:nvPr/>
        </p:nvPicPr>
        <p:blipFill>
          <a:blip r:embed="rId1"/>
          <a:stretch/>
        </p:blipFill>
        <p:spPr>
          <a:xfrm>
            <a:off x="500040" y="1714680"/>
            <a:ext cx="4762440" cy="31431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"/>
          <p:cNvSpPr/>
          <p:nvPr/>
        </p:nvSpPr>
        <p:spPr>
          <a:xfrm>
            <a:off x="5357880" y="2357280"/>
            <a:ext cx="378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строитель - профессия нужн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роит д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ектирует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2"/>
          <p:cNvSpPr/>
          <p:nvPr/>
        </p:nvSpPr>
        <p:spPr>
          <a:xfrm>
            <a:off x="0" y="1428840"/>
            <a:ext cx="8929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3300"/>
                </a:solidFill>
                <a:latin typeface="Monotype Corsiva"/>
              </a:rPr>
              <a:t>Мамы всякие  нужн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3300"/>
                </a:solidFill>
                <a:latin typeface="Monotype Corsiva"/>
              </a:rPr>
              <a:t>Мамы всякие важн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D:\Мои документы\Рисунки и анимашки\Уголки\60882215_1277701184_10.png"/>
          <p:cNvPicPr/>
          <p:nvPr/>
        </p:nvPicPr>
        <p:blipFill>
          <a:blip r:embed="rId1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571680" y="164304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ttp://www.babyblog.ru/user/25042009yana/29178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forchel.ru/forum/textversion.html?t3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http://razvivashka33.ru/publ/professii/maminy_professii/13-1-0-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http://9terminal.ru/cat/view/work/vacancy/1433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http://ust-ilimsk.su/media/news/32/851c24aa-165b-49a3-ba8c-efcc7256e898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6"/>
              </a:rPr>
              <a:t>http://www.clipartoday.com/_thumbs/011/agriculture/garden_gardening/gardener22_000481_tnb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img-fotki.yandex.ru/get/4707/56001699.346/0_786e0_415d29ce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www.picgifs.com/clip-art/gardening/clip-art-gardening-595441-69239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www.valtrompianews.it/files/magazine/img/farmacist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ru.123rf.com/photo_8225066_doct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cybercaro.com/wp-content/uploads/2013/05/c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2c24"/>
                </a:solidFill>
                <a:latin typeface="Arial"/>
              </a:rPr>
              <a:t>http://www.finchpark.com/books/twa/meet/images/Image5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0" y="28584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Monotype Corsiva"/>
              </a:rPr>
              <a:t>Используемые  ресурсы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4803120" y="1500120"/>
            <a:ext cx="391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Пишет в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статьи и зап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Мама-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и журнали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I:\CLIPART\Clipart\stddir3\PE01678_.WMF"/>
          <p:cNvPicPr/>
          <p:nvPr/>
        </p:nvPicPr>
        <p:blipFill>
          <a:blip r:embed="rId3"/>
          <a:stretch/>
        </p:blipFill>
        <p:spPr>
          <a:xfrm flipH="1">
            <a:off x="842760" y="1285920"/>
            <a:ext cx="3754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D:\Мои документы\Рисунки и анимашки\Профессии\воспитатель.jpg"/>
          <p:cNvPicPr/>
          <p:nvPr/>
        </p:nvPicPr>
        <p:blipFill>
          <a:blip r:embed="rId1"/>
          <a:stretch/>
        </p:blipFill>
        <p:spPr>
          <a:xfrm>
            <a:off x="576360" y="708120"/>
            <a:ext cx="4424400" cy="543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71680" y="428760"/>
            <a:ext cx="4500360" cy="59292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2"/>
          <p:cNvSpPr/>
          <p:nvPr/>
        </p:nvSpPr>
        <p:spPr>
          <a:xfrm>
            <a:off x="4471200" y="2286000"/>
            <a:ext cx="488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В детском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очень много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Мама там ня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и воспит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4" descr="clipart_tuinieren_animaatjes-93.jpg"/>
          <p:cNvPicPr/>
          <p:nvPr/>
        </p:nvPicPr>
        <p:blipFill>
          <a:blip r:embed="rId1"/>
          <a:stretch/>
        </p:blipFill>
        <p:spPr>
          <a:xfrm>
            <a:off x="785880" y="1357200"/>
            <a:ext cx="400032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2"/>
          <p:cNvSpPr/>
          <p:nvPr/>
        </p:nvSpPr>
        <p:spPr>
          <a:xfrm>
            <a:off x="4771440" y="2357280"/>
            <a:ext cx="42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з кореш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стить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Чудо-рас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бота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" descr="Cucinare_dolci.jpg"/>
          <p:cNvPicPr/>
          <p:nvPr/>
        </p:nvPicPr>
        <p:blipFill>
          <a:blip r:embed="rId1"/>
          <a:stretch/>
        </p:blipFill>
        <p:spPr>
          <a:xfrm>
            <a:off x="571680" y="1000080"/>
            <a:ext cx="4429080" cy="4991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4735440" y="1785960"/>
            <a:ext cx="435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люшки и 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ушать спеш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х испекла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конди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учитель.jpg"/>
          <p:cNvPicPr/>
          <p:nvPr/>
        </p:nvPicPr>
        <p:blipFill>
          <a:blip r:embed="rId1"/>
          <a:srcRect l="0" t="0" r="33" b="-49"/>
          <a:stretch/>
        </p:blipFill>
        <p:spPr>
          <a:xfrm>
            <a:off x="571680" y="714240"/>
            <a:ext cx="4143240" cy="5500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4737600" y="1857240"/>
            <a:ext cx="441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 школе не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занятий. Смотр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авит 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3" descr="доярка.jpg"/>
          <p:cNvPicPr/>
          <p:nvPr/>
        </p:nvPicPr>
        <p:blipFill>
          <a:blip r:embed="rId1"/>
          <a:srcRect l="0" t="0" r="-16" b="-27"/>
          <a:stretch/>
        </p:blipFill>
        <p:spPr>
          <a:xfrm>
            <a:off x="571680" y="1000080"/>
            <a:ext cx="4357440" cy="5072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4700520" y="2000160"/>
            <a:ext cx="401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оит кор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 утра спозар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 чистом заг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доя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3" descr="1341919704_cartoon_housewife_allclipart.ru_1.jpg"/>
          <p:cNvPicPr/>
          <p:nvPr/>
        </p:nvPicPr>
        <p:blipFill>
          <a:blip r:embed="rId1"/>
          <a:stretch/>
        </p:blipFill>
        <p:spPr>
          <a:xfrm>
            <a:off x="571680" y="1357200"/>
            <a:ext cx="4286160" cy="3929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4510800" y="1571760"/>
            <a:ext cx="482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Я вам о ма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сскажу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А кто она? – Узнай-ка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у, так и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я подскажу: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Она – домохозя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4:11:23Z</dcterms:created>
  <dc:creator>Прокопьева Л.Н.</dc:creator>
  <dc:description/>
  <dc:language>en-US</dc:language>
  <cp:lastModifiedBy>Владимир</cp:lastModifiedBy>
  <dcterms:modified xsi:type="dcterms:W3CDTF">2020-11-27T03:41:34Z</dcterms:modified>
  <cp:revision>46</cp:revision>
  <dc:subject>Внеклассная работа.</dc:subject>
  <dc:title>Мамины професс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f0000000000010243100207f6000400038000</vt:lpwstr>
  </property>
</Properties>
</file>