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4EDA-EC1F-413C-B041-6D7BAAD0D6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4BC8-5424-44CA-9A56-6E5AA744802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AE7-7AEB-4F49-9747-63D58C4B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C18B-C372-40C2-BC01-A88F5B60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BE781A-5B39-4137-B53A-7C013C9B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1173B0-7561-4A55-86AF-BC7B7073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83B77C-073A-44AD-A518-47FCDE1B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A7865D-35F3-4F86-9502-A723C40C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A6E795-3A6A-40F4-8D82-D54207B0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6DC4AA-EE19-4DA6-B1A6-26E88F0F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5725C1-3920-4D9A-B2A8-20B1821C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64826A-C8A0-4F53-84DD-9212AE09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694471-E7D7-4AF5-8A85-953D6708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F41-E662-483F-983F-FDE0B209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BDB-0790-494D-B534-470A5A4A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608A0-04A5-437E-B173-76528AD6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58131-A892-4843-91B4-A2A95697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5C355-E478-43EA-BC30-E696053C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6728A-E8E3-47C0-B3FD-50B31C06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525C6-49F9-4FE4-AF6A-C508D63C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D7425-F712-498C-98FD-8071D2A6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FD60D-667A-44BF-AEBC-F606D7F1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F2C-268E-4184-A9FD-79B443B2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FBB83-6C2D-4D99-B53B-CEE8C8E2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EDC6A-7B8A-4706-8C50-6FDEF6DA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D4848-2C44-49B5-B9BF-33723A35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51D73-93B5-4551-94F1-C4A957BC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6A43A-5C8D-4037-B4B4-106FFFF5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AB1F0-7159-4F68-93BD-8885F652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68F2A-5200-44B7-A511-64A09357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55199-6C5D-4102-BE1F-DEA74FC0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499E6-8EDC-4747-AD62-3C3E8D57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90908-E71F-4824-BF9C-D7A1B2EE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EAF2-5055-4F8C-9BCB-B27A6CAA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AB6B7-3434-46E6-81D6-D1EDCAF3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4848E-77DE-4A8C-92C7-F93C8C83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A5402-7364-45E2-9F4D-FFE9CFBD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366A1-829A-42CC-BAD5-B0DA1C4B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B791E-2D6C-4D76-828A-ED31587F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29CF9-588C-4092-8E17-7D76BB89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788DC-50BB-46F4-90FD-92EB2F0C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C81605-86A2-44C6-B95B-822303A1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E98DF5-4B6D-416B-972F-C09EF8B8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41565B-4163-46B8-AF82-4F76AD97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254-D866-4883-88FD-AF28A0B0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EE0EC0-B771-486D-AED9-DB85F590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856A9A-6533-4808-8918-2B2C5AA1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89D26-59FC-4E52-B730-6E07E0BC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8B5FE6-BE1C-4250-B482-12861636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955FEA-9A0E-4765-B6B6-A245673F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84EA61-08D3-4AE5-9360-8915CFCE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C6998C-84D0-4497-A3C1-4C403D66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C2FBE3-9B78-4ABD-A571-1EEE803F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CD3CC5-9663-4E3B-BA7E-9D8E44A4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26521-6E88-4157-8682-729A25DD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F3FA-477C-4AEC-81CD-665277FE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CE1B9-B689-4B29-81A7-C1A1E01B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6AB71-9266-418F-A2A5-B34DA8D6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A1053-455C-4076-AFAD-008F3B74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32F46-05C2-4E35-9905-3E788EDC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1A83C-D9F7-4EAC-981B-5599D468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CC2C8-0801-4390-B9FB-600BF3FE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B2225-23B6-4054-B935-336979D7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97598-F8A7-4603-B435-3A646FAE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455C5-50B8-4E17-A53F-57938D52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94C70-012E-4551-8EFB-08A365B2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093C-1B32-43EB-A8B1-054782B2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6156F-9624-4B54-8ECF-41926290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AABC5-BB74-4941-B3DB-5E68A95B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D4BAA-BF19-43FE-AF88-1852E6E5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DA803-060D-414C-8DF1-4B3F23C5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62151-7FC0-4B9E-B242-7AA7188D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10E3F-7DEE-4342-A5D4-94232B05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29082-BD02-4684-BF7D-5F5183FA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6CE8B-707F-4A1A-9DAC-580FF7EF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CB888-ECA1-4A82-9188-31B3A335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CF495-3592-46BA-BB2E-A9877A49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C2E7-5A64-45FF-9966-08C744F2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6E5BD-6E9E-4B31-8D28-6AE1A159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512AF-301C-44A1-B1A7-AB2133F2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498B4-2E24-4A19-A2B2-E1183A13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3FA15-695D-42EA-B07F-70562D73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1426D-73A7-4502-8C5A-F9490D88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A5980-C7E2-4DCF-9FC4-D9C2021B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628E1-8A04-4E0F-8D5B-EB9DDF87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2F5C9-3C48-456E-9E77-CAA498F2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3A997-EA0B-491F-AE39-95E1B8A9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DE45E-2D35-4155-97A1-8A47D0D7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208-BF27-41A2-8FE9-164D50FB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F2AA5-15F9-45C8-A0D2-EF3000E7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990E1-02F1-4694-9AA4-2D5C877D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49E31-B314-426A-B148-12BA6BE5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3B24A-3B47-4E55-ADA9-477CADA8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47F17-661C-4390-845A-4C11B9D4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DA366A-5EBB-4821-93CF-B3B00B06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237542-E732-41D5-8866-8784DAB3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8AB469-6C7C-47D1-BAFE-E9ACEB74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CF07F4-4014-4AF5-B1A0-70D7AB44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11E853-C4EB-4CE0-889D-4829E4DC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EC2-A207-4624-9AAD-ECF58241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66860F-A99C-43F5-8E5F-5A12BE04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8767B2-3A97-4998-970C-182AEACC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8AFEC9-4FF4-4458-BAB6-E48F338B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362F50-9884-4073-B6F4-70EB2287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ECFB24-CC74-4EF6-A712-EAE5A5DF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B974F0-8D0B-40D4-8073-18C8FED3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670B7A-AF61-46E7-BD99-3FF2A46D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5EF108-C3B5-45C4-A9E5-60B73FDA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9337BC-9090-497D-83AD-60CB51A9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B5F2FA-6A93-4D8C-82B9-C3604976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29D8-A279-4CF6-AE5D-FC6DE31EAB1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CCFB-821B-49B0-95B7-DE134289D3D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2AFA-2910-4D3B-A69A-804B60942D4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1EB4-8A66-49D8-9435-8633DDFEEEB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964C-677F-4650-B1FE-381AA43A76E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8DBF-A5C8-4F18-B221-B9E5B01FF0E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8A29-57E9-4043-99AF-285E00C8D8E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6ECE-C82F-4F9D-A919-EDB0EF2C3173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F1FF-C797-4CDC-A701-0A4E697C8BC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42200" cy="2232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Тема: Дом в старину: что как называетс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TextBox 3"/>
          <p:cNvSpPr/>
          <p:nvPr/>
        </p:nvSpPr>
        <p:spPr>
          <a:xfrm>
            <a:off x="4591440" y="4581360"/>
            <a:ext cx="453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Класс: 1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Автор: Бочарова Неля Александ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учитель начальных класс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Козьмодемьяновского филиа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МБОУ 2-гавриловской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C:\Users\Треугольник\Desktop\Скриншот 24-11-2020 220043.jpg"/>
          <p:cNvPicPr/>
          <p:nvPr/>
        </p:nvPicPr>
        <p:blipFill>
          <a:blip r:embed="rId1"/>
          <a:stretch/>
        </p:blipFill>
        <p:spPr>
          <a:xfrm>
            <a:off x="755640" y="765000"/>
            <a:ext cx="3600360" cy="4851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C:\Users\Треугольник\Desktop\Скриншот 24-11-2020 220109.jpg"/>
          <p:cNvPicPr/>
          <p:nvPr/>
        </p:nvPicPr>
        <p:blipFill>
          <a:blip r:embed="rId2"/>
          <a:stretch/>
        </p:blipFill>
        <p:spPr>
          <a:xfrm>
            <a:off x="5292720" y="476280"/>
            <a:ext cx="3240000" cy="4321080"/>
          </a:xfrm>
          <a:prstGeom prst="rect">
            <a:avLst/>
          </a:prstGeom>
          <a:ln w="0">
            <a:noFill/>
          </a:ln>
        </p:spPr>
      </p:pic>
      <p:sp>
        <p:nvSpPr>
          <p:cNvPr id="426" name="TextBox 3"/>
          <p:cNvSpPr/>
          <p:nvPr/>
        </p:nvSpPr>
        <p:spPr>
          <a:xfrm>
            <a:off x="1949760" y="57326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Зыб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5985360" y="49417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зделия тка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https://ds04.infourok.ru/uploads/ex/046d/0004abd4-3cd21405/img3.jpg"/>
          <p:cNvPicPr/>
          <p:nvPr/>
        </p:nvPicPr>
        <p:blipFill>
          <a:blip r:embed="rId1"/>
          <a:stretch/>
        </p:blipFill>
        <p:spPr>
          <a:xfrm>
            <a:off x="826920" y="836640"/>
            <a:ext cx="7632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https://i.ytimg.com/vi/uPwKatn83Aw/maxresdefault.jpg"/>
          <p:cNvPicPr/>
          <p:nvPr/>
        </p:nvPicPr>
        <p:blipFill>
          <a:blip r:embed="rId1"/>
          <a:stretch/>
        </p:blipFill>
        <p:spPr>
          <a:xfrm>
            <a:off x="539640" y="4581360"/>
            <a:ext cx="3446640" cy="19386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https://i.mycdn.me/i?r=AEE-HZfz734vGAKlsp5gLh-pbp6pbqkUa1w6BEnf6bGli-I_lHhTqSD0Lar8lF1vbRm1KAgqz3SOjjpPUFsk15d6&amp;amp;fn=external_8"/>
          <p:cNvPicPr/>
          <p:nvPr/>
        </p:nvPicPr>
        <p:blipFill>
          <a:blip r:embed="rId2"/>
          <a:stretch/>
        </p:blipFill>
        <p:spPr>
          <a:xfrm>
            <a:off x="4427640" y="4292640"/>
            <a:ext cx="3744720" cy="21067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https://ds02.infourok.ru/uploads/ex/036f/000483c6-4700aad5/img4.jpg"/>
          <p:cNvPicPr/>
          <p:nvPr/>
        </p:nvPicPr>
        <p:blipFill>
          <a:blip r:embed="rId3"/>
          <a:stretch/>
        </p:blipFill>
        <p:spPr>
          <a:xfrm>
            <a:off x="1476360" y="620640"/>
            <a:ext cx="60310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https://ds02.infourok.ru/uploads/ex/0d10/000404af-b21eaa96/img1.jpg"/>
          <p:cNvPicPr/>
          <p:nvPr/>
        </p:nvPicPr>
        <p:blipFill>
          <a:blip r:embed="rId1"/>
          <a:stretch/>
        </p:blipFill>
        <p:spPr>
          <a:xfrm>
            <a:off x="826920" y="404640"/>
            <a:ext cx="7490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468360" y="981000"/>
            <a:ext cx="7991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«Расскажи -  и я забуду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окажи -  и я запомню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Дай попробовать – и я пойму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итайская мудр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C:\Users\Треугольник\Desktop\Скриншот 23-11-2020 222235.jpg"/>
          <p:cNvPicPr/>
          <p:nvPr/>
        </p:nvPicPr>
        <p:blipFill>
          <a:blip r:embed="rId1"/>
          <a:stretch/>
        </p:blipFill>
        <p:spPr>
          <a:xfrm>
            <a:off x="826920" y="549360"/>
            <a:ext cx="7274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1780200" y="476280"/>
            <a:ext cx="51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тенд «Старинное сел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2" descr="C:\Users\Треугольник\Desktop\Скриншот 24-11-2020 213640.jpg"/>
          <p:cNvPicPr/>
          <p:nvPr/>
        </p:nvPicPr>
        <p:blipFill>
          <a:blip r:embed="rId1"/>
          <a:stretch/>
        </p:blipFill>
        <p:spPr>
          <a:xfrm>
            <a:off x="1403280" y="1467000"/>
            <a:ext cx="604836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1" descr="DSC00630.JPG"/>
          <p:cNvPicPr/>
          <p:nvPr/>
        </p:nvPicPr>
        <p:blipFill>
          <a:blip r:embed="rId1"/>
          <a:stretch/>
        </p:blipFill>
        <p:spPr>
          <a:xfrm>
            <a:off x="539640" y="476280"/>
            <a:ext cx="7075440" cy="47880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2"/>
          <p:cNvSpPr/>
          <p:nvPr/>
        </p:nvSpPr>
        <p:spPr>
          <a:xfrm>
            <a:off x="2854080" y="55166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ом маза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Рисунок 1" descr="DSC00604.JPG"/>
          <p:cNvPicPr/>
          <p:nvPr/>
        </p:nvPicPr>
        <p:blipFill>
          <a:blip r:embed="rId1"/>
          <a:stretch/>
        </p:blipFill>
        <p:spPr>
          <a:xfrm>
            <a:off x="1619280" y="549360"/>
            <a:ext cx="5905440" cy="442728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1212120" y="5300640"/>
            <a:ext cx="67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Дом Лачкова Александра Иванович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C:\Users\Треугольник\Downloads\20201121_144858 (1).jpg"/>
          <p:cNvPicPr/>
          <p:nvPr/>
        </p:nvPicPr>
        <p:blipFill>
          <a:blip r:embed="rId1"/>
          <a:stretch/>
        </p:blipFill>
        <p:spPr>
          <a:xfrm>
            <a:off x="539640" y="549360"/>
            <a:ext cx="7890120" cy="44640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2"/>
          <p:cNvSpPr/>
          <p:nvPr/>
        </p:nvSpPr>
        <p:spPr>
          <a:xfrm>
            <a:off x="2536920" y="5445000"/>
            <a:ext cx="38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Дом бабушки Кла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1"/>
          <p:cNvSpPr/>
          <p:nvPr/>
        </p:nvSpPr>
        <p:spPr>
          <a:xfrm>
            <a:off x="941400" y="549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Экспозиция «Уголок крестьянской изб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Рисунок 1" descr="P1000820.JPG"/>
          <p:cNvPicPr/>
          <p:nvPr/>
        </p:nvPicPr>
        <p:blipFill>
          <a:blip r:embed="rId1"/>
          <a:stretch/>
        </p:blipFill>
        <p:spPr>
          <a:xfrm>
            <a:off x="1042920" y="1052640"/>
            <a:ext cx="7237440" cy="54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Рисунок 1" descr="DSC006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611280" y="692280"/>
            <a:ext cx="3384360" cy="222084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" descr="DSC00636.JPG"/>
          <p:cNvPicPr/>
          <p:nvPr/>
        </p:nvPicPr>
        <p:blipFill>
          <a:blip r:embed="rId2"/>
          <a:stretch/>
        </p:blipFill>
        <p:spPr>
          <a:xfrm>
            <a:off x="4788000" y="549360"/>
            <a:ext cx="3546360" cy="2354040"/>
          </a:xfrm>
          <a:prstGeom prst="rect">
            <a:avLst/>
          </a:prstGeom>
          <a:ln w="0">
            <a:noFill/>
          </a:ln>
        </p:spPr>
      </p:pic>
      <p:sp>
        <p:nvSpPr>
          <p:cNvPr id="418" name="TextBox 4"/>
          <p:cNvSpPr/>
          <p:nvPr/>
        </p:nvSpPr>
        <p:spPr>
          <a:xfrm>
            <a:off x="1631160" y="299736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коноста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638320" y="299736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Льняные утир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C:\Users\Треугольник\Downloads\20201120_124806.jpg"/>
          <p:cNvPicPr/>
          <p:nvPr/>
        </p:nvPicPr>
        <p:blipFill>
          <a:blip r:embed="rId3"/>
          <a:stretch/>
        </p:blipFill>
        <p:spPr>
          <a:xfrm>
            <a:off x="5651640" y="3500280"/>
            <a:ext cx="2008080" cy="2428920"/>
          </a:xfrm>
          <a:prstGeom prst="rect">
            <a:avLst/>
          </a:prstGeom>
          <a:ln w="0">
            <a:noFill/>
          </a:ln>
        </p:spPr>
      </p:pic>
      <p:sp>
        <p:nvSpPr>
          <p:cNvPr id="421" name="TextBox 7"/>
          <p:cNvSpPr/>
          <p:nvPr/>
        </p:nvSpPr>
        <p:spPr>
          <a:xfrm>
            <a:off x="5654160" y="60930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едметы бы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3" descr="C:\Users\Треугольник\Downloads\20201123_142650.jpg"/>
          <p:cNvPicPr/>
          <p:nvPr/>
        </p:nvPicPr>
        <p:blipFill>
          <a:blip r:embed="rId4"/>
          <a:stretch/>
        </p:blipFill>
        <p:spPr>
          <a:xfrm>
            <a:off x="755640" y="342900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9"/>
          <p:cNvSpPr/>
          <p:nvPr/>
        </p:nvSpPr>
        <p:spPr>
          <a:xfrm>
            <a:off x="1868760" y="6093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еч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4T18:25:19Z</dcterms:created>
  <dc:creator>Треугольник</dc:creator>
  <dc:description/>
  <dc:language>en-US</dc:language>
  <cp:lastModifiedBy>Треугольник</cp:lastModifiedBy>
  <dcterms:modified xsi:type="dcterms:W3CDTF">2020-12-01T15:29:31Z</dcterms:modified>
  <cp:revision>6</cp:revision>
  <dc:subject/>
  <dc:title>Урок родного русского языка</dc:title>
</cp:coreProperties>
</file>