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F5C3-E921-4D8F-8E61-CCCA407239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DAD4-8BD9-4A75-8B19-5B8BEC3A88D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2391-70A8-472B-B678-817D5FDA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F0AA-328D-4567-9DBD-1EA77EE8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A196B4-5D28-4885-B8DF-6D629F55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12C84B-C423-44E9-8D65-B62B597F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2A8F5A-203B-41DB-ABC0-610FAC85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85110D-C605-4E0A-A2C8-1A273A6C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FBC7A7-2097-405B-9DE3-529214A1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FADC08-167E-4442-B365-92D95735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40DED8-22A3-407D-BE53-150F0AE2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C51D75-6BBE-4BF9-BF78-BED37B9CF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302FDD-2A90-402E-85EE-8E0000FD0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158D-FD5C-4103-B9E8-0E289028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712C-48A8-4BD5-B46C-FA362146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217B5-2867-436D-8C73-76A75A74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C67FC-BD88-4A20-A484-8FF04377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C87F6-3059-4145-A2F9-45E10393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B5EB4-A403-477C-98DD-1493FCDA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69E6E-9761-44BB-BCE2-05BC93FC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37346-0DC0-4F5C-94DE-68071D96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64C20-CFB3-4B7B-A1B4-85FC9EF0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426F-05AC-43DB-B0F1-7B9504A3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10B91-72DF-492A-989E-3FCBC9BA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A26C8-B2A6-4B00-85B7-02B1CF43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F9525-DCB4-4EB4-B2EE-3EC69EE6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BFBDF-2499-428B-98F5-7779D273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26F7F-E64D-4AF1-9B4A-C79C909C5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2239A-E59E-48E7-B061-4A25DB4B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A3280-2276-446B-ACC0-91625FFC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E4A2C-F2F3-44E5-A1E9-455FDA35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F4AB2-51D5-4D96-8692-620EFB03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C27A8-2D33-4E15-9C9B-EE6EC077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B8B3-F422-44E4-AF37-290A3117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36D26-A16A-4B67-9AD5-3D3613AF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1985F-EE32-4377-A7CE-E1D78EFE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379A7-C93D-4279-A0A7-8BDB0630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4BC05-87BE-4101-AB0F-5FDF8DAF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5B994-A2EA-492E-A269-5A19E2C7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59444-3721-4D13-B506-329AF3681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0474C-BDD8-422B-B44A-F63F8613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8E7E88-8F7F-403A-B517-ECE1D10D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055FC0-12AE-42DC-8A57-2ED8ADA9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B6E53E-F8BC-4F7F-B2EA-00EE9F18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19E8-8E86-448F-BFA2-F7DD1B44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AE660B-8EF1-4BCB-BCB2-CE7A12EA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8DA083-21F8-4BDF-BD03-E7487616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357939-5668-42BB-972E-9FDBE121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E67D38-31C7-475F-BFC5-358AA841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906C60-0C0D-4DDF-AA75-65FF501C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02EA12-152A-4E43-BD68-1FD59B53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310631-8ACA-45D1-B500-01E40E85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E8D074-6AFB-47C4-B686-F7D9AC93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46C499-3FE7-4456-91EC-F6466B7D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049FC-C073-477A-A5FA-380F8C1AE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E3D1-EC7E-45BB-8579-390F8216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FA884-1042-4D95-A396-84133329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2F9DC-A9D5-4861-9733-BBDAA698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6125F-8C46-48DD-9C41-037ED3FE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71AA2-B9B7-4220-A067-F81CD862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C4495-64C6-415B-8C58-58F6F2CB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E479A-78C8-4C74-9628-F58D7AB2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B6889-B22B-4AEA-82D4-A5CF6D75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B9CA5-817A-440A-87E7-8F68AE8A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AD576-B5A4-4DA8-8078-AF6D842C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C6894-37B4-4C2B-B793-8863FDF9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6A5F-1DBA-4D29-927B-F98001DA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8D68A-91CE-46CE-B1DF-210A2CA01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A66FA-BCC8-4F6F-947A-FA0C8F16D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EFD75-B89F-424A-9257-CD8729F0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5AA2B-25B2-4CFE-B97E-00D20A76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09401-93DD-45C2-9DE6-267F0AE2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95395-9AFD-4C62-B25A-497F9E7D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3DE25-A811-4CDC-8C7C-CD44502E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E30C3-5187-4447-83E4-95C95433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D25F0-E233-4FC4-B08F-1183A85B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6CBA6-E23C-4CE5-952B-EDE9049A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B06E-E1CD-4CC6-833E-B3CD8C23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C4891-21E0-400B-A19E-C1A9ED24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7C898-DD08-4D4F-81CC-96330A144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E7BED-EEED-417B-A9D8-0BB043E01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8F00F-728C-45AE-943B-7B3CA74E0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D306E-067F-44F4-9CBE-07B6EA3A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3ECB3-AE0A-4CD1-871C-EB53526D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784CF-73AC-4641-B69F-85749DFD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CBEBD-E282-4C55-9971-F8648598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FBBC5-6458-4A63-8023-465133C1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23D97-836F-4A90-B52E-97E650AD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33B1-F0C0-4B60-AA25-56BC80EC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869BB-53D9-44EA-9C33-A6945A72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96F23-08F5-4965-B4DC-0DB08E61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47E84-4B64-4E62-A7C3-BD11EE40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C1B42-5A86-484C-8416-5DC5D9D5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FC229-F712-41F1-9227-ABE62B6D7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44D1BB-FE29-4A4F-9AB6-A2AA941B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C6F1F3-EC2B-44D0-B074-DCB80FA2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3557AA-48F0-4940-BB5C-005E66E0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F9B7A7-B799-4C74-BA47-1ADD6AC7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691AF4-ACB8-45EC-BCF0-52E2A342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08EC-6E0F-4284-823E-75B3296B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5EDF0A-1B92-4FB7-8DBD-373F2FF1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67F80D-F7B6-487E-91FB-8848808D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51FD83-D40D-4AA3-825A-1D5DE8DB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6738AA-F6EB-4EA4-A59C-1C2DDD5B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DF0057-D175-4B64-B8A7-C09F7B5C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C1CC1F-B47D-493B-B1B9-E5173BE88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8DBD92-BB9E-4BC6-A4A9-05CB6CF0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73A34A-DDD2-4473-AC13-1FE5B7E0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C07E2D-E12F-4E7C-A750-6655C600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93B8F8-3CBF-46D3-9F6C-60FA9BC1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86C5-10C4-442C-99C8-3022A4A5E3F3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485B-09FA-4A65-97FC-F05D2913BFB4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FB05-DF87-445D-922F-8BBE067540AC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98CF-F33E-48EA-AA51-7A6E21BC1981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0FDE-995B-4BF1-AFEF-4135FC183F82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8876-A37E-4FC9-A8A8-A4CA0C730B20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63E8-1E68-4D7D-8B3D-8FFB3A219455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0F50-DB99-47E0-949E-2ADA3A0B8C67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1B13-14C6-47DA-ACF5-B0230F887B7E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42200" cy="22320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899640" y="278136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Тема: Дом в старину: что как называетс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3" name="TextBox 3"/>
          <p:cNvSpPr/>
          <p:nvPr/>
        </p:nvSpPr>
        <p:spPr>
          <a:xfrm>
            <a:off x="4591440" y="4581360"/>
            <a:ext cx="4533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Класс: 1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Автор: Бочарова Неля Александ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учитель начальных класс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Козьмодемьяновского филиа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МБОУ 2-гавриловской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C:\Users\Треугольник\Desktop\Скриншот 24-11-2020 220043.jpg"/>
          <p:cNvPicPr/>
          <p:nvPr/>
        </p:nvPicPr>
        <p:blipFill>
          <a:blip r:embed="rId1"/>
          <a:stretch/>
        </p:blipFill>
        <p:spPr>
          <a:xfrm>
            <a:off x="755640" y="765000"/>
            <a:ext cx="3600360" cy="48517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C:\Users\Треугольник\Desktop\Скриншот 24-11-2020 220109.jpg"/>
          <p:cNvPicPr/>
          <p:nvPr/>
        </p:nvPicPr>
        <p:blipFill>
          <a:blip r:embed="rId2"/>
          <a:stretch/>
        </p:blipFill>
        <p:spPr>
          <a:xfrm>
            <a:off x="5292720" y="476280"/>
            <a:ext cx="3240000" cy="4321080"/>
          </a:xfrm>
          <a:prstGeom prst="rect">
            <a:avLst/>
          </a:prstGeom>
          <a:ln w="0">
            <a:noFill/>
          </a:ln>
        </p:spPr>
      </p:pic>
      <p:sp>
        <p:nvSpPr>
          <p:cNvPr id="426" name="TextBox 3"/>
          <p:cNvSpPr/>
          <p:nvPr/>
        </p:nvSpPr>
        <p:spPr>
          <a:xfrm>
            <a:off x="1949760" y="573264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Зыб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Box 4"/>
          <p:cNvSpPr/>
          <p:nvPr/>
        </p:nvSpPr>
        <p:spPr>
          <a:xfrm>
            <a:off x="5985360" y="494172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Изделия ткач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https://ds04.infourok.ru/uploads/ex/046d/0004abd4-3cd21405/img3.jpg"/>
          <p:cNvPicPr/>
          <p:nvPr/>
        </p:nvPicPr>
        <p:blipFill>
          <a:blip r:embed="rId1"/>
          <a:stretch/>
        </p:blipFill>
        <p:spPr>
          <a:xfrm>
            <a:off x="826920" y="836640"/>
            <a:ext cx="7632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https://i.ytimg.com/vi/uPwKatn83Aw/maxresdefault.jpg"/>
          <p:cNvPicPr/>
          <p:nvPr/>
        </p:nvPicPr>
        <p:blipFill>
          <a:blip r:embed="rId1"/>
          <a:stretch/>
        </p:blipFill>
        <p:spPr>
          <a:xfrm>
            <a:off x="539640" y="4581360"/>
            <a:ext cx="3446640" cy="19386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https://i.mycdn.me/i?r=AEE-HZfz734vGAKlsp5gLh-pbp6pbqkUa1w6BEnf6bGli-I_lHhTqSD0Lar8lF1vbRm1KAgqz3SOjjpPUFsk15d6&amp;amp;fn=external_8"/>
          <p:cNvPicPr/>
          <p:nvPr/>
        </p:nvPicPr>
        <p:blipFill>
          <a:blip r:embed="rId2"/>
          <a:stretch/>
        </p:blipFill>
        <p:spPr>
          <a:xfrm>
            <a:off x="4427640" y="4292640"/>
            <a:ext cx="3744720" cy="21067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6" descr="https://ds02.infourok.ru/uploads/ex/036f/000483c6-4700aad5/img4.jpg"/>
          <p:cNvPicPr/>
          <p:nvPr/>
        </p:nvPicPr>
        <p:blipFill>
          <a:blip r:embed="rId3"/>
          <a:stretch/>
        </p:blipFill>
        <p:spPr>
          <a:xfrm>
            <a:off x="1476360" y="620640"/>
            <a:ext cx="603108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https://ds02.infourok.ru/uploads/ex/0d10/000404af-b21eaa96/img1.jpg"/>
          <p:cNvPicPr/>
          <p:nvPr/>
        </p:nvPicPr>
        <p:blipFill>
          <a:blip r:embed="rId1"/>
          <a:stretch/>
        </p:blipFill>
        <p:spPr>
          <a:xfrm>
            <a:off x="826920" y="404640"/>
            <a:ext cx="7490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1"/>
          <p:cNvSpPr/>
          <p:nvPr/>
        </p:nvSpPr>
        <p:spPr>
          <a:xfrm>
            <a:off x="468360" y="981000"/>
            <a:ext cx="7991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«Расскажи -  и я забуду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Покажи -  и я запомню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Дай попробовать – и я пойму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           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китайская мудр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C:\Users\Треугольник\Desktop\Скриншот 23-11-2020 222235.jpg"/>
          <p:cNvPicPr/>
          <p:nvPr/>
        </p:nvPicPr>
        <p:blipFill>
          <a:blip r:embed="rId1"/>
          <a:stretch/>
        </p:blipFill>
        <p:spPr>
          <a:xfrm>
            <a:off x="826920" y="549360"/>
            <a:ext cx="7274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1"/>
          <p:cNvSpPr/>
          <p:nvPr/>
        </p:nvSpPr>
        <p:spPr>
          <a:xfrm>
            <a:off x="1780200" y="476280"/>
            <a:ext cx="51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тенд «Старинное сел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Picture 2" descr="C:\Users\Треугольник\Desktop\Скриншот 24-11-2020 213640.jpg"/>
          <p:cNvPicPr/>
          <p:nvPr/>
        </p:nvPicPr>
        <p:blipFill>
          <a:blip r:embed="rId1"/>
          <a:stretch/>
        </p:blipFill>
        <p:spPr>
          <a:xfrm>
            <a:off x="1403280" y="1467000"/>
            <a:ext cx="604836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Рисунок 1" descr="DSC00630.JPG"/>
          <p:cNvPicPr/>
          <p:nvPr/>
        </p:nvPicPr>
        <p:blipFill>
          <a:blip r:embed="rId1"/>
          <a:stretch/>
        </p:blipFill>
        <p:spPr>
          <a:xfrm>
            <a:off x="539640" y="476280"/>
            <a:ext cx="7075440" cy="4788000"/>
          </a:xfrm>
          <a:prstGeom prst="rect">
            <a:avLst/>
          </a:prstGeom>
          <a:ln w="0">
            <a:noFill/>
          </a:ln>
        </p:spPr>
      </p:pic>
      <p:sp>
        <p:nvSpPr>
          <p:cNvPr id="409" name="TextBox 2"/>
          <p:cNvSpPr/>
          <p:nvPr/>
        </p:nvSpPr>
        <p:spPr>
          <a:xfrm>
            <a:off x="2854080" y="5516640"/>
            <a:ext cx="28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Дом маза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Рисунок 1" descr="DSC00604.JPG"/>
          <p:cNvPicPr/>
          <p:nvPr/>
        </p:nvPicPr>
        <p:blipFill>
          <a:blip r:embed="rId1"/>
          <a:stretch/>
        </p:blipFill>
        <p:spPr>
          <a:xfrm>
            <a:off x="1619280" y="549360"/>
            <a:ext cx="5905440" cy="4427280"/>
          </a:xfrm>
          <a:prstGeom prst="rect">
            <a:avLst/>
          </a:prstGeom>
          <a:ln w="0">
            <a:noFill/>
          </a:ln>
        </p:spPr>
      </p:pic>
      <p:sp>
        <p:nvSpPr>
          <p:cNvPr id="411" name="TextBox 2"/>
          <p:cNvSpPr/>
          <p:nvPr/>
        </p:nvSpPr>
        <p:spPr>
          <a:xfrm>
            <a:off x="1212120" y="5300640"/>
            <a:ext cx="67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Дом Лачкова Александра Иванович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C:\Users\Треугольник\Downloads\20201121_144858 (1).jpg"/>
          <p:cNvPicPr/>
          <p:nvPr/>
        </p:nvPicPr>
        <p:blipFill>
          <a:blip r:embed="rId1"/>
          <a:stretch/>
        </p:blipFill>
        <p:spPr>
          <a:xfrm>
            <a:off x="539640" y="549360"/>
            <a:ext cx="7890120" cy="4464000"/>
          </a:xfrm>
          <a:prstGeom prst="rect">
            <a:avLst/>
          </a:prstGeom>
          <a:ln w="0">
            <a:noFill/>
          </a:ln>
        </p:spPr>
      </p:pic>
      <p:sp>
        <p:nvSpPr>
          <p:cNvPr id="413" name="TextBox 2"/>
          <p:cNvSpPr/>
          <p:nvPr/>
        </p:nvSpPr>
        <p:spPr>
          <a:xfrm>
            <a:off x="2536920" y="5445000"/>
            <a:ext cx="38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Дом бабушки Клав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1"/>
          <p:cNvSpPr/>
          <p:nvPr/>
        </p:nvSpPr>
        <p:spPr>
          <a:xfrm>
            <a:off x="941400" y="54936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Экспозиция «Уголок крестьянской изб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Рисунок 1" descr="P1000820.JPG"/>
          <p:cNvPicPr/>
          <p:nvPr/>
        </p:nvPicPr>
        <p:blipFill>
          <a:blip r:embed="rId1"/>
          <a:stretch/>
        </p:blipFill>
        <p:spPr>
          <a:xfrm>
            <a:off x="1042920" y="1052640"/>
            <a:ext cx="7237440" cy="54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Рисунок 1" descr="DSC006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611280" y="692280"/>
            <a:ext cx="3384360" cy="222084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1" descr="DSC00636.JPG"/>
          <p:cNvPicPr/>
          <p:nvPr/>
        </p:nvPicPr>
        <p:blipFill>
          <a:blip r:embed="rId2"/>
          <a:stretch/>
        </p:blipFill>
        <p:spPr>
          <a:xfrm>
            <a:off x="4788000" y="549360"/>
            <a:ext cx="3546360" cy="2354040"/>
          </a:xfrm>
          <a:prstGeom prst="rect">
            <a:avLst/>
          </a:prstGeom>
          <a:ln w="0">
            <a:noFill/>
          </a:ln>
        </p:spPr>
      </p:pic>
      <p:sp>
        <p:nvSpPr>
          <p:cNvPr id="418" name="TextBox 4"/>
          <p:cNvSpPr/>
          <p:nvPr/>
        </p:nvSpPr>
        <p:spPr>
          <a:xfrm>
            <a:off x="1631160" y="2997360"/>
            <a:ext cx="14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Иконоста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5"/>
          <p:cNvSpPr/>
          <p:nvPr/>
        </p:nvSpPr>
        <p:spPr>
          <a:xfrm>
            <a:off x="5638320" y="2997360"/>
            <a:ext cx="21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Льняные утир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2" descr="C:\Users\Треугольник\Downloads\20201120_124806.jpg"/>
          <p:cNvPicPr/>
          <p:nvPr/>
        </p:nvPicPr>
        <p:blipFill>
          <a:blip r:embed="rId3"/>
          <a:stretch/>
        </p:blipFill>
        <p:spPr>
          <a:xfrm>
            <a:off x="5651640" y="3500280"/>
            <a:ext cx="2008080" cy="2428920"/>
          </a:xfrm>
          <a:prstGeom prst="rect">
            <a:avLst/>
          </a:prstGeom>
          <a:ln w="0">
            <a:noFill/>
          </a:ln>
        </p:spPr>
      </p:pic>
      <p:sp>
        <p:nvSpPr>
          <p:cNvPr id="421" name="TextBox 7"/>
          <p:cNvSpPr/>
          <p:nvPr/>
        </p:nvSpPr>
        <p:spPr>
          <a:xfrm>
            <a:off x="5654160" y="60930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редметы бы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3" descr="C:\Users\Треугольник\Downloads\20201123_142650.jpg"/>
          <p:cNvPicPr/>
          <p:nvPr/>
        </p:nvPicPr>
        <p:blipFill>
          <a:blip r:embed="rId4"/>
          <a:stretch/>
        </p:blipFill>
        <p:spPr>
          <a:xfrm>
            <a:off x="755640" y="3429000"/>
            <a:ext cx="3384720" cy="2538360"/>
          </a:xfrm>
          <a:prstGeom prst="rect">
            <a:avLst/>
          </a:prstGeom>
          <a:ln w="0">
            <a:noFill/>
          </a:ln>
        </p:spPr>
      </p:pic>
      <p:sp>
        <p:nvSpPr>
          <p:cNvPr id="423" name="TextBox 9"/>
          <p:cNvSpPr/>
          <p:nvPr/>
        </p:nvSpPr>
        <p:spPr>
          <a:xfrm>
            <a:off x="1868760" y="60930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еч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4T18:25:19Z</dcterms:created>
  <dc:creator>Треугольник</dc:creator>
  <dc:description/>
  <dc:language>en-US</dc:language>
  <cp:lastModifiedBy>Треугольник</cp:lastModifiedBy>
  <dcterms:modified xsi:type="dcterms:W3CDTF">2020-12-01T15:29:31Z</dcterms:modified>
  <cp:revision>6</cp:revision>
  <dc:subject/>
  <dc:title>Урок родного русского языка</dc:title>
</cp:coreProperties>
</file>