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4252-4BE0-4603-A0E1-34A75601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DDE4-3D43-406D-B832-276A81FE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824C8-6317-4F8C-B6C8-197AB6C8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8B56-F366-49E2-8430-9A997787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D749-08D4-41D5-82CA-60A614A6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98F0-501E-4F4A-9D8A-33F8CBAC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665F-045B-4056-9E8A-4E79894F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83CB-3CC8-4904-AED2-EF50768D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54CD-504D-4180-B6C2-857B5D47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BEED-3B1C-4252-9AD7-E2D2B714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5245-19E4-4EA1-BCC4-B908F84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63F3-84E6-4A72-AB1D-A2FBC53C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0056-CBD3-49C8-875F-6019F2F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EA16-D183-4812-8085-032DFCB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1223-AEA1-401E-8BC0-C802A175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3D40-84A0-4EAD-85C8-8349EEB9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8CC4-CFA7-4B42-BBAA-614F2563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EC16-906B-478A-B92D-F269B6F7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9116-E1E7-4BB4-8EC7-104C2666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A7EC-48A8-450F-A410-5312B56B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99B2-81BF-45E9-94C2-559E1AD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8274-6695-4AAC-A4CD-FD840A35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A885-88BF-4E90-9E58-7AE909BC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C103-7312-4D8D-BB21-327F1B3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C18C-84E8-428A-887C-F92DD912F2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878B-3DDE-41D4-B428-0056805C70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99;&#1089;&#1103;&#1095;&#1072;_&#1080;_&#1086;&#1076;&#1085;&#1072;_&#1085;&#1086;&#1095;&#1100;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2;&#1080;&#1079;&#1080;&#1088;&#1100;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99;&#1089;&#1103;&#1095;&#1072;_&#1080;_&#1086;&#1076;&#1085;&#1072;_&#1085;&#1086;&#1095;&#1100;" TargetMode="External"/><Relationship Id="rId2" Type="http://schemas.openxmlformats.org/officeDocument/2006/relationships/hyperlink" Target="https://ru.wikipedia.org/wiki/&#1064;&#1072;&#1093;&#1077;&#1088;&#1077;&#1079;&#1072;&#1076;&#1072;_(&#1087;&#1077;&#1088;&#1089;&#1086;&#1085;&#1072;&#1078;)" TargetMode="External"/><Relationship Id="rId3" Type="http://schemas.openxmlformats.org/officeDocument/2006/relationships/hyperlink" Target="https://ru.wikipedia.org/wiki/&#1060;&#1086;&#1082;&#1080;&#1085;,_&#1052;&#1080;&#1093;&#1072;&#1080;&#1083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yzemec.ru/publ/14-1-0-100" TargetMode="External"/><Relationship Id="rId2" Type="http://schemas.openxmlformats.org/officeDocument/2006/relationships/hyperlink" Target="http://www.tyzemec.ru/publ/14-1-0-101" TargetMode="External"/><Relationship Id="rId3" Type="http://schemas.openxmlformats.org/officeDocument/2006/relationships/hyperlink" Target="http://www.tyzemec.ru/publ/10-1-0-66" TargetMode="External"/><Relationship Id="rId4" Type="http://schemas.openxmlformats.org/officeDocument/2006/relationships/hyperlink" Target="http://www.tyzemec.ru/publ/10-1-0-184" TargetMode="External"/><Relationship Id="rId5" Type="http://schemas.openxmlformats.org/officeDocument/2006/relationships/hyperlink" Target="http://www.tyzemec.ru/publ/9-1-0-52" TargetMode="External"/><Relationship Id="rId6" Type="http://schemas.openxmlformats.org/officeDocument/2006/relationships/hyperlink" Target="http://www.tyzemec.ru/publ/8-1-0-45" TargetMode="External"/><Relationship Id="rId7" Type="http://schemas.openxmlformats.org/officeDocument/2006/relationships/hyperlink" Target="http://www.tyzemec.ru/publ/8-1-0-46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униципальное бюджетное 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Средняя общеобразовательная школа №25» г.Смоленс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ЕКТ ПО МУЗЫКЕ ДЛЯ 4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( ИНТЕГРАЦИЯ С   ПРЕДМЕТОМ  «ОКРУЖАЮЩИЙ  МИР»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НА ТЕМУ 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Образ Шехераз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разных видах искусств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bf25a"/>
                </a:solidFill>
                <a:latin typeface="Tahoma"/>
              </a:rPr>
              <a:t>Выполнили: учащиеся 4 б класс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bf25a"/>
                </a:solidFill>
                <a:latin typeface="Tahoma"/>
              </a:rPr>
              <a:t>Кабашуров Ан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bf25a"/>
                </a:solidFill>
                <a:latin typeface="Tahoma"/>
              </a:rPr>
              <a:t>Сосина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bf25a"/>
                </a:solidFill>
                <a:latin typeface="Tahoma"/>
              </a:rPr>
              <a:t>Токмаков Владими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Учитель: Цибульская Елена Владими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76"/>
          <p:cNvPicPr/>
          <p:nvPr/>
        </p:nvPicPr>
        <p:blipFill>
          <a:blip r:embed="rId1"/>
          <a:stretch/>
        </p:blipFill>
        <p:spPr>
          <a:xfrm>
            <a:off x="380880" y="380880"/>
            <a:ext cx="5079960" cy="328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78"/>
          <p:cNvPicPr/>
          <p:nvPr/>
        </p:nvPicPr>
        <p:blipFill>
          <a:blip r:embed="rId2"/>
          <a:stretch/>
        </p:blipFill>
        <p:spPr>
          <a:xfrm>
            <a:off x="5105520" y="2971800"/>
            <a:ext cx="3809880" cy="3305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77"/>
          <p:cNvPicPr/>
          <p:nvPr/>
        </p:nvPicPr>
        <p:blipFill>
          <a:blip r:embed="rId3"/>
          <a:stretch/>
        </p:blipFill>
        <p:spPr>
          <a:xfrm>
            <a:off x="457200" y="3809880"/>
            <a:ext cx="44956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икипедия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ахереза́д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ехереза́да, Шихираза́да, Шахраза́д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 — легендарная главная героиня «Рассказа о царе Шахрияре и его брате», окаймляющего персидский сказочный цикл «</a:t>
            </a: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Тысяча и одна ноч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 и служащего связующей нитью между другими рассказ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ebf25a"/>
                </a:solidFill>
                <a:uFillTx/>
                <a:latin typeface="Tahoma"/>
              </a:rPr>
              <a:t>История  создания сказ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bf25a"/>
                </a:solidFill>
                <a:uFillTx/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ebf25a"/>
                </a:solidFill>
                <a:uFillTx/>
                <a:latin typeface="Tahoma"/>
              </a:rPr>
              <a:t>«Тысяча и одна ночь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з малого два с половиной столетия прошло с тех пор, как Европа впервые познакомилась с арабскими сказками «Тысячи и одной ночи» в вольном и далеко не полном французском переводе Галлана, но и теперь они пользуются неизменной любовью читателей. Течение времени не отразилось на популярности повестей Шахразад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удно сказать, что больше привлекает в сказках «Тысячи и одной ночи» – занимательность сюжета, причудливое сплетение фантастического и реального, яркие картины городской жизни средневекового арабского Востока, увлекательные описания удивительных стран или живость и глубина переживаний героев сказок, психологическая оправданность ситуаций, ясная, определённая морал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ликолепен язык многих повестей – живой, образный, сочный, чуждый обиняков и недомолвок. Речь героев лучших сказок «Тысячи и одной ночи» ярко индивидуальна, у каждого из них свой стиль и лексика, характерные для той социальной среды, из которой они вышли. «Тысяча и одна ночь» не есть произведение отдельного автора или составителя, – коллективным творцом является весь арабский народ. В том виде, в каком мы её теперь знаем, «Тысяча и одна ночь» – собрание сказок на арабском языке, объединённых обрамляющим рассказом о жестоком царе Шахрияре, который каждый вечер брал себе новую жену и на утро убивал её. История возникновения «Тысячи и одной ночи» до сих пор далеко не выяснена; истоки её теряются в глубине ве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s70070620"/>
          <p:cNvPicPr/>
          <p:nvPr/>
        </p:nvPicPr>
        <p:blipFill>
          <a:blip r:embed="rId1"/>
          <a:stretch/>
        </p:blipFill>
        <p:spPr>
          <a:xfrm>
            <a:off x="0" y="152280"/>
            <a:ext cx="4572000" cy="3818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mage001"/>
          <p:cNvPicPr/>
          <p:nvPr/>
        </p:nvPicPr>
        <p:blipFill>
          <a:blip r:embed="rId2"/>
          <a:stretch/>
        </p:blipFill>
        <p:spPr>
          <a:xfrm>
            <a:off x="4191120" y="2340000"/>
            <a:ext cx="48006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браз  Шахерезад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херезада — старшая дочь царского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изи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девушка редкой красоты и недюжинного ума, вызвавшаяся освободить народ от последствий неудачного брака Шахрияра (пережив измену жены, царь уверился в порочности женщин, но поскольку обойтись без них было сложно, Шахрияр каждую ночь овладевал невинной девушкой, а наутро её убивал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Симфоническая сюита «Шехеразада» (1888).</a:t>
            </a:r>
            <a:br>
              <a:rPr sz="2800"/>
            </a:b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истории русской музыки симфонической сюите «Шехеразада» принадлежит особое место – красочные образы Востока, к которым часто обращались все русские композиторы, получают в «Шехеразаде» , вероятно, наиболее законченное и совершенное воплощ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фоническая сюита «Шехеразада» была сочинена в 1888 году по мотивам арабских сказок «Тысяча и одна ночь». Восточная тема, столь любимая русскими композиторами начиная с Глинки, получила в этом произведении совершенное воплощение. В сюите четыре части, которые объединяются общим художественным замыслом, сказочным характером и музыкальными образами. Римский-Корсаков предпослал произведению краткую программу: «Султан Шахриар, убежденный в коварности и неверности женщин, дал зарок казнить каждую из своих жен после первой ночи; но султанша Шехеразада спасла свою жизнь тем, что сумела занять его сказками, рассказывая их ему в продолжение 1001 ночи, так что, побуждаемый любопытство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91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хриар постоянно откладывал ее казнь и наконец совершенно оставил свое намерение. Много чудес рассказала ему Шехеразада, приводя стихи поэтов и слова песен, вплетая сказку в сказку и рассказ в рассказ». Первоначально каждая часть сюиты имела свое название, но затем композитор отказался от них: он не хотел, чтобы его сочинение воспринималось лишь как музыкальная иллюстрация каждого из сюжетов, желая слушателю самому ощутить красочность восточного повествования с калейдоскопом сказочных образов и чудес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Музыкальная характеристика Шехерез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ая тема в сюите,  тема Шехеразады, поручена солирующей скрипке, которую поддерживают аккорды арфы. Ее гибкая и плавная мелодия напоминает изысканный восточный орнамент: Обе темы являются не просто лейтмотивами, объединяющими все произведение: на их основе Римский-Корсаков, используя вариационные приемы музыкального развития, создает различные образы, даря слушателю настоящие волшебные превращ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Тема проекта: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браз Шехереза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разных видах искус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Цель про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оследить как отражен образ Шехеразады в разных видах искус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88540529_4000491_rimskii_tanec_devyshek"/>
          <p:cNvPicPr/>
          <p:nvPr/>
        </p:nvPicPr>
        <p:blipFill>
          <a:blip r:embed="rId1"/>
          <a:stretch/>
        </p:blipFill>
        <p:spPr>
          <a:xfrm>
            <a:off x="533520" y="457200"/>
            <a:ext cx="4647960" cy="3425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imgpreview?key=879cdd8fa058346&amp;mb=imgdb_preview_1800"/>
          <p:cNvPicPr/>
          <p:nvPr/>
        </p:nvPicPr>
        <p:blipFill>
          <a:blip r:embed="rId2"/>
          <a:stretch/>
        </p:blipFill>
        <p:spPr>
          <a:xfrm>
            <a:off x="4038480" y="3613320"/>
            <a:ext cx="48769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едуя глинкинским традициям, композитор предпочитает прозрачность фактуры, «чистые» тембры, часто использует солирующие инструменты. В блестящей партитуре «Шехеразады» гармонично сочетаются изысканность и яркость многочисленных сольных эпизодов, рас-крывающих тембровые и технические возможности инструментов, с мощью и полнотой звучания тутти. Новаторство оркестрового стиля Римского-Корсакова, находки его тембровой звукописи оказали большое влияние на симфоническое творчество Лядова, Глазунова, Стра-винского, Дебюсси, Равеля и многих других композиторов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алет «Шахерезада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ехераза́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Шахереза́да) — балет на сюжет сказки из «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Тысяча и одной ноч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 «О царе Шахрияре и его брате», повествующей о красноречии царевны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Шахереза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освободившей от смерти молодых жён Шахрия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лет поставил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Михаил Фоки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 музыку симфонической сюиты Николая Андреевича Римского-Корсакова«Шехеразад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88540525_4000491_rimskii_balet1"/>
          <p:cNvPicPr/>
          <p:nvPr/>
        </p:nvPicPr>
        <p:blipFill>
          <a:blip r:embed="rId1"/>
          <a:stretch/>
        </p:blipFill>
        <p:spPr>
          <a:xfrm>
            <a:off x="457200" y="533520"/>
            <a:ext cx="3809880" cy="4848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2"/>
          <p:cNvPicPr/>
          <p:nvPr/>
        </p:nvPicPr>
        <p:blipFill>
          <a:blip r:embed="rId2"/>
          <a:stretch/>
        </p:blipFill>
        <p:spPr>
          <a:xfrm>
            <a:off x="4572000" y="45720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imgpreview?key=41abc7a297841393&amp;mb=imgdb_preview_1076"/>
          <p:cNvPicPr/>
          <p:nvPr/>
        </p:nvPicPr>
        <p:blipFill>
          <a:blip r:embed="rId3"/>
          <a:stretch/>
        </p:blipFill>
        <p:spPr>
          <a:xfrm>
            <a:off x="4343400" y="3657600"/>
            <a:ext cx="46483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временные обработ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ехерезада — одно из самых популярных произведений Римского-Корсакова. Она не только исполняется академическими музыкантами, но и пережила много обработок эстрадными артис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работка сюиты входит в альбом Konvergencie 1971 года словацкой группы Collegium Music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имфонический духовой оркестр Мерлина Паттерсона создал необычную обработку «Шехерезады» для духовых инструментов, представленную в 2005 году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0 января в Азербайджанском государственном академическом театре оперы и балета состоится премьера балета "Шехерезада" на музыку выдающегося русского композитора Н.А.Римского- Корсакова.  Симфоническая сюита "Шехерезада" является одной из программных вершин русского программного симфонизма и лучшим симфоническим произведением Н.Римского-Корсакова, написанным  в 1888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е является настолько популярным, что часто исполняется лучшими оркестрами мира. Балет осуществлен на традиционную классическую хореографию Михаила Фокина, поставленную им в 1910 году. Автором либретто, костюмов и декораций стал Леон Бакст. В этой постановке балет показывался на сцене Большого театра, Мариинского Санкт-Петербургског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евского театров оперы и бал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десь же  можно отметить, что "Шехерезада" - одно из самых популярных произведений Римского-Корсакова - исполняется не только академическими музыкантами, но и пережила много обработок эстрадными артис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глийская рок-группа Deep Purple обработала первую часть "Шехерезады" в виде электроорганной композиции "Medley: Prelude to Happiness«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позиция вошла в альбом 1968 года Shades of Deep Purple. Обработка сюиты входит в альбом Konvergencie 1971 года словацкой группы CollegiumMusic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imgpreview?key=26a24ee6064fade0&amp;mb=imgdb_preview_640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3622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imgpreview?key=399ef4d624f5c919&amp;mb=imgdb_preview_1957"/>
          <p:cNvPicPr/>
          <p:nvPr/>
        </p:nvPicPr>
        <p:blipFill>
          <a:blip r:embed="rId2"/>
          <a:stretch/>
        </p:blipFill>
        <p:spPr>
          <a:xfrm>
            <a:off x="4800600" y="457200"/>
            <a:ext cx="3886200" cy="310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imgpreview?key=294d3da49a6238c9&amp;mb=imgdb_preview_210"/>
          <p:cNvPicPr/>
          <p:nvPr/>
        </p:nvPicPr>
        <p:blipFill>
          <a:blip r:embed="rId3"/>
          <a:stretch/>
        </p:blipFill>
        <p:spPr>
          <a:xfrm>
            <a:off x="5181480" y="4114800"/>
            <a:ext cx="3095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Интересные фак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рагмент «Шехерезады» использован в фильме «Кавказская пленниц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7" descr="imgpreview?key=2f2a194561bb407a&amp;mb=imgdb_preview_949"/>
          <p:cNvPicPr/>
          <p:nvPr/>
        </p:nvPicPr>
        <p:blipFill>
          <a:blip r:embed="rId1"/>
          <a:stretch/>
        </p:blipFill>
        <p:spPr>
          <a:xfrm>
            <a:off x="5181480" y="2819520"/>
            <a:ext cx="3200400" cy="3581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imgpreview?key=5d84c2f4462d62a9&amp;mb=imgdb_preview_961"/>
          <p:cNvPicPr/>
          <p:nvPr/>
        </p:nvPicPr>
        <p:blipFill>
          <a:blip r:embed="rId2"/>
          <a:stretch/>
        </p:blipFill>
        <p:spPr>
          <a:xfrm>
            <a:off x="304920" y="3200400"/>
            <a:ext cx="47242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льм-сказка «И Еще одна ночь Шехерезады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... и ещё одна ночь Шахерезады"/>
          <p:cNvPicPr/>
          <p:nvPr/>
        </p:nvPicPr>
        <p:blipFill>
          <a:blip r:embed="rId1"/>
          <a:stretch/>
        </p:blipFill>
        <p:spPr>
          <a:xfrm>
            <a:off x="5562720" y="1219320"/>
            <a:ext cx="2889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580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 родину сказки   (Саудовская Аравия) и её расположение на карте, климатические  особенности государ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 особенности  восточного народного костю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 историю  создания сказки  «Тысяча и одна ночь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особенности музыкальной характеристики Шехереза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в каких современных произведениях   используется  образ Шехереза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нитель: Натали – песня «Шехереза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1397428612_fVI4bYVUDLA"/>
          <p:cNvPicPr/>
          <p:nvPr/>
        </p:nvPicPr>
        <p:blipFill>
          <a:blip r:embed="rId1"/>
          <a:stretch/>
        </p:blipFill>
        <p:spPr>
          <a:xfrm>
            <a:off x="4114800" y="2238480"/>
            <a:ext cx="46195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казка востока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Любовь Уколов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ахерезада, солнечный цветок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оголосый, нежный, многокрылы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бя нам подарил седой Восток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 сквозь века ты нам дарила силы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рила мудрость, сотканную вер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овь несла в сиянии луче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жизни уводила нудной, сер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казания из Тысячи ноче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вой голосок звучит нежней свирел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онкий стан твой гибок как клинок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вой взгляд прекрасный трепетной газел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орожил весь сказочный Восток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гиня! Сквозь века шагаешь пав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ы мудрость даришь, точно бирюз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звёзды достаёшь с улыбкой славн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мех превращая  горькую слезу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5" descr="7764"/>
          <p:cNvPicPr/>
          <p:nvPr/>
        </p:nvPicPr>
        <p:blipFill>
          <a:blip r:embed="rId1"/>
          <a:stretch/>
        </p:blipFill>
        <p:spPr>
          <a:xfrm>
            <a:off x="1066680" y="685800"/>
            <a:ext cx="60292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Шехерезада» в творчестве художников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бота мастера- Лидия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шитая карт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5" descr="file11575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Художник- Мищенко-Сапсай Светлана Брониславовна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тина «Шехереза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5" descr="542167"/>
          <p:cNvPicPr/>
          <p:nvPr/>
        </p:nvPicPr>
        <p:blipFill>
          <a:blip r:embed="rId1"/>
          <a:stretch/>
        </p:blipFill>
        <p:spPr>
          <a:xfrm>
            <a:off x="6477120" y="762120"/>
            <a:ext cx="2352600" cy="2857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939000"/>
          <p:cNvPicPr/>
          <p:nvPr/>
        </p:nvPicPr>
        <p:blipFill>
          <a:blip r:embed="rId2"/>
          <a:stretch/>
        </p:blipFill>
        <p:spPr>
          <a:xfrm>
            <a:off x="380880" y="18288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Захаров Евгений. Сказки Шахерезад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814064"/>
          <p:cNvPicPr/>
          <p:nvPr/>
        </p:nvPicPr>
        <p:blipFill>
          <a:blip r:embed="rId1"/>
          <a:stretch/>
        </p:blipFill>
        <p:spPr>
          <a:xfrm>
            <a:off x="2543040" y="990720"/>
            <a:ext cx="411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Юшкова Наталья. Сны Шахерезад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4" descr="815647"/>
          <p:cNvPicPr/>
          <p:nvPr/>
        </p:nvPicPr>
        <p:blipFill>
          <a:blip r:embed="rId1"/>
          <a:stretch/>
        </p:blipFill>
        <p:spPr>
          <a:xfrm>
            <a:off x="2362320" y="1219320"/>
            <a:ext cx="4630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бобщ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гадочный и таинственный образ Шехерезады  вдохновил  разных деятелей искусства (поэтов, композиторов,  музыкантов, художников) на создание своих  произвед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сточн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xn--80abucjiibhv9a.xn--p1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stihi.ru/2011/06/23/77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afganista.ru/a/sheherazada_syu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www.tyzemec.ru/publ/saudovskaya_araviya/17-1-0-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://easterncost.r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https://ru.wikipedia.org/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 про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сторасположение на карте Саудовской Арав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матические особ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точный народный костюм, особенности костю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 создания сказки  «Тысяча и одна ночь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  Шехерезады.  Музыкальная характеристика Шехерезады   в сю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ет «Шехереза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ботки  разными группами и артист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ые произведения  о Шехерезаде, исполн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хи о Шехереза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тины художни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точный тан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орасположение на кар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tiles"/>
          <p:cNvPicPr/>
          <p:nvPr/>
        </p:nvPicPr>
        <p:blipFill>
          <a:blip r:embed="rId1"/>
          <a:stretch/>
        </p:blipFill>
        <p:spPr>
          <a:xfrm>
            <a:off x="4572000" y="21337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69db88e4f3fff14f6a299e082ba7c497"/>
          <p:cNvPicPr/>
          <p:nvPr/>
        </p:nvPicPr>
        <p:blipFill>
          <a:blip r:embed="rId2"/>
          <a:stretch/>
        </p:blipFill>
        <p:spPr>
          <a:xfrm>
            <a:off x="228600" y="144792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Аравийском полуострове в Юго-Западной Азии расположено государство Саудовская Аравия. Страна граничит с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Оман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ОАЭ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увейт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Катар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Йемен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Иордание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Ирак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Омывается водами Персидского залива и Красного моря. Столица – Эр-Рия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тительность Саудовской Аравии в основном полупустынная и пустынная. На песчаных участках растут верблюжья колючка и саксаул.  Представители фауны здесь намного многочисленней, чем в пустыне. Из животных можно встретить лисицу, гиену, шакала, волка, дамана, антилопу, газель. Флора и фауна страны изобилует ядовитыми растениями и насекомыми, поэтому туристу нужно обязательно выполнять рекомендации проводни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лиматические условия Саудовской Арав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мат в стране сухой и знойный, переходный между субтропическим и тропическим. Во внутренних районах, где климат самый мягкий, средняя температура в июле +30°C, в январе +10°C. На севере страны температура может опускаться даже до -10°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енный язык – арабск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осточные костю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ежда изолирует  от перепадов температуры, она удовлетворяет потребность человека в украшении, и помогает подчеркнуть или замаскировать определенные особенности человеческой фиг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диционные национальные костюмы являются наиболее продуманными для той или иной территории, и в них в лучшей степени переживаются те или иные климатические условия, и в тоже время они показывают творческий потенциал различных народов ми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диционные костюмы все еще распространенный вид одежды, особенно в экстремальных климатических условиях – среди народов Крайнего Севера и народов, населяющих жаркие области нашей планеты, в частности Африки, Ближнего Востока, и Аз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точный костюм в воображении среднестатистического человека представляется как платье для танца живота или мужское длинное белое платье с тюрбаном. На самом деле восточный костюм достаточно разнообразное понятие, и каждая страна имеет свои национальные традиционные костюмы в дополнение к принятым во всем исламском мире предметам одеж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0:17:40Z</dcterms:created>
  <dc:creator>User</dc:creator>
  <dc:description/>
  <dc:language>en-US</dc:language>
  <cp:lastModifiedBy>Герман Цибульский</cp:lastModifiedBy>
  <dcterms:modified xsi:type="dcterms:W3CDTF">2020-12-01T17:44:5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