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35B-91FC-4ADF-A15F-8D11DBA6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56F-B06C-4287-8F71-9F7BC11F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32C-9E70-4D07-8D8A-99F470AB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2D5-85F5-418D-AA80-733B06A5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25FF-F154-4B8E-BD25-AB1C49C7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7400-E08D-4C51-ADDC-5351796F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4283-FB56-4F03-A8E9-7FC27EE8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348F-34DA-44A7-A393-6E88E3EF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3491-8174-43FA-B126-2EB1E1A3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836E-28D8-44BD-A2AB-748ABF2C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E781-66A2-4958-8095-05C7EC70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F4A-3D73-4078-A598-CEF91C9F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EDEA-34F7-4229-A8E6-E8F663AE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C44C-2CC4-4D5C-814E-9ECB7505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9E78-62F9-4A16-9A94-1D569E0A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44D4-895A-40DD-9CC4-842FDB03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241F-55EA-403F-ABCE-4165B034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7F02-AAFD-4D15-BFB3-7D1EA766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BB05-21BB-4C66-A16F-C1D9FBE1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82B5-F468-4696-9432-37831A45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36EA-4358-4F84-80B1-2AC499CE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A1B5E-A0C9-4156-81D9-EC5B3F2F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824-E53B-4CD3-9842-AE6602CF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DCAF3-26F4-44EA-ADC3-92B5B366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FC8E0-BB14-4F73-92A0-DBE5E79C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B2377-0F38-4A1E-93F9-0458B33F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1809D-4381-4BDB-B6AC-0928D3F0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6C61D-AC83-4C13-92EC-822363F6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FD62C-355A-4248-B824-3865D647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67382-2EEB-4AC6-A904-8CC538DF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88BDB-E0B7-4D9A-A8DE-939F5F2F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F552-48E7-45A9-ABDB-E136A988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B34E4-0AAB-4471-8704-13EBEBB3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015-0D63-405F-B0E4-AB034601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1D6AA-0418-40C0-949D-1A3299E9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C59C1-5EF6-45D4-A823-B821F495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8DF17-94B4-497D-BF02-A3EBBB4F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62F9B-0C8D-4E80-AB7E-6B475B61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3A8C-EA9B-439C-9F7F-982BAB13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9A7F2-A570-4245-A8CB-5EC2D6B2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5488E-B20E-49DF-BD78-E94C1FDF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B4179-BD51-4898-BBCA-0652CF11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755DF-131C-4F9D-8ABB-409EFE8F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9CE0C-6BCA-44D5-AA98-B9C804C2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976-1DFA-4C03-A94D-D55D5659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A5D5F-0153-4C9A-A65C-2A1B3242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4989F-FEB7-4F2D-8655-435A3A73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DE848-423C-4898-A99D-6B74DAC5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BDF30-4BF1-4836-AE01-47BD0D1A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DE3E3-0477-4E37-9C7B-8DDA522E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89A5A-AF4D-4084-BE26-299154E8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BB992-94A7-4DE6-A366-1A25762D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1F68C-F186-41FF-BE0C-5BD6375B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01C7D-3233-436E-AFC4-561D0BF9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61435-D1B5-4263-A516-432E1DE5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6E7-1786-47EC-B62B-F56D5AA2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1838-D28A-499E-8164-39C80C03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03B73-29DC-4497-BDF2-742508F9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7CDB5-E87C-4FEC-A6BF-A526F9C4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F3EFD-DAB9-4BCB-9B74-55E910F1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AFD71-BDEB-4A40-A62F-D43C47BE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A5FDF-5E9E-4322-92C7-F944F15B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C4846-46B2-40EC-A020-A6796090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A1987-5A00-4221-9473-F3F20069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BEFBF-B633-4857-8597-7B3EBB02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0D4D5-37FE-4EA2-AB36-1DDDD0D5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08B-A420-4C14-A52B-1DE2C434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1780D-EF72-4757-A117-1F230D2A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2EB0A-4F55-4738-ACF2-262712D8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8F9E2-C29E-40C9-B98D-11019797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A7A-6318-43D3-8D1D-06F52443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45B-7085-4AE5-A49D-64E84C0E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BA99-E395-4C86-9B81-D275E57AE3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87cee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694C-CD29-47DA-8330-E790E4154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Click to edit the outline text format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con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Thir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our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if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ix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ven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au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au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a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8659-58DC-49E3-B578-AF34CF7A75C3}" type="slidenum">
              <a:rPr b="0" lang="ru-RU" sz="1200" spc="-1" strike="noStrike">
                <a:solidFill>
                  <a:srgbClr val="898989"/>
                </a:solidFill>
                <a:latin typeface="Centa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712F-04C6-4273-B439-F556F4D03C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87cee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C610-B509-47B6-B3AF-77A657E3B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Click to edit the outline text format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con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Thir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our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if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ix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ven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1919"/>
                </a:solidFill>
                <a:latin typeface="Centau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1919"/>
                </a:solidFill>
                <a:latin typeface="Centau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1919"/>
                </a:solidFill>
                <a:latin typeface="Centa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2D31-02BA-4F98-93E6-D40F783002F7}" type="slidenum">
              <a:rPr b="0" lang="ru-RU" sz="1200" spc="-1" strike="noStrike">
                <a:solidFill>
                  <a:srgbClr val="4f1919"/>
                </a:solidFill>
                <a:latin typeface="Centa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64396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Проект по развитию речи детей средствами театрализованной деятельности</a:t>
            </a:r>
            <a:br>
              <a:rPr sz="2800"/>
            </a:br>
            <a:r>
              <a:rPr b="1" i="1" lang="ru-RU" sz="38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ЧЕЦВЕТИК»</a:t>
            </a:r>
            <a:br>
              <a:rPr sz="2800"/>
            </a:br>
            <a:r>
              <a:rPr b="1" lang="en-US" sz="28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 младшей </a:t>
            </a:r>
            <a:r>
              <a:rPr b="1" lang="ru-RU" sz="35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группы </a:t>
            </a:r>
            <a:br>
              <a:rPr sz="3500"/>
            </a:br>
            <a:r>
              <a:rPr b="1" lang="ru-RU" sz="35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МКДОУ «Детский сад №42 </a:t>
            </a:r>
            <a:br>
              <a:rPr sz="3500"/>
            </a:br>
            <a:r>
              <a:rPr b="1" lang="ru-RU" sz="35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«Аленький цветочек»</a:t>
            </a:r>
            <a:endParaRPr b="1" lang="en-US" sz="35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499840" y="4357800"/>
            <a:ext cx="636444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чики и исполнители проекта:</a:t>
            </a:r>
            <a:endParaRPr b="1" lang="en-US" sz="2800" spc="-1" strike="noStrike">
              <a:solidFill>
                <a:srgbClr val="4a452a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 группы </a:t>
            </a:r>
            <a:endParaRPr b="1" lang="en-US" sz="2800" spc="-1" strike="noStrike">
              <a:solidFill>
                <a:srgbClr val="4a452a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матуллина А.Н., Малашенко Р.С.</a:t>
            </a:r>
            <a:endParaRPr b="1" lang="en-US" sz="2800" spc="-1" strike="noStrike">
              <a:solidFill>
                <a:srgbClr val="4a452a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Овал 1"/>
          <p:cNvSpPr/>
          <p:nvPr/>
        </p:nvSpPr>
        <p:spPr>
          <a:xfrm>
            <a:off x="214200" y="857160"/>
            <a:ext cx="714600" cy="3071880"/>
          </a:xfrm>
          <a:prstGeom prst="ellipse">
            <a:avLst/>
          </a:prstGeom>
          <a:solidFill>
            <a:srgbClr val="cf6868"/>
          </a:solidFill>
          <a:ln w="1584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2"/>
          <p:cNvSpPr/>
          <p:nvPr/>
        </p:nvSpPr>
        <p:spPr>
          <a:xfrm>
            <a:off x="5572080" y="142920"/>
            <a:ext cx="3286080" cy="857160"/>
          </a:xfrm>
          <a:prstGeom prst="ellipse">
            <a:avLst/>
          </a:prstGeom>
          <a:solidFill>
            <a:srgbClr val="cf6868"/>
          </a:solidFill>
          <a:ln w="1584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МЕЖУТОЧНЫ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ятиугольник 3"/>
          <p:cNvSpPr/>
          <p:nvPr/>
        </p:nvSpPr>
        <p:spPr>
          <a:xfrm>
            <a:off x="1143000" y="214200"/>
            <a:ext cx="4643280" cy="178596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75" y="0"/>
                </a:lnTo>
                <a:lnTo>
                  <a:pt x="21600" y="10800"/>
                </a:lnTo>
                <a:lnTo>
                  <a:pt x="18475" y="21600"/>
                </a:lnTo>
                <a:lnTo>
                  <a:pt x="0" y="21600"/>
                </a:lnTo>
                <a:close/>
              </a:path>
            </a:pathLst>
          </a:cu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твор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детей (интонационное проговаривание, эмоциональный настрой, мимическую выразительность, навыки имитации)  путем участия их  в театрализова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ятиугольник 4"/>
          <p:cNvSpPr/>
          <p:nvPr/>
        </p:nvSpPr>
        <p:spPr>
          <a:xfrm>
            <a:off x="1143000" y="2143080"/>
            <a:ext cx="4643280" cy="214308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2143080"/>
              <a:gd name="textAreaBottom" fmla="*/ 214344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9" y="0"/>
                </a:lnTo>
                <a:lnTo>
                  <a:pt x="21600" y="10800"/>
                </a:lnTo>
                <a:lnTo>
                  <a:pt x="18609" y="21600"/>
                </a:lnTo>
                <a:lnTo>
                  <a:pt x="0" y="21600"/>
                </a:lnTo>
                <a:close/>
              </a:path>
            </a:pathLst>
          </a:cu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социально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е воспитание детей в процессе организации театрализованной деятельности: воспитывать личностные качества, налаживать партнерские взаимоотношения, формировать коммуникативные качества,  прививать любовь к животны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5"/>
          <p:cNvSpPr/>
          <p:nvPr/>
        </p:nvSpPr>
        <p:spPr>
          <a:xfrm>
            <a:off x="5786280" y="1143000"/>
            <a:ext cx="3143520" cy="3714840"/>
          </a:xfrm>
          <a:prstGeom prst="rect">
            <a:avLst/>
          </a:pr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ников (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) уже приняли участие в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6"/>
          <p:cNvSpPr/>
          <p:nvPr/>
        </p:nvSpPr>
        <p:spPr>
          <a:xfrm flipH="1">
            <a:off x="928440" y="1105920"/>
            <a:ext cx="214200" cy="1285560"/>
          </a:xfrm>
          <a:prstGeom prst="line">
            <a:avLst/>
          </a:prstGeom>
          <a:ln w="284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7"/>
          <p:cNvSpPr/>
          <p:nvPr/>
        </p:nvSpPr>
        <p:spPr>
          <a:xfrm>
            <a:off x="7214400" y="1000080"/>
            <a:ext cx="142920" cy="142920"/>
          </a:xfrm>
          <a:prstGeom prst="line">
            <a:avLst/>
          </a:prstGeom>
          <a:ln w="284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8"/>
          <p:cNvSpPr/>
          <p:nvPr/>
        </p:nvSpPr>
        <p:spPr>
          <a:xfrm flipH="1">
            <a:off x="3142800" y="2000160"/>
            <a:ext cx="71640" cy="142920"/>
          </a:xfrm>
          <a:prstGeom prst="line">
            <a:avLst/>
          </a:prstGeom>
          <a:ln w="284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11"/>
          <p:cNvSpPr/>
          <p:nvPr/>
        </p:nvSpPr>
        <p:spPr>
          <a:xfrm>
            <a:off x="214200" y="4572000"/>
            <a:ext cx="714600" cy="2071800"/>
          </a:xfrm>
          <a:prstGeom prst="ellipse">
            <a:avLst/>
          </a:prstGeom>
          <a:solidFill>
            <a:srgbClr val="cf6868"/>
          </a:solidFill>
          <a:ln w="1584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ятиугольник 12"/>
          <p:cNvSpPr/>
          <p:nvPr/>
        </p:nvSpPr>
        <p:spPr>
          <a:xfrm>
            <a:off x="1214280" y="5500800"/>
            <a:ext cx="4500720" cy="1143000"/>
          </a:xfrm>
          <a:custGeom>
            <a:avLst/>
            <a:gdLst>
              <a:gd name="textAreaLeft" fmla="*/ 0 w 4500720"/>
              <a:gd name="textAreaRight" fmla="*/ 4501080 w 45007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57" y="0"/>
                </a:lnTo>
                <a:lnTo>
                  <a:pt x="21600" y="10800"/>
                </a:lnTo>
                <a:lnTo>
                  <a:pt x="18857" y="21600"/>
                </a:lnTo>
                <a:lnTo>
                  <a:pt x="0" y="21600"/>
                </a:lnTo>
                <a:close/>
              </a:path>
            </a:pathLst>
          </a:cu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го развития у 70% детей путём использования театрализован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3"/>
          <p:cNvSpPr/>
          <p:nvPr/>
        </p:nvSpPr>
        <p:spPr>
          <a:xfrm>
            <a:off x="5786280" y="5429160"/>
            <a:ext cx="3143520" cy="1214640"/>
          </a:xfrm>
          <a:prstGeom prst="rect">
            <a:avLst/>
          </a:pr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83% детей повысился уровень рече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20"/>
          <p:cNvSpPr/>
          <p:nvPr/>
        </p:nvSpPr>
        <p:spPr>
          <a:xfrm flipH="1" flipV="1">
            <a:off x="928440" y="2391840"/>
            <a:ext cx="214200" cy="822600"/>
          </a:xfrm>
          <a:prstGeom prst="line">
            <a:avLst/>
          </a:prstGeom>
          <a:ln w="284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23"/>
          <p:cNvSpPr/>
          <p:nvPr/>
        </p:nvSpPr>
        <p:spPr>
          <a:xfrm flipH="1">
            <a:off x="928440" y="5715000"/>
            <a:ext cx="285480" cy="0"/>
          </a:xfrm>
          <a:prstGeom prst="line">
            <a:avLst/>
          </a:prstGeom>
          <a:ln w="284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ая соединительная линия 31"/>
          <p:cNvSpPr/>
          <p:nvPr/>
        </p:nvSpPr>
        <p:spPr>
          <a:xfrm>
            <a:off x="7358040" y="4857840"/>
            <a:ext cx="0" cy="571320"/>
          </a:xfrm>
          <a:prstGeom prst="line">
            <a:avLst/>
          </a:prstGeom>
          <a:ln w="284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ятиугольник 58"/>
          <p:cNvSpPr/>
          <p:nvPr/>
        </p:nvSpPr>
        <p:spPr>
          <a:xfrm>
            <a:off x="1143000" y="4429080"/>
            <a:ext cx="4643280" cy="78588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43" y="0"/>
                </a:lnTo>
                <a:lnTo>
                  <a:pt x="21600" y="10800"/>
                </a:lnTo>
                <a:lnTo>
                  <a:pt x="18743" y="21600"/>
                </a:lnTo>
                <a:lnTo>
                  <a:pt x="0" y="21600"/>
                </a:lnTo>
                <a:close/>
              </a:path>
            </a:pathLst>
          </a:cu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ть родителей к процессу подготовки и проведения театрализова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68"/>
          <p:cNvSpPr/>
          <p:nvPr/>
        </p:nvSpPr>
        <p:spPr>
          <a:xfrm flipH="1" flipV="1">
            <a:off x="928440" y="2393640"/>
            <a:ext cx="214200" cy="2428920"/>
          </a:xfrm>
          <a:prstGeom prst="line">
            <a:avLst/>
          </a:prstGeom>
          <a:ln w="284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76"/>
          <p:cNvSpPr/>
          <p:nvPr/>
        </p:nvSpPr>
        <p:spPr>
          <a:xfrm flipH="1" flipV="1">
            <a:off x="3142800" y="4285800"/>
            <a:ext cx="142920" cy="142920"/>
          </a:xfrm>
          <a:prstGeom prst="line">
            <a:avLst/>
          </a:prstGeom>
          <a:ln w="284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1143000" y="642960"/>
            <a:ext cx="7286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642960" y="285840"/>
            <a:ext cx="8286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 ПРОЕКТ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родители, педаг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й, среднеср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5214960" y="1857240"/>
            <a:ext cx="37148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.11.2018г. по 30.05.2019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ЕАЛИЗА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№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C:\Documents and Settings\Admin\Рабочий стол\P1050568.JPG"/>
          <p:cNvPicPr/>
          <p:nvPr/>
        </p:nvPicPr>
        <p:blipFill>
          <a:blip r:embed="rId1"/>
          <a:stretch/>
        </p:blipFill>
        <p:spPr>
          <a:xfrm>
            <a:off x="96840" y="1938240"/>
            <a:ext cx="5121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4"/>
          <p:cNvSpPr/>
          <p:nvPr/>
        </p:nvSpPr>
        <p:spPr>
          <a:xfrm>
            <a:off x="2714760" y="214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: ЦЕЛЕПОЛАГ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428760" y="571680"/>
            <a:ext cx="8501040" cy="79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2800" indent="-2152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уровня речевого развития возрасту  дет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52800" indent="-2152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речевого развития 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0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детей путём использования театрализованной де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2800" indent="-215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творческие способности детей (интонационное проговаривание, эмоциональный настрой, мимическую выразительность, навыки имитации)  путем участия их  в театрализован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2800" indent="-215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социально-нравственное воспитание детей в процессе организации театрализованной деятельности: воспитывать личностные качества, налаживать партнерские взаимоотношения, формировать коммуникативные качества,  прививать любовь к живо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2800" indent="-215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ть родителей к процессу подготовки и проведения театрализованных предста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Овал 1"/>
          <p:cNvSpPr/>
          <p:nvPr/>
        </p:nvSpPr>
        <p:spPr>
          <a:xfrm>
            <a:off x="2357280" y="357120"/>
            <a:ext cx="4714920" cy="1000080"/>
          </a:xfrm>
          <a:prstGeom prst="ellipse">
            <a:avLst/>
          </a:prstGeom>
          <a:solidFill>
            <a:srgbClr val="e8b7b7"/>
          </a:solidFill>
          <a:ln w="1584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2"/>
          <p:cNvSpPr/>
          <p:nvPr/>
        </p:nvSpPr>
        <p:spPr>
          <a:xfrm>
            <a:off x="714240" y="1928880"/>
            <a:ext cx="2000520" cy="1285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ая работа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Прямая со стрелкой 3"/>
          <p:cNvCxnSpPr>
            <a:stCxn id="256" idx="3"/>
            <a:endCxn id="257" idx="0"/>
          </p:cNvCxnSpPr>
          <p:nvPr/>
        </p:nvCxnSpPr>
        <p:spPr>
          <a:xfrm flipH="1">
            <a:off x="1714320" y="1211040"/>
            <a:ext cx="1334160" cy="717840"/>
          </a:xfrm>
          <a:prstGeom prst="straightConnector1">
            <a:avLst/>
          </a:prstGeom>
          <a:ln w="28440">
            <a:solidFill>
              <a:srgbClr val="e8b7b7"/>
            </a:solidFill>
            <a:miter/>
            <a:tailEnd len="med" type="arrow" w="med"/>
          </a:ln>
        </p:spPr>
      </p:cxnSp>
      <p:sp>
        <p:nvSpPr>
          <p:cNvPr id="259" name="Скругленный прямоугольник 4"/>
          <p:cNvSpPr/>
          <p:nvPr/>
        </p:nvSpPr>
        <p:spPr>
          <a:xfrm>
            <a:off x="3714840" y="1928880"/>
            <a:ext cx="2000160" cy="1285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 с 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5"/>
          <p:cNvSpPr/>
          <p:nvPr/>
        </p:nvSpPr>
        <p:spPr>
          <a:xfrm>
            <a:off x="6715080" y="1928880"/>
            <a:ext cx="2000160" cy="1285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cf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Прямая со стрелкой 6"/>
          <p:cNvCxnSpPr>
            <a:stCxn id="256" idx="5"/>
            <a:endCxn id="260" idx="0"/>
          </p:cNvCxnSpPr>
          <p:nvPr/>
        </p:nvCxnSpPr>
        <p:spPr>
          <a:xfrm>
            <a:off x="6381720" y="1211040"/>
            <a:ext cx="1334160" cy="717840"/>
          </a:xfrm>
          <a:prstGeom prst="straightConnector1">
            <a:avLst/>
          </a:prstGeom>
          <a:ln w="28440">
            <a:solidFill>
              <a:srgbClr val="e8b7b7"/>
            </a:solidFill>
            <a:miter/>
            <a:tailEnd len="med" type="arrow" w="med"/>
          </a:ln>
        </p:spPr>
      </p:cxnSp>
      <p:cxnSp>
        <p:nvCxnSpPr>
          <p:cNvPr id="262" name="Прямая со стрелкой 7"/>
          <p:cNvCxnSpPr>
            <a:stCxn id="256" idx="4"/>
            <a:endCxn id="259" idx="0"/>
          </p:cNvCxnSpPr>
          <p:nvPr/>
        </p:nvCxnSpPr>
        <p:spPr>
          <a:xfrm>
            <a:off x="4713840" y="1357200"/>
            <a:ext cx="1080" cy="572400"/>
          </a:xfrm>
          <a:prstGeom prst="straightConnector1">
            <a:avLst/>
          </a:prstGeom>
          <a:ln w="28440">
            <a:solidFill>
              <a:srgbClr val="e8b7b7"/>
            </a:solidFill>
            <a:miter/>
            <a:tailEnd len="med" type="arrow" w="med"/>
          </a:ln>
        </p:spPr>
      </p:cxnSp>
      <p:sp>
        <p:nvSpPr>
          <p:cNvPr id="263" name="Двойная стрелка влево/вправо 8"/>
          <p:cNvSpPr/>
          <p:nvPr/>
        </p:nvSpPr>
        <p:spPr>
          <a:xfrm>
            <a:off x="2714760" y="2428920"/>
            <a:ext cx="1000080" cy="285840"/>
          </a:xfrm>
          <a:prstGeom prst="leftRightArrow">
            <a:avLst>
              <a:gd name="adj1" fmla="val 50000"/>
              <a:gd name="adj2" fmla="val 73684"/>
            </a:avLst>
          </a:prstGeom>
          <a:solidFill>
            <a:srgbClr val="e8b7b7"/>
          </a:solidFill>
          <a:ln w="1584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Двойная стрелка влево/вправо 9"/>
          <p:cNvSpPr/>
          <p:nvPr/>
        </p:nvSpPr>
        <p:spPr>
          <a:xfrm>
            <a:off x="5715000" y="2428920"/>
            <a:ext cx="1000080" cy="285840"/>
          </a:xfrm>
          <a:prstGeom prst="leftRightArrow">
            <a:avLst>
              <a:gd name="adj1" fmla="val 50000"/>
              <a:gd name="adj2" fmla="val 73684"/>
            </a:avLst>
          </a:prstGeom>
          <a:solidFill>
            <a:srgbClr val="e8b7b7"/>
          </a:solidFill>
          <a:ln w="1584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1" descr="C:\Documents and Settings\Admin\Рабочий стол\P1050573.JPG"/>
          <p:cNvPicPr/>
          <p:nvPr/>
        </p:nvPicPr>
        <p:blipFill>
          <a:blip r:embed="rId1"/>
          <a:stretch/>
        </p:blipFill>
        <p:spPr>
          <a:xfrm>
            <a:off x="2382840" y="3224160"/>
            <a:ext cx="45180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2571840" y="57168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: РАЗРАБОТКА ПРО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571680" y="1643040"/>
            <a:ext cx="8286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методической литературы по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методов и приемов работы для реализации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пошаговой работы с родителями 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2428920" y="214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: РЕАЛИЗАЦИЯ ПРО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14200" y="714240"/>
          <a:ext cx="8715600" cy="5929560"/>
        </p:xfrm>
        <a:graphic>
          <a:graphicData uri="http://schemas.openxmlformats.org/drawingml/2006/table">
            <a:tbl>
              <a:tblPr/>
              <a:tblGrid>
                <a:gridCol w="3692520"/>
                <a:gridCol w="4052880"/>
                <a:gridCol w="970200"/>
              </a:tblGrid>
              <a:tr h="3574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полагаемый результ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о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080">
                <a:tc>
                  <a:txBody>
                    <a:bodyPr lIns="63000" rIns="63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агностика речевого развития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 Анкетирование родителей: «Знаете ли вы, как говорит ваш ребенок?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дыхательной, артикуляционной и пальчиковой гимнаст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жнения на развитие мимики, жестов и движения (в процессе любой деятельност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театрализованных иг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развития речи детей на начало учебного г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явление осведомленности родителей об уровне развития речи своих детей: 37% родителей - осведомлены,  у 50% - ошибочные взгляды на уровень развития детей, 13% родителей – никогда об этом не задумывалис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владение детьми комплексом дыхательной, артикуляционной и пальчиковой гимнаст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ирование умения передавать мимикой, позой, жестом, движением основные эмо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имулировать эмоциональное восприятие детьми театрализованной игры и активное участие в 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жедне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жедне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жедне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214200" y="285840"/>
          <a:ext cx="8715600" cy="6286320"/>
        </p:xfrm>
        <a:graphic>
          <a:graphicData uri="http://schemas.openxmlformats.org/drawingml/2006/table">
            <a:tbl>
              <a:tblPr/>
              <a:tblGrid>
                <a:gridCol w="3714840"/>
                <a:gridCol w="4030560"/>
                <a:gridCol w="970200"/>
              </a:tblGrid>
              <a:tr h="62863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ценировка сказок, потешек, стихотвор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Использование игр – драматизаций, психогимнаст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Провести  родительское собрание по теме «Малые фольклорные формы как средство развития речи» с точки зрения программы «Истоки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воспроизводить текст знакомой сказки, потешки, стихотворения; развивать исполнительские умения через подражание повадкам животных, их движениям и голос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вать желание участвовать в играх-драматизациях; подводить детей к созданию образа героя, используя для этого мимику, жест,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комить родителей с особенностями развития речи ребенка раннего и младшего дошкольного возраста и методами и приемами ее развития; проанализировать речевое развитие детей группы; познакомить с играми, влияющие на речевое развитие, в которые полезно играть с ребенком дома; вовлечь родителей в педагогический процесс и жизнь группы. Явка родителей – 100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женедель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ечение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214200" y="214200"/>
          <a:ext cx="8715600" cy="6012000"/>
        </p:xfrm>
        <a:graphic>
          <a:graphicData uri="http://schemas.openxmlformats.org/drawingml/2006/table">
            <a:tbl>
              <a:tblPr/>
              <a:tblGrid>
                <a:gridCol w="3714840"/>
                <a:gridCol w="4000680"/>
                <a:gridCol w="1000080"/>
              </a:tblGrid>
              <a:tr h="60120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Изготовить для родителей наглядную информацию в форме папки-раздвижки «Давайте поиграем с детьми» (о пальчиковых, артикуляционных гимнастиках, подвижных играх и т.д. Сменный материал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Провести индивидуальные беседы с родителями, дети которых вызывают опасения с точки зрения речевого разви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овая организованная деятельность педагога с детьми по  рисованию, конструированию, ручному тру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Знакомство с произведениями художественной литератур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внимания родителей к формам развития ребен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удить родителей задуматься о причинах речевой задержки детей, наметить совместную работ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ить 100% родителей индивидуальными консультаци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ть мелкую моторику рук в сочетании с речь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ывать интерес к книгам, прививать бережное отношение к ним, желание слушать художественные произведения, а в будущем и читать и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-ма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енность каждый меся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кабрь, март, по мере необходимости в течение год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женедельно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женедельн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214200" y="214200"/>
          <a:ext cx="8715600" cy="4754520"/>
        </p:xfrm>
        <a:graphic>
          <a:graphicData uri="http://schemas.openxmlformats.org/drawingml/2006/table">
            <a:tbl>
              <a:tblPr/>
              <a:tblGrid>
                <a:gridCol w="3714840"/>
                <a:gridCol w="4000680"/>
                <a:gridCol w="1000080"/>
              </a:tblGrid>
              <a:tr h="4754520">
                <a:tc>
                  <a:txBody>
                    <a:bodyPr lIns="42480" rIns="42480" tIns="0" bIns="0" anchor="t">
                      <a:noAutofit/>
                    </a:bodyPr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Организация и обогащение уголка театрализован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Приобретение или изготовление родителями костюмов, декораций, разных видов театра, атрибутов для театрализован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 Театрализованные развле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агностика речевого развития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3880" indent="-353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будить родителей к сотрудничеств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влечь не менее 70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отождествлять себя с театральным персонажем; развивать внимательность; учить сочетать движения и речь; закреплять знания об окружающ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развития речи детей на конец учебного год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ечение год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ва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кабрь, март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3:44:48Z</dcterms:created>
  <dc:creator>Admin</dc:creator>
  <dc:description/>
  <dc:language>en-US</dc:language>
  <cp:lastModifiedBy>Windows User</cp:lastModifiedBy>
  <dcterms:modified xsi:type="dcterms:W3CDTF">2020-12-01T12:41:41Z</dcterms:modified>
  <cp:revision>1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350100000000010290110207f7000400038000</vt:lpwstr>
  </property>
</Properties>
</file>