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717-0B7A-4A02-A340-D93C6F03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636-FBC1-43AE-994C-A964D205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2AB-8967-4EF3-AE19-D575D2AC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0E0-2EA0-4AC5-AC59-081231F0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E8DD-22BA-40FE-93E9-70B032A5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AFFA-F15F-4CD9-95B4-9E930D5A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A8AF-3ED8-4E24-8722-DA7BC07C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96BD-A46C-49A3-9CD7-15959B31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1C60-E338-465D-9602-90B4ECC1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7ED3-43A9-4D5B-80E6-2A905D5D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A302-4EBE-4E73-942A-B90CAAE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25D-09F7-4D81-A589-56B42A9D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27D6-4957-46AA-BC5E-6BA37EE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C113-0964-4C68-A934-CCC8A4CB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FC33-0320-4801-B441-579ADA02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88E9-BBB1-41F4-9626-3A05FA15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37D1-8AA0-496D-B4E5-88E4A6EA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82DF-C80A-4DC1-84DC-9701BD66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8C4A-7707-4B8C-9244-1005D402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B6DF-7264-4F15-AC3F-DECC9DC1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76B7-141B-4A3D-877B-603D11FD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D902-6CF4-453B-900D-A74DF942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D89-C96F-47C7-B37D-D32A1F1E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945F-EE5E-480D-A0EE-DF04FBED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4125-3D82-4D79-8B21-BFDEC387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5F50-0C90-40A9-A6D1-E3A6BB6F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8637-85DE-4691-8C64-64665F2B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644F-EF46-446B-8F15-B8917D65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534BA-9F3F-4AA6-8C60-BF716670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0537-F3D2-48FD-A9F5-688AF501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1CF76-9A51-4C49-ACD1-DB4CE52B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F32D4-A62E-490A-AE96-9CD41B75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084EC-565B-49C1-B1E9-D5D8B375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3CA-6ABE-4564-BB9B-860AE72D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4BB2-C8C1-4A6C-A0C2-53ADFA43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CC26C-7E4E-460A-909F-C1142572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2E9D8-1084-439F-8C58-1B6FD627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63312-7ACF-4D2F-845E-8247C9AA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30680-2D52-4B85-9BF3-A6B394A7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18357-F6CF-4665-AB73-4D2C6E5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DB40A-BB2E-4E37-90E0-C041D610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C8DF-9E5F-4706-A8E5-2DB7A4F0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9C08-CF16-4D64-BA5F-52D4038F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7A0FC-2090-4B9D-8F62-187C4196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885-9164-4438-A3A0-71845782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2F2AE-5012-412E-B7EC-6B02E91B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B31FE-1730-474E-8945-834DE92D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5A53-3F9D-40F5-AB6D-00E1A52C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8B054-242C-45BA-805B-52A60B05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C4E7B-95F1-4947-B2C3-99C764DE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8044-7256-4366-9C93-B17FAA3F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89867-ADF8-40E9-BF20-39328FFA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04470-B0C2-42A3-95AC-044DE730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C9744-B502-46DB-A7FB-BF3A8B14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DF3CF-5405-4941-BD36-318D8A2F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899-3A01-4E4D-9B1E-65F533A4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25060-C3B9-4182-B40E-F6F7B344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CAE4E-6AD1-44F2-AB53-BC2D2236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ACC4A-2647-43C7-ABB1-CE214EC1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BFE62-46B0-4A66-B4FD-2DCF7274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01014-CF41-4404-9778-8EA19916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054CF-DDB1-45A9-8FAB-14AF458B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2640D-F484-426D-9216-4B8CCAFA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5969A-E335-4C80-8B2B-7F9CF5D0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224E2-5E8E-425B-AD43-A906EC8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EF4CF-4CCB-4618-AAA6-A0C6CADF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D7E-8059-40AD-95E7-F501417D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FD421-3B2E-472E-9DD8-2FB62D49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31705-E7A3-41ED-AEB7-75EA7EDD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0B76A-E57C-41DB-A27D-3F46B199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0BC-3149-476D-9A91-5DA0BD3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797-5A3B-481C-9BEA-6618046E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2973-9600-466E-AA91-0591A2DFA7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87cee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6E28-39A6-49E2-AB4F-4FC93E1D7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6675-C500-4B78-973A-44F26BFC6E2F}" type="slidenum">
              <a:rPr b="0" lang="ru-RU" sz="1200" spc="-1" strike="noStrike">
                <a:solidFill>
                  <a:srgbClr val="89898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AD04-BEBB-471C-930A-643C03DDF5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87cee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DB43-1518-4B4F-A213-5E7BF1EAD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191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5EFB-80F2-403E-8F1A-5866849FA49B}" type="slidenum">
              <a:rPr b="0" lang="ru-RU" sz="1200" spc="-1" strike="noStrike">
                <a:solidFill>
                  <a:srgbClr val="4f191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64396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Проект по развитию речи детей средствами театрализованной деятельности</a:t>
            </a:r>
            <a:br>
              <a:rPr sz="2800"/>
            </a:br>
            <a:r>
              <a:rPr b="1" i="1" lang="ru-RU" sz="38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ЧЕЦВЕТИК»</a:t>
            </a:r>
            <a:br>
              <a:rPr sz="2800"/>
            </a:br>
            <a:r>
              <a:rPr b="1" lang="en-US" sz="28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 младшей </a:t>
            </a:r>
            <a:r>
              <a:rPr b="1" lang="ru-RU" sz="35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группы </a:t>
            </a:r>
            <a:br>
              <a:rPr sz="3500"/>
            </a:br>
            <a:r>
              <a:rPr b="1" lang="ru-RU" sz="35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МКДОУ «Детский сад №42 </a:t>
            </a:r>
            <a:br>
              <a:rPr sz="3500"/>
            </a:br>
            <a:r>
              <a:rPr b="1" lang="ru-RU" sz="35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«Аленький цветочек»</a:t>
            </a:r>
            <a:endParaRPr b="1" lang="en-US" sz="35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499840" y="4357800"/>
            <a:ext cx="636444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и и исполнители проекта:</a:t>
            </a:r>
            <a:endParaRPr b="1" lang="en-US" sz="2800" spc="-1" strike="noStrike">
              <a:solidFill>
                <a:srgbClr val="4a452a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группы </a:t>
            </a:r>
            <a:endParaRPr b="1" lang="en-US" sz="2800" spc="-1" strike="noStrike">
              <a:solidFill>
                <a:srgbClr val="4a452a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матуллина А.Н., Малашенко Р.С.</a:t>
            </a:r>
            <a:endParaRPr b="1" lang="en-US" sz="2800" spc="-1" strike="noStrike">
              <a:solidFill>
                <a:srgbClr val="4a452a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Овал 1"/>
          <p:cNvSpPr/>
          <p:nvPr/>
        </p:nvSpPr>
        <p:spPr>
          <a:xfrm>
            <a:off x="214200" y="857160"/>
            <a:ext cx="714600" cy="3071880"/>
          </a:xfrm>
          <a:prstGeom prst="ellipse">
            <a:avLst/>
          </a:prstGeom>
          <a:solidFill>
            <a:srgbClr val="cf6868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2"/>
          <p:cNvSpPr/>
          <p:nvPr/>
        </p:nvSpPr>
        <p:spPr>
          <a:xfrm>
            <a:off x="5572080" y="142920"/>
            <a:ext cx="3286080" cy="857160"/>
          </a:xfrm>
          <a:prstGeom prst="ellipse">
            <a:avLst/>
          </a:prstGeom>
          <a:solidFill>
            <a:srgbClr val="cf6868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МЕЖУТОЧНЫ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ятиугольник 3"/>
          <p:cNvSpPr/>
          <p:nvPr/>
        </p:nvSpPr>
        <p:spPr>
          <a:xfrm>
            <a:off x="1143000" y="214200"/>
            <a:ext cx="4643280" cy="178596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75" y="0"/>
                </a:lnTo>
                <a:lnTo>
                  <a:pt x="21600" y="10800"/>
                </a:lnTo>
                <a:lnTo>
                  <a:pt x="18475" y="21600"/>
                </a:lnTo>
                <a:lnTo>
                  <a:pt x="0" y="21600"/>
                </a:lnTo>
                <a:close/>
              </a:path>
            </a:pathLst>
          </a:cu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твор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детей (интонационное проговаривание, эмоциональный настрой, мимическую выразительность, навыки имитации)  путем участия их  в театрализова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ятиугольник 4"/>
          <p:cNvSpPr/>
          <p:nvPr/>
        </p:nvSpPr>
        <p:spPr>
          <a:xfrm>
            <a:off x="1143000" y="2143080"/>
            <a:ext cx="4643280" cy="214308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2143080"/>
              <a:gd name="textAreaBottom" fmla="*/ 21434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9" y="0"/>
                </a:lnTo>
                <a:lnTo>
                  <a:pt x="21600" y="10800"/>
                </a:lnTo>
                <a:lnTo>
                  <a:pt x="18609" y="21600"/>
                </a:lnTo>
                <a:lnTo>
                  <a:pt x="0" y="21600"/>
                </a:lnTo>
                <a:close/>
              </a:path>
            </a:pathLst>
          </a:cu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социально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 воспитание детей в процессе организации театрализованной деятельности: воспитывать личностные качества, налаживать партнерские взаимоотношения, формировать коммуникативные качества,  прививать любовь к животны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5"/>
          <p:cNvSpPr/>
          <p:nvPr/>
        </p:nvSpPr>
        <p:spPr>
          <a:xfrm>
            <a:off x="5786280" y="1143000"/>
            <a:ext cx="3143520" cy="3714840"/>
          </a:xfrm>
          <a:prstGeom prst="rect">
            <a:avLst/>
          </a:pr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ников (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 уже приняли участие в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6"/>
          <p:cNvSpPr/>
          <p:nvPr/>
        </p:nvSpPr>
        <p:spPr>
          <a:xfrm flipH="1">
            <a:off x="928440" y="1105920"/>
            <a:ext cx="214200" cy="128556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7"/>
          <p:cNvSpPr/>
          <p:nvPr/>
        </p:nvSpPr>
        <p:spPr>
          <a:xfrm>
            <a:off x="7214400" y="1000080"/>
            <a:ext cx="142920" cy="14292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8"/>
          <p:cNvSpPr/>
          <p:nvPr/>
        </p:nvSpPr>
        <p:spPr>
          <a:xfrm flipH="1">
            <a:off x="3142800" y="2000160"/>
            <a:ext cx="71640" cy="14292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1"/>
          <p:cNvSpPr/>
          <p:nvPr/>
        </p:nvSpPr>
        <p:spPr>
          <a:xfrm>
            <a:off x="214200" y="4572000"/>
            <a:ext cx="714600" cy="2071800"/>
          </a:xfrm>
          <a:prstGeom prst="ellipse">
            <a:avLst/>
          </a:prstGeom>
          <a:solidFill>
            <a:srgbClr val="cf6868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ятиугольник 12"/>
          <p:cNvSpPr/>
          <p:nvPr/>
        </p:nvSpPr>
        <p:spPr>
          <a:xfrm>
            <a:off x="1214280" y="5500800"/>
            <a:ext cx="4500720" cy="114300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57" y="0"/>
                </a:lnTo>
                <a:lnTo>
                  <a:pt x="21600" y="10800"/>
                </a:lnTo>
                <a:lnTo>
                  <a:pt x="18857" y="21600"/>
                </a:lnTo>
                <a:lnTo>
                  <a:pt x="0" y="21600"/>
                </a:lnTo>
                <a:close/>
              </a:path>
            </a:pathLst>
          </a:cu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го развития у 70% детей путём использования театрализован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3"/>
          <p:cNvSpPr/>
          <p:nvPr/>
        </p:nvSpPr>
        <p:spPr>
          <a:xfrm>
            <a:off x="5786280" y="5429160"/>
            <a:ext cx="3143520" cy="1214640"/>
          </a:xfrm>
          <a:prstGeom prst="rect">
            <a:avLst/>
          </a:pr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83% детей повысился уровень рече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20"/>
          <p:cNvSpPr/>
          <p:nvPr/>
        </p:nvSpPr>
        <p:spPr>
          <a:xfrm flipH="1" flipV="1">
            <a:off x="928440" y="2391840"/>
            <a:ext cx="214200" cy="82260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23"/>
          <p:cNvSpPr/>
          <p:nvPr/>
        </p:nvSpPr>
        <p:spPr>
          <a:xfrm flipH="1">
            <a:off x="928440" y="5715000"/>
            <a:ext cx="285480" cy="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31"/>
          <p:cNvSpPr/>
          <p:nvPr/>
        </p:nvSpPr>
        <p:spPr>
          <a:xfrm>
            <a:off x="7358040" y="4857840"/>
            <a:ext cx="0" cy="57132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ятиугольник 58"/>
          <p:cNvSpPr/>
          <p:nvPr/>
        </p:nvSpPr>
        <p:spPr>
          <a:xfrm>
            <a:off x="1143000" y="4429080"/>
            <a:ext cx="4643280" cy="78588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43" y="0"/>
                </a:lnTo>
                <a:lnTo>
                  <a:pt x="21600" y="10800"/>
                </a:lnTo>
                <a:lnTo>
                  <a:pt x="18743" y="21600"/>
                </a:lnTo>
                <a:lnTo>
                  <a:pt x="0" y="21600"/>
                </a:lnTo>
                <a:close/>
              </a:path>
            </a:pathLst>
          </a:cu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ть родителей к процессу подготовки и проведения театрализова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68"/>
          <p:cNvSpPr/>
          <p:nvPr/>
        </p:nvSpPr>
        <p:spPr>
          <a:xfrm flipH="1" flipV="1">
            <a:off x="928440" y="2393640"/>
            <a:ext cx="214200" cy="242892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76"/>
          <p:cNvSpPr/>
          <p:nvPr/>
        </p:nvSpPr>
        <p:spPr>
          <a:xfrm flipH="1" flipV="1">
            <a:off x="3142800" y="4285800"/>
            <a:ext cx="142920" cy="14292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1143000" y="642960"/>
            <a:ext cx="7286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642960" y="285840"/>
            <a:ext cx="8286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родители, педаг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, среднеср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214960" y="1857240"/>
            <a:ext cx="37148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.11.2018г. по 30.05.2019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ЕАЛИЗ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C:\Documents and Settings\Admin\Рабочий стол\P1050568.JPG"/>
          <p:cNvPicPr/>
          <p:nvPr/>
        </p:nvPicPr>
        <p:blipFill>
          <a:blip r:embed="rId1"/>
          <a:stretch/>
        </p:blipFill>
        <p:spPr>
          <a:xfrm>
            <a:off x="96840" y="1938240"/>
            <a:ext cx="5121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4"/>
          <p:cNvSpPr/>
          <p:nvPr/>
        </p:nvSpPr>
        <p:spPr>
          <a:xfrm>
            <a:off x="2714760" y="214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: ЦЕЛЕПОЛА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428760" y="571680"/>
            <a:ext cx="8501040" cy="79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2800" indent="-2152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уровня речевого развития возрасту  де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речевого развития 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0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детей путём использования театрализованной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творческие способности детей (интонационное проговаривание, эмоциональный настрой, мимическую выразительность, навыки имитации)  путем участия их  в театрализован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социально-нравственное воспитание детей в процессе организации театрализованной деятельности: воспитывать личностные качества, налаживать партнерские взаимоотношения, формировать коммуникативные качества,  прививать любовь к живо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ть родителей к процессу подготовки и проведения театрализованных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Овал 1"/>
          <p:cNvSpPr/>
          <p:nvPr/>
        </p:nvSpPr>
        <p:spPr>
          <a:xfrm>
            <a:off x="2357280" y="357120"/>
            <a:ext cx="4714920" cy="1000080"/>
          </a:xfrm>
          <a:prstGeom prst="ellipse">
            <a:avLst/>
          </a:prstGeom>
          <a:solidFill>
            <a:srgbClr val="e8b7b7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2"/>
          <p:cNvSpPr/>
          <p:nvPr/>
        </p:nvSpPr>
        <p:spPr>
          <a:xfrm>
            <a:off x="714240" y="1928880"/>
            <a:ext cx="2000520" cy="1285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ая работа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 стрелкой 3"/>
          <p:cNvCxnSpPr>
            <a:stCxn id="256" idx="3"/>
            <a:endCxn id="257" idx="0"/>
          </p:cNvCxnSpPr>
          <p:nvPr/>
        </p:nvCxnSpPr>
        <p:spPr>
          <a:xfrm flipH="1">
            <a:off x="1714320" y="1211040"/>
            <a:ext cx="1334160" cy="717840"/>
          </a:xfrm>
          <a:prstGeom prst="straightConnector1">
            <a:avLst/>
          </a:prstGeom>
          <a:ln w="28440">
            <a:solidFill>
              <a:srgbClr val="e8b7b7"/>
            </a:solidFill>
            <a:miter/>
            <a:tailEnd len="med" type="arrow" w="med"/>
          </a:ln>
        </p:spPr>
      </p:cxnSp>
      <p:sp>
        <p:nvSpPr>
          <p:cNvPr id="259" name="Скругленный прямоугольник 4"/>
          <p:cNvSpPr/>
          <p:nvPr/>
        </p:nvSpPr>
        <p:spPr>
          <a:xfrm>
            <a:off x="3714840" y="1928880"/>
            <a:ext cx="2000160" cy="1285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 с 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5"/>
          <p:cNvSpPr/>
          <p:nvPr/>
        </p:nvSpPr>
        <p:spPr>
          <a:xfrm>
            <a:off x="6715080" y="1928880"/>
            <a:ext cx="2000160" cy="1285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6"/>
          <p:cNvCxnSpPr>
            <a:stCxn id="256" idx="5"/>
            <a:endCxn id="260" idx="0"/>
          </p:cNvCxnSpPr>
          <p:nvPr/>
        </p:nvCxnSpPr>
        <p:spPr>
          <a:xfrm>
            <a:off x="6381720" y="1211040"/>
            <a:ext cx="1334160" cy="717840"/>
          </a:xfrm>
          <a:prstGeom prst="straightConnector1">
            <a:avLst/>
          </a:prstGeom>
          <a:ln w="28440">
            <a:solidFill>
              <a:srgbClr val="e8b7b7"/>
            </a:solidFill>
            <a:miter/>
            <a:tailEnd len="med" type="arrow" w="med"/>
          </a:ln>
        </p:spPr>
      </p:cxnSp>
      <p:cxnSp>
        <p:nvCxnSpPr>
          <p:cNvPr id="262" name="Прямая со стрелкой 7"/>
          <p:cNvCxnSpPr>
            <a:stCxn id="256" idx="4"/>
            <a:endCxn id="259" idx="0"/>
          </p:cNvCxnSpPr>
          <p:nvPr/>
        </p:nvCxnSpPr>
        <p:spPr>
          <a:xfrm>
            <a:off x="4713840" y="1357200"/>
            <a:ext cx="1080" cy="572400"/>
          </a:xfrm>
          <a:prstGeom prst="straightConnector1">
            <a:avLst/>
          </a:prstGeom>
          <a:ln w="28440">
            <a:solidFill>
              <a:srgbClr val="e8b7b7"/>
            </a:solidFill>
            <a:miter/>
            <a:tailEnd len="med" type="arrow" w="med"/>
          </a:ln>
        </p:spPr>
      </p:cxnSp>
      <p:sp>
        <p:nvSpPr>
          <p:cNvPr id="263" name="Двойная стрелка влево/вправо 8"/>
          <p:cNvSpPr/>
          <p:nvPr/>
        </p:nvSpPr>
        <p:spPr>
          <a:xfrm>
            <a:off x="2714760" y="2428920"/>
            <a:ext cx="1000080" cy="285840"/>
          </a:xfrm>
          <a:prstGeom prst="leftRightArrow">
            <a:avLst>
              <a:gd name="adj1" fmla="val 50000"/>
              <a:gd name="adj2" fmla="val 73684"/>
            </a:avLst>
          </a:prstGeom>
          <a:solidFill>
            <a:srgbClr val="e8b7b7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Двойная стрелка влево/вправо 9"/>
          <p:cNvSpPr/>
          <p:nvPr/>
        </p:nvSpPr>
        <p:spPr>
          <a:xfrm>
            <a:off x="5715000" y="2428920"/>
            <a:ext cx="1000080" cy="285840"/>
          </a:xfrm>
          <a:prstGeom prst="leftRightArrow">
            <a:avLst>
              <a:gd name="adj1" fmla="val 50000"/>
              <a:gd name="adj2" fmla="val 73684"/>
            </a:avLst>
          </a:prstGeom>
          <a:solidFill>
            <a:srgbClr val="e8b7b7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1" descr="C:\Documents and Settings\Admin\Рабочий стол\P1050573.JPG"/>
          <p:cNvPicPr/>
          <p:nvPr/>
        </p:nvPicPr>
        <p:blipFill>
          <a:blip r:embed="rId1"/>
          <a:stretch/>
        </p:blipFill>
        <p:spPr>
          <a:xfrm>
            <a:off x="2382840" y="3224160"/>
            <a:ext cx="45180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2571840" y="57168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: РАЗРАБОТКА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571680" y="1643040"/>
            <a:ext cx="8286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методической литературы по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методов и приемов работы для реализации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пошаговой работы с родителями 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2428920" y="214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: РЕАЛИЗАЦИЯ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14200" y="714240"/>
          <a:ext cx="8715600" cy="5929560"/>
        </p:xfrm>
        <a:graphic>
          <a:graphicData uri="http://schemas.openxmlformats.org/drawingml/2006/table">
            <a:tbl>
              <a:tblPr/>
              <a:tblGrid>
                <a:gridCol w="3692520"/>
                <a:gridCol w="4052880"/>
                <a:gridCol w="970200"/>
              </a:tblGrid>
              <a:tr h="357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олагаемый результ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о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080">
                <a:tc>
                  <a:txBody>
                    <a:bodyPr lIns="63000" rIns="63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агностика речевого развития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 Анкетирование родителей: «Знаете ли вы, как говорит ваш ребенок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дыхательной, артикуляционной и пальчиковой гимнаст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жнения на развитие мимики, жестов и движения (в процессе любой деятельност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театрализованных и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развития речи детей на начало учебного г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явление осведомленности родителей об уровне развития речи своих детей: 37% родителей - осведомлены,  у 50% - ошибочные взгляды на уровень развития детей, 13% родителей – никогда об этом не задумывалис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ладение детьми комплексом дыхательной, артикуляционной и пальчиковой гимнаст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умения передавать мимикой, позой, жестом, движением основные эмо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имулировать эмоциональное восприятие детьми театрализованной игры и активное участие в 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214200" y="285840"/>
          <a:ext cx="8715600" cy="6286320"/>
        </p:xfrm>
        <a:graphic>
          <a:graphicData uri="http://schemas.openxmlformats.org/drawingml/2006/table">
            <a:tbl>
              <a:tblPr/>
              <a:tblGrid>
                <a:gridCol w="3714840"/>
                <a:gridCol w="4030560"/>
                <a:gridCol w="970200"/>
              </a:tblGrid>
              <a:tr h="62863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ценировка сказок, потешек, стихотвор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Использование игр – драматизаций, психогимнаст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Провести  родительское собрание по теме «Малые фольклорные формы как средство развития речи» с точки зрения программы «Истоки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воспроизводить текст знакомой сказки, потешки, стихотворения; развивать исполнительские умения через подражание повадкам животных, их движениям и голос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вать желание участвовать в играх-драматизациях; подводить детей к созданию образа героя, используя для этого мимику, жест,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 родителей с особенностями развития речи ребенка раннего и младшего дошкольного возраста и методами и приемами ее развития; проанализировать речевое развитие детей группы; познакомить с играми, влияющие на речевое развитие, в которые полезно играть с ребенком дома; вовлечь родителей в педагогический процесс и жизнь группы. Явка родителей – 100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недель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чение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214200" y="214200"/>
          <a:ext cx="8715600" cy="6012000"/>
        </p:xfrm>
        <a:graphic>
          <a:graphicData uri="http://schemas.openxmlformats.org/drawingml/2006/table">
            <a:tbl>
              <a:tblPr/>
              <a:tblGrid>
                <a:gridCol w="3714840"/>
                <a:gridCol w="4000680"/>
                <a:gridCol w="1000080"/>
              </a:tblGrid>
              <a:tr h="60120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Изготовить для родителей наглядную информацию в форме папки-раздвижки «Давайте поиграем с детьми» (о пальчиковых, артикуляционных гимнастиках, подвижных играх и т.д. Сменный материал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Провести индивидуальные беседы с родителями, дети которых вызывают опасения с точки зрения речевого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 организованная деятельность педагога с детьми по  рисованию, конструированию, ручному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Знакомство с произведениями художественной литерату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внимания родителей к формам развития ребе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удить родителей задуматься о причинах речевой задержки детей, наметить совместную работ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ить 100% родителей индивидуальными консультаци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ть мелкую моторику рук в сочетании с речь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ывать интерес к книгам, прививать бережное отношение к ним, желание слушать художественные произведения, а в будущем и читать 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-м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енность каждый меся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, март, по мере необходимости в течение г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недельно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недель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14200" y="214200"/>
          <a:ext cx="8715600" cy="4754520"/>
        </p:xfrm>
        <a:graphic>
          <a:graphicData uri="http://schemas.openxmlformats.org/drawingml/2006/table">
            <a:tbl>
              <a:tblPr/>
              <a:tblGrid>
                <a:gridCol w="3714840"/>
                <a:gridCol w="4000680"/>
                <a:gridCol w="1000080"/>
              </a:tblGrid>
              <a:tr h="4754520">
                <a:tc>
                  <a:txBody>
                    <a:bodyPr lIns="42480" rIns="42480" tIns="0" bIns="0" anchor="t">
                      <a:noAutofit/>
                    </a:bodyPr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Организация и обогащение уголка театрализован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Приобретение или изготовление родителями костюмов, декораций, разных видов театра, атрибутов для театрализован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Театрализованные развле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агностика речевого развития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удить родителей к сотрудничеств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влечь не менее 70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отождествлять себя с театральным персонажем; развивать внимательность; учить сочетать движения и речь; закреплять знания об окружающ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развития речи детей на конец учебного го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чение г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ва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, март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3:44:48Z</dcterms:created>
  <dc:creator>Admin</dc:creator>
  <dc:description/>
  <dc:language>en-US</dc:language>
  <cp:lastModifiedBy>Windows User</cp:lastModifiedBy>
  <dcterms:modified xsi:type="dcterms:W3CDTF">2020-12-01T12:41:41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350100000000010290110207f7000400038000</vt:lpwstr>
  </property>
</Properties>
</file>