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2429B5-D535-46C0-8517-A96E152BE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60FAF6-77DE-4B6B-898E-BCDBFC739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F467CF-DFD1-4AF5-BE7E-56902260C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057379-79D1-4681-A764-91199D81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F4BC66-8872-43D0-8194-C6E97218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2889BD-908F-4390-9C08-5E4C600C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B55805-F250-43B9-A76C-25D01E8D3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6F7D85-92A4-49FC-908D-05A494E86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24C09D-E7B5-4544-B9AE-3B6F9ACD1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1B78B9-E211-44D1-A786-A7C0816EE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08DC02-C473-473E-8296-FE41924A8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A7B565-CD77-4954-BFFE-C7CF4D85B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AC0910-08E4-4285-9E86-1250665C9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DFA355-4623-48A5-990D-282669D88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A9F9F7-47D6-44E1-A25F-D2E811157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B57AAD-FBF6-4A57-BC26-1FD7FF87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C24658-6223-4F1B-8E0E-CD79A332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10C469-0177-4CFE-ABA0-CD7E6479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57B1CF-428B-4F9F-838E-F21295F91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2B71E9-4AB9-4768-B868-086CEF824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080B9D-1694-4545-A4D2-C9F52A163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FF5C2C-8E50-42F4-B8EA-6F0A3C3E0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8D9A1A-C25A-432F-A739-F4F16F6F0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3BD548-968B-47BC-A2B0-E78A179CE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63E658-81AC-4908-8725-7DA410617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FB26B4-F67D-4715-97B0-EFAEBB81E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0C12B1-0C0C-4C6D-890E-9237AB6C3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78EF8E-B27A-46B8-81CA-C268E8D3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AB4469-AC00-420C-8B40-33DA2802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A70946-E6A4-42DC-A932-14006A8E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035F-36AE-4D26-95B8-44894CB27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802C0E-BF37-461F-8473-E56FC9474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EE1715-0D89-4805-9866-F3715BDB5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36B747-4E01-4D27-8EF5-7A4AE16CC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ACA803-2E03-4E9A-BB28-F7D09E02A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6B6704-B19C-46A9-853A-EF3B69677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B5E590-F226-423E-B9E8-BD2F32C15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655CF3-B483-476D-B02D-B2C219685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122D66-4D4A-4EF5-B26B-144D5FF01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EEA4D8-A9AB-4AFE-AAA9-EF26E10A0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1F3F84-4B33-4DAC-8BD2-06D51E5A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3AA8-94E8-4E52-8137-CC193D17C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21BF0B-0FC8-4DDB-8039-F950ACCF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39CD77-4BD6-4B30-8C8A-27CE8BCB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0FE948-2643-44F4-A3A1-016124CD4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4DE027-919D-43EF-8322-9F05CAB42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E406C3-8125-4EEE-A147-1096979AD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15F8-310B-403A-A4E5-6CDCF95C4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7F04-CD89-48D4-A3F1-9252BF494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35B3-77C8-4EAE-B403-D9F46DF59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9897-2C61-4F51-A4A6-8BD5C7F5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3F04-7815-4B13-8B6F-FD634D16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D2E2-5248-4A5C-B526-B0816D92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E937-8BF2-421D-96BF-4D41A932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EE0C-CA00-4991-A9CE-AAB31CD36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A1DA-D9A7-405E-B1CE-F65BF4CBD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947B-D9C6-4D96-9C1F-9E41ED9BC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965D9-CF4B-493B-AE0B-4EEBC02E4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1950D-B9F5-4B83-AA38-E2BACE484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4FA7A-A0F9-4129-903F-5921A0FEB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55889-1474-4C6B-AE89-3D698066B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669AA-B3F6-4DDA-89E6-E61F51C20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B0ED8-FCF0-4384-A470-CB8FFAFB1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9B485-B5E6-43B8-A1C6-F1EA6532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0A957-C8EA-43DD-9F4D-D4CC2269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630D4-3FF6-4148-B8E6-29D4DAB0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A049A-42F0-4F78-B90D-121179732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7C820-D771-4E86-AC11-328CF74DD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861A5-F1ED-4B07-98DD-2591F2691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2B3C6-2720-406F-AFB6-CD05B971B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27A50-D060-403B-BEAE-B6561DF90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A997E-1A3E-4869-A20E-6B4288D2A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CFC8D-F8A9-4F3A-96C3-FEDC190D2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56E30-4000-4538-81DF-9394B7517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D4E82-347D-4F8A-ACFD-B18602695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39029-514E-486F-B3BD-D5115B69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ED0F7-EDA9-48DE-A6DF-93D42088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DAA8D-EC7A-411A-B95E-9645BDCD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55AB2-C65A-4C3E-80BE-C920A9FE2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DA452-9907-46C9-A8B5-FB326FAEA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08F09-EC76-493E-9BCC-45D10FC84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C23EE-5C5C-4AB7-8A52-AFFE20C41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CC97C-6E91-42E8-A59A-56422567F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5BF62-0C5D-4FB9-842A-5A5CD9077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22237-417B-475C-AA11-B48B6AAE7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E5E04-F5CA-4218-961A-0949D1BB4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669AB-CBE8-4016-94EC-DC54F493E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8435C-B795-42AE-AC48-60E687F5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B286B-1E04-4D51-86D0-5EDA6985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4F0EB-69AA-4E9F-8911-CB6E3D9E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F3D3C-B201-4061-9DBC-C0B075CE7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7545C-2998-4D9B-9697-DB837E7D0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C5B4F-CBBD-48D2-8247-7A3E7540A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19525-6D0A-4BF2-B1E0-7EDF84346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7E996-E0F6-496C-809B-36F94F9B9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E5EA3-97D5-478A-84B2-481BCAD21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23FD6-6073-4A74-A6E3-C9D992C7F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8BEA1-4E76-416E-AB6E-BB3104776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95B5B-96F7-41AC-8274-A738BCF43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E3152-E861-490D-957A-78EB0919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F2FF40-5205-4239-9B6C-CF3CF3D7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BB85D-AD60-4720-A097-6A1C3103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5A748-7433-4C18-B55E-2E955C165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6E282-9CA3-4168-8BB0-9B2FBF2B0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67CC2-A529-4C67-B9D3-85E91532E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DC738-60C4-4813-A9B3-ED78E3A52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2919B-648B-4990-BF49-06FBC6425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EFF89-2A99-4F28-B2C0-432956F86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D5099-C9F3-4026-A1F4-D95065986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1F707-BD43-456C-9CFB-A24060F36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141E6E-9005-42A7-9C6D-417D28EF0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E09E00-703C-42F5-B514-B6FBD3D2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67E85-0BB4-46D8-A594-585B8760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44157-BEE6-41CB-BDE9-013B3986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242CB-EFDF-4ACD-B45F-317029184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C513A-075F-4693-BB02-31CFC60A9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FF24D0-95C9-4191-95FB-A32A22726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B7B47A-C4AA-44B6-9029-62214EE07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78C19F-33EB-41F8-89E5-B136FC619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031C35-A56B-43BC-9310-F10FF2677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8C4DE7-F203-40C9-B1F0-508EE5C67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0A1184-9422-4EA6-9331-408DE42FB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FDF864-D647-413E-A264-193E3B029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C8DC1-1861-4C76-AC71-DA84BBF1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9C8EAE-E182-470D-AC61-C3320A0B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C7890-F9F5-451B-B5E9-88E9A32D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D343C-EBC1-45B9-8A12-5D1DC8EB3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94656-A8FE-440C-90F8-C96B56BC8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43284-7210-4AF4-845D-95A017215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3F15CA-E07E-47B5-8750-494BEABEC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D1BCC5-341C-49B5-9BD8-1EC5FB253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712554-20AD-44E0-BC44-DCEF9961C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E850F-6E09-4083-A02F-DD0BADFA44E5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593AF-BAC8-495E-85C2-FA612D96CB20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D46D9-C6A3-49DD-9D8D-F2E8E8C7BD1D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77306-A067-4883-A225-2CF39E4CBA2F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7E20F-1106-49AA-A3E7-B4EB80D79C50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1604D-62B0-42C5-953C-9F51EC0CD663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F2240-06C8-4E9A-8F25-82E2050235C5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A4910-C140-4370-BFE7-68CFA7754FA6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8F28-4776-4463-ABAB-1AE3CD688EB7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BB14B-219D-48A9-9343-9D3A41E6624F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831F3-3772-4501-897E-C437703B4F7C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Box 6"/>
          <p:cNvSpPr/>
          <p:nvPr/>
        </p:nvSpPr>
        <p:spPr>
          <a:xfrm>
            <a:off x="1643040" y="50004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обще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олыванская средняя общеобразовательная школа № 1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7"/>
          <p:cNvSpPr/>
          <p:nvPr/>
        </p:nvSpPr>
        <p:spPr>
          <a:xfrm>
            <a:off x="1214280" y="2000160"/>
            <a:ext cx="7429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адательные причастия настоящего и прошедшего времен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8"/>
          <p:cNvSpPr/>
          <p:nvPr/>
        </p:nvSpPr>
        <p:spPr>
          <a:xfrm>
            <a:off x="4357800" y="5643720"/>
            <a:ext cx="43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лдугина Наталья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Box 3"/>
          <p:cNvSpPr/>
          <p:nvPr/>
        </p:nvSpPr>
        <p:spPr>
          <a:xfrm>
            <a:off x="1571760" y="500040"/>
            <a:ext cx="671508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тренируем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езать-разрезА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качать-выкач…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щать-обещ…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еять-просе…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трелять-обстрел…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еять-зате…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трелить-подстрел…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хмурить-нахмур…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алить-завал…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утить-закруч…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ластить-подслащ…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деть-обиж…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сить-брош…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Box 3"/>
          <p:cNvSpPr/>
          <p:nvPr/>
        </p:nvSpPr>
        <p:spPr>
          <a:xfrm>
            <a:off x="1785960" y="500040"/>
            <a:ext cx="6357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разование кратких причас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4"/>
          <p:cNvSpPr/>
          <p:nvPr/>
        </p:nvSpPr>
        <p:spPr>
          <a:xfrm>
            <a:off x="1428840" y="1428840"/>
            <a:ext cx="700092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ткие причастия образуются от страдательных причастий прошедшего врем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ис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ь             напис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ный                    напис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ад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ь             посаж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ный                    посаж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Прямая соединительная линия 8"/>
          <p:cNvSpPr/>
          <p:nvPr/>
        </p:nvSpPr>
        <p:spPr>
          <a:xfrm flipH="1" flipV="1">
            <a:off x="4642920" y="2356920"/>
            <a:ext cx="142920" cy="142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Прямая соединительная линия 10"/>
          <p:cNvSpPr/>
          <p:nvPr/>
        </p:nvSpPr>
        <p:spPr>
          <a:xfrm flipV="1">
            <a:off x="4785480" y="2285640"/>
            <a:ext cx="142920" cy="214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Прямая соединительная линия 12"/>
          <p:cNvSpPr/>
          <p:nvPr/>
        </p:nvSpPr>
        <p:spPr>
          <a:xfrm flipH="1" flipV="1">
            <a:off x="4928760" y="2285640"/>
            <a:ext cx="142920" cy="214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Прямая соединительная линия 14"/>
          <p:cNvSpPr/>
          <p:nvPr/>
        </p:nvSpPr>
        <p:spPr>
          <a:xfrm flipV="1">
            <a:off x="7643160" y="2214360"/>
            <a:ext cx="142920" cy="214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Прямая соединительная линия 16"/>
          <p:cNvSpPr/>
          <p:nvPr/>
        </p:nvSpPr>
        <p:spPr>
          <a:xfrm flipH="1" flipV="1">
            <a:off x="7786440" y="2214360"/>
            <a:ext cx="142920" cy="214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Прямая соединительная линия 18"/>
          <p:cNvSpPr/>
          <p:nvPr/>
        </p:nvSpPr>
        <p:spPr>
          <a:xfrm flipV="1">
            <a:off x="7929720" y="2143080"/>
            <a:ext cx="142560" cy="357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Прямая соединительная линия 20"/>
          <p:cNvSpPr/>
          <p:nvPr/>
        </p:nvSpPr>
        <p:spPr>
          <a:xfrm flipH="1" flipV="1">
            <a:off x="8071920" y="2143080"/>
            <a:ext cx="142920" cy="285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Прямая соединительная линия 23"/>
          <p:cNvSpPr/>
          <p:nvPr/>
        </p:nvSpPr>
        <p:spPr>
          <a:xfrm flipV="1">
            <a:off x="4572000" y="2857320"/>
            <a:ext cx="285840" cy="285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Прямая соединительная линия 25"/>
          <p:cNvSpPr/>
          <p:nvPr/>
        </p:nvSpPr>
        <p:spPr>
          <a:xfrm flipH="1" flipV="1">
            <a:off x="4857840" y="2857320"/>
            <a:ext cx="285840" cy="285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Прямая соединительная линия 28"/>
          <p:cNvSpPr/>
          <p:nvPr/>
        </p:nvSpPr>
        <p:spPr>
          <a:xfrm flipV="1">
            <a:off x="7786080" y="2857320"/>
            <a:ext cx="142920" cy="285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Прямая соединительная линия 30"/>
          <p:cNvSpPr/>
          <p:nvPr/>
        </p:nvSpPr>
        <p:spPr>
          <a:xfrm flipH="1" flipV="1">
            <a:off x="7929360" y="2857320"/>
            <a:ext cx="214200" cy="285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Прямая соединительная линия 32"/>
          <p:cNvSpPr/>
          <p:nvPr/>
        </p:nvSpPr>
        <p:spPr>
          <a:xfrm flipV="1">
            <a:off x="4500720" y="2356920"/>
            <a:ext cx="142560" cy="142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33"/>
          <p:cNvSpPr/>
          <p:nvPr/>
        </p:nvSpPr>
        <p:spPr>
          <a:xfrm>
            <a:off x="2286000" y="4214880"/>
            <a:ext cx="54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о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писан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ез ошиб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Прямая соединительная линия 35"/>
          <p:cNvSpPr/>
          <p:nvPr/>
        </p:nvSpPr>
        <p:spPr>
          <a:xfrm>
            <a:off x="3643200" y="4786200"/>
            <a:ext cx="135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Box 3"/>
          <p:cNvSpPr/>
          <p:nvPr/>
        </p:nvSpPr>
        <p:spPr>
          <a:xfrm>
            <a:off x="1285920" y="857160"/>
            <a:ext cx="728676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тренируем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ны комнаты были окл…ны светлыми обо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ибки замеч…ны во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засе…ных полях появились всх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упал как подстрел…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ка была тщательно просе…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Прямоугольник 4"/>
          <p:cNvSpPr/>
          <p:nvPr/>
        </p:nvSpPr>
        <p:spPr>
          <a:xfrm>
            <a:off x="1714680" y="642960"/>
            <a:ext cx="6500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верь себ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ны комнаты были окл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ы светлыми обо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ибки замеч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ы во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засе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ных полях появились всх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упал как подстрел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ка была тщательно просе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TextBox 3"/>
          <p:cNvSpPr/>
          <p:nvPr/>
        </p:nvSpPr>
        <p:spPr>
          <a:xfrm>
            <a:off x="1214280" y="428760"/>
            <a:ext cx="7715520" cy="60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Проверочная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ишите предложения, вставляя пропущенные буквы, укажите действительные причастия настоящего и прошедшего врем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У ребенка была приход…щая нян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У меня есть люб…щая ма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Мне задал вопрос проход…вший мимо паренек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Глаз радует вис…щий яркий плакат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окрасн…вшие от мороза ягоды скоро упадут на земл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Поред…вшая листва и холода предвещают нам скорую зим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Покачн…вшаяся балка рухну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Робе…щая девочка вышла к дос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Плач…щий ребенок вскоре успокоился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Наступа…щая тишина кажется волшебн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Box 3"/>
          <p:cNvSpPr/>
          <p:nvPr/>
        </p:nvSpPr>
        <p:spPr>
          <a:xfrm>
            <a:off x="1357200" y="301680"/>
            <a:ext cx="7429680" cy="65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Провери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У ребенка была 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ходЯща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няня. (д.п. наст. вр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У меня есть 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любЯща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мама. (д.п. наст. вр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Мне задал вопрос 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ходИвш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мимо паренек. (д.п. прош. вр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Глаз радует 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исЯщ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яркий плакат. (д.п. наст. вр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краснЕвш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от мороза ягоды скоро упадут на землю. (д.п. прош. вр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редЕвша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листва и холода предвещают нам скорую зиму. (д.п. прош. вр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качнУвшаяс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балка рухнула. (д.п. прош. вр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обеЮща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девочка вышла к доске. (д.п. наст. вр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лачУщ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ребенок вскоре успокоился. (д.п. наст. вр.)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ступаЮща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ишина кажется волшебной. (д.п. наст. вр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Box 1"/>
          <p:cNvSpPr/>
          <p:nvPr/>
        </p:nvSpPr>
        <p:spPr>
          <a:xfrm>
            <a:off x="1428840" y="785880"/>
            <a:ext cx="700092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помним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дательные причастия обозначают признак действия, которое предмет испытывает на себе (т.е. предмет не может сам совершать действи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енный дом – прошедшее вре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аемая газета – настоящее вре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Box 3"/>
          <p:cNvSpPr/>
          <p:nvPr/>
        </p:nvSpPr>
        <p:spPr>
          <a:xfrm>
            <a:off x="1643040" y="714240"/>
            <a:ext cx="7000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помни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реходные и непереходные глаг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реходны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лаголы это глаголы, которые употребляются с существительным в форме винительного падежа без предлога: читать газету, купить цве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остальные глаголы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переходн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гулять в парке, улететь на ю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е возвратные глаголы непереходн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пать-купаться, строить-строи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Box 3"/>
          <p:cNvSpPr/>
          <p:nvPr/>
        </p:nvSpPr>
        <p:spPr>
          <a:xfrm>
            <a:off x="1357200" y="714240"/>
            <a:ext cx="757260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разование страдательных причастий настоящего врем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 переходного глагола настоящего времени + суффик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спряжение                                                               2 спря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ом-, -ем-                                                                         -им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онять                     склоняют  +  ем                       склоня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ить                        храним   +    им                        хран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5" name="Прямая со стрелкой 5"/>
          <p:cNvCxnSpPr/>
          <p:nvPr/>
        </p:nvCxnSpPr>
        <p:spPr>
          <a:xfrm>
            <a:off x="3000240" y="3499920"/>
            <a:ext cx="8582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6" name="Прямая со стрелкой 7"/>
          <p:cNvCxnSpPr/>
          <p:nvPr/>
        </p:nvCxnSpPr>
        <p:spPr>
          <a:xfrm>
            <a:off x="6071760" y="3499920"/>
            <a:ext cx="8578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77" name="Прямая соединительная линия 9"/>
          <p:cNvSpPr/>
          <p:nvPr/>
        </p:nvSpPr>
        <p:spPr>
          <a:xfrm flipV="1">
            <a:off x="5500080" y="3214440"/>
            <a:ext cx="14292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Прямая соединительная линия 11"/>
          <p:cNvSpPr/>
          <p:nvPr/>
        </p:nvSpPr>
        <p:spPr>
          <a:xfrm>
            <a:off x="5643720" y="3214800"/>
            <a:ext cx="14256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Прямая соединительная линия 14"/>
          <p:cNvSpPr/>
          <p:nvPr/>
        </p:nvSpPr>
        <p:spPr>
          <a:xfrm flipH="1">
            <a:off x="1784520" y="3430440"/>
            <a:ext cx="144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Прямая соединительная линия 16"/>
          <p:cNvSpPr/>
          <p:nvPr/>
        </p:nvSpPr>
        <p:spPr>
          <a:xfrm>
            <a:off x="1785960" y="3643200"/>
            <a:ext cx="928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Прямая соединительная линия 18"/>
          <p:cNvSpPr/>
          <p:nvPr/>
        </p:nvSpPr>
        <p:spPr>
          <a:xfrm flipV="1">
            <a:off x="2714760" y="3502080"/>
            <a:ext cx="0" cy="14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Прямая соединительная линия 23"/>
          <p:cNvSpPr/>
          <p:nvPr/>
        </p:nvSpPr>
        <p:spPr>
          <a:xfrm flipH="1">
            <a:off x="4070520" y="3502080"/>
            <a:ext cx="14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Прямая соединительная линия 25"/>
          <p:cNvSpPr/>
          <p:nvPr/>
        </p:nvSpPr>
        <p:spPr>
          <a:xfrm>
            <a:off x="4071960" y="3643200"/>
            <a:ext cx="785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Прямая соединительная линия 27"/>
          <p:cNvSpPr/>
          <p:nvPr/>
        </p:nvSpPr>
        <p:spPr>
          <a:xfrm flipV="1">
            <a:off x="4714920" y="4571640"/>
            <a:ext cx="14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5" name="Прямая со стрелкой 28"/>
          <p:cNvCxnSpPr/>
          <p:nvPr/>
        </p:nvCxnSpPr>
        <p:spPr>
          <a:xfrm>
            <a:off x="2928600" y="4572000"/>
            <a:ext cx="8578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86" name="Прямая со стрелкой 29"/>
          <p:cNvCxnSpPr/>
          <p:nvPr/>
        </p:nvCxnSpPr>
        <p:spPr>
          <a:xfrm>
            <a:off x="5929200" y="4572000"/>
            <a:ext cx="8582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7" name="Прямая соединительная линия 30"/>
          <p:cNvSpPr/>
          <p:nvPr/>
        </p:nvSpPr>
        <p:spPr>
          <a:xfrm flipH="1">
            <a:off x="1785960" y="4500720"/>
            <a:ext cx="144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Прямая соединительная линия 31"/>
          <p:cNvSpPr/>
          <p:nvPr/>
        </p:nvSpPr>
        <p:spPr>
          <a:xfrm>
            <a:off x="1785960" y="4714920"/>
            <a:ext cx="785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Прямая соединительная линия 33"/>
          <p:cNvSpPr/>
          <p:nvPr/>
        </p:nvSpPr>
        <p:spPr>
          <a:xfrm flipH="1">
            <a:off x="2569680" y="4573440"/>
            <a:ext cx="18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Прямая соединительная линия 43"/>
          <p:cNvSpPr/>
          <p:nvPr/>
        </p:nvSpPr>
        <p:spPr>
          <a:xfrm>
            <a:off x="4071960" y="4714920"/>
            <a:ext cx="642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Прямая соединительная линия 46"/>
          <p:cNvSpPr/>
          <p:nvPr/>
        </p:nvSpPr>
        <p:spPr>
          <a:xfrm flipH="1">
            <a:off x="4070520" y="4643280"/>
            <a:ext cx="144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Прямая соединительная линия 50"/>
          <p:cNvSpPr/>
          <p:nvPr/>
        </p:nvSpPr>
        <p:spPr>
          <a:xfrm flipV="1">
            <a:off x="4857840" y="3499920"/>
            <a:ext cx="14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Прямая соединительная линия 52"/>
          <p:cNvSpPr/>
          <p:nvPr/>
        </p:nvSpPr>
        <p:spPr>
          <a:xfrm flipV="1">
            <a:off x="5428440" y="4286160"/>
            <a:ext cx="14292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Прямая соединительная линия 53"/>
          <p:cNvSpPr/>
          <p:nvPr/>
        </p:nvSpPr>
        <p:spPr>
          <a:xfrm>
            <a:off x="5571360" y="4286160"/>
            <a:ext cx="14292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Box 3"/>
          <p:cNvSpPr/>
          <p:nvPr/>
        </p:nvSpPr>
        <p:spPr>
          <a:xfrm>
            <a:off x="1357200" y="642960"/>
            <a:ext cx="728676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тренируем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ать-читают-читаЕм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жать-изображают-изобража…м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еть-видят-вид…м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нать - гонят – гон…м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ышать-слышат-слыш…м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ить-любят-люб…м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овать-именуют-имену…м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новать-волнуют-волну…м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овать-рекомендуют-рекоменду…м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о «движИмый», так как это причастие образовано от старинного глагола движить (2 сп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Box 3"/>
          <p:cNvSpPr/>
          <p:nvPr/>
        </p:nvSpPr>
        <p:spPr>
          <a:xfrm>
            <a:off x="1857240" y="571680"/>
            <a:ext cx="64296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Образование страдательных причастий прошедшего вре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Box 4"/>
          <p:cNvSpPr/>
          <p:nvPr/>
        </p:nvSpPr>
        <p:spPr>
          <a:xfrm>
            <a:off x="1285920" y="1714680"/>
            <a:ext cx="7643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 инфинитива переходного глагола + -т-,-нн-, -енн- (-ённ-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клеить + -енн-                   прокл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тать + -нн-                     прочит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шить + -т-                          прошит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8" name="Прямая со стрелкой 6"/>
          <p:cNvCxnSpPr/>
          <p:nvPr/>
        </p:nvCxnSpPr>
        <p:spPr>
          <a:xfrm>
            <a:off x="3643200" y="3142800"/>
            <a:ext cx="929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99" name="Прямая со стрелкой 7"/>
          <p:cNvCxnSpPr/>
          <p:nvPr/>
        </p:nvCxnSpPr>
        <p:spPr>
          <a:xfrm>
            <a:off x="3571920" y="3714840"/>
            <a:ext cx="929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00" name="Прямая со стрелкой 8"/>
          <p:cNvCxnSpPr/>
          <p:nvPr/>
        </p:nvCxnSpPr>
        <p:spPr>
          <a:xfrm>
            <a:off x="3285720" y="4357800"/>
            <a:ext cx="10724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01" name="Прямая соединительная линия 11"/>
          <p:cNvSpPr/>
          <p:nvPr/>
        </p:nvSpPr>
        <p:spPr>
          <a:xfrm>
            <a:off x="1357200" y="3286080"/>
            <a:ext cx="107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Прямая соединительная линия 17"/>
          <p:cNvSpPr/>
          <p:nvPr/>
        </p:nvSpPr>
        <p:spPr>
          <a:xfrm flipV="1">
            <a:off x="2426400" y="3142800"/>
            <a:ext cx="1800" cy="142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Прямая соединительная линия 19"/>
          <p:cNvSpPr/>
          <p:nvPr/>
        </p:nvSpPr>
        <p:spPr>
          <a:xfrm flipH="1" flipV="1">
            <a:off x="1285920" y="3146400"/>
            <a:ext cx="7128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Прямая соединительная линия 21"/>
          <p:cNvSpPr/>
          <p:nvPr/>
        </p:nvSpPr>
        <p:spPr>
          <a:xfrm>
            <a:off x="1357200" y="3929040"/>
            <a:ext cx="1000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Прямая соединительная линия 23"/>
          <p:cNvSpPr/>
          <p:nvPr/>
        </p:nvSpPr>
        <p:spPr>
          <a:xfrm flipV="1">
            <a:off x="1355760" y="3715920"/>
            <a:ext cx="144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Прямая соединительная линия 25"/>
          <p:cNvSpPr/>
          <p:nvPr/>
        </p:nvSpPr>
        <p:spPr>
          <a:xfrm flipV="1">
            <a:off x="2355840" y="3787920"/>
            <a:ext cx="1440" cy="142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ая соединительная линия 27"/>
          <p:cNvSpPr/>
          <p:nvPr/>
        </p:nvSpPr>
        <p:spPr>
          <a:xfrm>
            <a:off x="1285920" y="450072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ая соединительная линия 29"/>
          <p:cNvSpPr/>
          <p:nvPr/>
        </p:nvSpPr>
        <p:spPr>
          <a:xfrm flipV="1">
            <a:off x="1355760" y="4358880"/>
            <a:ext cx="14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ая соединительная линия 34"/>
          <p:cNvSpPr/>
          <p:nvPr/>
        </p:nvSpPr>
        <p:spPr>
          <a:xfrm flipV="1">
            <a:off x="2212200" y="4430880"/>
            <a:ext cx="180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Box 3"/>
          <p:cNvSpPr/>
          <p:nvPr/>
        </p:nvSpPr>
        <p:spPr>
          <a:xfrm>
            <a:off x="1357200" y="571680"/>
            <a:ext cx="7358040" cy="53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ПОМНИТЕ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адательных причастиях прошедшего времени перед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–НН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шется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сли глагол заканчивается на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–АТЬ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–ЯТЬ-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1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Указать-указ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1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Затеять – зате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Я</a:t>
            </a:r>
            <a:r>
              <a:rPr b="1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нн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адательных причастиях прошедшего времени перед НН пишется Е, если глагол  оканчивается на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–ИТЬ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–ЕТЬ-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                                   </a:t>
            </a:r>
            <a:r>
              <a:rPr b="1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Видеть-вид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</a:t>
            </a:r>
            <a:r>
              <a:rPr b="1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                                    </a:t>
            </a:r>
            <a:r>
              <a:rPr b="1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Склеить-скле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</a:t>
            </a:r>
            <a:r>
              <a:rPr b="1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нный</a:t>
            </a:r>
            <a:r>
              <a:rPr b="1" lang="ru-RU" sz="18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ая соединительная линия 5"/>
          <p:cNvSpPr/>
          <p:nvPr/>
        </p:nvSpPr>
        <p:spPr>
          <a:xfrm flipV="1">
            <a:off x="5143680" y="2500200"/>
            <a:ext cx="7128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7"/>
          <p:cNvSpPr/>
          <p:nvPr/>
        </p:nvSpPr>
        <p:spPr>
          <a:xfrm>
            <a:off x="5214960" y="2500200"/>
            <a:ext cx="7128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Прямая соединительная линия 9"/>
          <p:cNvSpPr/>
          <p:nvPr/>
        </p:nvSpPr>
        <p:spPr>
          <a:xfrm flipV="1">
            <a:off x="5285520" y="2500200"/>
            <a:ext cx="14292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Прямая соединительная линия 11"/>
          <p:cNvSpPr/>
          <p:nvPr/>
        </p:nvSpPr>
        <p:spPr>
          <a:xfrm>
            <a:off x="5428440" y="2500200"/>
            <a:ext cx="14292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Прямая соединительная линия 13"/>
          <p:cNvSpPr/>
          <p:nvPr/>
        </p:nvSpPr>
        <p:spPr>
          <a:xfrm flipV="1">
            <a:off x="5072040" y="5143680"/>
            <a:ext cx="21420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Прямая соединительная линия 15"/>
          <p:cNvSpPr/>
          <p:nvPr/>
        </p:nvSpPr>
        <p:spPr>
          <a:xfrm>
            <a:off x="5286240" y="5143680"/>
            <a:ext cx="21456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06T18:18:01Z</dcterms:created>
  <dc:creator>Фокина Лидия Петровна</dc:creator>
  <dc:description/>
  <cp:keywords>Шаблон презентации</cp:keywords>
  <dc:language>en-US</dc:language>
  <cp:lastModifiedBy>Наташа</cp:lastModifiedBy>
  <dcterms:modified xsi:type="dcterms:W3CDTF">2020-12-01T11:27:54Z</dcterms:modified>
  <cp:revision>83</cp:revision>
  <dc:subject/>
  <dc:title>Тетрадь на спирали</dc:title>
</cp:coreProperties>
</file>