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5B087-84DC-4964-8657-B057767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18F62-9364-4D72-B53A-1FD8D52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E484-C81C-4D35-9F05-E15529E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16E3-8C0C-40E6-B547-E4FBD1C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86EAF-1B63-438B-A7D7-587F425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7E92-A1A9-4E04-A745-4004564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25152-A384-4A66-83DC-9B3B452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4F214-F5EF-43CE-BF16-93B19FE6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B024-BE6F-42E2-B721-56EF5207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40AF-74B8-4F47-83CA-FC8B3E38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6294B-510C-4E2F-A8FA-E7463E47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5371-F4A1-42E8-9722-2BA4402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DF7EC-6B6A-4D96-962E-4EBB243E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8C2E7-FB84-4E7C-A674-D81077F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F69D4-24BC-4175-A978-5B3995C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6EF50-72CC-4F78-A170-B5A5670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AC164-E369-42FE-92B1-7AEE12D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35F4-ACB6-4B25-BF25-8CFBC3F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A9D3-3D19-4545-B448-4148E3C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C264C-28A5-4300-9DD3-C7782495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C19EB-AA52-4D90-827B-A2BBE8BD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8B909-4613-45C7-BF0D-AD58B885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4B161-E4FD-438A-8BE9-46CE845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C7528-D2A4-4EA8-8B39-2F415881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CC308-90A9-4FB1-A1E4-CC6FA60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09715-3A28-4F38-83F6-22A61EE5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C15F-B040-475A-BDC4-A8F1C7D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D765-A370-410A-B3FC-AC561A09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F7B4E-5B19-4DCB-8151-01B7318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92D3B-5926-401D-8609-DACEA7D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6A6-3702-494F-B642-4BAF06D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B2F30-F2B6-4672-9438-1E5EBC83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82A7C-6F76-4C60-B84B-D1A07E1D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955A2-2269-4B52-A716-8879822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A15B8-E7C2-4B9E-9006-2517990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A1AE-8E53-4A02-A146-0D1CA81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3C82C-6E7B-4935-AEB5-BE56D6D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85386-5390-4F55-95A2-01FDFB7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E7677-9012-455F-A9FB-65A622CF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A14B-E9CC-453B-B0E0-F9A45696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A20A-1B1C-4E53-B72D-51C4390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C29-1738-42D1-9FD6-2C9D5940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4C4A-1464-47F6-BA0F-21A57007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E5269-1A77-4DCA-998B-A5BA0DD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84D8C-7BC6-4D48-A9FA-F9F0810D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B7A1D-81D3-4777-888A-B9C0018D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60DB-34AC-459B-B073-BD8B512E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E4C-CA2D-41BF-B11C-B3CFAC5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8F9-E824-45F4-94F9-F00AE751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65A-9F03-4E1B-908A-F64359C8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30C-F4BB-4293-9C30-61F9D64B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911-01CB-4C2D-A2DD-7DA4D0C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F6A-17A9-47EB-9739-278BCB8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8A6-BDBB-42F4-B4E3-BC1952D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9D7-D08A-42F9-98CE-0C211E35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81C-D584-4691-A1B6-B0061AC1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626-7BA0-46EE-A290-F64337DB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16C3-8D05-436E-B198-0158603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E23B-4A11-4E8C-A667-B92DC789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08D-F312-4D55-B909-55804004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896-4237-444B-9F6D-C0E8D685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78CB-B8F0-4C26-BF54-BDCBB61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D64B-354A-4CFD-896E-62159FE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AD2-A544-4415-AAD8-92CF1D6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9F76-2F50-400A-A58A-759E2C7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2BF2-760E-490B-9A5D-432E091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4A83-30B8-4609-8CA1-3359D49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9E9-DE4E-41F7-96AF-EC14F66F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C77-D014-4C55-8672-BD40E334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FCBF-0827-4CD5-81D1-E6C7D6D2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A404-DFD4-4B60-B235-2C6FD7B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5C84-5F2A-4413-B9A5-A0E19E4E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416F-33F5-48D6-849A-7886733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58C0-B7FE-4A6A-A215-D9DFA59A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4C55-B4E5-478D-99E0-64F7DEB0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F56B-0C3F-4ECA-AA20-87BE68D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40DF-7110-46B5-990B-FABFA39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53C3-2044-497E-843D-A7FB5F6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379A-E6A1-45E3-A81C-93F1257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37F6-CFF6-4B34-9A36-77213986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79E7-22F2-4BC1-AAB5-40DC019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1E2D-2932-46A0-BA75-95013940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23DA-4009-4A3B-911D-A9291E5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0DDB-446C-48C9-91A0-1D4E12D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A1EB-8C74-4D8F-9E18-7231E919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6B56-4790-4BEA-AD11-2E81C9C0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790E-A5C4-4D0A-BD43-5B5A4FB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7395-A5E2-4C6F-9278-C69AA2A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FFAA-8020-4252-84F7-7EF925E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E7D3-CE60-4773-BEFF-FEAE6CE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09CF-5538-4879-B753-85D09B23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7F48-2462-4A30-BFCC-E184DF50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5F51-6582-452D-B17E-1E3D83A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9132-DF3A-4DD8-833B-782BC1B4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2ED5-2E29-4A01-9781-29C33B8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F3C5-A838-4E66-AD83-CC5AEAE0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6580-06D5-4FEE-BFCD-EB2C8F2B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F714-3A95-45EB-A351-0EEFC7D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021EF-D152-4175-9808-9B48FA0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2A34-A2C1-4ECC-96A6-906D9C6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7E34-FD88-41E5-8DE6-50E2F46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4656-8FDC-4787-A3BD-F1D11A9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AA8B-C80E-4444-9D59-EDB41E9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8EE2-6852-419C-B129-9C911EDE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BECA-E299-4526-B894-92474928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27C7-FB55-443D-A928-9F4E3EC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62B0-C762-48EA-8C0A-A8069A0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D743C-E18A-4BEE-A55F-6DF18EA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75CC-FC19-4CB9-8F72-F6B65EBD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1CB0-D5BB-44B2-8768-CCDF8A9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AF13-2B88-4FBA-A1B2-996DF074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C9EE-71AF-4F91-9B28-9106278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1B3E-5AD4-43F5-8D43-50C26285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A032E-BE34-4A99-8B67-C225C17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FD15-A659-46C1-8C2D-FA04581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D792-0765-4D7A-AD0D-321F2B7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2C67-DCAE-4569-811D-0313FCBA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2F21-786F-4E1D-8C6B-7D134323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53C8-F57B-413A-89FB-D96EDA9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DA9C-4AF5-400A-97CD-404FC745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79626-1605-4FA1-85D2-B0265EE6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BC4E-BF93-44C0-AB43-D4C75E6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439A-92F1-4A60-8E33-664F09EB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6949-C76D-4440-B8A3-6C3EFDD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7431-9647-475D-8B15-7799BC7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1769-E6BE-4BF5-AB0D-559C849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B462E-71DB-407E-8E5F-1187B999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BBB3-7C9F-4495-A37F-CFDA8088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4296-5DD7-4221-BBBE-F8547BA3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36BA7-F191-4245-8701-81626E42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896E-84EF-4B40-BABE-184A4AD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505C-4D06-4884-9FCA-61723A7C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157-E153-4119-8461-521C0177667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320-A8D4-4252-B256-F82AF61729F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B4F-DE40-4E4A-A74C-63231AA330F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51A-B052-4A2A-8004-7DC7FB3B16B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85B4-D2B4-4B8B-B9EE-08B1FB9F2E7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C23-B689-4018-BFBA-D740BCECB63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3CEB-3484-4CF7-9317-D35798BA9DE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A43D-7A7A-4F8A-ABA2-25786F58EDA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F51-1EC7-446D-9DE1-711F3C8937B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BE3-6C12-4C2F-B6A1-097F2E44ECE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9BA-1BA6-4BBA-8961-446BF2C84CD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6"/>
          <p:cNvSpPr/>
          <p:nvPr/>
        </p:nvSpPr>
        <p:spPr>
          <a:xfrm>
            <a:off x="1643040" y="5000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1214280" y="200016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дательные причастия настоящего и прошедше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4357800" y="56437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дуг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571760" y="500040"/>
            <a:ext cx="6715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ть-разрез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ачать-выкач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ть-обещ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ять-просе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релять-обстре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ять-зате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лить-подстре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мурить-нахмур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лить-завал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утить-закруч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ластить-подслащ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ть-обиж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-брош…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1785960" y="50004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 кратких причас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428840" y="1428840"/>
            <a:ext cx="70009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ие причастия образуются от страдательных причастий прошедш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            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                    напис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            посаж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                    посаж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8"/>
          <p:cNvSpPr/>
          <p:nvPr/>
        </p:nvSpPr>
        <p:spPr>
          <a:xfrm flipH="1" flipV="1">
            <a:off x="4642920" y="2356920"/>
            <a:ext cx="1429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0"/>
          <p:cNvSpPr/>
          <p:nvPr/>
        </p:nvSpPr>
        <p:spPr>
          <a:xfrm flipV="1">
            <a:off x="4785480" y="22856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12"/>
          <p:cNvSpPr/>
          <p:nvPr/>
        </p:nvSpPr>
        <p:spPr>
          <a:xfrm flipH="1" flipV="1">
            <a:off x="4928760" y="22856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14"/>
          <p:cNvSpPr/>
          <p:nvPr/>
        </p:nvSpPr>
        <p:spPr>
          <a:xfrm flipV="1">
            <a:off x="7643160" y="221436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16"/>
          <p:cNvSpPr/>
          <p:nvPr/>
        </p:nvSpPr>
        <p:spPr>
          <a:xfrm flipH="1" flipV="1">
            <a:off x="7786440" y="221436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8"/>
          <p:cNvSpPr/>
          <p:nvPr/>
        </p:nvSpPr>
        <p:spPr>
          <a:xfrm flipV="1">
            <a:off x="7929720" y="2143080"/>
            <a:ext cx="1425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20"/>
          <p:cNvSpPr/>
          <p:nvPr/>
        </p:nvSpPr>
        <p:spPr>
          <a:xfrm flipH="1" flipV="1">
            <a:off x="8071920" y="2143080"/>
            <a:ext cx="1429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23"/>
          <p:cNvSpPr/>
          <p:nvPr/>
        </p:nvSpPr>
        <p:spPr>
          <a:xfrm flipV="1">
            <a:off x="4572000" y="2857320"/>
            <a:ext cx="285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25"/>
          <p:cNvSpPr/>
          <p:nvPr/>
        </p:nvSpPr>
        <p:spPr>
          <a:xfrm flipH="1" flipV="1">
            <a:off x="4857840" y="2857320"/>
            <a:ext cx="28584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8"/>
          <p:cNvSpPr/>
          <p:nvPr/>
        </p:nvSpPr>
        <p:spPr>
          <a:xfrm flipV="1">
            <a:off x="7786080" y="2857320"/>
            <a:ext cx="14292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30"/>
          <p:cNvSpPr/>
          <p:nvPr/>
        </p:nvSpPr>
        <p:spPr>
          <a:xfrm flipH="1" flipV="1">
            <a:off x="7929360" y="2857320"/>
            <a:ext cx="21420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32"/>
          <p:cNvSpPr/>
          <p:nvPr/>
        </p:nvSpPr>
        <p:spPr>
          <a:xfrm flipV="1">
            <a:off x="4500720" y="2356920"/>
            <a:ext cx="142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3"/>
          <p:cNvSpPr/>
          <p:nvPr/>
        </p:nvSpPr>
        <p:spPr>
          <a:xfrm>
            <a:off x="2286000" y="42148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35"/>
          <p:cNvSpPr/>
          <p:nvPr/>
        </p:nvSpPr>
        <p:spPr>
          <a:xfrm>
            <a:off x="3643200" y="4786200"/>
            <a:ext cx="135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3"/>
          <p:cNvSpPr/>
          <p:nvPr/>
        </p:nvSpPr>
        <p:spPr>
          <a:xfrm>
            <a:off x="1285920" y="857160"/>
            <a:ext cx="7286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комнаты были окл…ны светлыми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замеч…ны во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…ных полях появились в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пал как подстрел…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была тщательно просе…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Прямоугольник 4"/>
          <p:cNvSpPr/>
          <p:nvPr/>
        </p:nvSpPr>
        <p:spPr>
          <a:xfrm>
            <a:off x="1714680" y="642960"/>
            <a:ext cx="650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комнаты были ок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светлыми обо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замеч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во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х полях появились вс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пал как подстре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была тщательно прос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"/>
          <p:cNvSpPr/>
          <p:nvPr/>
        </p:nvSpPr>
        <p:spPr>
          <a:xfrm>
            <a:off x="1214280" y="428760"/>
            <a:ext cx="771552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вероч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шите предложения, вставляя пропущенные буквы, укажите действительные причастия настоящего и прошедш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ребенка была приход…щая ня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ня есть люб…щая м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задал вопрос проход…вший мимо парене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з радует вис…щий яркий плака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красн…вшие от мороза ягоды скоро упадут на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ред…вшая листва и холода предвещают нам скорую зи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качн…вшаяся балка рухн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бе…щая девочка вышла к до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лач…щий ребенок вскоре успокоил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ступа…щая тишина кажется волшеб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3"/>
          <p:cNvSpPr/>
          <p:nvPr/>
        </p:nvSpPr>
        <p:spPr>
          <a:xfrm>
            <a:off x="1357200" y="301680"/>
            <a:ext cx="74296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вер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ребенка была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ходЯ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яня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ня есть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юбЯ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ма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задал вопрос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ходИвш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мо паренек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з радует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Ящ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ркий плакат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раснЕв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мороза ягоды скоро упадут на землю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дЕвш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иства и холода предвещают нам скорую зиму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ачнУвшая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алка рухнула. (д.п. прош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беЮ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евочка вышла к доске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чУщ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бенок вскоре успокоился. (д.п. наст. вр.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упаЮ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шина кажется волшебной. (д.п. наст. в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1428840" y="785880"/>
            <a:ext cx="70009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тельные причастия обозначают признак действия, которое предмет испытывает на себе (т.е. предмет не может сам совершать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ный дом – 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ая газета – 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1643040" y="714240"/>
            <a:ext cx="700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ные и непереходные глаг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голы это глаголы, которые употребляются с существительным в форме винительного падежа без предлога: читать газету, купить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глагол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ереход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улять в парке, улететь на ю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возвратные глаголы непереход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-купаться, строить-стро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1357200" y="714240"/>
            <a:ext cx="75726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 страдательных причастий настоящ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переходного глагола настоящего времени + суффик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яжение                                                               2 с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м-, -ем-                                                                         -и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ять                     склоняют  +  ем                       склон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ь                        храним   +    им                        хран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Прямая со стрелкой 5"/>
          <p:cNvCxnSpPr/>
          <p:nvPr/>
        </p:nvCxnSpPr>
        <p:spPr>
          <a:xfrm>
            <a:off x="3000240" y="3499920"/>
            <a:ext cx="85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6" name="Прямая со стрелкой 7"/>
          <p:cNvCxnSpPr/>
          <p:nvPr/>
        </p:nvCxnSpPr>
        <p:spPr>
          <a:xfrm>
            <a:off x="6071760" y="3499920"/>
            <a:ext cx="85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7" name="Прямая соединительная линия 9"/>
          <p:cNvSpPr/>
          <p:nvPr/>
        </p:nvSpPr>
        <p:spPr>
          <a:xfrm flipV="1">
            <a:off x="5500080" y="321444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"/>
          <p:cNvSpPr/>
          <p:nvPr/>
        </p:nvSpPr>
        <p:spPr>
          <a:xfrm>
            <a:off x="5643720" y="3214800"/>
            <a:ext cx="1425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4"/>
          <p:cNvSpPr/>
          <p:nvPr/>
        </p:nvSpPr>
        <p:spPr>
          <a:xfrm flipH="1">
            <a:off x="1784520" y="343044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6"/>
          <p:cNvSpPr/>
          <p:nvPr/>
        </p:nvSpPr>
        <p:spPr>
          <a:xfrm>
            <a:off x="1785960" y="364320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8"/>
          <p:cNvSpPr/>
          <p:nvPr/>
        </p:nvSpPr>
        <p:spPr>
          <a:xfrm flipV="1">
            <a:off x="2714760" y="3502080"/>
            <a:ext cx="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23"/>
          <p:cNvSpPr/>
          <p:nvPr/>
        </p:nvSpPr>
        <p:spPr>
          <a:xfrm flipH="1">
            <a:off x="4070520" y="35020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25"/>
          <p:cNvSpPr/>
          <p:nvPr/>
        </p:nvSpPr>
        <p:spPr>
          <a:xfrm>
            <a:off x="4071960" y="3643200"/>
            <a:ext cx="785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27"/>
          <p:cNvSpPr/>
          <p:nvPr/>
        </p:nvSpPr>
        <p:spPr>
          <a:xfrm flipV="1">
            <a:off x="4714920" y="457164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Прямая со стрелкой 28"/>
          <p:cNvCxnSpPr/>
          <p:nvPr/>
        </p:nvCxnSpPr>
        <p:spPr>
          <a:xfrm>
            <a:off x="2928600" y="457200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29"/>
          <p:cNvCxnSpPr/>
          <p:nvPr/>
        </p:nvCxnSpPr>
        <p:spPr>
          <a:xfrm>
            <a:off x="5929200" y="4572000"/>
            <a:ext cx="85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Прямая соединительная линия 30"/>
          <p:cNvSpPr/>
          <p:nvPr/>
        </p:nvSpPr>
        <p:spPr>
          <a:xfrm flipH="1">
            <a:off x="1785960" y="45007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31"/>
          <p:cNvSpPr/>
          <p:nvPr/>
        </p:nvSpPr>
        <p:spPr>
          <a:xfrm>
            <a:off x="1785960" y="471492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33"/>
          <p:cNvSpPr/>
          <p:nvPr/>
        </p:nvSpPr>
        <p:spPr>
          <a:xfrm flipH="1">
            <a:off x="2569680" y="45734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43"/>
          <p:cNvSpPr/>
          <p:nvPr/>
        </p:nvSpPr>
        <p:spPr>
          <a:xfrm>
            <a:off x="4071960" y="471492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46"/>
          <p:cNvSpPr/>
          <p:nvPr/>
        </p:nvSpPr>
        <p:spPr>
          <a:xfrm flipH="1">
            <a:off x="4070520" y="4643280"/>
            <a:ext cx="1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50"/>
          <p:cNvSpPr/>
          <p:nvPr/>
        </p:nvSpPr>
        <p:spPr>
          <a:xfrm flipV="1">
            <a:off x="4857840" y="34999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52"/>
          <p:cNvSpPr/>
          <p:nvPr/>
        </p:nvSpPr>
        <p:spPr>
          <a:xfrm flipV="1">
            <a:off x="5428440" y="4286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53"/>
          <p:cNvSpPr/>
          <p:nvPr/>
        </p:nvSpPr>
        <p:spPr>
          <a:xfrm>
            <a:off x="5571360" y="4286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1357200" y="642960"/>
            <a:ext cx="72867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нируем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-читают-читаЕ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ать-изображают-изобража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-видят-вид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ать - гонят – гон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-слышат-слыш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ь-любят-люб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вать-именуют-имен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ать-волнуют-волн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ть-рекомендуют-рекоменду…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«движИмый», так как это причастие образовано от старинного глагола движить (2 с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1857240" y="571680"/>
            <a:ext cx="64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разование страдательных причастий прошедш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1285920" y="1714680"/>
            <a:ext cx="7643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инфинитива переходного глагола + -т-,-нн-, -енн- (-ённ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леить + -енн-                   прок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+ -нн-                     прочит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ить + -т-                          про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Прямая со стрелкой 6"/>
          <p:cNvCxnSpPr/>
          <p:nvPr/>
        </p:nvCxnSpPr>
        <p:spPr>
          <a:xfrm>
            <a:off x="3643200" y="3142800"/>
            <a:ext cx="9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Прямая со стрелкой 7"/>
          <p:cNvCxnSpPr/>
          <p:nvPr/>
        </p:nvCxnSpPr>
        <p:spPr>
          <a:xfrm>
            <a:off x="3571920" y="3714840"/>
            <a:ext cx="929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8"/>
          <p:cNvCxnSpPr/>
          <p:nvPr/>
        </p:nvCxnSpPr>
        <p:spPr>
          <a:xfrm>
            <a:off x="3285720" y="43578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1" name="Прямая соединительная линия 11"/>
          <p:cNvSpPr/>
          <p:nvPr/>
        </p:nvSpPr>
        <p:spPr>
          <a:xfrm>
            <a:off x="1357200" y="3286080"/>
            <a:ext cx="107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7"/>
          <p:cNvSpPr/>
          <p:nvPr/>
        </p:nvSpPr>
        <p:spPr>
          <a:xfrm flipV="1">
            <a:off x="2426400" y="3142800"/>
            <a:ext cx="18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19"/>
          <p:cNvSpPr/>
          <p:nvPr/>
        </p:nvSpPr>
        <p:spPr>
          <a:xfrm flipH="1" flipV="1">
            <a:off x="1285920" y="3146400"/>
            <a:ext cx="7128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21"/>
          <p:cNvSpPr/>
          <p:nvPr/>
        </p:nvSpPr>
        <p:spPr>
          <a:xfrm>
            <a:off x="1357200" y="39290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23"/>
          <p:cNvSpPr/>
          <p:nvPr/>
        </p:nvSpPr>
        <p:spPr>
          <a:xfrm flipV="1">
            <a:off x="1355760" y="37159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25"/>
          <p:cNvSpPr/>
          <p:nvPr/>
        </p:nvSpPr>
        <p:spPr>
          <a:xfrm flipV="1">
            <a:off x="2355840" y="3787920"/>
            <a:ext cx="144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27"/>
          <p:cNvSpPr/>
          <p:nvPr/>
        </p:nvSpPr>
        <p:spPr>
          <a:xfrm>
            <a:off x="1285920" y="4500720"/>
            <a:ext cx="9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29"/>
          <p:cNvSpPr/>
          <p:nvPr/>
        </p:nvSpPr>
        <p:spPr>
          <a:xfrm flipV="1">
            <a:off x="1355760" y="43588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34"/>
          <p:cNvSpPr/>
          <p:nvPr/>
        </p:nvSpPr>
        <p:spPr>
          <a:xfrm flipV="1">
            <a:off x="2212200" y="443088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1357200" y="571680"/>
            <a:ext cx="73580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дательных причастиях прошедшего времени перед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НН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глагол заканчивается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АТЬ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ЯТЬ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казать-указ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теять – зате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дательных причастиях прошедшего времени перед НН пишется Е, если глагол  оканчивается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ИТЬ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ЕТЬ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идеть-вид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клеить-скле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ный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"/>
          <p:cNvSpPr/>
          <p:nvPr/>
        </p:nvSpPr>
        <p:spPr>
          <a:xfrm flipV="1">
            <a:off x="5143680" y="250020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7"/>
          <p:cNvSpPr/>
          <p:nvPr/>
        </p:nvSpPr>
        <p:spPr>
          <a:xfrm>
            <a:off x="5214960" y="250020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9"/>
          <p:cNvSpPr/>
          <p:nvPr/>
        </p:nvSpPr>
        <p:spPr>
          <a:xfrm flipV="1">
            <a:off x="5285520" y="2500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11"/>
          <p:cNvSpPr/>
          <p:nvPr/>
        </p:nvSpPr>
        <p:spPr>
          <a:xfrm>
            <a:off x="5428440" y="2500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13"/>
          <p:cNvSpPr/>
          <p:nvPr/>
        </p:nvSpPr>
        <p:spPr>
          <a:xfrm flipV="1">
            <a:off x="5072040" y="5143680"/>
            <a:ext cx="2142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15"/>
          <p:cNvSpPr/>
          <p:nvPr/>
        </p:nvSpPr>
        <p:spPr>
          <a:xfrm>
            <a:off x="5286240" y="5143680"/>
            <a:ext cx="2145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Наташа</cp:lastModifiedBy>
  <dcterms:modified xsi:type="dcterms:W3CDTF">2020-12-01T11:27:54Z</dcterms:modified>
  <cp:revision>83</cp:revision>
  <dc:subject/>
  <dc:title>Тетрадь на спирали</dc:title>
</cp:coreProperties>
</file>