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.png" ContentType="image/png"/>
  <Override PartName="/ppt/media/image10.png" ContentType="image/png"/>
  <Override PartName="/ppt/media/image1.gif" ContentType="image/gif"/>
  <Override PartName="/ppt/media/image24.gif" ContentType="image/gif"/>
  <Override PartName="/ppt/media/image27.png" ContentType="image/png"/>
  <Override PartName="/ppt/media/image14.png" ContentType="image/png"/>
  <Override PartName="/ppt/media/image22.gif" ContentType="image/gif"/>
  <Override PartName="/ppt/media/image15.png" ContentType="image/png"/>
  <Override PartName="/ppt/media/image23.gif" ContentType="image/gif"/>
  <Override PartName="/ppt/media/image16.png" ContentType="image/png"/>
  <Override PartName="/ppt/media/image17.gif" ContentType="image/gif"/>
  <Override PartName="/ppt/media/image18.gif" ContentType="image/gif"/>
  <Override PartName="/ppt/media/image26.gif" ContentType="image/gif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112F-BC6B-4209-BA76-9EB9C362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728-292F-457E-8A23-9EFF638E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28E0-B5B5-4377-A241-C61DF7C6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E6D0-DDED-459E-B339-24C3D1E1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F14E-CBF2-4AD6-BBB9-2F478AF2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051C-32D8-49CA-A8BF-59F071C6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61ED-1CF4-45E4-A0F7-9887C55F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C1CF-B303-4338-AEE0-66137521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54E3-A14B-4C00-B318-DC597C70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C729-82DD-4009-9D07-E41D2BF8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4264-A87C-4DF0-9D15-CCB6E8A0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FE08-5806-4F61-820E-347A7E88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565C-7DE7-467C-A51B-E64B433B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8127-183B-4581-BE07-5483BE86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B6DD-DAAC-41A9-85F9-51065F2B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666D-0A94-4ADD-B3CC-696E2CBA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0D1D-6234-4D95-A414-04B48A15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DE0-3488-4717-97B6-0343E21D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B526-F36A-4F04-83DA-4291FB4D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6D51-1C3F-49D2-BECC-7CA72F1B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2F88-CFC2-489A-AE32-06177B86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F2B7-7EE9-424A-9834-3521DD69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FF5-6F6A-4414-8400-B3F23FC7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F65B-6498-4060-A704-FE8B427C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D4BB-80E2-412F-8F7E-A7DBB14DE4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73A8-F0DD-4A3B-87DA-D79ADACDCB84}" type="slidenum">
              <a:rPr b="0" lang="ru-RU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1054;&#1073;%20&#1072;&#1074;&#1090;&#1086;&#1088;&#1077;.ppt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12. &#1058;&#1077;&#1093;&#1085;&#1080;&#1082;&#1072; &#1074;&#1099;&#1087;&#1086;&#1083;&#1085;&#1077;&#1085;&#1080;&#1103; &#1087;&#1077;&#1088;&#1077;&#1076;&#1072;&#1095;&#1080; &#1084;&#1103;&#1095;&#1072; &#1089;&#1074;&#1077;&#1088;&#1093;&#1091; &#1076;&#1074;&#1091;&#1084;&#1103; &#1088;&#1091;&#1082;&#1072;&#1084;&#1080;" TargetMode="External"/><Relationship Id="rId2" Type="http://schemas.openxmlformats.org/officeDocument/2006/relationships/hyperlink" Target="file:///&#1042;&#1086;&#1083;&#1077;&#1081;&#1073;&#1086;&#1083;.ppt#13. &#1058;&#1077;&#1093;&#1085;&#1080;&#1082;&#1072; &#1074;&#1099;&#1087;&#1086;&#1083;&#1085;&#1077;&#1085;&#1080;&#1103; &#1087;&#1077;&#1088;&#1077;&#1076;&#1072;&#1095;&#1080; &#1084;&#1103;&#1095;&#1072;, &#1089;&#1090;&#1086;&#1103; &#1089;&#1087;&#1080;&#1085;&#1086;&#1081; &#1082; &#1094;&#1077;&#1083;&#1080;" TargetMode="External"/><Relationship Id="rId3" Type="http://schemas.openxmlformats.org/officeDocument/2006/relationships/slide" Target="slide15.xml"/><Relationship Id="rId4" Type="http://schemas.openxmlformats.org/officeDocument/2006/relationships/hyperlink" Target="file:///&#1042;&#1086;&#1083;&#1077;&#1081;&#1073;&#1086;&#1083;.ppt#13. &#1058;&#1077;&#1093;&#1085;&#1080;&#1082;&#1072; &#1074;&#1099;&#1087;&#1086;&#1083;&#1085;&#1077;&#1085;&#1080;&#1103; &#1087;&#1077;&#1088;&#1077;&#1076;&#1072;&#1095;&#1080; &#1084;&#1103;&#1095;&#1072; &#1095;&#1077;&#1088;&#1077;&#1079; &#1089;&#1077;&#1090;&#1082;&#1091; &#1074; &#1087;&#1088;&#1099;&#1078;&#1082;&#1077;" TargetMode="External"/><Relationship Id="rId5" Type="http://schemas.openxmlformats.org/officeDocument/2006/relationships/hyperlink" Target="file:///&#1042;&#1086;&#1083;&#1077;&#1081;&#1073;&#1086;&#1083;.ppt#14. &#1058;&#1077;&#1093;&#1085;&#1080;&#1082;&#1072; &#1074;&#1099;&#1087;&#1086;&#1083;&#1085;&#1077;&#1085;&#1080;&#1103; &#1087;&#1077;&#1088;&#1077;&#1076;&#1072;&#1095;&#1080; &#1084;&#1103;&#1095;&#1072; &#1076;&#1074;&#1091;&#1084;&#1103; &#1088;&#1091;&#1082;&#1072;&#1084;&#1080; &#1089;&#1085;&#1080;&#1079;&#1091;" TargetMode="External"/><Relationship Id="rId6" Type="http://schemas.openxmlformats.org/officeDocument/2006/relationships/hyperlink" Target="file:///&#1042;&#1086;&#1083;&#1077;&#1081;&#1073;&#1086;&#1083;.ppt" TargetMode="External"/><Relationship Id="rId7" Type="http://schemas.openxmlformats.org/officeDocument/2006/relationships/image" Target="../media/image8.png"/><Relationship Id="rId8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&#1042;&#1086;&#1083;&#1077;&#1081;&#1073;&#1086;&#1083;.ppt" TargetMode="External"/><Relationship Id="rId3" Type="http://schemas.openxmlformats.org/officeDocument/2006/relationships/image" Target="../media/image11.png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slide" Target="slide28.xml"/><Relationship Id="rId6" Type="http://schemas.openxmlformats.org/officeDocument/2006/relationships/slide" Target="slide28.xm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2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3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" Target="slide29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file:///&#1042;&#1086;&#1083;&#1077;&#1081;&#1073;&#1086;&#1083;.ppt" TargetMode="External"/><Relationship Id="rId3" Type="http://schemas.openxmlformats.org/officeDocument/2006/relationships/image" Target="../media/image15.png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6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file:///&#1042;&#1086;&#1083;&#1077;&#1081;&#1073;&#1086;&#1083;.ppt#19. &#1058;&#1077;&#1093;&#1085;&#1080;&#1082;&#1072; &#1074;&#1099;&#1087;&#1086;&#1083;&#1085;&#1077;&#1085;&#1080;&#1103; &#1085;&#1080;&#1078;&#1085;&#1077;&#1081; &#1087;&#1088;&#1103;&#1084;&#1086;&#1081; &#1087;&#1086;&#1076;&#1072;&#1095;&#1080;" TargetMode="External"/><Relationship Id="rId3" Type="http://schemas.openxmlformats.org/officeDocument/2006/relationships/hyperlink" Target="file:///&#1042;&#1086;&#1083;&#1077;&#1081;&#1073;&#1086;&#1083;.ppt#20. &#1058;&#1077;&#1093;&#1085;&#1080;&#1082;&#1072; &#1074;&#1099;&#1087;&#1086;&#1083;&#1085;&#1077;&#1085;&#1080;&#1103; &#1074;&#1077;&#1088;&#1093;&#1085;&#1077;&#1081; &#1087;&#1088;&#1103;&#1084;&#1086;&#1081; &#1087;&#1086;&#1076;&#1072;&#1095;&#1080;" TargetMode="External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slide" Target="slide30.xml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slide" Target="slide30.xm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3. &#1048;&#1079; &#1080;&#1089;&#1090;&#1086;&#1088;&#1080;&#1080; &#1074;&#1086;&#1083;&#1077;&#1081;&#1073;&#1086;&#1083;&#1072;" TargetMode="External"/><Relationship Id="rId2" Type="http://schemas.openxmlformats.org/officeDocument/2006/relationships/hyperlink" Target="file:///&#1042;&#1086;&#1083;&#1077;&#1081;&#1073;&#1086;&#1083;.ppt#4. &#1056;&#1072;&#1079;&#1084;&#1077;&#1088;&#1099; &#1080; &#1083;&#1080;&#1085;&#1080;&#1080; &#1087;&#1083;&#1086;&#1097;&#1072;&#1076;&#1082;&#1080;" TargetMode="External"/><Relationship Id="rId3" Type="http://schemas.openxmlformats.org/officeDocument/2006/relationships/hyperlink" Target="file:///&#1042;&#1086;&#1083;&#1077;&#1081;&#1073;&#1086;&#1083;.ppt#5. &#1042;&#1086;&#1083;&#1077;&#1081;&#1073;&#1086;&#1083;&#1100;&#1085;&#1099;&#1081; &#1084;&#1103;&#1095;" TargetMode="External"/><Relationship Id="rId4" Type="http://schemas.openxmlformats.org/officeDocument/2006/relationships/hyperlink" Target="file:///&#1042;&#1086;&#1083;&#1077;&#1081;&#1073;&#1086;&#1083;.ppt#6. &#1054;&#1076;&#1077;&#1078;&#1076;&#1072;" TargetMode="External"/><Relationship Id="rId5" Type="http://schemas.openxmlformats.org/officeDocument/2006/relationships/hyperlink" Target="file:///&#1042;&#1086;&#1083;&#1077;&#1081;&#1073;&#1086;&#1083;.ppt#7. &#1055;&#1088;&#1072;&#1074;&#1080;&#1083;&#1072; &#1080;&#1075;&#1088;&#1099;" TargetMode="External"/><Relationship Id="rId6" Type="http://schemas.openxmlformats.org/officeDocument/2006/relationships/hyperlink" Target="file:///&#1042;&#1086;&#1083;&#1077;&#1081;&#1073;&#1086;&#1083;.ppt#8. &#1054; &#1090;&#1077;&#1093;&#1085;&#1080;&#1082;&#1077; &#1080;&#1075;&#1088;&#1099;" TargetMode="External"/><Relationship Id="rId7" Type="http://schemas.openxmlformats.org/officeDocument/2006/relationships/hyperlink" Target="file:///&#1042;&#1086;&#1083;&#1077;&#1081;&#1073;&#1086;&#1083;.ppt#9. &#1057;&#1090;&#1086;&#1081;&#1082;&#1072; &#1074;&#1086;&#1083;&#1077;&#1081;&#1073;&#1086;&#1083;&#1080;&#1089;&#1090;&#1072;" TargetMode="External"/><Relationship Id="rId8" Type="http://schemas.openxmlformats.org/officeDocument/2006/relationships/hyperlink" Target="file:///&#1042;&#1086;&#1083;&#1077;&#1081;&#1073;&#1086;&#1083;.ppt#10. &#1055;&#1077;&#1088;&#1077;&#1076;&#1072;&#1095;&#1072; &#1084;&#1103;&#1095;&#1072; &#1089;&#1074;&#1077;&#1088;&#1093;&#1091; &#1076;&#1074;&#1091;&#1084;&#1103; &#1088;&#1091;&#1082;&#1072;&#1084;&#1080;" TargetMode="External"/><Relationship Id="rId9" Type="http://schemas.openxmlformats.org/officeDocument/2006/relationships/hyperlink" Target="file:///&#1042;&#1086;&#1083;&#1077;&#1081;&#1073;&#1086;&#1083;.ppt#11. &#1055;&#1088;&#1072;&#1074;&#1080;&#1083;&#1100;&#1085;&#1086;&#1077; &#1087;&#1086;&#1083;&#1086;&#1078;&#1077;&#1085;&#1080;&#1077; &#1082;&#1080;&#1089;&#1090;&#1077;&#1081; &#1080; &#1087;&#1072;&#1083;&#1100;&#1094;&#1077;&#1074;" TargetMode="External"/><Relationship Id="rId10" Type="http://schemas.openxmlformats.org/officeDocument/2006/relationships/hyperlink" Target="file:///&#1042;&#1086;&#1083;&#1077;&#1081;&#1073;&#1086;&#1083;.ppt#16. &#1054;&#1090;&#1073;&#1080;&#1074;&#1072;&#1085;&#1080;&#1077; &#1084;&#1103;&#1095;&#1072; &#1082;&#1091;&#1083;&#1072;&#1082;&#1086;&#1084;" TargetMode="External"/><Relationship Id="rId11" Type="http://schemas.openxmlformats.org/officeDocument/2006/relationships/hyperlink" Target="file:///&#1042;&#1086;&#1083;&#1077;&#1081;&#1073;&#1086;&#1083;.ppt#18. &#1055;&#1086;&#1076;&#1072;&#1095;&#1080;" TargetMode="External"/><Relationship Id="rId12" Type="http://schemas.openxmlformats.org/officeDocument/2006/relationships/hyperlink" Target="file:///&#1042;&#1086;&#1083;&#1077;&#1081;&#1073;&#1086;&#1083;.ppt#21. &#1055;&#1088;&#1080;&#1077;&#1084; &#1084;&#1103;&#1095;&#1072;" TargetMode="External"/><Relationship Id="rId13" Type="http://schemas.openxmlformats.org/officeDocument/2006/relationships/hyperlink" Target="file:///&#1042;&#1086;&#1083;&#1077;&#1081;&#1073;&#1086;&#1083;.ppt#24. &#1055;&#1088;&#1080;&#1077;&#1084; &#1084;&#1103;&#1095;&#1072; &#1074; &#1087;&#1072;&#1076;&#1077;&#1085;&#1080;&#1077;" TargetMode="External"/><Relationship Id="rId14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15" Type="http://schemas.openxmlformats.org/officeDocument/2006/relationships/hyperlink" Target="file:///&#1042;&#1086;&#1083;&#1077;&#1081;&#1073;&#1086;&#1083;.ppt#29. &#1041;&#1083;&#1086;&#1082;&#1080;&#1088;&#1086;&#1074;&#1072;&#1085;&#1080;&#1103; &#1084;&#1103;&#1095;&#1072;" TargetMode="External"/><Relationship Id="rId16" Type="http://schemas.openxmlformats.org/officeDocument/2006/relationships/hyperlink" Target="file:///&#1042;&#1086;&#1083;&#1077;&#1081;&#1073;&#1086;&#1083;.ppt#31. &#1055;&#1077;&#1088;&#1077;&#1076;&#1072;&#1095;&#1080;" TargetMode="External"/><Relationship Id="rId17" Type="http://schemas.openxmlformats.org/officeDocument/2006/relationships/hyperlink" Target="file:///&#1042;&#1086;&#1083;&#1077;&#1081;&#1073;&#1086;&#1083;.ppt#32. &#1055;&#1088;&#1080;&#1077;&#1084;&#1099;" TargetMode="External"/><Relationship Id="rId18" Type="http://schemas.openxmlformats.org/officeDocument/2006/relationships/hyperlink" Target="file:///&#1042;&#1086;&#1083;&#1077;&#1081;&#1073;&#1086;&#1083;.ppt#33. &#1055;&#1086;&#1076;&#1072;&#1095;&#1080;" TargetMode="External"/><Relationship Id="rId19" Type="http://schemas.openxmlformats.org/officeDocument/2006/relationships/image" Target="../media/image1.gif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9.png"/><Relationship Id="rId3" Type="http://schemas.openxmlformats.org/officeDocument/2006/relationships/hyperlink" Target="file:///&#1042;&#1086;&#1083;&#1077;&#1081;&#1073;&#1086;&#1083;.ppt#22. &#1058;&#1077;&#1093;&#1085;&#1080;&#1082;&#1072; &#1074;&#1099;&#1087;&#1086;&#1083;&#1085;&#1077;&#1085;&#1080;&#1103; &#1087;&#1088;&#1080;&#1077;&#1084;&#1072; &#1084;&#1103;&#1095;&#1072; &#1076;&#1074;&#1091;&#1084;&#1103; &#1088;&#1091;&#1082;&#1072;&#1084;&#1080; &#1089;&#1074;&#1077;&#1088;&#1093;&#1091;" TargetMode="External"/><Relationship Id="rId4" Type="http://schemas.openxmlformats.org/officeDocument/2006/relationships/hyperlink" Target="file:///&#1042;&#1086;&#1083;&#1077;&#1081;&#1073;&#1086;&#1083;.ppt#23. &#1058;&#1077;&#1093;&#1085;&#1080;&#1082;&#1072; &#1074;&#1099;&#1087;&#1086;&#1083;&#1085;&#1077;&#1085;&#1080;&#1103; &#1087;&#1088;&#1080;&#1077;&#1084;&#1072; &#1084;&#1103;&#1095;&#1072; &#1089;&#1085;&#1080;&#1079;&#1091; &#1076;&#1074;&#1091;&#1084;&#1103; &#1088;&#1091;&#1082;&#1072;&#1084;&#1080;" TargetMode="External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20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" Target="slide29.xml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slide" Target="slide29.xml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8. &#1058;&#1077;&#1093;&#1085;&#1080;&#1082;&#1072; &#1074;&#1099;&#1087;&#1086;&#1083;&#1085;&#1077;&#1085;&#1080;&#1103; &#1085;&#1072;&#1087;&#1072;&#1076;&#1072;&#1102;&#1097;&#1077;&#1075;&#1086; &#1091;&#1076;&#1072;&#1088;&#1072;" TargetMode="External"/><Relationship Id="rId2" Type="http://schemas.openxmlformats.org/officeDocument/2006/relationships/hyperlink" Target="file:///&#1042;&#1086;&#1083;&#1077;&#1081;&#1073;&#1086;&#1083;.ppt" TargetMode="External"/><Relationship Id="rId3" Type="http://schemas.openxmlformats.org/officeDocument/2006/relationships/image" Target="../media/image2.png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30. &#1058;&#1077;&#1093;&#1085;&#1080;&#1082;&#1072; &#1074;&#1099;&#1087;&#1086;&#1083;&#1085;&#1077;&#1085;&#1080;&#1103; &#1073;&#1083;&#1086;&#1082;&#1080;&#1088;&#1086;&#1074;&#1072;&#1085;&#1080;&#1103; &#1084;&#1103;&#1095;&#1072;" TargetMode="External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hyperlink" Target="file:///&#1042;&#1086;&#1083;&#1077;&#1081;&#1073;&#1086;&#1083;.ppt" TargetMode="Externa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5.png"/><Relationship Id="rId3" Type="http://schemas.openxmlformats.org/officeDocument/2006/relationships/hyperlink" Target="file:///&#1042;&#1086;&#1083;&#1077;&#1081;&#1073;&#1086;&#1083;.ppt" TargetMode="External"/><Relationship Id="rId4" Type="http://schemas.openxmlformats.org/officeDocument/2006/relationships/image" Target="../media/image11.png"/><Relationship Id="rId5" Type="http://schemas.openxmlformats.org/officeDocument/2006/relationships/hyperlink" Target="file:///&#1042;&#1086;&#1083;&#1077;&#1081;&#1073;&#1086;&#1083;.ppt" TargetMode="External"/><Relationship Id="rId6" Type="http://schemas.openxmlformats.org/officeDocument/2006/relationships/image" Target="../media/image12.png"/><Relationship Id="rId7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1. &#1055;&#1088;&#1080;&#1077;&#1084; &#1084;&#1103;&#1095;&#1072;" TargetMode="External"/><Relationship Id="rId2" Type="http://schemas.openxmlformats.org/officeDocument/2006/relationships/hyperlink" Target="file:///&#1042;&#1086;&#1083;&#1077;&#1081;&#1073;&#1086;&#1083;.ppt#18. &#1055;&#1086;&#1076;&#1072;&#1095;&#1080;" TargetMode="External"/><Relationship Id="rId3" Type="http://schemas.openxmlformats.org/officeDocument/2006/relationships/hyperlink" Target="file:///&#1042;&#1086;&#1083;&#1077;&#1081;&#1073;&#1086;&#1083;.ppt#18. &#1055;&#1086;&#1076;&#1072;&#1095;&#1080;" TargetMode="External"/><Relationship Id="rId4" Type="http://schemas.openxmlformats.org/officeDocument/2006/relationships/hyperlink" Target="file:///&#1042;&#1086;&#1083;&#1077;&#1081;&#1073;&#1086;&#1083;.ppt#10. &#1055;&#1077;&#1088;&#1077;&#1076;&#1072;&#1095;&#1072; &#1084;&#1103;&#1095;&#1072; &#1089;&#1074;&#1077;&#1088;&#1093;&#1091; &#1076;&#1074;&#1091;&#1084;&#1103; &#1088;&#1091;&#1082;&#1072;&#1084;&#1080;" TargetMode="External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hyperlink" Target="file:///&#1042;&#1086;&#1083;&#1077;&#1081;&#1073;&#1086;&#1083;.ppt#16. &#1054;&#1090;&#1073;&#1080;&#1074;&#1072;&#1085;&#1080;&#1077; &#1084;&#1103;&#1095;&#1072; &#1082;&#1091;&#1083;&#1072;&#1082;&#1086;&#1084;" TargetMode="External"/><Relationship Id="rId7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8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9" Type="http://schemas.openxmlformats.org/officeDocument/2006/relationships/hyperlink" Target="file:///&#1042;&#1086;&#1083;&#1077;&#1081;&#1073;&#1086;&#1083;.ppt#29. &#1041;&#1083;&#1086;&#1082;&#1080;&#1088;&#1086;&#1074;&#1072;&#1085;&#1080;&#1103; &#1084;&#1103;&#1095;&#1072;" TargetMode="External"/><Relationship Id="rId10" Type="http://schemas.openxmlformats.org/officeDocument/2006/relationships/slide" Target="slide24.xm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476360" y="3257280"/>
            <a:ext cx="6400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Verdana"/>
              </a:rPr>
              <a:t>Основы техники владения мячом </a:t>
            </a: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Verdana"/>
              </a:rPr>
              <a:t>5-11 классы</a:t>
            </a: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1" name="AutoShape 5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2" name="AutoShape 6">
            <a:hlinkClick r:id="" action="ppaction://hlinkshowjump?jump=previousslide"/>
          </p:cNvPr>
          <p:cNvSpPr/>
          <p:nvPr/>
        </p:nvSpPr>
        <p:spPr>
          <a:xfrm>
            <a:off x="7524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826920" y="692280"/>
            <a:ext cx="626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206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олейбол</a:t>
            </a:r>
            <a:endParaRPr b="1" i="1" lang="en-US" sz="9600" spc="1" strike="noStrike">
              <a:ln w="9360">
                <a:solidFill>
                  <a:srgbClr val="008000"/>
                </a:solidFill>
                <a:miter/>
              </a:ln>
              <a:solidFill>
                <a:srgbClr val="00206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AutoShape 9">
            <a:hlinkClick r:id="rId1"/>
          </p:cNvPr>
          <p:cNvSpPr/>
          <p:nvPr/>
        </p:nvSpPr>
        <p:spPr>
          <a:xfrm>
            <a:off x="46836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8036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16191" y="3794"/>
                </a:lnTo>
                <a:lnTo>
                  <a:pt x="16191" y="17806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ередача мяча сверх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мяча сверху двумя руками составляет основу игр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 взаимодействии нападающих для ускорения атаки и дезорганизации блока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на дает возможность выполнять различные упражнения по технике, а также играть через сет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cc00"/>
                </a:solidFill>
                <a:latin typeface="Verdana"/>
              </a:rPr>
              <a:t>(техника: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верху двумя руками</a:t>
            </a:r>
            <a:r>
              <a:rPr b="0" i="1" lang="ru-RU" sz="1600" spc="-1" strike="noStrike">
                <a:solidFill>
                  <a:srgbClr val="99cc00"/>
                </a:solidFill>
                <a:latin typeface="Verdana"/>
              </a:rPr>
              <a:t>;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3" action="ppaction://hlinksldjump"/>
              </a:rPr>
              <a:t>стоя спиной к цели;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через сетку в прыжке</a:t>
            </a:r>
            <a:r>
              <a:rPr b="0" i="1" lang="ru-RU" sz="1600" spc="-1" strike="noStrike">
                <a:solidFill>
                  <a:srgbClr val="99cc00"/>
                </a:solidFill>
                <a:latin typeface="Verdana"/>
              </a:rPr>
              <a:t>;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двумя руками снизу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58" name="Picture 9" descr="в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03640" y="1628640"/>
            <a:ext cx="3265560" cy="45309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7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0" name="AutoShape 8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8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0"/>
                            </p:stCondLst>
                            <p:childTnLst>
                              <p:par>
                                <p:cTn id="5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6000"/>
                            </p:stCondLst>
                            <p:childTnLst>
                              <p:par>
                                <p:cTn id="5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авильное положение кистей и пальцев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63" name="Picture 7" descr="вол10"/>
          <p:cNvPicPr/>
          <p:nvPr/>
        </p:nvPicPr>
        <p:blipFill>
          <a:blip r:embed="rId1"/>
          <a:stretch/>
        </p:blipFill>
        <p:spPr>
          <a:xfrm>
            <a:off x="324000" y="1916280"/>
            <a:ext cx="8510400" cy="29955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537336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Verdana"/>
              </a:rPr>
              <a:t>Положение кистей рук и расположение пальцев на мяче, во время передачи мяча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6" name="AutoShape 13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7" name="AutoShape 14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сверх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69" name="Picture 7" descr="волейб1"/>
          <p:cNvPicPr/>
          <p:nvPr/>
        </p:nvPicPr>
        <p:blipFill>
          <a:blip r:embed="rId1"/>
          <a:stretch/>
        </p:blipFill>
        <p:spPr>
          <a:xfrm>
            <a:off x="755640" y="1557360"/>
            <a:ext cx="3384720" cy="2976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волейб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86280" y="1341360"/>
            <a:ext cx="3059280" cy="31672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При выполнении передачи нужно успеть занять устойчивое исходное положение, затем, разгибая ноги и руки, отрывистыми касанием кончиков пальцев рук мячу придается нужное направлени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Встреча рук с мячом происходит над лицом несколько впереди, нельзя мяч отбивать ладонями, это нарушение правил игры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2" name="AutoShape 11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3" name="AutoShape 12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5" name="AutoShape 17">
            <a:hlinkClick r:id="rId5" action="ppaction://hlinksldjump"/>
          </p:cNvPr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6" name="AutoShape 18">
            <a:hlinkClick r:id="rId6" action="ppaction://hlinksldjump"/>
          </p:cNvPr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через сетку в прыжке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ыжок выполняется с места и с укороченного разбега (1-2 шага) толчком двух ног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выполняется в высшей точка прыжка за счет активного разгибания рук. 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79" name="Picture 7" descr="волейб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628640"/>
            <a:ext cx="2700360" cy="453096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1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3" name="AutoShape 11">
            <a:hlinkClick r:id="rId4" action="ppaction://hlinksldjump"/>
          </p:cNvPr>
          <p:cNvSpPr/>
          <p:nvPr/>
        </p:nvSpPr>
        <p:spPr>
          <a:xfrm>
            <a:off x="1332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двумя руками снизу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 передаче следует выполнять некоторое сопровождение мяча руками. Руки должны занимать одинаковое,  постоянное положение. Малейшее повышение одного предплечья над другим изменит направление отскока мяч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86" name="Picture 7" descr="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6520" y="2719440"/>
            <a:ext cx="4040280" cy="22921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8">
            <a:hlinkClick r:id="" action="ppaction://hlinkshowjump?jump=nextslide"/>
          </p:cNvPr>
          <p:cNvSpPr/>
          <p:nvPr/>
        </p:nvSpPr>
        <p:spPr>
          <a:xfrm>
            <a:off x="817236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8" name="AutoShape 9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0" name="AutoShape 12">
            <a:hlinkClick r:id="rId4" action="ppaction://hlinksldjump"/>
          </p:cNvPr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, стоя спиной к цел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92" name="Picture 7" descr="волейб2"/>
          <p:cNvPicPr/>
          <p:nvPr/>
        </p:nvPicPr>
        <p:blipFill>
          <a:blip r:embed="rId1"/>
          <a:stretch/>
        </p:blipFill>
        <p:spPr>
          <a:xfrm>
            <a:off x="903240" y="1557360"/>
            <a:ext cx="3079800" cy="3456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640" y="486864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стреча рук с мячом происходит над лицо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выполняется за счет разгибания рук в локтях и движения назад - вверх с одновременным пригибанием в грудной и поясничной части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4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5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96" name="Picture 11" descr="волейб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73800" y="1630440"/>
            <a:ext cx="2552760" cy="33829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2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8" name="AutoShape 13">
            <a:hlinkClick r:id="rId5" action="ppaction://hlinksldjump"/>
          </p:cNvPr>
          <p:cNvSpPr/>
          <p:nvPr/>
        </p:nvSpPr>
        <p:spPr>
          <a:xfrm>
            <a:off x="12589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385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5" dur="385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7" dur="38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9" dur="38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385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385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7" dur="385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9" dur="385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000"/>
                            </p:stCondLst>
                            <p:childTnLst>
                              <p:par>
                                <p:cTn id="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отбивания мяча кулаком у сетк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Лучше расположить боком к сетке (правым при отбивании правой рукой), иногда и спино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десь важно рассчитать прыжок, что бы встретить мяч над сетко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01" name="Picture 7" descr="волейб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628640"/>
            <a:ext cx="1452600" cy="4530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3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768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8" dur="768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0" dur="768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2" dur="768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998"/>
                            </p:stCondLst>
                            <p:childTnLst>
                              <p:par>
                                <p:cTn id="6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385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8" dur="385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0" dur="385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2" dur="385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998"/>
                            </p:stCondLst>
                            <p:childTnLst>
                              <p:par>
                                <p:cTn id="68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385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8" dur="385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0" dur="385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2" dur="385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998"/>
                            </p:stCondLst>
                            <p:childTnLst>
                              <p:par>
                                <p:cTn id="6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385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8" dur="385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0" dur="385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2" dur="385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одачи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06" name="Picture 19" descr="верхняя прямая подача"/>
          <p:cNvPicPr/>
          <p:nvPr/>
        </p:nvPicPr>
        <p:blipFill>
          <a:blip r:embed="rId1"/>
          <a:stretch/>
        </p:blipFill>
        <p:spPr>
          <a:xfrm>
            <a:off x="324000" y="1128600"/>
            <a:ext cx="3657600" cy="26607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Игра начинается подаче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Этим приемом мяч вводится в игр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оревнования без подачи невозможн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чко команда также может выиграть только тогда, когда она подавала, а соперник совершил ошиб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(техника: нижняя прямая подача,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верхняя прямая подача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8" name="AutoShape 14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9" name="AutoShape 15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11" name="Picture 21" descr="нижняя прямая подача"/>
          <p:cNvPicPr/>
          <p:nvPr/>
        </p:nvPicPr>
        <p:blipFill>
          <a:blip r:embed="rId5"/>
          <a:stretch/>
        </p:blipFill>
        <p:spPr>
          <a:xfrm>
            <a:off x="324000" y="3716280"/>
            <a:ext cx="396072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нижней прямой подач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249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И.п. – стоя лицом к сетки, ноги согнуты в коленях, левая нога впереди, туловище наклонено вперед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Левая рука, согнутая в локтевом суставе, удерживает мяч на уровне пояса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равая (бьющая) рука отведена назад в положении замаха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одбросит мяч на высоту 20-30 см вверх и выполнить удар напряженной кистью по опускающемуся мячу на уровне плеч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Бьющая рука направляет мяч вперед-вверх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4" name="AutoShape 8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5" name="AutoShape 9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7" name="AutoShape 11">
            <a:hlinkClick r:id="rId2" action="ppaction://hlinksldjump"/>
          </p:cNvPr>
          <p:cNvSpPr/>
          <p:nvPr/>
        </p:nvSpPr>
        <p:spPr>
          <a:xfrm>
            <a:off x="1476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18" name="Picture 13" descr="нижняя прямая подача"/>
          <p:cNvPicPr/>
          <p:nvPr/>
        </p:nvPicPr>
        <p:blipFill>
          <a:blip r:embed="rId3"/>
          <a:stretch/>
        </p:blipFill>
        <p:spPr>
          <a:xfrm>
            <a:off x="5435640" y="1916280"/>
            <a:ext cx="6188040" cy="450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49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400"/>
                            </p:stCondLst>
                            <p:childTnLst>
                              <p:par>
                                <p:cTn id="7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4900"/>
                            </p:stCondLst>
                            <p:childTnLst>
                              <p:par>
                                <p:cTn id="75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4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4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900"/>
                            </p:stCondLst>
                            <p:childTnLst>
                              <p:par>
                                <p:cTn id="76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4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4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6900"/>
                            </p:stCondLst>
                            <p:childTnLst>
                              <p:par>
                                <p:cTn id="77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4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4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7900"/>
                            </p:stCondLst>
                            <p:childTnLst>
                              <p:par>
                                <p:cTn id="77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4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8900"/>
                            </p:stCondLst>
                            <p:childTnLst>
                              <p:par>
                                <p:cTn id="78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4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4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верхней прямой подач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И.п. – лицом к сетке, левая нога впереди.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Мяч подбрасывается левой рукой вверх у правого плеча. Туловище отклонятся назад (замах)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одбросив мяч последовательным разгибанием сзади стоящей ноги, с движением туловища вперед и кистью руки вперед – вверх, производится удар по мячу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1" name="AutoShape 11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2" name="AutoShape 12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4" name="AutoShape 14">
            <a:hlinkClick r:id="rId2" action="ppaction://hlinksldjump"/>
          </p:cNvPr>
          <p:cNvSpPr/>
          <p:nvPr/>
        </p:nvSpPr>
        <p:spPr>
          <a:xfrm>
            <a:off x="1476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25" name="Picture 16" descr="верхняя прямая подача"/>
          <p:cNvPicPr/>
          <p:nvPr/>
        </p:nvPicPr>
        <p:blipFill>
          <a:blip r:embed="rId3"/>
          <a:stretch/>
        </p:blipFill>
        <p:spPr>
          <a:xfrm>
            <a:off x="3059280" y="620640"/>
            <a:ext cx="5249520" cy="381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768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1" dur="768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3" dur="768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5" dur="768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998"/>
                            </p:stCondLst>
                            <p:childTnLst>
                              <p:par>
                                <p:cTn id="8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3998"/>
                            </p:stCondLst>
                            <p:childTnLst>
                              <p:par>
                                <p:cTn id="8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4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4998"/>
                            </p:stCondLst>
                            <p:childTnLst>
                              <p:par>
                                <p:cTn id="8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8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998"/>
                            </p:stCondLst>
                            <p:childTnLst>
                              <p:par>
                                <p:cTn id="8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2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Содержание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5040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Из истории волейбол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Размеры и линии площадк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Волейбольный мяч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Одежд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Правила игры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6"/>
              </a:rPr>
              <a:t>О технике игры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7"/>
              </a:rPr>
              <a:t>Стойка волейболист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8"/>
              </a:rPr>
              <a:t>Передача мяча сверху двумя рукам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9"/>
              </a:rPr>
              <a:t>Правильное положение кистей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0"/>
              </a:rPr>
              <a:t>Отбивание мяча кулаком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1"/>
              </a:rPr>
              <a:t>Подачи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2"/>
              </a:rPr>
              <a:t>Прием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3"/>
              </a:rPr>
              <a:t>Прием мяча в падени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4"/>
              </a:rPr>
              <a:t>Нападающий удар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5"/>
              </a:rPr>
              <a:t>Блокирования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6"/>
              </a:rPr>
              <a:t>Передачи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7"/>
              </a:rPr>
              <a:t>Прием мяча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8"/>
              </a:rPr>
              <a:t>Подачи мяч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97" name="Picture 8" descr="J0296828"/>
          <p:cNvPicPr/>
          <p:nvPr/>
        </p:nvPicPr>
        <p:blipFill>
          <a:blip r:embed="rId19"/>
          <a:stretch/>
        </p:blipFill>
        <p:spPr>
          <a:xfrm>
            <a:off x="4960800" y="2043000"/>
            <a:ext cx="3598920" cy="31924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9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9" name="AutoShape 10">
            <a:hlinkClick r:id="" action="ppaction://hlinkshowjump?jump=previousslide"/>
          </p:cNvPr>
          <p:cNvSpPr/>
          <p:nvPr/>
        </p:nvSpPr>
        <p:spPr>
          <a:xfrm>
            <a:off x="7380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ием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27" name="Picture 11" descr="в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628640"/>
            <a:ext cx="3357720" cy="45309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меняется в защитных действиях, чтобы не допустить падения мяча, посланного соперником, на площад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ем подачи считается удачным, когда после приема мяча он оказывается в зоне нападения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(техника: двумя руками сверху,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низу)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9" name="AutoShape 14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0" name="AutoShape 15">
            <a:hlinkClick r:id="" action="ppaction://hlinkshowjump?jump=previousslide"/>
          </p:cNvPr>
          <p:cNvSpPr/>
          <p:nvPr/>
        </p:nvSpPr>
        <p:spPr>
          <a:xfrm>
            <a:off x="6372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709308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двумя руками сверху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33" name="Picture 10" descr="вол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773360"/>
            <a:ext cx="8066160" cy="382896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11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5" name="AutoShape 12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2000"/>
                            </p:stCondLst>
                            <p:childTnLst>
                              <p:par>
                                <p:cTn id="8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сниз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38" name="Picture 13" descr="вол1"/>
          <p:cNvPicPr/>
          <p:nvPr/>
        </p:nvPicPr>
        <p:blipFill>
          <a:blip r:embed="rId1"/>
          <a:stretch/>
        </p:blipFill>
        <p:spPr>
          <a:xfrm>
            <a:off x="825480" y="1630440"/>
            <a:ext cx="1971720" cy="288108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4508280"/>
            <a:ext cx="822960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     </a:t>
            </a: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Туловище слегка наклонено вперед, прямые руки опущены вперед - вниз, локти сближены, кисти вместе. Мяч принимается на внутреннюю часть сближенных предплечий, ближе к кистям рук. В момент приема руки не должны сгибаться в локтях. Прямые руки небыстрым движением в плечевых суставах поднимаются навстречу мячу, ноги в момент приема выпрямляются. Чем выше скорость полета мяча, тем меньше должно быть встречное движение рук.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0" name="AutoShape 19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1" name="AutoShape 20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3" name="AutoShape 22">
            <a:hlinkClick r:id="rId3" action="ppaction://hlinksldjump"/>
          </p:cNvPr>
          <p:cNvSpPr/>
          <p:nvPr/>
        </p:nvSpPr>
        <p:spPr>
          <a:xfrm>
            <a:off x="1547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44" name="Picture 24" descr="прием мяча снизу двумя руками"/>
          <p:cNvPicPr/>
          <p:nvPr/>
        </p:nvPicPr>
        <p:blipFill>
          <a:blip r:embed="rId4"/>
          <a:stretch/>
        </p:blipFill>
        <p:spPr>
          <a:xfrm>
            <a:off x="3708360" y="1052640"/>
            <a:ext cx="4826160" cy="3510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одной рукой впадении вперед и последующим скольжением на груди - животе</a:t>
            </a:r>
            <a:endParaRPr b="0" lang="en-US" sz="28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меняют в основном юноши. Игрок как бы «ныряет» под мяч, после отбивания мяча руки касаются площадки и амортизируют касание грудью за счет сгибания рук, ноги сгибаются в коленях, туловище прогибается, руки после отталкивания вперед убирают вдоль туловищ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7" name="AutoShape 13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8" name="AutoShape 14">
            <a:hlinkClick r:id="" action="ppaction://hlinkshowjump?jump=previousslide"/>
          </p:cNvPr>
          <p:cNvSpPr/>
          <p:nvPr/>
        </p:nvSpPr>
        <p:spPr>
          <a:xfrm>
            <a:off x="6372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709308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0" name="AutoShape 16">
            <a:hlinkClick r:id="rId2" action="ppaction://hlinksldjump"/>
          </p:cNvPr>
          <p:cNvSpPr/>
          <p:nvPr/>
        </p:nvSpPr>
        <p:spPr>
          <a:xfrm>
            <a:off x="1547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51" name="Picture 19" descr="прием мяча одной рукой в падении вперед и последующим скольжением на груди -животе"/>
          <p:cNvPicPr/>
          <p:nvPr/>
        </p:nvPicPr>
        <p:blipFill>
          <a:blip r:embed="rId3"/>
          <a:stretch/>
        </p:blipFill>
        <p:spPr>
          <a:xfrm>
            <a:off x="1258920" y="1413000"/>
            <a:ext cx="633744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9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1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Нападающий удар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Это самый эффективный способ завершения атаки, именно он чаще всего приносит победные очки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(техника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54" name="Picture 7" descr="в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1628640"/>
            <a:ext cx="3124440" cy="453096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8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6" name="AutoShape 9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5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8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нападающего удар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46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о время выполнения прыжка быстро разогнуть ноги и резко поднять руки вверх. В прыжке  плечи и бьющая рука отводится назад, туловище прогибается (замах).Ударное движение начинается с выведения вперед локтя бьющей руки. бьющая рука, разгибаясь в локтевом суставе, хлестким  движением кистью ударяет по мячу  вниз – вперед. Чем сильней                                                          нужно пробить по мячу, тем расслабленней должна быть кисть. 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0" name="AutoShape 12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1" name="AutoShape 13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63" name="Picture 16" descr="нападающий удар"/>
          <p:cNvPicPr/>
          <p:nvPr/>
        </p:nvPicPr>
        <p:blipFill>
          <a:blip r:embed="rId2"/>
          <a:stretch/>
        </p:blipFill>
        <p:spPr>
          <a:xfrm>
            <a:off x="684360" y="1484280"/>
            <a:ext cx="6202080" cy="45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77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0" dur="770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2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4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8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Блокирования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284720" y="1599840"/>
            <a:ext cx="4859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ыставление рук над верхним краем сетки для преграждения полета мяча после нападающего удара называется блокированием. Оно применяется для противодействия нападающего удара. Выполняется одним или двумя (реже тремя) игроками в прыжке с места или после перемещения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    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(техника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6" name="AutoShape 8">
            <a:hlinkClick r:id="" action="ppaction://hlinkshowjump?jump=nextslide"/>
          </p:cNvPr>
          <p:cNvSpPr/>
          <p:nvPr/>
        </p:nvSpPr>
        <p:spPr>
          <a:xfrm>
            <a:off x="8244000" y="6237360"/>
            <a:ext cx="684000" cy="360360"/>
          </a:xfrm>
          <a:custGeom>
            <a:avLst/>
            <a:gdLst>
              <a:gd name="textAreaLeft" fmla="*/ 23040 w 684000"/>
              <a:gd name="textAreaRight" fmla="*/ 660960 w 684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0980" h="21600">
                <a:moveTo>
                  <a:pt x="0" y="0"/>
                </a:moveTo>
                <a:lnTo>
                  <a:pt x="40980" y="0"/>
                </a:lnTo>
                <a:lnTo>
                  <a:pt x="40980" y="21600"/>
                </a:lnTo>
                <a:lnTo>
                  <a:pt x="0" y="21600"/>
                </a:lnTo>
                <a:close/>
              </a:path>
              <a:path fill="lightenLess" w="40980" h="21600">
                <a:moveTo>
                  <a:pt x="0" y="0"/>
                </a:moveTo>
                <a:lnTo>
                  <a:pt x="40980" y="0"/>
                </a:lnTo>
                <a:lnTo>
                  <a:pt x="39580" y="1400"/>
                </a:lnTo>
                <a:lnTo>
                  <a:pt x="1400" y="1400"/>
                </a:lnTo>
                <a:close/>
              </a:path>
              <a:path fill="darken" w="40980" h="21600">
                <a:moveTo>
                  <a:pt x="40980" y="0"/>
                </a:moveTo>
                <a:lnTo>
                  <a:pt x="40980" y="21600"/>
                </a:lnTo>
                <a:lnTo>
                  <a:pt x="39580" y="20200"/>
                </a:lnTo>
                <a:lnTo>
                  <a:pt x="39580" y="1400"/>
                </a:lnTo>
                <a:close/>
              </a:path>
              <a:path fill="darkenLess" w="40980" h="21600">
                <a:moveTo>
                  <a:pt x="40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80" y="20200"/>
                </a:lnTo>
                <a:close/>
              </a:path>
              <a:path fill="lighten" w="40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80" h="21600">
                <a:moveTo>
                  <a:pt x="13483" y="3794"/>
                </a:moveTo>
                <a:lnTo>
                  <a:pt x="27496" y="10800"/>
                </a:lnTo>
                <a:lnTo>
                  <a:pt x="1348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7" name="AutoShape 9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69" name="Picture 11" descr="в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1557360"/>
            <a:ext cx="334512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385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2" dur="385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4" dur="385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6" dur="385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385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385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385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385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3000"/>
                            </p:stCondLst>
                            <p:childTnLst>
                              <p:par>
                                <p:cTn id="9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385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2" dur="385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4" dur="385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6" dur="385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блокирования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Техника блокирования включает в себя: перемещение к месту постановки блока, прыжок, постановку рук на пути движения мяча и приземлени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72" name="AutoShape 10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73" name="AutoShape 11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75" name="Picture 14" descr="одиночное блокирование мяча"/>
          <p:cNvPicPr/>
          <p:nvPr/>
        </p:nvPicPr>
        <p:blipFill>
          <a:blip r:embed="rId2"/>
          <a:stretch/>
        </p:blipFill>
        <p:spPr>
          <a:xfrm>
            <a:off x="2411280" y="1425600"/>
            <a:ext cx="5329440" cy="38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0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ередачи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77" name="Picture 11" descr="волейб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56360" y="2349360"/>
            <a:ext cx="2333520" cy="3745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4" descr="волейб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2276640"/>
            <a:ext cx="3122640" cy="3744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5" descr="волейб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64000" y="1557360"/>
            <a:ext cx="2101680" cy="352728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16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1" name="AutoShape 17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7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иемы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84" name="Picture 9" descr="вол3"/>
          <p:cNvPicPr/>
          <p:nvPr/>
        </p:nvPicPr>
        <p:blipFill>
          <a:blip r:embed="rId1"/>
          <a:stretch/>
        </p:blipFill>
        <p:spPr>
          <a:xfrm>
            <a:off x="468360" y="1341360"/>
            <a:ext cx="5975280" cy="17780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" descr="вол4"/>
          <p:cNvPicPr/>
          <p:nvPr/>
        </p:nvPicPr>
        <p:blipFill>
          <a:blip r:embed="rId2"/>
          <a:stretch/>
        </p:blipFill>
        <p:spPr>
          <a:xfrm>
            <a:off x="3274920" y="3067200"/>
            <a:ext cx="4897440" cy="14713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1" descr="волейб6"/>
          <p:cNvPicPr/>
          <p:nvPr/>
        </p:nvPicPr>
        <p:blipFill>
          <a:blip r:embed="rId3"/>
          <a:stretch/>
        </p:blipFill>
        <p:spPr>
          <a:xfrm>
            <a:off x="826920" y="4581360"/>
            <a:ext cx="4465800" cy="188280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12">
            <a:hlinkClick r:id="" action="ppaction://hlinkshowjump?jump=nextslide"/>
          </p:cNvPr>
          <p:cNvSpPr/>
          <p:nvPr/>
        </p:nvSpPr>
        <p:spPr>
          <a:xfrm>
            <a:off x="8172360" y="616572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8" name="AutoShape 13">
            <a:hlinkClick r:id="" action="ppaction://hlinkshowjump?jump=previousslide"/>
          </p:cNvPr>
          <p:cNvSpPr/>
          <p:nvPr/>
        </p:nvSpPr>
        <p:spPr>
          <a:xfrm>
            <a:off x="6443640" y="616572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7164360" y="623736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0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Из истории волейбол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47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Приоритет в создании волейбола принадлежит Уильяму Моргану, преподавателю физкультуры колледжа Ассоциации молодых христиан в американском городе Холиоке (штат Массачусетс)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Однажды Морган предложил своим питомцам подбросить через рыболовную сеть надутую резиновую камеру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Вскоре он с удивлением обнаружил, что те обмениваются пасами с явным азартом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Крестным отцом нового вида спорта профессор Спрингфилдского колледжа Альфред Холстед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Он назвал новую игру волейболом, что в переводе с английского означает «летающий мяч»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Действительно, это единственная спортивная игра, где главная задача  - не дать мячу коснуться земли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02" name="Picture 9" descr="в1"/>
          <p:cNvPicPr/>
          <p:nvPr/>
        </p:nvPicPr>
        <p:blipFill>
          <a:blip r:embed="rId1"/>
          <a:stretch/>
        </p:blipFill>
        <p:spPr>
          <a:xfrm>
            <a:off x="5103720" y="1600200"/>
            <a:ext cx="3124440" cy="45306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0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4" name="AutoShape 11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одачи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91" name="Picture 7" descr="волейб5"/>
          <p:cNvPicPr/>
          <p:nvPr/>
        </p:nvPicPr>
        <p:blipFill>
          <a:blip r:embed="rId1"/>
          <a:stretch/>
        </p:blipFill>
        <p:spPr>
          <a:xfrm>
            <a:off x="611280" y="1484280"/>
            <a:ext cx="3600360" cy="23637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волейб9"/>
          <p:cNvPicPr/>
          <p:nvPr/>
        </p:nvPicPr>
        <p:blipFill>
          <a:blip r:embed="rId2"/>
          <a:stretch/>
        </p:blipFill>
        <p:spPr>
          <a:xfrm>
            <a:off x="3892680" y="2360520"/>
            <a:ext cx="4653000" cy="3724200"/>
          </a:xfrm>
          <a:prstGeom prst="rect">
            <a:avLst/>
          </a:prstGeom>
          <a:ln w="0">
            <a:noFill/>
          </a:ln>
        </p:spPr>
      </p:pic>
      <p:sp>
        <p:nvSpPr>
          <p:cNvPr id="293" name="AutoShape 9">
            <a:hlinkClick r:id="" action="ppaction://hlinkshowjump?jump=nextslide"/>
          </p:cNvPr>
          <p:cNvSpPr/>
          <p:nvPr/>
        </p:nvSpPr>
        <p:spPr>
          <a:xfrm>
            <a:off x="817236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4" name="AutoShape 10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7164360" y="630864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6" name="AutoShape 12"/>
          <p:cNvSpPr/>
          <p:nvPr/>
        </p:nvSpPr>
        <p:spPr>
          <a:xfrm>
            <a:off x="111600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8047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16202" y="3794"/>
                </a:lnTo>
                <a:lnTo>
                  <a:pt x="16202" y="17806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0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Размеры и линии площадк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Размеры – 9 х 18 м, разделенный пополам сеткой ( высота 2,43 м – мужской и 2,24 м женской сетки)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На площадки передняя зона, задняя зон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она подачи – 3-8 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вободная зона – 3-5 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она замен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08" name="Picture 7" descr="в"/>
          <p:cNvPicPr/>
          <p:nvPr/>
        </p:nvPicPr>
        <p:blipFill>
          <a:blip r:embed="rId1"/>
          <a:stretch/>
        </p:blipFill>
        <p:spPr>
          <a:xfrm>
            <a:off x="457200" y="1700280"/>
            <a:ext cx="4040280" cy="41781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0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84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384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384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384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8000"/>
                </a:solidFill>
                <a:latin typeface="Garamond"/>
              </a:rPr>
              <a:t>Волейбольный мяч</a:t>
            </a:r>
            <a:endParaRPr b="0" lang="en-US" sz="36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2920" y="23270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3300"/>
                </a:solidFill>
                <a:uFillTx/>
                <a:latin typeface="Verdana"/>
              </a:rPr>
              <a:t>Размеры: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кружность – 65-67 см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ес мяча-260-280г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Давление от 0,30 до 0,325 кг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/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м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²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14" name="Picture 7" descr="волей2"/>
          <p:cNvPicPr/>
          <p:nvPr/>
        </p:nvPicPr>
        <p:blipFill>
          <a:blip r:embed="rId1"/>
          <a:stretch/>
        </p:blipFill>
        <p:spPr>
          <a:xfrm>
            <a:off x="903240" y="2060640"/>
            <a:ext cx="2990880" cy="30258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8">
            <a:hlinkClick r:id="" action="ppaction://hlinkshowjump?jump=nextslide"/>
          </p:cNvPr>
          <p:cNvSpPr/>
          <p:nvPr/>
        </p:nvSpPr>
        <p:spPr>
          <a:xfrm>
            <a:off x="817236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6" name="AutoShape 9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2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400"/>
                            </p:stCondLst>
                            <p:childTnLst>
                              <p:par>
                                <p:cTn id="1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400"/>
                            </p:stCondLst>
                            <p:childTnLst>
                              <p:par>
                                <p:cTn id="2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400"/>
                            </p:stCondLst>
                            <p:childTnLst>
                              <p:par>
                                <p:cTn id="2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Одежда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Футболка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портивные шорты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Носки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Кроссовки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На колени одевают наколенники,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ащищающие коленный сустав от трав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20" name="Picture 7" descr="волей5"/>
          <p:cNvPicPr/>
          <p:nvPr/>
        </p:nvPicPr>
        <p:blipFill>
          <a:blip r:embed="rId1"/>
          <a:stretch/>
        </p:blipFill>
        <p:spPr>
          <a:xfrm>
            <a:off x="1258920" y="1700280"/>
            <a:ext cx="2333520" cy="43196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авила игры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24" name="Picture 14" descr="11"/>
          <p:cNvPicPr/>
          <p:nvPr/>
        </p:nvPicPr>
        <p:blipFill>
          <a:blip r:embed="rId1"/>
          <a:stretch/>
        </p:blipFill>
        <p:spPr>
          <a:xfrm>
            <a:off x="395280" y="1844640"/>
            <a:ext cx="3274920" cy="4392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24000" y="1412640"/>
            <a:ext cx="504036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Волейбол- коллективная игра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Она проводится между двумя командами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На площадке в каждой команде выступают шесть человек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Цель – игры ударами рук направить мяч на сторону соперника и там приземлить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Матч состоит из пяти партий, а они  - из эпизодов, в любом из них разыгрывается одно очко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Эпизод начинается с подачи мяча через сетку (подающий находится за линией своей площадки), после чего игроки неприятельской команды, передавая мяч, друг другу не более двух раз, третьим ударом отправляют его через сетку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Команда получает очко и право на следующую подачу, если её соперник не сумеет отбить мяч ( и он коснётся земли либо пола) или не перекинет мяч обратно через сетку за три касания. Выигрывает партию команда, набравшая 25 очков. При счете 24 : 24 игра продолжается до тех пор, пока разница не достигнет двух очков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В мачте побеждает команда, которая одолела соперника в трёх партиях из пяти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Правда. В пятой партии требуется набрать не 25, а 15очков. 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6" name="AutoShape 10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7" name="AutoShape 11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О технике игры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30" name="Oval 8"/>
          <p:cNvSpPr/>
          <p:nvPr/>
        </p:nvSpPr>
        <p:spPr>
          <a:xfrm>
            <a:off x="4067280" y="1557360"/>
            <a:ext cx="1728720" cy="165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Verdana"/>
              </a:rPr>
              <a:t>Техника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1" name="Oval 9"/>
          <p:cNvSpPr/>
          <p:nvPr/>
        </p:nvSpPr>
        <p:spPr>
          <a:xfrm>
            <a:off x="1692360" y="4797360"/>
            <a:ext cx="1727280" cy="1656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Приемы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2" name="Oval 10"/>
          <p:cNvSpPr/>
          <p:nvPr/>
        </p:nvSpPr>
        <p:spPr>
          <a:xfrm>
            <a:off x="7164360" y="3429000"/>
            <a:ext cx="1563840" cy="15843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Подачи</a:t>
            </a: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3" name="Oval 11"/>
          <p:cNvSpPr/>
          <p:nvPr/>
        </p:nvSpPr>
        <p:spPr>
          <a:xfrm>
            <a:off x="5724360" y="4653000"/>
            <a:ext cx="1800360" cy="158436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Передачи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4" name="Line 12"/>
          <p:cNvSpPr/>
          <p:nvPr/>
        </p:nvSpPr>
        <p:spPr>
          <a:xfrm flipH="1">
            <a:off x="3059280" y="3068640"/>
            <a:ext cx="1296720" cy="1800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5364000" y="3141720"/>
            <a:ext cx="1152720" cy="1511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5651640" y="2852640"/>
            <a:ext cx="1728720" cy="792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7" name="AutoShape 15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8" name="AutoShape 16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0" name="Oval 18"/>
          <p:cNvSpPr/>
          <p:nvPr/>
        </p:nvSpPr>
        <p:spPr>
          <a:xfrm>
            <a:off x="3780000" y="4581360"/>
            <a:ext cx="1800000" cy="172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6"/>
              </a:rPr>
              <a:t>Отбивание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1" name="Line 19"/>
          <p:cNvSpPr/>
          <p:nvPr/>
        </p:nvSpPr>
        <p:spPr>
          <a:xfrm flipH="1">
            <a:off x="4788000" y="3213000"/>
            <a:ext cx="71280" cy="12956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2" name="Oval 20"/>
          <p:cNvSpPr/>
          <p:nvPr/>
        </p:nvSpPr>
        <p:spPr>
          <a:xfrm>
            <a:off x="611280" y="1700280"/>
            <a:ext cx="2089080" cy="1490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7"/>
              </a:rPr>
              <a:t>Нападающий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8"/>
              </a:rPr>
              <a:t>удар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3" name="Line 21"/>
          <p:cNvSpPr/>
          <p:nvPr/>
        </p:nvSpPr>
        <p:spPr>
          <a:xfrm flipH="1">
            <a:off x="2626920" y="2781360"/>
            <a:ext cx="1513080" cy="1079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4" name="Oval 22"/>
          <p:cNvSpPr/>
          <p:nvPr/>
        </p:nvSpPr>
        <p:spPr>
          <a:xfrm>
            <a:off x="6804000" y="1844640"/>
            <a:ext cx="208764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9"/>
              </a:rPr>
              <a:t>Блокирование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5" name="Line 23"/>
          <p:cNvSpPr/>
          <p:nvPr/>
        </p:nvSpPr>
        <p:spPr>
          <a:xfrm flipV="1">
            <a:off x="5796000" y="2421000"/>
            <a:ext cx="1008000" cy="71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6" name="Oval 24"/>
          <p:cNvSpPr/>
          <p:nvPr/>
        </p:nvSpPr>
        <p:spPr>
          <a:xfrm>
            <a:off x="826920" y="3357720"/>
            <a:ext cx="1800360" cy="1511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10" action="ppaction://hlinksldjump"/>
              </a:rPr>
              <a:t>Впадение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7" name="Line 25"/>
          <p:cNvSpPr/>
          <p:nvPr/>
        </p:nvSpPr>
        <p:spPr>
          <a:xfrm flipH="1" flipV="1">
            <a:off x="2700000" y="2420640"/>
            <a:ext cx="1366920" cy="144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6000"/>
                            </p:stCondLst>
                            <p:childTnLst>
                              <p:par>
                                <p:cTn id="3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7000"/>
                            </p:stCondLst>
                            <p:childTnLst>
                              <p:par>
                                <p:cTn id="3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Стойка волейболист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22560" y="1599840"/>
            <a:ext cx="4764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Ноги расположены на ширине плеч и согнуты в коленных суставах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дна нога впереди, или ступни расположены параллельно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Туловище наклонено вперед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Чем ниже стойка, тем больше вперед наклонено туловищ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Руки согнуты в локтевых суставах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50" name="Picture 7" descr="волейб"/>
          <p:cNvPicPr/>
          <p:nvPr/>
        </p:nvPicPr>
        <p:blipFill>
          <a:blip r:embed="rId1"/>
          <a:stretch/>
        </p:blipFill>
        <p:spPr>
          <a:xfrm>
            <a:off x="684360" y="1917720"/>
            <a:ext cx="2609640" cy="38656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8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2" name="AutoShape 9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468360" y="5734080"/>
            <a:ext cx="12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Высокая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тойк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2325240" y="5734080"/>
            <a:ext cx="10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редняя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тойк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4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0"/>
                            </p:stCondLst>
                            <p:childTnLst>
                              <p:par>
                                <p:cTn id="4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8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000"/>
                            </p:stCondLst>
                            <p:childTnLst>
                              <p:par>
                                <p:cTn id="4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2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7000"/>
                            </p:stCondLst>
                            <p:childTnLst>
                              <p:par>
                                <p:cTn id="4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ахадур</cp:lastModifiedBy>
  <dcterms:modified xsi:type="dcterms:W3CDTF">2016-12-28T11:51:22Z</dcterms:modified>
  <cp:revision>59</cp:revision>
  <dc:subject/>
  <dc:title>PowerPoint Presentation</dc:title>
</cp:coreProperties>
</file>