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10.png" ContentType="image/png"/>
  <Override PartName="/ppt/media/image1.gif" ContentType="image/gif"/>
  <Override PartName="/ppt/media/image24.gif" ContentType="image/gif"/>
  <Override PartName="/ppt/media/image27.png" ContentType="image/png"/>
  <Override PartName="/ppt/media/image14.png" ContentType="image/png"/>
  <Override PartName="/ppt/media/image22.gif" ContentType="image/gif"/>
  <Override PartName="/ppt/media/image15.png" ContentType="image/png"/>
  <Override PartName="/ppt/media/image23.gif" ContentType="image/gif"/>
  <Override PartName="/ppt/media/image16.png" ContentType="image/png"/>
  <Override PartName="/ppt/media/image17.gif" ContentType="image/gif"/>
  <Override PartName="/ppt/media/image18.gif" ContentType="image/gif"/>
  <Override PartName="/ppt/media/image2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E25-AEB0-4D3E-82B2-FA1CF4F1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01F-918C-4044-BFF3-DFC0624B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9B9-47CD-43EB-B8DB-04D19645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6CC-02B6-44B4-815C-D6B8042B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CAF3-A88B-43B3-9E83-A4A33DCC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F86B-D9D6-4062-9853-011C87B6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4F01-8DA0-43F3-9CAB-7F8085E8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7425-E3F3-440D-864E-3F81328E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F766-3423-42CE-8DAA-F850D87E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3D8A-7DD4-4243-9419-0706F6DE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75A7-94BB-4C22-90A3-3BB6F380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EBC-3CBA-4587-9986-CC763654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3D10-B475-4E6D-B4BC-8E05EEC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175E-F2B0-424C-A070-455A5CA4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D859-D96C-4C6E-9C39-E62F50F9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5FA3-A4AA-443A-AAA8-9B2400D7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D62A-139A-4AF2-BE9C-9E1C3D5F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6EB-F802-456B-8465-14FCAE2D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5B1-7BEF-488B-900B-1ECD44C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A59-DCB0-4FB3-A446-98A6F36B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513-4083-4DC0-9614-D03064BE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5B6-F3BC-483E-90FA-BCA30FE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4B7-5F79-4213-AF8E-CDD7C6CA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B3C-6D38-47C0-9C69-FE9982F1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8412-EF80-4298-95DD-C7175A1D3F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8918-C2FD-48F2-81EF-0EC5F2D3BD48}" type="slidenum">
              <a:rPr b="0" lang="ru-RU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54;&#1073;%20&#1072;&#1074;&#1090;&#1086;&#1088;&#1077;.ppt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12. &#1058;&#1077;&#1093;&#1085;&#1080;&#1082;&#1072; &#1074;&#1099;&#1087;&#1086;&#1083;&#1085;&#1077;&#1085;&#1080;&#1103; &#1087;&#1077;&#1088;&#1077;&#1076;&#1072;&#1095;&#1080; &#1084;&#1103;&#1095;&#1072; &#1089;&#1074;&#1077;&#1088;&#1093;&#1091; &#1076;&#1074;&#1091;&#1084;&#1103; &#1088;&#1091;&#1082;&#1072;&#1084;&#1080;" TargetMode="External"/><Relationship Id="rId2" Type="http://schemas.openxmlformats.org/officeDocument/2006/relationships/hyperlink" Target="file:///&#1042;&#1086;&#1083;&#1077;&#1081;&#1073;&#1086;&#1083;.ppt#13. &#1058;&#1077;&#1093;&#1085;&#1080;&#1082;&#1072; &#1074;&#1099;&#1087;&#1086;&#1083;&#1085;&#1077;&#1085;&#1080;&#1103; &#1087;&#1077;&#1088;&#1077;&#1076;&#1072;&#1095;&#1080; &#1084;&#1103;&#1095;&#1072;, &#1089;&#1090;&#1086;&#1103; &#1089;&#1087;&#1080;&#1085;&#1086;&#1081; &#1082; &#1094;&#1077;&#1083;&#1080;" TargetMode="External"/><Relationship Id="rId3" Type="http://schemas.openxmlformats.org/officeDocument/2006/relationships/slide" Target="slide15.xml"/><Relationship Id="rId4" Type="http://schemas.openxmlformats.org/officeDocument/2006/relationships/hyperlink" Target="file:///&#1042;&#1086;&#1083;&#1077;&#1081;&#1073;&#1086;&#1083;.ppt#13. &#1058;&#1077;&#1093;&#1085;&#1080;&#1082;&#1072; &#1074;&#1099;&#1087;&#1086;&#1083;&#1085;&#1077;&#1085;&#1080;&#1103; &#1087;&#1077;&#1088;&#1077;&#1076;&#1072;&#1095;&#1080; &#1084;&#1103;&#1095;&#1072; &#1095;&#1077;&#1088;&#1077;&#1079; &#1089;&#1077;&#1090;&#1082;&#1091; &#1074; &#1087;&#1088;&#1099;&#1078;&#1082;&#1077;" TargetMode="External"/><Relationship Id="rId5" Type="http://schemas.openxmlformats.org/officeDocument/2006/relationships/hyperlink" Target="file:///&#1042;&#1086;&#1083;&#1077;&#1081;&#1073;&#1086;&#1083;.ppt#14. &#1058;&#1077;&#1093;&#1085;&#1080;&#1082;&#1072; &#1074;&#1099;&#1087;&#1086;&#1083;&#1085;&#1077;&#1085;&#1080;&#1103; &#1087;&#1077;&#1088;&#1077;&#1076;&#1072;&#1095;&#1080; &#1084;&#1103;&#1095;&#1072; &#1076;&#1074;&#1091;&#1084;&#1103; &#1088;&#1091;&#1082;&#1072;&#1084;&#1080; &#1089;&#1085;&#1080;&#1079;&#1091;" TargetMode="External"/><Relationship Id="rId6" Type="http://schemas.openxmlformats.org/officeDocument/2006/relationships/hyperlink" Target="file:///&#1042;&#1086;&#1083;&#1077;&#1081;&#1073;&#1086;&#1083;.ppt" TargetMode="External"/><Relationship Id="rId7" Type="http://schemas.openxmlformats.org/officeDocument/2006/relationships/image" Target="../media/image8.png"/><Relationship Id="rId8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5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6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&#1042;&#1086;&#1083;&#1077;&#1081;&#1073;&#1086;&#1083;.ppt#19. &#1058;&#1077;&#1093;&#1085;&#1080;&#1082;&#1072; &#1074;&#1099;&#1087;&#1086;&#1083;&#1085;&#1077;&#1085;&#1080;&#1103; &#1085;&#1080;&#1078;&#1085;&#1077;&#1081; &#1087;&#1088;&#1103;&#1084;&#1086;&#1081; &#1087;&#1086;&#1076;&#1072;&#1095;&#1080;" TargetMode="External"/><Relationship Id="rId3" Type="http://schemas.openxmlformats.org/officeDocument/2006/relationships/hyperlink" Target="file:///&#1042;&#1086;&#1083;&#1077;&#1081;&#1073;&#1086;&#1083;.ppt#20. &#1058;&#1077;&#1093;&#1085;&#1080;&#1082;&#1072; &#1074;&#1099;&#1087;&#1086;&#1083;&#1085;&#1077;&#1085;&#1080;&#1103; &#1074;&#1077;&#1088;&#1093;&#1085;&#1077;&#1081; &#1087;&#1088;&#1103;&#1084;&#1086;&#1081; &#1087;&#1086;&#1076;&#1072;&#1095;&#1080;" TargetMode="External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slide30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slide30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3. &#1048;&#1079; &#1080;&#1089;&#1090;&#1086;&#1088;&#1080;&#1080; &#1074;&#1086;&#1083;&#1077;&#1081;&#1073;&#1086;&#1083;&#1072;" TargetMode="External"/><Relationship Id="rId2" Type="http://schemas.openxmlformats.org/officeDocument/2006/relationships/hyperlink" Target="file:///&#1042;&#1086;&#1083;&#1077;&#1081;&#1073;&#1086;&#1083;.ppt#4. &#1056;&#1072;&#1079;&#1084;&#1077;&#1088;&#1099; &#1080; &#1083;&#1080;&#1085;&#1080;&#1080; &#1087;&#1083;&#1086;&#1097;&#1072;&#1076;&#1082;&#1080;" TargetMode="External"/><Relationship Id="rId3" Type="http://schemas.openxmlformats.org/officeDocument/2006/relationships/hyperlink" Target="file:///&#1042;&#1086;&#1083;&#1077;&#1081;&#1073;&#1086;&#1083;.ppt#5. &#1042;&#1086;&#1083;&#1077;&#1081;&#1073;&#1086;&#1083;&#1100;&#1085;&#1099;&#1081; &#1084;&#1103;&#1095;" TargetMode="External"/><Relationship Id="rId4" Type="http://schemas.openxmlformats.org/officeDocument/2006/relationships/hyperlink" Target="file:///&#1042;&#1086;&#1083;&#1077;&#1081;&#1073;&#1086;&#1083;.ppt#6. &#1054;&#1076;&#1077;&#1078;&#1076;&#1072;" TargetMode="External"/><Relationship Id="rId5" Type="http://schemas.openxmlformats.org/officeDocument/2006/relationships/hyperlink" Target="file:///&#1042;&#1086;&#1083;&#1077;&#1081;&#1073;&#1086;&#1083;.ppt#7. &#1055;&#1088;&#1072;&#1074;&#1080;&#1083;&#1072; &#1080;&#1075;&#1088;&#1099;" TargetMode="External"/><Relationship Id="rId6" Type="http://schemas.openxmlformats.org/officeDocument/2006/relationships/hyperlink" Target="file:///&#1042;&#1086;&#1083;&#1077;&#1081;&#1073;&#1086;&#1083;.ppt#8. &#1054; &#1090;&#1077;&#1093;&#1085;&#1080;&#1082;&#1077; &#1080;&#1075;&#1088;&#1099;" TargetMode="External"/><Relationship Id="rId7" Type="http://schemas.openxmlformats.org/officeDocument/2006/relationships/hyperlink" Target="file:///&#1042;&#1086;&#1083;&#1077;&#1081;&#1073;&#1086;&#1083;.ppt#9. &#1057;&#1090;&#1086;&#1081;&#1082;&#1072; &#1074;&#1086;&#1083;&#1077;&#1081;&#1073;&#1086;&#1083;&#1080;&#1089;&#1090;&#1072;" TargetMode="External"/><Relationship Id="rId8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9" Type="http://schemas.openxmlformats.org/officeDocument/2006/relationships/hyperlink" Target="file:///&#1042;&#1086;&#1083;&#1077;&#1081;&#1073;&#1086;&#1083;.ppt#11. &#1055;&#1088;&#1072;&#1074;&#1080;&#1083;&#1100;&#1085;&#1086;&#1077; &#1087;&#1086;&#1083;&#1086;&#1078;&#1077;&#1085;&#1080;&#1077; &#1082;&#1080;&#1089;&#1090;&#1077;&#1081; &#1080; &#1087;&#1072;&#1083;&#1100;&#1094;&#1077;&#1074;" TargetMode="External"/><Relationship Id="rId10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11" Type="http://schemas.openxmlformats.org/officeDocument/2006/relationships/hyperlink" Target="file:///&#1042;&#1086;&#1083;&#1077;&#1081;&#1073;&#1086;&#1083;.ppt#18. &#1055;&#1086;&#1076;&#1072;&#1095;&#1080;" TargetMode="External"/><Relationship Id="rId12" Type="http://schemas.openxmlformats.org/officeDocument/2006/relationships/hyperlink" Target="file:///&#1042;&#1086;&#1083;&#1077;&#1081;&#1073;&#1086;&#1083;.ppt#21. &#1055;&#1088;&#1080;&#1077;&#1084; &#1084;&#1103;&#1095;&#1072;" TargetMode="External"/><Relationship Id="rId13" Type="http://schemas.openxmlformats.org/officeDocument/2006/relationships/hyperlink" Target="file:///&#1042;&#1086;&#1083;&#1077;&#1081;&#1073;&#1086;&#1083;.ppt#24. &#1055;&#1088;&#1080;&#1077;&#1084; &#1084;&#1103;&#1095;&#1072; &#1074; &#1087;&#1072;&#1076;&#1077;&#1085;&#1080;&#1077;" TargetMode="External"/><Relationship Id="rId14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15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6" Type="http://schemas.openxmlformats.org/officeDocument/2006/relationships/hyperlink" Target="file:///&#1042;&#1086;&#1083;&#1077;&#1081;&#1073;&#1086;&#1083;.ppt#31. &#1055;&#1077;&#1088;&#1077;&#1076;&#1072;&#1095;&#1080;" TargetMode="External"/><Relationship Id="rId17" Type="http://schemas.openxmlformats.org/officeDocument/2006/relationships/hyperlink" Target="file:///&#1042;&#1086;&#1083;&#1077;&#1081;&#1073;&#1086;&#1083;.ppt#32. &#1055;&#1088;&#1080;&#1077;&#1084;&#1099;" TargetMode="External"/><Relationship Id="rId18" Type="http://schemas.openxmlformats.org/officeDocument/2006/relationships/hyperlink" Target="file:///&#1042;&#1086;&#1083;&#1077;&#1081;&#1073;&#1086;&#1083;.ppt#33. &#1055;&#1086;&#1076;&#1072;&#1095;&#1080;" TargetMode="External"/><Relationship Id="rId19" Type="http://schemas.openxmlformats.org/officeDocument/2006/relationships/image" Target="../media/image1.gif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9.png"/><Relationship Id="rId3" Type="http://schemas.openxmlformats.org/officeDocument/2006/relationships/hyperlink" Target="file:///&#1042;&#1086;&#1083;&#1077;&#1081;&#1073;&#1086;&#1083;.ppt#22. &#1058;&#1077;&#1093;&#1085;&#1080;&#1082;&#1072; &#1074;&#1099;&#1087;&#1086;&#1083;&#1085;&#1077;&#1085;&#1080;&#1103; &#1087;&#1088;&#1080;&#1077;&#1084;&#1072; &#1084;&#1103;&#1095;&#1072; &#1076;&#1074;&#1091;&#1084;&#1103; &#1088;&#1091;&#1082;&#1072;&#1084;&#1080; &#1089;&#1074;&#1077;&#1088;&#1093;&#1091;" TargetMode="External"/><Relationship Id="rId4" Type="http://schemas.openxmlformats.org/officeDocument/2006/relationships/hyperlink" Target="file:///&#1042;&#1086;&#1083;&#1077;&#1081;&#1073;&#1086;&#1083;.ppt#23. &#1058;&#1077;&#1093;&#1085;&#1080;&#1082;&#1072; &#1074;&#1099;&#1087;&#1086;&#1083;&#1085;&#1077;&#1085;&#1080;&#1103; &#1087;&#1088;&#1080;&#1077;&#1084;&#1072; &#1084;&#1103;&#1095;&#1072; &#1089;&#1085;&#1080;&#1079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20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" Target="slide29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slide29.xm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8. &#1058;&#1077;&#1093;&#1085;&#1080;&#1082;&#1072; &#1074;&#1099;&#1087;&#1086;&#1083;&#1085;&#1077;&#1085;&#1080;&#1103; &#1085;&#1072;&#1087;&#1072;&#1076;&#1072;&#1102;&#1097;&#1077;&#1075;&#1086; &#1091;&#1076;&#1072;&#1088;&#1072;" TargetMode="External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2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30. &#1058;&#1077;&#1093;&#1085;&#1080;&#1082;&#1072; &#1074;&#1099;&#1087;&#1086;&#1083;&#1085;&#1077;&#1085;&#1080;&#1103; &#1073;&#1083;&#1086;&#1082;&#1080;&#1088;&#1086;&#1074;&#1072;&#1085;&#1080;&#1103; &#1084;&#1103;&#1095;&#1072;" TargetMode="External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5.png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&#1042;&#1086;&#1083;&#1077;&#1081;&#1073;&#1086;&#1083;.ppt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1. &#1055;&#1088;&#1080;&#1077;&#1084; &#1084;&#1103;&#1095;&#1072;" TargetMode="External"/><Relationship Id="rId2" Type="http://schemas.openxmlformats.org/officeDocument/2006/relationships/hyperlink" Target="file:///&#1042;&#1086;&#1083;&#1077;&#1081;&#1073;&#1086;&#1083;.ppt#18. &#1055;&#1086;&#1076;&#1072;&#1095;&#1080;" TargetMode="External"/><Relationship Id="rId3" Type="http://schemas.openxmlformats.org/officeDocument/2006/relationships/hyperlink" Target="file:///&#1042;&#1086;&#1083;&#1077;&#1081;&#1073;&#1086;&#1083;.ppt#18. &#1055;&#1086;&#1076;&#1072;&#1095;&#1080;" TargetMode="External"/><Relationship Id="rId4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7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8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9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325728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Verdana"/>
              </a:rPr>
              <a:t>Основы техники владения мячом 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Verdana"/>
              </a:rPr>
              <a:t>5-11 классы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26920" y="69228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лейбол</a:t>
            </a:r>
            <a:endParaRPr b="1" i="1" lang="en-US" sz="9600" spc="1" strike="noStrike">
              <a:ln w="9360">
                <a:solidFill>
                  <a:srgbClr val="008000"/>
                </a:solidFill>
                <a:miter/>
              </a:ln>
              <a:solidFill>
                <a:srgbClr val="00206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AutoShape 9">
            <a:hlinkClick r:id="rId1"/>
          </p:cNvPr>
          <p:cNvSpPr/>
          <p:nvPr/>
        </p:nvSpPr>
        <p:spPr>
          <a:xfrm>
            <a:off x="46836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8036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16191" y="3794"/>
                </a:lnTo>
                <a:lnTo>
                  <a:pt x="16191" y="17806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а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мяча сверху двумя руками составляет основу игр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взаимодействии нападающих для ускорения атаки и дезорганизации блока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на дает возможность выполнять различные упражнения по технике, а также играть через сет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(техника: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верху двумя руками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;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 action="ppaction://hlinksldjump"/>
              </a:rPr>
              <a:t>стоя спиной к цели;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через сетку в прыжке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;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двумя руками снизу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58" name="Picture 9" descr="в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3640" y="1628640"/>
            <a:ext cx="3265560" cy="45309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7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AutoShape 8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ьное положение кистей и пальцев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63" name="Picture 7" descr="вол10"/>
          <p:cNvPicPr/>
          <p:nvPr/>
        </p:nvPicPr>
        <p:blipFill>
          <a:blip r:embed="rId1"/>
          <a:stretch/>
        </p:blipFill>
        <p:spPr>
          <a:xfrm>
            <a:off x="324000" y="1916280"/>
            <a:ext cx="8510400" cy="29955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Положение кистей рук и расположение пальцев на мяче, во время передачи мяча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6" name="AutoShape 13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7" name="AutoShape 14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69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волейб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2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3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5" name="AutoShape 17">
            <a:hlinkClick r:id="rId5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AutoShape 18">
            <a:hlinkClick r:id="rId6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ыжок выполняется с места и с укороченного разбега (1-2 шага) толчком двух но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в высшей точка прыжка за счет активного разгибания рук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79" name="Picture 7" descr="волейб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1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AutoShape 11">
            <a:hlinkClick r:id="rId4" action="ppaction://hlinksldjump"/>
          </p:cNvPr>
          <p:cNvSpPr/>
          <p:nvPr/>
        </p:nvSpPr>
        <p:spPr>
          <a:xfrm>
            <a:off x="1332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6" name="Picture 7" descr="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6520" y="2719440"/>
            <a:ext cx="4040280" cy="22921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8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0" name="AutoShape 12">
            <a:hlinkClick r:id="rId4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92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4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5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96" name="Picture 11" descr="волейб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1630440"/>
            <a:ext cx="2552760" cy="33829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AutoShape 13">
            <a:hlinkClick r:id="rId5" action="ppaction://hlinksldjump"/>
          </p:cNvPr>
          <p:cNvSpPr/>
          <p:nvPr/>
        </p:nvSpPr>
        <p:spPr>
          <a:xfrm>
            <a:off x="12589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38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385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85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385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38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38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отбивания мяча кулаком у сет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Лучше расположить боком к сетке (правым при отбивании правой рукой), иногда и спин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десь важно рассчитать прыжок, что бы встретить мяч над сетк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01" name="Picture 7" descr="волейб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628640"/>
            <a:ext cx="1452600" cy="4530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768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768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768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998"/>
                            </p:stCondLst>
                            <p:childTnLst>
                              <p:par>
                                <p:cTn id="6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38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385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38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38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998"/>
                            </p:stCondLst>
                            <p:childTnLst>
                              <p:par>
                                <p:cTn id="6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385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385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385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385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998"/>
                            </p:stCondLst>
                            <p:childTnLst>
                              <p:par>
                                <p:cTn id="6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385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385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6" dur="385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8" dur="385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06" name="Picture 19" descr="верхняя прямая подача"/>
          <p:cNvPicPr/>
          <p:nvPr/>
        </p:nvPicPr>
        <p:blipFill>
          <a:blip r:embed="rId1"/>
          <a:stretch/>
        </p:blipFill>
        <p:spPr>
          <a:xfrm>
            <a:off x="324000" y="1128600"/>
            <a:ext cx="3657600" cy="2660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Игра начинается подаче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им приемом мяч вводится в игр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оревнования без подачи невозмож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чко команда также может выиграть только тогда, когда она подавала, а соперник совершил ошиб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(техника: нижняя прямая подача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ерхняя прямая подач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8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9" name="AutoShape 15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11" name="Picture 21" descr="нижняя прямая подача"/>
          <p:cNvPicPr/>
          <p:nvPr/>
        </p:nvPicPr>
        <p:blipFill>
          <a:blip r:embed="rId5"/>
          <a:stretch/>
        </p:blipFill>
        <p:spPr>
          <a:xfrm>
            <a:off x="324000" y="371628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Левая рука, согнутая в локтевом суставе, удерживает мяч на уровне пояс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равая (бьющая) рука отведена назад в положении замах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Бьющая рука направляет мяч вперед-вверх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4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5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AutoShape 11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18" name="Picture 13" descr="нижняя прямая подача"/>
          <p:cNvPicPr/>
          <p:nvPr/>
        </p:nvPicPr>
        <p:blipFill>
          <a:blip r:embed="rId3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35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400"/>
                            </p:stCondLst>
                            <p:childTnLst>
                              <p:par>
                                <p:cTn id="7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900"/>
                            </p:stCondLst>
                            <p:childTnLst>
                              <p:par>
                                <p:cTn id="7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4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4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900"/>
                            </p:stCondLst>
                            <p:childTnLst>
                              <p:par>
                                <p:cTn id="7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4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4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900"/>
                            </p:stCondLst>
                            <p:childTnLst>
                              <p:par>
                                <p:cTn id="7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4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4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7900"/>
                            </p:stCondLst>
                            <p:childTnLst>
                              <p:par>
                                <p:cTn id="7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4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900"/>
                            </p:stCondLst>
                            <p:childTnLst>
                              <p:par>
                                <p:cTn id="77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4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4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лицом к сетке, левая нога впереди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1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2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4" name="AutoShape 14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25" name="Picture 16" descr="верхняя прямая подача"/>
          <p:cNvPicPr/>
          <p:nvPr/>
        </p:nvPicPr>
        <p:blipFill>
          <a:blip r:embed="rId3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768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768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9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1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998"/>
                            </p:stCondLst>
                            <p:childTnLst>
                              <p:par>
                                <p:cTn id="7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998"/>
                            </p:stCondLst>
                            <p:childTnLst>
                              <p:par>
                                <p:cTn id="7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0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998"/>
                            </p:stCondLst>
                            <p:childTnLst>
                              <p:par>
                                <p:cTn id="8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998"/>
                            </p:stCondLst>
                            <p:childTnLst>
                              <p:par>
                                <p:cTn id="8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8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одержани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Из истории волейбол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Размеры и линии площадк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олейбольный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Одежд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Правила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 технике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тойка волейболист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Передача мяча сверху двумя рукам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Правильное положение кистей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0"/>
              </a:rPr>
              <a:t>Отбивание мяча кулаком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1"/>
              </a:rPr>
              <a:t>Подачи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2"/>
              </a:rPr>
              <a:t>Прием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3"/>
              </a:rPr>
              <a:t>Прием мяча в падени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4"/>
              </a:rPr>
              <a:t>Нападающий удар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5"/>
              </a:rPr>
              <a:t>Блокирования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6"/>
              </a:rPr>
              <a:t>Передачи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7"/>
              </a:rPr>
              <a:t>Прием мяча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8"/>
              </a:rPr>
              <a:t>Подачи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97" name="Picture 8" descr="J0296828"/>
          <p:cNvPicPr/>
          <p:nvPr/>
        </p:nvPicPr>
        <p:blipFill>
          <a:blip r:embed="rId19"/>
          <a:stretch/>
        </p:blipFill>
        <p:spPr>
          <a:xfrm>
            <a:off x="4960800" y="2043000"/>
            <a:ext cx="3598920" cy="31924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9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" name="AutoShape 10">
            <a:hlinkClick r:id="" action="ppaction://hlinkshowjump?jump=previousslide"/>
          </p:cNvPr>
          <p:cNvSpPr/>
          <p:nvPr/>
        </p:nvSpPr>
        <p:spPr>
          <a:xfrm>
            <a:off x="7380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7" name="Picture 11" descr="в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(техника: двумя руками сверху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низу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9" name="AutoShape 14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0" name="AutoShape 15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77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77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0" dur="77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двумя руками сверх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33" name="Picture 10" descr="вол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8066160" cy="38289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5" name="AutoShape 12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38" name="Picture 13" descr="вол1"/>
          <p:cNvPicPr/>
          <p:nvPr/>
        </p:nvPicPr>
        <p:blipFill>
          <a:blip r:embed="rId1"/>
          <a:stretch/>
        </p:blipFill>
        <p:spPr>
          <a:xfrm>
            <a:off x="825480" y="1630440"/>
            <a:ext cx="1971720" cy="28810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0" name="AutoShape 19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1" name="AutoShape 20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3" name="AutoShape 22">
            <a:hlinkClick r:id="rId3" action="ppaction://hlinksldjump"/>
          </p:cNvPr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4" name="Picture 24" descr="прием мяча снизу двумя руками"/>
          <p:cNvPicPr/>
          <p:nvPr/>
        </p:nvPicPr>
        <p:blipFill>
          <a:blip r:embed="rId4"/>
          <a:stretch/>
        </p:blipFill>
        <p:spPr>
          <a:xfrm>
            <a:off x="3708360" y="1052640"/>
            <a:ext cx="4826160" cy="351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AutoShape 13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8" name="AutoShape 14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AutoShape 16">
            <a:hlinkClick r:id="rId2" action="ppaction://hlinksldjump"/>
          </p:cNvPr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1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3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5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Нападающий удар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 самый эффективный способ завершения атаки, именно он чаще всего приносит победные оч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4" name="Picture 7" descr="в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628640"/>
            <a:ext cx="3124440" cy="453096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9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                                                         нужно пробить по мячу, тем расслабленней должна быть кисть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AutoShape 12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AutoShape 13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3" name="Picture 16" descr="нападающий удар"/>
          <p:cNvPicPr/>
          <p:nvPr/>
        </p:nvPicPr>
        <p:blipFill>
          <a:blip r:embed="rId2"/>
          <a:stretch/>
        </p:blipFill>
        <p:spPr>
          <a:xfrm>
            <a:off x="684360" y="1484280"/>
            <a:ext cx="62020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2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ыставление рук над верхним краем сетки для преграждения полета мяча после нападающего удара называется блокированием. Оно применяется для противодействия нападающего удара. Выполняется одним или двумя (реже тремя) игроками в прыжке с места или после перемещ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6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3794"/>
                </a:moveTo>
                <a:lnTo>
                  <a:pt x="27496" y="10800"/>
                </a:lnTo>
                <a:lnTo>
                  <a:pt x="1348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7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9" name="Picture 11" descr="в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1557360"/>
            <a:ext cx="33451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385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6" dur="385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8" dur="38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0" dur="38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000"/>
                            </p:stCondLst>
                            <p:childTnLst>
                              <p:par>
                                <p:cTn id="9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385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6" dur="385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8" dur="385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0" dur="385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9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385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6" dur="385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8" dur="385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0" dur="385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2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3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75" name="Picture 14" descr="одиночное блокирование мяча"/>
          <p:cNvPicPr/>
          <p:nvPr/>
        </p:nvPicPr>
        <p:blipFill>
          <a:blip r:embed="rId2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77" name="Picture 11" descr="волейб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2333520" cy="3745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волей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6640"/>
            <a:ext cx="3122640" cy="3744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волейб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1557360"/>
            <a:ext cx="2101680" cy="352728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16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1" name="AutoShape 17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5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7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ы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84" name="Picture 9" descr="вол3"/>
          <p:cNvPicPr/>
          <p:nvPr/>
        </p:nvPicPr>
        <p:blipFill>
          <a:blip r:embed="rId1"/>
          <a:stretch/>
        </p:blipFill>
        <p:spPr>
          <a:xfrm>
            <a:off x="468360" y="1341360"/>
            <a:ext cx="5975280" cy="1778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вол4"/>
          <p:cNvPicPr/>
          <p:nvPr/>
        </p:nvPicPr>
        <p:blipFill>
          <a:blip r:embed="rId2"/>
          <a:stretch/>
        </p:blipFill>
        <p:spPr>
          <a:xfrm>
            <a:off x="3274920" y="3067200"/>
            <a:ext cx="4897440" cy="1471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волейб6"/>
          <p:cNvPicPr/>
          <p:nvPr/>
        </p:nvPicPr>
        <p:blipFill>
          <a:blip r:embed="rId3"/>
          <a:stretch/>
        </p:blipFill>
        <p:spPr>
          <a:xfrm>
            <a:off x="826920" y="4581360"/>
            <a:ext cx="4465800" cy="188280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2">
            <a:hlinkClick r:id="" action="ppaction://hlinkshowjump?jump=nextslide"/>
          </p:cNvPr>
          <p:cNvSpPr/>
          <p:nvPr/>
        </p:nvSpPr>
        <p:spPr>
          <a:xfrm>
            <a:off x="817236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8" name="AutoShape 13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7164360" y="623736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Из истории волейбол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Приоритет в создании волейбола принадлежит Уильяму Моргану, преподавателю физкультуры колледжа Ассоциации молодых христиан в американском городе Холиоке (штат Массачусетс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Однажды Морган предложил своим питомцам подбросить через рыболовную сеть надутую резиновую камеру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Вскоре он с удивлением обнаружил, что те обмениваются пасами с явным азартом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Крестным отцом нового вида спорта профессор Спрингфилдского колледжа Альфред Холстед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Он назвал новую игру волейболом, что в переводе с английского означает «летающий мяч»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Действительно, это единственная спортивная игра, где главная задача  - не дать мячу коснуться земли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2" name="Picture 9" descr="в1"/>
          <p:cNvPicPr/>
          <p:nvPr/>
        </p:nvPicPr>
        <p:blipFill>
          <a:blip r:embed="rId1"/>
          <a:stretch/>
        </p:blipFill>
        <p:spPr>
          <a:xfrm>
            <a:off x="5103720" y="1600200"/>
            <a:ext cx="3124440" cy="45306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AutoShape 11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91" name="Picture 7" descr="волейб5"/>
          <p:cNvPicPr/>
          <p:nvPr/>
        </p:nvPicPr>
        <p:blipFill>
          <a:blip r:embed="rId1"/>
          <a:stretch/>
        </p:blipFill>
        <p:spPr>
          <a:xfrm>
            <a:off x="611280" y="1484280"/>
            <a:ext cx="3600360" cy="2363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волейб9"/>
          <p:cNvPicPr/>
          <p:nvPr/>
        </p:nvPicPr>
        <p:blipFill>
          <a:blip r:embed="rId2"/>
          <a:stretch/>
        </p:blipFill>
        <p:spPr>
          <a:xfrm>
            <a:off x="3892680" y="2360520"/>
            <a:ext cx="4653000" cy="372420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9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4" name="AutoShape 10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716436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6" name="AutoShape 12"/>
          <p:cNvSpPr/>
          <p:nvPr/>
        </p:nvSpPr>
        <p:spPr>
          <a:xfrm>
            <a:off x="111600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8047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16202" y="3794"/>
                </a:lnTo>
                <a:lnTo>
                  <a:pt x="16202" y="17806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Размеры и линии площад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азмеры – 9 х 18 м, разделенный пополам сеткой ( высота 2,43 м – мужской и 2,24 м женской сетки)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площадки передняя зона, задняя зон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подачи – 3-8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вободная зона – 3-5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заме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8" name="Picture 7" descr="в"/>
          <p:cNvPicPr/>
          <p:nvPr/>
        </p:nvPicPr>
        <p:blipFill>
          <a:blip r:embed="rId1"/>
          <a:stretch/>
        </p:blipFill>
        <p:spPr>
          <a:xfrm>
            <a:off x="457200" y="1700280"/>
            <a:ext cx="4040280" cy="41781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84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84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384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384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8000"/>
                </a:solidFill>
                <a:latin typeface="Garamond"/>
              </a:rPr>
              <a:t>Волейбольный мяч</a:t>
            </a:r>
            <a:endParaRPr b="0" lang="en-US" sz="36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292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Размеры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кружность – 65-67 см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ес мяча-260-280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Давление от 0,30 до 0,325 кг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/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м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²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14" name="Picture 7" descr="волей2"/>
          <p:cNvPicPr/>
          <p:nvPr/>
        </p:nvPicPr>
        <p:blipFill>
          <a:blip r:embed="rId1"/>
          <a:stretch/>
        </p:blipFill>
        <p:spPr>
          <a:xfrm>
            <a:off x="903240" y="2060640"/>
            <a:ext cx="2990880" cy="3025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2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4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400"/>
                            </p:stCondLst>
                            <p:childTnLst>
                              <p:par>
                                <p:cTn id="2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4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дежда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Футболка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портивные шорты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ски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Кроссовки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колени одевают наколенники,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ащищающие коленный сустав от трав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20" name="Picture 7" descr="волей5"/>
          <p:cNvPicPr/>
          <p:nvPr/>
        </p:nvPicPr>
        <p:blipFill>
          <a:blip r:embed="rId1"/>
          <a:stretch/>
        </p:blipFill>
        <p:spPr>
          <a:xfrm>
            <a:off x="1258920" y="1700280"/>
            <a:ext cx="233352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а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24" name="Picture 14" descr="11"/>
          <p:cNvPicPr/>
          <p:nvPr/>
        </p:nvPicPr>
        <p:blipFill>
          <a:blip r:embed="rId1"/>
          <a:stretch/>
        </p:blipFill>
        <p:spPr>
          <a:xfrm>
            <a:off x="395280" y="1844640"/>
            <a:ext cx="327492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504036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олейбол- коллективная игра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Она проводится между двумя командам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На площадке в каждой команде выступают шесть человек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Цель – игры ударами рук направить мяч на сторону соперника и там приземлить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Матч состоит из пяти партий, а они  - из эпизодов, в любом из них разыгрывается одно очко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Эпизод начинается с подачи мяча через сетку (подающий находится за линией своей площадки), после чего игроки неприятельской команды, передавая мяч, друг другу не более двух раз, третьим ударом отправляют его через сетку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Команда получает очко и право на следующую подачу, если её соперник не сумеет отбить мяч ( и он коснётся земли либо пола) или не перекинет мяч обратно через сетку за три касания. Выигрывает партию команда, набравшая 25 очков. При счете 24 : 24 игра продолжается до тех пор, пока разница не достигнет двух очков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 мачте побеждает команда, которая одолела соперника в трёх партиях из пят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Правда. В пятой партии требуется набрать не 25, а 15очков. 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 технике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4067280" y="1557360"/>
            <a:ext cx="1728720" cy="165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Техника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1692360" y="4797360"/>
            <a:ext cx="1727280" cy="165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Приемы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7164360" y="3429000"/>
            <a:ext cx="1563840" cy="1584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Подачи</a:t>
            </a: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5724360" y="4653000"/>
            <a:ext cx="1800360" cy="1584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Передач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3059280" y="3068640"/>
            <a:ext cx="129672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5364000" y="3141720"/>
            <a:ext cx="1152720" cy="151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5651640" y="2852640"/>
            <a:ext cx="1728720" cy="792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7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8" name="AutoShape 16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3780000" y="4581360"/>
            <a:ext cx="1800000" cy="172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тбивание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1" name="Line 19"/>
          <p:cNvSpPr/>
          <p:nvPr/>
        </p:nvSpPr>
        <p:spPr>
          <a:xfrm flipH="1">
            <a:off x="4788000" y="3213000"/>
            <a:ext cx="71280" cy="129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611280" y="1700280"/>
            <a:ext cx="2089080" cy="14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Нападающий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удар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Line 21"/>
          <p:cNvSpPr/>
          <p:nvPr/>
        </p:nvSpPr>
        <p:spPr>
          <a:xfrm flipH="1">
            <a:off x="2626920" y="2781360"/>
            <a:ext cx="1513080" cy="107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6804000" y="1844640"/>
            <a:ext cx="20876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Блокирование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5" name="Line 23"/>
          <p:cNvSpPr/>
          <p:nvPr/>
        </p:nvSpPr>
        <p:spPr>
          <a:xfrm flipV="1">
            <a:off x="5796000" y="2421000"/>
            <a:ext cx="1008000" cy="7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826920" y="3357720"/>
            <a:ext cx="1800360" cy="151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Впадение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7" name="Line 25"/>
          <p:cNvSpPr/>
          <p:nvPr/>
        </p:nvSpPr>
        <p:spPr>
          <a:xfrm flipH="1" flipV="1">
            <a:off x="2700000" y="2420640"/>
            <a:ext cx="136692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тойка волейболист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22560" y="1599840"/>
            <a:ext cx="4764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ги расположены на ширине плеч и согнуты в коленн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дна нога впереди, или ступни расположены параллельно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уловище наклонено вперед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Чем ниже стойка, тем больше вперед наклонено туловищ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уки согнуты в локтев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50" name="Picture 7" descr="волейб"/>
          <p:cNvPicPr/>
          <p:nvPr/>
        </p:nvPicPr>
        <p:blipFill>
          <a:blip r:embed="rId1"/>
          <a:stretch/>
        </p:blipFill>
        <p:spPr>
          <a:xfrm>
            <a:off x="684360" y="1917720"/>
            <a:ext cx="2609640" cy="38656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8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2" name="AutoShape 9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0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хадур</cp:lastModifiedBy>
  <dcterms:modified xsi:type="dcterms:W3CDTF">2016-12-28T11:51:22Z</dcterms:modified>
  <cp:revision>59</cp:revision>
  <dc:subject/>
  <dc:title>PowerPoint Presentation</dc:title>
</cp:coreProperties>
</file>