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4CD-800D-41E5-8951-309DE5C7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3182-FC7A-468B-89E2-7CF23243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47E-73E0-4C2E-BD6B-4C40FBE0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E4FD-422C-4D75-8A6C-6C11F205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58A5-42AD-429E-B2B5-A664CD50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558-A957-47A4-92BA-5D018E02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93C-C12F-41F8-BBCC-6D624E4F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2B57-7729-47A8-9542-3F7EE1B4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ED28-2786-4E0C-A50C-327FF4AE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910-0AD6-4C5A-8D42-C4CEFC39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880-104A-4C5A-B8E9-C8029F5F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2889-51F3-41E0-8808-D72A0C4D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3D69-A7B1-4ACA-B176-1C6B6D1E55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4008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19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257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2c76d37a210d7cfde4a785439b5776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Iz_khroniki_Velikojj_Otechestvennojj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a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j144_11574011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s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11-36_sm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425679718"/>
          <p:cNvPicPr/>
          <p:nvPr/>
        </p:nvPicPr>
        <p:blipFill>
          <a:blip r:embed="rId1"/>
          <a:stretch/>
        </p:blipFill>
        <p:spPr>
          <a:xfrm>
            <a:off x="1295280" y="0"/>
            <a:ext cx="57913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best-mp3.ru_a._aleksandrov_-_svyaszennaya_voina.mp3" descr=""/>
          <p:cNvPicPr/>
          <p:nvPr/>
        </p:nvPicPr>
        <p:blipFill>
          <a:blip r:embed="rId2"/>
          <a:stretch/>
        </p:blipFill>
        <p:spPr>
          <a:xfrm>
            <a:off x="76960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world_war2_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668600" y="0"/>
            <a:ext cx="534168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война\0_f005_31359a8f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russian_infantry1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война\eremenk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Iz_khroniki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3-01-15T16:43:31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