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9C21-93C7-46B2-BE67-6243DCE1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67F6-F929-4FC4-A649-49469407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B64D-C373-42D4-A3D9-2FF7A71C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E498-EAB5-45A1-BCD2-10FB4B20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075D-E086-41C2-9012-92C5047A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FDB3-37AB-4301-B450-97F09EFD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6000-34BC-4861-8171-6D51F7CF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B374-A9F9-471A-9E22-2EC09BC2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0F8D-EBB9-4D05-A6F2-B7D18E18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2BFB-5BAF-460C-BD66-004F9A1A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DC61-C4D8-47FF-AA20-D1459E0E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5940-D563-4757-902E-5B00CF98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AEEC-0126-4808-9B16-0610986FF5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640080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19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257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2c76d37a210d7cfde4a785439b5776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Iz_khroniki_Velikojj_Otechestvennojj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a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j144_11574011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s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11-36_sm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425679718"/>
          <p:cNvPicPr/>
          <p:nvPr/>
        </p:nvPicPr>
        <p:blipFill>
          <a:blip r:embed="rId1"/>
          <a:stretch/>
        </p:blipFill>
        <p:spPr>
          <a:xfrm>
            <a:off x="1295280" y="0"/>
            <a:ext cx="57913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best-mp3.ru_a._aleksandrov_-_svyaszennaya_voina.mp3" descr=""/>
          <p:cNvPicPr/>
          <p:nvPr/>
        </p:nvPicPr>
        <p:blipFill>
          <a:blip r:embed="rId2"/>
          <a:stretch/>
        </p:blipFill>
        <p:spPr>
          <a:xfrm>
            <a:off x="76960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world_war2_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668600" y="0"/>
            <a:ext cx="534168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:\война\0_f005_31359a8f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russian_infantry1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F:\война\eremenk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Iz_khroniki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3-01-15T16:43:31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