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58397-808E-46A2-ADB5-22912A829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DB42E-919B-4027-89A9-F6794569A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9DC7F-CFE5-4620-967C-49C314259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CB5ED-B2BC-403E-9C71-052E1443D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FF5E0-6062-4B03-8ED3-0433448D3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1A830-E5B6-4AD4-B402-A39A0D35B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850CA-4307-4BF0-B063-1CFEB25E5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B8915-68F9-44E2-A0AC-02EAD9663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A49D5-BC6A-4C4E-A582-98661B035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0DE40-D3AD-40F2-A13D-8A3B8D718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F061D-1DCE-482B-8362-1A153F02C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C7D81-2B06-497D-A679-90F310B0B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BC5BD-DE54-437D-BACC-81BE86D8A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E2347-E216-4412-ADFE-5F73261F3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4C28B-DDD1-4863-9BF9-20A54E5BE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7A772-9AC8-4BA3-AD17-18ED992B5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1D7F2-85D2-40A7-A181-268A06E79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E0ED7C2-5C80-4910-8D38-0AECA18BA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E3A352D-BD82-4293-988F-C6322B7BF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44F6D2A-987B-4B84-A736-505ADC0F2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2320ACC-68AE-497A-AD42-95A95B1D2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AEF5420-00CE-40AD-BF8E-A1AA5FA5A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FCD39-8C23-4ADA-B99B-63404AA0C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E4D1790-32B2-4519-BFB3-C8A810D56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347DD87-84FE-450C-83E2-C1C75FF8E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9DAB155-A705-434E-8527-E092D9768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DE44783-A4F9-48D2-9F5B-261D8B48F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19338E5-2106-47D0-B716-893892C65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BF39D12-5A90-4B4B-8E32-81564DFBC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3288EA7-F3C8-4A0C-B4DB-8A35EC3AE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D7760A-B054-4B12-BA99-68F7E7E48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73D73C-EA16-4D4F-8539-93FD67062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1E1CA2-ECEA-46C1-BB50-3D2D6A761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997DF-6899-4307-8D7E-B1BEFD906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DBF081-D28A-4916-9FE3-B4A674206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CD4EFF-2A39-4678-A7EA-FCD611987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D3F96E-089E-495A-A765-596BE4768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6B4B32-B273-4B04-BAF2-C0A56AC12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DD55FA-A010-4155-969F-D18389517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A9BB2D-B691-4FB9-8B00-EDD0F424E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A59096-DB59-4017-912F-39FEC2259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709F1E-E43D-4979-B8D2-1B5855452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4D903A-8152-437C-A6E9-7BA35F267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9DC43-52E5-446F-819D-B22D93AFE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FEE2F-3841-4021-BDB9-09F622D32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19364-6A5F-4AD2-B93C-370559435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D60C3-D86F-45F5-998B-930A34A09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47EF1-3E03-4831-A78B-E4522D1D0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f3a44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44d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f3a4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f3a4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f3a44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44d2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f3a447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a5b59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a5b59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e7bc2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f3a447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3a447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A9838-13F1-4EFF-BC79-3CCCC9744D5E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f3a4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f3a44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f3a447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f3a447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f3a447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Скругленный прямоугольник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Скругленный прямоугольник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f3a44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f3a4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f3a4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44d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44d2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f3a447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a5b59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a5b59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e7bc2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f3a447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3a447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9DC20-226B-4546-A180-B0CCBECA07C5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f3a44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44d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f3a4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f3a4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f3a44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44d2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f3a447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a5b59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a5b59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e7bc2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f3a447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3a447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A1B24-FE5F-4EDC-BFF6-30ED47934C0A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f3a44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44d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f3a4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f3a4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f3a44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44d2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f3a447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a5b59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a5b59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e7bc2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f3a447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3a447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DC28F-375D-4C1D-8CA0-3484DDD4D803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39280" y="1412640"/>
            <a:ext cx="8458200" cy="1469880"/>
          </a:xfrm>
          <a:prstGeom prst="rect">
            <a:avLst/>
          </a:prstGeom>
          <a:noFill/>
          <a:ln w="44280">
            <a:solidFill>
              <a:srgbClr val="dd7e0e"/>
            </a:solidFill>
            <a:prstDash val="sysDash"/>
            <a:round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Дикие животные наших лесов</a:t>
            </a:r>
            <a:endParaRPr b="0" lang="en-US" sz="44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215" name="TextBox 2"/>
          <p:cNvSpPr/>
          <p:nvPr/>
        </p:nvSpPr>
        <p:spPr>
          <a:xfrm>
            <a:off x="324000" y="4221000"/>
            <a:ext cx="4824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Monotype Corsiva"/>
                <a:ea typeface="Microsoft New Tai Lue"/>
              </a:rPr>
              <a:t>Для детей младшего и среднего дошкольного возрас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Monotype Corsiva"/>
                <a:ea typeface="Microsoft New Tai Lue"/>
              </a:rPr>
              <a:t>Разработала и составила  :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Monotype Corsiva"/>
                <a:ea typeface="Microsoft New Tai Lue"/>
              </a:rPr>
              <a:t>воспитатель МБДОУ «Детский сад «Аистёнок»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Monotype Corsiva"/>
                <a:ea typeface="Microsoft New Tai Lue"/>
              </a:rPr>
              <a:t>Савинова К.. 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79280" y="3330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44d26"/>
                </a:solidFill>
                <a:latin typeface="Trebuchet MS"/>
              </a:rPr>
              <a:t>                     </a:t>
            </a:r>
            <a:r>
              <a:rPr b="0" lang="ru-RU" sz="4000" spc="-1" strike="noStrike">
                <a:solidFill>
                  <a:srgbClr val="444d26"/>
                </a:solidFill>
                <a:latin typeface="Comic Sans MS"/>
              </a:rPr>
              <a:t>Енотик</a:t>
            </a: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3203640" y="4869000"/>
            <a:ext cx="568944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Ценный мех, пушной зверёк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На хвосте его колечки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Из еды, что приберёг, 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Всё полощет хищник в речке. 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45" name="Picture 4" descr="http://gif-and-jpeg.ru/d/41092-1/jivotniy_mir2613.jpg"/>
          <p:cNvPicPr/>
          <p:nvPr/>
        </p:nvPicPr>
        <p:blipFill>
          <a:blip r:embed="rId1"/>
          <a:stretch/>
        </p:blipFill>
        <p:spPr>
          <a:xfrm>
            <a:off x="324000" y="1268280"/>
            <a:ext cx="5414760" cy="36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0" y="4759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44d26"/>
                </a:solidFill>
                <a:latin typeface="Trebuchet MS"/>
              </a:rPr>
              <a:t>                          </a:t>
            </a:r>
            <a:r>
              <a:rPr b="0" lang="ru-RU" sz="4000" spc="-1" strike="noStrike">
                <a:solidFill>
                  <a:srgbClr val="444d26"/>
                </a:solidFill>
                <a:latin typeface="Comic Sans MS"/>
              </a:rPr>
              <a:t>Рысь</a:t>
            </a: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3851280" y="5202000"/>
            <a:ext cx="529272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47680">
              <a:lnSpc>
                <a:spcPct val="90000"/>
              </a:lnSpc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Меньше тигра, больше кошки, 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Над ушами – кисти-рожки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С виду кроток, но не верь: 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Страшен в гневе этот зверь!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48" name="Picture 2" descr="http://friends.kz/uploads/posts/2008-04/1208519072_01.jpg"/>
          <p:cNvPicPr/>
          <p:nvPr/>
        </p:nvPicPr>
        <p:blipFill>
          <a:blip r:embed="rId1"/>
          <a:stretch/>
        </p:blipFill>
        <p:spPr>
          <a:xfrm>
            <a:off x="324000" y="1484280"/>
            <a:ext cx="5688000" cy="37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44d26"/>
                </a:solidFill>
                <a:latin typeface="Trebuchet MS"/>
              </a:rPr>
              <a:t>                         </a:t>
            </a:r>
            <a:r>
              <a:rPr b="0" lang="ru-RU" sz="4000" spc="-1" strike="noStrike">
                <a:solidFill>
                  <a:srgbClr val="444d26"/>
                </a:solidFill>
                <a:latin typeface="Comic Sans MS"/>
              </a:rPr>
              <a:t>Бобер</a:t>
            </a: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3850920" y="4941720"/>
            <a:ext cx="4753080" cy="154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42640">
              <a:lnSpc>
                <a:spcPct val="90000"/>
              </a:lnSpc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Вот построил он плотину,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Надо веточек и тину –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Строит всё без топора,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Будет домик у … 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51" name="Picture 2" descr="http://fbo.dax.ru/photo/data/20101030102426.jpg"/>
          <p:cNvPicPr/>
          <p:nvPr/>
        </p:nvPicPr>
        <p:blipFill>
          <a:blip r:embed="rId1"/>
          <a:stretch/>
        </p:blipFill>
        <p:spPr>
          <a:xfrm>
            <a:off x="395280" y="1268280"/>
            <a:ext cx="5040360" cy="34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0" y="40464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44d26"/>
                </a:solidFill>
                <a:latin typeface="Trebuchet MS"/>
              </a:rPr>
              <a:t>                        </a:t>
            </a:r>
            <a:r>
              <a:rPr b="0" lang="ru-RU" sz="4000" spc="-1" strike="noStrike">
                <a:solidFill>
                  <a:srgbClr val="444d26"/>
                </a:solidFill>
                <a:latin typeface="Comic Sans MS"/>
              </a:rPr>
              <a:t>Барсук</a:t>
            </a: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427280" y="5013000"/>
            <a:ext cx="453708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Роет норы он умело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Знает, любит это дело.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Потому кроту и друг,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А зовут его …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54" name="Picture 4" descr="http://i.telegraph.co.uk/multimedia/archive/01876/badger_1876245a.jpg"/>
          <p:cNvPicPr/>
          <p:nvPr/>
        </p:nvPicPr>
        <p:blipFill>
          <a:blip r:embed="rId1"/>
          <a:stretch/>
        </p:blipFill>
        <p:spPr>
          <a:xfrm>
            <a:off x="468360" y="1413000"/>
            <a:ext cx="5292720" cy="33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44d26"/>
                </a:solidFill>
                <a:latin typeface="Trebuchet MS"/>
              </a:rPr>
              <a:t>                     </a:t>
            </a:r>
            <a:r>
              <a:rPr b="0" lang="ru-RU" sz="4000" spc="-1" strike="noStrike">
                <a:solidFill>
                  <a:srgbClr val="444d26"/>
                </a:solidFill>
                <a:latin typeface="Comic Sans MS"/>
              </a:rPr>
              <a:t>Зайчик</a:t>
            </a: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2843280" y="5157360"/>
            <a:ext cx="3673440" cy="215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Летом — серый,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Зимой — белый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18" name="Picture 2" descr="http://www.zooclub.ru/attach/1799.jpg"/>
          <p:cNvPicPr/>
          <p:nvPr/>
        </p:nvPicPr>
        <p:blipFill>
          <a:blip r:embed="rId1"/>
          <a:stretch/>
        </p:blipFill>
        <p:spPr>
          <a:xfrm>
            <a:off x="324000" y="1557360"/>
            <a:ext cx="4032000" cy="302400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4" descr="http://allphoto.in.ua/photo/26/es2267894.jpg"/>
          <p:cNvPicPr/>
          <p:nvPr/>
        </p:nvPicPr>
        <p:blipFill>
          <a:blip r:embed="rId2"/>
          <a:stretch/>
        </p:blipFill>
        <p:spPr>
          <a:xfrm>
            <a:off x="4632480" y="1557360"/>
            <a:ext cx="412884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50920" y="4759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44d26"/>
                </a:solidFill>
                <a:latin typeface="Trebuchet MS"/>
              </a:rPr>
              <a:t>                        </a:t>
            </a:r>
            <a:r>
              <a:rPr b="0" lang="ru-RU" sz="4000" spc="-1" strike="noStrike">
                <a:solidFill>
                  <a:srgbClr val="444d26"/>
                </a:solidFill>
                <a:latin typeface="Comic Sans MS"/>
              </a:rPr>
              <a:t>Ёжик</a:t>
            </a: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pic>
        <p:nvPicPr>
          <p:cNvPr id="221" name="Picture 2" descr="http://e.eka-mama.ru/upload/forum/upload/e27/e27526ee86aab6452dd4126f90edbc30"/>
          <p:cNvPicPr/>
          <p:nvPr/>
        </p:nvPicPr>
        <p:blipFill>
          <a:blip r:embed="rId1"/>
          <a:stretch/>
        </p:blipFill>
        <p:spPr>
          <a:xfrm>
            <a:off x="539640" y="1268280"/>
            <a:ext cx="5715000" cy="378144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 txBox="1"/>
          <p:nvPr/>
        </p:nvSpPr>
        <p:spPr>
          <a:xfrm>
            <a:off x="4355640" y="4653000"/>
            <a:ext cx="4103640" cy="206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Сердитый недотрога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Живёт в глуши лесной.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Иголок очень много,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А нитки не одной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79280" y="40464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44d26"/>
                </a:solidFill>
                <a:latin typeface="Trebuchet MS"/>
              </a:rPr>
              <a:t>                    </a:t>
            </a:r>
            <a:r>
              <a:rPr b="0" lang="ru-RU" sz="4000" spc="-1" strike="noStrike">
                <a:solidFill>
                  <a:srgbClr val="444d26"/>
                </a:solidFill>
                <a:latin typeface="Comic Sans MS"/>
              </a:rPr>
              <a:t>Белочка</a:t>
            </a: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395280" y="5300640"/>
            <a:ext cx="8507520" cy="132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Кто на ветке шишки грыз и бросал объедки вниз?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25" name="Picture 2" descr="http://img01.chitalnya.ru/upload2/139/321769895032048256.jpg"/>
          <p:cNvPicPr/>
          <p:nvPr/>
        </p:nvPicPr>
        <p:blipFill>
          <a:blip r:embed="rId1"/>
          <a:stretch/>
        </p:blipFill>
        <p:spPr>
          <a:xfrm>
            <a:off x="324000" y="1484280"/>
            <a:ext cx="3862080" cy="338292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4" descr="http://stat11.privet.ru/lr/0832101856cc50e5b575c7d731b55271"/>
          <p:cNvPicPr/>
          <p:nvPr/>
        </p:nvPicPr>
        <p:blipFill>
          <a:blip r:embed="rId2"/>
          <a:stretch/>
        </p:blipFill>
        <p:spPr>
          <a:xfrm>
            <a:off x="4500720" y="1557360"/>
            <a:ext cx="4271760" cy="320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44d26"/>
                </a:solidFill>
                <a:latin typeface="Trebuchet MS"/>
              </a:rPr>
              <a:t>                    </a:t>
            </a:r>
            <a:r>
              <a:rPr b="0" lang="ru-RU" sz="4000" spc="-1" strike="noStrike">
                <a:solidFill>
                  <a:srgbClr val="444d26"/>
                </a:solidFill>
                <a:latin typeface="Comic Sans MS"/>
              </a:rPr>
              <a:t>Лисичка</a:t>
            </a: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395280" y="5300640"/>
            <a:ext cx="8220240" cy="132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Хвост пушистый, мех золотистый,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В лесу живет, и кур в деревне крадёт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29" name="Picture 2" descr="http://s53.radikal.ru/i140/1110/3a/f9a4651c5faa.jpg"/>
          <p:cNvPicPr/>
          <p:nvPr/>
        </p:nvPicPr>
        <p:blipFill>
          <a:blip r:embed="rId1"/>
          <a:stretch/>
        </p:blipFill>
        <p:spPr>
          <a:xfrm>
            <a:off x="611280" y="1484280"/>
            <a:ext cx="3600360" cy="270036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4" descr="http://www.podkat.ru/uploads/posts/2009-12/thumbs/1260889630_fox57_1600x1200.jpg"/>
          <p:cNvPicPr/>
          <p:nvPr/>
        </p:nvPicPr>
        <p:blipFill>
          <a:blip r:embed="rId2"/>
          <a:stretch/>
        </p:blipFill>
        <p:spPr>
          <a:xfrm>
            <a:off x="4427640" y="2133720"/>
            <a:ext cx="4248000" cy="31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50920" y="4759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44d26"/>
                </a:solidFill>
                <a:latin typeface="Trebuchet MS"/>
              </a:rPr>
              <a:t>                        </a:t>
            </a:r>
            <a:r>
              <a:rPr b="0" lang="ru-RU" sz="4000" spc="-1" strike="noStrike">
                <a:solidFill>
                  <a:srgbClr val="444d26"/>
                </a:solidFill>
                <a:latin typeface="Comic Sans MS"/>
              </a:rPr>
              <a:t>Волк</a:t>
            </a: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5148360" y="4913280"/>
            <a:ext cx="414000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Зубоват, сероват, 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о полю рыщет, 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Телят и ягнят ищет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33" name="Picture 4" descr="http://www.wallpage.ru/imgbig/wallpapers_65972.jpg"/>
          <p:cNvPicPr/>
          <p:nvPr/>
        </p:nvPicPr>
        <p:blipFill>
          <a:blip r:embed="rId1"/>
          <a:stretch/>
        </p:blipFill>
        <p:spPr>
          <a:xfrm>
            <a:off x="250920" y="1413000"/>
            <a:ext cx="5057640" cy="40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79280" y="4759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44d26"/>
                </a:solidFill>
                <a:latin typeface="Trebuchet MS"/>
              </a:rPr>
              <a:t>                      </a:t>
            </a:r>
            <a:r>
              <a:rPr b="0" lang="ru-RU" sz="4000" spc="-1" strike="noStrike">
                <a:solidFill>
                  <a:srgbClr val="444d26"/>
                </a:solidFill>
                <a:latin typeface="Comic Sans MS"/>
              </a:rPr>
              <a:t> </a:t>
            </a:r>
            <a:r>
              <a:rPr b="0" lang="ru-RU" sz="4000" spc="-1" strike="noStrike">
                <a:solidFill>
                  <a:srgbClr val="444d26"/>
                </a:solidFill>
                <a:latin typeface="Comic Sans MS"/>
              </a:rPr>
              <a:t>Медведь</a:t>
            </a: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100480" y="5660640"/>
            <a:ext cx="4043520" cy="168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Малиной обедает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Где мёд, ведает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36" name="Picture 2" descr="http://img0.liveinternet.ru/images/attach/c/3/83/235/83235838_large_p62.jpg"/>
          <p:cNvPicPr/>
          <p:nvPr/>
        </p:nvPicPr>
        <p:blipFill>
          <a:blip r:embed="rId1"/>
          <a:stretch/>
        </p:blipFill>
        <p:spPr>
          <a:xfrm>
            <a:off x="539640" y="1413000"/>
            <a:ext cx="547236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79280" y="4759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44d26"/>
                </a:solidFill>
                <a:latin typeface="Trebuchet MS"/>
              </a:rPr>
              <a:t>                         </a:t>
            </a:r>
            <a:r>
              <a:rPr b="0" lang="ru-RU" sz="4000" spc="-1" strike="noStrike">
                <a:solidFill>
                  <a:srgbClr val="444d26"/>
                </a:solidFill>
                <a:latin typeface="Comic Sans MS"/>
              </a:rPr>
              <a:t>Лось</a:t>
            </a: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5003280" y="4868640"/>
            <a:ext cx="3970440" cy="198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21120" indent="-224640">
              <a:lnSpc>
                <a:spcPct val="80000"/>
              </a:lnSpc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Тяжелы рога по весу, 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Ходит важно он по лесу: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Он  хозяин, а не гость –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Хмурый и сердитый …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39" name="Picture 2" descr="http://img1.liveinternet.ru/images/attach/c/1/50/385/50385122_animal103.jpg"/>
          <p:cNvPicPr/>
          <p:nvPr/>
        </p:nvPicPr>
        <p:blipFill>
          <a:blip r:embed="rId1"/>
          <a:stretch/>
        </p:blipFill>
        <p:spPr>
          <a:xfrm>
            <a:off x="395280" y="1484280"/>
            <a:ext cx="4753080" cy="35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44d26"/>
                </a:solidFill>
                <a:latin typeface="Trebuchet MS"/>
              </a:rPr>
              <a:t>                        </a:t>
            </a:r>
            <a:r>
              <a:rPr b="0" lang="ru-RU" sz="4000" spc="-1" strike="noStrike">
                <a:solidFill>
                  <a:srgbClr val="444d26"/>
                </a:solidFill>
                <a:latin typeface="Comic Sans MS"/>
              </a:rPr>
              <a:t>Кабан</a:t>
            </a: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716360" y="2060280"/>
            <a:ext cx="4572000" cy="26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Спереди – пятачок, 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Сзади – крючок, 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осередине – спинка, 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На спине – щетинка. 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42" name="Picture 2" descr="http://club.foto.ru/gallery/images/photo/2007/03/20/814380.jpg"/>
          <p:cNvPicPr/>
          <p:nvPr/>
        </p:nvPicPr>
        <p:blipFill>
          <a:blip r:embed="rId1"/>
          <a:stretch/>
        </p:blipFill>
        <p:spPr>
          <a:xfrm>
            <a:off x="250920" y="1413000"/>
            <a:ext cx="450036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1</cp:lastModifiedBy>
  <dcterms:modified xsi:type="dcterms:W3CDTF">2020-11-13T11:39:20Z</dcterms:modified>
  <cp:revision>12</cp:revision>
  <dc:subject/>
  <dc:title>Слайд 1</dc:title>
</cp:coreProperties>
</file>