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908-20B0-442A-91F9-5B87A406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0F3-DD2C-4CBE-BC26-0395E8C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CC5-0269-4BC7-BC1A-7FC96547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63E-5A6E-4551-AC62-EDA9C261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0DF-B909-4BCA-9C40-3FBB5BDD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4DAF-6758-4E6E-A692-77493BC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AB6E-C661-4895-AED8-8463781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2283-0EB0-45B9-8827-C235C533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5B51-F3D6-4A63-963C-C4DB78B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27D9-D21D-49DE-AEEF-F5F21F5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3A4-32AB-4C4D-94F7-03028D2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988-B908-4AC6-A2A4-1C06B94B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AED-9173-4A8F-BAD3-E92AD0D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B2E-8787-4C4C-B361-E97B288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3069-2AF4-4910-BC29-DE5A663C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57C9-27E6-4694-B12F-CE4EAFC2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028-5469-4CDA-B687-F8197994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075B6-95C3-43FD-9EAA-44E9FED5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12EE5-1506-40A5-B79A-9074D8B9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CB506-737B-4803-8A9A-821EB5E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7E771-2C1E-4D2C-AB9B-16C8354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268A8-1111-45E6-B588-570938B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AF0-950B-4CD4-AD07-FCDB515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B4DFC-53CE-4EE8-9196-D9A424C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84215-C23C-4C04-9C04-569D89DC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45308-5BA1-4465-A61A-3D12AA2B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89967-A2C1-4844-AC8E-6153826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5B92A-968E-45A2-8AA7-BBD9CBE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17DD1-655A-4477-A38C-24936FDA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5C6E0-A681-468A-9517-DE789484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4116-A0C3-48DE-86E5-E0A13A4E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830A-70CC-4314-9F72-CB36B6A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A39F-10D8-4AB8-B835-6C6734B6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016-9811-44B4-9415-3AC30440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EA45-FA82-482C-98B5-05E44314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9BD3-0AB9-445C-9E1A-D08C2E9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C6DA-A9C0-48F8-A195-94B84788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D10F-2BCB-44B1-AD34-929F62E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4B14-97D5-4449-B1EC-B644F18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0CEF-2C9C-4C86-A89E-1E410C4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AD7F-1B65-4A02-BB62-08C3945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71F0-4C8A-4DD1-A82E-89D19EDD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D50D-63C1-4315-9F5A-DCEADC57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669-B62C-4C49-8298-FAD1E66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DE2-0C97-4341-ABD9-B3BE358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D3E-FE6A-4F38-9190-4A52E82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B22-DE44-40B3-BCB8-C9759CA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CB3-2D54-4C4B-8989-BD09C0F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CA4-5DC3-4408-982B-A2BFB178A8B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F2D-6BE9-449A-B07D-9F969799964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AC8-96B4-4D3A-9AF8-9976C74B08F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7949-2DC2-4BD3-8152-E1AD09EB59E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58200" cy="1469880"/>
          </a:xfrm>
          <a:prstGeom prst="rect">
            <a:avLst/>
          </a:prstGeom>
          <a:noFill/>
          <a:ln w="44280">
            <a:solidFill>
              <a:srgbClr val="dd7e0e"/>
            </a:solidFill>
            <a:prstDash val="sysDash"/>
            <a:round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икие животные наших лесов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324000" y="4221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Для детей младшего и средн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Разработала и составила  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воспитатель МБДОУ «Детский сад «Аистёнок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Monotype Corsiva"/>
                <a:ea typeface="Microsoft New Tai Lue"/>
              </a:rPr>
              <a:t>Савинова К.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Енот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3640" y="4869000"/>
            <a:ext cx="5689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енный мех, пушной звер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хвосте его колеч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 еды, что приберёг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ё полощет хищник в речке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4" descr="http://gif-and-jpeg.ru/d/41092-1/jivotniy_mir2613.jpg"/>
          <p:cNvPicPr/>
          <p:nvPr/>
        </p:nvPicPr>
        <p:blipFill>
          <a:blip r:embed="rId1"/>
          <a:stretch/>
        </p:blipFill>
        <p:spPr>
          <a:xfrm>
            <a:off x="324000" y="1268280"/>
            <a:ext cx="5414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Рыс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51280" y="5202000"/>
            <a:ext cx="529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ньше тигра, больше кош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 ушами – кисти-рож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виду кроток, но не верь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рашен в гневе этот зверь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http://friends.kz/uploads/posts/2008-04/1208519072_01.jpg"/>
          <p:cNvPicPr/>
          <p:nvPr/>
        </p:nvPicPr>
        <p:blipFill>
          <a:blip r:embed="rId1"/>
          <a:stretch/>
        </p:blipFill>
        <p:spPr>
          <a:xfrm>
            <a:off x="324000" y="148428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обер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50920" y="4941720"/>
            <a:ext cx="475308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т построил он плотин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до веточек и тину –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роит всё без топор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удет домик у …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http://fbo.dax.ru/photo/data/20101030102426.jpg"/>
          <p:cNvPicPr/>
          <p:nvPr/>
        </p:nvPicPr>
        <p:blipFill>
          <a:blip r:embed="rId1"/>
          <a:stretch/>
        </p:blipFill>
        <p:spPr>
          <a:xfrm>
            <a:off x="395280" y="1268280"/>
            <a:ext cx="50403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арсу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427280" y="5013000"/>
            <a:ext cx="4537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оет норы он умел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нает, любит это дело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тому кроту и друг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 зовут его 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4" name="Picture 4" descr="http://i.telegraph.co.uk/multimedia/archive/01876/badger_1876245a.jpg"/>
          <p:cNvPicPr/>
          <p:nvPr/>
        </p:nvPicPr>
        <p:blipFill>
          <a:blip r:embed="rId1"/>
          <a:stretch/>
        </p:blipFill>
        <p:spPr>
          <a:xfrm>
            <a:off x="468360" y="1413000"/>
            <a:ext cx="5292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Зайч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843280" y="5157360"/>
            <a:ext cx="3673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том — сер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имой — бел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://www.zooclub.ru/attach/1799.jpg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allphoto.in.ua/photo/26/es2267894.jpg"/>
          <p:cNvPicPr/>
          <p:nvPr/>
        </p:nvPicPr>
        <p:blipFill>
          <a:blip r:embed="rId2"/>
          <a:stretch/>
        </p:blipFill>
        <p:spPr>
          <a:xfrm>
            <a:off x="4632480" y="1557360"/>
            <a:ext cx="41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Ёжи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21" name="Picture 2" descr="http://e.eka-mama.ru/upload/forum/upload/e27/e27526ee86aab6452dd4126f90edbc30"/>
          <p:cNvPicPr/>
          <p:nvPr/>
        </p:nvPicPr>
        <p:blipFill>
          <a:blip r:embed="rId1"/>
          <a:stretch/>
        </p:blipFill>
        <p:spPr>
          <a:xfrm>
            <a:off x="539640" y="1268280"/>
            <a:ext cx="5715000" cy="378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355640" y="4653000"/>
            <a:ext cx="4103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ердитый недотрог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вёт в глуши лесно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голок очень мног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 нитки не одно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Белочк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5300640"/>
            <a:ext cx="8507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на ветке шишки грыз и бросал объедки вниз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http://img01.chitalnya.ru/upload2/139/321769895032048256.jpg"/>
          <p:cNvPicPr/>
          <p:nvPr/>
        </p:nvPicPr>
        <p:blipFill>
          <a:blip r:embed="rId1"/>
          <a:stretch/>
        </p:blipFill>
        <p:spPr>
          <a:xfrm>
            <a:off x="324000" y="1484280"/>
            <a:ext cx="3862080" cy="3382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stat11.privet.ru/lr/0832101856cc50e5b575c7d731b55271"/>
          <p:cNvPicPr/>
          <p:nvPr/>
        </p:nvPicPr>
        <p:blipFill>
          <a:blip r:embed="rId2"/>
          <a:stretch/>
        </p:blipFill>
        <p:spPr>
          <a:xfrm>
            <a:off x="4500720" y="1557360"/>
            <a:ext cx="42717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Лисичк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5300640"/>
            <a:ext cx="82202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вост пушистый, мех золотист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лесу живет, и кур в деревне крадё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2" descr="http://s53.radikal.ru/i140/1110/3a/f9a4651c5faa.jpg"/>
          <p:cNvPicPr/>
          <p:nvPr/>
        </p:nvPicPr>
        <p:blipFill>
          <a:blip r:embed="rId1"/>
          <a:stretch/>
        </p:blipFill>
        <p:spPr>
          <a:xfrm>
            <a:off x="611280" y="1484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podkat.ru/uploads/posts/2009-12/thumbs/1260889630_fox57_1600x1200.jpg"/>
          <p:cNvPicPr/>
          <p:nvPr/>
        </p:nvPicPr>
        <p:blipFill>
          <a:blip r:embed="rId2"/>
          <a:stretch/>
        </p:blipFill>
        <p:spPr>
          <a:xfrm>
            <a:off x="4427640" y="2133720"/>
            <a:ext cx="4248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Волк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148360" y="4913280"/>
            <a:ext cx="4140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убоват, сероват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полю рыщет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лят и ягнят ищ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4" descr="http://www.wallpage.ru/imgbig/wallpapers_65972.jpg"/>
          <p:cNvPicPr/>
          <p:nvPr/>
        </p:nvPicPr>
        <p:blipFill>
          <a:blip r:embed="rId1"/>
          <a:stretch/>
        </p:blipFill>
        <p:spPr>
          <a:xfrm>
            <a:off x="250920" y="1413000"/>
            <a:ext cx="5057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Медвед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100480" y="5660640"/>
            <a:ext cx="40435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линой обедае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де мёд, веда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img0.liveinternet.ru/images/attach/c/3/83/235/83235838_large_p62.jpg"/>
          <p:cNvPicPr/>
          <p:nvPr/>
        </p:nvPicPr>
        <p:blipFill>
          <a:blip r:embed="rId1"/>
          <a:stretch/>
        </p:blipFill>
        <p:spPr>
          <a:xfrm>
            <a:off x="539640" y="14130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Лось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3280" y="4868640"/>
            <a:ext cx="39704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яжелы рога по весу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одит важно он по лес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  хозяин, а не гость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мурый и сердитый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://img1.liveinternet.ru/images/attach/c/1/50/385/50385122_animal103.jpg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                        </a:t>
            </a:r>
            <a:r>
              <a:rPr b="0" lang="ru-RU" sz="4000" spc="-1" strike="noStrike">
                <a:solidFill>
                  <a:srgbClr val="444d26"/>
                </a:solidFill>
                <a:latin typeface="Comic Sans MS"/>
              </a:rPr>
              <a:t>Кабан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360" y="2060280"/>
            <a:ext cx="45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ереди – пятачо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зади – крючок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ередине – спинка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спине – щетинка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http://club.foto.ru/gallery/images/photo/2007/03/20/814380.jpg"/>
          <p:cNvPicPr/>
          <p:nvPr/>
        </p:nvPicPr>
        <p:blipFill>
          <a:blip r:embed="rId1"/>
          <a:stretch/>
        </p:blipFill>
        <p:spPr>
          <a:xfrm>
            <a:off x="250920" y="1413000"/>
            <a:ext cx="45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0-11-13T11:39:20Z</dcterms:modified>
  <cp:revision>12</cp:revision>
  <dc:subject/>
  <dc:title>Слайд 1</dc:title>
</cp:coreProperties>
</file>