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07DB-E550-4724-BDF2-B0A6BB57C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32D1-BC58-400A-BF96-466EBB2B6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040-8733-45A6-BC8D-F2D29F66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D9A-64B8-409A-ABBA-D9B59F39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AF7-095A-424E-8120-F477DC77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195-6AD3-4DA7-ACA1-F62BAEDA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028-8996-468A-8C66-819AB90A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610-4AB6-4351-9807-3DF51C8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115-C7F3-4772-904E-42D92E95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4DE-F906-4106-A564-7FCBCB49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4A9-D174-4988-BC43-D5831AC0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10C-67B7-40EA-A04C-37CBE70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CC1-1291-4826-8E4B-B872C53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173-ECC0-404D-9A56-360E8F2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A5C4-63BF-4E5A-9A0E-F86721BC7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MCj03701400000[1]"/>
          <p:cNvPicPr/>
          <p:nvPr/>
        </p:nvPicPr>
        <p:blipFill>
          <a:blip r:embed="rId2"/>
          <a:stretch/>
        </p:blipFill>
        <p:spPr>
          <a:xfrm flipH="1">
            <a:off x="6551280" y="4481640"/>
            <a:ext cx="2289240" cy="2158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1295280" y="15685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Функци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505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свойства  и графи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>
            <a:hlinkClick r:id="" action="ppaction://hlinkshowjump?jump=nextslide"/>
          </p:cNvPr>
          <p:cNvSpPr/>
          <p:nvPr/>
        </p:nvSpPr>
        <p:spPr>
          <a:xfrm>
            <a:off x="8686800" y="64213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676520" y="266760"/>
            <a:ext cx="4895640" cy="7189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Georgia"/>
              </a:rPr>
              <a:t>Сократите дроб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611280" y="1341360"/>
                <a:ext cx="129852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1"/>
              <p:cNvSpPr txBox="1"/>
              <p:nvPr/>
            </p:nvSpPr>
            <p:spPr>
              <a:xfrm>
                <a:off x="507960" y="3141720"/>
                <a:ext cx="150192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4"/>
              <p:cNvSpPr txBox="1"/>
              <p:nvPr/>
            </p:nvSpPr>
            <p:spPr>
              <a:xfrm>
                <a:off x="468360" y="4941720"/>
                <a:ext cx="162396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32"/>
              <p:cNvSpPr txBox="1"/>
              <p:nvPr/>
            </p:nvSpPr>
            <p:spPr>
              <a:xfrm>
                <a:off x="4383000" y="3213000"/>
                <a:ext cx="109692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"/>
          <p:cNvSpPr txBox="1"/>
          <p:nvPr/>
        </p:nvSpPr>
        <p:spPr>
          <a:xfrm>
            <a:off x="2195640" y="476280"/>
            <a:ext cx="471780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Линейная функция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457200" y="1600200"/>
            <a:ext cx="5483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кция вид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х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фиком функции является прям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443640" y="2060640"/>
            <a:ext cx="73080" cy="3600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5435640" y="4653000"/>
            <a:ext cx="3097080" cy="1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 flipH="1">
            <a:off x="5792400" y="2708280"/>
            <a:ext cx="2382840" cy="2306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813800" y="2205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243000" cy="28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8604360" y="4653000"/>
            <a:ext cx="191880" cy="210960"/>
          </a:xfrm>
          <a:prstGeom prst="rect">
            <a:avLst/>
          </a:prstGeom>
          <a:ln w="0">
            <a:noFill/>
          </a:ln>
        </p:spPr>
      </p:pic>
      <p:sp>
        <p:nvSpPr>
          <p:cNvPr id="65" name="Line 9"/>
          <p:cNvSpPr/>
          <p:nvPr/>
        </p:nvSpPr>
        <p:spPr>
          <a:xfrm>
            <a:off x="5796000" y="2924280"/>
            <a:ext cx="2016000" cy="28810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813800" y="5516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956720" y="3141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5219640" y="3716280"/>
            <a:ext cx="3384720" cy="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227640" y="465300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971800" y="711360"/>
          <a:ext cx="5715000" cy="1269720"/>
        </p:xfrm>
        <a:graphic>
          <a:graphicData uri="http://schemas.openxmlformats.org/drawingml/2006/table">
            <a:tbl>
              <a:tblPr/>
              <a:tblGrid>
                <a:gridCol w="817560"/>
                <a:gridCol w="814320"/>
                <a:gridCol w="817560"/>
                <a:gridCol w="816120"/>
                <a:gridCol w="817560"/>
                <a:gridCol w="814320"/>
                <a:gridCol w="81756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28"/>
          <p:cNvSpPr/>
          <p:nvPr/>
        </p:nvSpPr>
        <p:spPr>
          <a:xfrm>
            <a:off x="3809880" y="685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38098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457200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5720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137280" y="738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473800" y="133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7924680" y="685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79246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5529240" y="7063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9"/>
          <p:cNvSpPr/>
          <p:nvPr/>
        </p:nvSpPr>
        <p:spPr>
          <a:xfrm>
            <a:off x="2514600" y="56386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3">
            <a:hlinkClick r:id="" action="ppaction://hlinkshowjump?jump=previousslide"/>
          </p:cNvPr>
          <p:cNvSpPr/>
          <p:nvPr/>
        </p:nvSpPr>
        <p:spPr>
          <a:xfrm>
            <a:off x="71280" y="7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4">
            <a:hlinkClick r:id="" action="ppaction://hlinkshowjump?jump=nextslide"/>
          </p:cNvPr>
          <p:cNvSpPr/>
          <p:nvPr/>
        </p:nvSpPr>
        <p:spPr>
          <a:xfrm>
            <a:off x="8686800" y="64213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64240" y="976320"/>
            <a:ext cx="199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=2Х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6338880" y="1297080"/>
            <a:ext cx="6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3" descr=""/>
          <p:cNvPicPr/>
          <p:nvPr/>
        </p:nvPicPr>
        <p:blipFill>
          <a:blip r:embed="rId3"/>
          <a:stretch/>
        </p:blipFill>
        <p:spPr>
          <a:xfrm>
            <a:off x="990720" y="206532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"/>
          <p:cNvSpPr txBox="1"/>
          <p:nvPr/>
        </p:nvSpPr>
        <p:spPr>
          <a:xfrm>
            <a:off x="758880" y="138240"/>
            <a:ext cx="741672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Обратная пропорциональность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57200" y="1630440"/>
            <a:ext cx="56275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кция вид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фиком функции является гиперб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284720" y="14097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211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286160" y="1913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6012000" y="2708280"/>
            <a:ext cx="2952720" cy="1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"/>
          <p:cNvSpPr/>
          <p:nvPr/>
        </p:nvSpPr>
        <p:spPr>
          <a:xfrm>
            <a:off x="7378560" y="1052640"/>
            <a:ext cx="73080" cy="3240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7034040" y="1125360"/>
            <a:ext cx="201960" cy="238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7813800" y="105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"/>
          <p:cNvSpPr/>
          <p:nvPr/>
        </p:nvSpPr>
        <p:spPr>
          <a:xfrm>
            <a:off x="7524720" y="1125360"/>
            <a:ext cx="1295280" cy="1440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1316" h="1452">
                <a:moveTo>
                  <a:pt x="0" y="0"/>
                </a:moveTo>
                <a:cubicBezTo>
                  <a:pt x="11" y="212"/>
                  <a:pt x="23" y="424"/>
                  <a:pt x="46" y="590"/>
                </a:cubicBezTo>
                <a:cubicBezTo>
                  <a:pt x="69" y="756"/>
                  <a:pt x="84" y="885"/>
                  <a:pt x="137" y="998"/>
                </a:cubicBezTo>
                <a:cubicBezTo>
                  <a:pt x="190" y="1111"/>
                  <a:pt x="250" y="1202"/>
                  <a:pt x="363" y="1270"/>
                </a:cubicBezTo>
                <a:cubicBezTo>
                  <a:pt x="476" y="1338"/>
                  <a:pt x="658" y="1376"/>
                  <a:pt x="817" y="1406"/>
                </a:cubicBezTo>
                <a:cubicBezTo>
                  <a:pt x="976" y="1436"/>
                  <a:pt x="1210" y="1444"/>
                  <a:pt x="1316" y="1452"/>
                </a:cubicBez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"/>
          <p:cNvSpPr/>
          <p:nvPr/>
        </p:nvSpPr>
        <p:spPr>
          <a:xfrm rot="10800000">
            <a:off x="6083280" y="2781000"/>
            <a:ext cx="1225440" cy="1439640"/>
          </a:xfrm>
          <a:custGeom>
            <a:avLst/>
            <a:gdLst>
              <a:gd name="textAreaLeft" fmla="*/ 0 w 1225440"/>
              <a:gd name="textAreaRight" fmla="*/ 1225800 w 12254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316" h="1452">
                <a:moveTo>
                  <a:pt x="0" y="0"/>
                </a:moveTo>
                <a:cubicBezTo>
                  <a:pt x="11" y="212"/>
                  <a:pt x="23" y="424"/>
                  <a:pt x="46" y="590"/>
                </a:cubicBezTo>
                <a:cubicBezTo>
                  <a:pt x="69" y="756"/>
                  <a:pt x="84" y="885"/>
                  <a:pt x="137" y="998"/>
                </a:cubicBezTo>
                <a:cubicBezTo>
                  <a:pt x="190" y="1111"/>
                  <a:pt x="250" y="1202"/>
                  <a:pt x="363" y="1270"/>
                </a:cubicBezTo>
                <a:cubicBezTo>
                  <a:pt x="476" y="1338"/>
                  <a:pt x="658" y="1376"/>
                  <a:pt x="817" y="1406"/>
                </a:cubicBezTo>
                <a:cubicBezTo>
                  <a:pt x="976" y="1436"/>
                  <a:pt x="1210" y="1444"/>
                  <a:pt x="1316" y="1452"/>
                </a:cubicBez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844120" y="2781360"/>
            <a:ext cx="191880" cy="210960"/>
          </a:xfrm>
          <a:prstGeom prst="rect">
            <a:avLst/>
          </a:prstGeom>
          <a:ln w="0">
            <a:noFill/>
          </a:ln>
        </p:spPr>
      </p:pic>
      <p:sp>
        <p:nvSpPr>
          <p:cNvPr id="98" name="Line 17"/>
          <p:cNvSpPr/>
          <p:nvPr/>
        </p:nvSpPr>
        <p:spPr>
          <a:xfrm>
            <a:off x="6012000" y="3357720"/>
            <a:ext cx="72720" cy="3240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4572000" y="5157720"/>
            <a:ext cx="2952720" cy="1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0"/>
          <p:cNvSpPr/>
          <p:nvPr/>
        </p:nvSpPr>
        <p:spPr>
          <a:xfrm flipH="1" rot="10800000">
            <a:off x="6156360" y="5229000"/>
            <a:ext cx="1225440" cy="1439640"/>
          </a:xfrm>
          <a:custGeom>
            <a:avLst/>
            <a:gdLst>
              <a:gd name="textAreaLeft" fmla="*/ 360 w 1225440"/>
              <a:gd name="textAreaRight" fmla="*/ 1226160 w 12254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316" h="1452">
                <a:moveTo>
                  <a:pt x="0" y="0"/>
                </a:moveTo>
                <a:cubicBezTo>
                  <a:pt x="11" y="212"/>
                  <a:pt x="23" y="424"/>
                  <a:pt x="46" y="590"/>
                </a:cubicBezTo>
                <a:cubicBezTo>
                  <a:pt x="69" y="756"/>
                  <a:pt x="84" y="885"/>
                  <a:pt x="137" y="998"/>
                </a:cubicBezTo>
                <a:cubicBezTo>
                  <a:pt x="190" y="1111"/>
                  <a:pt x="250" y="1202"/>
                  <a:pt x="363" y="1270"/>
                </a:cubicBezTo>
                <a:cubicBezTo>
                  <a:pt x="476" y="1338"/>
                  <a:pt x="658" y="1376"/>
                  <a:pt x="817" y="1406"/>
                </a:cubicBezTo>
                <a:cubicBezTo>
                  <a:pt x="976" y="1436"/>
                  <a:pt x="1210" y="1444"/>
                  <a:pt x="1316" y="1452"/>
                </a:cubicBezTo>
              </a:path>
            </a:pathLst>
          </a:custGeom>
          <a:noFill/>
          <a:ln w="442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9"/>
          <p:cNvSpPr/>
          <p:nvPr/>
        </p:nvSpPr>
        <p:spPr>
          <a:xfrm flipH="1">
            <a:off x="4645080" y="3645000"/>
            <a:ext cx="1295280" cy="143964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316" h="1452">
                <a:moveTo>
                  <a:pt x="0" y="0"/>
                </a:moveTo>
                <a:cubicBezTo>
                  <a:pt x="11" y="212"/>
                  <a:pt x="23" y="424"/>
                  <a:pt x="46" y="590"/>
                </a:cubicBezTo>
                <a:cubicBezTo>
                  <a:pt x="69" y="756"/>
                  <a:pt x="84" y="885"/>
                  <a:pt x="137" y="998"/>
                </a:cubicBezTo>
                <a:cubicBezTo>
                  <a:pt x="190" y="1111"/>
                  <a:pt x="250" y="1202"/>
                  <a:pt x="363" y="1270"/>
                </a:cubicBezTo>
                <a:cubicBezTo>
                  <a:pt x="476" y="1338"/>
                  <a:pt x="658" y="1376"/>
                  <a:pt x="817" y="1406"/>
                </a:cubicBezTo>
                <a:cubicBezTo>
                  <a:pt x="976" y="1436"/>
                  <a:pt x="1210" y="1444"/>
                  <a:pt x="1316" y="1452"/>
                </a:cubicBezTo>
              </a:path>
            </a:pathLst>
          </a:custGeom>
          <a:noFill/>
          <a:ln w="442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4500720" y="5516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5719680" y="5159520"/>
            <a:ext cx="295200" cy="357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9"/>
          <p:cNvSpPr/>
          <p:nvPr/>
        </p:nvSpPr>
        <p:spPr>
          <a:xfrm>
            <a:off x="7442280" y="2743200"/>
            <a:ext cx="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6048360" y="3289320"/>
            <a:ext cx="20160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5"/>
          <a:stretch/>
        </p:blipFill>
        <p:spPr>
          <a:xfrm>
            <a:off x="7537320" y="5159520"/>
            <a:ext cx="18900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406440" y="3049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619280" y="404640"/>
            <a:ext cx="640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Квадратичная функция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1600200"/>
            <a:ext cx="5122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функция вида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kx²</a:t>
            </a: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k&gt;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0;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рафиком функции является парабола, ветви которой направлены ввер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"/>
          <p:cNvSpPr/>
          <p:nvPr/>
        </p:nvSpPr>
        <p:spPr>
          <a:xfrm>
            <a:off x="7093080" y="1989000"/>
            <a:ext cx="54000" cy="374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5651640" y="4437000"/>
            <a:ext cx="2952720" cy="1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867280" y="2421000"/>
            <a:ext cx="2476800" cy="1993680"/>
          </a:xfrm>
          <a:custGeom>
            <a:avLst/>
            <a:gdLst>
              <a:gd name="textAreaLeft" fmla="*/ 0 w 2476800"/>
              <a:gd name="textAreaRight" fmla="*/ 2477160 w 247680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1968" h="1256">
                <a:moveTo>
                  <a:pt x="0" y="0"/>
                </a:moveTo>
                <a:cubicBezTo>
                  <a:pt x="340" y="620"/>
                  <a:pt x="680" y="1240"/>
                  <a:pt x="1008" y="1248"/>
                </a:cubicBezTo>
                <a:cubicBezTo>
                  <a:pt x="1336" y="1256"/>
                  <a:pt x="1652" y="652"/>
                  <a:pt x="1968" y="48"/>
                </a:cubicBezTo>
              </a:path>
            </a:pathLst>
          </a:custGeom>
          <a:noFill/>
          <a:ln w="66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609040" y="4508640"/>
            <a:ext cx="193680" cy="21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7164360" y="1844640"/>
            <a:ext cx="200160" cy="2365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 flipH="1">
            <a:off x="6857280" y="4446720"/>
            <a:ext cx="2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179280" y="304920"/>
            <a:ext cx="8785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971800" y="711360"/>
          <a:ext cx="5715000" cy="1269720"/>
        </p:xfrm>
        <a:graphic>
          <a:graphicData uri="http://schemas.openxmlformats.org/drawingml/2006/table">
            <a:tbl>
              <a:tblPr/>
              <a:tblGrid>
                <a:gridCol w="817560"/>
                <a:gridCol w="814320"/>
                <a:gridCol w="817560"/>
                <a:gridCol w="816120"/>
                <a:gridCol w="817560"/>
                <a:gridCol w="814320"/>
                <a:gridCol w="81756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8"/>
          <p:cNvSpPr/>
          <p:nvPr/>
        </p:nvSpPr>
        <p:spPr>
          <a:xfrm>
            <a:off x="3809880" y="685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38098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457200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45720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6137280" y="738360"/>
            <a:ext cx="9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5473800" y="133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6"/>
          <p:cNvSpPr/>
          <p:nvPr/>
        </p:nvSpPr>
        <p:spPr>
          <a:xfrm>
            <a:off x="7924680" y="685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79246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5529240" y="7063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9"/>
          <p:cNvSpPr/>
          <p:nvPr/>
        </p:nvSpPr>
        <p:spPr>
          <a:xfrm>
            <a:off x="2514600" y="56386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3">
            <a:hlinkClick r:id="" action="ppaction://hlinkshowjump?jump=previousslide"/>
          </p:cNvPr>
          <p:cNvSpPr/>
          <p:nvPr/>
        </p:nvSpPr>
        <p:spPr>
          <a:xfrm>
            <a:off x="71280" y="7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4">
            <a:hlinkClick r:id="" action="ppaction://hlinkshowjump?jump=nextslide"/>
          </p:cNvPr>
          <p:cNvSpPr/>
          <p:nvPr/>
        </p:nvSpPr>
        <p:spPr>
          <a:xfrm>
            <a:off x="8686800" y="64213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3" descr=""/>
          <p:cNvPicPr/>
          <p:nvPr/>
        </p:nvPicPr>
        <p:blipFill>
          <a:blip r:embed="rId3"/>
          <a:stretch/>
        </p:blipFill>
        <p:spPr>
          <a:xfrm>
            <a:off x="990720" y="206532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4"/>
          <a:stretch/>
        </p:blipFill>
        <p:spPr>
          <a:xfrm>
            <a:off x="217440" y="533520"/>
            <a:ext cx="2571840" cy="11523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6426360" y="1292400"/>
            <a:ext cx="6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HP</cp:lastModifiedBy>
  <dcterms:modified xsi:type="dcterms:W3CDTF">2020-12-02T14:09:53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