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14F-0167-4DA8-99F3-71C92F24E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05F5-8305-462B-B39E-14DAD541E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B97-5886-4871-98B5-66FD04A1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984-1F39-4805-A299-CDFCB66D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4C9-8A4A-4B40-86A2-913E15DF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D1F-D753-411F-9947-B16F05C9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A11-1E3E-4DE6-AF99-319B1BF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05A-AE98-4E80-A473-FB51A700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CD0-3087-42BC-9FC7-9DBA4C9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0D8-2203-4FCD-8B3D-FF46941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7DD-892E-4EFD-B053-DE841315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74E-5F25-43A3-AC9D-D80053E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72F-10CD-4D9A-A0EF-5959239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FD7-9AF0-4A61-95F6-508E48C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E936-412D-494A-BAB6-9A709873C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MCj03701400000[1]"/>
          <p:cNvPicPr/>
          <p:nvPr/>
        </p:nvPicPr>
        <p:blipFill>
          <a:blip r:embed="rId2"/>
          <a:stretch/>
        </p:blipFill>
        <p:spPr>
          <a:xfrm flipH="1">
            <a:off x="6551280" y="4481640"/>
            <a:ext cx="2289240" cy="2158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1295280" y="15685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Функци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505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свойства  и графи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76520" y="266760"/>
            <a:ext cx="4895640" cy="718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Georgia"/>
              </a:rPr>
              <a:t>Сократите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611280" y="1341360"/>
                <a:ext cx="129852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1"/>
              <p:cNvSpPr txBox="1"/>
              <p:nvPr/>
            </p:nvSpPr>
            <p:spPr>
              <a:xfrm>
                <a:off x="507960" y="3141720"/>
                <a:ext cx="15019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4"/>
              <p:cNvSpPr txBox="1"/>
              <p:nvPr/>
            </p:nvSpPr>
            <p:spPr>
              <a:xfrm>
                <a:off x="468360" y="4941720"/>
                <a:ext cx="16239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32"/>
              <p:cNvSpPr txBox="1"/>
              <p:nvPr/>
            </p:nvSpPr>
            <p:spPr>
              <a:xfrm>
                <a:off x="4383000" y="3213000"/>
                <a:ext cx="109692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2195640" y="476280"/>
            <a:ext cx="471780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Линейная функция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57200" y="1600200"/>
            <a:ext cx="5483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х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пря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443640" y="2060640"/>
            <a:ext cx="73080" cy="3600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435640" y="4653000"/>
            <a:ext cx="309708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 flipH="1">
            <a:off x="5792400" y="2708280"/>
            <a:ext cx="2382840" cy="2306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813800" y="2205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8604360" y="4653000"/>
            <a:ext cx="191880" cy="210960"/>
          </a:xfrm>
          <a:prstGeom prst="rect">
            <a:avLst/>
          </a:prstGeom>
          <a:ln w="0">
            <a:noFill/>
          </a:ln>
        </p:spPr>
      </p:pic>
      <p:sp>
        <p:nvSpPr>
          <p:cNvPr id="65" name="Line 9"/>
          <p:cNvSpPr/>
          <p:nvPr/>
        </p:nvSpPr>
        <p:spPr>
          <a:xfrm>
            <a:off x="5796000" y="2924280"/>
            <a:ext cx="2016000" cy="28810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813800" y="551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956720" y="3141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5219640" y="3716280"/>
            <a:ext cx="3384720" cy="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227640" y="465300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1800" y="711360"/>
          <a:ext cx="5715000" cy="1269720"/>
        </p:xfrm>
        <a:graphic>
          <a:graphicData uri="http://schemas.openxmlformats.org/drawingml/2006/table">
            <a:tbl>
              <a:tblPr/>
              <a:tblGrid>
                <a:gridCol w="817560"/>
                <a:gridCol w="814320"/>
                <a:gridCol w="817560"/>
                <a:gridCol w="816120"/>
                <a:gridCol w="817560"/>
                <a:gridCol w="814320"/>
                <a:gridCol w="81756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28"/>
          <p:cNvSpPr/>
          <p:nvPr/>
        </p:nvSpPr>
        <p:spPr>
          <a:xfrm>
            <a:off x="38098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38098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457200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5720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137280" y="738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473800" y="133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79246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7924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5529240" y="7063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9"/>
          <p:cNvSpPr/>
          <p:nvPr/>
        </p:nvSpPr>
        <p:spPr>
          <a:xfrm>
            <a:off x="2514600" y="56386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3">
            <a:hlinkClick r:id="" action="ppaction://hlinkshowjump?jump=previousslide"/>
          </p:cNvPr>
          <p:cNvSpPr/>
          <p:nvPr/>
        </p:nvSpPr>
        <p:spPr>
          <a:xfrm>
            <a:off x="71280" y="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4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64240" y="976320"/>
            <a:ext cx="199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=2Х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6338880" y="1297080"/>
            <a:ext cx="6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3" descr=""/>
          <p:cNvPicPr/>
          <p:nvPr/>
        </p:nvPicPr>
        <p:blipFill>
          <a:blip r:embed="rId3"/>
          <a:stretch/>
        </p:blipFill>
        <p:spPr>
          <a:xfrm>
            <a:off x="990720" y="206532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"/>
          <p:cNvSpPr txBox="1"/>
          <p:nvPr/>
        </p:nvSpPr>
        <p:spPr>
          <a:xfrm>
            <a:off x="758880" y="138240"/>
            <a:ext cx="74167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Обратная пропорциональность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57200" y="1630440"/>
            <a:ext cx="56275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гипер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284720" y="14097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211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286160" y="1913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6012000" y="2708280"/>
            <a:ext cx="295272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"/>
          <p:cNvSpPr/>
          <p:nvPr/>
        </p:nvSpPr>
        <p:spPr>
          <a:xfrm>
            <a:off x="7378560" y="1052640"/>
            <a:ext cx="73080" cy="3240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7034040" y="1125360"/>
            <a:ext cx="201960" cy="238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7813800" y="10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7524720" y="1125360"/>
            <a:ext cx="1295280" cy="1440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"/>
          <p:cNvSpPr/>
          <p:nvPr/>
        </p:nvSpPr>
        <p:spPr>
          <a:xfrm rot="10800000">
            <a:off x="6083280" y="2781000"/>
            <a:ext cx="1225440" cy="143964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844120" y="2781360"/>
            <a:ext cx="191880" cy="210960"/>
          </a:xfrm>
          <a:prstGeom prst="rect">
            <a:avLst/>
          </a:prstGeom>
          <a:ln w="0">
            <a:noFill/>
          </a:ln>
        </p:spPr>
      </p:pic>
      <p:sp>
        <p:nvSpPr>
          <p:cNvPr id="98" name="Line 17"/>
          <p:cNvSpPr/>
          <p:nvPr/>
        </p:nvSpPr>
        <p:spPr>
          <a:xfrm>
            <a:off x="6012000" y="3357720"/>
            <a:ext cx="72720" cy="3240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4572000" y="5157720"/>
            <a:ext cx="2952720" cy="1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0"/>
          <p:cNvSpPr/>
          <p:nvPr/>
        </p:nvSpPr>
        <p:spPr>
          <a:xfrm flipH="1" rot="10800000">
            <a:off x="6156360" y="5229000"/>
            <a:ext cx="1225440" cy="1439640"/>
          </a:xfrm>
          <a:custGeom>
            <a:avLst/>
            <a:gdLst>
              <a:gd name="textAreaLeft" fmla="*/ 360 w 1225440"/>
              <a:gd name="textAreaRight" fmla="*/ 1226160 w 12254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9"/>
          <p:cNvSpPr/>
          <p:nvPr/>
        </p:nvSpPr>
        <p:spPr>
          <a:xfrm flipH="1">
            <a:off x="4645080" y="3645000"/>
            <a:ext cx="1295280" cy="143964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316" h="1452">
                <a:moveTo>
                  <a:pt x="0" y="0"/>
                </a:moveTo>
                <a:cubicBezTo>
                  <a:pt x="11" y="212"/>
                  <a:pt x="23" y="424"/>
                  <a:pt x="46" y="590"/>
                </a:cubicBezTo>
                <a:cubicBezTo>
                  <a:pt x="69" y="756"/>
                  <a:pt x="84" y="885"/>
                  <a:pt x="137" y="998"/>
                </a:cubicBezTo>
                <a:cubicBezTo>
                  <a:pt x="190" y="1111"/>
                  <a:pt x="250" y="1202"/>
                  <a:pt x="363" y="1270"/>
                </a:cubicBezTo>
                <a:cubicBezTo>
                  <a:pt x="476" y="1338"/>
                  <a:pt x="658" y="1376"/>
                  <a:pt x="817" y="1406"/>
                </a:cubicBezTo>
                <a:cubicBezTo>
                  <a:pt x="976" y="1436"/>
                  <a:pt x="1210" y="1444"/>
                  <a:pt x="1316" y="1452"/>
                </a:cubicBezTo>
              </a:path>
            </a:pathLst>
          </a:custGeom>
          <a:noFill/>
          <a:ln w="442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4500720" y="551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5719680" y="5159520"/>
            <a:ext cx="295200" cy="357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9"/>
          <p:cNvSpPr/>
          <p:nvPr/>
        </p:nvSpPr>
        <p:spPr>
          <a:xfrm>
            <a:off x="7442280" y="274320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6048360" y="3289320"/>
            <a:ext cx="20160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7537320" y="5159520"/>
            <a:ext cx="18900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619280" y="404640"/>
            <a:ext cx="64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Квадратичная функция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00200"/>
            <a:ext cx="5122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функция вида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kx²</a:t>
            </a: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0;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рафиком функции является парабола, ветви которой направлены ввер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"/>
          <p:cNvSpPr/>
          <p:nvPr/>
        </p:nvSpPr>
        <p:spPr>
          <a:xfrm>
            <a:off x="7093080" y="1989000"/>
            <a:ext cx="54000" cy="374832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651640" y="4437000"/>
            <a:ext cx="2952720" cy="1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867280" y="2421000"/>
            <a:ext cx="2476800" cy="1993680"/>
          </a:xfrm>
          <a:custGeom>
            <a:avLst/>
            <a:gdLst>
              <a:gd name="textAreaLeft" fmla="*/ 0 w 2476800"/>
              <a:gd name="textAreaRight" fmla="*/ 2477160 w 247680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968" h="1256">
                <a:moveTo>
                  <a:pt x="0" y="0"/>
                </a:moveTo>
                <a:cubicBezTo>
                  <a:pt x="340" y="620"/>
                  <a:pt x="680" y="1240"/>
                  <a:pt x="1008" y="1248"/>
                </a:cubicBezTo>
                <a:cubicBezTo>
                  <a:pt x="1336" y="1256"/>
                  <a:pt x="1652" y="652"/>
                  <a:pt x="1968" y="48"/>
                </a:cubicBezTo>
              </a:path>
            </a:pathLst>
          </a:custGeom>
          <a:noFill/>
          <a:ln w="66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609040" y="4508640"/>
            <a:ext cx="193680" cy="21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7164360" y="1844640"/>
            <a:ext cx="200160" cy="236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 flipH="1">
            <a:off x="6857280" y="4446720"/>
            <a:ext cx="2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9280" y="304920"/>
            <a:ext cx="8785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971800" y="711360"/>
          <a:ext cx="5715000" cy="1269720"/>
        </p:xfrm>
        <a:graphic>
          <a:graphicData uri="http://schemas.openxmlformats.org/drawingml/2006/table">
            <a:tbl>
              <a:tblPr/>
              <a:tblGrid>
                <a:gridCol w="817560"/>
                <a:gridCol w="814320"/>
                <a:gridCol w="817560"/>
                <a:gridCol w="816120"/>
                <a:gridCol w="817560"/>
                <a:gridCol w="814320"/>
                <a:gridCol w="81756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8"/>
          <p:cNvSpPr/>
          <p:nvPr/>
        </p:nvSpPr>
        <p:spPr>
          <a:xfrm>
            <a:off x="38098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38098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457200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5720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6137280" y="738360"/>
            <a:ext cx="9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473800" y="1338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6"/>
          <p:cNvSpPr/>
          <p:nvPr/>
        </p:nvSpPr>
        <p:spPr>
          <a:xfrm>
            <a:off x="7924680" y="6858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7924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5529240" y="7063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2514600" y="56386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3">
            <a:hlinkClick r:id="" action="ppaction://hlinkshowjump?jump=previousslide"/>
          </p:cNvPr>
          <p:cNvSpPr/>
          <p:nvPr/>
        </p:nvSpPr>
        <p:spPr>
          <a:xfrm>
            <a:off x="71280" y="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4">
            <a:hlinkClick r:id="" action="ppaction://hlinkshowjump?jump=nextslide"/>
          </p:cNvPr>
          <p:cNvSpPr/>
          <p:nvPr/>
        </p:nvSpPr>
        <p:spPr>
          <a:xfrm>
            <a:off x="8686800" y="64213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3" descr=""/>
          <p:cNvPicPr/>
          <p:nvPr/>
        </p:nvPicPr>
        <p:blipFill>
          <a:blip r:embed="rId3"/>
          <a:stretch/>
        </p:blipFill>
        <p:spPr>
          <a:xfrm>
            <a:off x="990720" y="206532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4"/>
          <a:stretch/>
        </p:blipFill>
        <p:spPr>
          <a:xfrm>
            <a:off x="217440" y="533520"/>
            <a:ext cx="257184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6426360" y="1292400"/>
            <a:ext cx="6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HP</cp:lastModifiedBy>
  <dcterms:modified xsi:type="dcterms:W3CDTF">2020-12-02T14:09:53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