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4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3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7D3FD-0105-43AD-B00B-9052C450E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9B32E-BD90-4401-9839-58AF30556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FE877-248A-4E46-AFE8-255C65A02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8C64BE-33FC-439D-8B65-C532C12F2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C00B6-9388-4727-BFA2-7EFB4A09E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49B8BD-0085-4D2D-A29B-78558DDE0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CA1244-A2F1-4BD8-BCCC-3B3B362D0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D0C44-BAE9-490C-A135-4EEE0F5A3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8DC8F-8F8C-4AB8-897D-1B70F9D6C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9D87B-85FD-47BA-8F52-43F3F9BEB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AC973-7321-4294-AD49-C4020748B3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FFE30-1A5A-40AE-9CDD-357F651F2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D6C5CC-01D5-4CFE-A3FE-C2F3E97D3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75F14-F59E-4E13-B25E-8707707F8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DCB83-B6C5-4C54-B642-9B2B10ED5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31422-05A1-4B5C-9C4E-34D246A7F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795307-4AE0-4421-978D-0D8BD3743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03357-1A55-49B2-94AC-4209693D6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960" y="-176040"/>
            <a:ext cx="8553600" cy="196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5840" y="1714680"/>
            <a:ext cx="8572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FrankRueh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инация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ценарий литературно-музыкального вечера, посвященного   Дню Победы в Великой Отечественной Войне 1941-1945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оклонимся великим тем годам!»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аудит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ти стар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57880" y="4857840"/>
            <a:ext cx="357192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ор Тамар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№8 г.С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: 47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зансцена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«Песня у костра»</a:t>
            </a:r>
            <a:br>
              <a:rPr sz="18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Князева В.А.(директор симского городского  Дворца культуры) и Ходор В.В. (работник ДО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8000" y="2205000"/>
            <a:ext cx="4309920" cy="369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30640" y="2924280"/>
            <a:ext cx="502920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ач матери»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рывок из "Реквиема" Р.Рождественского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 исполнении  Ходор Т.А.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сня «Русские матери»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хора ветеранов «Неугомонные сердца»   Симского городского Дворца культуры художественный руководитель Ходор Т.А.)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00120" y="2786040"/>
            <a:ext cx="2290680" cy="386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4022640" cy="301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 приглашённым гостям-ветеранам</a:t>
            </a:r>
            <a:br>
              <a:rPr sz="18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ыкова Вера Васи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4319640" cy="4119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2205000"/>
            <a:ext cx="450216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89000"/>
            <a:ext cx="8229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нец «Малиновый звон»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танцевального коллектива Детской школы искусств «Вдохновение» под руководством Онацкой О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349884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00680" y="3786120"/>
            <a:ext cx="4019400" cy="2684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8000" y="274680"/>
            <a:ext cx="89280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сня «Разговор с портретом» 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ии выпускницы ДОУ, солистки Симского городского Дворца культуры Чистяковой Поли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удожественный руководитель Зиновьева О.В.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57280" y="1928880"/>
            <a:ext cx="4565880" cy="3733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15920"/>
            <a:ext cx="8893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детьми совместно с родителям стихов и литературных произведений о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14280" y="2071800"/>
            <a:ext cx="6834240" cy="347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9000"/>
            <a:ext cx="860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сня «Победа» </a:t>
            </a: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Чистяковой Пол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71800" y="1571760"/>
            <a:ext cx="4859280" cy="449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2300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2920" y="142920"/>
            <a:ext cx="88581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у подрастающего поколения чувства уважения к героям и благодарности за великий подвиг, совершенный нашими пред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93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23920"/>
            <a:ext cx="900108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в и песен о чести, долге солдата, войне, Дне Победы, прослушивание песен вое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остюмов для детей, декораций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оциальными партне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анов Симского городского Дворца культуры «Неугомонные сердца» (художественный руководитель Ходор Т.А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евальный коллектив Детской школы искусств «Вдохновение»  (руководитель Онацкая О.А.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алист Симского городского Дворца культуры Чистякова Полина  (художественный руководитель Зиновьева О.В.)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курс чтецов ДОУ </a:t>
            </a:r>
            <a:br>
              <a:rPr sz="18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Этих дней не смолкнет слава!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06920" y="3706920"/>
            <a:ext cx="5192640" cy="315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560" y="1566720"/>
            <a:ext cx="2951280" cy="406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138640" y="1279440"/>
            <a:ext cx="2871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4936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ЦИЯ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ОЙ ВЕТЕРАН»</a:t>
            </a:r>
            <a:br>
              <a:rPr sz="18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 детского сада  посетили ветеранов  и тружеников тыла, поздравили их с Днём Победы  в Великой Отечественной войне 1941-1945г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2155680"/>
          <a:ext cx="9145080" cy="4203360"/>
        </p:xfrm>
        <a:graphic>
          <a:graphicData uri="http://schemas.openxmlformats.org/drawingml/2006/table">
            <a:tbl>
              <a:tblPr/>
              <a:tblGrid>
                <a:gridCol w="2514960"/>
                <a:gridCol w="2489400"/>
                <a:gridCol w="2016720"/>
                <a:gridCol w="2124000"/>
              </a:tblGrid>
              <a:tr h="210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0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лова Анна Никитичн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ла детям свои медали и рассказала, за что их получи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олева Никиты Васильевич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ники устроили праздничный мини-конце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знова Екатерина Ивановн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ала детям о нелегком труде в тыл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слаева Тамара Михайловн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ала о тяготах жизни детей в год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520" y="2362320"/>
            <a:ext cx="239256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3440" y="2155680"/>
            <a:ext cx="243216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935600" y="2459160"/>
            <a:ext cx="2114640" cy="177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039080" y="2155680"/>
            <a:ext cx="1962000" cy="178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1938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5381640" cy="4348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627280" y="1773360"/>
            <a:ext cx="5781600" cy="483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760" y="55440"/>
            <a:ext cx="9090000" cy="156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8000" y="1700280"/>
            <a:ext cx="4591080" cy="37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84640" y="2781360"/>
            <a:ext cx="4930920" cy="3822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6480" y="-146160"/>
            <a:ext cx="8974440" cy="186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428920" y="2357280"/>
            <a:ext cx="4494240" cy="337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атрализованная мини-постановка </a:t>
            </a:r>
            <a:br>
              <a:rPr sz="18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Брат и сестра в ожидании матер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537080" cy="3527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4898880" cy="3675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12:11:22Z</dcterms:created>
  <dc:creator/>
  <dc:description/>
  <dc:language>en-US</dc:language>
  <cp:lastModifiedBy/>
  <dcterms:modified xsi:type="dcterms:W3CDTF">2020-12-02T04:54:35Z</dcterms:modified>
  <cp:revision>1</cp:revision>
  <dc:subject/>
  <dc:title/>
</cp:coreProperties>
</file>