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4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3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BA0BD-72DC-4268-B376-6C8DBA50D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2CA205-F748-441A-A3F2-7E442210B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F95B36-AA7A-4D72-8513-415B21254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9328B5-65C4-44B1-A63E-0813CB3D8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EDFC82-B90B-4D76-AB4B-31323A502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FCD748-18F1-435C-9CF9-239186CA8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70DDA0-A197-403A-8923-5C7DA559E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05270A-05CC-4D9B-8E69-0C7E8F627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A460D8-89D8-45DC-B53E-62F4D0B5E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21CBD9-E48D-4846-96D2-0492548CF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39A593-89CB-48E4-939D-84C9D8366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20BE8-DFC8-4C8A-BD0B-88FDA5ED0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37EB3C-D4EC-4682-98D8-4BCE5218D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18C792-4A7E-40B3-A10A-4C1517EC4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3FD88-43A1-4D07-93E9-A4C24443E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C98878-7F55-4BCD-9245-22E2F45D8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FF2267-5184-428F-8B86-7872047F3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433B55-D67D-4BC6-ADDA-120CF1FA3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960" y="-176040"/>
            <a:ext cx="8553600" cy="1968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5840" y="1714680"/>
            <a:ext cx="8572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FrankRuehl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минация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ценарий литературно-музыкального вечера, посвященного   Дню Победы в Великой Отечественной Войне 1941-1945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оклонимся великим тем годам!»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вая аудитор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ти старшего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57880" y="4857840"/>
            <a:ext cx="357192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ор Тамар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ДОУ№8 г.С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: 47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зансцена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«Песня у костра»</a:t>
            </a:r>
            <a:br>
              <a:rPr sz="18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нии Князева В.А.(директор симского городского  Дворца культуры) и Ходор В.В. (работник ДО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8000" y="2205000"/>
            <a:ext cx="4309920" cy="369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30640" y="2924280"/>
            <a:ext cx="502920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ач матери»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рывок из "Реквиема" Р.Рождественского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 исполнении  Ходор Т.А.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сня «Русские матери»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нии хора ветеранов «Неугомонные сердца»   Симского городского Дворца культуры художественный руководитель Ходор Т.А.)</a:t>
            </a:r>
            <a:br>
              <a:rPr sz="1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00120" y="2786040"/>
            <a:ext cx="2290680" cy="386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286160" y="2857680"/>
            <a:ext cx="4022640" cy="301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 приглашённым гостям-ветеранам</a:t>
            </a:r>
            <a:br>
              <a:rPr sz="18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ыкова Вера Васил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4319640" cy="4119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2205000"/>
            <a:ext cx="450216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89000"/>
            <a:ext cx="8229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нец «Малиновый звон»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нии танцевального коллектива Детской школы искусств «Вдохновение» под руководством Онацкой О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2960" y="1571760"/>
            <a:ext cx="349884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00680" y="3786120"/>
            <a:ext cx="4019400" cy="2684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8000" y="274680"/>
            <a:ext cx="89280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сня «Разговор с портретом» 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ии выпускницы ДОУ, солистки Симского городского Дворца культуры Чистяковой Поли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удожественный руководитель Зиновьева О.В.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57280" y="1928880"/>
            <a:ext cx="4565880" cy="3733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15920"/>
            <a:ext cx="8893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детьми совместно с родителям стихов и литературных произведений о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14280" y="2071800"/>
            <a:ext cx="6834240" cy="3477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9000"/>
            <a:ext cx="860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сня «Победа» </a:t>
            </a: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олнении Чистяковой Пол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71800" y="1571760"/>
            <a:ext cx="4859280" cy="449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523000" cy="514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2920" y="142920"/>
            <a:ext cx="885816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у подрастающего поколения чувства уважения к героям и благодарности за великий подвиг, совершенный нашими пред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93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123920"/>
            <a:ext cx="900108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в и песен о чести, долге солдата, войне, Дне Победы, прослушивание песен вое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остюмов для детей, декораций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оциальными партне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анов Симского городского Дворца культуры «Неугомонные сердца» (художественный руководитель Ходор Т.А.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евальный коллектив Детской школы искусств «Вдохновение»  (руководитель Онацкая О.А.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алист Симского городского Дворца культуры Чистякова Полина  (художественный руководитель Зиновьева О.В.)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нкурс чтецов ДОУ </a:t>
            </a:r>
            <a:br>
              <a:rPr sz="18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Этих дней не смолкнет слава!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06920" y="3706920"/>
            <a:ext cx="5192640" cy="3157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560" y="1566720"/>
            <a:ext cx="2951280" cy="406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138640" y="1279440"/>
            <a:ext cx="2871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54936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ЦИЯ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ОЙ ВЕТЕРАН»</a:t>
            </a:r>
            <a:br>
              <a:rPr sz="18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 детского сада  посетили ветеранов  и тружеников тыла, поздравили их с Днём Победы  в Великой Отечественной войне 1941-1945г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2155680"/>
          <a:ext cx="9145080" cy="4203360"/>
        </p:xfrm>
        <a:graphic>
          <a:graphicData uri="http://schemas.openxmlformats.org/drawingml/2006/table">
            <a:tbl>
              <a:tblPr/>
              <a:tblGrid>
                <a:gridCol w="2514960"/>
                <a:gridCol w="2489400"/>
                <a:gridCol w="2016720"/>
                <a:gridCol w="2124000"/>
              </a:tblGrid>
              <a:tr h="210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0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лова Анна Никитичн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ла детям свои медали и рассказала, за что их получи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олева Никиты Васильевич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ники устроили праздничный мини-конце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знова Екатерина Ивановн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ала детям о нелегком труде в тыл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слаева Тамара Михайловн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ала о тяготах жизни детей в год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520" y="2362320"/>
            <a:ext cx="2392560" cy="187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3440" y="2155680"/>
            <a:ext cx="243216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935600" y="2459160"/>
            <a:ext cx="2114640" cy="177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039080" y="2155680"/>
            <a:ext cx="1962000" cy="178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242560" cy="1938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5381640" cy="4348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627280" y="1773360"/>
            <a:ext cx="5781600" cy="483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760" y="55440"/>
            <a:ext cx="9090000" cy="156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8000" y="1700280"/>
            <a:ext cx="4591080" cy="374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84640" y="2781360"/>
            <a:ext cx="4930920" cy="3822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6480" y="-146160"/>
            <a:ext cx="8974440" cy="186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428920" y="2357280"/>
            <a:ext cx="4494240" cy="337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атрализованная мини-постановка </a:t>
            </a:r>
            <a:br>
              <a:rPr sz="18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Брат и сестра в ожидании матер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537080" cy="3527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4898880" cy="3675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30T12:11:22Z</dcterms:created>
  <dc:creator/>
  <dc:description/>
  <dc:language>en-US</dc:language>
  <cp:lastModifiedBy/>
  <dcterms:modified xsi:type="dcterms:W3CDTF">2020-12-02T04:54:35Z</dcterms:modified>
  <cp:revision>1</cp:revision>
  <dc:subject/>
  <dc:title/>
</cp:coreProperties>
</file>