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F25-636A-473B-B40B-E1AFF213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92B-1D0D-440B-A1E5-B89536F4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D4B-0739-428F-BCB4-AD496360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48F-FE64-480F-9D1E-C29FDD58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71AF-A396-4982-93C0-A9388B81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2D9C-CA44-4BB3-98F0-1C5713EA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DEF4-5732-4970-9BB3-544191FA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BBE7-436B-49D5-8AF3-4938CF57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AE49-0F60-4C5D-ABF6-3C371FDB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7AF4-4465-4570-8253-AECCF1B6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8A86-3A22-469A-B964-29B9EE3F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6E0-292F-4C2A-884A-6D424492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693E-802E-4F64-9F55-ADF3680B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561B-912C-4966-98BD-C498B6D7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2EF9-E4D4-4571-A083-BDE8B2D2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B731-0373-4ECE-981D-40F32BB8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91C7-6792-4A61-ACA5-49D86383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97B-87E6-4D5B-8EDD-66C7C23A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487F-53AF-4CB4-8775-19524DCA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F3E6-7790-463E-A3A4-3BA086AC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8DA-4B0F-4FDE-8652-2CB98754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D82-CBEC-485F-8DBE-A14E28E4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4BA-503B-4999-A2FB-484856BE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5ED-26E7-45B3-9402-FF8F3E11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F72B-AE6D-4095-A560-E498B4A8AE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D290-CD14-4EB1-A60E-562200C807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стинные и ложные  мотивы преступления Родиона Раскольнико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34286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Мне отмщение и аз воздам»: только Бог судья человеку да его сове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сновополагающий вопрос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жет ли человек распоряжаться по своему усмотрению жизнью другого человека, вынося ему приговор, даже если этот человек, казалось бы, недостоин земного существования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11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Условия и этапы осуществления преступной идеи в роман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преступл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рить на деле свою теорию, «сделать пробу» - узнать, к какому разряду людей (к «твари дрожащей» или «право имеющим») можно себя отн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украденные деньги обеспечить себе учёбу в университете и первые шаги после университ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спечив своё будущее, сделать много добрых дел, помочь бедным людям, стать «благодетелем человече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ичины преступл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опричина кроется глубоко в детстве: воспитание отца (равнодушие к злу), воспитание матери (всё – для Род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ерть неве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здоровая атмосфера  Петербур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ая униженность героя, бедность, невозможность умному, талантливому, но бедному человеку одним лишь честным трудом «пробиться в люд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яжёлое положение матери и сес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радание героя «униженным и оскорбленны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Группа аналитик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же задумал своё страшное дело Раскольн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подтолкнуло его к такому решен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, преодолевая страх и отвращение к себе и к своему замыслу, он упорно движется к убийству, несмотря ни на 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Группа психологов-юрист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является главным условием совершения человеком преступл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каком психологическом состоянии должен находиться преступни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Группа социолог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ак вы думаете, влияет ли на человека пространство, в котором он существуе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аким образо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Группа критик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жно ли оправдать преступление, даже если оно мотивировано благородными целя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жно ли совершить преступление «по совести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7:12:54Z</dcterms:created>
  <dc:creator>FuckYouBill</dc:creator>
  <dc:description/>
  <dc:language>en-US</dc:language>
  <cp:lastModifiedBy>FuckYouBill</cp:lastModifiedBy>
  <dcterms:modified xsi:type="dcterms:W3CDTF">2009-02-09T20:03:34Z</dcterms:modified>
  <cp:revision>4</cp:revision>
  <dc:subject/>
  <dc:title>Истинные и ложные  мотивы преступления Родиона Раскольникова</dc:title>
</cp:coreProperties>
</file>