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330-308D-4658-AB74-F4399BA0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195-CF28-41E0-BA3B-CC354B4A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5BD-E224-47FD-89BA-95A96873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8AB-0D3B-499E-B636-886445C7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709D-4A1B-4A26-B315-77715514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A01B-D1AC-449B-8C14-48B7CA2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2356-A1CC-47DE-96B5-EF0B2A8E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CDDB-5A9D-438C-9C27-94B0EF96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F991-09F8-41BB-9C48-376FA7B1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29F2-CA9F-45D7-82EF-35F11722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FA97-BE53-4A90-B588-4E3AF81E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874-6B28-40F9-B235-B45FE7E0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E866-824F-460D-B5CE-D95C6779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F74-404C-4EEF-870D-37180393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7D9-9D13-4AB7-885C-6B535DF1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7A6-B2FB-48B6-8269-71F15C3E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B2DE-E9B2-4FDB-8FB5-727C28CF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AD5-C272-4D4C-BE5D-5CFFD4C4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888-7B5E-4140-A891-AC2A0615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112-E299-460E-A5C4-5FF0B71F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B13-03E2-48EF-807B-AC353FCE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A96-6CF7-4154-A1D0-1DFA32E1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AFD-D576-4BFA-AD5D-DAB5D28A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BA5-7369-4507-9C74-ABD0F02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5EE6-DF37-4F10-90F4-85829BE36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DC66-C3B7-470D-B6D6-78853C7FE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тинные и ложные  мотивы преступления Родиона Раскольни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4286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Мне отмщение и аз воздам»: только Бог судья человеку да его сове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новополагающи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жет ли человек распоряжаться по своему усмотрению жизнью другого человека, вынося ему приговор, даже если этот человек, казалось бы, недостоин земного существования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1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словия и этапы осуществления преступной идеи в рома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преступ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 на деле свою теорию, «сделать пробу» - узнать, к какому разряду людей (к «твари дрожащей» или «право имеющим») можно себя отн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украденные деньги обеспечить себе учёбу в университете и первые шаги после универс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ив своё будущее, сделать много добрых дел, помочь бедным людям, стать «благодетелем человече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чины преступ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опричина кроется глубоко в детстве: воспитание отца (равнодушие к злу), воспитание матери (всё – для Ро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ь нев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здоровая атмосфера  Петербур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ая униженность героя, бедность, невозможность умному, талантливому, но бедному человеку одним лишь честным трудом «пробиться в лю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яжёлое положение матери и сес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радание героя «униженным и оскорблен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руппа аналити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же задумал своё страшное дело Расколь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одтолкнуло его к такому реш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, преодолевая страх и отвращение к себе и к своему замыслу, он упорно движется к убийству, несмотря ни на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руппа психологов-юрист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является главным условием совершения человеком преступл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каком психологическом состоянии должен находиться преступн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руппа социолог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к вы думаете, влияет ли на человека пространство, в котором он существу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ким образ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руппа крити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но ли оправдать преступление, даже если оно мотивировано благородными цел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но ли совершить преступление «по совест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12:54Z</dcterms:created>
  <dc:creator>FuckYouBill</dc:creator>
  <dc:description/>
  <dc:language>en-US</dc:language>
  <cp:lastModifiedBy>FuckYouBill</cp:lastModifiedBy>
  <dcterms:modified xsi:type="dcterms:W3CDTF">2009-02-09T20:03:34Z</dcterms:modified>
  <cp:revision>4</cp:revision>
  <dc:subject/>
  <dc:title>Истинные и ложные  мотивы преступления Родиона Раскольникова</dc:title>
</cp:coreProperties>
</file>