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907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1EF7-7361-41C0-B324-03477371E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7102-0440-4FEA-9782-3AB4F81C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D281-4355-46AF-8024-2877F42C1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F00B-C721-4EB1-B908-80B599943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F5A9-5330-4478-A54E-2B64ADAA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43D0-D274-4746-B788-E0C8FEE4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37B1-499A-4205-8FD8-26833630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17F3-5D5A-4979-8DFD-A81DA669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E943-A583-407C-A64C-A013A5D9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1C8B-A0C8-45F9-8F71-FA5A7681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E9E6-1A13-4B99-AE0D-A8A96BF5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A49A-47BF-4232-953F-CB7611F3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0319-7946-4C4B-83B9-1D12B0CB90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2806560" y="19051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http://nifdugu.ru/uploads/posts/2013-10/1382883895_computerdesktopwallpaperscollection775_030.jpg"/>
          <p:cNvPicPr/>
          <p:nvPr/>
        </p:nvPicPr>
        <p:blipFill>
          <a:blip r:embed="rId1"/>
          <a:stretch/>
        </p:blipFill>
        <p:spPr>
          <a:xfrm>
            <a:off x="371520" y="266760"/>
            <a:ext cx="9204120" cy="6248520"/>
          </a:xfrm>
          <a:prstGeom prst="rect">
            <a:avLst/>
          </a:prstGeom>
          <a:ln w="0">
            <a:noFill/>
          </a:ln>
        </p:spPr>
      </p:pic>
      <p:sp>
        <p:nvSpPr>
          <p:cNvPr id="43" name="TextBox 6"/>
          <p:cNvSpPr/>
          <p:nvPr/>
        </p:nvSpPr>
        <p:spPr>
          <a:xfrm>
            <a:off x="885960" y="1981080"/>
            <a:ext cx="817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Bodoni Initials"/>
              </a:rPr>
              <a:t>«Осень!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Bodoni Initials"/>
              </a:rPr>
              <a:t>Дивная пора!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5562720" y="5486400"/>
            <a:ext cx="331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Georgia"/>
              </a:rPr>
              <a:t>Подготовила: Безрукавая Е.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IMG_1602.JPG"/>
          <p:cNvPicPr/>
          <p:nvPr/>
        </p:nvPicPr>
        <p:blipFill>
          <a:blip r:embed="rId1"/>
          <a:srcRect l="11185" t="0" r="0" b="39164"/>
          <a:stretch/>
        </p:blipFill>
        <p:spPr>
          <a:xfrm>
            <a:off x="330120" y="304920"/>
            <a:ext cx="9328320" cy="624816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1830240" y="345960"/>
            <a:ext cx="74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«Осень! Дивная пора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412920" y="685800"/>
            <a:ext cx="916272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Georgia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000"/>
                </a:solidFill>
                <a:latin typeface="Georgia"/>
              </a:rPr>
              <a:t>Игровая деятельность</a:t>
            </a:r>
            <a:r>
              <a:rPr b="1" lang="ru-RU" sz="1200" spc="-1" strike="noStrike">
                <a:solidFill>
                  <a:srgbClr val="ffc000"/>
                </a:solidFill>
                <a:latin typeface="Georg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Georgia"/>
              </a:rPr>
              <a:t>*Обогащать содержание сюжетных игр детей на основе знакомства с явлениями социальной действительности и отношениями людей (школа, магазин, больница, парикмахерская, путешествия и др.), активизировать воображение на основе сюжетов сказок и мультипликационных филь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000"/>
                </a:solidFill>
                <a:latin typeface="Georgia"/>
              </a:rPr>
              <a:t>Образовательная область «Социально-коммуникативное развит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Georgia"/>
              </a:rPr>
              <a:t>* Развитие добрых чувств, эмоциональной отзывчивости, умения различать настроение и эмоциональное состояние окружающих людей и учитывать это в своем поведен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Georgia"/>
              </a:rPr>
              <a:t>* Способствовать развитию творческих способностей, позиции субъекта в продуктивных видах детского досуга на основе осознания ребенком собственных интересов, желаний и предпочт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000"/>
                </a:solidFill>
                <a:latin typeface="Georgia"/>
              </a:rPr>
              <a:t>Образовательная  область «Познавательно развит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Georgia"/>
              </a:rPr>
              <a:t>   </a:t>
            </a:r>
            <a:r>
              <a:rPr b="1" lang="ru-RU" sz="1200" spc="-1" strike="noStrike">
                <a:solidFill>
                  <a:srgbClr val="c00000"/>
                </a:solidFill>
                <a:latin typeface="Georgia"/>
              </a:rPr>
              <a:t>* Развивать умение отражать результаты познания в речи, рассуждать, пояснять, приводить примеры и анало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Georgia"/>
              </a:rPr>
              <a:t>   </a:t>
            </a:r>
            <a:r>
              <a:rPr b="1" lang="ru-RU" sz="1200" spc="-1" strike="noStrike">
                <a:solidFill>
                  <a:srgbClr val="c00000"/>
                </a:solidFill>
                <a:latin typeface="Georgia"/>
              </a:rPr>
              <a:t>* Воспитывать эмоционально-ценностное отношение к окружающему миру (природе, людям, предметам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000"/>
                </a:solidFill>
                <a:latin typeface="Georgia"/>
              </a:rPr>
              <a:t>Образовательная область «Речевое развит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Georgia"/>
              </a:rPr>
              <a:t>* Обогащать словарь детей за счет расширения представлений о явлениях социальной жизни, взаимоотношениях и характерах люд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000"/>
                </a:solidFill>
                <a:latin typeface="Georgia"/>
              </a:rPr>
              <a:t>Образовательная область «Художественно-эстетическое развит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Georgia"/>
              </a:rPr>
              <a:t>* Активизировать проявление эстетического отношения к окружающему миру (природ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Georgia"/>
              </a:rPr>
              <a:t>Развивать изобразительную деятельность детей: самостоятельное определение замысла будущей работы, стремление создать выразительный образ, умений самостоятельно отбирать впечатления, переживания для определения сюжета, выбирать соответствующие образу изобразительные техники и материалы, планировать деятельность и достигать результата, оценивать его, взаимодействовать с другими детьми в процессе коллективных творческих работ. </a:t>
            </a:r>
            <a:r>
              <a:rPr b="1" i="1" lang="ru-RU" sz="1200" spc="-1" strike="noStrike">
                <a:solidFill>
                  <a:srgbClr val="c00000"/>
                </a:solidFill>
                <a:latin typeface="Georg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1" i="1" lang="ru-RU" sz="1200" spc="-1" strike="noStrike">
                <a:solidFill>
                  <a:srgbClr val="ffc000"/>
                </a:solidFill>
                <a:latin typeface="Georgia"/>
              </a:rPr>
              <a:t>Образовательная область «Физическое развит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Georgia"/>
              </a:rPr>
              <a:t>* Формировать представления о здоровье, его ценности, полезных привычках, укрепляющих здоровье, о мерах профилактики и охраны здоровь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Georgia"/>
              </a:rPr>
              <a:t>* Развивать самостоятельность детей в выполнении культурно-гигиенических навыков и жизненно важных привычек здорового образа жизн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IMG_1602.JPG"/>
          <p:cNvPicPr/>
          <p:nvPr/>
        </p:nvPicPr>
        <p:blipFill>
          <a:blip r:embed="rId1"/>
          <a:stretch/>
        </p:blipFill>
        <p:spPr>
          <a:xfrm>
            <a:off x="330120" y="304920"/>
            <a:ext cx="9328320" cy="624816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1981080" y="685800"/>
            <a:ext cx="7429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Ребята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Сегодня мы с вами пойдем в гости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к красавице Осени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Georgia"/>
              </a:rPr>
              <a:t>Лес, точно терем расписн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Georgia"/>
              </a:rPr>
              <a:t>Лиловый, золотой, багрян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Georgia"/>
              </a:rPr>
              <a:t>Стоит над солнечной полян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Georgia"/>
              </a:rPr>
              <a:t>Завороженный тишино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http://lh5.googleusercontent.com/-9lZczytwSPk/TtuvEZt5RPI/AAAAAAAAvcY/nOaUD5k-grg/s1600/Brown+-+Beautiful+Color+%252813%2529.jpg"/>
          <p:cNvPicPr/>
          <p:nvPr/>
        </p:nvPicPr>
        <p:blipFill>
          <a:blip r:embed="rId1"/>
          <a:stretch/>
        </p:blipFill>
        <p:spPr>
          <a:xfrm>
            <a:off x="330120" y="304920"/>
            <a:ext cx="9286920" cy="624816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1"/>
          <p:cNvSpPr/>
          <p:nvPr/>
        </p:nvSpPr>
        <p:spPr>
          <a:xfrm>
            <a:off x="536400" y="3506760"/>
            <a:ext cx="9080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Унылая пора! Очей очарованье!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Приятна мне твоя прощальная краса —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Люблю я пышное природы увяданье,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В багрец и в золото одетые леса,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В их сенях ветра шум и свежее дыханье,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И мглой волнистою покрыты небеса,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И редкий солнца луч, и первые морозы,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И отдаленные седой зимы угр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IMG_1591.JPG"/>
          <p:cNvPicPr/>
          <p:nvPr/>
        </p:nvPicPr>
        <p:blipFill>
          <a:blip r:embed="rId1"/>
          <a:stretch/>
        </p:blipFill>
        <p:spPr>
          <a:xfrm>
            <a:off x="412920" y="380880"/>
            <a:ext cx="4209840" cy="43434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" descr="IMG_1592.JPG"/>
          <p:cNvPicPr/>
          <p:nvPr/>
        </p:nvPicPr>
        <p:blipFill>
          <a:blip r:embed="rId2"/>
          <a:stretch/>
        </p:blipFill>
        <p:spPr>
          <a:xfrm>
            <a:off x="5283360" y="2133720"/>
            <a:ext cx="4236840" cy="429264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4788000" y="609480"/>
            <a:ext cx="4622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Коренастый, в шляпе н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Гриб растет в лесу сосно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Ой, схватили белки вми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Этот белый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412920" y="5029200"/>
            <a:ext cx="453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Georgia"/>
              </a:rPr>
              <a:t>Стоял на крепкой ножк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Georgia"/>
              </a:rPr>
              <a:t>Теперь лежит в лукош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IMG_1598.JPG"/>
          <p:cNvPicPr/>
          <p:nvPr/>
        </p:nvPicPr>
        <p:blipFill>
          <a:blip r:embed="rId1"/>
          <a:stretch/>
        </p:blipFill>
        <p:spPr>
          <a:xfrm>
            <a:off x="5365800" y="380880"/>
            <a:ext cx="4154400" cy="3429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2" descr="IMG_1593.JPG"/>
          <p:cNvPicPr/>
          <p:nvPr/>
        </p:nvPicPr>
        <p:blipFill>
          <a:blip r:embed="rId2"/>
          <a:stretch/>
        </p:blipFill>
        <p:spPr>
          <a:xfrm>
            <a:off x="412920" y="3124080"/>
            <a:ext cx="4402080" cy="335304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577800" y="914400"/>
            <a:ext cx="462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Georgia"/>
              </a:rPr>
              <a:t>Маленький, удаленьк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Georgia"/>
              </a:rPr>
              <a:t>Сквозь землю проше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Georgia"/>
              </a:rPr>
              <a:t>Красную шапочку наше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5118120" y="4724280"/>
            <a:ext cx="437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Georgia"/>
              </a:rPr>
              <a:t>Кто стоит на крепкой нож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Georgia"/>
              </a:rPr>
              <a:t>В бурых листьях у дорож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IMG_1599.JPG"/>
          <p:cNvPicPr/>
          <p:nvPr/>
        </p:nvPicPr>
        <p:blipFill>
          <a:blip r:embed="rId1"/>
          <a:stretch/>
        </p:blipFill>
        <p:spPr>
          <a:xfrm>
            <a:off x="5118120" y="3505320"/>
            <a:ext cx="4402080" cy="28573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2" descr="IMG_1600.JPG"/>
          <p:cNvPicPr/>
          <p:nvPr/>
        </p:nvPicPr>
        <p:blipFill>
          <a:blip r:embed="rId2"/>
          <a:stretch/>
        </p:blipFill>
        <p:spPr>
          <a:xfrm>
            <a:off x="412920" y="304920"/>
            <a:ext cx="4402080" cy="284472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5118120" y="533520"/>
            <a:ext cx="4292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Лисичка лисичке сказала в лесу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«Не даром лисичкой зовут и лису!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Лиса на лисичку похожа была бы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когда бы не зубы, ни шерсть и не лапы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577800" y="3505320"/>
            <a:ext cx="4457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Когда увидите опят,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их собирайте всех подряд: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две сотни - там, три сотни - тут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Опята семьями растут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IMG_1605.JPG"/>
          <p:cNvPicPr/>
          <p:nvPr/>
        </p:nvPicPr>
        <p:blipFill>
          <a:blip r:embed="rId1"/>
          <a:stretch/>
        </p:blipFill>
        <p:spPr>
          <a:xfrm>
            <a:off x="330120" y="380880"/>
            <a:ext cx="3880080" cy="26863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2" descr="IMG_1606.JPG"/>
          <p:cNvPicPr/>
          <p:nvPr/>
        </p:nvPicPr>
        <p:blipFill>
          <a:blip r:embed="rId2"/>
          <a:stretch/>
        </p:blipFill>
        <p:spPr>
          <a:xfrm>
            <a:off x="6026040" y="3276720"/>
            <a:ext cx="3440160" cy="31748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" descr="IMG_1607.JPG"/>
          <p:cNvPicPr/>
          <p:nvPr/>
        </p:nvPicPr>
        <p:blipFill>
          <a:blip r:embed="rId3"/>
          <a:stretch/>
        </p:blipFill>
        <p:spPr>
          <a:xfrm>
            <a:off x="3714840" y="1676520"/>
            <a:ext cx="3824280" cy="2286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325440" y="3865680"/>
            <a:ext cx="5035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Georgia"/>
              </a:rPr>
              <a:t>Стройную рябину вижу во дворе,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Georgia"/>
              </a:rPr>
              <a:t>Изумруд на ветках утром на заре.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Georgia"/>
              </a:rPr>
              <a:t>Много ягод красных,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Georgia"/>
              </a:rPr>
              <a:t>Спелых и прекрас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Georgia"/>
              </a:rPr>
              <a:t>Гроздьями висят,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Georgia"/>
              </a:rPr>
              <a:t>Их красив наряд.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Georgia"/>
              </a:rPr>
              <a:t>Собери на нитку ягод- для души,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Georgia"/>
              </a:rPr>
              <a:t>Из рябины бусы очень хороши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4457880" y="380880"/>
            <a:ext cx="4870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У забора облепиха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Выросла по случаю.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Соберешь немало лиха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С ягодой колючею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3"/>
          <p:cNvSpPr/>
          <p:nvPr/>
        </p:nvSpPr>
        <p:spPr>
          <a:xfrm>
            <a:off x="412920" y="457200"/>
            <a:ext cx="91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Работы детей и родителей «Осенние фантаз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http://www.orangestone.com.ua/wp-content/gallery/pejzazhi/112.jpg"/>
          <p:cNvPicPr/>
          <p:nvPr/>
        </p:nvPicPr>
        <p:blipFill>
          <a:blip r:embed="rId1"/>
          <a:stretch/>
        </p:blipFill>
        <p:spPr>
          <a:xfrm>
            <a:off x="304920" y="320760"/>
            <a:ext cx="9270720" cy="62323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609480" y="2494800"/>
            <a:ext cx="861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Ос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Осень на опушке краски разводи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По листве тихонько кистью провод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Пожелтел орешник и зарделись кле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В пурпуре осеннем только дуб зеле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Утешает осен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- Не жалейте лет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Посмотрите - роща золотом одет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                                                                         </a:t>
            </a: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3. Федоров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Безрукавая</dc:creator>
  <dc:description/>
  <dc:language>en-US</dc:language>
  <cp:lastModifiedBy>Елена</cp:lastModifiedBy>
  <cp:lastPrinted>2015-10-18T16:46:06Z</cp:lastPrinted>
  <dcterms:modified xsi:type="dcterms:W3CDTF">2020-11-05T07:20:30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