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49C-D791-4EDA-A210-98FE4467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6F8-C3E9-4E74-8E60-0F145C28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426-4289-493F-A6C8-C20F5D40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3F0-DDAE-4DF7-89AD-1725C66F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665-E69C-4ED5-8679-787C14FF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FFA-C56B-4FD5-8B70-94F94283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7FE8-2F94-41EB-B54A-09A665A3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EAF-2BC9-4897-814B-90A29EE8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F11-33B4-4A06-8D9E-6B451F4B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67D-6BFE-495B-8B38-DD0865FE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E08E-CEB7-4556-9BD1-D463B0B6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595-B0F3-4870-820F-5188496F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8484-34C9-4A59-A086-87E464A4B4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806560" y="19051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http://nifdugu.ru/uploads/posts/2013-10/1382883895_computerdesktopwallpaperscollection775_030.jpg"/>
          <p:cNvPicPr/>
          <p:nvPr/>
        </p:nvPicPr>
        <p:blipFill>
          <a:blip r:embed="rId1"/>
          <a:stretch/>
        </p:blipFill>
        <p:spPr>
          <a:xfrm>
            <a:off x="371520" y="266760"/>
            <a:ext cx="9204120" cy="6248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885960" y="1981080"/>
            <a:ext cx="81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Bodoni Initials"/>
              </a:rPr>
              <a:t>«Осень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Bodoni Initials"/>
              </a:rPr>
              <a:t>Дивная пора!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5562720" y="5486400"/>
            <a:ext cx="33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Georgia"/>
              </a:rPr>
              <a:t>Подготовила: Безрукавая Е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IMG_1602.JPG"/>
          <p:cNvPicPr/>
          <p:nvPr/>
        </p:nvPicPr>
        <p:blipFill>
          <a:blip r:embed="rId1"/>
          <a:srcRect l="11185" t="0" r="0" b="39164"/>
          <a:stretch/>
        </p:blipFill>
        <p:spPr>
          <a:xfrm>
            <a:off x="330120" y="304920"/>
            <a:ext cx="9328320" cy="6248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1830240" y="34596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«Осень! Дивная пор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12920" y="685800"/>
            <a:ext cx="91627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Georgia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Georgia"/>
              </a:rPr>
              <a:t>Игровая деятельность</a:t>
            </a:r>
            <a:r>
              <a:rPr b="1" lang="ru-RU" sz="1200" spc="-1" strike="noStrike">
                <a:solidFill>
                  <a:srgbClr val="ffc000"/>
                </a:solidFill>
                <a:latin typeface="Georg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*Обогащать содержание сюжетных игр детей на основе знакомства с явлениями социальной действительности и отношениями людей (школа, магазин, больница, парикмахерская, путешествия и др.), активизировать воображение на основе сюжетов сказок и мультипликационных филь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Georgia"/>
              </a:rPr>
              <a:t>Образовательная область «Социально-коммуникативное развит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* Развитие добрых чувств, эмоциональной отзывчивости, умения различать настроение и эмоциональное состояние окружающих людей и учитывать это в своем повед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* Способствовать развитию творческих способностей, позиции субъекта в продуктивных видах детского досуга на основе осознания ребенком собственных интересов, желаний и предпоч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Georgia"/>
              </a:rPr>
              <a:t>Образовательная  область «Познавательно развит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* Развивать умение отражать результаты познания в речи, рассуждать, пояснять, приводить примеры и анало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* Воспитывать эмоционально-ценностное отношение к окружающему миру (природе, людям, предметам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Georgia"/>
              </a:rPr>
              <a:t>Образовательная область «Речевое развит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* Обогащать словарь детей за счет расширения представлений о явлениях социальной жизни, взаимоотношениях и характерах лю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Georgia"/>
              </a:rPr>
              <a:t>Образовательная область «Художественно-эстетическое развит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* Активизировать проявление эстетического отношения к окружающему миру (природ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Развивать изобразительную деятельность детей: самостоятельное определение замысла будущей работы, стремление создать выразительный образ, умений самостоятельно отбирать впечатления, переживания для определения сюжета, выбирать соответствующие образу изобразительные техники и материалы, планировать деятельность и достигать результата, оценивать его, взаимодействовать с другими детьми в процессе коллективных творческих работ. </a:t>
            </a:r>
            <a:r>
              <a:rPr b="1" i="1" lang="ru-RU" sz="1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1" i="1" lang="ru-RU" sz="1200" spc="-1" strike="noStrike">
                <a:solidFill>
                  <a:srgbClr val="ffc000"/>
                </a:solidFill>
                <a:latin typeface="Georgia"/>
              </a:rPr>
              <a:t>Образовательная область «Физическое развит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* Формировать представления о здоровье, его ценности, полезных привычках, укрепляющих здоровье, о мерах профилактики и охраны здоров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Georgia"/>
              </a:rPr>
              <a:t>* Развивать самостоятельность детей в выполнении культурно-гигиенических навыков и жизненно важных привычек здорового образа жиз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IMG_1602.JPG"/>
          <p:cNvPicPr/>
          <p:nvPr/>
        </p:nvPicPr>
        <p:blipFill>
          <a:blip r:embed="rId1"/>
          <a:stretch/>
        </p:blipFill>
        <p:spPr>
          <a:xfrm>
            <a:off x="330120" y="304920"/>
            <a:ext cx="9328320" cy="624816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1981080" y="685800"/>
            <a:ext cx="742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Ребят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Сегодня мы с вами пойдем в гости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к красавице Осен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Georgia"/>
              </a:rPr>
              <a:t>Лес, точно терем распис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Georgia"/>
              </a:rPr>
              <a:t>Лиловый, золотой, багря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Georgia"/>
              </a:rPr>
              <a:t>Стоит над солнечной поля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Georgia"/>
              </a:rPr>
              <a:t>Завороженный тишин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http://lh5.googleusercontent.com/-9lZczytwSPk/TtuvEZt5RPI/AAAAAAAAvcY/nOaUD5k-grg/s1600/Brown+-+Beautiful+Color+%252813%2529.jpg"/>
          <p:cNvPicPr/>
          <p:nvPr/>
        </p:nvPicPr>
        <p:blipFill>
          <a:blip r:embed="rId1"/>
          <a:stretch/>
        </p:blipFill>
        <p:spPr>
          <a:xfrm>
            <a:off x="330120" y="304920"/>
            <a:ext cx="9286920" cy="62481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536400" y="3506760"/>
            <a:ext cx="908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Унылая пора! Очей очарованье!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Приятна мне твоя прощальная краса —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Люблю я пышное природы увяданье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В багрец и в золото одетые леса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В их сенях ветра шум и свежее дыханье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И мглой волнистою покрыты небеса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И редкий солнца луч, и первые морозы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И отдаленные седой зимы угр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IMG_1591.JPG"/>
          <p:cNvPicPr/>
          <p:nvPr/>
        </p:nvPicPr>
        <p:blipFill>
          <a:blip r:embed="rId1"/>
          <a:stretch/>
        </p:blipFill>
        <p:spPr>
          <a:xfrm>
            <a:off x="412920" y="380880"/>
            <a:ext cx="4209840" cy="43434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IMG_1592.JPG"/>
          <p:cNvPicPr/>
          <p:nvPr/>
        </p:nvPicPr>
        <p:blipFill>
          <a:blip r:embed="rId2"/>
          <a:stretch/>
        </p:blipFill>
        <p:spPr>
          <a:xfrm>
            <a:off x="5283360" y="2133720"/>
            <a:ext cx="4236840" cy="42926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788000" y="609480"/>
            <a:ext cx="4622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Коренастый, в шляпе 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иб растет в лесу сосно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Ой, схватили белки вм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Этот белый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12920" y="5029200"/>
            <a:ext cx="45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Стоял на крепкой нож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Теперь лежит в луко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IMG_1598.JPG"/>
          <p:cNvPicPr/>
          <p:nvPr/>
        </p:nvPicPr>
        <p:blipFill>
          <a:blip r:embed="rId1"/>
          <a:stretch/>
        </p:blipFill>
        <p:spPr>
          <a:xfrm>
            <a:off x="5365800" y="380880"/>
            <a:ext cx="41544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IMG_1593.JPG"/>
          <p:cNvPicPr/>
          <p:nvPr/>
        </p:nvPicPr>
        <p:blipFill>
          <a:blip r:embed="rId2"/>
          <a:stretch/>
        </p:blipFill>
        <p:spPr>
          <a:xfrm>
            <a:off x="412920" y="3124080"/>
            <a:ext cx="4402080" cy="3353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577800" y="914400"/>
            <a:ext cx="462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Georgia"/>
              </a:rPr>
              <a:t>Маленький, удалень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Georgia"/>
              </a:rPr>
              <a:t>Сквозь землю прош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Georgia"/>
              </a:rPr>
              <a:t>Красную шапочку наш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118120" y="4724280"/>
            <a:ext cx="437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Georgia"/>
              </a:rPr>
              <a:t>Кто стоит на крепкой нож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Georgia"/>
              </a:rPr>
              <a:t>В бурых листьях у дорож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IMG_1599.JPG"/>
          <p:cNvPicPr/>
          <p:nvPr/>
        </p:nvPicPr>
        <p:blipFill>
          <a:blip r:embed="rId1"/>
          <a:stretch/>
        </p:blipFill>
        <p:spPr>
          <a:xfrm>
            <a:off x="5118120" y="3505320"/>
            <a:ext cx="4402080" cy="2857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IMG_1600.JPG"/>
          <p:cNvPicPr/>
          <p:nvPr/>
        </p:nvPicPr>
        <p:blipFill>
          <a:blip r:embed="rId2"/>
          <a:stretch/>
        </p:blipFill>
        <p:spPr>
          <a:xfrm>
            <a:off x="412920" y="304920"/>
            <a:ext cx="4402080" cy="284472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5118120" y="533520"/>
            <a:ext cx="4292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Лисичка лисичке сказала в лесу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«Не даром лисичкой зовут и лису!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Лиса на лисичку похожа была бы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когда бы не зубы, ни шерсть и не лапы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577800" y="3505320"/>
            <a:ext cx="445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Когда увидите опят,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их собирайте всех подряд: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две сотни - там, три сотни - тут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Опята семьями растут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IMG_1605.JPG"/>
          <p:cNvPicPr/>
          <p:nvPr/>
        </p:nvPicPr>
        <p:blipFill>
          <a:blip r:embed="rId1"/>
          <a:stretch/>
        </p:blipFill>
        <p:spPr>
          <a:xfrm>
            <a:off x="330120" y="380880"/>
            <a:ext cx="3880080" cy="26863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IMG_1606.JPG"/>
          <p:cNvPicPr/>
          <p:nvPr/>
        </p:nvPicPr>
        <p:blipFill>
          <a:blip r:embed="rId2"/>
          <a:stretch/>
        </p:blipFill>
        <p:spPr>
          <a:xfrm>
            <a:off x="6026040" y="3276720"/>
            <a:ext cx="3440160" cy="3174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IMG_1607.JPG"/>
          <p:cNvPicPr/>
          <p:nvPr/>
        </p:nvPicPr>
        <p:blipFill>
          <a:blip r:embed="rId3"/>
          <a:stretch/>
        </p:blipFill>
        <p:spPr>
          <a:xfrm>
            <a:off x="3714840" y="1676520"/>
            <a:ext cx="3824280" cy="2286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325440" y="3865680"/>
            <a:ext cx="503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Стройную рябину вижу во дворе,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Изумруд на ветках утром на заре.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Много ягод красных,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Спелых и прекрас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Гроздьями висят,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Их красив наряд.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Собери на нитку ягод- для души,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Из рябины бусы очень хорош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457880" y="380880"/>
            <a:ext cx="487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У забора облепиха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Выросла по случаю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Соберешь немало лиха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С ягодой колюче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3"/>
          <p:cNvSpPr/>
          <p:nvPr/>
        </p:nvSpPr>
        <p:spPr>
          <a:xfrm>
            <a:off x="412920" y="457200"/>
            <a:ext cx="91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Работы детей и родителей «Осенние фантаз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www.orangestone.com.ua/wp-content/gallery/pejzazhi/112.jpg"/>
          <p:cNvPicPr/>
          <p:nvPr/>
        </p:nvPicPr>
        <p:blipFill>
          <a:blip r:embed="rId1"/>
          <a:stretch/>
        </p:blipFill>
        <p:spPr>
          <a:xfrm>
            <a:off x="304920" y="320760"/>
            <a:ext cx="9270720" cy="6232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609480" y="2494800"/>
            <a:ext cx="861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Ос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Осень на опушке краски разводи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По листве тихонько кистью провод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Пожелтел орешник и зарделись кле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В пурпуре осеннем только дуб зеле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Утешает осен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- Не жалейте л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Посмотрите - роща золотом оде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                            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3. Федоров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езрукавая</dc:creator>
  <dc:description/>
  <dc:language>en-US</dc:language>
  <cp:lastModifiedBy>Елена</cp:lastModifiedBy>
  <cp:lastPrinted>2015-10-18T16:46:06Z</cp:lastPrinted>
  <dcterms:modified xsi:type="dcterms:W3CDTF">2020-11-05T07:20:30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