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49CB-6E3B-4544-B93F-3481A367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DA02-412C-4C7A-96FA-BB61364F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73B1-0AF7-4B6D-8A8A-06E75F43E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EA41-04FF-409C-BDA8-A3B5D03F7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21B6-570B-40EC-AFB4-57DF59DF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7B1A-77AE-4BCD-AD3B-56E36A33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BEBC-3996-4887-97FE-B1478305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45C3-1AD2-4D53-B350-611ED5DE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D032-EDEE-429D-A982-44526717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5FED-9667-40EA-BE86-DFD8F555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8281-F13D-47D0-B4AA-9FF2D873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2A9C-1778-4B0C-9547-3206D26C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ябрь 2007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мбовцева А.А. Колиниченко Т.В. Лысенко Л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8CE2-00E9-44D3-BB80-26955E6F591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ТЕМА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640" y="1844640"/>
            <a:ext cx="71294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Calibri"/>
              </a:rPr>
              <a:t>Показательная функция, ее свойства и график.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Нижний колонтитул 4"/>
          <p:cNvSpPr/>
          <p:nvPr/>
        </p:nvSpPr>
        <p:spPr>
          <a:xfrm>
            <a:off x="4500720" y="4797360"/>
            <a:ext cx="439884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аботчик: Клейменова Т.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математик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БОУ Ясенковская СОШ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войства показательной функци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у=а</a:t>
            </a:r>
            <a:r>
              <a:rPr b="0" i="1" lang="en-US" sz="2800" spc="-1" strike="noStrike" baseline="30000">
                <a:solidFill>
                  <a:srgbClr val="0000ff"/>
                </a:solidFill>
                <a:latin typeface="Calibri"/>
              </a:rPr>
              <a:t>x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и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0</a:t>
            </a:r>
            <a:r>
              <a:rPr b="0" i="1" lang="en-US" sz="2800" spc="-1" strike="noStrike">
                <a:solidFill>
                  <a:srgbClr val="0000ff"/>
                </a:solidFill>
                <a:latin typeface="Calibri"/>
              </a:rPr>
              <a:t>&lt;a&lt;1</a:t>
            </a:r>
            <a:r>
              <a:rPr b="0" i="1" lang="ru-RU" sz="16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343400" y="2819160"/>
            <a:ext cx="41911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ри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=0 значение функции равно 1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ЭКСПОН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Group 4"/>
          <p:cNvGrpSpPr/>
          <p:nvPr/>
        </p:nvGrpSpPr>
        <p:grpSpPr>
          <a:xfrm>
            <a:off x="0" y="1828800"/>
            <a:ext cx="4266720" cy="4419360"/>
            <a:chOff x="0" y="1828800"/>
            <a:chExt cx="4266720" cy="4419360"/>
          </a:xfrm>
        </p:grpSpPr>
        <p:pic>
          <p:nvPicPr>
            <p:cNvPr id="144" name="Object 5" descr=""/>
            <p:cNvPicPr/>
            <p:nvPr/>
          </p:nvPicPr>
          <p:blipFill>
            <a:blip r:embed="rId1"/>
            <a:stretch/>
          </p:blipFill>
          <p:spPr>
            <a:xfrm>
              <a:off x="0" y="1828800"/>
              <a:ext cx="426672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6"/>
            <p:cNvSpPr/>
            <p:nvPr/>
          </p:nvSpPr>
          <p:spPr>
            <a:xfrm>
              <a:off x="2649600" y="2179440"/>
              <a:ext cx="1324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</a:rPr>
                <a:t>у=а</a:t>
              </a:r>
              <a:r>
                <a:rPr b="1" i="1" lang="en-US" sz="2400" spc="-1" strike="noStrike" baseline="30000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0&lt;a&lt;1</a:t>
              </a: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AutoShape 8"/>
          <p:cNvSpPr/>
          <p:nvPr/>
        </p:nvSpPr>
        <p:spPr>
          <a:xfrm>
            <a:off x="4267080" y="2362320"/>
            <a:ext cx="4343400" cy="2133360"/>
          </a:xfrm>
          <a:custGeom>
            <a:avLst/>
            <a:gdLst>
              <a:gd name="textAreaLeft" fmla="*/ 297360 w 4343400"/>
              <a:gd name="textAreaRight" fmla="*/ 4046040 w 4343400"/>
              <a:gd name="textAreaTop" fmla="*/ 297360 h 2133360"/>
              <a:gd name="textAreaBottom" fmla="*/ 1836000 h 2133360"/>
            </a:gdLst>
            <a:ahLst/>
            <a:rect l="textAreaLeft" t="textAreaTop" r="textAreaRight" b="textAreaBottom"/>
            <a:pathLst>
              <a:path w="43973" h="21600">
                <a:moveTo>
                  <a:pt x="4259" y="0"/>
                </a:moveTo>
                <a:arcTo wR="4259" hR="4259" stAng="0" swAng="5400000"/>
                <a:lnTo>
                  <a:pt x="0" y="17341"/>
                </a:lnTo>
                <a:arcTo wR="4259" hR="4259" stAng="16200000" swAng="5400000"/>
                <a:lnTo>
                  <a:pt x="39714" y="21600"/>
                </a:lnTo>
                <a:arcTo wR="4259" hR="4259" stAng="10800000" swAng="5400000"/>
                <a:lnTo>
                  <a:pt x="43973" y="4259"/>
                </a:lnTo>
                <a:arcTo wR="4259" hR="4259" stAng="5400000" swAng="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9"/>
          <p:cNvSpPr/>
          <p:nvPr/>
        </p:nvSpPr>
        <p:spPr>
          <a:xfrm>
            <a:off x="2057400" y="4572000"/>
            <a:ext cx="76320" cy="763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11"/>
          <p:cNvSpPr/>
          <p:nvPr/>
        </p:nvSpPr>
        <p:spPr>
          <a:xfrm>
            <a:off x="0" y="5229360"/>
            <a:ext cx="4282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4286160" y="5229360"/>
            <a:ext cx="29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75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75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23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9" dur="1" fill="hold">
                                    <p:stCondLst>
                                      <p:cond evt="end">
                                        <p:tn val="246"/>
                                      </p:cond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Определени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3520" y="691920"/>
            <a:ext cx="815328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Функция, заданная формулой </a:t>
            </a:r>
            <a:r>
              <a:rPr b="0" i="1" lang="ru-RU" sz="3200" spc="-1" strike="noStrike">
                <a:solidFill>
                  <a:srgbClr val="0000ff"/>
                </a:solidFill>
                <a:latin typeface="Calibri"/>
              </a:rPr>
              <a:t>у=а</a:t>
            </a:r>
            <a:r>
              <a:rPr b="0" i="1" lang="en-US" sz="3200" spc="-1" strike="noStrike" baseline="30000">
                <a:solidFill>
                  <a:srgbClr val="0000ff"/>
                </a:solidFill>
                <a:latin typeface="Calibri"/>
              </a:rPr>
              <a:t>x</a:t>
            </a:r>
            <a:r>
              <a:rPr b="0" i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где 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&gt;0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, a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)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, называется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</a:rPr>
              <a:t>показательной функцией с основанием</a:t>
            </a:r>
            <a:r>
              <a:rPr b="0" i="1" lang="ru-RU" sz="3200" spc="-1" strike="noStrike" u="sng">
                <a:solidFill>
                  <a:srgbClr val="0000ff"/>
                </a:solidFill>
                <a:uFillTx/>
                <a:latin typeface="Calibri"/>
              </a:rPr>
              <a:t> 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Нижний колонтитул 4"/>
          <p:cNvSpPr/>
          <p:nvPr/>
        </p:nvSpPr>
        <p:spPr>
          <a:xfrm>
            <a:off x="971640" y="5732640"/>
            <a:ext cx="7716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Arial"/>
              </a:rPr>
              <a:t>ГРАФИК - ЭКСПОНЕНТ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762120" y="2819520"/>
            <a:ext cx="3278160" cy="2877840"/>
            <a:chOff x="762120" y="2819520"/>
            <a:chExt cx="3278160" cy="2877840"/>
          </a:xfrm>
        </p:grpSpPr>
        <p:pic>
          <p:nvPicPr>
            <p:cNvPr id="50" name="Object 6" descr=""/>
            <p:cNvPicPr/>
            <p:nvPr/>
          </p:nvPicPr>
          <p:blipFill>
            <a:blip r:embed="rId1"/>
            <a:stretch/>
          </p:blipFill>
          <p:spPr>
            <a:xfrm>
              <a:off x="762120" y="2819520"/>
              <a:ext cx="3278160" cy="28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7"/>
            <p:cNvSpPr/>
            <p:nvPr/>
          </p:nvSpPr>
          <p:spPr>
            <a:xfrm>
              <a:off x="838080" y="3124080"/>
              <a:ext cx="9144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</a:rPr>
                <a:t>у=а</a:t>
              </a:r>
              <a:r>
                <a:rPr b="1" i="1" lang="en-US" sz="2400" spc="-1" strike="noStrike" baseline="30000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a&gt;1</a:t>
              </a: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" name="Group 8"/>
          <p:cNvGrpSpPr/>
          <p:nvPr/>
        </p:nvGrpSpPr>
        <p:grpSpPr>
          <a:xfrm>
            <a:off x="4500720" y="2852640"/>
            <a:ext cx="3681360" cy="2881080"/>
            <a:chOff x="4500720" y="2852640"/>
            <a:chExt cx="3681360" cy="2881080"/>
          </a:xfrm>
        </p:grpSpPr>
        <p:pic>
          <p:nvPicPr>
            <p:cNvPr id="53" name="Object 9" descr=""/>
            <p:cNvPicPr/>
            <p:nvPr/>
          </p:nvPicPr>
          <p:blipFill>
            <a:blip r:embed="rId2"/>
            <a:stretch/>
          </p:blipFill>
          <p:spPr>
            <a:xfrm>
              <a:off x="4500720" y="2852640"/>
              <a:ext cx="3681360" cy="28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0"/>
            <p:cNvSpPr/>
            <p:nvPr/>
          </p:nvSpPr>
          <p:spPr>
            <a:xfrm>
              <a:off x="6786720" y="3081240"/>
              <a:ext cx="1143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</a:rPr>
                <a:t>у=а</a:t>
              </a:r>
              <a:r>
                <a:rPr b="1" i="1" lang="en-US" sz="2400" spc="-1" strike="noStrike" baseline="30000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0&lt;a&lt;1</a:t>
              </a: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Line 12"/>
          <p:cNvSpPr/>
          <p:nvPr/>
        </p:nvSpPr>
        <p:spPr>
          <a:xfrm>
            <a:off x="684360" y="5013360"/>
            <a:ext cx="3382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3"/>
          <p:cNvSpPr/>
          <p:nvPr/>
        </p:nvSpPr>
        <p:spPr>
          <a:xfrm>
            <a:off x="4500720" y="5084640"/>
            <a:ext cx="374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3709800" y="5013360"/>
            <a:ext cx="3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8102160" y="5084640"/>
            <a:ext cx="3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75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825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75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7125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7625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войства показательной функци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у=а</a:t>
            </a:r>
            <a:r>
              <a:rPr b="0" i="1" lang="en-US" sz="2800" spc="-1" strike="noStrike" baseline="30000">
                <a:solidFill>
                  <a:srgbClr val="0000ff"/>
                </a:solidFill>
                <a:latin typeface="Calibri"/>
              </a:rPr>
              <a:t>x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и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а</a:t>
            </a:r>
            <a:r>
              <a:rPr b="0" i="1" lang="en-US" sz="2800" spc="-1" strike="noStrike">
                <a:solidFill>
                  <a:srgbClr val="0000ff"/>
                </a:solidFill>
                <a:latin typeface="Calibri"/>
              </a:rPr>
              <a:t>&gt;1</a:t>
            </a:r>
            <a:r>
              <a:rPr b="0" i="1" lang="ru-RU" sz="16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3280" y="2209680"/>
            <a:ext cx="4236840" cy="35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бласть определения – множество всех действительных чисел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D(y) = R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Ни чётная, ни нечётная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Нет ни наибольшего, ни наименьшего значени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Нижний колонтитул 4"/>
          <p:cNvSpPr/>
          <p:nvPr/>
        </p:nvSpPr>
        <p:spPr>
          <a:xfrm>
            <a:off x="3132000" y="6308640"/>
            <a:ext cx="5556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ЭКСПОНЕН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Group 4"/>
          <p:cNvGrpSpPr/>
          <p:nvPr/>
        </p:nvGrpSpPr>
        <p:grpSpPr>
          <a:xfrm>
            <a:off x="-6480" y="1989000"/>
            <a:ext cx="4190760" cy="4190760"/>
            <a:chOff x="-6480" y="1989000"/>
            <a:chExt cx="4190760" cy="4190760"/>
          </a:xfrm>
        </p:grpSpPr>
        <p:pic>
          <p:nvPicPr>
            <p:cNvPr id="64" name="Object 5" descr=""/>
            <p:cNvPicPr/>
            <p:nvPr/>
          </p:nvPicPr>
          <p:blipFill>
            <a:blip r:embed="rId1"/>
            <a:stretch/>
          </p:blipFill>
          <p:spPr>
            <a:xfrm>
              <a:off x="-6480" y="1989000"/>
              <a:ext cx="4190760" cy="41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6"/>
            <p:cNvSpPr/>
            <p:nvPr/>
          </p:nvSpPr>
          <p:spPr>
            <a:xfrm>
              <a:off x="90360" y="2432520"/>
              <a:ext cx="11689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</a:rPr>
                <a:t>у=а</a:t>
              </a:r>
              <a:r>
                <a:rPr b="1" i="1" lang="en-US" sz="2400" spc="-1" strike="noStrike" baseline="30000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a&gt;1</a:t>
              </a: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AutoShape 8"/>
          <p:cNvSpPr/>
          <p:nvPr/>
        </p:nvSpPr>
        <p:spPr>
          <a:xfrm>
            <a:off x="4267080" y="2362320"/>
            <a:ext cx="4343400" cy="2133360"/>
          </a:xfrm>
          <a:custGeom>
            <a:avLst/>
            <a:gdLst>
              <a:gd name="textAreaLeft" fmla="*/ 297360 w 4343400"/>
              <a:gd name="textAreaRight" fmla="*/ 4046040 w 4343400"/>
              <a:gd name="textAreaTop" fmla="*/ 297360 h 2133360"/>
              <a:gd name="textAreaBottom" fmla="*/ 1836000 h 2133360"/>
            </a:gdLst>
            <a:ahLst/>
            <a:rect l="textAreaLeft" t="textAreaTop" r="textAreaRight" b="textAreaBottom"/>
            <a:pathLst>
              <a:path w="43973" h="21600">
                <a:moveTo>
                  <a:pt x="4259" y="0"/>
                </a:moveTo>
                <a:arcTo wR="4259" hR="4259" stAng="0" swAng="5400000"/>
                <a:lnTo>
                  <a:pt x="0" y="17341"/>
                </a:lnTo>
                <a:arcTo wR="4259" hR="4259" stAng="16200000" swAng="5400000"/>
                <a:lnTo>
                  <a:pt x="39714" y="21600"/>
                </a:lnTo>
                <a:arcTo wR="4259" hR="4259" stAng="10800000" swAng="5400000"/>
                <a:lnTo>
                  <a:pt x="43973" y="4259"/>
                </a:lnTo>
                <a:arcTo wR="4259" hR="4259" stAng="5400000" swAng="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>
            <a:off x="0" y="5105520"/>
            <a:ext cx="4191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0" y="5084640"/>
            <a:ext cx="4282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13"/>
          <p:cNvSpPr/>
          <p:nvPr/>
        </p:nvSpPr>
        <p:spPr>
          <a:xfrm>
            <a:off x="4213080" y="5013360"/>
            <a:ext cx="3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7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7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7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7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925"/>
                            </p:stCondLst>
                            <p:childTnLst>
                              <p:par>
                                <p:cTn id="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425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75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75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7775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75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75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9275"/>
                            </p:stCondLst>
                            <p:childTnLst>
                              <p:par>
                                <p:cTn id="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75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75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5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27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войства показательной функци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у=а</a:t>
            </a:r>
            <a:r>
              <a:rPr b="0" i="1" lang="en-US" sz="2800" spc="-1" strike="noStrike" baseline="30000">
                <a:solidFill>
                  <a:srgbClr val="0000ff"/>
                </a:solidFill>
                <a:latin typeface="Calibri"/>
              </a:rPr>
              <a:t>x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и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а</a:t>
            </a:r>
            <a:r>
              <a:rPr b="0" i="1" lang="en-US" sz="2800" spc="-1" strike="noStrike">
                <a:solidFill>
                  <a:srgbClr val="0000ff"/>
                </a:solidFill>
                <a:latin typeface="Calibri"/>
              </a:rPr>
              <a:t>&gt;1</a:t>
            </a:r>
            <a:r>
              <a:rPr b="0" i="1" lang="ru-RU" sz="16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ЭКСПОН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" name="Group 3"/>
          <p:cNvGrpSpPr/>
          <p:nvPr/>
        </p:nvGrpSpPr>
        <p:grpSpPr>
          <a:xfrm>
            <a:off x="73080" y="1925640"/>
            <a:ext cx="4190760" cy="4190760"/>
            <a:chOff x="73080" y="1925640"/>
            <a:chExt cx="4190760" cy="4190760"/>
          </a:xfrm>
        </p:grpSpPr>
        <p:pic>
          <p:nvPicPr>
            <p:cNvPr id="74" name="Object 4" descr=""/>
            <p:cNvPicPr/>
            <p:nvPr/>
          </p:nvPicPr>
          <p:blipFill>
            <a:blip r:embed="rId1"/>
            <a:stretch/>
          </p:blipFill>
          <p:spPr>
            <a:xfrm>
              <a:off x="73080" y="1925640"/>
              <a:ext cx="4190760" cy="41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5"/>
            <p:cNvSpPr/>
            <p:nvPr/>
          </p:nvSpPr>
          <p:spPr>
            <a:xfrm>
              <a:off x="97200" y="2348640"/>
              <a:ext cx="11689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</a:rPr>
                <a:t>у=а</a:t>
              </a:r>
              <a:r>
                <a:rPr b="1" i="1" lang="en-US" sz="2400" spc="-1" strike="noStrike" baseline="30000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a&gt;1</a:t>
              </a: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Rectangle 6"/>
          <p:cNvSpPr/>
          <p:nvPr/>
        </p:nvSpPr>
        <p:spPr>
          <a:xfrm>
            <a:off x="4140360" y="2168640"/>
            <a:ext cx="4470120" cy="39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ласть значений –  множество всех положительных чисел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= R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+</a:t>
            </a:r>
            <a:r>
              <a:rPr b="1" lang="ru-RU" sz="1800" spc="-1" strike="noStrike" baseline="-25000">
                <a:solidFill>
                  <a:srgbClr val="0000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-25000">
                <a:solidFill>
                  <a:srgbClr val="0000ff"/>
                </a:solidFill>
                <a:latin typeface="Arial"/>
              </a:rPr>
              <a:t>Ограничен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низ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рерывн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7"/>
          <p:cNvSpPr/>
          <p:nvPr/>
        </p:nvSpPr>
        <p:spPr>
          <a:xfrm>
            <a:off x="4267080" y="2362320"/>
            <a:ext cx="4343400" cy="2133360"/>
          </a:xfrm>
          <a:custGeom>
            <a:avLst/>
            <a:gdLst>
              <a:gd name="textAreaLeft" fmla="*/ 297360 w 4343400"/>
              <a:gd name="textAreaRight" fmla="*/ 4046040 w 4343400"/>
              <a:gd name="textAreaTop" fmla="*/ 297360 h 2133360"/>
              <a:gd name="textAreaBottom" fmla="*/ 1836000 h 2133360"/>
            </a:gdLst>
            <a:ahLst/>
            <a:rect l="textAreaLeft" t="textAreaTop" r="textAreaRight" b="textAreaBottom"/>
            <a:pathLst>
              <a:path w="43973" h="21600">
                <a:moveTo>
                  <a:pt x="4259" y="0"/>
                </a:moveTo>
                <a:arcTo wR="4259" hR="4259" stAng="0" swAng="5400000"/>
                <a:lnTo>
                  <a:pt x="0" y="17341"/>
                </a:lnTo>
                <a:arcTo wR="4259" hR="4259" stAng="16200000" swAng="5400000"/>
                <a:lnTo>
                  <a:pt x="39714" y="21600"/>
                </a:lnTo>
                <a:arcTo wR="4259" hR="4259" stAng="10800000" swAng="5400000"/>
                <a:lnTo>
                  <a:pt x="43973" y="4259"/>
                </a:lnTo>
                <a:arcTo wR="4259" hR="4259" stAng="5400000" swAng="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4067280" y="5157720"/>
            <a:ext cx="36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9"/>
          <p:cNvSpPr/>
          <p:nvPr/>
        </p:nvSpPr>
        <p:spPr>
          <a:xfrm flipV="1">
            <a:off x="1955880" y="2107800"/>
            <a:ext cx="0" cy="297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10"/>
          <p:cNvSpPr/>
          <p:nvPr/>
        </p:nvSpPr>
        <p:spPr>
          <a:xfrm>
            <a:off x="0" y="5084640"/>
            <a:ext cx="4282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4068360" y="5084640"/>
            <a:ext cx="3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75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75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125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75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75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325"/>
                            </p:stCondLst>
                            <p:childTnLst>
                              <p:par>
                                <p:cTn id="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75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75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6150"/>
                            </p:stCondLst>
                            <p:childTnLst>
                              <p:par>
                                <p:cTn id="8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6650"/>
                            </p:stCondLst>
                            <p:childTnLst>
                              <p:par>
                                <p:cTn id="91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3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695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войства показательной функци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у=а</a:t>
            </a:r>
            <a:r>
              <a:rPr b="0" i="1" lang="en-US" sz="2800" spc="-1" strike="noStrike" baseline="30000">
                <a:solidFill>
                  <a:srgbClr val="0000ff"/>
                </a:solidFill>
                <a:latin typeface="Calibri"/>
              </a:rPr>
              <a:t>x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и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а</a:t>
            </a:r>
            <a:r>
              <a:rPr b="0" i="1" lang="en-US" sz="2800" spc="-1" strike="noStrike">
                <a:solidFill>
                  <a:srgbClr val="0000ff"/>
                </a:solidFill>
                <a:latin typeface="Calibri"/>
              </a:rPr>
              <a:t>&gt;1</a:t>
            </a:r>
            <a:r>
              <a:rPr b="0" i="1" lang="ru-RU" sz="16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343040" y="274284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ункция возрастает на всей области определения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ыпукла вниз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ЭКСПОН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0" y="1905120"/>
            <a:ext cx="4190760" cy="4190400"/>
            <a:chOff x="0" y="1905120"/>
            <a:chExt cx="4190760" cy="4190400"/>
          </a:xfrm>
        </p:grpSpPr>
        <p:pic>
          <p:nvPicPr>
            <p:cNvPr id="87" name="Object 5" descr=""/>
            <p:cNvPicPr/>
            <p:nvPr/>
          </p:nvPicPr>
          <p:blipFill>
            <a:blip r:embed="rId1"/>
            <a:stretch/>
          </p:blipFill>
          <p:spPr>
            <a:xfrm>
              <a:off x="0" y="1905120"/>
              <a:ext cx="4190760" cy="41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6"/>
            <p:cNvSpPr/>
            <p:nvPr/>
          </p:nvSpPr>
          <p:spPr>
            <a:xfrm>
              <a:off x="96840" y="2348280"/>
              <a:ext cx="11689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</a:rPr>
                <a:t>у=а</a:t>
              </a:r>
              <a:r>
                <a:rPr b="1" i="1" lang="en-US" sz="2400" spc="-1" strike="noStrike" baseline="30000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a&gt;1</a:t>
              </a: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" name="AutoShape 7"/>
          <p:cNvSpPr/>
          <p:nvPr/>
        </p:nvSpPr>
        <p:spPr>
          <a:xfrm>
            <a:off x="4267080" y="2362320"/>
            <a:ext cx="4343400" cy="2133360"/>
          </a:xfrm>
          <a:custGeom>
            <a:avLst/>
            <a:gdLst>
              <a:gd name="textAreaLeft" fmla="*/ 297360 w 4343400"/>
              <a:gd name="textAreaRight" fmla="*/ 4046040 w 4343400"/>
              <a:gd name="textAreaTop" fmla="*/ 297360 h 2133360"/>
              <a:gd name="textAreaBottom" fmla="*/ 1836000 h 2133360"/>
            </a:gdLst>
            <a:ahLst/>
            <a:rect l="textAreaLeft" t="textAreaTop" r="textAreaRight" b="textAreaBottom"/>
            <a:pathLst>
              <a:path w="43973" h="21600">
                <a:moveTo>
                  <a:pt x="4259" y="0"/>
                </a:moveTo>
                <a:arcTo wR="4259" hR="4259" stAng="0" swAng="5400000"/>
                <a:lnTo>
                  <a:pt x="0" y="17341"/>
                </a:lnTo>
                <a:arcTo wR="4259" hR="4259" stAng="16200000" swAng="5400000"/>
                <a:lnTo>
                  <a:pt x="39714" y="21600"/>
                </a:lnTo>
                <a:arcTo wR="4259" hR="4259" stAng="10800000" swAng="5400000"/>
                <a:lnTo>
                  <a:pt x="43973" y="4259"/>
                </a:lnTo>
                <a:arcTo wR="4259" hR="4259" stAng="5400000" swAng="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rc 8"/>
          <p:cNvSpPr/>
          <p:nvPr/>
        </p:nvSpPr>
        <p:spPr>
          <a:xfrm flipV="1">
            <a:off x="0" y="1065600"/>
            <a:ext cx="3952800" cy="3886200"/>
          </a:xfrm>
          <a:custGeom>
            <a:avLst/>
            <a:gdLst/>
            <a:ahLst/>
            <a:rect l="l" t="t" r="r" b="b"/>
            <a:pathLst>
              <a:path fill="none" w="20746" h="21600">
                <a:moveTo>
                  <a:pt x="-1" y="0"/>
                </a:moveTo>
                <a:cubicBezTo>
                  <a:pt x="9613" y="0"/>
                  <a:pt x="18069" y="6353"/>
                  <a:pt x="20745" y="15586"/>
                </a:cubicBezTo>
              </a:path>
              <a:path stroke="0" w="20746" h="21600">
                <a:moveTo>
                  <a:pt x="-1" y="0"/>
                </a:moveTo>
                <a:cubicBezTo>
                  <a:pt x="9613" y="0"/>
                  <a:pt x="18069" y="6353"/>
                  <a:pt x="20745" y="1558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15"/>
          <p:cNvSpPr/>
          <p:nvPr/>
        </p:nvSpPr>
        <p:spPr>
          <a:xfrm>
            <a:off x="0" y="5084640"/>
            <a:ext cx="421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24"/>
          <p:cNvSpPr/>
          <p:nvPr/>
        </p:nvSpPr>
        <p:spPr>
          <a:xfrm>
            <a:off x="4141800" y="5025960"/>
            <a:ext cx="29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4" dur="75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10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8" dur="75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405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455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войства показательной функци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у=а</a:t>
            </a:r>
            <a:r>
              <a:rPr b="0" i="1" lang="en-US" sz="2800" spc="-1" strike="noStrike" baseline="30000">
                <a:solidFill>
                  <a:srgbClr val="0000ff"/>
                </a:solidFill>
                <a:latin typeface="Calibri"/>
              </a:rPr>
              <a:t>x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и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а</a:t>
            </a:r>
            <a:r>
              <a:rPr b="0" i="1" lang="en-US" sz="2800" spc="-1" strike="noStrike">
                <a:solidFill>
                  <a:srgbClr val="0000ff"/>
                </a:solidFill>
                <a:latin typeface="Calibri"/>
              </a:rPr>
              <a:t>&gt;1</a:t>
            </a:r>
            <a:r>
              <a:rPr b="0" i="1" lang="ru-RU" sz="16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343400" y="2819160"/>
            <a:ext cx="41911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и </a:t>
            </a: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=0 значение функции равно 1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ЭКСПОН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Group 4"/>
          <p:cNvGrpSpPr/>
          <p:nvPr/>
        </p:nvGrpSpPr>
        <p:grpSpPr>
          <a:xfrm>
            <a:off x="0" y="1905120"/>
            <a:ext cx="4190760" cy="4190400"/>
            <a:chOff x="0" y="1905120"/>
            <a:chExt cx="4190760" cy="4190400"/>
          </a:xfrm>
        </p:grpSpPr>
        <p:pic>
          <p:nvPicPr>
            <p:cNvPr id="98" name="Object 5" descr=""/>
            <p:cNvPicPr/>
            <p:nvPr/>
          </p:nvPicPr>
          <p:blipFill>
            <a:blip r:embed="rId1"/>
            <a:stretch/>
          </p:blipFill>
          <p:spPr>
            <a:xfrm>
              <a:off x="0" y="1905120"/>
              <a:ext cx="4190760" cy="41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6"/>
            <p:cNvSpPr/>
            <p:nvPr/>
          </p:nvSpPr>
          <p:spPr>
            <a:xfrm>
              <a:off x="96840" y="2348280"/>
              <a:ext cx="11689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</a:rPr>
                <a:t>у=а</a:t>
              </a:r>
              <a:r>
                <a:rPr b="1" i="1" lang="en-US" sz="2400" spc="-1" strike="noStrike" baseline="30000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a&gt;1</a:t>
              </a: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AutoShape 7"/>
          <p:cNvSpPr/>
          <p:nvPr/>
        </p:nvSpPr>
        <p:spPr>
          <a:xfrm>
            <a:off x="4267080" y="2362320"/>
            <a:ext cx="4343400" cy="2133360"/>
          </a:xfrm>
          <a:custGeom>
            <a:avLst/>
            <a:gdLst>
              <a:gd name="textAreaLeft" fmla="*/ 297360 w 4343400"/>
              <a:gd name="textAreaRight" fmla="*/ 4046040 w 4343400"/>
              <a:gd name="textAreaTop" fmla="*/ 297360 h 2133360"/>
              <a:gd name="textAreaBottom" fmla="*/ 1836000 h 2133360"/>
            </a:gdLst>
            <a:ahLst/>
            <a:rect l="textAreaLeft" t="textAreaTop" r="textAreaRight" b="textAreaBottom"/>
            <a:pathLst>
              <a:path w="43973" h="21600">
                <a:moveTo>
                  <a:pt x="4259" y="0"/>
                </a:moveTo>
                <a:arcTo wR="4259" hR="4259" stAng="0" swAng="5400000"/>
                <a:lnTo>
                  <a:pt x="0" y="17341"/>
                </a:lnTo>
                <a:arcTo wR="4259" hR="4259" stAng="16200000" swAng="5400000"/>
                <a:lnTo>
                  <a:pt x="39714" y="21600"/>
                </a:lnTo>
                <a:arcTo wR="4259" hR="4259" stAng="10800000" swAng="5400000"/>
                <a:lnTo>
                  <a:pt x="43973" y="4259"/>
                </a:lnTo>
                <a:arcTo wR="4259" hR="4259" stAng="5400000" swAng="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8"/>
          <p:cNvSpPr/>
          <p:nvPr/>
        </p:nvSpPr>
        <p:spPr>
          <a:xfrm>
            <a:off x="1917720" y="4457880"/>
            <a:ext cx="7632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0" y="5084640"/>
            <a:ext cx="4282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4213080" y="5013360"/>
            <a:ext cx="3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75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75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25"/>
                            </p:stCondLst>
                            <p:childTnLst>
                              <p:par>
                                <p:cTn id="12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525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войства показательной функци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у=а</a:t>
            </a:r>
            <a:r>
              <a:rPr b="0" i="1" lang="en-US" sz="2800" spc="-1" strike="noStrike" baseline="30000">
                <a:solidFill>
                  <a:srgbClr val="0000ff"/>
                </a:solidFill>
                <a:latin typeface="Calibri"/>
              </a:rPr>
              <a:t>x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и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0</a:t>
            </a:r>
            <a:r>
              <a:rPr b="0" i="1" lang="en-US" sz="2800" spc="-1" strike="noStrike">
                <a:solidFill>
                  <a:srgbClr val="0000ff"/>
                </a:solidFill>
                <a:latin typeface="Calibri"/>
              </a:rPr>
              <a:t>&lt;a&lt;1</a:t>
            </a:r>
            <a:r>
              <a:rPr b="0" i="1" lang="ru-RU" sz="16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266720" y="2209320"/>
            <a:ext cx="4343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бласть определения – множество всех действительных чисел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D(</a:t>
            </a:r>
            <a:r>
              <a:rPr b="1" i="1" lang="en-US" sz="1800" spc="-1" strike="noStrike">
                <a:solidFill>
                  <a:srgbClr val="0000ff"/>
                </a:solidFill>
                <a:latin typeface="Calibri"/>
              </a:rPr>
              <a:t>y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) = R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Ни чётная, ни нечётная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Нет ни наибольшего, ни наименьшего значени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ЭКСПОН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0" y="1844640"/>
            <a:ext cx="4266720" cy="4419360"/>
            <a:chOff x="0" y="1844640"/>
            <a:chExt cx="4266720" cy="4419360"/>
          </a:xfrm>
        </p:grpSpPr>
        <p:pic>
          <p:nvPicPr>
            <p:cNvPr id="109" name="Object 5" descr=""/>
            <p:cNvPicPr/>
            <p:nvPr/>
          </p:nvPicPr>
          <p:blipFill>
            <a:blip r:embed="rId1"/>
            <a:stretch/>
          </p:blipFill>
          <p:spPr>
            <a:xfrm>
              <a:off x="0" y="1844640"/>
              <a:ext cx="426672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6"/>
            <p:cNvSpPr/>
            <p:nvPr/>
          </p:nvSpPr>
          <p:spPr>
            <a:xfrm>
              <a:off x="2636640" y="2195280"/>
              <a:ext cx="1324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</a:rPr>
                <a:t>у=а</a:t>
              </a:r>
              <a:r>
                <a:rPr b="1" i="1" lang="en-US" sz="2400" spc="-1" strike="noStrike" baseline="30000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0&lt;a&lt;1</a:t>
              </a: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AutoShape 8"/>
          <p:cNvSpPr/>
          <p:nvPr/>
        </p:nvSpPr>
        <p:spPr>
          <a:xfrm>
            <a:off x="4267080" y="2362320"/>
            <a:ext cx="4343400" cy="2133360"/>
          </a:xfrm>
          <a:custGeom>
            <a:avLst/>
            <a:gdLst>
              <a:gd name="textAreaLeft" fmla="*/ 297360 w 4343400"/>
              <a:gd name="textAreaRight" fmla="*/ 4046040 w 4343400"/>
              <a:gd name="textAreaTop" fmla="*/ 297360 h 2133360"/>
              <a:gd name="textAreaBottom" fmla="*/ 1836000 h 2133360"/>
            </a:gdLst>
            <a:ahLst/>
            <a:rect l="textAreaLeft" t="textAreaTop" r="textAreaRight" b="textAreaBottom"/>
            <a:pathLst>
              <a:path w="43973" h="21600">
                <a:moveTo>
                  <a:pt x="4259" y="0"/>
                </a:moveTo>
                <a:arcTo wR="4259" hR="4259" stAng="0" swAng="5400000"/>
                <a:lnTo>
                  <a:pt x="0" y="17341"/>
                </a:lnTo>
                <a:arcTo wR="4259" hR="4259" stAng="16200000" swAng="5400000"/>
                <a:lnTo>
                  <a:pt x="39714" y="21600"/>
                </a:lnTo>
                <a:arcTo wR="4259" hR="4259" stAng="10800000" swAng="5400000"/>
                <a:lnTo>
                  <a:pt x="43973" y="4259"/>
                </a:lnTo>
                <a:arcTo wR="4259" hR="4259" stAng="5400000" swAng="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0" y="5257800"/>
            <a:ext cx="4267080" cy="0"/>
          </a:xfrm>
          <a:prstGeom prst="line">
            <a:avLst/>
          </a:prstGeom>
          <a:ln w="507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11"/>
          <p:cNvSpPr/>
          <p:nvPr/>
        </p:nvSpPr>
        <p:spPr>
          <a:xfrm>
            <a:off x="0" y="5300640"/>
            <a:ext cx="435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4285800" y="5157720"/>
            <a:ext cx="3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7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7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3075"/>
                            </p:stCondLst>
                            <p:childTnLst>
                              <p:par>
                                <p:cTn id="1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575"/>
                            </p:stCondLst>
                            <p:childTnLst>
                              <p:par>
                                <p:cTn id="1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75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75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7925"/>
                            </p:stCondLst>
                            <p:childTnLst>
                              <p:par>
                                <p:cTn id="1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75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75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9425"/>
                            </p:stCondLst>
                            <p:childTnLst>
                              <p:par>
                                <p:cTn id="1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75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75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2350"/>
                            </p:stCondLst>
                            <p:childTnLst>
                              <p:par>
                                <p:cTn id="1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75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75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2350"/>
                            </p:stCondLst>
                            <p:childTnLst>
                              <p:par>
                                <p:cTn id="17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285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войства показательной функци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у=а</a:t>
            </a:r>
            <a:r>
              <a:rPr b="0" i="1" lang="en-US" sz="2800" spc="-1" strike="noStrike" baseline="30000">
                <a:solidFill>
                  <a:srgbClr val="0000ff"/>
                </a:solidFill>
                <a:latin typeface="Calibri"/>
              </a:rPr>
              <a:t>x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и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0</a:t>
            </a:r>
            <a:r>
              <a:rPr b="0" i="1" lang="en-US" sz="2800" spc="-1" strike="noStrike">
                <a:solidFill>
                  <a:srgbClr val="0000ff"/>
                </a:solidFill>
                <a:latin typeface="Calibri"/>
              </a:rPr>
              <a:t>&lt;a&lt;1</a:t>
            </a:r>
            <a:r>
              <a:rPr b="0" i="1" lang="ru-RU" sz="16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Нижний колонтитул 4"/>
          <p:cNvSpPr/>
          <p:nvPr/>
        </p:nvSpPr>
        <p:spPr>
          <a:xfrm>
            <a:off x="3086280" y="6165720"/>
            <a:ext cx="5556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ЭКСПОН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Group 4"/>
          <p:cNvGrpSpPr/>
          <p:nvPr/>
        </p:nvGrpSpPr>
        <p:grpSpPr>
          <a:xfrm>
            <a:off x="0" y="1828800"/>
            <a:ext cx="4266720" cy="4419360"/>
            <a:chOff x="0" y="1828800"/>
            <a:chExt cx="4266720" cy="4419360"/>
          </a:xfrm>
        </p:grpSpPr>
        <p:pic>
          <p:nvPicPr>
            <p:cNvPr id="119" name="Object 5" descr=""/>
            <p:cNvPicPr/>
            <p:nvPr/>
          </p:nvPicPr>
          <p:blipFill>
            <a:blip r:embed="rId1"/>
            <a:stretch/>
          </p:blipFill>
          <p:spPr>
            <a:xfrm>
              <a:off x="0" y="1828800"/>
              <a:ext cx="426672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6"/>
            <p:cNvSpPr/>
            <p:nvPr/>
          </p:nvSpPr>
          <p:spPr>
            <a:xfrm>
              <a:off x="2649600" y="2179440"/>
              <a:ext cx="1324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</a:rPr>
                <a:t>у=а</a:t>
              </a:r>
              <a:r>
                <a:rPr b="1" i="1" lang="en-US" sz="2400" spc="-1" strike="noStrike" baseline="30000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0&lt;a&lt;1</a:t>
              </a: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Rectangle 7"/>
          <p:cNvSpPr/>
          <p:nvPr/>
        </p:nvSpPr>
        <p:spPr>
          <a:xfrm>
            <a:off x="4267080" y="2209680"/>
            <a:ext cx="4343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ласть значений –  множество всех положительных чисел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=R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+</a:t>
            </a:r>
            <a:r>
              <a:rPr b="1" lang="ru-RU" sz="1800" spc="-1" strike="noStrike" baseline="-25000">
                <a:solidFill>
                  <a:srgbClr val="0000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-25000">
                <a:solidFill>
                  <a:srgbClr val="0000ff"/>
                </a:solidFill>
                <a:latin typeface="Arial"/>
              </a:rPr>
              <a:t>Ограничен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низ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рерывн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3887640" y="2381400"/>
            <a:ext cx="5102280" cy="2133360"/>
          </a:xfrm>
          <a:custGeom>
            <a:avLst/>
            <a:gdLst>
              <a:gd name="textAreaLeft" fmla="*/ 297360 w 5102280"/>
              <a:gd name="textAreaRight" fmla="*/ 4804920 w 5102280"/>
              <a:gd name="textAreaTop" fmla="*/ 297360 h 2133360"/>
              <a:gd name="textAreaBottom" fmla="*/ 1836000 h 2133360"/>
            </a:gdLst>
            <a:ahLst/>
            <a:rect l="textAreaLeft" t="textAreaTop" r="textAreaRight" b="textAreaBottom"/>
            <a:pathLst>
              <a:path w="51655" h="21600">
                <a:moveTo>
                  <a:pt x="4259" y="0"/>
                </a:moveTo>
                <a:arcTo wR="4259" hR="4259" stAng="0" swAng="5400000"/>
                <a:lnTo>
                  <a:pt x="0" y="17341"/>
                </a:lnTo>
                <a:arcTo wR="4259" hR="4259" stAng="16200000" swAng="5400000"/>
                <a:lnTo>
                  <a:pt x="47396" y="21600"/>
                </a:lnTo>
                <a:arcTo wR="4259" hR="4259" stAng="10800000" swAng="5400000"/>
                <a:lnTo>
                  <a:pt x="51655" y="4259"/>
                </a:lnTo>
                <a:arcTo wR="4259" hR="4259" stAng="5400000" swAng="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 flipV="1">
            <a:off x="2124000" y="2060640"/>
            <a:ext cx="0" cy="320040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0" y="5229360"/>
            <a:ext cx="4282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4213080" y="5229360"/>
            <a:ext cx="3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75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75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4125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325"/>
                            </p:stCondLst>
                            <p:childTnLst>
                              <p:par>
                                <p:cTn id="1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75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75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6150"/>
                            </p:stCondLst>
                            <p:childTnLst>
                              <p:par>
                                <p:cTn id="20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665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войства показательной функци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у=а</a:t>
            </a:r>
            <a:r>
              <a:rPr b="0" i="1" lang="en-US" sz="2800" spc="-1" strike="noStrike" baseline="30000">
                <a:solidFill>
                  <a:srgbClr val="0000ff"/>
                </a:solidFill>
                <a:latin typeface="Calibri"/>
              </a:rPr>
              <a:t>x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и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0</a:t>
            </a:r>
            <a:r>
              <a:rPr b="0" i="1" lang="en-US" sz="2800" spc="-1" strike="noStrike">
                <a:solidFill>
                  <a:srgbClr val="0000ff"/>
                </a:solidFill>
                <a:latin typeface="Calibri"/>
              </a:rPr>
              <a:t>&lt;a&lt;1</a:t>
            </a:r>
            <a:r>
              <a:rPr b="0" i="1" lang="ru-RU" sz="16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ЭКСПОН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Group 4"/>
          <p:cNvGrpSpPr/>
          <p:nvPr/>
        </p:nvGrpSpPr>
        <p:grpSpPr>
          <a:xfrm>
            <a:off x="0" y="1828800"/>
            <a:ext cx="4266720" cy="4419360"/>
            <a:chOff x="0" y="1828800"/>
            <a:chExt cx="4266720" cy="4419360"/>
          </a:xfrm>
        </p:grpSpPr>
        <p:pic>
          <p:nvPicPr>
            <p:cNvPr id="130" name="Object 5" descr=""/>
            <p:cNvPicPr/>
            <p:nvPr/>
          </p:nvPicPr>
          <p:blipFill>
            <a:blip r:embed="rId1"/>
            <a:stretch/>
          </p:blipFill>
          <p:spPr>
            <a:xfrm>
              <a:off x="0" y="1828800"/>
              <a:ext cx="426672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6"/>
            <p:cNvSpPr/>
            <p:nvPr/>
          </p:nvSpPr>
          <p:spPr>
            <a:xfrm>
              <a:off x="2649600" y="2179440"/>
              <a:ext cx="1324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</a:rPr>
                <a:t>у=а</a:t>
              </a:r>
              <a:r>
                <a:rPr b="1" i="1" lang="en-US" sz="2400" spc="-1" strike="noStrike" baseline="30000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0&lt;a&lt;1</a:t>
              </a: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Rectangle 7"/>
          <p:cNvSpPr/>
          <p:nvPr/>
        </p:nvSpPr>
        <p:spPr>
          <a:xfrm>
            <a:off x="4378320" y="2743200"/>
            <a:ext cx="42670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ункция убывает на всей области определ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пукла вниз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4267080" y="2362320"/>
            <a:ext cx="4343400" cy="2133360"/>
          </a:xfrm>
          <a:custGeom>
            <a:avLst/>
            <a:gdLst>
              <a:gd name="textAreaLeft" fmla="*/ 297360 w 4343400"/>
              <a:gd name="textAreaRight" fmla="*/ 4046040 w 4343400"/>
              <a:gd name="textAreaTop" fmla="*/ 297360 h 2133360"/>
              <a:gd name="textAreaBottom" fmla="*/ 1836000 h 2133360"/>
            </a:gdLst>
            <a:ahLst/>
            <a:rect l="textAreaLeft" t="textAreaTop" r="textAreaRight" b="textAreaBottom"/>
            <a:pathLst>
              <a:path w="43973" h="21600">
                <a:moveTo>
                  <a:pt x="4259" y="0"/>
                </a:moveTo>
                <a:arcTo wR="4259" hR="4259" stAng="0" swAng="5400000"/>
                <a:lnTo>
                  <a:pt x="0" y="17341"/>
                </a:lnTo>
                <a:arcTo wR="4259" hR="4259" stAng="16200000" swAng="5400000"/>
                <a:lnTo>
                  <a:pt x="39714" y="21600"/>
                </a:lnTo>
                <a:arcTo wR="4259" hR="4259" stAng="10800000" swAng="5400000"/>
                <a:lnTo>
                  <a:pt x="43973" y="4259"/>
                </a:lnTo>
                <a:arcTo wR="4259" hR="4259" stAng="5400000" swAng="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Group 9"/>
          <p:cNvGrpSpPr/>
          <p:nvPr/>
        </p:nvGrpSpPr>
        <p:grpSpPr>
          <a:xfrm>
            <a:off x="170640" y="528840"/>
            <a:ext cx="5027760" cy="4895280"/>
            <a:chOff x="170640" y="528840"/>
            <a:chExt cx="5027760" cy="4895280"/>
          </a:xfrm>
        </p:grpSpPr>
        <p:sp>
          <p:nvSpPr>
            <p:cNvPr id="135" name="Arc 10"/>
            <p:cNvSpPr/>
            <p:nvPr/>
          </p:nvSpPr>
          <p:spPr>
            <a:xfrm flipV="1" rot="5015400">
              <a:off x="568080" y="996120"/>
              <a:ext cx="3387960" cy="3828600"/>
            </a:xfrm>
            <a:custGeom>
              <a:avLst/>
              <a:gdLst/>
              <a:ahLst/>
              <a:rect l="l" t="t" r="r" b="b"/>
              <a:pathLst>
                <a:path fill="none" w="17547" h="21310">
                  <a:moveTo>
                    <a:pt x="3527" y="-1"/>
                  </a:moveTo>
                  <a:cubicBezTo>
                    <a:pt x="9169" y="933"/>
                    <a:pt x="14211" y="4067"/>
                    <a:pt x="17547" y="8713"/>
                  </a:cubicBezTo>
                </a:path>
                <a:path stroke="0" w="17547" h="21310">
                  <a:moveTo>
                    <a:pt x="3527" y="-1"/>
                  </a:moveTo>
                  <a:cubicBezTo>
                    <a:pt x="9169" y="933"/>
                    <a:pt x="14211" y="4067"/>
                    <a:pt x="17547" y="8713"/>
                  </a:cubicBezTo>
                  <a:lnTo>
                    <a:pt x="0" y="21310"/>
                  </a:lnTo>
                  <a:lnTo>
                    <a:pt x="3527" y="-1"/>
                  </a:lnTo>
                  <a:close/>
                </a:path>
              </a:pathLst>
            </a:custGeom>
            <a:noFill/>
            <a:ln w="507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Arc 11"/>
            <p:cNvSpPr/>
            <p:nvPr/>
          </p:nvSpPr>
          <p:spPr>
            <a:xfrm flipV="1" rot="4938600">
              <a:off x="1139040" y="1473840"/>
              <a:ext cx="4533840" cy="3005280"/>
            </a:xfrm>
            <a:custGeom>
              <a:avLst/>
              <a:gdLst/>
              <a:ahLst/>
              <a:rect l="l" t="t" r="r" b="b"/>
              <a:pathLst>
                <a:path fill="none" w="21228" h="12650">
                  <a:moveTo>
                    <a:pt x="17508" y="-1"/>
                  </a:moveTo>
                  <a:cubicBezTo>
                    <a:pt x="19370" y="2577"/>
                    <a:pt x="20640" y="5533"/>
                    <a:pt x="21227" y="8658"/>
                  </a:cubicBezTo>
                </a:path>
                <a:path stroke="0" w="21228" h="12650">
                  <a:moveTo>
                    <a:pt x="17508" y="-1"/>
                  </a:moveTo>
                  <a:cubicBezTo>
                    <a:pt x="19370" y="2577"/>
                    <a:pt x="20640" y="5533"/>
                    <a:pt x="21227" y="8658"/>
                  </a:cubicBezTo>
                  <a:lnTo>
                    <a:pt x="0" y="12650"/>
                  </a:lnTo>
                  <a:lnTo>
                    <a:pt x="17508" y="-1"/>
                  </a:lnTo>
                  <a:close/>
                </a:path>
              </a:pathLst>
            </a:custGeom>
            <a:noFill/>
            <a:ln w="507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Line 14"/>
          <p:cNvSpPr/>
          <p:nvPr/>
        </p:nvSpPr>
        <p:spPr>
          <a:xfrm>
            <a:off x="0" y="5229360"/>
            <a:ext cx="4282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4213080" y="5230800"/>
            <a:ext cx="29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7" dur="75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925"/>
                            </p:stCondLst>
                            <p:childTnLst>
                              <p:par>
                                <p:cTn id="21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1" dur="75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3825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4325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1:06:26Z</dcterms:created>
  <dc:creator>user</dc:creator>
  <dc:description/>
  <dc:language>en-US</dc:language>
  <cp:lastModifiedBy>Severinova</cp:lastModifiedBy>
  <dcterms:modified xsi:type="dcterms:W3CDTF">2020-12-02T09:09:06Z</dcterms:modified>
  <cp:revision>8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8030000000000010243100207f6000400038000</vt:lpwstr>
  </property>
</Properties>
</file>