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3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B9F-F492-495A-B6C4-7DE2A98C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A23-A74D-424D-96A0-2863E32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52D-7C97-453D-8485-CEA7916E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E32-5CBC-446A-97DA-B2A59EDD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814-C189-4759-BE0C-E36DA464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08D-10A6-48FA-A7E1-50E3841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917-8D4F-49C5-973D-A6F85E5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031-9EFD-41D8-9FCA-12E9BD1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BC6-14EC-4A5D-AC26-5BF908E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25D-0128-4326-83ED-7823A48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8F4-D689-49F3-8DEC-669C21C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4D3-760F-4753-AA25-F48C2E5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0DA-6A99-44A0-BE49-8AD0C5EF8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анимация глобус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59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419640" y="1341360"/>
            <a:ext cx="48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овская Галина Вячеславовна, учитель географии высшей категории МАОУ СОШ №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ый курс физической географии 6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на тему «Породы, слагающие земную ко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использованы материал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bigpi.biysk/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/vrson/ru/geo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/ cabinet.priwalenskaia.edasit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park/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сканированны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одерж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1,62Мбай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лившиеся горные по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фузивные горные породы, магматические горные породы, как и современные лавы, излившиеся на поверхность Земли по вулканическим каналам или трещинам в земной коре и застывшие в виде потоков, покровов и куполов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адочны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ые породы, образующиеся с течением      времени из геологических осадков. Характерной чертой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адочных горных пород является их слоистость, отражающая изменяющиеся условия отложения геологических осадков. Осадочные горные породы покрывают около 3/4 поверхности литосферы. В зависимости от исходного материала различают обломочные, хемогенные и биогенные осадочные горные пород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омочные горные пород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омочные горные породы - осадочные горные породы, образовавшиеся из обломков различных минералов и пород. По величине зерен обломочные горные породы различаются н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ые) валуны и (неокатанные, угловатые) глыбы - более 10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ую) гальку и (неокатанный) щебень - от 10 до 10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(окатанный) гравий и дресва (неокатанную) дресву - от 1 до 10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есок - от 0.1 до 1 мм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ыль (алеврит) - от 0.01 до 0.1 м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geogr2priroda4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Глины – используют при изготовлении фарфоровых  и фаянсовы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Часы Свидание     Арт. 411091"/>
          <p:cNvPicPr/>
          <p:nvPr/>
        </p:nvPicPr>
        <p:blipFill>
          <a:blip r:embed="rId1"/>
          <a:stretch/>
        </p:blipFill>
        <p:spPr>
          <a:xfrm>
            <a:off x="5148360" y="1844640"/>
            <a:ext cx="367164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20080719162506"/>
          <p:cNvPicPr/>
          <p:nvPr/>
        </p:nvPicPr>
        <p:blipFill>
          <a:blip r:embed="rId2"/>
          <a:stretch/>
        </p:blipFill>
        <p:spPr>
          <a:xfrm>
            <a:off x="468360" y="1844640"/>
            <a:ext cx="3743280" cy="3583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303120" y="5537160"/>
            <a:ext cx="39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4000" y="57340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этка из обожжённой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5805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лия из белой глины ка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80"/>
                </a:solidFill>
                <a:latin typeface="Arial"/>
              </a:rPr>
              <a:t>Залегание горных п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егание горных пород - положение, форма и взаимоотношение геологических тел в земной коре. Для осадочных пород и некоторых пород вулканического происхождения характерны пластообразная форма и пологое, близкое к горизонтальному первичное залегание. Под воздействием тектонических процессов происходит нарушение залегания горных пород, образуются тектонические структуры. По залеганию горных пород можно судить о геологическом и географическом прошлом Земл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Залегание горных п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31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613053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arier-west"/>
          <p:cNvPicPr/>
          <p:nvPr/>
        </p:nvPicPr>
        <p:blipFill>
          <a:blip r:embed="rId2"/>
          <a:stretch/>
        </p:blipFill>
        <p:spPr>
          <a:xfrm>
            <a:off x="5076720" y="3573360"/>
            <a:ext cx="3167280" cy="25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imgbyid"/>
          <p:cNvPicPr/>
          <p:nvPr/>
        </p:nvPicPr>
        <p:blipFill>
          <a:blip r:embed="rId3"/>
          <a:stretch/>
        </p:blipFill>
        <p:spPr>
          <a:xfrm>
            <a:off x="395280" y="4221000"/>
            <a:ext cx="4105440" cy="18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imgbyid"/>
          <p:cNvPicPr/>
          <p:nvPr/>
        </p:nvPicPr>
        <p:blipFill>
          <a:blip r:embed="rId4"/>
          <a:stretch/>
        </p:blipFill>
        <p:spPr>
          <a:xfrm>
            <a:off x="5076720" y="1628640"/>
            <a:ext cx="316404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0"/>
          <p:cNvSpPr/>
          <p:nvPr/>
        </p:nvSpPr>
        <p:spPr>
          <a:xfrm>
            <a:off x="250920" y="10731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Несогласное залегание горных п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572000" y="1052640"/>
            <a:ext cx="50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оризонтальное залегание горных п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755640" y="609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алеганию горных пород можно судить о геологическом и географическом прошлом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s6"/>
          <p:cNvPicPr/>
          <p:nvPr/>
        </p:nvPicPr>
        <p:blipFill>
          <a:blip r:embed="rId1"/>
          <a:stretch/>
        </p:blipFill>
        <p:spPr>
          <a:xfrm>
            <a:off x="611280" y="1700280"/>
            <a:ext cx="271440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wfall00009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s6"/>
          <p:cNvPicPr/>
          <p:nvPr/>
        </p:nvPicPr>
        <p:blipFill>
          <a:blip r:embed="rId3"/>
          <a:stretch/>
        </p:blipFill>
        <p:spPr>
          <a:xfrm>
            <a:off x="2411280" y="2133720"/>
            <a:ext cx="4321440" cy="29509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5"/>
          <p:cNvSpPr txBox="1"/>
          <p:nvPr/>
        </p:nvSpPr>
        <p:spPr>
          <a:xfrm>
            <a:off x="1476360" y="549360"/>
            <a:ext cx="59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ция горных пор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836640"/>
          <a:ext cx="8147160" cy="6021360"/>
        </p:xfrm>
        <a:graphic>
          <a:graphicData uri="http://schemas.openxmlformats.org/drawingml/2006/table">
            <a:tbl>
              <a:tblPr/>
              <a:tblGrid>
                <a:gridCol w="2743200"/>
                <a:gridCol w="1515960"/>
                <a:gridCol w="1656000"/>
                <a:gridCol w="22320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е по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трукту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зернис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пло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земл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Твёрд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твё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вёр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хруп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: а)тяж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яже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лег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Происх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765000"/>
          <a:ext cx="8229600" cy="6035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ые по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 (розов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ый (коричнев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трукту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зернис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пло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земл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ис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Твёрд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твё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вёрд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хруп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ёрд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твёрд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уп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: а)тяж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средней тяже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лег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тяж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Происх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ма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убинн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сад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рганическ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сад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рганическо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187280" y="549360"/>
            <a:ext cx="6480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ести понятия «магматические», «осадочные», «метаморфические» горные пор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олжить развитие умения выделять главное при работе с учебником географии; совершенствовать навыки взаимоконтроля и самоконтроля; стимулировать эмпатию и любозн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ование бережного отношения к объектам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арта полушарий, атлас для 6класса, коллекция горны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Горные породы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s_sf_n_11v3m"/>
          <p:cNvPicPr/>
          <p:nvPr/>
        </p:nvPicPr>
        <p:blipFill>
          <a:blip r:embed="rId1"/>
          <a:stretch/>
        </p:blipFill>
        <p:spPr>
          <a:xfrm>
            <a:off x="324000" y="1413000"/>
            <a:ext cx="2303280" cy="30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Древнеримские развлечения"/>
          <p:cNvPicPr/>
          <p:nvPr/>
        </p:nvPicPr>
        <p:blipFill>
          <a:blip r:embed="rId2"/>
          <a:stretch/>
        </p:blipFill>
        <p:spPr>
          <a:xfrm>
            <a:off x="6227640" y="1413000"/>
            <a:ext cx="2546640" cy="302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027"/>
          <p:cNvPicPr/>
          <p:nvPr/>
        </p:nvPicPr>
        <p:blipFill>
          <a:blip r:embed="rId3"/>
          <a:stretch/>
        </p:blipFill>
        <p:spPr>
          <a:xfrm>
            <a:off x="2666880" y="4365720"/>
            <a:ext cx="3417840" cy="2492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250920" y="4714920"/>
            <a:ext cx="223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белокаменных соборов на Руси построено из белокаменного подмосковного известня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987640" y="2997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ранитная стела египетского храма в Лукс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372360" y="4859280"/>
            <a:ext cx="24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мский Колизей построен из разновидности известняка траве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Горные породы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6"/>
          <p:cNvPicPr/>
          <p:nvPr/>
        </p:nvPicPr>
        <p:blipFill>
          <a:blip r:embed="rId1"/>
          <a:stretch/>
        </p:blipFill>
        <p:spPr>
          <a:xfrm>
            <a:off x="3924360" y="2637000"/>
            <a:ext cx="46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uomo della S. Maria del Fiore"/>
          <p:cNvPicPr/>
          <p:nvPr/>
        </p:nvPicPr>
        <p:blipFill>
          <a:blip r:embed="rId2"/>
          <a:stretch/>
        </p:blipFill>
        <p:spPr>
          <a:xfrm>
            <a:off x="250920" y="2565360"/>
            <a:ext cx="3168720" cy="4292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250920" y="90792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читается, что подлинную красоту и многообразие мрамора можно увидеть во Флоренции. Разноцветным мрамором облицованы стены собора Санта-Мария-дель-Фь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975120" y="544500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в Гизе сложены из блоков известняка весом в 2-3т.Самая высокая пирамида Хеопса состоит из 2300000 бл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1" name="Picture 5" descr="002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755640" y="981000"/>
            <a:ext cx="748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 природе шагу не ступ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Чтоб тотчас, так ли ся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Ей чем-нибудь не запла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За этот самый ша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611280" y="2421000"/>
            <a:ext cx="75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d0f71a98149827c6657333d8a215bc7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2290680" y="1052640"/>
            <a:ext cx="456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Мы живём в громадном, плохо разгаданном мире и топчем камни….не подозревая, что знакомство с ними обогатило бы наш опыт во всех областях жизн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К.Г.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ollect_small"/>
          <p:cNvPicPr/>
          <p:nvPr/>
        </p:nvPicPr>
        <p:blipFill>
          <a:blip r:embed="rId2"/>
          <a:stretch/>
        </p:blipFill>
        <p:spPr>
          <a:xfrm>
            <a:off x="1042920" y="1413000"/>
            <a:ext cx="7272360" cy="5100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1258920" y="333360"/>
            <a:ext cx="6769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ция минераллов</a:t>
            </a:r>
            <a:endParaRPr b="0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ерал - природное тел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близительно однородное по химическому составу и по физическим свойствам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бразующееся в глубинах и на поверхности Земл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ы около 3000 видов минералов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т.Minera - 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Агат"/>
          <p:cNvPicPr/>
          <p:nvPr/>
        </p:nvPicPr>
        <p:blipFill>
          <a:blip r:embed="rId1"/>
          <a:stretch/>
        </p:blipFill>
        <p:spPr>
          <a:xfrm>
            <a:off x="179280" y="274680"/>
            <a:ext cx="20163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варц"/>
          <p:cNvPicPr/>
          <p:nvPr/>
        </p:nvPicPr>
        <p:blipFill>
          <a:blip r:embed="rId2"/>
          <a:stretch/>
        </p:blipFill>
        <p:spPr>
          <a:xfrm>
            <a:off x="6372360" y="260280"/>
            <a:ext cx="244764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Халцедон Друза изогнутых, сросшихся псевдосталактитов халцедона длинной до 7см в &#13;&#10;окремненном известняке. Размер образца 20 см. Ставровский овраг, деревня Старая Ситня, Ступинский район, Московская область, Россия"/>
          <p:cNvPicPr/>
          <p:nvPr/>
        </p:nvPicPr>
        <p:blipFill>
          <a:blip r:embed="rId3"/>
          <a:stretch/>
        </p:blipFill>
        <p:spPr>
          <a:xfrm>
            <a:off x="0" y="5300640"/>
            <a:ext cx="2664000" cy="155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Полированная глыба малахита"/>
          <p:cNvPicPr/>
          <p:nvPr/>
        </p:nvPicPr>
        <p:blipFill>
          <a:blip r:embed="rId4"/>
          <a:stretch/>
        </p:blipFill>
        <p:spPr>
          <a:xfrm>
            <a:off x="6264360" y="5300640"/>
            <a:ext cx="2879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ые породы состоят из минер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1359_picb16913"/>
          <p:cNvPicPr/>
          <p:nvPr/>
        </p:nvPicPr>
        <p:blipFill>
          <a:blip r:embed="rId1"/>
          <a:stretch/>
        </p:blipFill>
        <p:spPr>
          <a:xfrm>
            <a:off x="468360" y="3789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155910607"/>
          <p:cNvPicPr/>
          <p:nvPr/>
        </p:nvPicPr>
        <p:blipFill>
          <a:blip r:embed="rId2"/>
          <a:stretch/>
        </p:blipFill>
        <p:spPr>
          <a:xfrm>
            <a:off x="5580000" y="422100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mica_on"/>
          <p:cNvPicPr/>
          <p:nvPr/>
        </p:nvPicPr>
        <p:blipFill>
          <a:blip r:embed="rId3"/>
          <a:stretch/>
        </p:blipFill>
        <p:spPr>
          <a:xfrm>
            <a:off x="4643280" y="1628640"/>
            <a:ext cx="288144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6"/>
          <p:cNvGraphicFramePr/>
          <p:nvPr/>
        </p:nvGraphicFramePr>
        <p:xfrm>
          <a:off x="684360" y="1736640"/>
          <a:ext cx="2519280" cy="18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736640"/>
                    <a:ext cx="25192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9"/>
          <p:cNvSpPr/>
          <p:nvPr/>
        </p:nvSpPr>
        <p:spPr>
          <a:xfrm>
            <a:off x="75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11600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521964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601200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24855E-007 C 0.06736 0.07168 0.13472 0.14358 0.2 0.20069 C 0.26528 0.2578 0.3283 0.30728 0.39202 0.34243 C 0.45573 0.37757 0.5191 0.39491 0.58264 0.41225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0.00486 0.04051 0.00972 0.08102 0.00833 0.1044 C 0.00694 0.12778 -0.01112 0.11783 -0.00834 0.14005 C -0.00556 0.16227 0.00416 0.20023 0.025 0.23773 C 0.04583 0.27523 0.08125 0.31991 0.11666 0.36458 E">
                                      <p:cBhvr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309 0.00486 0.14635 0.00972 0.21337 0.01111 C 0.28038 0.0125 0.34392 0.00509 0.40173 0.0088 C 0.45955 0.0125 0.5309 0.03773 0.56007 0.03334 C 0.58923 0.02894 0.58298 0.00556 0.57673 -0.01782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горных пород по происхожд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Organization Chart 20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67" name="_s1028"/>
            <p:cNvCxnSpPr>
              <a:stCxn id="68" idx="0"/>
              <a:endCxn id="69" idx="2"/>
            </p:cNvCxnSpPr>
            <p:nvPr/>
          </p:nvCxnSpPr>
          <p:spPr>
            <a:xfrm flipV="1" rot="16200000">
              <a:off x="6261840" y="969120"/>
              <a:ext cx="319320" cy="282636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9"/>
            <p:cNvCxnSpPr>
              <a:stCxn id="71" idx="1"/>
              <a:endCxn id="72" idx="2"/>
            </p:cNvCxnSpPr>
            <p:nvPr/>
          </p:nvCxnSpPr>
          <p:spPr>
            <a:xfrm rot="10800000">
              <a:off x="6084720" y="5092200"/>
              <a:ext cx="26712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0"/>
            <p:cNvCxnSpPr>
              <a:stCxn id="72" idx="1"/>
              <a:endCxn id="74" idx="2"/>
            </p:cNvCxnSpPr>
            <p:nvPr/>
          </p:nvCxnSpPr>
          <p:spPr>
            <a:xfrm rot="10800000">
              <a:off x="5008320" y="4135680"/>
              <a:ext cx="26712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1"/>
            <p:cNvCxnSpPr>
              <a:stCxn id="76" idx="0"/>
              <a:endCxn id="77" idx="2"/>
            </p:cNvCxnSpPr>
            <p:nvPr/>
          </p:nvCxnSpPr>
          <p:spPr>
            <a:xfrm flipV="1" rot="16200000">
              <a:off x="6260040" y="2867400"/>
              <a:ext cx="319320" cy="9424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1032"/>
            <p:cNvCxnSpPr>
              <a:stCxn id="74" idx="0"/>
              <a:endCxn id="77" idx="2"/>
            </p:cNvCxnSpPr>
            <p:nvPr/>
          </p:nvCxnSpPr>
          <p:spPr>
            <a:xfrm flipH="1" flipV="1" rot="5400000">
              <a:off x="5319360" y="2868480"/>
              <a:ext cx="319320" cy="9406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3"/>
            <p:cNvCxnSpPr>
              <a:stCxn id="80" idx="0"/>
              <a:endCxn id="81" idx="2"/>
            </p:cNvCxnSpPr>
            <p:nvPr/>
          </p:nvCxnSpPr>
          <p:spPr>
            <a:xfrm flipV="1" rot="16200000">
              <a:off x="2493000" y="2866680"/>
              <a:ext cx="319320" cy="9442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34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1550160" y="2867400"/>
              <a:ext cx="319320" cy="94284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5"/>
            <p:cNvCxnSpPr>
              <a:stCxn id="77" idx="0"/>
              <a:endCxn id="69" idx="2"/>
            </p:cNvCxnSpPr>
            <p:nvPr/>
          </p:nvCxnSpPr>
          <p:spPr>
            <a:xfrm flipV="1" rot="16200000">
              <a:off x="5319000" y="1911960"/>
              <a:ext cx="319320" cy="94068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6"/>
            <p:cNvCxnSpPr>
              <a:stCxn id="81" idx="0"/>
              <a:endCxn id="69" idx="2"/>
            </p:cNvCxnSpPr>
            <p:nvPr/>
          </p:nvCxnSpPr>
          <p:spPr>
            <a:xfrm flipH="1" flipV="1" rot="5400000">
              <a:off x="3435480" y="968040"/>
              <a:ext cx="319320" cy="282852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37"/>
            <p:cNvSpPr/>
            <p:nvPr/>
          </p:nvSpPr>
          <p:spPr>
            <a:xfrm>
              <a:off x="4199400" y="158580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орные пор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8">
              <a:hlinkClick r:id="rId1" action="ppaction://hlinksldjump"/>
            </p:cNvPr>
            <p:cNvSpPr/>
            <p:nvPr/>
          </p:nvSpPr>
          <p:spPr>
            <a:xfrm>
              <a:off x="1373760" y="254232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агмат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9">
              <a:hlinkClick r:id="rId2" action="ppaction://hlinksldjump"/>
            </p:cNvPr>
            <p:cNvSpPr/>
            <p:nvPr/>
          </p:nvSpPr>
          <p:spPr>
            <a:xfrm>
              <a:off x="5141520" y="254232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садоч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0">
              <a:hlinkClick r:id="rId3" action="ppaction://hlinksldjump"/>
            </p:cNvPr>
            <p:cNvSpPr/>
            <p:nvPr/>
          </p:nvSpPr>
          <p:spPr>
            <a:xfrm>
              <a:off x="43164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луби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1">
              <a:hlinkClick r:id="rId4" action="ppaction://hlinksldjump"/>
            </p:cNvPr>
            <p:cNvSpPr/>
            <p:nvPr/>
          </p:nvSpPr>
          <p:spPr>
            <a:xfrm>
              <a:off x="231552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лившие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419940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еорган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6083280" y="349884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рган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>
              <a:hlinkClick r:id="rId5" action="ppaction://hlinksldjump"/>
            </p:cNvPr>
            <p:cNvSpPr/>
            <p:nvPr/>
          </p:nvSpPr>
          <p:spPr>
            <a:xfrm>
              <a:off x="5276160" y="4455360"/>
              <a:ext cx="16146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ломоч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5"/>
            <p:cNvSpPr/>
            <p:nvPr/>
          </p:nvSpPr>
          <p:spPr>
            <a:xfrm>
              <a:off x="6352560" y="5411880"/>
              <a:ext cx="161280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хи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6"/>
            <p:cNvSpPr/>
            <p:nvPr/>
          </p:nvSpPr>
          <p:spPr>
            <a:xfrm>
              <a:off x="7025760" y="2542320"/>
              <a:ext cx="1614600" cy="635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таморф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матические горные породы - горные породы, образовавшиеся в результате затвердения магм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гматических горных породах, образовавшихся при постепенном застывании магмы на глубине, хорошо различимы кристаллы отдельных минералов: гранит, сиенит и д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гматических горных породах, образовавшихся при излиянии магмы на поверхность, кристаллы очень малы и часто не видны невооруженным глазом: базальт, вулканическое стекло, пемза и др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бинны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иссальные породы, плутонические породы, горные породы, образовавшиеся на больших глубина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01:48Z</dcterms:created>
  <dc:creator>User</dc:creator>
  <dc:description/>
  <dc:language>en-US</dc:language>
  <cp:lastModifiedBy>GTX</cp:lastModifiedBy>
  <dcterms:modified xsi:type="dcterms:W3CDTF">2020-12-01T15:17:19Z</dcterms:modified>
  <cp:revision>68</cp:revision>
  <dc:subject/>
  <dc:title>Слайд 1</dc:title>
</cp:coreProperties>
</file>