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93C-A06E-4C5E-82CC-C530D80A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F5A-FCAA-455E-AD47-4CBB1F2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A75-BA54-406E-9EE5-9A3B06A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8DF-47B5-4BCD-8C15-2FDEB55A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5C7-C4AA-436C-870C-71B206D9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752-C206-46A4-B16E-B31E03E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0A0-DF69-4926-ACAB-4545B55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6AC-99E1-4A85-B4B7-DAA27EDA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A6B-764F-4830-8CB0-DF80902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C80-4CB0-4066-A400-56B2943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9CC-165D-4408-8D50-E9B1738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8A6-3A93-45DF-BF0A-89E6E15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DA05-1E1E-4E5E-A555-4BE8DED1A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79280" y="692280"/>
            <a:ext cx="8785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УНИЦИПАЛЬНОЕ АВТОНОМ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«Средняя общеобразовательная школа № 1 г. Немана»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образовательная деятельность в средней групп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а: «Волшебные ангелочки». (раскрашивание фигур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асиль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рт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 Не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C:\Users\Acer\AppData\Local\Microsoft\Windows\Temporary Internet Files\Content.Word\Фото0944.jpg"/>
          <p:cNvPicPr/>
          <p:nvPr/>
        </p:nvPicPr>
        <p:blipFill>
          <a:blip r:embed="rId1"/>
          <a:stretch/>
        </p:blipFill>
        <p:spPr>
          <a:xfrm>
            <a:off x="684360" y="90792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C:\Users\Acer\AppData\Local\Microsoft\Windows\Temporary Internet Files\Content.Word\Фото0939.jpg"/>
          <p:cNvPicPr/>
          <p:nvPr/>
        </p:nvPicPr>
        <p:blipFill>
          <a:blip r:embed="rId2"/>
          <a:stretch/>
        </p:blipFill>
        <p:spPr>
          <a:xfrm>
            <a:off x="4572000" y="92880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:\Users\Acer\AppData\Local\Microsoft\Windows\Temporary Internet Files\Content.Word\Фото0931.jpg"/>
          <p:cNvPicPr/>
          <p:nvPr/>
        </p:nvPicPr>
        <p:blipFill>
          <a:blip r:embed="rId1"/>
          <a:stretch/>
        </p:blipFill>
        <p:spPr>
          <a:xfrm>
            <a:off x="2268360" y="476280"/>
            <a:ext cx="4104000" cy="5329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643120" y="585792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ангел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390600" y="189000"/>
            <a:ext cx="8429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ное 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ть детям понимание о том, что такое «Рождество» и рождественские трад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чить детей раскрашивать фигурки ангела красками . Развивать разноправленные, слитные, плавные движения руки, зрительный контроль за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креплять знания детей об особенностях цвета, смешивание красок и составление в холодной цветовой г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спитывать любовь и уважение к традициям, праздникам своего народа; развивать творческие способности у детей и фантаз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уашь (белая и синяя), вылепленные раннее детьми фигурки ангелов, кисточки, палитры по количеству детей, подставки для кисточек, салфетки, клеенки под фигурки; Музей «Рождественские ангелочки»;нарядная рождественская ёлочка, шкатулка с сюрпризами, выставочная полочка «Рождественская сказка», музыкальные композиции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сопровождение (слайды и фрагменты «Что такое Рождество», «ангелы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еские при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еседа с детьми, показ и объяснение воспитателя, вопросы к детям, игровая физминутка, психологическая пауза, чтение стихотворений детьми, напоминание детям о технике рисования, раскрашивание фигурок, индивидуальная работа с детьми, игровая физминутка, музыкальное и телевизионное сопровождение, итог работы, сюрпризный момент, дети дарят ангелочков в подарок го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едварительная р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с детьми и родителями мини-музея в группе, чтение стихотворений  и пение песен о празднике Рождестве, рассказ воспитателя о празднике, его традиций, рассматривание картинок, фотографий, фрагментов, иллюстраций, атрибутов, фигурок с изображением символов Рождества, изготовление фигурок – ангелочков из глины, раскрашивание поделок- ангелочков к празд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74600" y="476280"/>
            <a:ext cx="88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вместе с детьми подходят к мини-музею «Рождественские ангелоч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Дети, давайте мы пригласим в наш мини –музей наших гостей, которые пришли к нам в гости. И расскажем о том, что мы знаем о празднике, который называется «Рожд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В каком месяце зимы празднуют Рожд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ждество , как и Новый год – одно из самых любимых праздников мног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наете, что любой предмет . который вы видите на полочке в Музее связан с традициями Рождества и несёт в себе глубоки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Так непременным украшением во все времена была празднично наряженная ёлка с зажжёнными свеч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А чем ещё украшали ёлочку на Рождество? (яблоками, орехами, конфетами, пряниками, звёздами, бантами, печеньем, колокольчиками, ангелочками).А на самой верхушке- звезда. А под ёлочкой – подарки. В семьях принято было дарить подарки родным и близким. Это самая главная традиция. Сам святой Николай считался дарителем подарков. С праздничным настроением люди встречают светлый праздник Рождества Христова. Как правило за рождественским столом собирается вся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 вот вы видите чудесный колокольчик и слышите его чудесный звон-милый сердцу. Традиция пришла в виде колокольного звона. Традиция пришла в виде колокольного звона в церквах. Когда звонят колокола в церквах, значит весь народ радуется и приветствует рождение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C:\Users\Acer\AppData\Local\Microsoft\Windows\Temporary Internet Files\Content.Word\Фото1036.jpg"/>
          <p:cNvPicPr/>
          <p:nvPr/>
        </p:nvPicPr>
        <p:blipFill>
          <a:blip r:embed="rId1"/>
          <a:stretch/>
        </p:blipFill>
        <p:spPr>
          <a:xfrm>
            <a:off x="285840" y="92880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C:\Users\Acer\AppData\Local\Microsoft\Windows\Temporary Internet Files\Content.Word\Фото1044.jpg"/>
          <p:cNvPicPr/>
          <p:nvPr/>
        </p:nvPicPr>
        <p:blipFill>
          <a:blip r:embed="rId2"/>
          <a:stretch/>
        </p:blipFill>
        <p:spPr>
          <a:xfrm>
            <a:off x="4071960" y="9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79280" y="18900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кажите, ребята, а как можно поздравить любимых родных с праздником Рождества?(открытк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бята, обратите внимание на ангелочков. Фигурки ангелов сопровождают каждое Рождество, как символ доброты, любви, приносящий в дом тепло и счастье. Давайте с вами полюбуемся ангелочками. Пройдём-те со м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ти смотрят телевизионные фраг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кие ангелы?, расскажите нам  (нежные, добрые, заботли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Что есть у них?(белые , сверкающие блеском платья с длинными рукавами, веночки на голове и белоснежные крыль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ы все словно ждём от них чудо, чудесную сказку, которые принесут нам радость и успокоение. Дети читают стихотворения(3-4 ребе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Знаете, ребята, ждать чудес нигде и никому не запрещено! Поэтому позволим себе эту маленькую слабость. Тем более, что во все века так и было: люди верили в рождественскую ска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Пойдём-те со мной к нашей нарядной ёлочке (дети садятся кружком на ковре).Мы сейчас представим, что к нам с небес спустился добрый ангел, который исполняет добрые и светлые пожел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ждый из вас сейчас загадает заветное желание и оно обязательно исполн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А сейчас, приглашаю вас в художественную мастерскую, где мы с вами раскрасим фигурки ангелочков, которые вылепили раньше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динственное, что я хочу вам напомнить, что раскрашивать фигурки нужно аккуратно, поворачивая клеёнку в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715080" y="6429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19623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3"/>
          <a:stretch/>
        </p:blipFill>
        <p:spPr>
          <a:xfrm>
            <a:off x="2898720" y="76500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4"/>
          <a:stretch/>
        </p:blipFill>
        <p:spPr>
          <a:xfrm>
            <a:off x="1095480" y="765000"/>
            <a:ext cx="9619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"/>
          <p:cNvPicPr/>
          <p:nvPr/>
        </p:nvPicPr>
        <p:blipFill>
          <a:blip r:embed="rId5"/>
          <a:stretch/>
        </p:blipFill>
        <p:spPr>
          <a:xfrm>
            <a:off x="3808440" y="256068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2" descr=""/>
          <p:cNvPicPr/>
          <p:nvPr/>
        </p:nvPicPr>
        <p:blipFill>
          <a:blip r:embed="rId6"/>
          <a:stretch/>
        </p:blipFill>
        <p:spPr>
          <a:xfrm>
            <a:off x="7397640" y="2565360"/>
            <a:ext cx="130500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"/>
          <p:cNvPicPr/>
          <p:nvPr/>
        </p:nvPicPr>
        <p:blipFill>
          <a:blip r:embed="rId7"/>
          <a:stretch/>
        </p:blipFill>
        <p:spPr>
          <a:xfrm>
            <a:off x="7273800" y="4467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5" descr=""/>
          <p:cNvPicPr/>
          <p:nvPr/>
        </p:nvPicPr>
        <p:blipFill>
          <a:blip r:embed="rId8"/>
          <a:stretch/>
        </p:blipFill>
        <p:spPr>
          <a:xfrm>
            <a:off x="1211400" y="46418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8" descr=""/>
          <p:cNvPicPr/>
          <p:nvPr/>
        </p:nvPicPr>
        <p:blipFill>
          <a:blip r:embed="rId9"/>
          <a:stretch/>
        </p:blipFill>
        <p:spPr>
          <a:xfrm>
            <a:off x="1258920" y="25653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1" descr=""/>
          <p:cNvPicPr/>
          <p:nvPr/>
        </p:nvPicPr>
        <p:blipFill>
          <a:blip r:embed="rId10"/>
          <a:stretch/>
        </p:blipFill>
        <p:spPr>
          <a:xfrm>
            <a:off x="5345280" y="4476600"/>
            <a:ext cx="9331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4" descr=""/>
          <p:cNvPicPr/>
          <p:nvPr/>
        </p:nvPicPr>
        <p:blipFill>
          <a:blip r:embed="rId11"/>
          <a:stretch/>
        </p:blipFill>
        <p:spPr>
          <a:xfrm>
            <a:off x="3116160" y="45496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"/>
          <p:cNvPicPr/>
          <p:nvPr/>
        </p:nvPicPr>
        <p:blipFill>
          <a:blip r:embed="rId12"/>
          <a:stretch/>
        </p:blipFill>
        <p:spPr>
          <a:xfrm>
            <a:off x="5357880" y="2428920"/>
            <a:ext cx="1708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324000" y="189000"/>
            <a:ext cx="8640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кой лучше раскрасить краской ангелочков? (белой и голуб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А как получить голубую крас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Что украсим жёлтой крас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Вспомните, пожалуйста, работая кисточкой, как нужно держать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А теперь прошу вас приступить к выполнению этой увлекательной и волшебной работе. Фантазируйте, мои маленькие художники. Самостоятельная работа детей. Индивидуальная помощь де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минут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ети выполняют танцевальные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Холодные льди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зрачные льд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веркают, звен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инь-дон, говор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, два, три-попляши.(2-3 ра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то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лее готовые расписные фигурки Ангелочков дети ставят на полочку «Волшебная сказка». Дети любуются . Какие красивые ваши ангелочки. Символы доброты и любви, которые приносят в дом тепло и счас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-Подарите , дети, наших рождественских ангелочков нашим гостям. Пусть в  их доме, как и в нашем, где мы живём, играем, растём, в нашей уютной группе всегда живут доброта, любовь и счастье. С праздником Рожде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Будьте счастливы дет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 нам идёт торж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здник добрый и светлы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ождество, Рождеств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C:\Users\Acer\AppData\Local\Microsoft\Windows\Temporary Internet Files\Content.Word\Фото1001.jpg"/>
          <p:cNvPicPr/>
          <p:nvPr/>
        </p:nvPicPr>
        <p:blipFill>
          <a:blip r:embed="rId1"/>
          <a:stretch/>
        </p:blipFill>
        <p:spPr>
          <a:xfrm>
            <a:off x="2124000" y="1159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C:\Users\Acer\AppData\Local\Microsoft\Windows\Temporary Internet Files\Content.Word\Фото1038.jpg"/>
          <p:cNvPicPr/>
          <p:nvPr/>
        </p:nvPicPr>
        <p:blipFill>
          <a:blip r:embed="rId2"/>
          <a:stretch/>
        </p:blipFill>
        <p:spPr>
          <a:xfrm>
            <a:off x="2627280" y="3860640"/>
            <a:ext cx="40132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C:\Users\Acer\AppData\Local\Microsoft\Windows\Temporary Internet Files\Content.Word\Фото0942.jpg"/>
          <p:cNvPicPr/>
          <p:nvPr/>
        </p:nvPicPr>
        <p:blipFill>
          <a:blip r:embed="rId1"/>
          <a:stretch/>
        </p:blipFill>
        <p:spPr>
          <a:xfrm>
            <a:off x="843120" y="83664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C:\Users\Acer\AppData\Local\Microsoft\Windows\Temporary Internet Files\Content.Word\Фото0934.jpg"/>
          <p:cNvPicPr/>
          <p:nvPr/>
        </p:nvPicPr>
        <p:blipFill>
          <a:blip r:embed="rId2"/>
          <a:stretch/>
        </p:blipFill>
        <p:spPr>
          <a:xfrm>
            <a:off x="4857840" y="838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3:31:31Z</dcterms:created>
  <dc:creator>Марина Г. Почивалова</dc:creator>
  <dc:description/>
  <dc:language>en-US</dc:language>
  <cp:lastModifiedBy>ДОМАОУ «СОШ № 1 г. Немана»</cp:lastModifiedBy>
  <dcterms:modified xsi:type="dcterms:W3CDTF">2020-12-02T08:41:30Z</dcterms:modified>
  <cp:revision>5</cp:revision>
  <dc:subject/>
  <dc:title>Презентация PowerPoint</dc:title>
</cp:coreProperties>
</file>