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31.png" ContentType="image/png"/>
  <Override PartName="/ppt/media/image27.wmf" ContentType="image/x-wmf"/>
  <Override PartName="/ppt/media/image26.wmf" ContentType="image/x-wmf"/>
  <Override PartName="/ppt/media/image23.gif" ContentType="image/gif"/>
  <Override PartName="/ppt/media/image5.jpeg" ContentType="image/jpeg"/>
  <Override PartName="/ppt/media/image32.jpeg" ContentType="image/jpeg"/>
  <Override PartName="/ppt/media/image11.gif" ContentType="image/gif"/>
  <Override PartName="/ppt/media/image7.png" ContentType="image/png"/>
  <Override PartName="/ppt/media/image6.jpeg" ContentType="image/jpeg"/>
  <Override PartName="/ppt/media/image30.wmf" ContentType="image/x-wmf"/>
  <Override PartName="/ppt/media/image28.wmf" ContentType="image/x-wmf"/>
  <Override PartName="/ppt/media/image3.jpeg" ContentType="image/jpeg"/>
  <Override PartName="/ppt/media/image12.gif" ContentType="image/gif"/>
  <Override PartName="/ppt/media/image33.png" ContentType="image/png"/>
  <Override PartName="/ppt/media/image10.png" ContentType="image/png"/>
  <Override PartName="/ppt/media/image35.jpeg" ContentType="image/jpeg"/>
  <Override PartName="/ppt/media/image34.png" ContentType="image/png"/>
  <Override PartName="/ppt/media/image17.wmf" ContentType="image/x-wmf"/>
  <Override PartName="/ppt/media/image13.gif" ContentType="image/gif"/>
  <Override PartName="/ppt/media/image16.jpeg" ContentType="image/jpeg"/>
  <Override PartName="/ppt/media/image9.gif" ContentType="image/gif"/>
  <Override PartName="/ppt/media/image8.gif" ContentType="image/gif"/>
  <Override PartName="/ppt/media/image4.jpeg" ContentType="image/jpeg"/>
  <Override PartName="/ppt/media/image22.gif" ContentType="image/gif"/>
  <Override PartName="/ppt/media/image25.wmf" ContentType="image/x-wmf"/>
  <Override PartName="/ppt/media/image15.wmf" ContentType="image/x-wmf"/>
  <Override PartName="/ppt/media/image19.gif" ContentType="image/gif"/>
  <Override PartName="/ppt/media/image24.png" ContentType="image/png"/>
  <Override PartName="/ppt/media/image14.gif" ContentType="image/gif"/>
  <Override PartName="/ppt/media/image18.wmf" ContentType="image/x-wmf"/>
  <Override PartName="/ppt/media/image2.jpeg" ContentType="image/jpeg"/>
  <Override PartName="/ppt/media/image20.png" ContentType="image/png"/>
  <Override PartName="/ppt/media/image2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0E93-6687-4207-A400-E1BFD0E22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8186-4B0E-442A-8FA3-7CA83FAF2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D35E55-48C1-489A-A26A-968A75915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DFA73F-9F60-41C9-9B8B-F776C5A8F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AD639D-465B-4B7D-8001-1DB2740BA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163A42-6A8D-4E7C-AF5A-8E593CF77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F43069-0B68-4AD2-BBAD-EFC043559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4F2719-0225-426A-BB0C-ADC0DC74C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6C32E7-D923-459A-A8C9-DFD5EB2BD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8D5285-7B5B-40FD-B535-3F4043B2D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22685E-7B43-49F0-B47D-F844928E1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58AD8D-A7F8-4415-9EF7-2C556F977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20F8-99A8-4A14-B92F-E36720237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D200F1-63F1-46D6-BD28-94306BB8A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303960-E0F3-41DD-8BDB-1B4CA64FC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9DAE2B-AA63-4A9C-823B-BF70CEFF4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72A75A-7EC9-4575-8372-F6657967C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A158A2-F414-4D40-9A15-D0170B531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F4C03B-02F8-41F0-B677-FF689619F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C18F07-FF9C-4749-994F-E84FA5D52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5417F5-6744-4E55-9059-902648034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27FE4B-F9B6-425C-AD7D-5FA2C58E4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5DB6AD-00A8-4F95-A54D-182FF752F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7DA2-A100-4523-B332-A20E29574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97E800-B3F2-40B9-95DB-B21ECEF2F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2A1052-960A-4E61-A726-A442FE271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E103AF-3564-4213-9CC9-C5F0A05CB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B27E63-7E8A-480C-9F7B-F174770A4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898D56-4248-41CA-BDED-1B9074048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950A58-1E90-4F6E-8B1F-F30765630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9191C8-2B07-422A-B89C-40D7DE6B3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72F7D2-8E60-45AC-9C1B-417EE9972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DF2A66-25BF-45F9-BE47-C5F6CBAE8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57EDB3-9B55-4617-8B56-8EA4000CF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B9636-D36F-45A8-9F43-1704E8461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3658D2-B814-47CC-8278-A426C624E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F5F97A-48EB-44FA-A801-91D410D4E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59D457-FEAD-4BA3-AD41-1DF70FA34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C9C3A5-FED4-4B80-B743-420AFC9A6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2969D7-F41B-413E-8A47-FCA2C6140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EB44D5-265B-43E1-8197-1E02A8D6D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1F2458-94C8-4C79-A056-22E1C28C2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FDAA9F-D1AF-4512-B218-B89734EAC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3EC18A-887E-4C75-9FCC-0D950EED5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E46363-5021-4B94-A8F4-B8DA6AA4A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718BF-B92A-446D-A618-E519700CF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7DBC7C-F92F-4BB8-BF5B-0A824AF3C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9D58C0-F1C9-4BDA-A4CF-64E1882B8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861CBF-2E8E-4AA8-99A6-FF4ACA047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572931-5D3F-4B02-BFCA-0B4C73DFD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392544-6E22-4CB3-B5CB-E4F67D299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821965-F050-48D0-969A-E4EE5E1D4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BE2DEF-E480-4B83-93A3-96DAA2AD8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77CDF4-14AF-4BCA-8931-A022659FE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4B6B7A-3CE4-46E4-84C7-79086F2DC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CA7E6A-A746-40B3-878D-78423EB06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FEB12-716B-438A-BD76-A66857180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EC63FD-C9D5-4A4B-8962-2A58DE859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11BF88-8018-4AA0-9707-D1C93D118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4DBDCA-DBF9-4C71-BA92-51646B243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8AE220-9EF8-4860-A0C8-D28D72BEE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00CE61-F7AB-4934-9A22-115BC76C7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66931B-390F-4010-904A-387573E8F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C6AFDE-5552-439C-8C06-95FEF36DD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C066B4-B3C1-42FA-9456-CE2026C0B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0C6B784-5130-4DDF-A04A-1BFF5050D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65CCEDE-A911-4E24-867D-4FC90D975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F82BB-266A-412B-A75C-DE24F98F6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505488A-634F-43D0-8E1B-7C54A1817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189DFE8-C76F-4B19-ABF7-D20955356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3AE447-693B-4D98-828C-1ABBF83C3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84F4BF-E29D-4D08-9CA4-A5E14FF09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4698443-F86B-48B7-A5B6-EEBE7FD5A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D8CCC26-4BA6-4F3F-A2CA-AADB10286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440484-23EF-463E-BDCE-8362F9F99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1FA8036-DBAB-4D3D-9AAB-FEC682F15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C42C4F-CD77-4FD8-81ED-4129594BC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B02D6-04D9-49E3-8F09-8269F4A16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9D26A-BE47-460F-873E-3BBCA2D5A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FDE2F-0004-45E7-A1EF-4C9D3C9C9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6808-4092-4EC4-8CDD-E87ADAB7F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8E079-C02E-41CE-B80A-63D9BEBE5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69D01-4A98-451B-80F8-47AB17663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A51BC-9C72-4EE6-A425-8A92A1DC8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44506-3332-4BC7-871E-E94CE2B00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02869-3096-4BEC-971B-A167A67D7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4E11A4-5FE5-4FAA-80E6-5004602F5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E17985-9B4E-4D43-B003-88A917CE4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8A242E-DC80-4C77-ADBC-D79827408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1DD86D-04AC-4EF3-8BEC-EF4DDE8D5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1FB313-EB4D-4778-BDAB-0FC1897D5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106E-7789-414C-8A35-E2E986359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D35E36-E6D5-47AC-B1B3-B01DD4A7A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6DE7D5-33AF-4E57-82BA-3B89924DC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C07657-11F1-45F7-9E22-061A7DAEA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3B077F-1E68-4C42-8FB3-FD32AE11E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812A2C-B75D-4055-9049-D008F01FA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24B7C0-83AB-4643-8F38-C96D7D201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3C2590-8378-4913-9223-55FC2A060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AC43F8-E745-4A19-BB3F-2C2532FAB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7F7AF5-24DF-4C58-81BA-5AC16AECD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097321-916D-4106-9481-92BCA376F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507C-B99B-4FD9-9BE5-795E35BE7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F416E3-E609-4C44-9EA5-46B137A62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A178A2-EED0-43A6-BDCC-0C33A114E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15CCF3-6C05-4C96-9894-B608F40F0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937D08-D454-4B8C-A6D2-0ACD75782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E608C5-AEEF-4A7A-9A15-031E3EB2F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BC0D73-DD29-4998-83C7-9C066A061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1337E2-57A9-47D0-BB42-4885F51F7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133A06-18DA-42F8-BA46-F08698C2A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A3AA8D-C6F2-4F42-878E-F18AFAC8E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B7137B-CEFE-4881-AC73-B11A48417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A089-9D4B-4E6D-A92A-0F230700E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547DA9C-D2F5-4BE3-B78A-F826A9949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3C60C4-4290-4FC1-AFA1-F6BE8821C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33229A-89E9-49B5-917C-CA8A7F4C9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CB9540B-0B65-4656-97C1-AA501243F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DA00B8-579C-4552-B6A5-DEF27F7F9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20A8D8-F855-479E-B243-D2F17A98B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B66C3E-DAB6-4045-A037-1F3E1B97D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82C81E-987F-4169-8FD8-BB2633506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DAEE37-035F-4DCC-A9C4-507F717BF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F42EBB-476D-4398-B761-582BAEF1D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9A96-CC4F-4EFD-A46D-8E4170B22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CEE659A-17C3-4107-BF69-ADFEC1F68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AD8AC4-D826-412A-AE6A-775838357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A6193B-58D1-4803-9409-B875CE8B8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AEEA4C-25B6-4A36-914E-FC5FFFAF5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43DFE7-2307-440E-BAED-C18F260F0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A89BB0-985B-478D-AE9F-DCFC98C0A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CCCEB6-14D5-409A-BB37-BA2542456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9A912F-1932-42F5-A802-3B5C934B2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2483A0-46F8-40CF-838F-BE32BDCEF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A6DE2A-E6ED-40F3-AD2E-76F00C227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49D3-7DA9-4DA7-B62E-EAAF5E908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F84C80-3091-4EAB-B290-F79113D3E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BCD022-629B-43FF-B5C5-96BC9BD26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0A9CCF-1B66-490E-8E2D-977FC65DE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302FA36-3FCE-4D3C-9A8F-971694669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BA25614-6D5B-4D03-9A45-9523BAF1A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29B269D-6314-4404-AEC5-FB17E9B00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73E2235-A3C0-4DD6-A8A4-67290AEED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AF71B5E-E6AE-4119-B464-131ABF3E4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C83B482-094D-4DAB-95A0-4BD86DBEC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8835970-AF5A-444C-963D-D5B734619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3DDF-AF90-4FCA-A083-F65B2F1AB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039A1E5-EEFB-41CD-BFA5-C9F1B4CA0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865B796-D41F-4E4C-A8C5-5789DAEF8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AC79B0C-681E-4DAC-8D43-74B6D2BF9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94EAE96-2361-4FF9-88DF-97BFA2478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206CAEE-B806-4FAF-BECA-FBF10C6F4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A03023-0517-4D50-A177-20B9B334F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6713E4-46FF-4A14-B88A-2B5799F69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860618-9DC0-4884-AC34-164C955B1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7407C4-B4E0-4A37-A14D-A06DEB028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146017-3DCC-48EB-9105-9F0B8D13F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129C-2418-4832-9998-5A192E1AD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EFE80D-DF18-4BD5-B768-A0DAA327E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549CA1-A76A-42C7-AB00-3D6AA95AD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8E7F56-1C10-4842-ABFD-A0F52A376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43DE71-FFC8-4600-9399-1340E5682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8107D9-0099-449F-963D-26A355BC0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3207FB-7B79-451D-829C-9EDC8D45C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5F1DE3-BA3A-462A-BD38-7E4EC8CF3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6E2195-C00D-4816-B8D5-A77AC3239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BF67F3-CF84-407A-AF3A-0A94C27A5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E4B801-BD78-4842-886A-70FBDF083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3C88E-8609-4542-BC2D-544817EE74D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1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502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E563D-78E0-4AD6-A464-0C0DE7F1E87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1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62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D0EB9-ED1D-41C5-8668-317720472449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625" name="Freeform 3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4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B9666-DDED-4083-BB2E-188AD553C166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8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669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670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5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 type="dt" idx="37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 type="ftr" idx="38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 type="sldNum" idx="39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4CC59-4BED-409C-BACD-AE313D2231A2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8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719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 type="dt" idx="40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 type="ftr" idx="41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 type="sldNum" idx="4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9C2DC-7641-43E3-A311-C2649E9D937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42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79C11-49F3-4913-A382-9635F35D92FB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16EA4-B2AE-44AA-B8D6-A70711B3CA6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59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76A1F-4139-4A84-8A35-BF3FD85910D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219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97AC1-E32F-4191-B310-74DF2F22A341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282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02625-3677-4AB3-8119-3B15CCC3BA51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dt" idx="19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ldNum" idx="20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A1C31-F6B0-4A04-A368-E00E827F9240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7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28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329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4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ftr" idx="21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5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376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4" name="PlaceHolder 1"/>
          <p:cNvSpPr>
            <a:spLocks noGrp="1"/>
          </p:cNvSpPr>
          <p:nvPr>
            <p:ph type="dt" idx="22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ftr" idx="23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 type="sldNum" idx="24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A7A95-2A12-46FA-91D1-571AFA967B2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5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426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dt" idx="25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ftr" idx="26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 type="sldNum" idx="27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83804-7297-4EAA-8263-134172BA3336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gif"/><Relationship Id="rId3" Type="http://schemas.openxmlformats.org/officeDocument/2006/relationships/image" Target="../media/image9.gif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0" y="691920"/>
            <a:ext cx="461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одительское собрание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851280" y="2637000"/>
            <a:ext cx="529272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8000"/>
          </a:bodyPr>
          <a:p>
            <a:pPr marL="1987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Тема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87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«Трудности адапта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87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ятиклассников в школ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8" name="Picture 10" descr="DSC07549"/>
          <p:cNvPicPr/>
          <p:nvPr/>
        </p:nvPicPr>
        <p:blipFill>
          <a:blip r:embed="rId1"/>
          <a:stretch/>
        </p:blipFill>
        <p:spPr>
          <a:xfrm>
            <a:off x="4859280" y="0"/>
            <a:ext cx="3635280" cy="2727360"/>
          </a:xfrm>
          <a:prstGeom prst="rect">
            <a:avLst/>
          </a:prstGeom>
          <a:ln w="0">
            <a:noFill/>
          </a:ln>
        </p:spPr>
      </p:pic>
      <p:pic>
        <p:nvPicPr>
          <p:cNvPr id="769" name="Picture 11" descr="DSC07543"/>
          <p:cNvPicPr/>
          <p:nvPr/>
        </p:nvPicPr>
        <p:blipFill>
          <a:blip r:embed="rId2"/>
          <a:stretch/>
        </p:blipFill>
        <p:spPr>
          <a:xfrm>
            <a:off x="468360" y="2276640"/>
            <a:ext cx="3492360" cy="2619360"/>
          </a:xfrm>
          <a:prstGeom prst="rect">
            <a:avLst/>
          </a:prstGeom>
          <a:ln w="0">
            <a:noFill/>
          </a:ln>
        </p:spPr>
      </p:pic>
      <p:pic>
        <p:nvPicPr>
          <p:cNvPr id="770" name="Picture 12" descr="DSC07538"/>
          <p:cNvPicPr/>
          <p:nvPr/>
        </p:nvPicPr>
        <p:blipFill>
          <a:blip r:embed="rId3"/>
          <a:stretch/>
        </p:blipFill>
        <p:spPr>
          <a:xfrm>
            <a:off x="4932360" y="4371840"/>
            <a:ext cx="3313080" cy="2486160"/>
          </a:xfrm>
          <a:prstGeom prst="rect">
            <a:avLst/>
          </a:prstGeom>
          <a:ln w="0">
            <a:noFill/>
          </a:ln>
        </p:spPr>
      </p:pic>
      <p:sp>
        <p:nvSpPr>
          <p:cNvPr id="771" name="Rectangle 13"/>
          <p:cNvSpPr/>
          <p:nvPr/>
        </p:nvSpPr>
        <p:spPr>
          <a:xfrm>
            <a:off x="0" y="5560920"/>
            <a:ext cx="445788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ahoma"/>
              </a:rPr>
              <a:t>Сравнительная таблиц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798" name=""/>
          <p:cNvGraphicFramePr/>
          <p:nvPr/>
        </p:nvGraphicFramePr>
        <p:xfrm>
          <a:off x="571680" y="1357200"/>
          <a:ext cx="6337080" cy="5025960"/>
        </p:xfrm>
        <a:graphic>
          <a:graphicData uri="http://schemas.openxmlformats.org/drawingml/2006/table">
            <a:tbl>
              <a:tblPr/>
              <a:tblGrid>
                <a:gridCol w="618840"/>
                <a:gridCol w="2622600"/>
                <a:gridCol w="3095640"/>
              </a:tblGrid>
              <a:tr h="890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4 клас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5 клас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 – 9 предмет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 – 14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едмет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 – 22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час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 – 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час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– 3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учител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 – 10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учителе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-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час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-2,5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час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99" name="Picture 42" descr="SCALES"/>
          <p:cNvPicPr/>
          <p:nvPr/>
        </p:nvPicPr>
        <p:blipFill>
          <a:blip r:embed="rId1"/>
          <a:stretch/>
        </p:blipFill>
        <p:spPr>
          <a:xfrm>
            <a:off x="6588000" y="1268280"/>
            <a:ext cx="2314800" cy="16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ahoma"/>
              </a:rPr>
              <a:t>Возникающие проблемы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01" name="Прямоугольник 2"/>
          <p:cNvSpPr/>
          <p:nvPr/>
        </p:nvSpPr>
        <p:spPr>
          <a:xfrm>
            <a:off x="214200" y="785880"/>
            <a:ext cx="8929800" cy="60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очень много разных учителей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-непривычное расписание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-много новых кабинетов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-новые дети в классе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-новый классный руководитель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-проблемы со старшеклассниками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-возросший темп работы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-возросший объем работ в классе и д/з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-рассогласованность, даже противоречивость требований отдельных педагогов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-ослабление или отсутствие контроля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-на каждом уроке приспосабливаться к своеобразному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темпу, особенностям речи учителей; 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-в работе с текстами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-низкий уровень развития речи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-слабое развитие навыков самостоятельной работы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-своеобразие подросткового возраста.  -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2" name="Picture 8" descr="PE02288_"/>
          <p:cNvPicPr/>
          <p:nvPr/>
        </p:nvPicPr>
        <p:blipFill>
          <a:blip r:embed="rId1"/>
          <a:stretch/>
        </p:blipFill>
        <p:spPr>
          <a:xfrm>
            <a:off x="6429240" y="1000080"/>
            <a:ext cx="2286000" cy="26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изнаки успешной адаптаци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довлетворенность ребенка процессом обуч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бенок легко справляется с программо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епень самостоятельности ребенка при выполнении им учебных заданий, готовность прибегнуть к помощи взрослого лишь ПОСЛЕ попыток выполнить задание самом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довлетворенность межличностными отношениями – с одноклассниками и учител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5" name="Picture 4" descr="slide0089_image182"/>
          <p:cNvPicPr/>
          <p:nvPr/>
        </p:nvPicPr>
        <p:blipFill>
          <a:blip r:embed="rId1"/>
          <a:stretch/>
        </p:blipFill>
        <p:spPr>
          <a:xfrm>
            <a:off x="6804000" y="2997360"/>
            <a:ext cx="2087640" cy="36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9144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eec94"/>
                </a:solidFill>
                <a:latin typeface="Times New Roman"/>
              </a:rPr>
              <a:t>Признаки дезадаптации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сталый, утомлённый внешний вид ребёнк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ежелание ребёнка делиться своими впечатлениями о проведённом дн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тремление отвлечь взрослого от школьных событий, переключить внимание на другие тем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ежелания выполнять домашние задани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егативные характеристики в адрес школы, учителей, однокласснико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Жалобы на те или иные события, связанные со школой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еспокойный сон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рудности утреннего пробуждения, вялость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стоянные жалобы на плохое самочувстви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08" name="Picture 4" descr="people1840"/>
          <p:cNvPicPr/>
          <p:nvPr/>
        </p:nvPicPr>
        <p:blipFill>
          <a:blip r:embed="rId1"/>
          <a:stretch/>
        </p:blipFill>
        <p:spPr>
          <a:xfrm>
            <a:off x="0" y="189000"/>
            <a:ext cx="1547640" cy="12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Возможные реакции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10" name=""/>
          <p:cNvSpPr txBox="1"/>
          <p:nvPr/>
        </p:nvSpPr>
        <p:spPr>
          <a:xfrm>
            <a:off x="142560" y="1142640"/>
            <a:ext cx="90010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Times New Roman"/>
              </a:rPr>
              <a:t>Интеллектуальная</a:t>
            </a: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 - нарушение интеллектуальной деятельности. Отставание в развитии от сверстников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Times New Roman"/>
              </a:rPr>
              <a:t>Поведенческая</a:t>
            </a: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 - несоответствие поведения ребёнка правовым и моральным нормам (агрессивность, асоциальное поведение)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Times New Roman"/>
              </a:rPr>
              <a:t>Коммуникативная </a:t>
            </a: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- затруднения в общении со сверстниками и взрослыми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Times New Roman"/>
              </a:rPr>
              <a:t>Соматическая</a:t>
            </a: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 - отклонения в здоровье ребёнка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Times New Roman"/>
              </a:rPr>
              <a:t>Эмоциональная</a:t>
            </a: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 - эмоциональные трудности, тревоги по поводу переживания проблем в школе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68360" y="119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ffffcc"/>
                </a:solidFill>
                <a:latin typeface="Tahoma"/>
              </a:rPr>
              <a:t>Тест «Как вы думаете, все ли благополучно у вашего ребенка в школе?»</a:t>
            </a:r>
            <a:endParaRPr b="0" lang="en-US" sz="4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899640" y="3141360"/>
            <a:ext cx="8007480" cy="276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Если согласны с утверждением, то поставьте “+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Если утверждение к вам не относится, то поставьте “-”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13" name="Picture 4" descr="545"/>
          <p:cNvPicPr/>
          <p:nvPr/>
        </p:nvPicPr>
        <p:blipFill>
          <a:blip r:embed="rId1"/>
          <a:stretch/>
        </p:blipFill>
        <p:spPr>
          <a:xfrm>
            <a:off x="7236000" y="4940280"/>
            <a:ext cx="1641240" cy="1641600"/>
          </a:xfrm>
          <a:prstGeom prst="rect">
            <a:avLst/>
          </a:prstGeom>
          <a:ln w="0">
            <a:noFill/>
          </a:ln>
        </p:spPr>
      </p:pic>
      <p:pic>
        <p:nvPicPr>
          <p:cNvPr id="814" name="Picture 5" descr="deti[1]"/>
          <p:cNvPicPr/>
          <p:nvPr/>
        </p:nvPicPr>
        <p:blipFill>
          <a:blip r:embed="rId2"/>
          <a:stretch/>
        </p:blipFill>
        <p:spPr>
          <a:xfrm>
            <a:off x="179280" y="5276880"/>
            <a:ext cx="2484720" cy="15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/>
          </p:nvPr>
        </p:nvSpPr>
        <p:spPr>
          <a:xfrm>
            <a:off x="395280" y="26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Моему ребенку нравится учиться в школе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Я думаю, что мой ребенок охотно перешел бы в другую школу, класс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Если бы был выбор, он не хотел бы учиться дом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К сожалению, мой ребенок никогда не рассказывает мне и родственникам о школе с радостью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В классе у него много друзей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Ему мало нравятся учителя в школе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Он активно участвует во внеклассных мероприятиях, вечерах, походах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Мой ребенок не расстраивается, когда отменяют уроки (по болезни учителя или др. причине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Мой ребенок редко делает уроки без напоминания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Другие интересы и хобби не мешают его учебе в школе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16" name="Picture 3" descr="slide0093_image192"/>
          <p:cNvPicPr/>
          <p:nvPr/>
        </p:nvPicPr>
        <p:blipFill>
          <a:blip r:embed="rId1"/>
          <a:stretch/>
        </p:blipFill>
        <p:spPr>
          <a:xfrm>
            <a:off x="7262640" y="2133720"/>
            <a:ext cx="1881360" cy="24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358560" y="475920"/>
            <a:ext cx="878508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ffcc"/>
                </a:solidFill>
                <a:latin typeface="Tahoma"/>
              </a:rPr>
              <a:t>Подсчитайте количество совпадений:</a:t>
            </a:r>
            <a:br>
              <a:rPr sz="2900"/>
            </a:b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1 “+”, 2 “+”, 3 “-”, 4 “-”, 5 “-”, 6 “-”, 7“-”, 8 “+”, 9 “-”, 10 “+”.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0" y="1773000"/>
            <a:ext cx="91440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Tahoma"/>
              </a:rPr>
              <a:t>8-10 баллов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- У вашего ребенка хорошее отношение к школе и скорее всего у него в ближайшее время не возникнет проблем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Tahoma"/>
              </a:rPr>
              <a:t>6-7 баллов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- В школе дела обстоят неплохо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Tahoma"/>
              </a:rPr>
              <a:t>4-5 баллов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- Будьте внимательны! В школьной жизни что-то неблагополучно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Tahoma"/>
              </a:rPr>
              <a:t>1-3 балла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- Ребенку крайне необходима ваша помощь. У него негативное отношение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 школе, связанное с конфликтами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нижением успеваемост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19" name="Picture 4" descr="1267806325_roditely[1]"/>
          <p:cNvPicPr/>
          <p:nvPr/>
        </p:nvPicPr>
        <p:blipFill>
          <a:blip r:embed="rId1"/>
          <a:stretch/>
        </p:blipFill>
        <p:spPr>
          <a:xfrm>
            <a:off x="7740720" y="5162400"/>
            <a:ext cx="1241280" cy="16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8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8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8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8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8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8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Результаты диагностики уровня школьной мотивации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821" name="Object 4"/>
          <p:cNvGraphicFramePr/>
          <p:nvPr/>
        </p:nvGraphicFramePr>
        <p:xfrm>
          <a:off x="2397240" y="1828800"/>
          <a:ext cx="4626000" cy="477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97240" y="1828800"/>
                    <a:ext cx="4626000" cy="477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зультаты, полученные по опроснику «Чувства в школе»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4" name="Object 4"/>
          <p:cNvGraphicFramePr/>
          <p:nvPr/>
        </p:nvGraphicFramePr>
        <p:xfrm>
          <a:off x="0" y="1341360"/>
          <a:ext cx="9144000" cy="551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41360"/>
                    <a:ext cx="9144000" cy="551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про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 txBox="1"/>
          <p:nvPr/>
        </p:nvSpPr>
        <p:spPr>
          <a:xfrm>
            <a:off x="357120" y="1143000"/>
            <a:ext cx="842976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ступление школьного педагога-психоло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тоги мониторинга достижений учащих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ещение уро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кущие итоги успеваемости и посещаем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ртфолио учащих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тевой гор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Результаты опросника «Отношение к учебным предметам»</a:t>
            </a: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5 «Г» класса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827" name="Object 3"/>
          <p:cNvGraphicFramePr/>
          <p:nvPr/>
        </p:nvGraphicFramePr>
        <p:xfrm>
          <a:off x="428760" y="1598760"/>
          <a:ext cx="8072280" cy="465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1598760"/>
                    <a:ext cx="8072280" cy="465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Результаты по определению уровня тревожности пятиклассников в период адаптации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830" name="Object 4"/>
          <p:cNvGraphicFramePr/>
          <p:nvPr/>
        </p:nvGraphicFramePr>
        <p:xfrm>
          <a:off x="181080" y="1930320"/>
          <a:ext cx="8780400" cy="4781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1080" y="1930320"/>
                    <a:ext cx="878040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Результаты психодиагностики адаптации учащихся 5 классов к новым условиям обучения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833" name="Object 4"/>
          <p:cNvGraphicFramePr/>
          <p:nvPr/>
        </p:nvGraphicFramePr>
        <p:xfrm>
          <a:off x="668160" y="1600200"/>
          <a:ext cx="7807680" cy="449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8160" y="1600200"/>
                    <a:ext cx="780768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Чем можно помочь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6" name=""/>
          <p:cNvSpPr txBox="1"/>
          <p:nvPr/>
        </p:nvSpPr>
        <p:spPr>
          <a:xfrm>
            <a:off x="214200" y="1214280"/>
            <a:ext cx="8786880" cy="542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Создавайте условия для развития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самостоятельности в поведении ребенка. У пятиклассника непременно должны быть домашние обязанности, за выполнение которых он несет ответственность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Несмотря на кажущуюся взрослость,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пятиклассник нуждается в ненавязчивом контроле со стороны родителей, поскольку не всегда может сам сориентироваться в новых требованиях школьной жизн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Для пятиклассника учитель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– уже не такой непререкаемый авторитет, как раньше, в адрес учителей могут звучать критические замечания. Важно обсудить с ребенком причины его недовольства, поддерживая при этом авторитет учителя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ятикласснику уже не так интересна учеб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сама по себе, многим в школе интересно бывать потому, что там много друзей. Важно, чтобы у ребенка была возможность обсудить свои школьные дела, учебу и отношения с друзьями в семье, с родителям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13320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b7"/>
                </a:solidFill>
                <a:latin typeface="Arial Black"/>
              </a:rPr>
              <a:t>Рекомендации родителям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1. Расспрашивайте Вашего ребенка о его школьных дела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2. Регулярно беседуйте с учителями вашего ребенк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3. Не связывайте оценки за успеваемость ребенка со своей системой наказаний и поощрен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4. Помогайте ребенку выполнять домашние задания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5. Помогите ребенку почувствовать интерес к тому, что преподают в школе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6. Особенные усилия прилагайте для того, чтобы поддерживать спокойную и стабильную атмосферу в доме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9" name="Picture 4" descr="PE02288_"/>
          <p:cNvPicPr/>
          <p:nvPr/>
        </p:nvPicPr>
        <p:blipFill>
          <a:blip r:embed="rId1"/>
          <a:stretch/>
        </p:blipFill>
        <p:spPr>
          <a:xfrm>
            <a:off x="7392960" y="4797360"/>
            <a:ext cx="1751040" cy="2060640"/>
          </a:xfrm>
          <a:prstGeom prst="rect">
            <a:avLst/>
          </a:prstGeom>
          <a:ln w="0">
            <a:noFill/>
          </a:ln>
        </p:spPr>
      </p:pic>
      <p:pic>
        <p:nvPicPr>
          <p:cNvPr id="840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1724040" cy="14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b7"/>
                </a:solidFill>
                <a:latin typeface="Century Gothic"/>
              </a:rPr>
              <a:t>          </a:t>
            </a:r>
            <a:r>
              <a:rPr b="1" i="1" lang="ru-RU" sz="3200" spc="-1" strike="noStrike">
                <a:solidFill>
                  <a:srgbClr val="ffffb7"/>
                </a:solidFill>
                <a:latin typeface="Century Gothic"/>
              </a:rPr>
              <a:t>Слова, которые поддерживают и которые </a:t>
            </a:r>
            <a:br>
              <a:rPr sz="3200"/>
            </a:br>
            <a:r>
              <a:rPr b="1" i="1" lang="ru-RU" sz="3200" spc="-1" strike="noStrike">
                <a:solidFill>
                  <a:srgbClr val="ffffb7"/>
                </a:solidFill>
                <a:latin typeface="Century Gothic"/>
              </a:rPr>
              <a:t>разрушают его веру в себя: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2" name=""/>
          <p:cNvSpPr txBox="1"/>
          <p:nvPr/>
        </p:nvSpPr>
        <p:spPr>
          <a:xfrm>
            <a:off x="213840" y="1904760"/>
            <a:ext cx="455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Слова поддержк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ная тебя, я уверен, что вы все сделали, хорош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ы делаешь это очень хорош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 тебя есть некоторые соображения по этому поводу? Готов ли ты начать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Это серьезный вызов. Но я уверен. Что ты готов к нем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 txBox="1"/>
          <p:nvPr/>
        </p:nvSpPr>
        <p:spPr>
          <a:xfrm>
            <a:off x="4857480" y="1904760"/>
            <a:ext cx="40719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Слова разочарования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Зная тебя и твои способности. Я думаю. Ты смог бы сделать это гораздо лучше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Эта идея никогда не сможет быть реализована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Это для тебя слишком трудно, поэтому я сам это сделаю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4" name="Picture 5" descr="super027"/>
          <p:cNvPicPr/>
          <p:nvPr/>
        </p:nvPicPr>
        <p:blipFill>
          <a:blip r:embed="rId1"/>
          <a:stretch/>
        </p:blipFill>
        <p:spPr>
          <a:xfrm>
            <a:off x="7143840" y="214200"/>
            <a:ext cx="1785960" cy="14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5" name="Picture 2" descr="file"/>
          <p:cNvPicPr/>
          <p:nvPr/>
        </p:nvPicPr>
        <p:blipFill>
          <a:blip r:embed="rId1"/>
          <a:stretch/>
        </p:blipFill>
        <p:spPr>
          <a:xfrm>
            <a:off x="0" y="-387360"/>
            <a:ext cx="9144000" cy="7581960"/>
          </a:xfrm>
          <a:prstGeom prst="rect">
            <a:avLst/>
          </a:prstGeom>
          <a:ln w="0">
            <a:noFill/>
          </a:ln>
        </p:spPr>
      </p:pic>
      <p:sp>
        <p:nvSpPr>
          <p:cNvPr id="846" name="Rectangle 3"/>
          <p:cNvSpPr/>
          <p:nvPr/>
        </p:nvSpPr>
        <p:spPr>
          <a:xfrm>
            <a:off x="611280" y="486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“</a:t>
            </a: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Все в ваших руках” Желаем удачи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Итоги мониторинг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848" name="Содержимое 3" descr=""/>
          <p:cNvPicPr/>
          <p:nvPr/>
        </p:nvPicPr>
        <p:blipFill>
          <a:blip r:embed="rId1"/>
          <a:stretch/>
        </p:blipFill>
        <p:spPr>
          <a:xfrm>
            <a:off x="0" y="1214280"/>
            <a:ext cx="9144000" cy="56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850" name="Содержимое 3" descr=""/>
          <p:cNvPicPr/>
          <p:nvPr/>
        </p:nvPicPr>
        <p:blipFill>
          <a:blip r:embed="rId1"/>
          <a:stretch/>
        </p:blipFill>
        <p:spPr>
          <a:xfrm>
            <a:off x="0" y="142920"/>
            <a:ext cx="9144000" cy="67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82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2. Организационный порядок Портфолио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52" name=""/>
          <p:cNvSpPr txBox="1"/>
          <p:nvPr/>
        </p:nvSpPr>
        <p:spPr>
          <a:xfrm>
            <a:off x="0" y="1500120"/>
            <a:ext cx="9144000" cy="459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1. Портфолио является неотъемлемой составляющей образовательной системы Учрежд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2. Ведение Портфолио – обязанность обучающихся, закрепляемая основной образовательной программо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3. Учащиеся начальных классов заполняют Портфолио под руководством педагога (классного руководителя) согласно единым подходам, отраженным в настоящем Положен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4. Учащиеся 5–11-х классов заполняют Портфолио самостоятельно, согласно единым подходам, отраженным в настоящем Положен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5. Портфолио оформляется на срок, равный сроку реализации ООП каждого из уровней общего образования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5" name="Picture 2" descr="C:\Users\таня\Desktop\2746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Прямоугольник 3"/>
          <p:cNvSpPr/>
          <p:nvPr/>
        </p:nvSpPr>
        <p:spPr>
          <a:xfrm>
            <a:off x="214200" y="214200"/>
            <a:ext cx="864396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6. Классный руководитель  консультирует по мере необходимости учащихся в части оформления Портфолио и его содержимого, а также осуществляет контроль пополнения учащимися портфоли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7. Классный руководитель оказывает возможную посредническую помощь при возникновении у учащегося затруднений в части получения тех или иных подтверждений его индивидуальных образовательных достиж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8. Классный руководитель осуществляет необходимое взаимодействие с родителями по вопросам Портфолио: ежегодно, в сентябре проводит тематическое родительское собрание; разрабатывает и реализует график индивидуальных консультаций для родителей; систематизирует и учитывает в своей работе индивидуальные возможности и потребности родителей (законных представителей) обучающихся, способствующие оптимизации технологии Портфоли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9. Ежегодно, в сроки, определяемые заместителем руководителя по УВР, классный руководитель заполняет отчетную форму согласно приложению 2 к Положению. Классный руководитель  несет ответственность за достоверность информации, представленной в указанном отчетном докумен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СТРУКТУРА  ПОРТФОЛИО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55" name=""/>
          <p:cNvSpPr txBox="1"/>
          <p:nvPr/>
        </p:nvSpPr>
        <p:spPr>
          <a:xfrm>
            <a:off x="285840" y="1571400"/>
            <a:ext cx="85723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.1. Структура Портфолио обязательна для соблюдения всеми обучающимис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.2. Структура Портфолио представлена следующими блокам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"Личная информация"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"Олимпиады"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"Проекты и исследования"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"Творчество"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"Спорт"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"Коллективно творческие дела"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"Комплексная накопительная оценка достижений ученика" (приложение 3 к Положению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686800" cy="197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b7"/>
                </a:solidFill>
                <a:latin typeface="Arial Black"/>
              </a:rPr>
              <a:t>4. Порядок учета индивидуальных образовательных достижений обучающихся посредством технологии Портфолио.</a:t>
            </a:r>
            <a:br>
              <a:rPr sz="2800"/>
            </a:b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57" name=""/>
          <p:cNvSpPr txBox="1"/>
          <p:nvPr/>
        </p:nvSpPr>
        <p:spPr>
          <a:xfrm>
            <a:off x="285840" y="1714680"/>
            <a:ext cx="8858160" cy="438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4.1. Учет индивидуальных образовательных достижений обучающихся посредством технологии Портфолио осуществляется с использованием балльно-рейтинговой методики при которой каждая из единиц портфолио имеет свой балл и соответствующий рейтинг (приложение 1) и фиксируется учащимися в разделе "Комплексная накопительная оценка достижений ученика"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4.2. По результатам анализа Портфолио проводится годовой рейтинг, выявляются обучающиеся, набравшие наибольшее количество баллов в классе, параллели, школе. Победители поощряются. Соответствующая информация размещается на сайте  Учрежд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8" name="Picture 2" descr="Картинка 20 из 64000"/>
          <p:cNvPicPr/>
          <p:nvPr/>
        </p:nvPicPr>
        <p:blipFill>
          <a:blip r:embed="rId1"/>
          <a:stretch/>
        </p:blipFill>
        <p:spPr>
          <a:xfrm>
            <a:off x="-28584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9" name="Rectangle 3"/>
          <p:cNvSpPr/>
          <p:nvPr/>
        </p:nvSpPr>
        <p:spPr>
          <a:xfrm>
            <a:off x="0" y="1268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006600"/>
                </a:solidFill>
                <a:latin typeface="Arial Black"/>
              </a:rPr>
              <a:t>Благодарю </a:t>
            </a:r>
            <a:br>
              <a:rPr sz="6000"/>
            </a:br>
            <a:r>
              <a:rPr b="0" i="1" lang="ru-RU" sz="6000" spc="-1" strike="noStrike">
                <a:solidFill>
                  <a:srgbClr val="006600"/>
                </a:solidFill>
                <a:latin typeface="Arial Black"/>
              </a:rPr>
              <a:t>всех за внимание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6" name="Picture 2" descr="Картинка 21 из 64000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  <p:sp>
        <p:nvSpPr>
          <p:cNvPr id="777" name="Rectangle 3"/>
          <p:cNvSpPr/>
          <p:nvPr/>
        </p:nvSpPr>
        <p:spPr>
          <a:xfrm>
            <a:off x="325800" y="1054440"/>
            <a:ext cx="74412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расный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– радость, восторг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т того, что ваш ребёнок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учится в данном классе, школ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Зелёный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– спокойствие з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будущее моего ребён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иний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– тревога, озабоченность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астерянност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Чёрный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– страх, ожидание беды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беспокойство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0" y="534960"/>
            <a:ext cx="8229600" cy="632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4800" spc="-1" strike="noStrike">
                <a:solidFill>
                  <a:srgbClr val="000066"/>
                </a:solidFill>
                <a:latin typeface="Arial"/>
              </a:rPr>
              <a:t>Пятый класс</a:t>
            </a:r>
            <a:br>
              <a:rPr sz="4800"/>
            </a:br>
            <a:br>
              <a:rPr sz="4000"/>
            </a:br>
            <a:r>
              <a:rPr b="0" lang="ru-RU" sz="4000" spc="-1" strike="noStrike">
                <a:solidFill>
                  <a:srgbClr val="000066"/>
                </a:solidFill>
                <a:latin typeface="Arial"/>
              </a:rPr>
              <a:t> – это переход не только на новую ступень, но и в новый период развития - </a:t>
            </a:r>
            <a:r>
              <a:rPr b="1" lang="ru-RU" sz="4800" spc="-1" strike="noStrike">
                <a:solidFill>
                  <a:srgbClr val="000066"/>
                </a:solidFill>
                <a:latin typeface="Arial"/>
              </a:rPr>
              <a:t>отрочество.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9" name="Picture 3" descr="МАЛЬКИК"/>
          <p:cNvPicPr/>
          <p:nvPr/>
        </p:nvPicPr>
        <p:blipFill>
          <a:blip r:embed="rId1"/>
          <a:stretch/>
        </p:blipFill>
        <p:spPr>
          <a:xfrm>
            <a:off x="468360" y="4581360"/>
            <a:ext cx="1514520" cy="1857600"/>
          </a:xfrm>
          <a:prstGeom prst="rect">
            <a:avLst/>
          </a:prstGeom>
          <a:ln w="0">
            <a:noFill/>
          </a:ln>
        </p:spPr>
      </p:pic>
      <p:pic>
        <p:nvPicPr>
          <p:cNvPr id="780" name="Picture 4" descr=""/>
          <p:cNvPicPr/>
          <p:nvPr/>
        </p:nvPicPr>
        <p:blipFill>
          <a:blip r:embed="rId2"/>
          <a:stretch/>
        </p:blipFill>
        <p:spPr>
          <a:xfrm>
            <a:off x="7020000" y="260280"/>
            <a:ext cx="1800000" cy="1979640"/>
          </a:xfrm>
          <a:prstGeom prst="rect">
            <a:avLst/>
          </a:prstGeom>
          <a:ln w="0">
            <a:noFill/>
          </a:ln>
        </p:spPr>
      </p:pic>
      <p:pic>
        <p:nvPicPr>
          <p:cNvPr id="781" name="Picture 5" descr="slide0055_image073"/>
          <p:cNvPicPr/>
          <p:nvPr/>
        </p:nvPicPr>
        <p:blipFill>
          <a:blip r:embed="rId3"/>
          <a:stretch/>
        </p:blipFill>
        <p:spPr>
          <a:xfrm>
            <a:off x="6300720" y="4076640"/>
            <a:ext cx="2592360" cy="2551320"/>
          </a:xfrm>
          <a:prstGeom prst="rect">
            <a:avLst/>
          </a:prstGeom>
          <a:ln w="0">
            <a:noFill/>
          </a:ln>
        </p:spPr>
      </p:pic>
      <p:pic>
        <p:nvPicPr>
          <p:cNvPr id="782" name="Picture 6" descr="people3026"/>
          <p:cNvPicPr/>
          <p:nvPr/>
        </p:nvPicPr>
        <p:blipFill>
          <a:blip r:embed="rId4"/>
          <a:stretch/>
        </p:blipFill>
        <p:spPr>
          <a:xfrm>
            <a:off x="324000" y="260280"/>
            <a:ext cx="2106360" cy="216072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4550"/>
                            </p:stCondLst>
                            <p:childTnLst>
                              <p:par>
                                <p:cTn id="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77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" dur="770" fill="hold"/>
                                        <p:tgtEl>
                                          <p:spTgt spid="78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" dur="77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" dur="77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озрастные особенности младшего подростк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250920" y="184428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требность в достойном положении в коллективе сверстников, в семье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ремление обзавестись верным другом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ремление избежать изоляции, как в классе, так и в малом коллективе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вышенный интерес к вопросу о “соотношении сил” в классе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ремление отмежеваться от всего подчеркнуто детского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сутствие авторитета возраст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вращение к необоснованным запретам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еоценка своих возможностей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сутствие адаптации к неудачам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ярко выраженная эмоциональ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5" name="Picture 5" descr="gallery_2_388_4725"/>
          <p:cNvPicPr/>
          <p:nvPr/>
        </p:nvPicPr>
        <p:blipFill>
          <a:blip r:embed="rId1"/>
          <a:stretch/>
        </p:blipFill>
        <p:spPr>
          <a:xfrm>
            <a:off x="0" y="0"/>
            <a:ext cx="1608120" cy="180036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6" descr="bratz002"/>
          <p:cNvPicPr/>
          <p:nvPr/>
        </p:nvPicPr>
        <p:blipFill>
          <a:blip r:embed="rId2"/>
          <a:stretch/>
        </p:blipFill>
        <p:spPr>
          <a:xfrm>
            <a:off x="7524720" y="4508640"/>
            <a:ext cx="117792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611280" y="1268280"/>
            <a:ext cx="7772400" cy="460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66"/>
                </a:solidFill>
                <a:latin typeface="Arial"/>
              </a:rPr>
              <a:t>За то, как наши дети войдут в этот возраст, будут ли успешны в учебе и жизни в целом, лежит ответственность на нас, взрослых – педагогах и родителях.</a:t>
            </a: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788" name="Picture 3" descr="smileface3"/>
          <p:cNvPicPr/>
          <p:nvPr/>
        </p:nvPicPr>
        <p:blipFill>
          <a:blip r:embed="rId1"/>
          <a:stretch/>
        </p:blipFill>
        <p:spPr>
          <a:xfrm>
            <a:off x="395280" y="260280"/>
            <a:ext cx="1511280" cy="14731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4" descr="SADFACE3"/>
          <p:cNvPicPr/>
          <p:nvPr/>
        </p:nvPicPr>
        <p:blipFill>
          <a:blip r:embed="rId2"/>
          <a:stretch/>
        </p:blipFill>
        <p:spPr>
          <a:xfrm>
            <a:off x="7236000" y="5013360"/>
            <a:ext cx="1439640" cy="144000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bbd71"/>
                </a:solidFill>
                <a:latin typeface="Arial"/>
              </a:rPr>
              <a:t>Какими должны быть пятиклассники?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91" name=""/>
          <p:cNvSpPr txBox="1"/>
          <p:nvPr/>
        </p:nvSpPr>
        <p:spPr>
          <a:xfrm>
            <a:off x="457200" y="1599840"/>
            <a:ext cx="83296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69645"/>
                </a:solidFill>
                <a:latin typeface="Tahoma"/>
              </a:rPr>
              <a:t>Пятиклассники должны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уметь общаться с одноклассниками, иметь свое мнение и формировать его с учетом мнения других, уметь поддерживать отношения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уметь правильно распределять и планировать свое время, проявлять самостоятельность в своих делах и в случае необходимости обращаться за помощью взрослых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тараться учиться, стремиться овладевать знаниями, уметь заниматься самостоятельно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уметь дружить, иметь постоянного друга, общаться с мальчиками и девочками, самостоятельно разрешать возникающие конфликты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меть постоянные обязанности дома, выполнять их без напоминания, помогать родителям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уметь общаться с продавцом, врачом и т. д.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уметь предвидеть последствия своих действий, делать безопасный, правильный выбор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2" name=""/>
          <p:cNvSpPr txBox="1"/>
          <p:nvPr/>
        </p:nvSpPr>
        <p:spPr>
          <a:xfrm rot="10800000">
            <a:off x="8686800" y="3788640"/>
            <a:ext cx="46080" cy="192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3" name=""/>
          <p:cNvSpPr txBox="1"/>
          <p:nvPr/>
        </p:nvSpPr>
        <p:spPr>
          <a:xfrm>
            <a:off x="4648320" y="394128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94" name="Picture 4" descr="J0233966"/>
          <p:cNvPicPr/>
          <p:nvPr/>
        </p:nvPicPr>
        <p:blipFill>
          <a:blip r:embed="rId1"/>
          <a:stretch/>
        </p:blipFill>
        <p:spPr>
          <a:xfrm>
            <a:off x="0" y="115920"/>
            <a:ext cx="2643120" cy="19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Основные трудности, с которыми сталкиваются пятиклассники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796" name="Picture 4" descr="DSC07535"/>
          <p:cNvPicPr/>
          <p:nvPr/>
        </p:nvPicPr>
        <p:blipFill>
          <a:blip r:embed="rId1"/>
          <a:stretch/>
        </p:blipFill>
        <p:spPr>
          <a:xfrm>
            <a:off x="1116000" y="1511280"/>
            <a:ext cx="712800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5T08:30:21Z</dcterms:created>
  <dc:creator>Админ</dc:creator>
  <dc:description/>
  <dc:language>en-US</dc:language>
  <cp:lastModifiedBy>206</cp:lastModifiedBy>
  <dcterms:modified xsi:type="dcterms:W3CDTF">2016-12-08T11:32:46Z</dcterms:modified>
  <cp:revision>22</cp:revision>
  <dc:subject/>
  <dc:title>Слайд 1</dc:title>
</cp:coreProperties>
</file>