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6.wmf" ContentType="image/x-wmf"/>
  <Override PartName="/ppt/media/image23.gif" ContentType="image/gif"/>
  <Override PartName="/ppt/media/image5.jpeg" ContentType="image/jpeg"/>
  <Override PartName="/ppt/media/image32.jpeg" ContentType="image/jpeg"/>
  <Override PartName="/ppt/media/image11.gif" ContentType="image/gif"/>
  <Override PartName="/ppt/media/image7.png" ContentType="image/png"/>
  <Override PartName="/ppt/media/image6.jpeg" ContentType="image/jpeg"/>
  <Override PartName="/ppt/media/image30.wmf" ContentType="image/x-wmf"/>
  <Override PartName="/ppt/media/image28.wmf" ContentType="image/x-wmf"/>
  <Override PartName="/ppt/media/image3.jpeg" ContentType="image/jpeg"/>
  <Override PartName="/ppt/media/image12.gif" ContentType="image/gif"/>
  <Override PartName="/ppt/media/image33.png" ContentType="image/png"/>
  <Override PartName="/ppt/media/image10.png" ContentType="image/png"/>
  <Override PartName="/ppt/media/image35.jpeg" ContentType="image/jpeg"/>
  <Override PartName="/ppt/media/image34.png" ContentType="image/png"/>
  <Override PartName="/ppt/media/image17.wmf" ContentType="image/x-wmf"/>
  <Override PartName="/ppt/media/image13.gif" ContentType="image/gif"/>
  <Override PartName="/ppt/media/image16.jpeg" ContentType="image/jpeg"/>
  <Override PartName="/ppt/media/image9.gif" ContentType="image/gif"/>
  <Override PartName="/ppt/media/image8.gif" ContentType="image/gif"/>
  <Override PartName="/ppt/media/image4.jpeg" ContentType="image/jpeg"/>
  <Override PartName="/ppt/media/image22.gif" ContentType="image/gif"/>
  <Override PartName="/ppt/media/image25.wmf" ContentType="image/x-wmf"/>
  <Override PartName="/ppt/media/image15.wmf" ContentType="image/x-wmf"/>
  <Override PartName="/ppt/media/image19.gif" ContentType="image/gif"/>
  <Override PartName="/ppt/media/image24.png" ContentType="image/png"/>
  <Override PartName="/ppt/media/image14.gif" ContentType="image/gif"/>
  <Override PartName="/ppt/media/image18.wmf" ContentType="image/x-wmf"/>
  <Override PartName="/ppt/media/image2.jpeg" ContentType="image/jpeg"/>
  <Override PartName="/ppt/media/image20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A516-7DFC-4562-84C7-3452B732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C6F3-38D6-497C-8866-F8122053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448D2-8E4F-4EF0-AFE1-7224B884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D7B23-BAB2-4A18-8F8A-8B751534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B24A4-C9E0-4591-8968-E284806E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7E6E4-E49B-419D-B671-D9826F75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0D464-1921-4E6A-BFDF-B9D25A58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E725D-883E-4B2A-B8AE-FB89E9D0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12024-FAEB-4E48-A2C1-D003D531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CA1C6-FF0F-4401-851B-283B482F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925B3-8935-4BF1-8C73-62FF721C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E42A7-BF6F-448D-942C-DC45A23F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983A-671A-4FAA-83BE-0D58B83A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FEFF0-087D-4953-A913-87CBF61F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DD272-71AE-4D04-A465-B3C6A0EA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D0185-822C-4120-AE19-477236BB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723D0-FC92-41A5-BD98-C5D520B0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7A56D-5333-48A7-AF5A-B420F953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87E8F-279B-4DB7-A84C-E678A420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592A5-D3F5-4B05-AA38-39C175C2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B00FC-DF33-4686-AC76-CEB35B29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36619-21CD-4C65-915A-A68FD58A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1FB51-AF2F-4BC5-B3DA-4A5DC3C9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3F6-0995-4ABA-831B-A9813624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9461E-7FD7-4B33-8DCE-23E8C96E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A1E66-C118-4126-B388-7020B4DA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270BB-6023-48AC-9DD4-15D79F3A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6B556-7809-458A-ACF3-DADE0EF9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3C43B-65D2-493B-8B8B-B26CDDD6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2E747-558A-46D0-A37E-FBF30CE1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412D5-9DA1-4FCA-8AFF-2EF58FD7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2FA6F-7CE3-44C0-8383-EC9BF231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9FB64-55E6-4DD1-A53E-E9EF2471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4B47F-DCBE-4EC6-ACCF-6B23C764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3E49-8506-4461-B6FE-1F23D598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F525F-082B-4F19-BD89-75681DA6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C8122-FE8D-4DE5-B5C3-C950C32E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C61E0-A2CB-4C1C-9BEF-473F6134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2D82C-2E82-45A7-B5E1-A0AD1B4F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406AA-EDE5-4357-B610-37F4BA1D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C0246-E05F-499A-8633-EE24E855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47A72-6CDF-4C6E-8EF2-63F264DE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4224A-9F06-4E9A-8674-5C308AD7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967BF-BF49-4933-A601-1C047326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13E65-F3FF-4326-8630-95B06560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40F1-E2B4-4D35-972D-72D9FF0C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74AD9-6B03-4A44-A3F6-029338C2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05235-7674-4CAA-98E0-17D2D2E1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CD176-AC3D-4B56-96AF-9E38C884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265DC-12A0-4CF2-9E81-1015F552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B5F5F-6BCD-4D93-9432-C2E876C9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0032A-73E0-4B13-A6AF-292747DD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1B294-565F-4D04-94DF-9F1FB431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CA5932-97EB-4946-97D5-66930FB4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653E37-944B-4A31-9429-DD035DBD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AF8AF3-6CD2-43AC-9F75-AA407350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39F6-5741-4428-89A7-B3325498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384DF4-4482-42B2-BBC9-3750B7E7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E8225F-55F3-4119-8181-E08283A7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4F4F8-17A0-427D-B3E0-1EDDEF70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5F1916-756A-4BB5-ADF5-3AC4CAD0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88575-4D81-4B16-8F10-818445AB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DB7628-64D2-4269-B406-1A6D52D6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5E2F5E-E499-4CAF-9924-506C604E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DA2E2C-B095-4D1A-A482-4E65BCA3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DFD3E5-BA97-4B51-B761-472DFD99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4D6843-29B2-4A75-B785-09A07622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D946-A2D7-4ED2-BEA8-B44B7B3E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C72979-98EB-4B0B-9D8A-E06C2FB0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6DCF8F-9DBF-4DF1-A5EA-94CFFACD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073B65-EBBA-43D0-9ED7-B25274E0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F0A057-57C8-4284-9BCB-E783803E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FB6C65-6EA3-4AD1-86DF-DE2E1002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7EF55C-2AF7-4567-82C3-31675BAF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079688-FFC8-45DB-ACA0-6D978821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15ED47-CF81-4E3C-B486-EB00CFDC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D0DD07-10E1-4B7A-A231-4CD433B0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DBE2-BB20-47DB-9610-551A4398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39E5-556C-46D0-9761-99B432BD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DF48-B4BB-415F-A473-FC43ABE5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9D6E-DB64-44E7-ACF3-46094309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EAE1-F74A-4528-927F-CCDD6B90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0B7C-1C12-4B88-A49B-4FA0DF48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A719-6DCB-484C-A866-50212FC7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7445-EC57-435F-B41F-D5F7801F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66A0-F4FF-4A35-8D3B-B0103799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EE401-60F4-48F7-920F-516ACE54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2B52E-F4BD-40CA-8601-D67E58B4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4A7B2-E1BF-47D9-A5FE-7AE00984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AD019-E826-471B-B61D-0AF9A60B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C89F8-7444-4231-955E-CFD4B086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A94F-61C9-465A-9DB7-B2A83AB8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70BFF-C923-490A-8BFB-3C973200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03EAE-43AC-4107-91C8-15225328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4CE07-A03D-428B-B0DB-E40DA7DC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E9BBC-2F6E-47C5-A4AC-027DDEBD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9D968-643F-4FDA-BD1B-6CC904B2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7AD05-C262-4857-B93B-67B2EDC2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D2094-8BAF-4898-A682-37769C62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9EF60-6E04-4F8A-A541-65682D96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69E45-2912-40EC-BFDB-1869903A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AA447-B5FD-4C28-9329-758FA2E3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40F8-0EFA-4727-BF8D-EA79D7DC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F7688-DDC1-4BD2-B0B9-94247A1E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03B8E-47EE-4652-B8DD-A1759417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08453-A58C-40E1-B4BF-0B4D52CD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40FB4-5A74-4DAC-AA82-A5327E07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A1C9E-8165-483C-8728-5188340B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9EF5B-999B-45A1-B1E7-68C8E51A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2D1B1-20BB-4F84-9D96-D37D23B1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2926E-2122-4577-8E5D-71B7C920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45509-AD0E-4E26-9272-E9C5450D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0D80CA-2703-4EB6-A75D-ED983728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B082-7D82-456A-9C3F-AF0A46A5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F96B57-1FE7-4D71-9417-0CC13731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08199E-FEC4-482E-895E-2E06F75A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447E79-6653-4558-9B72-D075A335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B1818E-31BC-487D-8C23-E05DEF8A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8CA379-5113-4469-A6DA-9E0B233B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9D0246-3277-4387-84D9-D6B66947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8C9CCD-1E47-40A1-85C2-7BF68CBB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DE9886-8251-408E-9F35-D329EADB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39B4AA-0DCA-449A-9214-6B9FCA42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EECDA6-47DB-497F-BF3D-6DA0E57B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C3F-A7A1-4D8B-9988-B471698C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5BAC46-A4C0-4C63-BDDB-921221DB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BD5D1-8328-4684-A0CA-360D4EF1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1DED2-B1C5-4508-AB66-1BC53A23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4A5E4-10C0-40C8-97DD-81A9D0A5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E3F57-D47B-4690-98D1-F1B5D22F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5D557-DD49-432F-807A-5BF36E96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AFAF6-13FC-40FF-A4D6-F1F7AE6A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24BFA-6465-4334-BA69-B617D8AC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D3661-4804-4360-B1B8-0A4092A4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9E471-3830-4F6A-B12F-1C7473A2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6554-A6FE-48F1-ADEE-3E4E8438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9B90E-DFF7-410E-B00B-292C743E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BAF67-C232-4661-8AF2-845A520A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14BF2-00FF-4482-8F24-4B631A07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1C9129-72B5-4A8C-B80B-243F942C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F28828-CC08-446D-BAB0-173F5B90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30ECDE-4B12-4EA0-BE0F-358857E9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A9EFAA-A633-4FF3-99D3-5E3CEDA2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B540D1-06F2-48DC-AB92-ED73852E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708959-7C4D-460F-AE76-B68B6F85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061E18-4760-499D-A8A4-CF332590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F1BF-365E-4806-A1FC-BB755932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35BD17-67BD-4B85-A4B6-25283380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A313FB-741A-4047-AA87-0AC66024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A82C35-E53D-4F1C-9FC6-721B311A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DF3915-1A1B-4468-8D42-75B84521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DF7203-AFC6-463C-B4D0-8E9E8141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1D13E-720B-40A8-AAE3-55EA189F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DF15A-5DB7-44E8-9AB5-68FA9F50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84974-8C37-4871-AE78-2FEEEBFC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AD587-C595-4D8B-854D-48075C6B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7B8E0-49A1-48A4-BE78-AD2F5568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DA3-4494-4B51-ADFA-86349759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84A98-8652-44B9-87A9-5891C243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CD083-4805-413E-AF74-A694BEA0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310BE-A998-4B7D-9CF6-C34664CF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182E0-4442-401D-842C-780E18F3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F24D8-D354-4470-84DF-CF669697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76F8D-0737-4D39-9E2A-1CA42BD6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B2280-1784-4F87-963B-6C6C10EF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8A69C-149F-487A-B1D3-B09AC787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FD79B-E890-4181-BBD7-E9DF52A8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7068C-DD83-4285-A855-393EB04F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4AD4-8880-4BC3-8E45-973E65E95A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02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16A0-B346-4531-A77D-09F2B3E249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6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3185-9E5A-4946-9D82-23EA90C2D30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2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018D-B63D-4304-93BD-3DD32808789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6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7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5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3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3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3959-EB80-4FBA-BC38-EAE337DBC83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19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4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4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A724-236E-4329-8A99-0D66B44DFD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8803-5DAE-4339-B1A0-8DB4FC6E8FB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C44F-C533-4EF5-A720-DD0871109D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9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0F5B-CCF2-44B9-9AC2-3B808FC669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ED0C-F722-4A6A-A81C-1F23ED7286D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8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1927-E2E5-4D2B-8E4C-5FC9F4DFCB3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A14B-EA8A-4D7D-8460-9742F8C7AE0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76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31AB-E45F-4A3B-9A1C-DF9927D704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6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9E77-4281-408C-B3B2-A2466AA7B1D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ительское собрание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851280" y="2637000"/>
            <a:ext cx="5292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Трудности адапт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ятиклассников в школ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10" descr="DSC07549"/>
          <p:cNvPicPr/>
          <p:nvPr/>
        </p:nvPicPr>
        <p:blipFill>
          <a:blip r:embed="rId1"/>
          <a:stretch/>
        </p:blipFill>
        <p:spPr>
          <a:xfrm>
            <a:off x="4859280" y="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11" descr="DSC07543"/>
          <p:cNvPicPr/>
          <p:nvPr/>
        </p:nvPicPr>
        <p:blipFill>
          <a:blip r:embed="rId2"/>
          <a:stretch/>
        </p:blipFill>
        <p:spPr>
          <a:xfrm>
            <a:off x="468360" y="2276640"/>
            <a:ext cx="3492360" cy="261936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12" descr="DSC07538"/>
          <p:cNvPicPr/>
          <p:nvPr/>
        </p:nvPicPr>
        <p:blipFill>
          <a:blip r:embed="rId3"/>
          <a:stretch/>
        </p:blipFill>
        <p:spPr>
          <a:xfrm>
            <a:off x="4932360" y="4371840"/>
            <a:ext cx="3313080" cy="248616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13"/>
          <p:cNvSpPr/>
          <p:nvPr/>
        </p:nvSpPr>
        <p:spPr>
          <a:xfrm>
            <a:off x="0" y="5560920"/>
            <a:ext cx="44578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Сравнительная таблиц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571680" y="1357200"/>
          <a:ext cx="6337080" cy="5025960"/>
        </p:xfrm>
        <a:graphic>
          <a:graphicData uri="http://schemas.openxmlformats.org/drawingml/2006/table">
            <a:tbl>
              <a:tblPr/>
              <a:tblGrid>
                <a:gridCol w="618840"/>
                <a:gridCol w="2622600"/>
                <a:gridCol w="3095640"/>
              </a:tblGrid>
              <a:tr h="89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– 9 предм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– 1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дм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 – 2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 – 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с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– 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– 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ите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-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-2,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9" name="Picture 42" descr="SCALES"/>
          <p:cNvPicPr/>
          <p:nvPr/>
        </p:nvPicPr>
        <p:blipFill>
          <a:blip r:embed="rId1"/>
          <a:stretch/>
        </p:blipFill>
        <p:spPr>
          <a:xfrm>
            <a:off x="6588000" y="1268280"/>
            <a:ext cx="231480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Возникающие проблем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1" name="Прямоугольник 2"/>
          <p:cNvSpPr/>
          <p:nvPr/>
        </p:nvSpPr>
        <p:spPr>
          <a:xfrm>
            <a:off x="214200" y="785880"/>
            <a:ext cx="89298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чень много разных учителей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непривычное расписание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много новых кабинетов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новые дети в классе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новый классный руководитель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проблемы со старшеклассникам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возросший темп работы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возросший объем работ в классе и д/з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рассогласованность, даже противоречивость требований отдельных педагогов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ослабление или отсутствие контроля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на каждом уроке приспосабливаться к своеобразному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емпу, особенностям речи учителей; 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в работе с текстам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низкий уровень развития реч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слабое развитие навыков самостоятельной работы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своеобразие подросткового возраста.  -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8" descr="PE02288_"/>
          <p:cNvPicPr/>
          <p:nvPr/>
        </p:nvPicPr>
        <p:blipFill>
          <a:blip r:embed="rId1"/>
          <a:stretch/>
        </p:blipFill>
        <p:spPr>
          <a:xfrm>
            <a:off x="6429240" y="1000080"/>
            <a:ext cx="22860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знаки успешной адап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ребенка процессо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легко справляется с програм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межличностными отношениями – с одноклассниками и уч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4" descr="slide0089_image182"/>
          <p:cNvPicPr/>
          <p:nvPr/>
        </p:nvPicPr>
        <p:blipFill>
          <a:blip r:embed="rId1"/>
          <a:stretch/>
        </p:blipFill>
        <p:spPr>
          <a:xfrm>
            <a:off x="6804000" y="2997360"/>
            <a:ext cx="208764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Признаки дезадаптаци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гативные характеристики в адрес школы, учителей, одноклассн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спокойный с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8" name="Picture 4" descr="people1840"/>
          <p:cNvPicPr/>
          <p:nvPr/>
        </p:nvPicPr>
        <p:blipFill>
          <a:blip r:embed="rId1"/>
          <a:stretch/>
        </p:blipFill>
        <p:spPr>
          <a:xfrm>
            <a:off x="0" y="189000"/>
            <a:ext cx="154764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озможные реакци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142560" y="1142640"/>
            <a:ext cx="9001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Интеллектуальная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- нарушение интеллектуальной деятельности. Отставание в развитии от сверстников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Поведенческая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- несоответствие поведения ребёнка правовым и моральным нормам (агрессивность, асоциальное поведение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Коммуникативная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- затруднения в общении со сверстниками и взрослыми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Соматическая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- отклонения в здоровье ребёнка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Эмоциональная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- эмоциональные трудности, тревоги по поводу переживания проблем в школе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cc"/>
                </a:solidFill>
                <a:latin typeface="Tahoma"/>
              </a:rPr>
              <a:t>Тест «Как вы думаете, все ли благополучно у вашего ребенка в школе?»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99640" y="3141360"/>
            <a:ext cx="8007480" cy="27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сли согласны с утверждением, то поставьте “+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сли утверждение к вам не относится, то поставьте “-”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3" name="Picture 4" descr="545"/>
          <p:cNvPicPr/>
          <p:nvPr/>
        </p:nvPicPr>
        <p:blipFill>
          <a:blip r:embed="rId1"/>
          <a:stretch/>
        </p:blipFill>
        <p:spPr>
          <a:xfrm>
            <a:off x="7236000" y="4940280"/>
            <a:ext cx="1641240" cy="164160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5" descr="deti[1]"/>
          <p:cNvPicPr/>
          <p:nvPr/>
        </p:nvPicPr>
        <p:blipFill>
          <a:blip r:embed="rId2"/>
          <a:stretch/>
        </p:blipFill>
        <p:spPr>
          <a:xfrm>
            <a:off x="179280" y="5276880"/>
            <a:ext cx="24847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оему ребенку нравится учиться в шко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Я думаю, что мой ребенок охотно перешел бы в другую школу, клас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сли бы был выбор, он не хотел бы учиться дом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 сожалению, мой ребенок никогда не рассказывает мне и родственникам о школе с радость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классе у него много друз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му мало нравятся учителя в шко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н активно участвует во внеклассных мероприятиях, вечерах, поход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ой ребенок не расстраивается, когда отменяют уроки (по болезни учителя или др. причине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ой ребенок редко делает уроки без напомина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ругие интересы и хобби не мешают его учебе в шко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6" name="Picture 3" descr="slide0093_image192"/>
          <p:cNvPicPr/>
          <p:nvPr/>
        </p:nvPicPr>
        <p:blipFill>
          <a:blip r:embed="rId1"/>
          <a:stretch/>
        </p:blipFill>
        <p:spPr>
          <a:xfrm>
            <a:off x="7262640" y="2133720"/>
            <a:ext cx="188136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58560" y="4759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cc"/>
                </a:solidFill>
                <a:latin typeface="Tahoma"/>
              </a:rPr>
              <a:t>Подсчитайте количество совпадений:</a:t>
            </a:r>
            <a:br>
              <a:rPr sz="29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1 “+”, 2 “+”, 3 “-”, 4 “-”, 5 “-”, 6 “-”, 7“-”, 8 “+”, 9 “-”, 10 “+”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8-10 балл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У вашего ребенка хорошее отношение к школе и скорее всего у него в ближайшее время не возникнет пробле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6-7 балл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В школе дела обстоят неплох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4-5 балл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Будьте внимательны! В школьной жизни что-то неблагополучн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1-3 балл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Ребенку крайне необходима ваша помощь. У него негативное отноше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школе, связанное с конфликтам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нижением успеваем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9" name="Picture 4" descr="1267806325_roditely[1]"/>
          <p:cNvPicPr/>
          <p:nvPr/>
        </p:nvPicPr>
        <p:blipFill>
          <a:blip r:embed="rId1"/>
          <a:stretch/>
        </p:blipFill>
        <p:spPr>
          <a:xfrm>
            <a:off x="7740720" y="5162400"/>
            <a:ext cx="12412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зультаты диагностики уровня школьной мотивации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821" name="Object 4"/>
          <p:cNvGraphicFramePr/>
          <p:nvPr/>
        </p:nvGraphicFramePr>
        <p:xfrm>
          <a:off x="2397240" y="1828800"/>
          <a:ext cx="4626000" cy="47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240" y="1828800"/>
                    <a:ext cx="462600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ы, полученные по опроснику «Чувства в школе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4" name="Object 4"/>
          <p:cNvGraphicFramePr/>
          <p:nvPr/>
        </p:nvGraphicFramePr>
        <p:xfrm>
          <a:off x="0" y="1341360"/>
          <a:ext cx="9144000" cy="55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914400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357120" y="1143000"/>
            <a:ext cx="8429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тупление школьного педагога-психол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и мониторинга достижений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ещение уро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ущие итоги успеваемости и посещае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фолио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тевой 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Результаты опросника «Отношение к учебным предметам»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5 «Г» класс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827" name="Object 3"/>
          <p:cNvGraphicFramePr/>
          <p:nvPr/>
        </p:nvGraphicFramePr>
        <p:xfrm>
          <a:off x="428760" y="1598760"/>
          <a:ext cx="8072280" cy="46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598760"/>
                    <a:ext cx="8072280" cy="46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езультаты по определению уровня тревожности пятиклассников в период адаптаци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830" name="Object 4"/>
          <p:cNvGraphicFramePr/>
          <p:nvPr/>
        </p:nvGraphicFramePr>
        <p:xfrm>
          <a:off x="181080" y="1930320"/>
          <a:ext cx="87804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930320"/>
                    <a:ext cx="87804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езультаты психодиагностики адаптации учащихся 5 классов к новым условиям обучения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833" name="Object 4"/>
          <p:cNvGraphicFramePr/>
          <p:nvPr/>
        </p:nvGraphicFramePr>
        <p:xfrm>
          <a:off x="668160" y="1600200"/>
          <a:ext cx="780768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600200"/>
                    <a:ext cx="78076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Чем можно помочь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214200" y="1214280"/>
            <a:ext cx="87868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здавайте условия для развит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амостоятельности в поведении ребенка. У пятиклассника непременно должны быть домашние обязанности, за выполнение которых он несет ответственнос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смотря на кажущуюся взрослость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ятиклассник нуждается в ненавязчивом контроле со стороны родителей, поскольку не всегда может сам сориентироваться в новых требованиях школьной жизн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ля пятиклассника учител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уже не такой непререкаемый авторитет, как раньше, в адрес учителей могут звучать критические замечания. Важно обсудить с ребенком причины его недовольства, поддерживая при этом авторитет учит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ятикласснику уже не так интересна учеб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ама по себе, многим в школе интересно бывать потому, что там много друзей. Важно, чтобы у ребенка была возможность обсудить свои школьные дела, учебу и отношения с друзьями в семье, с родител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Рекомендации родителям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Расспрашивайте Вашего ребенка о его школьных дел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Регулярно беседуйте с учителями вашего ребен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Не связывайте оценки за успеваемость ребенка со своей системой наказаний и поощр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Помогайте ребенку выполнять домашние зад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Помогите ребенку почувствовать интерес к тому, что преподают в школ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 Особенные усилия прилагайте для того, чтобы поддерживать спокойную и стабильную атмосферу в дом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9" name="Picture 4" descr="PE02288_"/>
          <p:cNvPicPr/>
          <p:nvPr/>
        </p:nvPicPr>
        <p:blipFill>
          <a:blip r:embed="rId1"/>
          <a:stretch/>
        </p:blipFill>
        <p:spPr>
          <a:xfrm>
            <a:off x="7392960" y="4797360"/>
            <a:ext cx="1751040" cy="206064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Century Gothic"/>
              </a:rPr>
              <a:t>          </a:t>
            </a:r>
            <a:r>
              <a:rPr b="1" i="1" lang="ru-RU" sz="3200" spc="-1" strike="noStrike">
                <a:solidFill>
                  <a:srgbClr val="ffffb7"/>
                </a:solidFill>
                <a:latin typeface="Century Gothic"/>
              </a:rPr>
              <a:t>Слова, которые поддерживают и которые </a:t>
            </a:r>
            <a:br>
              <a:rPr sz="3200"/>
            </a:br>
            <a:r>
              <a:rPr b="1" i="1" lang="ru-RU" sz="3200" spc="-1" strike="noStrike">
                <a:solidFill>
                  <a:srgbClr val="ffffb7"/>
                </a:solidFill>
                <a:latin typeface="Century Gothic"/>
              </a:rPr>
              <a:t>разрушают его веру в себя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213840" y="1904760"/>
            <a:ext cx="455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ова поддерж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я тебя, я уверен, что вы все сделали, хорош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ы делаешь это очень хорош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тебя есть некоторые соображения по этому поводу? Готов ли ты нача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серьезный вызов. Но я уверен. Что ты готов к не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857480" y="1904760"/>
            <a:ext cx="4071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ова разочаро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Зная тебя и твои способности. Я думаю. Ты смог бы сделать это гораздо лучш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Эта идея никогда не сможет быть реализован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Это для тебя слишком трудно, поэтому я сам это сдела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4" name="Picture 5" descr="super027"/>
          <p:cNvPicPr/>
          <p:nvPr/>
        </p:nvPicPr>
        <p:blipFill>
          <a:blip r:embed="rId1"/>
          <a:stretch/>
        </p:blipFill>
        <p:spPr>
          <a:xfrm>
            <a:off x="7143840" y="214200"/>
            <a:ext cx="178596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Picture 2" descr="file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581960"/>
          </a:xfrm>
          <a:prstGeom prst="rect">
            <a:avLst/>
          </a:prstGeom>
          <a:ln w="0">
            <a:noFill/>
          </a:ln>
        </p:spPr>
      </p:pic>
      <p:sp>
        <p:nvSpPr>
          <p:cNvPr id="846" name="Rectangle 3"/>
          <p:cNvSpPr/>
          <p:nvPr/>
        </p:nvSpPr>
        <p:spPr>
          <a:xfrm>
            <a:off x="61128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се в ваших руках” Желаем удачи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тоги мониторинг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848" name="Содержимое 3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850" name="Содержимое 3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2. Организационный порядок Портфолио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0" y="1500120"/>
            <a:ext cx="91440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1. Портфолио является неотъемлемой составляющей образовательной системы Учре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2. Ведение Портфолио – обязанность обучающихся, закрепляемая основной образовательной программ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3. Учащиеся начальных классов заполняют Портфолио под руководством педагога (классного руководителя) согласно единым подходам, отраженным в настоящем Полож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4. Учащиеся 5–11-х классов заполняют Портфолио самостоятельно, согласно единым подходам, отраженным в настоящем Полож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5. Портфолио оформляется на срок, равный сроку реализации ООП каждого из уровней общего образов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" descr="C:\Users\таня\Desktop\2746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Прямоугольник 3"/>
          <p:cNvSpPr/>
          <p:nvPr/>
        </p:nvSpPr>
        <p:spPr>
          <a:xfrm>
            <a:off x="214200" y="214200"/>
            <a:ext cx="86439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6. Классный руководитель  консультирует по мере необходимости учащихся в части оформления Портфолио и его содержимого, а также осуществляет контроль пополнения учащимися портфоли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7. Классный руководитель оказывает возможную посредническую помощь при возникновении у учащегося затруднений в части получения тех или иных подтверждений его индивидуальных образовательных дости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8. Классный руководитель осуществляет необходимое взаимодействие с родителями по вопросам Портфолио: ежегодно, в сентябре проводит тематическое родительское собрание; разрабатывает и реализует график индивидуальных консультаций для родителей; систематизирует и учитывает в своей работе индивидуальные возможности и потребности родителей (законных представителей) обучающихся, способствующие оптимизации технологии Портфоли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9. Ежегодно, в сроки, определяемые заместителем руководителя по УВР, классный руководитель заполняет отчетную форму согласно приложению 2 к Положению. Классный руководитель  несет ответственность за достоверность информации, представленной в указанном отчетном докуме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 ПОРТФОЛИ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285840" y="157140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1. Структура Портфолио обязательна для соблюдения всеми обучающими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2. Структура Портфолио представлена следующими блокам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Личная информация"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Олимпиады"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Проекты и исследования"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Творчество"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Спорт"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Коллективно творческие дела"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Комплексная накопительная оценка достижений ученика" (приложение 3 к Положению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68680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4. Порядок учета индивидуальных образовательных достижений обучающихся посредством технологии Портфолио.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285840" y="1714680"/>
            <a:ext cx="885816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1. Учет индивидуальных образовательных достижений обучающихся посредством технологии Портфолио осуществляется с использованием балльно-рейтинговой методики при которой каждая из единиц портфолио имеет свой балл и соответствующий рейтинг (приложение 1) и фиксируется учащимися в разделе "Комплексная накопительная оценка достижений ученика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2. По результатам анализа Портфолио проводится годовой рейтинг, выявляются обучающиеся, набравшие наибольшее количество баллов в классе, параллели, школе. Победители поощряются. Соответствующая информация размещается на сайте  Учре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2" descr="Картинка 20 из 64000"/>
          <p:cNvPicPr/>
          <p:nvPr/>
        </p:nvPicPr>
        <p:blipFill>
          <a:blip r:embed="rId1"/>
          <a:stretch/>
        </p:blipFill>
        <p:spPr>
          <a:xfrm>
            <a:off x="-2858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9" name="Rectangle 3"/>
          <p:cNvSpPr/>
          <p:nvPr/>
        </p:nvSpPr>
        <p:spPr>
          <a:xfrm>
            <a:off x="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6600"/>
                </a:solidFill>
                <a:latin typeface="Arial Black"/>
              </a:rPr>
              <a:t>Благодарю </a:t>
            </a:r>
            <a:br>
              <a:rPr sz="6000"/>
            </a:br>
            <a:r>
              <a:rPr b="0" i="1" lang="ru-RU" sz="6000" spc="-1" strike="noStrike">
                <a:solidFill>
                  <a:srgbClr val="006600"/>
                </a:solidFill>
                <a:latin typeface="Arial Black"/>
              </a:rPr>
              <a:t>всех за внимани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Picture 2" descr="Картинка 21 из 64000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777" name="Rectangle 3"/>
          <p:cNvSpPr/>
          <p:nvPr/>
        </p:nvSpPr>
        <p:spPr>
          <a:xfrm>
            <a:off x="325800" y="1054440"/>
            <a:ext cx="7441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асны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радость, восторг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того, что ваш ребёно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ится в данном классе, шк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елёны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спокойствие 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дущее моего ребё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ний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тревога, озабоченнос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терян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ёрны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страх, ожидание бед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спокойств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0" y="53496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Пятый класс</a:t>
            </a:r>
            <a:br>
              <a:rPr sz="4800"/>
            </a:br>
            <a:br>
              <a:rPr sz="4000"/>
            </a:b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– это переход не только на новую ступень, но и в новый период развития - </a:t>
            </a: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отрочество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3" descr="МАЛЬКИК"/>
          <p:cNvPicPr/>
          <p:nvPr/>
        </p:nvPicPr>
        <p:blipFill>
          <a:blip r:embed="rId1"/>
          <a:stretch/>
        </p:blipFill>
        <p:spPr>
          <a:xfrm>
            <a:off x="468360" y="4581360"/>
            <a:ext cx="1514520" cy="18576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4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800000" cy="19796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5" descr="slide0055_image073"/>
          <p:cNvPicPr/>
          <p:nvPr/>
        </p:nvPicPr>
        <p:blipFill>
          <a:blip r:embed="rId3"/>
          <a:stretch/>
        </p:blipFill>
        <p:spPr>
          <a:xfrm>
            <a:off x="6300720" y="4076640"/>
            <a:ext cx="2592360" cy="25513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6" descr="people3026"/>
          <p:cNvPicPr/>
          <p:nvPr/>
        </p:nvPicPr>
        <p:blipFill>
          <a:blip r:embed="rId4"/>
          <a:stretch/>
        </p:blipFill>
        <p:spPr>
          <a:xfrm>
            <a:off x="324000" y="260280"/>
            <a:ext cx="2106360" cy="2160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550"/>
                            </p:stCondLst>
                            <p:childTnLst>
                              <p:par>
                                <p:cTn id="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7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зрастные особенности младшего подрост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ребность в достойном положении в коллективе сверстников, в семь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мление обзавестись верным друг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мление избежать изоляции, как в классе, так и в малом коллектив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ный интерес к вопросу о “соотношении сил” в класс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мление отмежеваться от всего подчеркнуто детског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авторитета возрас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ращение к необоснованным запрет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оценка своих возможнос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адаптации к неудач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рко выраженная эмоцион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5" descr="gallery_2_388_4725"/>
          <p:cNvPicPr/>
          <p:nvPr/>
        </p:nvPicPr>
        <p:blipFill>
          <a:blip r:embed="rId1"/>
          <a:stretch/>
        </p:blipFill>
        <p:spPr>
          <a:xfrm>
            <a:off x="0" y="0"/>
            <a:ext cx="1608120" cy="18003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6" descr="bratz002"/>
          <p:cNvPicPr/>
          <p:nvPr/>
        </p:nvPicPr>
        <p:blipFill>
          <a:blip r:embed="rId2"/>
          <a:stretch/>
        </p:blipFill>
        <p:spPr>
          <a:xfrm>
            <a:off x="7524720" y="4508640"/>
            <a:ext cx="11779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За то, как наши дети войдут в этот возраст, будут ли успешны в учебе и жизни в целом, лежит ответственность на нас, взрослых – педагогах и родителях.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788" name="Picture 3" descr="smileface3"/>
          <p:cNvPicPr/>
          <p:nvPr/>
        </p:nvPicPr>
        <p:blipFill>
          <a:blip r:embed="rId1"/>
          <a:stretch/>
        </p:blipFill>
        <p:spPr>
          <a:xfrm>
            <a:off x="395280" y="260280"/>
            <a:ext cx="1511280" cy="14731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4" descr="SADFACE3"/>
          <p:cNvPicPr/>
          <p:nvPr/>
        </p:nvPicPr>
        <p:blipFill>
          <a:blip r:embed="rId2"/>
          <a:stretch/>
        </p:blipFill>
        <p:spPr>
          <a:xfrm>
            <a:off x="7236000" y="50133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Какими должны быть пятиклассники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57200" y="1599840"/>
            <a:ext cx="8329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69645"/>
                </a:solidFill>
                <a:latin typeface="Tahoma"/>
              </a:rPr>
              <a:t>Пятиклассники должн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меть общаться с одноклассниками, иметь свое мнение и формировать его с учетом мнения других, уметь поддерживать отнош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меть правильно распределять и планировать свое время, проявлять самостоятельность в своих делах и в случае необходимости обращаться за помощью взрослы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араться учиться, стремиться овладевать знаниями, уметь заниматься самостоятельн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меть дружить, иметь постоянного друга, общаться с мальчиками и девочками, самостоятельно разрешать возникающие конфликты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еть постоянные обязанности дома, выполнять их без напоминания, помогать родителям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меть общаться с продавцом, врачом и т. д.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меть предвидеть последствия своих действий, делать безопасный, правильный выбо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"/>
          <p:cNvSpPr txBox="1"/>
          <p:nvPr/>
        </p:nvSpPr>
        <p:spPr>
          <a:xfrm rot="10800000">
            <a:off x="8686800" y="3788640"/>
            <a:ext cx="46080" cy="19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4" name="Picture 4" descr="J0233966"/>
          <p:cNvPicPr/>
          <p:nvPr/>
        </p:nvPicPr>
        <p:blipFill>
          <a:blip r:embed="rId1"/>
          <a:stretch/>
        </p:blipFill>
        <p:spPr>
          <a:xfrm>
            <a:off x="0" y="115920"/>
            <a:ext cx="26431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новные трудности, с которыми сталкиваются пятиклассники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96" name="Picture 4" descr="DSC07535"/>
          <p:cNvPicPr/>
          <p:nvPr/>
        </p:nvPicPr>
        <p:blipFill>
          <a:blip r:embed="rId1"/>
          <a:stretch/>
        </p:blipFill>
        <p:spPr>
          <a:xfrm>
            <a:off x="1116000" y="1511280"/>
            <a:ext cx="7128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8:30:21Z</dcterms:created>
  <dc:creator>Админ</dc:creator>
  <dc:description/>
  <dc:language>en-US</dc:language>
  <cp:lastModifiedBy>206</cp:lastModifiedBy>
  <dcterms:modified xsi:type="dcterms:W3CDTF">2016-12-08T11:32:46Z</dcterms:modified>
  <cp:revision>22</cp:revision>
  <dc:subject/>
  <dc:title>Слайд 1</dc:title>
</cp:coreProperties>
</file>