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4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gif" ContentType="image/gif"/>
  <Override PartName="/ppt/media/image24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80A-BB73-40D1-8E83-7792B5AD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F86-C8BB-4259-83DC-652005B5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638-98D6-4A28-8228-F113C59A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87A-D284-44AC-B00A-8A5E6B95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F889-6290-4E7F-AE34-4518BE98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EED7-E76A-4138-851F-69EAC368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48AA-B0E0-467C-BE19-C7F7CFD4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3048-0A47-4A08-88A4-0CFAB92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6CED-2CDE-465A-9C22-60392CAC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0E5-61B2-43B6-A7DF-1CFF04C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1181-A131-4626-8D30-CFADEC1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D40-B2BF-40C8-BF2D-40521A0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5C41-D937-4B40-9EC6-A4FCE09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6827-96AD-4837-8729-AE8E4946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0F06-5007-428F-9467-8C467383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7CEB-AE3B-4E5A-B3EE-684309EE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9A8E-8808-49AA-8649-CD5AFC5F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DF5-811E-45E6-80B6-7B476485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505-1F05-49D3-9B0F-8B11D9B9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08B-E4B0-4377-93F6-33C5948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6E4-5DFF-4436-84D5-91E61364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8DB-C233-4F12-85E8-A310B9A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8D7-84C6-49DB-90AB-10C3321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AD6-C12C-4F0E-B4D6-E72293D8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79B89E-E1D4-46DD-B65F-BD67A3FF34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27E31C-899D-4A6D-8B9F-8B1A71B407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95280" y="333360"/>
            <a:ext cx="8424720" cy="5975280"/>
          </a:xfrm>
          <a:prstGeom prst="rect">
            <a:avLst/>
          </a:prstGeom>
          <a:solidFill>
            <a:srgbClr val="60597b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9600" spc="-1" strike="noStrike">
                <a:solidFill>
                  <a:srgbClr val="ffffff"/>
                </a:solidFill>
                <a:latin typeface="Bookman Old Style"/>
              </a:rPr>
              <a:t>ЗИМ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j0189254"/>
          <p:cNvPicPr/>
          <p:nvPr/>
        </p:nvPicPr>
        <p:blipFill>
          <a:blip r:embed="rId1"/>
          <a:stretch/>
        </p:blipFill>
        <p:spPr>
          <a:xfrm>
            <a:off x="641520" y="260280"/>
            <a:ext cx="760248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Capture"/>
          <p:cNvPicPr/>
          <p:nvPr/>
        </p:nvPicPr>
        <p:blipFill>
          <a:blip r:embed="rId1"/>
          <a:stretch/>
        </p:blipFill>
        <p:spPr>
          <a:xfrm>
            <a:off x="324000" y="260280"/>
            <a:ext cx="84661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Capture_5"/>
          <p:cNvPicPr/>
          <p:nvPr/>
        </p:nvPicPr>
        <p:blipFill>
          <a:blip r:embed="rId1"/>
          <a:stretch/>
        </p:blipFill>
        <p:spPr>
          <a:xfrm>
            <a:off x="611280" y="260280"/>
            <a:ext cx="798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apture_4"/>
          <p:cNvPicPr/>
          <p:nvPr/>
        </p:nvPicPr>
        <p:blipFill>
          <a:blip r:embed="rId1"/>
          <a:stretch/>
        </p:blipFill>
        <p:spPr>
          <a:xfrm>
            <a:off x="468360" y="260280"/>
            <a:ext cx="8153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zabavi1-1"/>
          <p:cNvPicPr/>
          <p:nvPr/>
        </p:nvPicPr>
        <p:blipFill>
          <a:blip r:embed="rId1"/>
          <a:srcRect l="0" t="0" r="171" b="0"/>
          <a:stretch/>
        </p:blipFill>
        <p:spPr>
          <a:xfrm>
            <a:off x="468360" y="189000"/>
            <a:ext cx="51116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3_5"/>
          <p:cNvPicPr/>
          <p:nvPr/>
        </p:nvPicPr>
        <p:blipFill>
          <a:blip r:embed="rId1"/>
          <a:stretch/>
        </p:blipFill>
        <p:spPr>
          <a:xfrm>
            <a:off x="468360" y="404640"/>
            <a:ext cx="8177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02926"/>
          <p:cNvPicPr/>
          <p:nvPr/>
        </p:nvPicPr>
        <p:blipFill>
          <a:blip r:embed="rId1"/>
          <a:srcRect l="0" t="0" r="95" b="80"/>
          <a:stretch/>
        </p:blipFill>
        <p:spPr>
          <a:xfrm>
            <a:off x="3635280" y="189000"/>
            <a:ext cx="518472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fambackenDanik_a"/>
          <p:cNvPicPr/>
          <p:nvPr/>
        </p:nvPicPr>
        <p:blipFill>
          <a:blip r:embed="rId1"/>
          <a:stretch/>
        </p:blipFill>
        <p:spPr>
          <a:xfrm>
            <a:off x="684360" y="295200"/>
            <a:ext cx="4248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zabavi2-1"/>
          <p:cNvPicPr/>
          <p:nvPr/>
        </p:nvPicPr>
        <p:blipFill>
          <a:blip r:embed="rId1"/>
          <a:stretch/>
        </p:blipFill>
        <p:spPr>
          <a:xfrm>
            <a:off x="395280" y="404640"/>
            <a:ext cx="8481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pture-3"/>
          <p:cNvPicPr/>
          <p:nvPr/>
        </p:nvPicPr>
        <p:blipFill>
          <a:blip r:embed="rId1"/>
          <a:stretch/>
        </p:blipFill>
        <p:spPr>
          <a:xfrm>
            <a:off x="1674720" y="189000"/>
            <a:ext cx="57945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55208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196920" y="333360"/>
            <a:ext cx="8750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 rot="20734200">
            <a:off x="457200" y="260280"/>
            <a:ext cx="8228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onstantia"/>
              </a:rPr>
              <a:t>А вы любите зиму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755640" y="247680"/>
            <a:ext cx="763272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6057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44848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6"/>
          <p:cNvGrpSpPr/>
          <p:nvPr/>
        </p:nvGrpSpPr>
        <p:grpSpPr>
          <a:xfrm>
            <a:off x="395280" y="260280"/>
            <a:ext cx="8465400" cy="6336720"/>
            <a:chOff x="395280" y="260280"/>
            <a:chExt cx="8465400" cy="6336720"/>
          </a:xfrm>
        </p:grpSpPr>
        <p:pic>
          <p:nvPicPr>
            <p:cNvPr id="89" name="Picture 7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8465400" cy="63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395280" y="260280"/>
              <a:ext cx="8465400" cy="63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6948360" y="2635200"/>
            <a:ext cx="186228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79000" y="297000"/>
            <a:ext cx="871380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84280" y="900000"/>
            <a:ext cx="1631880" cy="17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2886120" y="145584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4154400" y="649440"/>
            <a:ext cx="3570480" cy="180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5"/>
          <a:stretch/>
        </p:blipFill>
        <p:spPr>
          <a:xfrm>
            <a:off x="392040" y="3003480"/>
            <a:ext cx="421632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5003640" y="4941720"/>
            <a:ext cx="1872000" cy="14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01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1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2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rcRect l="0" t="0" r="0" b="-20"/>
          <a:stretch/>
        </p:blipFill>
        <p:spPr>
          <a:xfrm>
            <a:off x="1357200" y="17640"/>
            <a:ext cx="3541680" cy="684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412720" cy="208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286240" y="2928960"/>
            <a:ext cx="30308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apture_3"/>
          <p:cNvPicPr/>
          <p:nvPr/>
        </p:nvPicPr>
        <p:blipFill>
          <a:blip r:embed="rId1"/>
          <a:stretch/>
        </p:blipFill>
        <p:spPr>
          <a:xfrm>
            <a:off x="1192320" y="189000"/>
            <a:ext cx="7049880" cy="630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5580000" y="41544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я и Алексей</dc:creator>
  <dc:description/>
  <dc:language>en-US</dc:language>
  <cp:lastModifiedBy>admin</cp:lastModifiedBy>
  <dcterms:modified xsi:type="dcterms:W3CDTF">2020-12-02T15:04:19Z</dcterms:modified>
  <cp:revision>28</cp:revision>
  <dc:subject/>
  <dc:title> Календарный год состоит из четырех сезонов, иначе их еще называют «времена года» -  из зимы, весны, лета и осени.  Давай узнаем поподробнее о каждом из них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380000000000010250600207f5000400038000</vt:lpwstr>
  </property>
</Properties>
</file>