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4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gif" ContentType="image/gif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F03-A300-44BB-9E58-D7D661A9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05E-EAD2-401A-BC81-1E603B33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90F-95A6-44CA-A2DD-AF6C6E9B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89E-D2C1-45B4-952A-62288B6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374A-6082-429C-A6F7-A2DA4F05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4BB2-7188-456E-8246-7D95193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6947-FDCB-4479-8AE8-512BCB3B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BEF-E53D-4E7F-981A-5649FDD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BD6B-2668-4096-91A4-FB81D1A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946-D356-4EAC-883E-22E1100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86D-D8F8-4056-A937-4134AE7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204-997A-444F-A1FA-59E47A79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E11-55A6-47AC-AB90-23672B6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C86-44EB-4397-92F0-5BAA8C7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39A6-53D2-4780-8866-CB3D4875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124-5081-49F4-AE3D-AC516FD1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7844-09CB-4634-819E-B94FB449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D05-5FDF-4D84-A0C9-C08FE5B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D58-C708-46F5-A567-5306008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9F7-8C77-415D-AC45-AC8F2EB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4C8-22C8-400A-9EDC-2478476B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93F-1758-4607-B062-9992A3C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C41-CCB7-47A2-993A-E075515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2D8-4352-48CE-8AA5-E22F33E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6102B0-8750-4669-8669-63EC1B3AB2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6D3723-45CB-4EEF-BA30-254886BBD7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95280" y="333360"/>
            <a:ext cx="8424720" cy="5975280"/>
          </a:xfrm>
          <a:prstGeom prst="rect">
            <a:avLst/>
          </a:prstGeom>
          <a:solidFill>
            <a:srgbClr val="60597b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9600" spc="-1" strike="noStrike">
                <a:solidFill>
                  <a:srgbClr val="ffffff"/>
                </a:solidFill>
                <a:latin typeface="Bookman Old Style"/>
              </a:rPr>
              <a:t>ЗИМ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j0189254"/>
          <p:cNvPicPr/>
          <p:nvPr/>
        </p:nvPicPr>
        <p:blipFill>
          <a:blip r:embed="rId1"/>
          <a:stretch/>
        </p:blipFill>
        <p:spPr>
          <a:xfrm>
            <a:off x="641520" y="260280"/>
            <a:ext cx="760248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Capture"/>
          <p:cNvPicPr/>
          <p:nvPr/>
        </p:nvPicPr>
        <p:blipFill>
          <a:blip r:embed="rId1"/>
          <a:stretch/>
        </p:blipFill>
        <p:spPr>
          <a:xfrm>
            <a:off x="324000" y="260280"/>
            <a:ext cx="84661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Capture_5"/>
          <p:cNvPicPr/>
          <p:nvPr/>
        </p:nvPicPr>
        <p:blipFill>
          <a:blip r:embed="rId1"/>
          <a:stretch/>
        </p:blipFill>
        <p:spPr>
          <a:xfrm>
            <a:off x="611280" y="260280"/>
            <a:ext cx="798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apture_4"/>
          <p:cNvPicPr/>
          <p:nvPr/>
        </p:nvPicPr>
        <p:blipFill>
          <a:blip r:embed="rId1"/>
          <a:stretch/>
        </p:blipFill>
        <p:spPr>
          <a:xfrm>
            <a:off x="468360" y="260280"/>
            <a:ext cx="8153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zabavi1-1"/>
          <p:cNvPicPr/>
          <p:nvPr/>
        </p:nvPicPr>
        <p:blipFill>
          <a:blip r:embed="rId1"/>
          <a:srcRect l="0" t="0" r="171" b="0"/>
          <a:stretch/>
        </p:blipFill>
        <p:spPr>
          <a:xfrm>
            <a:off x="468360" y="189000"/>
            <a:ext cx="51116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3_5"/>
          <p:cNvPicPr/>
          <p:nvPr/>
        </p:nvPicPr>
        <p:blipFill>
          <a:blip r:embed="rId1"/>
          <a:stretch/>
        </p:blipFill>
        <p:spPr>
          <a:xfrm>
            <a:off x="468360" y="404640"/>
            <a:ext cx="8177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02926"/>
          <p:cNvPicPr/>
          <p:nvPr/>
        </p:nvPicPr>
        <p:blipFill>
          <a:blip r:embed="rId1"/>
          <a:srcRect l="0" t="0" r="95" b="80"/>
          <a:stretch/>
        </p:blipFill>
        <p:spPr>
          <a:xfrm>
            <a:off x="3635280" y="189000"/>
            <a:ext cx="518472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ambackenDanik_a"/>
          <p:cNvPicPr/>
          <p:nvPr/>
        </p:nvPicPr>
        <p:blipFill>
          <a:blip r:embed="rId1"/>
          <a:stretch/>
        </p:blipFill>
        <p:spPr>
          <a:xfrm>
            <a:off x="684360" y="295200"/>
            <a:ext cx="4248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zabavi2-1"/>
          <p:cNvPicPr/>
          <p:nvPr/>
        </p:nvPicPr>
        <p:blipFill>
          <a:blip r:embed="rId1"/>
          <a:stretch/>
        </p:blipFill>
        <p:spPr>
          <a:xfrm>
            <a:off x="395280" y="404640"/>
            <a:ext cx="8481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pture-3"/>
          <p:cNvPicPr/>
          <p:nvPr/>
        </p:nvPicPr>
        <p:blipFill>
          <a:blip r:embed="rId1"/>
          <a:stretch/>
        </p:blipFill>
        <p:spPr>
          <a:xfrm>
            <a:off x="1674720" y="189000"/>
            <a:ext cx="5794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5208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196920" y="333360"/>
            <a:ext cx="8750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20734200">
            <a:off x="457200" y="260280"/>
            <a:ext cx="8228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nstantia"/>
              </a:rPr>
              <a:t>А вы любите зиму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755640" y="247680"/>
            <a:ext cx="763272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605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4484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395280" y="260280"/>
            <a:ext cx="8465400" cy="6336720"/>
            <a:chOff x="395280" y="260280"/>
            <a:chExt cx="8465400" cy="6336720"/>
          </a:xfrm>
        </p:grpSpPr>
        <p:pic>
          <p:nvPicPr>
            <p:cNvPr id="89" name="Picture 7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465400" cy="63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395280" y="260280"/>
              <a:ext cx="8465400" cy="63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6948360" y="2635200"/>
            <a:ext cx="186228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79000" y="297000"/>
            <a:ext cx="87138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84280" y="900000"/>
            <a:ext cx="1631880" cy="17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2886120" y="145584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4154400" y="649440"/>
            <a:ext cx="3570480" cy="18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5"/>
          <a:stretch/>
        </p:blipFill>
        <p:spPr>
          <a:xfrm>
            <a:off x="392040" y="3003480"/>
            <a:ext cx="421632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5003640" y="4941720"/>
            <a:ext cx="1872000" cy="14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1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rcRect l="0" t="0" r="0" b="-20"/>
          <a:stretch/>
        </p:blipFill>
        <p:spPr>
          <a:xfrm>
            <a:off x="1357200" y="17640"/>
            <a:ext cx="3541680" cy="68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41272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286240" y="2928960"/>
            <a:ext cx="30308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apture_3"/>
          <p:cNvPicPr/>
          <p:nvPr/>
        </p:nvPicPr>
        <p:blipFill>
          <a:blip r:embed="rId1"/>
          <a:stretch/>
        </p:blipFill>
        <p:spPr>
          <a:xfrm>
            <a:off x="1192320" y="189000"/>
            <a:ext cx="7049880" cy="630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5580000" y="4154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 и Алексей</dc:creator>
  <dc:description/>
  <dc:language>en-US</dc:language>
  <cp:lastModifiedBy>admin</cp:lastModifiedBy>
  <dcterms:modified xsi:type="dcterms:W3CDTF">2020-12-02T15:04:19Z</dcterms:modified>
  <cp:revision>28</cp:revision>
  <dc:subject/>
  <dc:title> Календарный год состоит из четырех сезонов, иначе их еще называют «времена года» -  из зимы, весны, лета и осени.  Давай узнаем поподробнее о каждом из них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380000000000010250600207f5000400038000</vt:lpwstr>
  </property>
</Properties>
</file>