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0.jpeg" ContentType="image/jpeg"/>
  <Override PartName="/ppt/media/image24.png" ContentType="image/png"/>
  <Override PartName="/ppt/media/image19.gif" ContentType="image/gif"/>
  <Override PartName="/ppt/media/image1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.jpeg" ContentType="image/jpeg"/>
  <Override PartName="/ppt/media/image30.png" ContentType="image/png"/>
  <Override PartName="/ppt/media/image32.png" ContentType="image/png"/>
  <Override PartName="/ppt/media/image8.jpeg" ContentType="image/jpeg"/>
  <Override PartName="/ppt/media/image39.jpeg" ContentType="image/jpeg"/>
  <Override PartName="/ppt/media/image45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42.png" ContentType="image/png"/>
  <Override PartName="/ppt/media/image31.png" ContentType="image/png"/>
  <Override PartName="/ppt/media/image43.png" ContentType="image/png"/>
  <Override PartName="/ppt/media/image46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0.jpeg" ContentType="image/jpeg"/>
  <Override PartName="/ppt/media/image13.jpeg" ContentType="image/jpeg"/>
  <Override PartName="/ppt/media/image41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82E-8A61-4055-AA43-7AAF9278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71D-0A45-4380-B4FC-0C776A5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A51-0F3B-405D-826E-14A8156A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E7B-3A5C-45A0-AA63-1FFB4721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9F9-D637-45C9-A968-EC4F5B28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C47B-1957-4021-B3F0-E6FE9ED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5A3-999D-469A-ADE6-C65E8F1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1330-9DCF-4863-B68E-AE7C513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AB76-F82F-47CF-BF0C-28C0AE9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137-1EC7-411B-8A0A-A2B9686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CA7-338B-4E44-8522-6A7D9DD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2B1-ACD6-4E77-B751-BBD97B3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2383-1375-4017-9F25-1E1A021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798-F9AE-47A9-941E-5BB8C9D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581E-A277-4CEE-9DE2-7091645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FF22-B293-4098-9CCF-EFA0A6D6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28F-3713-4DCA-AB5B-4D2EE584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9F38-49F4-4D76-A999-18079A5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6862-6CAC-4804-A79A-8F4AB1DE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55F6-50A9-42F7-A065-F64E64A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134D-1401-44AD-8BB7-5767821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0D5E-EED8-43E8-9E4E-F83779E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CF6-0D38-4180-B87D-861BE6A9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D160-0966-4E3C-B13C-935C4172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09A0-292A-4CF6-B117-DF117D4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BE01-1C2B-4674-B489-D1DC1B7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CD72-29A3-4A0A-8B0F-DD73CB6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54E4-B231-4BB1-ACE0-9399BA9B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4741-F630-4C94-80E1-7EDA705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F3A7-BD2B-4D3C-9659-EF779BF0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49B-3FD5-41F0-AB22-E847D71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983-45A3-4B16-9A0B-CF10D668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741-2AB7-4513-B4C5-15576DF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499-6379-4E1D-A8D0-7FB4234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861-50B0-41FA-8AD0-40ECAC4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4AD-FA00-409D-BC22-5DB7EFC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496-96B2-490B-B6DE-01322D1892AB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986B-40DA-450E-8072-7DC0A10D35A4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07C-8587-44A8-BAFE-2B0304F8B120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gif"/><Relationship Id="rId12" Type="http://schemas.openxmlformats.org/officeDocument/2006/relationships/image" Target="../media/image38.jpeg"/><Relationship Id="rId13" Type="http://schemas.openxmlformats.org/officeDocument/2006/relationships/image" Target="../media/image38.jpe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gif"/><Relationship Id="rId17" Type="http://schemas.openxmlformats.org/officeDocument/2006/relationships/image" Target="../media/image45.gif"/><Relationship Id="rId18" Type="http://schemas.openxmlformats.org/officeDocument/2006/relationships/image" Target="../media/image46.png"/><Relationship Id="rId1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1214280" y="1214280"/>
            <a:ext cx="66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2f2f2"/>
                </a:solidFill>
                <a:latin typeface="Aharoni"/>
                <a:ea typeface="Aharoni"/>
              </a:rPr>
              <a:t>Road safety</a:t>
            </a:r>
            <a:endParaRPr b="0" lang="en-US" sz="120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arking zone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avement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edestrian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lights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 sign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 warden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Zebra crossing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000960" y="2781360"/>
            <a:ext cx="184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ешеход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006000" y="2195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тротуа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998800" y="334980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468960" y="455292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дорожный инспекто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369240" y="5138640"/>
            <a:ext cx="42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ешеходный переход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2860200" y="39686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дорожный знак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233520" y="161136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арковка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81818"/>
                </a:solidFill>
                <a:uFillTx/>
                <a:latin typeface="Calibri"/>
              </a:rPr>
              <a:t>Make up the word combinations</a:t>
            </a:r>
            <a:endParaRPr b="0" lang="en-US" sz="3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ear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alk straight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Look         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Run onto 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Talk to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alk on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Lean out of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Push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Cross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Enter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050920" y="1197000"/>
            <a:ext cx="1800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eat belt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2987640" y="1628640"/>
            <a:ext cx="2808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ross 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2556000" y="2205000"/>
            <a:ext cx="187164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th way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411280" y="2708280"/>
            <a:ext cx="2305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2268360" y="3213000"/>
            <a:ext cx="251964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river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2411280" y="3716280"/>
            <a:ext cx="2808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vement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771640" y="4221000"/>
            <a:ext cx="2160720" cy="287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indow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1979640" y="4724280"/>
            <a:ext cx="2521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people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2050920" y="5300640"/>
            <a:ext cx="2089440" cy="28908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6" name="Прямоугольник 17"/>
          <p:cNvSpPr/>
          <p:nvPr/>
        </p:nvSpPr>
        <p:spPr>
          <a:xfrm>
            <a:off x="1908000" y="5805360"/>
            <a:ext cx="2232360" cy="287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u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6958440" y="60930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81818"/>
                </a:solidFill>
                <a:uFillTx/>
                <a:latin typeface="Arial"/>
              </a:rPr>
              <a:t>ex.2, p.26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2176560" y="152280"/>
            <a:ext cx="4127400" cy="933480"/>
          </a:xfrm>
          <a:prstGeom prst="rect">
            <a:avLst/>
          </a:prstGeom>
          <a:ln w="0">
            <a:noFill/>
          </a:ln>
        </p:spPr>
      </p:pic>
      <p:pic>
        <p:nvPicPr>
          <p:cNvPr id="189" name="Схема 4" descr=""/>
          <p:cNvPicPr/>
          <p:nvPr/>
        </p:nvPicPr>
        <p:blipFill>
          <a:blip r:embed="rId2"/>
          <a:stretch/>
        </p:blipFill>
        <p:spPr>
          <a:xfrm>
            <a:off x="1206360" y="1249200"/>
            <a:ext cx="6705720" cy="4827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3000240" y="3214800"/>
            <a:ext cx="26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1818"/>
                </a:solidFill>
                <a:latin typeface="Times New Roman"/>
                <a:ea typeface="Calibri"/>
              </a:rPr>
              <a:t>It’s safe / it’s dangerou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he imperative sentences 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eg. 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Open your 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books! 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Sit down! 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Look at me!</a:t>
            </a:r>
            <a:br>
              <a:rPr sz="3000"/>
            </a:br>
            <a:r>
              <a:rPr b="1" i="1" lang="en-US" sz="2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We form the imperative by using the bare infinitive of the verb at the beginning of the sentence. </a:t>
            </a:r>
            <a:endParaRPr b="0" lang="en-US" sz="2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eg. 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Don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’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 raise your 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hand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!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Don`t lean out of the window!</a:t>
            </a:r>
            <a:br>
              <a:rPr sz="3000"/>
            </a:br>
            <a:r>
              <a:rPr b="1" i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We form the negative of the imperative with don’t. We use the imperative to give instructions, commands.</a:t>
            </a:r>
            <a:endParaRPr b="0" lang="en-US" sz="30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1818"/>
                </a:solidFill>
                <a:latin typeface="Calibri"/>
              </a:rPr>
              <a:t>The imperative</a:t>
            </a:r>
            <a:br>
              <a:rPr sz="4000"/>
            </a:br>
            <a:r>
              <a:rPr b="1" lang="ru-RU" sz="4000" spc="-1" strike="noStrike">
                <a:solidFill>
                  <a:srgbClr val="181818"/>
                </a:solidFill>
                <a:latin typeface="Calibri"/>
              </a:rPr>
              <a:t>Повелительное наклонение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2f2f2"/>
                </a:solidFill>
                <a:uFillTx/>
                <a:latin typeface="Calibri"/>
              </a:rPr>
              <a:t>Употребляется, чтобы: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давать приказани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авать указания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струкции.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лагать что-то.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сить о чём-то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(обычно с добавлением </a:t>
            </a: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lease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в начале или в конце предложения).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Повелительное наклонение  глаголов совпадает с инфинитивом без частицы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t down!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адись!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Отрицательная форма образуется при помощи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Do not=Don’t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и инфинитива: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Don’t talk to him!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Не разговаривай с ним!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Calibri"/>
              </a:rPr>
              <a:t>Choose the correct imperative</a:t>
            </a:r>
            <a:br>
              <a:rPr sz="4400"/>
            </a:b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your seat bel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r the zebra crossing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out of the window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o the driver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onto the road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both ways before crossing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1476360" y="1628640"/>
            <a:ext cx="11509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r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1403280" y="2276640"/>
            <a:ext cx="122400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900000" y="2781360"/>
            <a:ext cx="1800360" cy="431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lea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755640" y="3429000"/>
            <a:ext cx="19447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talk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971640" y="4005360"/>
            <a:ext cx="17287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ru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1187280" y="4508640"/>
            <a:ext cx="1513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ok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lete the spidergrams with words from the tex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708120" y="2637000"/>
            <a:ext cx="235116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bicycle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3276720" y="2637000"/>
            <a:ext cx="208728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d35"/>
                </a:solidFill>
                <a:latin typeface="Calibri"/>
              </a:rPr>
              <a:t>bu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5651640" y="2637000"/>
            <a:ext cx="208908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41200" y="187308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brak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248400" y="4149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Bike lan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1914120" y="46688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helme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838520" y="148428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tyr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3186720" y="20019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seat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4290480" y="46530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handgrip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3219120" y="415116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Narkisim"/>
              </a:rPr>
              <a:t>drive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4362840" y="162864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Gisha"/>
              </a:rPr>
              <a:t>window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6086880" y="173988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sea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6882840" y="126828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Seat bel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7099200" y="436572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handl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5867280" y="5157720"/>
            <a:ext cx="224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Rear view window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cxnSp>
        <p:nvCxnSpPr>
          <p:cNvPr id="221" name="Прямая со стрелкой 19"/>
          <p:cNvCxnSpPr>
            <a:stCxn id="206" idx="3"/>
          </p:cNvCxnSpPr>
          <p:nvPr/>
        </p:nvCxnSpPr>
        <p:spPr>
          <a:xfrm flipH="1">
            <a:off x="754920" y="3804840"/>
            <a:ext cx="297720" cy="5454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2" name="Прямая со стрелкой 21"/>
          <p:cNvCxnSpPr/>
          <p:nvPr/>
        </p:nvCxnSpPr>
        <p:spPr>
          <a:xfrm flipH="1" flipV="1">
            <a:off x="1042200" y="2276280"/>
            <a:ext cx="227880" cy="56088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3" name="Прямая со стрелкой 23"/>
          <p:cNvCxnSpPr>
            <a:endCxn id="212" idx="2"/>
          </p:cNvCxnSpPr>
          <p:nvPr/>
        </p:nvCxnSpPr>
        <p:spPr>
          <a:xfrm flipV="1">
            <a:off x="2123640" y="2069280"/>
            <a:ext cx="229320" cy="639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4" name="Прямая со стрелкой 29"/>
          <p:cNvCxnSpPr/>
          <p:nvPr/>
        </p:nvCxnSpPr>
        <p:spPr>
          <a:xfrm>
            <a:off x="2195640" y="3976200"/>
            <a:ext cx="289440" cy="74844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5" name="Прямая со стрелкой 32"/>
          <p:cNvCxnSpPr/>
          <p:nvPr/>
        </p:nvCxnSpPr>
        <p:spPr>
          <a:xfrm flipV="1">
            <a:off x="4716000" y="2133360"/>
            <a:ext cx="361080" cy="504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6" name="Прямая со стрелкой 35"/>
          <p:cNvCxnSpPr/>
          <p:nvPr/>
        </p:nvCxnSpPr>
        <p:spPr>
          <a:xfrm flipH="1" flipV="1">
            <a:off x="3854160" y="2457000"/>
            <a:ext cx="141840" cy="38016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7" name="Прямая со стрелкой 42"/>
          <p:cNvCxnSpPr/>
          <p:nvPr/>
        </p:nvCxnSpPr>
        <p:spPr>
          <a:xfrm flipH="1">
            <a:off x="3854160" y="3804840"/>
            <a:ext cx="148320" cy="4626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8" name="Прямая со стрелкой 45"/>
          <p:cNvCxnSpPr>
            <a:endCxn id="214" idx="0"/>
          </p:cNvCxnSpPr>
          <p:nvPr/>
        </p:nvCxnSpPr>
        <p:spPr>
          <a:xfrm>
            <a:off x="4858920" y="3933720"/>
            <a:ext cx="359640" cy="720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9" name="Прямая со стрелкой 51"/>
          <p:cNvCxnSpPr>
            <a:stCxn id="208" idx="0"/>
            <a:endCxn id="217" idx="2"/>
          </p:cNvCxnSpPr>
          <p:nvPr/>
        </p:nvCxnSpPr>
        <p:spPr>
          <a:xfrm flipH="1" flipV="1">
            <a:off x="6532200" y="2323440"/>
            <a:ext cx="164160" cy="31356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0" name="Прямая со стрелкой 55"/>
          <p:cNvCxnSpPr/>
          <p:nvPr/>
        </p:nvCxnSpPr>
        <p:spPr>
          <a:xfrm flipV="1">
            <a:off x="7092720" y="1843920"/>
            <a:ext cx="432360" cy="79308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1" name="Прямая со стрелкой 57"/>
          <p:cNvCxnSpPr>
            <a:stCxn id="208" idx="4"/>
          </p:cNvCxnSpPr>
          <p:nvPr/>
        </p:nvCxnSpPr>
        <p:spPr>
          <a:xfrm flipH="1">
            <a:off x="6587640" y="4005360"/>
            <a:ext cx="108720" cy="1080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2" name="Прямая со стрелкой 59"/>
          <p:cNvCxnSpPr/>
          <p:nvPr/>
        </p:nvCxnSpPr>
        <p:spPr>
          <a:xfrm>
            <a:off x="7308720" y="3860640"/>
            <a:ext cx="504000" cy="648360"/>
          </a:xfrm>
          <a:prstGeom prst="straightConnector1">
            <a:avLst/>
          </a:prstGeom>
          <a:ln w="381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право 2"/>
          <p:cNvSpPr/>
          <p:nvPr/>
        </p:nvSpPr>
        <p:spPr>
          <a:xfrm>
            <a:off x="0" y="260280"/>
            <a:ext cx="3384720" cy="936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eaking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632720" cy="115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&amp;Kcy;&amp;acy;&amp;rcy;&amp;tcy;&amp;icy;&amp;ncy;&amp;kcy;&amp;icy; &amp;pcy;&amp;ocy; &amp;zcy;&amp;acy;&amp;pcy;&amp;rcy;&amp;ocy;&amp;scy;&amp;ucy;"/>
          <p:cNvPicPr/>
          <p:nvPr/>
        </p:nvPicPr>
        <p:blipFill>
          <a:blip r:embed="rId3"/>
          <a:stretch/>
        </p:blipFill>
        <p:spPr>
          <a:xfrm>
            <a:off x="1187280" y="2276640"/>
            <a:ext cx="7488360" cy="45813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24000" y="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18"/>
                </a:solidFill>
                <a:latin typeface="Arial"/>
              </a:rPr>
              <a:t>Ex.7,p.27</a:t>
            </a:r>
            <a:endParaRPr b="0" lang="en-US" sz="24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24000" y="0"/>
            <a:ext cx="7416720" cy="765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468360" y="981000"/>
            <a:ext cx="7343640" cy="4248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foot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car/bus/train/plane/bike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 a bus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 the 8 o’clock train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41" name="Picture 3" descr="&amp;Kcy;&amp;acy;&amp;rcy;&amp;tcy;&amp;icy;&amp;ncy;&amp;kcy;&amp;icy; &amp;pcy;&amp;ocy; &amp;zcy;&amp;acy;&amp;pcy;&amp;rcy;&amp;ocy;&amp;scy;&amp;ucy;"/>
          <p:cNvPicPr/>
          <p:nvPr/>
        </p:nvPicPr>
        <p:blipFill>
          <a:blip r:embed="rId3"/>
          <a:stretch/>
        </p:blipFill>
        <p:spPr>
          <a:xfrm>
            <a:off x="5364000" y="4789440"/>
            <a:ext cx="3456000" cy="1735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1258920" y="119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118728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258920" y="3284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258920" y="44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252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2f2f2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57160" y="928800"/>
            <a:ext cx="771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Twinkle, twinkle, traffic l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Standing on the corner br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Green means </a:t>
            </a:r>
            <a:r>
              <a:rPr b="1" i="1" lang="en-US" sz="3200" spc="-1" strike="noStrike" u="sng">
                <a:solidFill>
                  <a:srgbClr val="92d050"/>
                </a:solidFill>
                <a:uFillTx/>
                <a:latin typeface="Times New Roman"/>
                <a:ea typeface="Calibri"/>
              </a:rPr>
              <a:t>GO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, we all know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Yellow mean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WAIT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, even if you're late</a:t>
            </a:r>
            <a:br>
              <a:rPr sz="3200"/>
            </a:b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RED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 means stop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Twinkle, twinkle, traffic l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 Standing on the corner brigh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26" name="Рисунок 6" descr="prav.png"/>
          <p:cNvPicPr/>
          <p:nvPr/>
        </p:nvPicPr>
        <p:blipFill>
          <a:blip r:embed="rId1"/>
          <a:stretch/>
        </p:blipFill>
        <p:spPr>
          <a:xfrm>
            <a:off x="6429240" y="2928960"/>
            <a:ext cx="2503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47" name="Заголовок 1"/>
          <p:cNvSpPr/>
          <p:nvPr/>
        </p:nvSpPr>
        <p:spPr>
          <a:xfrm>
            <a:off x="324000" y="0"/>
            <a:ext cx="23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Calibri"/>
              </a:rPr>
              <a:t>Wb. p17 ex 4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5113080" cy="62643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468360" y="4762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Fill in the correct preposition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y</a:t>
            </a:r>
            <a:r>
              <a:rPr b="1" lang="en-US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or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право 2"/>
          <p:cNvSpPr/>
          <p:nvPr/>
        </p:nvSpPr>
        <p:spPr>
          <a:xfrm>
            <a:off x="0" y="404640"/>
            <a:ext cx="3384720" cy="936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5041800" cy="63374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324000" y="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Arial"/>
              </a:rPr>
              <a:t>Ex.8, p.27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029040" y="3011400"/>
            <a:ext cx="3341520" cy="1627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243080" y="633240"/>
            <a:ext cx="1176120" cy="88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6827760" y="596880"/>
            <a:ext cx="11574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3316320" y="426960"/>
            <a:ext cx="1689120" cy="9637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7"/>
          <p:cNvSpPr/>
          <p:nvPr/>
        </p:nvSpPr>
        <p:spPr>
          <a:xfrm>
            <a:off x="0" y="1857240"/>
            <a:ext cx="9144000" cy="770040"/>
          </a:xfrm>
          <a:prstGeom prst="rect">
            <a:avLst/>
          </a:prstGeom>
          <a:solidFill>
            <a:srgbClr val="e7e5b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0" y="5427720"/>
            <a:ext cx="9144000" cy="914400"/>
          </a:xfrm>
          <a:prstGeom prst="rect">
            <a:avLst/>
          </a:prstGeom>
          <a:solidFill>
            <a:srgbClr val="e7e5b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5"/>
          <a:stretch/>
        </p:blipFill>
        <p:spPr>
          <a:xfrm>
            <a:off x="7721640" y="4092480"/>
            <a:ext cx="679320" cy="765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6"/>
          <a:stretch/>
        </p:blipFill>
        <p:spPr>
          <a:xfrm>
            <a:off x="6567480" y="2909880"/>
            <a:ext cx="679320" cy="763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7"/>
          <a:stretch/>
        </p:blipFill>
        <p:spPr>
          <a:xfrm>
            <a:off x="2655720" y="246240"/>
            <a:ext cx="67968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8"/>
          <a:stretch/>
        </p:blipFill>
        <p:spPr>
          <a:xfrm>
            <a:off x="5102280" y="747720"/>
            <a:ext cx="67788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i"/>
          <p:cNvPicPr/>
          <p:nvPr/>
        </p:nvPicPr>
        <p:blipFill>
          <a:blip r:embed="rId9"/>
          <a:stretch/>
        </p:blipFill>
        <p:spPr>
          <a:xfrm>
            <a:off x="244440" y="569880"/>
            <a:ext cx="598680" cy="604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Documents and Settings\Admin\Рабочий стол\олеся\8866775.jpeg"/>
          <p:cNvPicPr/>
          <p:nvPr/>
        </p:nvPicPr>
        <p:blipFill>
          <a:blip r:embed="rId10"/>
          <a:stretch/>
        </p:blipFill>
        <p:spPr>
          <a:xfrm>
            <a:off x="6372360" y="4113360"/>
            <a:ext cx="1145880" cy="855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9"/>
          <p:cNvSpPr/>
          <p:nvPr/>
        </p:nvSpPr>
        <p:spPr>
          <a:xfrm>
            <a:off x="6981840" y="4840200"/>
            <a:ext cx="0" cy="51588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67" name="Picture 9" descr="C:\Documents and Settings\Admin\Рабочий стол\олеся\transporta-656.gif"/>
          <p:cNvPicPr/>
          <p:nvPr/>
        </p:nvPicPr>
        <p:blipFill>
          <a:blip r:embed="rId11"/>
          <a:stretch/>
        </p:blipFill>
        <p:spPr>
          <a:xfrm>
            <a:off x="7062840" y="1770120"/>
            <a:ext cx="1762200" cy="798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12"/>
          <a:stretch/>
        </p:blipFill>
        <p:spPr>
          <a:xfrm>
            <a:off x="420840" y="4468680"/>
            <a:ext cx="679320" cy="763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13"/>
          <a:stretch/>
        </p:blipFill>
        <p:spPr>
          <a:xfrm>
            <a:off x="8185320" y="3222720"/>
            <a:ext cx="679320" cy="76356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30"/>
          <p:cNvGrpSpPr/>
          <p:nvPr/>
        </p:nvGrpSpPr>
        <p:grpSpPr>
          <a:xfrm>
            <a:off x="1001880" y="1857240"/>
            <a:ext cx="522000" cy="753840"/>
            <a:chOff x="1001880" y="1857240"/>
            <a:chExt cx="522000" cy="753840"/>
          </a:xfrm>
        </p:grpSpPr>
        <p:sp>
          <p:nvSpPr>
            <p:cNvPr id="271" name="Rectangle 3"/>
            <p:cNvSpPr/>
            <p:nvPr/>
          </p:nvSpPr>
          <p:spPr>
            <a:xfrm>
              <a:off x="1001880" y="185724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1001880" y="206676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1001880" y="227664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1001880" y="2485440"/>
              <a:ext cx="522000" cy="12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cxnSp>
        <p:nvCxnSpPr>
          <p:cNvPr id="275" name="Прямая со стрелкой 42"/>
          <p:cNvCxnSpPr/>
          <p:nvPr/>
        </p:nvCxnSpPr>
        <p:spPr>
          <a:xfrm flipH="1">
            <a:off x="1320120" y="1334160"/>
            <a:ext cx="872280" cy="50868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76" name="Прямая со стрелкой 46"/>
          <p:cNvCxnSpPr/>
          <p:nvPr/>
        </p:nvCxnSpPr>
        <p:spPr>
          <a:xfrm flipH="1">
            <a:off x="1334520" y="1871640"/>
            <a:ext cx="29160" cy="114804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77" name="Прямая со стрелкой 55"/>
          <p:cNvCxnSpPr/>
          <p:nvPr/>
        </p:nvCxnSpPr>
        <p:spPr>
          <a:xfrm flipV="1">
            <a:off x="2467080" y="4701600"/>
            <a:ext cx="2062440" cy="3060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cxnSp>
        <p:nvCxnSpPr>
          <p:cNvPr id="278" name="Прямая со стрелкой 58"/>
          <p:cNvCxnSpPr/>
          <p:nvPr/>
        </p:nvCxnSpPr>
        <p:spPr>
          <a:xfrm flipV="1">
            <a:off x="4266720" y="4470480"/>
            <a:ext cx="1654920" cy="58140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79" name="Прямая со стрелкой 62"/>
          <p:cNvCxnSpPr/>
          <p:nvPr/>
        </p:nvCxnSpPr>
        <p:spPr>
          <a:xfrm flipH="1">
            <a:off x="5425560" y="1320840"/>
            <a:ext cx="1542240" cy="3945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cxnSp>
        <p:nvCxnSpPr>
          <p:cNvPr id="280" name="Прямая со стрелкой 65"/>
          <p:cNvCxnSpPr/>
          <p:nvPr/>
        </p:nvCxnSpPr>
        <p:spPr>
          <a:xfrm flipH="1" flipV="1">
            <a:off x="3134520" y="1653480"/>
            <a:ext cx="2467800" cy="45000"/>
          </a:xfrm>
          <a:prstGeom prst="straightConnector1">
            <a:avLst/>
          </a:prstGeom>
          <a:ln w="57240">
            <a:solidFill>
              <a:srgbClr val="78433a"/>
            </a:solidFill>
            <a:miter/>
            <a:tailEnd len="med" type="triangle" w="med"/>
          </a:ln>
        </p:spPr>
      </p:cxnSp>
      <p:cxnSp>
        <p:nvCxnSpPr>
          <p:cNvPr id="281" name="Прямая со стрелкой 68"/>
          <p:cNvCxnSpPr/>
          <p:nvPr/>
        </p:nvCxnSpPr>
        <p:spPr>
          <a:xfrm flipH="1">
            <a:off x="1495080" y="1667520"/>
            <a:ext cx="1683360" cy="146520"/>
          </a:xfrm>
          <a:prstGeom prst="straightConnector1">
            <a:avLst/>
          </a:prstGeom>
          <a:ln w="57240">
            <a:solidFill>
              <a:srgbClr val="78433a"/>
            </a:solidFill>
            <a:miter/>
            <a:tailEnd len="med" type="triangle" w="med"/>
          </a:ln>
        </p:spPr>
      </p:cxnSp>
      <p:grpSp>
        <p:nvGrpSpPr>
          <p:cNvPr id="282" name="TextBox 70"/>
          <p:cNvGrpSpPr/>
          <p:nvPr/>
        </p:nvGrpSpPr>
        <p:grpSpPr>
          <a:xfrm>
            <a:off x="1073160" y="128520"/>
            <a:ext cx="1407960" cy="504720"/>
            <a:chOff x="1073160" y="128520"/>
            <a:chExt cx="1407960" cy="504720"/>
          </a:xfrm>
        </p:grpSpPr>
        <p:pic>
          <p:nvPicPr>
            <p:cNvPr id="283" name="TextBox 70" descr=""/>
            <p:cNvPicPr/>
            <p:nvPr/>
          </p:nvPicPr>
          <p:blipFill>
            <a:blip r:embed="rId14"/>
            <a:stretch/>
          </p:blipFill>
          <p:spPr>
            <a:xfrm>
              <a:off x="1073160" y="128520"/>
              <a:ext cx="1407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7"/>
            <p:cNvSpPr/>
            <p:nvPr/>
          </p:nvSpPr>
          <p:spPr>
            <a:xfrm>
              <a:off x="1131840" y="18900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y house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grpSp>
        <p:nvGrpSpPr>
          <p:cNvPr id="285" name="TextBox 73"/>
          <p:cNvGrpSpPr/>
          <p:nvPr/>
        </p:nvGrpSpPr>
        <p:grpSpPr>
          <a:xfrm>
            <a:off x="6413400" y="128520"/>
            <a:ext cx="2163960" cy="504720"/>
            <a:chOff x="6413400" y="128520"/>
            <a:chExt cx="2163960" cy="504720"/>
          </a:xfrm>
        </p:grpSpPr>
        <p:pic>
          <p:nvPicPr>
            <p:cNvPr id="286" name="TextBox 73" descr=""/>
            <p:cNvPicPr/>
            <p:nvPr/>
          </p:nvPicPr>
          <p:blipFill>
            <a:blip r:embed="rId15"/>
            <a:stretch/>
          </p:blipFill>
          <p:spPr>
            <a:xfrm>
              <a:off x="6413400" y="128520"/>
              <a:ext cx="2163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0"/>
            <p:cNvSpPr/>
            <p:nvPr/>
          </p:nvSpPr>
          <p:spPr>
            <a:xfrm>
              <a:off x="6473880" y="18900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y friend’s house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cxnSp>
        <p:nvCxnSpPr>
          <p:cNvPr id="288" name="Соединительная линия уступом 76"/>
          <p:cNvCxnSpPr/>
          <p:nvPr/>
        </p:nvCxnSpPr>
        <p:spPr>
          <a:xfrm flipH="1" rot="16200000">
            <a:off x="789840" y="3533760"/>
            <a:ext cx="2062440" cy="973800"/>
          </a:xfrm>
          <a:prstGeom prst="bentConnector3">
            <a:avLst>
              <a:gd name="adj1" fmla="val 50000"/>
            </a:avLst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89" name="Прямая со стрелкой 83"/>
          <p:cNvCxnSpPr/>
          <p:nvPr/>
        </p:nvCxnSpPr>
        <p:spPr>
          <a:xfrm>
            <a:off x="1508760" y="1871280"/>
            <a:ext cx="14760" cy="11343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cxnSp>
        <p:nvCxnSpPr>
          <p:cNvPr id="290" name="Соединительная линия уступом 86"/>
          <p:cNvCxnSpPr/>
          <p:nvPr/>
        </p:nvCxnSpPr>
        <p:spPr>
          <a:xfrm flipH="1" rot="16200000">
            <a:off x="1095480" y="3344400"/>
            <a:ext cx="1837440" cy="1024560"/>
          </a:xfrm>
          <a:prstGeom prst="bentConnector3">
            <a:avLst>
              <a:gd name="adj1" fmla="val 49990"/>
            </a:avLst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cxnSp>
        <p:nvCxnSpPr>
          <p:cNvPr id="291" name="Прямая со стрелкой 91"/>
          <p:cNvCxnSpPr/>
          <p:nvPr/>
        </p:nvCxnSpPr>
        <p:spPr>
          <a:xfrm flipV="1">
            <a:off x="2278080" y="5020560"/>
            <a:ext cx="2062440" cy="108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92" name="Прямая со стрелкой 101"/>
          <p:cNvCxnSpPr/>
          <p:nvPr/>
        </p:nvCxnSpPr>
        <p:spPr>
          <a:xfrm flipV="1">
            <a:off x="4498560" y="4309200"/>
            <a:ext cx="1089720" cy="4071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pic>
        <p:nvPicPr>
          <p:cNvPr id="293" name="Picture 11" descr="C:\Documents and Settings\Admin\Рабочий стол\олеся\685658-01aedab196dd32da.gif"/>
          <p:cNvPicPr/>
          <p:nvPr/>
        </p:nvPicPr>
        <p:blipFill>
          <a:blip r:embed="rId16"/>
          <a:stretch/>
        </p:blipFill>
        <p:spPr>
          <a:xfrm>
            <a:off x="179280" y="2227320"/>
            <a:ext cx="571680" cy="10382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114"/>
          <p:cNvSpPr/>
          <p:nvPr/>
        </p:nvSpPr>
        <p:spPr>
          <a:xfrm>
            <a:off x="493560" y="3265560"/>
            <a:ext cx="0" cy="507960"/>
          </a:xfrm>
          <a:prstGeom prst="line">
            <a:avLst/>
          </a:prstGeom>
          <a:ln w="38160">
            <a:solidFill>
              <a:srgbClr val="eded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95" name="Прямая соединительная линия 118"/>
          <p:cNvSpPr/>
          <p:nvPr/>
        </p:nvSpPr>
        <p:spPr>
          <a:xfrm flipH="1">
            <a:off x="536040" y="1174680"/>
            <a:ext cx="8280" cy="349200"/>
          </a:xfrm>
          <a:prstGeom prst="line">
            <a:avLst/>
          </a:prstGeom>
          <a:ln w="38160">
            <a:solidFill>
              <a:srgbClr val="eded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96" name="Picture 12" descr="C:\Documents and Settings\Admin\Рабочий стол\олеся\transporta-40.gif"/>
          <p:cNvPicPr/>
          <p:nvPr/>
        </p:nvPicPr>
        <p:blipFill>
          <a:blip r:embed="rId17"/>
          <a:stretch/>
        </p:blipFill>
        <p:spPr>
          <a:xfrm>
            <a:off x="7070760" y="5361120"/>
            <a:ext cx="207324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7" name="TextBox 130"/>
          <p:cNvGrpSpPr/>
          <p:nvPr/>
        </p:nvGrpSpPr>
        <p:grpSpPr>
          <a:xfrm>
            <a:off x="3681360" y="2577960"/>
            <a:ext cx="1828800" cy="506520"/>
            <a:chOff x="3681360" y="2577960"/>
            <a:chExt cx="1828800" cy="506520"/>
          </a:xfrm>
        </p:grpSpPr>
        <p:pic>
          <p:nvPicPr>
            <p:cNvPr id="298" name="TextBox 130" descr=""/>
            <p:cNvPicPr/>
            <p:nvPr/>
          </p:nvPicPr>
          <p:blipFill>
            <a:blip r:embed="rId18"/>
            <a:stretch/>
          </p:blipFill>
          <p:spPr>
            <a:xfrm>
              <a:off x="3681360" y="2577960"/>
              <a:ext cx="18288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42"/>
            <p:cNvSpPr/>
            <p:nvPr/>
          </p:nvSpPr>
          <p:spPr>
            <a:xfrm>
              <a:off x="3745080" y="2641680"/>
              <a:ext cx="17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ur school 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89 0.00439 L -0.57865 0.00439 E">
                                      <p:cBhvr>
                                        <p:cTn id="37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56 0.0148 L -1.00712 0.0148 E">
                                      <p:cBhvr>
                                        <p:cTn id="374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3535560" cy="2109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p45_630.jpg"/>
          <p:cNvPicPr/>
          <p:nvPr/>
        </p:nvPicPr>
        <p:blipFill>
          <a:blip r:embed="rId2"/>
          <a:stretch/>
        </p:blipFill>
        <p:spPr>
          <a:xfrm>
            <a:off x="3786120" y="285840"/>
            <a:ext cx="5072040" cy="3448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parking.jpg"/>
          <p:cNvPicPr/>
          <p:nvPr/>
        </p:nvPicPr>
        <p:blipFill>
          <a:blip r:embed="rId3"/>
          <a:stretch/>
        </p:blipFill>
        <p:spPr>
          <a:xfrm>
            <a:off x="0" y="2214720"/>
            <a:ext cx="4071960" cy="2571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4"/>
          <p:cNvSpPr/>
          <p:nvPr/>
        </p:nvSpPr>
        <p:spPr>
          <a:xfrm>
            <a:off x="714240" y="500076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Calibri"/>
              </a:rPr>
              <a:t>Parking zone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4"/>
          <p:cNvSpPr/>
          <p:nvPr/>
        </p:nvSpPr>
        <p:spPr>
          <a:xfrm>
            <a:off x="714240" y="500076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Pedestrian</a:t>
            </a: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i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[pɪˈdɛstrɪən]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32" name="Рисунок 5" descr="77da68d0b931d8ae12fc1f80aee21c1de3fb14b1.jpg"/>
          <p:cNvPicPr/>
          <p:nvPr/>
        </p:nvPicPr>
        <p:blipFill>
          <a:blip r:embed="rId1"/>
          <a:stretch/>
        </p:blipFill>
        <p:spPr>
          <a:xfrm>
            <a:off x="0" y="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Perexod.jpeg"/>
          <p:cNvPicPr/>
          <p:nvPr/>
        </p:nvPicPr>
        <p:blipFill>
          <a:blip r:embed="rId2"/>
          <a:stretch/>
        </p:blipFill>
        <p:spPr>
          <a:xfrm>
            <a:off x="6762600" y="2857680"/>
            <a:ext cx="238140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gbdd.jpg"/>
          <p:cNvPicPr/>
          <p:nvPr/>
        </p:nvPicPr>
        <p:blipFill>
          <a:blip r:embed="rId3"/>
          <a:stretch/>
        </p:blipFill>
        <p:spPr>
          <a:xfrm>
            <a:off x="0" y="157176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20473809.png"/>
          <p:cNvPicPr/>
          <p:nvPr/>
        </p:nvPicPr>
        <p:blipFill>
          <a:blip r:embed="rId4"/>
          <a:stretch/>
        </p:blipFill>
        <p:spPr>
          <a:xfrm>
            <a:off x="3786120" y="0"/>
            <a:ext cx="5357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4"/>
          <p:cNvSpPr/>
          <p:nvPr/>
        </p:nvSpPr>
        <p:spPr>
          <a:xfrm>
            <a:off x="714240" y="500076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sign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37" name="Рисунок 9" descr="a23.jpg"/>
          <p:cNvPicPr/>
          <p:nvPr/>
        </p:nvPicPr>
        <p:blipFill>
          <a:blip r:embed="rId1"/>
          <a:stretch/>
        </p:blipFill>
        <p:spPr>
          <a:xfrm>
            <a:off x="714240" y="571680"/>
            <a:ext cx="3643560" cy="2857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znaki-dorozhnogo-dvizheniya-kartinki-raspechatat.jpg"/>
          <p:cNvPicPr/>
          <p:nvPr/>
        </p:nvPicPr>
        <p:blipFill>
          <a:blip r:embed="rId2"/>
          <a:stretch/>
        </p:blipFill>
        <p:spPr>
          <a:xfrm>
            <a:off x="4214880" y="285840"/>
            <a:ext cx="4228920" cy="30002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memo_dorznaki2.jpg"/>
          <p:cNvPicPr/>
          <p:nvPr/>
        </p:nvPicPr>
        <p:blipFill>
          <a:blip r:embed="rId3"/>
          <a:stretch/>
        </p:blipFill>
        <p:spPr>
          <a:xfrm>
            <a:off x="4429080" y="3429000"/>
            <a:ext cx="3902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4"/>
          <p:cNvSpPr/>
          <p:nvPr/>
        </p:nvSpPr>
        <p:spPr>
          <a:xfrm>
            <a:off x="714240" y="45007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warden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3643200" y="521496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træfɪk</a:t>
            </a:r>
            <a:r>
              <a:rPr b="0" i="1" lang="ru-RU" sz="4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wɔːdn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42" name="Рисунок 6" descr="12_gibdd.jpg"/>
          <p:cNvPicPr/>
          <p:nvPr/>
        </p:nvPicPr>
        <p:blipFill>
          <a:blip r:embed="rId1"/>
          <a:stretch/>
        </p:blipFill>
        <p:spPr>
          <a:xfrm>
            <a:off x="357120" y="285840"/>
            <a:ext cx="428616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1316519210_omak1.jpg"/>
          <p:cNvPicPr/>
          <p:nvPr/>
        </p:nvPicPr>
        <p:blipFill>
          <a:blip r:embed="rId2"/>
          <a:stretch/>
        </p:blipFill>
        <p:spPr>
          <a:xfrm>
            <a:off x="5572080" y="2714760"/>
            <a:ext cx="285768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Avtomobilnyiy-registrator01ust.jpg"/>
          <p:cNvPicPr/>
          <p:nvPr/>
        </p:nvPicPr>
        <p:blipFill>
          <a:blip r:embed="rId3"/>
          <a:stretch/>
        </p:blipFill>
        <p:spPr>
          <a:xfrm>
            <a:off x="4929120" y="357120"/>
            <a:ext cx="3357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4"/>
          <p:cNvSpPr/>
          <p:nvPr/>
        </p:nvSpPr>
        <p:spPr>
          <a:xfrm>
            <a:off x="714240" y="45007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Zebra crossing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643200" y="521496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zɛbrə</a:t>
            </a:r>
            <a:r>
              <a:rPr b="0" i="1" lang="ru-RU" sz="4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krɒsɪŋ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47" name="Рисунок 9" descr="002.jpg"/>
          <p:cNvPicPr/>
          <p:nvPr/>
        </p:nvPicPr>
        <p:blipFill>
          <a:blip r:embed="rId1"/>
          <a:stretch/>
        </p:blipFill>
        <p:spPr>
          <a:xfrm>
            <a:off x="500040" y="571680"/>
            <a:ext cx="4286160" cy="3500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0" descr="d8b83ce20ca779dab8fdd287cd889026.gif"/>
          <p:cNvPicPr/>
          <p:nvPr/>
        </p:nvPicPr>
        <p:blipFill>
          <a:blip r:embed="rId2"/>
          <a:stretch/>
        </p:blipFill>
        <p:spPr>
          <a:xfrm>
            <a:off x="4929120" y="357120"/>
            <a:ext cx="39355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1" descr="357640a3884804fc1787ea511137e51b.0.jpg"/>
          <p:cNvPicPr/>
          <p:nvPr/>
        </p:nvPicPr>
        <p:blipFill>
          <a:blip r:embed="rId3"/>
          <a:stretch/>
        </p:blipFill>
        <p:spPr>
          <a:xfrm>
            <a:off x="5500800" y="2857680"/>
            <a:ext cx="29764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4"/>
          <p:cNvSpPr/>
          <p:nvPr/>
        </p:nvSpPr>
        <p:spPr>
          <a:xfrm>
            <a:off x="714240" y="40006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Pavement</a:t>
            </a:r>
            <a:r>
              <a:rPr b="0" lang="en-US" sz="5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0" y="514368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peɪvmənt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52" name="Рисунок 6" descr="24616.jpg"/>
          <p:cNvPicPr/>
          <p:nvPr/>
        </p:nvPicPr>
        <p:blipFill>
          <a:blip r:embed="rId1"/>
          <a:stretch/>
        </p:blipFill>
        <p:spPr>
          <a:xfrm>
            <a:off x="428760" y="285840"/>
            <a:ext cx="4500360" cy="31924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Дорога-с-тротуаром.jpg"/>
          <p:cNvPicPr/>
          <p:nvPr/>
        </p:nvPicPr>
        <p:blipFill>
          <a:blip r:embed="rId2"/>
          <a:stretch/>
        </p:blipFill>
        <p:spPr>
          <a:xfrm>
            <a:off x="4857840" y="37861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Осень-1336982792_11.jpg"/>
          <p:cNvPicPr/>
          <p:nvPr/>
        </p:nvPicPr>
        <p:blipFill>
          <a:blip r:embed="rId3"/>
          <a:stretch/>
        </p:blipFill>
        <p:spPr>
          <a:xfrm>
            <a:off x="5072040" y="536400"/>
            <a:ext cx="3714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4"/>
          <p:cNvSpPr/>
          <p:nvPr/>
        </p:nvSpPr>
        <p:spPr>
          <a:xfrm>
            <a:off x="642960" y="492912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light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56" name="Group 16" descr=""/>
          <p:cNvPicPr/>
          <p:nvPr/>
        </p:nvPicPr>
        <p:blipFill>
          <a:blip r:embed="rId1"/>
          <a:stretch/>
        </p:blipFill>
        <p:spPr>
          <a:xfrm>
            <a:off x="6278400" y="1066680"/>
            <a:ext cx="1627200" cy="518184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6500880" y="1214280"/>
            <a:ext cx="1162080" cy="11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6500880" y="2357280"/>
            <a:ext cx="1146240" cy="1073160"/>
          </a:xfrm>
          <a:prstGeom prst="ellipse">
            <a:avLst/>
          </a:prstGeom>
          <a:solidFill>
            <a:srgbClr val="f9f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6572160" y="3500280"/>
            <a:ext cx="1117800" cy="10605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0" name="Стрелка вправо 19"/>
          <p:cNvSpPr/>
          <p:nvPr/>
        </p:nvSpPr>
        <p:spPr>
          <a:xfrm rot="10800000">
            <a:off x="4641480" y="1617840"/>
            <a:ext cx="1063800" cy="43632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1" name="Стрелка вправо 20"/>
          <p:cNvSpPr/>
          <p:nvPr/>
        </p:nvSpPr>
        <p:spPr>
          <a:xfrm rot="10800000">
            <a:off x="4714920" y="2571840"/>
            <a:ext cx="1063440" cy="436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2" name="Стрелка вправо 21"/>
          <p:cNvSpPr/>
          <p:nvPr/>
        </p:nvSpPr>
        <p:spPr>
          <a:xfrm rot="10800000">
            <a:off x="4785840" y="3571560"/>
            <a:ext cx="1063800" cy="4366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28800" y="1285560"/>
            <a:ext cx="284472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Stop!</a:t>
            </a:r>
            <a:endParaRPr b="0" lang="en-US" sz="6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285840" y="2286000"/>
            <a:ext cx="439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Times New Roman"/>
              </a:rPr>
              <a:t>Attention!</a:t>
            </a:r>
            <a:endParaRPr b="0" lang="en-US" sz="4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142920" y="3286080"/>
            <a:ext cx="3800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GO !</a:t>
            </a:r>
            <a:endParaRPr b="0" lang="en-US" sz="4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8:16:40Z</dcterms:created>
  <dc:creator>гарант</dc:creator>
  <dc:description/>
  <dc:language>en-US</dc:language>
  <cp:lastModifiedBy>гарант</cp:lastModifiedBy>
  <dcterms:modified xsi:type="dcterms:W3CDTF">2020-12-03T17:24:16Z</dcterms:modified>
  <cp:revision>42</cp:revision>
  <dc:subject/>
  <dc:title>Слайд 1</dc:title>
</cp:coreProperties>
</file>