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CB5-4C6D-463B-84A3-FF080AEA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5AD-BAAE-4654-991C-D0B12549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26CB-BC41-4EB1-BBC5-572C9BD0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149-3355-408A-ABD3-9D1BCDFD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470D-D766-4DE3-BB55-3EEDAD1B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07D-A691-4AE2-A058-03D898E2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261-034D-4436-B91A-96B22E46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18A-7D42-4593-9F97-98E9E5C3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E09B-A415-4AA7-BFF8-6608D43D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EB3-FF94-426B-BAA2-405C8418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F65-7DF3-41DE-9C13-81847635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507-19FD-4B12-868C-EB9ED853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08DB-AD8A-43C9-A397-257CC1C088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87152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ические     ряды химических элемент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1052640"/>
            <a:ext cx="9144000" cy="42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.4P+5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=2P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. P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3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O=2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2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6Na=2Na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3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6Na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O=2Na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3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6NaOH=2Na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3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Line 5"/>
          <p:cNvSpPr/>
          <p:nvPr/>
        </p:nvSpPr>
        <p:spPr>
          <a:xfrm>
            <a:off x="1042920" y="1125360"/>
            <a:ext cx="0" cy="122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116000" y="3500280"/>
            <a:ext cx="0" cy="1008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8544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6805800" y="1341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716616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7237440" y="4941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556000" y="907920"/>
            <a:ext cx="2952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3853080" y="26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2916360" y="2924280"/>
            <a:ext cx="280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4213440" y="2205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3276720" y="465300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4357800" y="3933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2195640" y="609300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4213440" y="5373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2124000" y="1197000"/>
            <a:ext cx="4176720" cy="3313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133800" y="1484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2050920" y="3213000"/>
            <a:ext cx="4105440" cy="129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565440" y="3213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3"/>
          <p:cNvSpPr/>
          <p:nvPr/>
        </p:nvSpPr>
        <p:spPr>
          <a:xfrm>
            <a:off x="2916360" y="4941720"/>
            <a:ext cx="3743280" cy="1008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5078520" y="4941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5"/>
          <p:cNvSpPr/>
          <p:nvPr/>
        </p:nvSpPr>
        <p:spPr>
          <a:xfrm flipH="1">
            <a:off x="2411280" y="2852640"/>
            <a:ext cx="3456000" cy="1584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2629080" y="36561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7"/>
          <p:cNvSpPr/>
          <p:nvPr/>
        </p:nvSpPr>
        <p:spPr>
          <a:xfrm flipH="1">
            <a:off x="1763280" y="2924280"/>
            <a:ext cx="4248360" cy="302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8"/>
          <p:cNvSpPr/>
          <p:nvPr/>
        </p:nvSpPr>
        <p:spPr>
          <a:xfrm>
            <a:off x="2052720" y="5084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9"/>
          <p:cNvSpPr/>
          <p:nvPr/>
        </p:nvSpPr>
        <p:spPr>
          <a:xfrm flipH="1" flipV="1">
            <a:off x="2050560" y="1125000"/>
            <a:ext cx="4681800" cy="475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6013440" y="4797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 flipH="1">
            <a:off x="2142720" y="4714920"/>
            <a:ext cx="4357800" cy="144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2859120" y="52862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Line 5"/>
          <p:cNvSpPr/>
          <p:nvPr/>
        </p:nvSpPr>
        <p:spPr>
          <a:xfrm>
            <a:off x="1042920" y="1125360"/>
            <a:ext cx="0" cy="122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1116000" y="3500280"/>
            <a:ext cx="0" cy="1008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8544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805800" y="1341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716616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7237440" y="4941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2556000" y="907920"/>
            <a:ext cx="2952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853080" y="26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2916360" y="2924280"/>
            <a:ext cx="280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4213440" y="2205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276720" y="465300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4357800" y="3933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2195640" y="609300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4213440" y="5373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2124000" y="1197000"/>
            <a:ext cx="4176720" cy="3313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3133800" y="1484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2050920" y="3213000"/>
            <a:ext cx="4105440" cy="129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3565440" y="3213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2916360" y="4941720"/>
            <a:ext cx="3743280" cy="1008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5078520" y="4941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5"/>
          <p:cNvSpPr/>
          <p:nvPr/>
        </p:nvSpPr>
        <p:spPr>
          <a:xfrm flipH="1">
            <a:off x="2411280" y="2852640"/>
            <a:ext cx="3456000" cy="1584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2629080" y="36561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7"/>
          <p:cNvSpPr/>
          <p:nvPr/>
        </p:nvSpPr>
        <p:spPr>
          <a:xfrm flipH="1">
            <a:off x="1763280" y="2924280"/>
            <a:ext cx="4248360" cy="302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2052720" y="5084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 flipH="1" flipV="1">
            <a:off x="2050560" y="1125000"/>
            <a:ext cx="4681800" cy="475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6013440" y="4797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H="1">
            <a:off x="2142720" y="4714920"/>
            <a:ext cx="4357800" cy="144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2859120" y="52862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Line 5"/>
          <p:cNvSpPr/>
          <p:nvPr/>
        </p:nvSpPr>
        <p:spPr>
          <a:xfrm>
            <a:off x="1042920" y="1125360"/>
            <a:ext cx="0" cy="122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116000" y="3500280"/>
            <a:ext cx="0" cy="1008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8544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2556000" y="907920"/>
            <a:ext cx="2952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2916360" y="2924280"/>
            <a:ext cx="280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3276720" y="465300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2195640" y="609300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2124000" y="1197000"/>
            <a:ext cx="4176720" cy="3313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1"/>
          <p:cNvSpPr/>
          <p:nvPr/>
        </p:nvSpPr>
        <p:spPr>
          <a:xfrm>
            <a:off x="2050920" y="3213000"/>
            <a:ext cx="4105440" cy="129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>
            <a:off x="2916360" y="4941720"/>
            <a:ext cx="3743280" cy="1008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5"/>
          <p:cNvSpPr/>
          <p:nvPr/>
        </p:nvSpPr>
        <p:spPr>
          <a:xfrm flipH="1">
            <a:off x="2411280" y="2852640"/>
            <a:ext cx="3456000" cy="1584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7"/>
          <p:cNvSpPr/>
          <p:nvPr/>
        </p:nvSpPr>
        <p:spPr>
          <a:xfrm flipH="1">
            <a:off x="1763280" y="2924280"/>
            <a:ext cx="4248360" cy="302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9"/>
          <p:cNvSpPr/>
          <p:nvPr/>
        </p:nvSpPr>
        <p:spPr>
          <a:xfrm flipH="1" flipV="1">
            <a:off x="2050560" y="1125000"/>
            <a:ext cx="4681800" cy="475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 flipH="1">
            <a:off x="2142720" y="4714920"/>
            <a:ext cx="4357800" cy="144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0"/>
          <p:cNvSpPr/>
          <p:nvPr/>
        </p:nvSpPr>
        <p:spPr>
          <a:xfrm>
            <a:off x="4146480" y="28584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1"/>
          <p:cNvSpPr/>
          <p:nvPr/>
        </p:nvSpPr>
        <p:spPr>
          <a:xfrm>
            <a:off x="1143000" y="1428840"/>
            <a:ext cx="28584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2"/>
          <p:cNvSpPr/>
          <p:nvPr/>
        </p:nvSpPr>
        <p:spPr>
          <a:xfrm>
            <a:off x="714240" y="5357880"/>
            <a:ext cx="28584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3"/>
          <p:cNvSpPr/>
          <p:nvPr/>
        </p:nvSpPr>
        <p:spPr>
          <a:xfrm>
            <a:off x="1214280" y="3643200"/>
            <a:ext cx="285840" cy="357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857160" y="260280"/>
            <a:ext cx="11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 flipH="1">
            <a:off x="1360080" y="1071720"/>
            <a:ext cx="3240" cy="84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784080" y="1773360"/>
            <a:ext cx="163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1360440" y="256536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1433520" y="414972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1160" y="3284640"/>
            <a:ext cx="28130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(ОН)</a:t>
            </a:r>
            <a:r>
              <a:rPr b="0" lang="ru-RU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68440" y="4724280"/>
            <a:ext cx="31464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u(N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6359760" y="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6738840" y="1000080"/>
            <a:ext cx="0" cy="79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6738840" y="2655720"/>
            <a:ext cx="0" cy="79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6883560" y="4384800"/>
            <a:ext cx="0" cy="79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269040" y="1719360"/>
            <a:ext cx="15966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837760" y="3382920"/>
            <a:ext cx="21466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5920920" y="5038560"/>
            <a:ext cx="21466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885720" y="107172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857160" y="260280"/>
            <a:ext cx="11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 flipH="1">
            <a:off x="1360080" y="1071720"/>
            <a:ext cx="3240" cy="84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784080" y="1773360"/>
            <a:ext cx="16322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1360440" y="256536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1433520" y="414972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281160" y="3284640"/>
            <a:ext cx="281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571680" y="4929120"/>
            <a:ext cx="15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iC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6359760" y="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"/>
          <p:cNvSpPr/>
          <p:nvPr/>
        </p:nvSpPr>
        <p:spPr>
          <a:xfrm>
            <a:off x="6738840" y="1000080"/>
            <a:ext cx="0" cy="79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6738840" y="2655720"/>
            <a:ext cx="0" cy="79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6883560" y="4384800"/>
            <a:ext cx="0" cy="79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269040" y="1719360"/>
            <a:ext cx="15966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837760" y="3382920"/>
            <a:ext cx="21466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5922360" y="5038560"/>
            <a:ext cx="2485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Na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6885720" y="107172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Прямая со стрелкой 19"/>
          <p:cNvCxnSpPr/>
          <p:nvPr/>
        </p:nvCxnSpPr>
        <p:spPr>
          <a:xfrm>
            <a:off x="1571760" y="785880"/>
            <a:ext cx="45727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0" name="Прямая со стрелкой 20"/>
          <p:cNvCxnSpPr/>
          <p:nvPr/>
        </p:nvCxnSpPr>
        <p:spPr>
          <a:xfrm>
            <a:off x="2071440" y="2286000"/>
            <a:ext cx="4072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1" name="Прямая со стрелкой 23"/>
          <p:cNvCxnSpPr/>
          <p:nvPr/>
        </p:nvCxnSpPr>
        <p:spPr>
          <a:xfrm>
            <a:off x="1999800" y="3785760"/>
            <a:ext cx="378684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2" name="Прямая со стрелкой 27"/>
          <p:cNvCxnSpPr>
            <a:endCxn id="197" idx="1"/>
          </p:cNvCxnSpPr>
          <p:nvPr/>
        </p:nvCxnSpPr>
        <p:spPr>
          <a:xfrm>
            <a:off x="2071440" y="5500800"/>
            <a:ext cx="3804120" cy="46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03" name="TextBox 34"/>
          <p:cNvSpPr/>
          <p:nvPr/>
        </p:nvSpPr>
        <p:spPr>
          <a:xfrm>
            <a:off x="1357200" y="1071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5"/>
          <p:cNvSpPr/>
          <p:nvPr/>
        </p:nvSpPr>
        <p:spPr>
          <a:xfrm>
            <a:off x="1500120" y="271476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6"/>
          <p:cNvSpPr/>
          <p:nvPr/>
        </p:nvSpPr>
        <p:spPr>
          <a:xfrm>
            <a:off x="1500120" y="42148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7"/>
          <p:cNvSpPr/>
          <p:nvPr/>
        </p:nvSpPr>
        <p:spPr>
          <a:xfrm>
            <a:off x="3071880" y="21420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8"/>
          <p:cNvSpPr/>
          <p:nvPr/>
        </p:nvSpPr>
        <p:spPr>
          <a:xfrm>
            <a:off x="3357720" y="16430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9"/>
          <p:cNvSpPr/>
          <p:nvPr/>
        </p:nvSpPr>
        <p:spPr>
          <a:xfrm>
            <a:off x="3429000" y="32148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0"/>
          <p:cNvSpPr/>
          <p:nvPr/>
        </p:nvSpPr>
        <p:spPr>
          <a:xfrm>
            <a:off x="3500280" y="49291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1"/>
          <p:cNvSpPr/>
          <p:nvPr/>
        </p:nvSpPr>
        <p:spPr>
          <a:xfrm>
            <a:off x="6858000" y="10000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2"/>
          <p:cNvSpPr/>
          <p:nvPr/>
        </p:nvSpPr>
        <p:spPr>
          <a:xfrm>
            <a:off x="6786720" y="271476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3"/>
          <p:cNvSpPr/>
          <p:nvPr/>
        </p:nvSpPr>
        <p:spPr>
          <a:xfrm>
            <a:off x="6858000" y="44290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Прямая со стрелкой 45"/>
          <p:cNvCxnSpPr/>
          <p:nvPr/>
        </p:nvCxnSpPr>
        <p:spPr>
          <a:xfrm>
            <a:off x="1642680" y="928440"/>
            <a:ext cx="4358520" cy="2786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4" name="Прямая со стрелкой 47"/>
          <p:cNvCxnSpPr/>
          <p:nvPr/>
        </p:nvCxnSpPr>
        <p:spPr>
          <a:xfrm>
            <a:off x="2000160" y="2499840"/>
            <a:ext cx="3929760" cy="142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5" name="Прямая со стрелкой 49"/>
          <p:cNvCxnSpPr/>
          <p:nvPr/>
        </p:nvCxnSpPr>
        <p:spPr>
          <a:xfrm>
            <a:off x="1928880" y="4000680"/>
            <a:ext cx="4001040" cy="1429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16" name="TextBox 52"/>
          <p:cNvSpPr/>
          <p:nvPr/>
        </p:nvSpPr>
        <p:spPr>
          <a:xfrm>
            <a:off x="2571840" y="12859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3"/>
          <p:cNvSpPr/>
          <p:nvPr/>
        </p:nvSpPr>
        <p:spPr>
          <a:xfrm>
            <a:off x="2714760" y="2571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54"/>
          <p:cNvSpPr/>
          <p:nvPr/>
        </p:nvSpPr>
        <p:spPr>
          <a:xfrm>
            <a:off x="3000240" y="41432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Прямая со стрелкой 56"/>
          <p:cNvCxnSpPr/>
          <p:nvPr/>
        </p:nvCxnSpPr>
        <p:spPr>
          <a:xfrm flipV="1">
            <a:off x="2071440" y="2499480"/>
            <a:ext cx="407268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20" name="TextBox 57"/>
          <p:cNvSpPr/>
          <p:nvPr/>
        </p:nvSpPr>
        <p:spPr>
          <a:xfrm>
            <a:off x="4857840" y="23572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Прямая со стрелкой 58"/>
          <p:cNvCxnSpPr/>
          <p:nvPr/>
        </p:nvCxnSpPr>
        <p:spPr>
          <a:xfrm flipV="1">
            <a:off x="2071800" y="2571120"/>
            <a:ext cx="4286880" cy="2786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22" name="TextBox 60"/>
          <p:cNvSpPr/>
          <p:nvPr/>
        </p:nvSpPr>
        <p:spPr>
          <a:xfrm>
            <a:off x="2143080" y="457200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Прямая со стрелкой 61"/>
          <p:cNvCxnSpPr/>
          <p:nvPr/>
        </p:nvCxnSpPr>
        <p:spPr>
          <a:xfrm>
            <a:off x="1428840" y="928440"/>
            <a:ext cx="4644000" cy="4786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24" name="TextBox 63"/>
          <p:cNvSpPr/>
          <p:nvPr/>
        </p:nvSpPr>
        <p:spPr>
          <a:xfrm>
            <a:off x="4929120" y="428616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Прямая со стрелкой 64"/>
          <p:cNvCxnSpPr/>
          <p:nvPr/>
        </p:nvCxnSpPr>
        <p:spPr>
          <a:xfrm flipV="1">
            <a:off x="1928880" y="4071240"/>
            <a:ext cx="4001040" cy="142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26" name="TextBox 66"/>
          <p:cNvSpPr/>
          <p:nvPr/>
        </p:nvSpPr>
        <p:spPr>
          <a:xfrm>
            <a:off x="3857760" y="41432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258920" y="0"/>
            <a:ext cx="640872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709800" y="260280"/>
            <a:ext cx="98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4211640" y="1125360"/>
            <a:ext cx="0" cy="79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636720" y="1773360"/>
            <a:ext cx="14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4211640" y="256536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4284720" y="414972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147480" y="3284640"/>
            <a:ext cx="28008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(ОН)</a:t>
            </a:r>
            <a:r>
              <a:rPr b="0" lang="ru-RU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435480" y="4724280"/>
            <a:ext cx="18284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Cl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709800" y="26028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>
            <a:off x="4211640" y="1125360"/>
            <a:ext cx="0" cy="79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636720" y="177336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4211640" y="256536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284720" y="414972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147840" y="3284640"/>
            <a:ext cx="27810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(ОН)</a:t>
            </a:r>
            <a:r>
              <a:rPr b="0" lang="ru-RU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435480" y="4724280"/>
            <a:ext cx="2285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gC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6"/>
          <p:cNvSpPr/>
          <p:nvPr/>
        </p:nvSpPr>
        <p:spPr>
          <a:xfrm>
            <a:off x="3709800" y="26028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211640" y="1125360"/>
            <a:ext cx="0" cy="79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636720" y="1773360"/>
            <a:ext cx="14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а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4211640" y="256536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4284720" y="4149720"/>
            <a:ext cx="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47480" y="3284640"/>
            <a:ext cx="2762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 а(ОН)</a:t>
            </a:r>
            <a:r>
              <a:rPr b="0" lang="ru-RU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435480" y="4724280"/>
            <a:ext cx="20188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0" y="285840"/>
            <a:ext cx="642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1.  Ca+     =  Ca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2237760" y="285840"/>
            <a:ext cx="11422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0" y="1214280"/>
            <a:ext cx="76438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2. CaO+       = Ca(OH)</a:t>
            </a:r>
            <a:r>
              <a:rPr b="0" lang="ru-RU" sz="6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0" y="2143080"/>
            <a:ext cx="914400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Ca(OH)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          =C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Ca(OH)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          =C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Ca(OH)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           =C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2893680" y="2143080"/>
            <a:ext cx="175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7079040" y="2214720"/>
            <a:ext cx="139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2643120" y="1285920"/>
            <a:ext cx="14288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3036600" y="2857680"/>
            <a:ext cx="175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9"/>
          <p:cNvSpPr/>
          <p:nvPr/>
        </p:nvSpPr>
        <p:spPr>
          <a:xfrm>
            <a:off x="3091680" y="3643200"/>
            <a:ext cx="1136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7160760" y="2857680"/>
            <a:ext cx="11516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7232040" y="3643200"/>
            <a:ext cx="11516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646200" y="4287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3646440" y="4287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1311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1125360"/>
            <a:ext cx="9144000" cy="41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Ca(OH)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=C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Ca(OH)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=C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2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Ca(OH)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=C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+2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311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403280" y="0"/>
            <a:ext cx="712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760920" y="-19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4140360" y="981000"/>
            <a:ext cx="0" cy="79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4140360" y="2637000"/>
            <a:ext cx="0" cy="79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4284720" y="4365720"/>
            <a:ext cx="0" cy="79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670200" y="1700280"/>
            <a:ext cx="15966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238920" y="3363840"/>
            <a:ext cx="21466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295080" y="5019840"/>
            <a:ext cx="21376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lP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286160" y="1052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4429080" y="2708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4429080" y="436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4:33:52Z</dcterms:created>
  <dc:creator>User</dc:creator>
  <dc:description/>
  <dc:language>en-US</dc:language>
  <cp:lastModifiedBy>Преподаватель</cp:lastModifiedBy>
  <dcterms:modified xsi:type="dcterms:W3CDTF">2020-10-30T09:17:31Z</dcterms:modified>
  <cp:revision>37</cp:revision>
  <dc:subject/>
  <dc:title>Генетические ряды химических элементов</dc:title>
</cp:coreProperties>
</file>