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5A9-3B7B-40CC-B368-C539E77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B7F-22AC-4694-8DE8-7103591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36F-2B71-48F5-AD4C-FCD1E4E1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D09-CA98-4BA1-BE98-70B7C238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43D-35D9-4C9E-A374-E64DE57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C00-DCC7-4C5E-A076-E1E30F7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BD5-796E-4D12-8D44-C8D6F2E5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A35-1336-4DFE-95D7-7AE8FFC9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7C7-0959-4A23-ABD1-66C1012A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F07-FEFA-4167-936B-9C5AAFE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4E-0E9A-4078-918F-A5032FE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9F5-3590-4833-A064-C3C2DD0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4B3D-384E-40EB-A1A5-DE9B1947C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715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ие     ряды химических элемент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1052640"/>
            <a:ext cx="91440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4P+5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2P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P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=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OH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805800" y="134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166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237440" y="494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853080" y="26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213440" y="220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357800" y="39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213440" y="537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13380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565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5078520" y="49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629080" y="3656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2052720" y="50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013440" y="47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59120" y="5286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05800" y="134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7166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7237440" y="494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853080" y="26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213440" y="220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357800" y="39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213440" y="537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313380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565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078520" y="49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629080" y="3656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2052720" y="50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6013440" y="47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2859120" y="5286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4146480" y="28584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1"/>
          <p:cNvSpPr/>
          <p:nvPr/>
        </p:nvSpPr>
        <p:spPr>
          <a:xfrm>
            <a:off x="1143000" y="1428840"/>
            <a:ext cx="285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2"/>
          <p:cNvSpPr/>
          <p:nvPr/>
        </p:nvSpPr>
        <p:spPr>
          <a:xfrm>
            <a:off x="714240" y="5357880"/>
            <a:ext cx="2858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3"/>
          <p:cNvSpPr/>
          <p:nvPr/>
        </p:nvSpPr>
        <p:spPr>
          <a:xfrm>
            <a:off x="1214280" y="3643200"/>
            <a:ext cx="285840" cy="357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857160" y="260280"/>
            <a:ext cx="11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 flipH="1">
            <a:off x="1360080" y="1071720"/>
            <a:ext cx="3240" cy="84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84080" y="1773360"/>
            <a:ext cx="163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3604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4335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1160" y="3284640"/>
            <a:ext cx="2813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68440" y="4724280"/>
            <a:ext cx="3146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(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35976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738840" y="100008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738840" y="2655720"/>
            <a:ext cx="0" cy="7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6883560" y="43848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269040" y="171936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837760" y="338292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920920" y="503856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885720" y="10717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857160" y="260280"/>
            <a:ext cx="11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H="1">
            <a:off x="1360080" y="1071720"/>
            <a:ext cx="3240" cy="84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84080" y="1773360"/>
            <a:ext cx="16322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3604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4335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81160" y="3284640"/>
            <a:ext cx="28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71680" y="492912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35976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6738840" y="100008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6738840" y="2655720"/>
            <a:ext cx="0" cy="7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6883560" y="43848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269040" y="171936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37760" y="338292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922360" y="5038560"/>
            <a:ext cx="2485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885720" y="10717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>
            <a:off x="1571760" y="785880"/>
            <a:ext cx="4572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0" name="Прямая со стрелкой 20"/>
          <p:cNvCxnSpPr/>
          <p:nvPr/>
        </p:nvCxnSpPr>
        <p:spPr>
          <a:xfrm>
            <a:off x="2071440" y="2286000"/>
            <a:ext cx="4072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Прямая со стрелкой 23"/>
          <p:cNvCxnSpPr/>
          <p:nvPr/>
        </p:nvCxnSpPr>
        <p:spPr>
          <a:xfrm>
            <a:off x="1999800" y="3785760"/>
            <a:ext cx="3786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Прямая со стрелкой 27"/>
          <p:cNvCxnSpPr>
            <a:endCxn id="197" idx="1"/>
          </p:cNvCxnSpPr>
          <p:nvPr/>
        </p:nvCxnSpPr>
        <p:spPr>
          <a:xfrm>
            <a:off x="2071440" y="5500800"/>
            <a:ext cx="3804120" cy="4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34"/>
          <p:cNvSpPr/>
          <p:nvPr/>
        </p:nvSpPr>
        <p:spPr>
          <a:xfrm>
            <a:off x="1357200" y="1071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1500120" y="271476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1500120" y="42148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3071880" y="2142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3357720" y="16430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3429000" y="32148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0"/>
          <p:cNvSpPr/>
          <p:nvPr/>
        </p:nvSpPr>
        <p:spPr>
          <a:xfrm>
            <a:off x="3500280" y="4929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6858000" y="1000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2"/>
          <p:cNvSpPr/>
          <p:nvPr/>
        </p:nvSpPr>
        <p:spPr>
          <a:xfrm>
            <a:off x="6786720" y="2714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3"/>
          <p:cNvSpPr/>
          <p:nvPr/>
        </p:nvSpPr>
        <p:spPr>
          <a:xfrm>
            <a:off x="6858000" y="4429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45"/>
          <p:cNvCxnSpPr/>
          <p:nvPr/>
        </p:nvCxnSpPr>
        <p:spPr>
          <a:xfrm>
            <a:off x="1642680" y="928440"/>
            <a:ext cx="4358520" cy="278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4" name="Прямая со стрелкой 47"/>
          <p:cNvCxnSpPr/>
          <p:nvPr/>
        </p:nvCxnSpPr>
        <p:spPr>
          <a:xfrm>
            <a:off x="2000160" y="2499840"/>
            <a:ext cx="39297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5" name="Прямая со стрелкой 49"/>
          <p:cNvCxnSpPr/>
          <p:nvPr/>
        </p:nvCxnSpPr>
        <p:spPr>
          <a:xfrm>
            <a:off x="1928880" y="4000680"/>
            <a:ext cx="4001040" cy="1429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16" name="TextBox 52"/>
          <p:cNvSpPr/>
          <p:nvPr/>
        </p:nvSpPr>
        <p:spPr>
          <a:xfrm>
            <a:off x="2571840" y="12859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3"/>
          <p:cNvSpPr/>
          <p:nvPr/>
        </p:nvSpPr>
        <p:spPr>
          <a:xfrm>
            <a:off x="2714760" y="2571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4"/>
          <p:cNvSpPr/>
          <p:nvPr/>
        </p:nvSpPr>
        <p:spPr>
          <a:xfrm>
            <a:off x="3000240" y="4143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56"/>
          <p:cNvCxnSpPr/>
          <p:nvPr/>
        </p:nvCxnSpPr>
        <p:spPr>
          <a:xfrm flipV="1">
            <a:off x="2071440" y="2499480"/>
            <a:ext cx="407268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TextBox 57"/>
          <p:cNvSpPr/>
          <p:nvPr/>
        </p:nvSpPr>
        <p:spPr>
          <a:xfrm>
            <a:off x="4857840" y="23572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58"/>
          <p:cNvCxnSpPr/>
          <p:nvPr/>
        </p:nvCxnSpPr>
        <p:spPr>
          <a:xfrm flipV="1">
            <a:off x="2071800" y="2571120"/>
            <a:ext cx="4286880" cy="278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2" name="TextBox 60"/>
          <p:cNvSpPr/>
          <p:nvPr/>
        </p:nvSpPr>
        <p:spPr>
          <a:xfrm>
            <a:off x="2143080" y="4572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Прямая со стрелкой 61"/>
          <p:cNvCxnSpPr/>
          <p:nvPr/>
        </p:nvCxnSpPr>
        <p:spPr>
          <a:xfrm>
            <a:off x="1428840" y="928440"/>
            <a:ext cx="4644000" cy="478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4" name="TextBox 63"/>
          <p:cNvSpPr/>
          <p:nvPr/>
        </p:nvSpPr>
        <p:spPr>
          <a:xfrm>
            <a:off x="4929120" y="42861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64"/>
          <p:cNvCxnSpPr/>
          <p:nvPr/>
        </p:nvCxnSpPr>
        <p:spPr>
          <a:xfrm flipV="1">
            <a:off x="1928880" y="4071240"/>
            <a:ext cx="400104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6" name="TextBox 66"/>
          <p:cNvSpPr/>
          <p:nvPr/>
        </p:nvSpPr>
        <p:spPr>
          <a:xfrm>
            <a:off x="3857760" y="41432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4087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709800" y="260280"/>
            <a:ext cx="98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636720" y="177336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147480" y="3284640"/>
            <a:ext cx="2800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35480" y="4724280"/>
            <a:ext cx="1828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Cl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709800" y="2602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636720" y="177336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147840" y="3284640"/>
            <a:ext cx="2781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435480" y="4724280"/>
            <a:ext cx="2285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3709800" y="2602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636720" y="177336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47480" y="3284640"/>
            <a:ext cx="2762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 а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435480" y="4724280"/>
            <a:ext cx="2018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28584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.  Ca+     =  Ca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37760" y="285840"/>
            <a:ext cx="1142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214280"/>
            <a:ext cx="7643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. CaO+       = Ca(OH)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2143080"/>
            <a:ext cx="91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893680" y="2143080"/>
            <a:ext cx="175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079040" y="22147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643120" y="1285920"/>
            <a:ext cx="14288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036600" y="2857680"/>
            <a:ext cx="175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3091680" y="3643200"/>
            <a:ext cx="113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160760" y="2857680"/>
            <a:ext cx="115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7232040" y="3643200"/>
            <a:ext cx="115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646200" y="428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646440" y="428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1125360"/>
            <a:ext cx="914400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760920" y="-19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140360" y="9810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140360" y="26370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284720" y="436572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670200" y="170028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38920" y="336384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295080" y="5019840"/>
            <a:ext cx="2137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286160" y="10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429080" y="270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42908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4:33:52Z</dcterms:created>
  <dc:creator>User</dc:creator>
  <dc:description/>
  <dc:language>en-US</dc:language>
  <cp:lastModifiedBy>Преподаватель</cp:lastModifiedBy>
  <dcterms:modified xsi:type="dcterms:W3CDTF">2020-10-30T09:17:31Z</dcterms:modified>
  <cp:revision>37</cp:revision>
  <dc:subject/>
  <dc:title>Генетические ряды химических элементов</dc:title>
</cp:coreProperties>
</file>