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BFE-CD5E-4E50-8279-FE3793A2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517-3080-4A2F-9F1A-E1A656D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85C-5595-4D18-A3CA-57DDF5A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EB8-4C38-4A85-B1CD-47B2B515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007-6FFE-418A-82B7-BD7820C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C98-A055-4CE4-957C-FA5F5F3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3BF-99F1-40F9-AB17-212449A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83B-FF95-4C8D-A787-CF01C8C8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DF3-E5A9-4E53-8F66-CF2708C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570-32D9-4AB3-A9F6-8B16101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258-B7E2-4D69-8E88-EAD815D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63D-2AD9-4C7C-8C5A-FC81026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CC06-D5A5-45F7-AF16-465C7E918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Группа 4"/>
          <p:cNvGrpSpPr/>
          <p:nvPr/>
        </p:nvGrpSpPr>
        <p:grpSpPr>
          <a:xfrm>
            <a:off x="250920" y="333360"/>
            <a:ext cx="1944720" cy="3382920"/>
            <a:chOff x="250920" y="333360"/>
            <a:chExt cx="1944720" cy="3382920"/>
          </a:xfrm>
        </p:grpSpPr>
        <p:grpSp>
          <p:nvGrpSpPr>
            <p:cNvPr id="43" name="Группа 10"/>
            <p:cNvGrpSpPr/>
            <p:nvPr/>
          </p:nvGrpSpPr>
          <p:grpSpPr>
            <a:xfrm>
              <a:off x="250920" y="333360"/>
              <a:ext cx="1944720" cy="3382920"/>
              <a:chOff x="250920" y="333360"/>
              <a:chExt cx="1944720" cy="3382920"/>
            </a:xfrm>
          </p:grpSpPr>
          <p:sp>
            <p:nvSpPr>
              <p:cNvPr id="44" name="Rectangle 6"/>
              <p:cNvSpPr/>
              <p:nvPr/>
            </p:nvSpPr>
            <p:spPr>
              <a:xfrm>
                <a:off x="250920" y="333360"/>
                <a:ext cx="1944720" cy="338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Прямая соединительная линия 19"/>
              <p:cNvSpPr/>
              <p:nvPr/>
            </p:nvSpPr>
            <p:spPr>
              <a:xfrm>
                <a:off x="250920" y="2643120"/>
                <a:ext cx="19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AutoShape 7"/>
            <p:cNvSpPr/>
            <p:nvPr/>
          </p:nvSpPr>
          <p:spPr>
            <a:xfrm>
              <a:off x="754920" y="2852640"/>
              <a:ext cx="864360" cy="6476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Группа 9"/>
          <p:cNvGrpSpPr/>
          <p:nvPr/>
        </p:nvGrpSpPr>
        <p:grpSpPr>
          <a:xfrm>
            <a:off x="2340000" y="333360"/>
            <a:ext cx="1801800" cy="3382920"/>
            <a:chOff x="2340000" y="333360"/>
            <a:chExt cx="1801800" cy="3382920"/>
          </a:xfrm>
        </p:grpSpPr>
        <p:sp>
          <p:nvSpPr>
            <p:cNvPr id="48" name="Rectangle 6"/>
            <p:cNvSpPr/>
            <p:nvPr/>
          </p:nvSpPr>
          <p:spPr>
            <a:xfrm>
              <a:off x="2340000" y="333360"/>
              <a:ext cx="180180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4"/>
            <p:cNvSpPr/>
            <p:nvPr/>
          </p:nvSpPr>
          <p:spPr>
            <a:xfrm>
              <a:off x="2340000" y="264312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2844000" y="2852640"/>
              <a:ext cx="792000" cy="647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4"/>
          <p:cNvGrpSpPr/>
          <p:nvPr/>
        </p:nvGrpSpPr>
        <p:grpSpPr>
          <a:xfrm>
            <a:off x="4427640" y="333360"/>
            <a:ext cx="1801800" cy="3382920"/>
            <a:chOff x="4427640" y="333360"/>
            <a:chExt cx="1801800" cy="3382920"/>
          </a:xfrm>
        </p:grpSpPr>
        <p:sp>
          <p:nvSpPr>
            <p:cNvPr id="52" name="Rectangle 6"/>
            <p:cNvSpPr/>
            <p:nvPr/>
          </p:nvSpPr>
          <p:spPr>
            <a:xfrm>
              <a:off x="4427640" y="333360"/>
              <a:ext cx="180180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11"/>
            <p:cNvSpPr/>
            <p:nvPr/>
          </p:nvSpPr>
          <p:spPr>
            <a:xfrm>
              <a:off x="4427640" y="264312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4715640" y="2996640"/>
              <a:ext cx="1080000" cy="575640"/>
            </a:xfrm>
            <a:prstGeom prst="rect">
              <a:avLst/>
            </a:prstGeom>
            <a:solidFill>
              <a:srgbClr val="703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18"/>
          <p:cNvGrpSpPr/>
          <p:nvPr/>
        </p:nvGrpSpPr>
        <p:grpSpPr>
          <a:xfrm>
            <a:off x="6659640" y="333360"/>
            <a:ext cx="1803240" cy="3382920"/>
            <a:chOff x="6659640" y="333360"/>
            <a:chExt cx="1803240" cy="3382920"/>
          </a:xfrm>
        </p:grpSpPr>
        <p:sp>
          <p:nvSpPr>
            <p:cNvPr id="56" name="Rectangle 6"/>
            <p:cNvSpPr/>
            <p:nvPr/>
          </p:nvSpPr>
          <p:spPr>
            <a:xfrm>
              <a:off x="6659640" y="333360"/>
              <a:ext cx="1803240" cy="33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8"/>
            <p:cNvSpPr/>
            <p:nvPr/>
          </p:nvSpPr>
          <p:spPr>
            <a:xfrm>
              <a:off x="6659640" y="2643120"/>
              <a:ext cx="18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7308000" y="2924640"/>
              <a:ext cx="648360" cy="575640"/>
            </a:xfrm>
            <a:prstGeom prst="rect">
              <a:avLst/>
            </a:prstGeom>
            <a:solidFill>
              <a:srgbClr val="0505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7"/>
          <p:cNvSpPr/>
          <p:nvPr/>
        </p:nvSpPr>
        <p:spPr>
          <a:xfrm>
            <a:off x="468360" y="5805360"/>
            <a:ext cx="863640" cy="648000"/>
          </a:xfrm>
          <a:prstGeom prst="triangle">
            <a:avLst>
              <a:gd name="adj" fmla="val 50000"/>
            </a:avLst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39640" y="393372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132000" y="4005360"/>
            <a:ext cx="792360" cy="647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284720" y="5013360"/>
            <a:ext cx="792000" cy="6476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763640" y="4005360"/>
            <a:ext cx="1079640" cy="576000"/>
          </a:xfrm>
          <a:prstGeom prst="rect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835280" y="5877000"/>
            <a:ext cx="1081080" cy="57636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356000" y="5877000"/>
            <a:ext cx="647640" cy="576360"/>
          </a:xfrm>
          <a:prstGeom prst="rect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284720" y="4005360"/>
            <a:ext cx="647640" cy="5760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13200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050920" y="4941720"/>
            <a:ext cx="649440" cy="574920"/>
          </a:xfrm>
          <a:prstGeom prst="rect">
            <a:avLst/>
          </a:prstGeom>
          <a:solidFill>
            <a:srgbClr val="050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68360" y="4941720"/>
            <a:ext cx="1079280" cy="57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5265720" y="3971880"/>
            <a:ext cx="792360" cy="64764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364000" y="5013360"/>
            <a:ext cx="1079640" cy="576360"/>
          </a:xfrm>
          <a:prstGeom prst="rect">
            <a:avLst/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5364000" y="5805360"/>
            <a:ext cx="863640" cy="64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3203640" y="5877000"/>
            <a:ext cx="792000" cy="647640"/>
          </a:xfrm>
          <a:prstGeom prst="ellipse">
            <a:avLst/>
          </a:prstGeom>
          <a:solidFill>
            <a:srgbClr val="042b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588000" y="4005360"/>
            <a:ext cx="648000" cy="576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dmin</cp:lastModifiedBy>
  <dcterms:modified xsi:type="dcterms:W3CDTF">2020-12-03T19:56:12Z</dcterms:modified>
  <cp:revision>20</cp:revision>
  <dc:subject/>
  <dc:title>Слайд 1</dc:title>
</cp:coreProperties>
</file>