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017AA-1932-4554-914B-8F3EC5F8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8B3FE-4DEF-44B5-AC67-318D8814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832D-1574-4492-BC3A-A7E6D36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3B437-3A2E-4D62-96CF-B24631E4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F30EB-8E8B-45CC-8AC0-53D0D28E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B02CE-5298-4C01-B930-1750D28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B6F3E-B911-43B0-B767-1B8B80FC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432F6-332B-45FE-AE46-5347D0E8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3E6B8-CD88-46E5-969D-4D933B47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BF68F-D51E-4C49-AC01-9B195BF9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06F36-2410-4AF7-9F22-E33F22A0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A41FA-4D10-4735-8A41-9966BCF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7A709-E7DA-4B8A-B433-7BAEE05A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F802B-7A45-42AE-8D20-FDBCCFC3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1B115-3447-4FE4-9904-1734F9A6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33A23-0B88-414F-AC5C-ACAD3F53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A1F17-CE38-4078-9837-F3AF1B7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1B8F8-A5BA-4571-A3EB-2F212E9C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0B35-527F-4BC9-B760-CFF0F336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FA271-C815-44D5-8D0F-BC5592EE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77D14-6111-4E5E-B6CE-B4E04ABF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86338-F574-4F20-85EA-66A43F45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B8953-5FDB-4705-A482-EC6F4ED9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7BB0A-7007-4F03-BCB7-C3C603AC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E8E82-F4CC-403C-982E-9A4BBB2D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27991-B547-445B-BB8F-2C8306F1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8FCF9-8D9B-44F2-A26F-BFB34532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FC645-A1CD-446A-ADD3-706419D1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575E2-F9B6-4CC3-9F82-53899AB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AB590-728E-47E9-889F-6C4A9AEC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429-912B-4822-A994-75A8F56D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F553C-7BB9-472A-982F-BDC11E87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4AF8B-3CD9-422F-B57F-B92E7D19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5D580-1537-4380-82CD-BD60D4A3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A5AC8-592E-4628-8FA6-36EE9F2A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4B4FA-713A-4239-8FC4-B4B05C32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72ABC-268B-4302-A59F-3B8306C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B781F-2273-4346-8723-D3FCBC63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0ABAF-4D04-4501-85EE-53FEF4ED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19E6F-086A-48FF-9FF8-DF7AF596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877B5-1C69-4C16-8555-07F17A87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6A0-F613-4251-9E43-CCF5F304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D1D0F-3E71-4401-9615-614A633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C933C-F7B2-4871-A1EE-B3F8511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1A8CE-543C-4D8F-9E2E-F1B7FCB4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ABF93-841B-46F0-B7C0-6CB58A93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9CA13-23E5-4917-9278-7D6EB856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845-FE7A-4545-9DFF-1557C6CC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B68-55BD-4A96-9E84-9B960A02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6E2-1D38-48DB-83E0-ED99F8CF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313-8E9D-462E-BB65-F10F604B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6BF-49DA-4E6A-A93E-BB5EC60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1E3-8FE6-4140-9DD4-FF2FB92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772-FE11-4A5F-A847-5578BF63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027-7A24-486D-9867-0A8A6D2A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E08-5EF9-44EB-ABD5-0927D300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689-F422-46C0-BDCD-CB066FEE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2332-BC84-487B-9B94-3077F5CA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7557-2309-4DAF-9C77-D2C03E6D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CDB0-38F9-4508-8CBB-4A19FAE2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99B4-D9E0-4509-A2FB-8FA294E2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7FBD-60E4-42DD-80E6-0A3B2BC5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18FE-6204-42E2-9AF6-37E6DE19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EF99-24D3-4B7B-9881-16915682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6F4E-A714-47FD-98AD-9E8FF529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5A55-77F4-4C66-AF55-EA3CBB5F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9C04-1938-4AF5-8090-D3B672E0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49D9-CE6F-497F-82F5-89D1207F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1CB0-2EDB-4780-BCE5-919A04DA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C639-D34D-4145-972D-B4A82A79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6F47-C789-4F68-9871-75EC9CAD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40C6-8BEA-4454-9942-E99ECF01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869D-3E69-41A3-A5B5-8603A236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BE0A-7DA3-4937-ADB8-866DF2D6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846E-5982-4E7D-9CF1-4CF19234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A500-0EBD-4F14-BD37-695F989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0494-1500-4727-B8A6-5929F9C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1A15-06E0-4A77-844F-E25F3AA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EEA0-E878-4A1E-BFB9-F768E1A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BE0F-F32C-441F-9FC8-7224ADE4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7AAC-FC70-4748-9574-63F3D16E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0644-226D-4676-8701-00FF790C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99BD-094B-4A1E-A498-B344B6D2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6472-05F5-40D1-B6E4-2C12CBF3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1F0E1-39DE-4326-8C65-01D66CAD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8289-8B95-4463-9024-6384121B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9E6F-12FF-4917-AC02-650D0D9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0A451-155F-46F9-9CEB-4783E9D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DAAA-D144-415B-A482-96C8C495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D23E1-8BB0-4412-8E99-CDF94516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1C28-3394-43FA-95E0-897ABE37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E4F8-4D58-478A-B295-1D532DB7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8B62-960B-4708-97D5-E7F32B16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F27F-FA19-4FBA-802D-6177AF3E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E4426-5CEA-494A-AB82-EBAD4189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6E78-70EB-469F-867C-A894A86B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7B5B-A346-4B9F-936C-696CBA09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41852-09CF-4AAF-AE31-B5C26475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1D63-88E2-4BB4-8C88-318F8E2A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BCB3-2052-4662-A3E8-F07FA011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92E51-81E3-4C0D-8472-2A59944A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14C7-0B3A-4C31-A53D-0028576D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A178E-A449-4E9C-8414-74BFEF88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4260A-C863-4AEE-A774-4EFE2D80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FA04C-0008-49CC-965A-8D580879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5A5C2-63DC-4FE8-B2D0-9F7E7D15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8C4D2-6798-4D3C-8899-AFFD58D8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23BEF-AC6A-4DC2-8CF8-66AE9BDE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051BA-4FAA-4BE2-9A5B-2214C958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8A204-21EF-42B5-A06D-4F86F8CD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7F508-BE2F-4509-9600-DCC7A140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C61A8-8911-4D1C-BA08-83A21C7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4BBB7-508F-472D-8F23-DF897890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0AA4F-BD80-45DE-8AE4-207B95B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69F7E-7082-4AE5-BC75-1CE7E80E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577D3-F851-4C75-93F2-B8D9821A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49E69-B03E-4A65-BE9E-659292E6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98D1E-5F83-4377-A6BA-C0EE0DE7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FD569-D71F-48C8-92F4-7D298B89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7E9A-2F09-45DA-B5E7-96E68DE8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70058-A503-4AE3-A0AD-E954EB09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6745B-4B9D-4A18-9EEA-842F4016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76D69-5056-45E9-A87D-E91D2F93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EF582-5000-4320-85C5-83A4C77A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A2982-5461-4096-ABFA-F146A25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B0275-394C-4E6A-B1D8-67AC3370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3C4F4-8CD0-4B14-9E12-C9AC9B8E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2DAC-9568-4E0A-8E01-7F3CF0AD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E4A4E-DF9D-4991-A606-3CC6E637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71CB4-1A23-4B5A-8CE0-60D8FDCF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A24A-0F62-46AA-A8EC-CE0E7441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095B2-3FC6-4DD3-9277-B14191A9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5F49-0DE0-4A4D-ABF3-AEEEA0DF930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BDB-C704-4633-9B6E-A6E1AE8A5CB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CDFC-D58C-4F22-9D44-64BB576CAB1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AFD3-3686-4B95-A688-8A7D865366F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3685-6AE9-48E4-81FE-C2ED3D8A170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5A18-B737-4E9B-815F-C263EBB2E13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19C2-99EF-4C8F-9967-0928DC18C05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AFB4-BD37-4782-91DB-3E8A995633F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3D06-B624-4746-AE4D-7E764EA414D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E843-AFC0-41DE-BD1C-8295C47049A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0ED6-6007-4672-8DF9-19BD5869CBE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6"/>
          <p:cNvSpPr/>
          <p:nvPr/>
        </p:nvSpPr>
        <p:spPr>
          <a:xfrm>
            <a:off x="1571760" y="4287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ыванская средня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1643040" y="2500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 и НН в суффиксах страдательных причастий прошедшего времени и прилагательных, образованных от глаг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4643280" y="5500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дугин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1"/>
          <p:cNvSpPr/>
          <p:nvPr/>
        </p:nvSpPr>
        <p:spPr>
          <a:xfrm>
            <a:off x="1500120" y="642960"/>
            <a:ext cx="71438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Проверим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хлеб (прил.), фасов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родукты (на –ова-), вычищ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колодец (приставка), купл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магазине (сов. вид), вяз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шарф (несовер. вид), ягоды собр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(кр. Прич.), гружё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овозки (несов. вид), варё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котелке (несов. вид), неезж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дороги (несов. вид), усып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тропинка (приставка), кваш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в бочке капуста (зависимое слово), неслых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успех (искл.),  купл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карандаш (сов. вид), льви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грива (прил.), ран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плечо (иск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1"/>
          <p:cNvSpPr/>
          <p:nvPr/>
        </p:nvSpPr>
        <p:spPr>
          <a:xfrm>
            <a:off x="1285920" y="1214280"/>
            <a:ext cx="76438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Вспомн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ффиксах полных причастий пиш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Н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саННый, испечё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ффиксах кратких причастий пиш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саНы, испеч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1"/>
          <p:cNvSpPr/>
          <p:nvPr/>
        </p:nvSpPr>
        <p:spPr>
          <a:xfrm>
            <a:off x="1428840" y="642960"/>
            <a:ext cx="70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Вспомн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еклё…ое окно, вяза…ый бабушкой, тетради провере…ны, украше…ый стол, покраше…ый забор, история расказа…а, портрет нарисова…, грибы собра…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1571760" y="642960"/>
            <a:ext cx="7143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Вспомн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…яя кладовка, заполне…ая стекля…ыми банками, карто…ыми коробками, сушё…ыми фруктами, бездо…ыми бочками с пчели…ым мёдом, даёт ощущение необыкнове…ого порядка и споко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428840" y="3929040"/>
          <a:ext cx="7143840" cy="1554120"/>
        </p:xfrm>
        <a:graphic>
          <a:graphicData uri="http://schemas.openxmlformats.org/drawingml/2006/table">
            <a:tbl>
              <a:tblPr/>
              <a:tblGrid>
                <a:gridCol w="1428840"/>
                <a:gridCol w="1428480"/>
                <a:gridCol w="1428840"/>
                <a:gridCol w="1428840"/>
                <a:gridCol w="1428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+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, ЯН, 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НН, Е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НН, 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Н,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клянны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овянны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ревя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тр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, полн. п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т. п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1714680" y="1000080"/>
            <a:ext cx="6286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аем и рассужд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Крашены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Крашенный краско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Покрашенны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1"/>
          <p:cNvSpPr/>
          <p:nvPr/>
        </p:nvSpPr>
        <p:spPr>
          <a:xfrm>
            <a:off x="1571760" y="71424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Запоминаем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00120" y="1714680"/>
          <a:ext cx="6977160" cy="3209760"/>
        </p:xfrm>
        <a:graphic>
          <a:graphicData uri="http://schemas.openxmlformats.org/drawingml/2006/table">
            <a:tbl>
              <a:tblPr/>
              <a:tblGrid>
                <a:gridCol w="3489480"/>
                <a:gridCol w="3487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бразовано от глаголов несовершенного вида (топлёный – что делать? топить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бразовано от глагола совершенного вида (брошенный – что сделать? бросить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Нет приставки, кроме НЕ, она роли не игра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Есть приставка (растопленное масло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Нет зависимого слова (топлёное масло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Есть зависимое слово (топлённое на слабом огне масло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ет –ОВА-, -ЕВА-, -ИРОВ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Есть –ОВА-, -ЕВА-, -ИРОВ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1"/>
          <p:cNvSpPr/>
          <p:nvPr/>
        </p:nvSpPr>
        <p:spPr>
          <a:xfrm>
            <a:off x="1857240" y="1143000"/>
            <a:ext cx="6143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Запоминаем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Исключения: </a:t>
            </a: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ваный, жёваный, смышлёный, незваный, посажёный, невиданный, неслыханный, нежданный, негаданный, нечаянный, раненый, отчаянный, желанный, читанный, вид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1643040" y="28584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Учимся рассужд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>
            <a:off x="2357280" y="1071720"/>
            <a:ext cx="128592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3"/>
          <p:cNvSpPr/>
          <p:nvPr/>
        </p:nvSpPr>
        <p:spPr>
          <a:xfrm>
            <a:off x="6357960" y="1071720"/>
            <a:ext cx="135720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3214800" y="1785960"/>
            <a:ext cx="314316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тавка, кроме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6786720" y="1785960"/>
            <a:ext cx="11430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1857240" y="2500200"/>
            <a:ext cx="185760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6357960" y="2500200"/>
            <a:ext cx="128592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3286080" y="3214800"/>
            <a:ext cx="307188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ва-, -е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9"/>
          <p:cNvSpPr/>
          <p:nvPr/>
        </p:nvSpPr>
        <p:spPr>
          <a:xfrm>
            <a:off x="1857240" y="4000680"/>
            <a:ext cx="185760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0"/>
          <p:cNvSpPr/>
          <p:nvPr/>
        </p:nvSpPr>
        <p:spPr>
          <a:xfrm>
            <a:off x="6429240" y="4000680"/>
            <a:ext cx="128592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1"/>
          <p:cNvSpPr/>
          <p:nvPr/>
        </p:nvSpPr>
        <p:spPr>
          <a:xfrm>
            <a:off x="3357720" y="4643280"/>
            <a:ext cx="307152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1714680" y="5357880"/>
            <a:ext cx="185724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6429240" y="5214960"/>
            <a:ext cx="128592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4"/>
          <p:cNvSpPr/>
          <p:nvPr/>
        </p:nvSpPr>
        <p:spPr>
          <a:xfrm>
            <a:off x="2928960" y="5929200"/>
            <a:ext cx="142884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.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5"/>
          <p:cNvSpPr/>
          <p:nvPr/>
        </p:nvSpPr>
        <p:spPr>
          <a:xfrm>
            <a:off x="4929120" y="5929200"/>
            <a:ext cx="1785960" cy="368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вер.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6"/>
          <p:cNvSpPr/>
          <p:nvPr/>
        </p:nvSpPr>
        <p:spPr>
          <a:xfrm>
            <a:off x="1143000" y="6215040"/>
            <a:ext cx="142884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7"/>
          <p:cNvSpPr/>
          <p:nvPr/>
        </p:nvSpPr>
        <p:spPr>
          <a:xfrm>
            <a:off x="7072200" y="6143760"/>
            <a:ext cx="142884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(–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Прямая со стрелкой 19"/>
          <p:cNvCxnSpPr/>
          <p:nvPr/>
        </p:nvCxnSpPr>
        <p:spPr>
          <a:xfrm>
            <a:off x="3571920" y="1500120"/>
            <a:ext cx="3578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6" name="Прямая со стрелкой 21"/>
          <p:cNvCxnSpPr>
            <a:stCxn id="480" idx="2"/>
          </p:cNvCxnSpPr>
          <p:nvPr/>
        </p:nvCxnSpPr>
        <p:spPr>
          <a:xfrm>
            <a:off x="7036200" y="1441080"/>
            <a:ext cx="321480" cy="27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7" name="Прямая со стрелкой 23"/>
          <p:cNvCxnSpPr/>
          <p:nvPr/>
        </p:nvCxnSpPr>
        <p:spPr>
          <a:xfrm flipH="1">
            <a:off x="3285360" y="2213640"/>
            <a:ext cx="8578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8" name="Прямая со стрелкой 25"/>
          <p:cNvCxnSpPr/>
          <p:nvPr/>
        </p:nvCxnSpPr>
        <p:spPr>
          <a:xfrm>
            <a:off x="5929200" y="2214360"/>
            <a:ext cx="6433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9" name="Прямая со стрелкой 27"/>
          <p:cNvCxnSpPr/>
          <p:nvPr/>
        </p:nvCxnSpPr>
        <p:spPr>
          <a:xfrm flipH="1">
            <a:off x="5500440" y="2927880"/>
            <a:ext cx="10008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0" name="Прямая со стрелкой 31"/>
          <p:cNvCxnSpPr/>
          <p:nvPr/>
        </p:nvCxnSpPr>
        <p:spPr>
          <a:xfrm>
            <a:off x="6000480" y="3643200"/>
            <a:ext cx="78660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1" name="Прямая со стрелкой 33"/>
          <p:cNvCxnSpPr/>
          <p:nvPr/>
        </p:nvCxnSpPr>
        <p:spPr>
          <a:xfrm flipH="1">
            <a:off x="3428280" y="3713760"/>
            <a:ext cx="7866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2" name="Прямая со стрелкой 35"/>
          <p:cNvCxnSpPr/>
          <p:nvPr/>
        </p:nvCxnSpPr>
        <p:spPr>
          <a:xfrm flipH="1">
            <a:off x="6214320" y="4428000"/>
            <a:ext cx="42948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3" name="Прямая со стрелкой 37"/>
          <p:cNvCxnSpPr/>
          <p:nvPr/>
        </p:nvCxnSpPr>
        <p:spPr>
          <a:xfrm>
            <a:off x="5786280" y="5072040"/>
            <a:ext cx="5724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4" name="Прямая со стрелкой 39"/>
          <p:cNvCxnSpPr/>
          <p:nvPr/>
        </p:nvCxnSpPr>
        <p:spPr>
          <a:xfrm flipH="1">
            <a:off x="3428640" y="4999680"/>
            <a:ext cx="57240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5" name="Прямая со стрелкой 41"/>
          <p:cNvCxnSpPr/>
          <p:nvPr/>
        </p:nvCxnSpPr>
        <p:spPr>
          <a:xfrm flipH="1">
            <a:off x="4357440" y="5572080"/>
            <a:ext cx="2000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6" name="Прямая со стрелкой 43"/>
          <p:cNvCxnSpPr>
            <a:stCxn id="492" idx="3"/>
          </p:cNvCxnSpPr>
          <p:nvPr/>
        </p:nvCxnSpPr>
        <p:spPr>
          <a:xfrm>
            <a:off x="6715080" y="6113160"/>
            <a:ext cx="286560" cy="17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7" name="Прямая со стрелкой 45"/>
          <p:cNvCxnSpPr/>
          <p:nvPr/>
        </p:nvCxnSpPr>
        <p:spPr>
          <a:xfrm flipH="1">
            <a:off x="2714040" y="6357960"/>
            <a:ext cx="57204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1"/>
          <p:cNvSpPr/>
          <p:nvPr/>
        </p:nvSpPr>
        <p:spPr>
          <a:xfrm>
            <a:off x="1500120" y="571680"/>
            <a:ext cx="707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Проверим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хлеб (....), фасов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родукты (….), вычищ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колодец (….), купл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магазине (….), вяз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шарф (….), ягоды собр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(….), гружё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повозки (….), варё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котелке (….), неезж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дороги (…), усып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тропинка (…), кваш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в бочке капуста (….), неслых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успех (…), купл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карандаш (…), льви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 грива (…), ране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 в плечо (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7:01:55Z</dcterms:created>
  <dc:creator>Фокина Лидия Петровна</dc:creator>
  <dc:description/>
  <cp:keywords>Шаблон презентации</cp:keywords>
  <dc:language>en-US</dc:language>
  <cp:lastModifiedBy>Наташа</cp:lastModifiedBy>
  <dcterms:modified xsi:type="dcterms:W3CDTF">2020-12-03T13:26:44Z</dcterms:modified>
  <cp:revision>32</cp:revision>
  <dc:subject/>
  <dc:title>Тетрадь на спирали</dc:title>
</cp:coreProperties>
</file>