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22940-6B1C-4141-91E6-5A8083CE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FAB51-FB3B-45AB-BF46-37E193AE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99927-2208-4653-8E38-3D983426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E10B0-C6F9-4349-8C4D-3A162859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8F75A-0295-443F-94B2-DF68BE1B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C913E-4F24-408D-812E-B18FD517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76965-6D5B-4AC3-846E-A238CCEE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4E83F-6E3C-4682-A8A7-64A0543F2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B99AB-792A-4BE5-BF7D-F26E98943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136FC0-D305-44F3-9B4A-C502F96E4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66925E-29DD-446B-BD40-14DDF857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54F515-EC45-4F11-BE7E-C5A2828D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FE224C-6162-43C6-BFFF-EFB7CAFD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17441C-45FA-4F6E-B80E-989C9D24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053D6C-BA15-4274-A572-EE526C44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6AD7E9-B362-4269-BC9A-2A9D0197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E35206-189F-47D8-854C-DA3CAD75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04F3F7-7F3C-4327-A1E6-8ED03CBB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44AD89-5AA6-4F67-938D-7B5CF956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439212-AB4E-4AD1-B494-AE1474E8A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38D46-0D3A-4E3D-B785-37CE07F99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F2999B-C61A-4472-B68A-394C45162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F550AC-C5F8-42F7-8F25-5C9E70C2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D1701C-A795-4CE4-A623-043D6D44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5442D5-11DD-476D-B158-C339B5D0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1928E8-4778-44A0-8ED3-A4FB1AE5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C67874-121F-4D05-9686-A1F77E2D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C691BF-C4DA-46A0-84EB-039FA45E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331ED3-DB4D-4223-A0F5-E6EA8B62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6BC0C0-4119-4ACF-9AF1-28AC8872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71F1-50BD-4401-AEDA-6E90FFEBD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340FDA-CD58-470F-A344-EDD63595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10E566-D223-4AFC-96CB-AE2D55A7B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C39C57-D4A5-4035-8A9B-61D46AC8D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4A8B29-2820-43B8-9D61-250A51A48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90E5BF-896F-4F99-9322-CB7D8FB2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25CFC-0D40-455E-AE90-78F1C43D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BB4D3D-8514-4800-B359-7B9102FF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26684-815B-45F8-BB82-01B4DA26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15171-F370-4B51-A9AD-554B8A83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D3347-8710-4459-B9A4-4763A703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C646-FB9E-43C9-A08D-EB7BE639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603491-3E37-4C3D-8BC9-FCA871C9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B4C1C-6EA3-4540-A21A-CDCE95FD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14929-C1A4-49E8-B05F-60CD9C82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4C4BC-6272-44E3-BDEC-D51441CCB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9FC15-66CE-401B-88B6-C1580553E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98A6-D2CA-4E9B-B055-F5BA9C87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7196-25A7-4999-957F-74EE6703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02F3-7C06-4302-9A2B-EDF743B3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8ACD-BE75-4E38-A046-AC84F2C4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4847-0373-4DC2-8AA4-69078B92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4166-1984-429F-8C25-064BDA78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48F8-1073-41C6-91A8-52E98D12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6B14-E116-4569-922F-8089ADA0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C764-42C9-4FE2-B8F4-D12017907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3F41-1B08-4D10-98DC-31981CC23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E732D-6F2D-4530-B5E5-9FAB95576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ACD8-3D44-4FAC-A3FF-DAD0839C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6B13-C156-44C3-B42A-3F7DA62A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EA6F-DF19-428F-8741-8FDB1A95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F29F1-874E-4BD0-BB9A-E2F669B9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0E9B-99D9-49FC-A416-5367B112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CC09-D943-4FAC-AF27-2CF383E2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FC938-4095-46C2-8842-CA7251C3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1BAF0-E150-4443-B202-CDB1788F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D1D6C-8874-4769-8CE6-388EB487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7E73-8728-4A63-9D49-430C631F5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A920-4CCE-4F04-9E02-CFDC7F1BF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FD3E0-7DA2-4181-99C4-B2357ECA0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380A5-D07A-4456-8A82-37FAF6E5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87D5A-6A81-4FC2-8BD9-2B78668C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BF540-BFC3-44E0-BB86-8A3A04D9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B6D46-F580-4927-9A8E-7EDED1E2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33F3B-D58F-45C5-83FF-BE7E40A7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8F4D1-CFFD-4909-8D08-BFC63927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FED6A-D6A4-4FEE-9A16-C1F2D642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E46DE-06DD-44AB-9817-C4325E16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5CAF6-24EC-42A1-AC91-4AAEA63A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00DDE-C34F-4B7A-82C1-3B0A3ACD4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508AA-EF1A-4867-92D0-9345FF3CD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59A95-2512-45AD-9D3E-764723B5C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4003B-4020-4504-8436-13DDEDAA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56E42-7F86-4D1E-8408-73A52F7A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E2391-53DC-4C58-A4E7-D68DB76E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72C4A-CA9F-49D7-9120-7B085DD4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68739-6A7F-4415-B2AD-905570EC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724A5-6532-4414-9CA3-E416783D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0C02B-3417-4ADC-AF2F-2958DC21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C887E-AB86-4479-B73B-B979E113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186EC-D3CF-46E5-BF8A-99BBB742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A693A-2014-4722-B1D8-63AC64787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B2407-DD3D-420E-BC7B-3F9B7506B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16B93-8584-4A07-B2E6-92CB30090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106B8-8DDE-4FF0-8B6C-E5DBF55E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E106E-4042-4A48-971E-4AA6EFDC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17946-4688-4E86-B0CD-08F808AA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BC6CF-C005-400A-B7A4-EFDF1F8E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D035E-9723-44E2-A0A6-A21D1CD7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C5148-1D92-416A-9654-457CDD68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7DF0F-E92B-4559-BF66-54E518CB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E8955-4AFA-40AF-B40C-B814CC60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8A471-8ECA-448F-8C9D-CB0D302A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E82B5-E293-4906-B78B-95BEABFDA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F8BD8-5755-47CF-8D29-DAA0AAD74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5E937-C697-4CE0-BC60-E59B481B3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D287D-796C-4776-857C-F35744CB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F4B42-B982-4D70-9B0A-1C66FE5D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126F9-6979-4CCA-B30F-9FE1AEF2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B0A89-F307-4DF0-BCC2-4DEC55F1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5158E-AD20-4097-8F86-71DDE15E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F96DC-5787-4DD6-B6CD-8C375A1A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72F02-0BE1-47A4-9D65-13D6B904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02C71-0A86-41FE-BE95-67EA8355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0F8F4-B0E9-4E00-8420-A974E234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65A25-0CD2-43F2-AB23-FA2B31B2B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D5021-8255-480C-ADE2-E60AA3D9D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12B9F-41CD-4C1D-9DBF-8871EC2F1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157DF-22D1-4351-98CB-5DBAB718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0249E-8D1D-4B80-A3C8-72856315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3B0D7-7983-4DF6-8825-B5B2B21C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7D47E-6F30-484F-85FA-166431EC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D9938-45E9-44FE-9928-A60AAE25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D01CE-B3F1-4EC1-91A2-E9E1D74E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1A52B-DE84-42B3-8115-70EA6AB8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BA059-338B-4251-ABE8-E1C84E92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45086-0023-4951-84FF-E22DA2B3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98D4C-7B9E-43A1-AF2E-D65EE2848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936ED-4FC4-4A5C-B026-00151A0FF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E4FA8-67AF-4130-827B-974E09971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B3A5B-5CAD-4A78-B783-E0E2818D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562BD-ABE2-4742-82EB-7123FC79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0459-4618-415A-AF54-F16321865961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13B0-68D9-4211-AE8A-CDEF2596C97E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338C-BC0F-4FF7-B526-B83CA81D3624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E3BC-21A3-4FE9-829F-1C7ABE97C1DF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0595-D5C4-424E-8FD6-0EA90B37136D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450D-89DC-4982-8030-EF2E7A9ADB41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7E8F-43DD-401D-ADE2-EF6ABE45ABB5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3312-F23E-48E4-BEAE-E398B20DAE68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0A97-CBA0-4485-A623-0665B330DE3C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3D21-5F62-4322-A52C-8A93FE27AEAC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87E9-918F-4DEA-98D8-A2A43CA3A76C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Box 6"/>
          <p:cNvSpPr/>
          <p:nvPr/>
        </p:nvSpPr>
        <p:spPr>
          <a:xfrm>
            <a:off x="1571760" y="428760"/>
            <a:ext cx="70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олыванская средняя школа № 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7"/>
          <p:cNvSpPr/>
          <p:nvPr/>
        </p:nvSpPr>
        <p:spPr>
          <a:xfrm>
            <a:off x="1643040" y="25002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Н и НН в суффиксах страдательных причастий прошедшего времени и прилагательных, образованных от глаго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8"/>
          <p:cNvSpPr/>
          <p:nvPr/>
        </p:nvSpPr>
        <p:spPr>
          <a:xfrm>
            <a:off x="4643280" y="550080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лдугина Наталья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Box 1"/>
          <p:cNvSpPr/>
          <p:nvPr/>
        </p:nvSpPr>
        <p:spPr>
          <a:xfrm>
            <a:off x="1500120" y="642960"/>
            <a:ext cx="714384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Проверим себ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жа</a:t>
            </a:r>
            <a:r>
              <a:rPr b="0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й хлеб (прил.), фасова</a:t>
            </a:r>
            <a:r>
              <a:rPr b="0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Н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е продукты (на –ова-), вычище</a:t>
            </a:r>
            <a:r>
              <a:rPr b="0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Н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й колодец (приставка), купле</a:t>
            </a:r>
            <a:r>
              <a:rPr b="0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Н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й в магазине (сов. вид), вяза</a:t>
            </a:r>
            <a:r>
              <a:rPr b="0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й шарф (несовер. вид), ягоды собра</a:t>
            </a:r>
            <a:r>
              <a:rPr b="0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 (кр. Прич.), гружё</a:t>
            </a:r>
            <a:r>
              <a:rPr b="0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е повозки (несов. вид), варё</a:t>
            </a:r>
            <a:r>
              <a:rPr b="0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Н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й в котелке (несов. вид), неезже</a:t>
            </a:r>
            <a:r>
              <a:rPr b="0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е дороги (несов. вид), усыпа</a:t>
            </a:r>
            <a:r>
              <a:rPr b="0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Н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я тропинка (приставка), кваше</a:t>
            </a:r>
            <a:r>
              <a:rPr b="0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Н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я в бочке капуста (зависимое слово), неслыха</a:t>
            </a:r>
            <a:r>
              <a:rPr b="0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Н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й успех (искл.),  купле</a:t>
            </a:r>
            <a:r>
              <a:rPr b="0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Н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й карандаш (сов. вид), льви</a:t>
            </a:r>
            <a:r>
              <a:rPr b="0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я грива (прил.), ране</a:t>
            </a:r>
            <a:r>
              <a:rPr b="0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й в плечо (искл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Box 1"/>
          <p:cNvSpPr/>
          <p:nvPr/>
        </p:nvSpPr>
        <p:spPr>
          <a:xfrm>
            <a:off x="1285920" y="1214280"/>
            <a:ext cx="764388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Вспомн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уффиксах полных причастий пишется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НН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исаННый, испечё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уффиксах кратких причастий пишется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Н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исаНы, испечё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Box 1"/>
          <p:cNvSpPr/>
          <p:nvPr/>
        </p:nvSpPr>
        <p:spPr>
          <a:xfrm>
            <a:off x="1428840" y="642960"/>
            <a:ext cx="7072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Вспомни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еклё…ое окно, вяза…ый бабушкой, тетради провере…ны, украше…ый стол, покраше…ый забор, история расказа…а, портрет нарисова…, грибы собра…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Box 1"/>
          <p:cNvSpPr/>
          <p:nvPr/>
        </p:nvSpPr>
        <p:spPr>
          <a:xfrm>
            <a:off x="1571760" y="642960"/>
            <a:ext cx="7143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Вспомн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…яя кладовка, заполне…ая стекля…ыми банками, карто…ыми коробками, сушё…ыми фруктами, бездо…ыми бочками с пчели…ым мёдом, даёт ощущение необыкнове…ого порядка и споко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1428840" y="3929040"/>
          <a:ext cx="7143840" cy="1554120"/>
        </p:xfrm>
        <a:graphic>
          <a:graphicData uri="http://schemas.openxmlformats.org/drawingml/2006/table">
            <a:tbl>
              <a:tblPr/>
              <a:tblGrid>
                <a:gridCol w="1428840"/>
                <a:gridCol w="1428480"/>
                <a:gridCol w="1428840"/>
                <a:gridCol w="1428840"/>
                <a:gridCol w="14288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+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Н, ЯН, 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к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НН, ЕН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к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ЕНН, Н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ЕН, 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еклянный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ловянный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ревян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тре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л, полн. при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т. при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a0000"/>
                          </a:solidFill>
                          <a:latin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Box 1"/>
          <p:cNvSpPr/>
          <p:nvPr/>
        </p:nvSpPr>
        <p:spPr>
          <a:xfrm>
            <a:off x="1714680" y="1000080"/>
            <a:ext cx="6286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блюдаем и рассужда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Крашеный 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Крашенный краской 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Покрашенный 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Box 1"/>
          <p:cNvSpPr/>
          <p:nvPr/>
        </p:nvSpPr>
        <p:spPr>
          <a:xfrm>
            <a:off x="1571760" y="714240"/>
            <a:ext cx="685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Запоминаем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1500120" y="1714680"/>
          <a:ext cx="6977160" cy="3209760"/>
        </p:xfrm>
        <a:graphic>
          <a:graphicData uri="http://schemas.openxmlformats.org/drawingml/2006/table">
            <a:tbl>
              <a:tblPr/>
              <a:tblGrid>
                <a:gridCol w="3489480"/>
                <a:gridCol w="3487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Образовано от глаголов несовершенного вида (топлёный – что делать? топить)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Образовано от глагола совершенного вида (брошенный – что сделать? бросить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Нет приставки, кроме НЕ, она роли не играе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Есть приставка (растопленное масло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Нет зависимого слова (топлёное масло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 Есть зависимое слово (топлённое на слабом огне масло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Нет –ОВА-, -ЕВА-, -ИРОВА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Есть –ОВА-, -ЕВА-, -ИРОВА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Box 1"/>
          <p:cNvSpPr/>
          <p:nvPr/>
        </p:nvSpPr>
        <p:spPr>
          <a:xfrm>
            <a:off x="1857240" y="1143000"/>
            <a:ext cx="61437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Запоминаем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Исключения: </a:t>
            </a:r>
            <a:r>
              <a:rPr b="0" lang="ru-RU" sz="2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кованый, жёваный, смышлёный, незваный, посажёный, невиданный, неслыханный, нежданный, негаданный, нечаянный, раненый, отчаянный, желанный, читанный, виден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Box 1"/>
          <p:cNvSpPr/>
          <p:nvPr/>
        </p:nvSpPr>
        <p:spPr>
          <a:xfrm>
            <a:off x="1643040" y="285840"/>
            <a:ext cx="66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Учимся рассужда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2"/>
          <p:cNvSpPr/>
          <p:nvPr/>
        </p:nvSpPr>
        <p:spPr>
          <a:xfrm>
            <a:off x="2357280" y="1071720"/>
            <a:ext cx="1285920" cy="36828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3"/>
          <p:cNvSpPr/>
          <p:nvPr/>
        </p:nvSpPr>
        <p:spPr>
          <a:xfrm>
            <a:off x="6357960" y="1071720"/>
            <a:ext cx="1357200" cy="36828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т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4"/>
          <p:cNvSpPr/>
          <p:nvPr/>
        </p:nvSpPr>
        <p:spPr>
          <a:xfrm>
            <a:off x="3214800" y="1785960"/>
            <a:ext cx="3143160" cy="36828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ставка, кроме 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5"/>
          <p:cNvSpPr/>
          <p:nvPr/>
        </p:nvSpPr>
        <p:spPr>
          <a:xfrm>
            <a:off x="6786720" y="1785960"/>
            <a:ext cx="114300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Н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6"/>
          <p:cNvSpPr/>
          <p:nvPr/>
        </p:nvSpPr>
        <p:spPr>
          <a:xfrm>
            <a:off x="1857240" y="2500200"/>
            <a:ext cx="1857600" cy="368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 (–НН-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7"/>
          <p:cNvSpPr/>
          <p:nvPr/>
        </p:nvSpPr>
        <p:spPr>
          <a:xfrm>
            <a:off x="6357960" y="2500200"/>
            <a:ext cx="1285920" cy="368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8"/>
          <p:cNvSpPr/>
          <p:nvPr/>
        </p:nvSpPr>
        <p:spPr>
          <a:xfrm>
            <a:off x="3286080" y="3214800"/>
            <a:ext cx="3071880" cy="36828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ова-, -ев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9"/>
          <p:cNvSpPr/>
          <p:nvPr/>
        </p:nvSpPr>
        <p:spPr>
          <a:xfrm>
            <a:off x="1857240" y="4000680"/>
            <a:ext cx="1857600" cy="368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 (–НН-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10"/>
          <p:cNvSpPr/>
          <p:nvPr/>
        </p:nvSpPr>
        <p:spPr>
          <a:xfrm>
            <a:off x="6429240" y="4000680"/>
            <a:ext cx="1285920" cy="368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11"/>
          <p:cNvSpPr/>
          <p:nvPr/>
        </p:nvSpPr>
        <p:spPr>
          <a:xfrm>
            <a:off x="3357720" y="4643280"/>
            <a:ext cx="3071520" cy="36828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висимое с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12"/>
          <p:cNvSpPr/>
          <p:nvPr/>
        </p:nvSpPr>
        <p:spPr>
          <a:xfrm>
            <a:off x="1714680" y="5357880"/>
            <a:ext cx="1857240" cy="368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 (–НН-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13"/>
          <p:cNvSpPr/>
          <p:nvPr/>
        </p:nvSpPr>
        <p:spPr>
          <a:xfrm>
            <a:off x="6429240" y="5214960"/>
            <a:ext cx="1285920" cy="368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14"/>
          <p:cNvSpPr/>
          <p:nvPr/>
        </p:nvSpPr>
        <p:spPr>
          <a:xfrm>
            <a:off x="2928960" y="5929200"/>
            <a:ext cx="1428840" cy="36828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р. в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15"/>
          <p:cNvSpPr/>
          <p:nvPr/>
        </p:nvSpPr>
        <p:spPr>
          <a:xfrm>
            <a:off x="4929120" y="5929200"/>
            <a:ext cx="1785960" cy="36828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овер. в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16"/>
          <p:cNvSpPr/>
          <p:nvPr/>
        </p:nvSpPr>
        <p:spPr>
          <a:xfrm>
            <a:off x="1143000" y="6215040"/>
            <a:ext cx="1428840" cy="368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 (–НН-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17"/>
          <p:cNvSpPr/>
          <p:nvPr/>
        </p:nvSpPr>
        <p:spPr>
          <a:xfrm>
            <a:off x="7072200" y="6143760"/>
            <a:ext cx="1428840" cy="368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 (–Н-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5" name="Прямая со стрелкой 19"/>
          <p:cNvCxnSpPr/>
          <p:nvPr/>
        </p:nvCxnSpPr>
        <p:spPr>
          <a:xfrm>
            <a:off x="3571920" y="1500120"/>
            <a:ext cx="35784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96" name="Прямая со стрелкой 21"/>
          <p:cNvCxnSpPr>
            <a:stCxn id="480" idx="2"/>
          </p:cNvCxnSpPr>
          <p:nvPr/>
        </p:nvCxnSpPr>
        <p:spPr>
          <a:xfrm>
            <a:off x="7036200" y="1441080"/>
            <a:ext cx="321480" cy="273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97" name="Прямая со стрелкой 23"/>
          <p:cNvCxnSpPr/>
          <p:nvPr/>
        </p:nvCxnSpPr>
        <p:spPr>
          <a:xfrm flipH="1">
            <a:off x="3285360" y="2213640"/>
            <a:ext cx="85788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98" name="Прямая со стрелкой 25"/>
          <p:cNvCxnSpPr/>
          <p:nvPr/>
        </p:nvCxnSpPr>
        <p:spPr>
          <a:xfrm>
            <a:off x="5929200" y="2214360"/>
            <a:ext cx="64332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99" name="Прямая со стрелкой 27"/>
          <p:cNvCxnSpPr/>
          <p:nvPr/>
        </p:nvCxnSpPr>
        <p:spPr>
          <a:xfrm flipH="1">
            <a:off x="5500440" y="2927880"/>
            <a:ext cx="100080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00" name="Прямая со стрелкой 31"/>
          <p:cNvCxnSpPr/>
          <p:nvPr/>
        </p:nvCxnSpPr>
        <p:spPr>
          <a:xfrm>
            <a:off x="6000480" y="3643200"/>
            <a:ext cx="78660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01" name="Прямая со стрелкой 33"/>
          <p:cNvCxnSpPr/>
          <p:nvPr/>
        </p:nvCxnSpPr>
        <p:spPr>
          <a:xfrm flipH="1">
            <a:off x="3428280" y="3713760"/>
            <a:ext cx="78660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02" name="Прямая со стрелкой 35"/>
          <p:cNvCxnSpPr/>
          <p:nvPr/>
        </p:nvCxnSpPr>
        <p:spPr>
          <a:xfrm flipH="1">
            <a:off x="6214320" y="4428000"/>
            <a:ext cx="42948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03" name="Прямая со стрелкой 37"/>
          <p:cNvCxnSpPr/>
          <p:nvPr/>
        </p:nvCxnSpPr>
        <p:spPr>
          <a:xfrm>
            <a:off x="5786280" y="5072040"/>
            <a:ext cx="57240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04" name="Прямая со стрелкой 39"/>
          <p:cNvCxnSpPr/>
          <p:nvPr/>
        </p:nvCxnSpPr>
        <p:spPr>
          <a:xfrm flipH="1">
            <a:off x="3428640" y="4999680"/>
            <a:ext cx="572400" cy="286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05" name="Прямая со стрелкой 41"/>
          <p:cNvCxnSpPr/>
          <p:nvPr/>
        </p:nvCxnSpPr>
        <p:spPr>
          <a:xfrm flipH="1">
            <a:off x="4357440" y="5572080"/>
            <a:ext cx="200088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06" name="Прямая со стрелкой 43"/>
          <p:cNvCxnSpPr>
            <a:stCxn id="492" idx="3"/>
          </p:cNvCxnSpPr>
          <p:nvPr/>
        </p:nvCxnSpPr>
        <p:spPr>
          <a:xfrm>
            <a:off x="6715080" y="6113160"/>
            <a:ext cx="286560" cy="173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07" name="Прямая со стрелкой 45"/>
          <p:cNvCxnSpPr/>
          <p:nvPr/>
        </p:nvCxnSpPr>
        <p:spPr>
          <a:xfrm flipH="1">
            <a:off x="2714040" y="6357960"/>
            <a:ext cx="572040" cy="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Прямоугольник 1"/>
          <p:cNvSpPr/>
          <p:nvPr/>
        </p:nvSpPr>
        <p:spPr>
          <a:xfrm>
            <a:off x="1500120" y="571680"/>
            <a:ext cx="7072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Проверим себ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жа</a:t>
            </a:r>
            <a:r>
              <a:rPr b="0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й хлеб (....), фасова</a:t>
            </a:r>
            <a:r>
              <a:rPr b="0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…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е продукты (….), вычище</a:t>
            </a:r>
            <a:r>
              <a:rPr b="0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…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й колодец (….), купле</a:t>
            </a:r>
            <a:r>
              <a:rPr b="0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й в магазине (….), вяза</a:t>
            </a:r>
            <a:r>
              <a:rPr b="0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й шарф (….), ягоды собра</a:t>
            </a:r>
            <a:r>
              <a:rPr b="0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 (….), гружё</a:t>
            </a:r>
            <a:r>
              <a:rPr b="0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е повозки (….), варё</a:t>
            </a:r>
            <a:r>
              <a:rPr b="0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й в котелке (….), неезже</a:t>
            </a:r>
            <a:r>
              <a:rPr b="0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е дороги (…), усыпа</a:t>
            </a:r>
            <a:r>
              <a:rPr b="0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я тропинка (…), кваше</a:t>
            </a:r>
            <a:r>
              <a:rPr b="0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я в бочке капуста (….), неслыха</a:t>
            </a:r>
            <a:r>
              <a:rPr b="0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й успех (…), купле</a:t>
            </a:r>
            <a:r>
              <a:rPr b="0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й карандаш (…), льви</a:t>
            </a:r>
            <a:r>
              <a:rPr b="0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я грива (…), ране</a:t>
            </a:r>
            <a:r>
              <a:rPr b="0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й в плечо (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7T17:01:55Z</dcterms:created>
  <dc:creator>Фокина Лидия Петровна</dc:creator>
  <dc:description/>
  <cp:keywords>Шаблон презентации</cp:keywords>
  <dc:language>en-US</dc:language>
  <cp:lastModifiedBy>Наташа</cp:lastModifiedBy>
  <dcterms:modified xsi:type="dcterms:W3CDTF">2020-12-03T13:26:44Z</dcterms:modified>
  <cp:revision>32</cp:revision>
  <dc:subject/>
  <dc:title>Тетрадь на спирали</dc:title>
</cp:coreProperties>
</file>