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B8A-BA22-427A-8AE7-98585060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8E8-4F4C-4C99-8480-F7A5EA2D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5692-BEA4-463F-B980-61A2E709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E4FD-0CF4-4644-8DA4-49CE2863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2C2-2ACB-4918-A3FA-07E746B0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D08C-5796-454C-ABBF-12BC8282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99D4-EC58-4E47-866B-050AF654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1AC6-635F-4208-A252-995459F4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500-80B8-4143-B015-63AA7A8F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F83D-3005-43E6-B589-B6FD7EC0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6CB-0B2A-4688-BF12-0B3999A1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CB44-63FC-403E-8EC8-4B47F60F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F011-50FF-41F2-9782-75CA25C099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alend.ru/person/2688/" TargetMode="External"/><Relationship Id="rId2" Type="http://schemas.openxmlformats.org/officeDocument/2006/relationships/hyperlink" Target="http://www.calend.ru/person/2688/" TargetMode="External"/><Relationship Id="rId3" Type="http://schemas.openxmlformats.org/officeDocument/2006/relationships/hyperlink" Target="http://www.calend.ru/event/4339/" TargetMode="External"/><Relationship Id="rId4" Type="http://schemas.openxmlformats.org/officeDocument/2006/relationships/hyperlink" Target="http://www.calend.ru/event/4339/" TargetMode="External"/><Relationship Id="rId5" Type="http://schemas.openxmlformats.org/officeDocument/2006/relationships/hyperlink" Target="http://www.calend.ru/event/4339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45440" cy="49672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0" y="189000"/>
            <a:ext cx="928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Героев Отечест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 сентября отмечается День воинской славы России — День победы русских полков во главе с великим князем Дмитрием Донским над монголо-татарскими войсками в Куликовской битве в 1380 году. Страшные бедствия принесло татаро-монгольское иго нашей стране. Полтавская битва — решающий эпизод Великой Северной войны, состоялась 8 июля (27 июня по старому стилю) 1709 года. В ней участвовали русская армия Петра I и шведская армия Карла XI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Федеральным законом № 32-ФЗ «О днях воинской славы и памятных датах России» от 13 марта 1995 года 9 августа — День воинской славы России — День первой в российской истории морской победы русского флота под командованием Петра I над шведами; День взятия турецкой крепости Измаил русскими войсками под командованием Александра Васильевича Суворова (1790 год); 11 сентября отмечается очередной День воинской славы России — День победы русской эскадры контр-адмирала Федора Ушакова над турецкой эскадрой у мыса Тенд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-219240"/>
            <a:ext cx="8242560" cy="120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ekzcbtl hacnbbbzvqs, 1997, 207a140, krqicszeu rggvaqu, btqmuikowtot rkcgais vh"/>
          <p:cNvPicPr/>
          <p:nvPr/>
        </p:nvPicPr>
        <p:blipFill>
          <a:blip r:embed="rId2"/>
          <a:stretch/>
        </p:blipFill>
        <p:spPr>
          <a:xfrm>
            <a:off x="2749680" y="765000"/>
            <a:ext cx="3809880" cy="575964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pic>
        <p:nvPicPr>
          <p:cNvPr id="66" name="Picture 6" descr="fbb00ed14515"/>
          <p:cNvPicPr/>
          <p:nvPr/>
        </p:nvPicPr>
        <p:blipFill>
          <a:blip r:embed="rId3"/>
          <a:stretch/>
        </p:blipFill>
        <p:spPr>
          <a:xfrm>
            <a:off x="595440" y="765000"/>
            <a:ext cx="188892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654324_120"/>
          <p:cNvPicPr/>
          <p:nvPr/>
        </p:nvPicPr>
        <p:blipFill>
          <a:blip r:embed="rId4"/>
          <a:stretch/>
        </p:blipFill>
        <p:spPr>
          <a:xfrm>
            <a:off x="6948360" y="765000"/>
            <a:ext cx="792360" cy="165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герой РФ"/>
          <p:cNvPicPr/>
          <p:nvPr/>
        </p:nvPicPr>
        <p:blipFill>
          <a:blip r:embed="rId5"/>
          <a:stretch/>
        </p:blipFill>
        <p:spPr>
          <a:xfrm>
            <a:off x="7870680" y="2168640"/>
            <a:ext cx="1094040" cy="189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4_cross"/>
          <p:cNvPicPr/>
          <p:nvPr/>
        </p:nvPicPr>
        <p:blipFill>
          <a:blip r:embed="rId6"/>
          <a:stretch/>
        </p:blipFill>
        <p:spPr>
          <a:xfrm>
            <a:off x="108000" y="4595760"/>
            <a:ext cx="2519280" cy="192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Polnie_kavaleri_ordena_slavi"/>
          <p:cNvPicPr/>
          <p:nvPr/>
        </p:nvPicPr>
        <p:blipFill>
          <a:blip r:embed="rId7"/>
          <a:stretch/>
        </p:blipFill>
        <p:spPr>
          <a:xfrm>
            <a:off x="6732720" y="4508640"/>
            <a:ext cx="230328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04920" y="533520"/>
            <a:ext cx="8305560" cy="49831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stretch/>
          </a:blip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, 16 Февраля 2007 Госдума приняла в третьем чтении проект федерального закона «О внесении изменения в статью 11 Федерального закона «О днях воинской славы и памятных датах России» об установлении памятной даты России – День героя Отечества. Новый праздник решено отмечать 9 декабр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кабрьская дата приуроч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выдающемуся событ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похи правления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мператр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Екатерины 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в 1769 году 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чредила орден Святого Гео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Победоносц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В те годы эт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деном награждались вои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явившие в бою добле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агу и смелос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18864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ден Святого Гео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бедоносца – высш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инская награда, бы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режден указ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атериной II 26 ноябр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69 года. Им награж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инов, проявивших в бою «неудержимую отваг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елость и находчивость» и совершивших «отличный воинский подвиг, венчанный полным успехом и доставивший явную польз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43920"/>
            <a:ext cx="5759280" cy="66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татусе ордена былосказано: «Ни высокий род, ни прежние заслуги, ни полученные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жениях раны не приемлются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ажение при удосто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ордену Святого Георгия за воинские подви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остаивается же оного единственно тот, кто не только обязанность св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нял во всем по присяге, чести и долгу, но сверх сего ознамено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бя на пользу и славу Российского оружия особенным отличие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n31681"/>
          <p:cNvPicPr/>
          <p:nvPr/>
        </p:nvPicPr>
        <p:blipFill>
          <a:blip r:embed="rId1"/>
          <a:srcRect l="21848" t="0" r="21163" b="0"/>
          <a:stretch/>
        </p:blipFill>
        <p:spPr>
          <a:xfrm>
            <a:off x="6477120" y="1052640"/>
            <a:ext cx="26668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40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ден Святого Георгия имел 4 степени отличия, из которых первая была наивысшей. Известно, что кавалерами всех четырех степеней стали 4 человека, среди которых  великие русские полководцы М.И. Кутузов и М.Б. Барклай-де-Толли. Екатерина II удостоила и себя этой награды в честь учреждения орд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здник Георгиевских кавалеров широко отмечался в российском обществе, в этот день чествов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х кавалеров Георгиевских отличий – от таких прославленных людей как Александр Суворов, Григорий Потемкин, Михаил Кутузова до простых солдат, матросов и казаков, награжденных Георгиевскими крестами и меда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60280"/>
            <a:ext cx="5627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евики отменили этот праздник упраздн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ден, как государственную награ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тус ордена был восстановлен лишь в 2000 год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м георгиевским кавалером Российской Федерации в 2008 году стал генерал-полковник Макаров С.А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мужество, отвагу и самоотверженность, проявленные при исполнении воинского долга в Северо-Кавказском регионе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День Героев Отечества"/>
          <p:cNvPicPr/>
          <p:nvPr/>
        </p:nvPicPr>
        <p:blipFill>
          <a:blip r:embed="rId1"/>
          <a:stretch/>
        </p:blipFill>
        <p:spPr>
          <a:xfrm>
            <a:off x="6012000" y="2205000"/>
            <a:ext cx="288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в России праздники, родственные Дню Героев От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63_2605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3:10:57Z</dcterms:created>
  <dc:creator>Юрий Ричардович</dc:creator>
  <dc:description/>
  <dc:language>en-US</dc:language>
  <cp:lastModifiedBy>Admin</cp:lastModifiedBy>
  <dcterms:modified xsi:type="dcterms:W3CDTF">2020-12-03T07:56:08Z</dcterms:modified>
  <cp:revision>14</cp:revision>
  <dc:subject/>
  <dc:title>Слайд 1</dc:title>
</cp:coreProperties>
</file>