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FDD-1851-42EE-B83E-058FC52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23C-8D3B-4845-A1F2-0645ECB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CC2-EC47-4A03-8F6F-D6FC266A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2CB-7B6F-4838-B089-F2F3FEB3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253-7A62-430D-A67B-B9E8560B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0FA-1686-404B-A692-21215CB6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E88-325D-4D21-9702-9F117EFE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DF5-044F-4B99-A8E7-470269A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9F2-7F7F-4DE2-BF7D-C8909BF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4B8-7BE4-4976-9B83-4E64AD6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4D2-03D1-40B0-A67D-9AFD1BE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58E-077B-474E-93FB-1A8C7B3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8B08-D6C9-4EFD-B919-89B3765A4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Admin</cp:lastModifiedBy>
  <dcterms:modified xsi:type="dcterms:W3CDTF">2020-12-03T07:56:08Z</dcterms:modified>
  <cp:revision>14</cp:revision>
  <dc:subject/>
  <dc:title>Слайд 1</dc:title>
</cp:coreProperties>
</file>