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12.jpeg" ContentType="image/jpeg"/>
  <Override PartName="/ppt/media/image6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22.gif" ContentType="image/gif"/>
  <Override PartName="/ppt/media/image2.png" ContentType="image/png"/>
  <Override PartName="/ppt/media/image3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3BF-A06D-449D-BC82-6E50B464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282-94E1-424C-8BD5-83B0D0B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BD9-7221-4B3F-AB23-6A9D766F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39F-6283-4B0E-95BA-B79B1684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D0-F508-454E-8B72-728B1DE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FB7-7299-4D89-85B9-FE3A2891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09C-D8DF-43B5-A93C-26353CAC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893-AC67-4A63-80E3-8D4E4A84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5E8-D598-43D2-BD31-A7645E10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726-36BA-482C-A15F-CEB9102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702-F614-4677-9CC9-056F7E2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D8D-2E83-40AE-A5D0-C99B90C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976-0810-4C4C-8BBA-F6BF0DEE2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 rot="20938800">
            <a:off x="512640" y="44416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 rot="21100200">
            <a:off x="556920" y="482400"/>
            <a:ext cx="723744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зентация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993400">
            <a:off x="1962000" y="2141640"/>
            <a:ext cx="3456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тему: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 rot="20891400">
            <a:off x="855360" y="2781000"/>
            <a:ext cx="774216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Ребенок имеет право"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7" descr="baby"/>
          <p:cNvPicPr/>
          <p:nvPr/>
        </p:nvPicPr>
        <p:blipFill>
          <a:blip r:embed="rId1"/>
          <a:stretch/>
        </p:blipFill>
        <p:spPr>
          <a:xfrm>
            <a:off x="6948360" y="4797360"/>
            <a:ext cx="1381320" cy="1381320"/>
          </a:xfrm>
          <a:prstGeom prst="rect">
            <a:avLst/>
          </a:prstGeom>
          <a:ln w="0">
            <a:noFill/>
          </a:ln>
        </p:spPr>
      </p:pic>
      <p:pic>
        <p:nvPicPr>
          <p:cNvPr id="46" name="Прекрасное далеко.mp3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G_1172"/>
          <p:cNvPicPr/>
          <p:nvPr/>
        </p:nvPicPr>
        <p:blipFill>
          <a:blip r:embed="rId1"/>
          <a:stretch/>
        </p:blipFill>
        <p:spPr>
          <a:xfrm>
            <a:off x="395280" y="1511280"/>
            <a:ext cx="8280360" cy="5086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84640" y="108000"/>
            <a:ext cx="81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ажать свое мнение и собираться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целью выражения своих взг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1169"/>
          <p:cNvPicPr/>
          <p:nvPr/>
        </p:nvPicPr>
        <p:blipFill>
          <a:blip r:embed="rId1"/>
          <a:stretch/>
        </p:blipFill>
        <p:spPr>
          <a:xfrm>
            <a:off x="684360" y="1555920"/>
            <a:ext cx="8064360" cy="504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948240" y="324000"/>
            <a:ext cx="56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-инвалиды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особую заботу и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G_1175"/>
          <p:cNvPicPr/>
          <p:nvPr/>
        </p:nvPicPr>
        <p:blipFill>
          <a:blip r:embed="rId1"/>
          <a:stretch/>
        </p:blipFill>
        <p:spPr>
          <a:xfrm>
            <a:off x="826920" y="1773360"/>
            <a:ext cx="782496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70960" y="108000"/>
            <a:ext cx="8183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ворить на своем родном язы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ведовать свою религ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блюдать обряды свое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G_1174"/>
          <p:cNvPicPr/>
          <p:nvPr/>
        </p:nvPicPr>
        <p:blipFill>
          <a:blip r:embed="rId1"/>
          <a:stretch/>
        </p:blipFill>
        <p:spPr>
          <a:xfrm>
            <a:off x="395280" y="1557360"/>
            <a:ext cx="8137440" cy="4967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06760" y="324000"/>
            <a:ext cx="6226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не дол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ться в качестве деше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бочей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G_1176 "/>
          <p:cNvPicPr/>
          <p:nvPr/>
        </p:nvPicPr>
        <p:blipFill>
          <a:blip r:embed="rId1"/>
          <a:stretch/>
        </p:blipFill>
        <p:spPr>
          <a:xfrm>
            <a:off x="395280" y="1052640"/>
            <a:ext cx="8416800" cy="54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75880" y="179280"/>
            <a:ext cx="6663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безопасные условия жиз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о не подвергаться жестокому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брежному обращ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44560" y="236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08120" y="184464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ышеперечисленные права детей являются именно теми правами, на реализацию которых способны повлиять педагоги и медицинский персонал дошкольных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71640" y="486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частья и солнца вам, де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1b3"/>
          <p:cNvPicPr/>
          <p:nvPr/>
        </p:nvPicPr>
        <p:blipFill>
          <a:blip r:embed="rId1"/>
          <a:stretch/>
        </p:blipFill>
        <p:spPr>
          <a:xfrm>
            <a:off x="971640" y="260280"/>
            <a:ext cx="390996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endshow"/>
          </p:cNvPr>
          <p:cNvSpPr/>
          <p:nvPr/>
        </p:nvSpPr>
        <p:spPr>
          <a:xfrm>
            <a:off x="684360" y="5950080"/>
            <a:ext cx="1726920" cy="5745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895" h="21600">
                <a:moveTo>
                  <a:pt x="0" y="0"/>
                </a:moveTo>
                <a:lnTo>
                  <a:pt x="64895" y="0"/>
                </a:lnTo>
                <a:lnTo>
                  <a:pt x="64895" y="21600"/>
                </a:lnTo>
                <a:lnTo>
                  <a:pt x="0" y="21600"/>
                </a:lnTo>
                <a:close/>
              </a:path>
              <a:path fill="lightenLess" w="64895" h="21600">
                <a:moveTo>
                  <a:pt x="0" y="0"/>
                </a:moveTo>
                <a:lnTo>
                  <a:pt x="64895" y="0"/>
                </a:lnTo>
                <a:lnTo>
                  <a:pt x="63495" y="1400"/>
                </a:lnTo>
                <a:lnTo>
                  <a:pt x="1400" y="1400"/>
                </a:lnTo>
                <a:close/>
              </a:path>
              <a:path fill="darken" w="64895" h="21600">
                <a:moveTo>
                  <a:pt x="64895" y="0"/>
                </a:moveTo>
                <a:lnTo>
                  <a:pt x="64895" y="21600"/>
                </a:lnTo>
                <a:lnTo>
                  <a:pt x="63495" y="20200"/>
                </a:lnTo>
                <a:lnTo>
                  <a:pt x="63495" y="1400"/>
                </a:lnTo>
                <a:close/>
              </a:path>
              <a:path fill="darkenLess" w="64895" h="21600">
                <a:moveTo>
                  <a:pt x="64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5" y="20200"/>
                </a:lnTo>
                <a:close/>
              </a:path>
              <a:path fill="lighten" w="64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5" h="21600">
                <a:moveTo>
                  <a:pt x="35946" y="10800"/>
                </a:moveTo>
                <a:lnTo>
                  <a:pt x="25441" y="17806"/>
                </a:lnTo>
                <a:lnTo>
                  <a:pt x="25441" y="3794"/>
                </a:lnTo>
                <a:close/>
              </a:path>
              <a:path fill="darken" w="64895" h="21600">
                <a:moveTo>
                  <a:pt x="37791" y="3794"/>
                </a:moveTo>
                <a:lnTo>
                  <a:pt x="37791" y="17806"/>
                </a:lnTo>
                <a:lnTo>
                  <a:pt x="39454" y="17806"/>
                </a:lnTo>
                <a:lnTo>
                  <a:pt x="3945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43120" y="836640"/>
            <a:ext cx="783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33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_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8000" y="0"/>
            <a:ext cx="72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ебенок приходит в этот мир беспомощным и беззащи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Его жизнь, здоровье, будущее целиком зависят от мира на земле, от  родителей, от действий других взрослых  людей. Ребенок верит в их любовь и доброе отношение и очень надеется на их защ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BALL6"/>
          <p:cNvPicPr/>
          <p:nvPr/>
        </p:nvPicPr>
        <p:blipFill>
          <a:blip r:embed="rId2"/>
          <a:stretch/>
        </p:blipFill>
        <p:spPr>
          <a:xfrm>
            <a:off x="250920" y="4005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Diagram 2"/>
          <p:cNvGrpSpPr/>
          <p:nvPr/>
        </p:nvGrpSpPr>
        <p:grpSpPr>
          <a:xfrm>
            <a:off x="604800" y="415800"/>
            <a:ext cx="7649640" cy="5530680"/>
            <a:chOff x="604800" y="415800"/>
            <a:chExt cx="7649640" cy="5530680"/>
          </a:xfrm>
        </p:grpSpPr>
        <p:sp>
          <p:nvSpPr>
            <p:cNvPr id="53" name="_s1028"/>
            <p:cNvSpPr/>
            <p:nvPr/>
          </p:nvSpPr>
          <p:spPr>
            <a:xfrm flipH="1" flipV="1">
              <a:off x="2536920" y="2933280"/>
              <a:ext cx="949680" cy="23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9"/>
            <p:cNvSpPr/>
            <p:nvPr/>
          </p:nvSpPr>
          <p:spPr>
            <a:xfrm>
              <a:off x="604800" y="1957320"/>
              <a:ext cx="1984680" cy="1489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венция 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а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0"/>
            <p:cNvSpPr/>
            <p:nvPr/>
          </p:nvSpPr>
          <p:spPr>
            <a:xfrm flipH="1">
              <a:off x="3262320" y="3992760"/>
              <a:ext cx="583920" cy="606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1"/>
            <p:cNvSpPr/>
            <p:nvPr/>
          </p:nvSpPr>
          <p:spPr>
            <a:xfrm>
              <a:off x="1686600" y="4457160"/>
              <a:ext cx="1984680" cy="1489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едера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Закон «Об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основ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арант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ав ребен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 РФ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2"/>
            <p:cNvSpPr/>
            <p:nvPr/>
          </p:nvSpPr>
          <p:spPr>
            <a:xfrm>
              <a:off x="5010480" y="3992760"/>
              <a:ext cx="587160" cy="60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5188680" y="4457160"/>
              <a:ext cx="1984680" cy="14893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кон РФ «Об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ни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 flipV="1">
              <a:off x="5369760" y="2931120"/>
              <a:ext cx="947160" cy="232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5"/>
            <p:cNvSpPr/>
            <p:nvPr/>
          </p:nvSpPr>
          <p:spPr>
            <a:xfrm>
              <a:off x="6269760" y="1959840"/>
              <a:ext cx="1984680" cy="148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мей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д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6"/>
            <p:cNvSpPr/>
            <p:nvPr/>
          </p:nvSpPr>
          <p:spPr>
            <a:xfrm flipV="1">
              <a:off x="4428360" y="1902240"/>
              <a:ext cx="0" cy="747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437280" y="415800"/>
              <a:ext cx="1984680" cy="1489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клар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437280" y="2650680"/>
              <a:ext cx="1984680" cy="148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Права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гарантирую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0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G_1173"/>
          <p:cNvPicPr/>
          <p:nvPr/>
        </p:nvPicPr>
        <p:blipFill>
          <a:blip r:embed="rId1"/>
          <a:stretch/>
        </p:blipFill>
        <p:spPr>
          <a:xfrm rot="21188400">
            <a:off x="1618920" y="2204640"/>
            <a:ext cx="5904000" cy="408960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 rot="21364800">
            <a:off x="684000" y="62028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енок имеет право на бесплатное образов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G_1177"/>
          <p:cNvPicPr/>
          <p:nvPr/>
        </p:nvPicPr>
        <p:blipFill>
          <a:blip r:embed="rId1"/>
          <a:stretch/>
        </p:blipFill>
        <p:spPr>
          <a:xfrm>
            <a:off x="826920" y="1530360"/>
            <a:ext cx="7490160" cy="517824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539640" y="476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ти имеют право на медицинский ух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1170"/>
          <p:cNvPicPr/>
          <p:nvPr/>
        </p:nvPicPr>
        <p:blipFill>
          <a:blip r:embed="rId1"/>
          <a:stretch/>
        </p:blipFill>
        <p:spPr>
          <a:xfrm>
            <a:off x="539640" y="1916280"/>
            <a:ext cx="7993080" cy="4941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803880" y="250920"/>
            <a:ext cx="7012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воспитание в семейном окру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 быть на попечении тех, кто обеспе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 наилучший у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1167"/>
          <p:cNvPicPr/>
          <p:nvPr/>
        </p:nvPicPr>
        <p:blipFill>
          <a:blip r:embed="rId1"/>
          <a:stretch/>
        </p:blipFill>
        <p:spPr>
          <a:xfrm rot="20626800">
            <a:off x="1380600" y="1306080"/>
            <a:ext cx="7007400" cy="471168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 rot="20653200">
            <a:off x="349200" y="698040"/>
            <a:ext cx="395280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ти имеют право на отды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1168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5246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99560" y="250920"/>
            <a:ext cx="737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достаточ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достаточное количество чистой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G_1171"/>
          <p:cNvPicPr/>
          <p:nvPr/>
        </p:nvPicPr>
        <p:blipFill>
          <a:blip r:embed="rId1"/>
          <a:stretch/>
        </p:blipFill>
        <p:spPr>
          <a:xfrm>
            <a:off x="684360" y="1413000"/>
            <a:ext cx="806436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162080" y="108000"/>
            <a:ext cx="72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ти имеют право на приемле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ень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4:02:28Z</dcterms:created>
  <dc:creator>Ученик</dc:creator>
  <dc:description/>
  <dc:language>en-US</dc:language>
  <cp:lastModifiedBy>Светлана</cp:lastModifiedBy>
  <dcterms:modified xsi:type="dcterms:W3CDTF">2020-12-03T12:08:43Z</dcterms:modified>
  <cp:revision>10</cp:revision>
  <dc:subject/>
  <dc:title>Слайд 1</dc:title>
</cp:coreProperties>
</file>