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12.jpeg" ContentType="image/jpeg"/>
  <Override PartName="/ppt/media/image6.png" ContentType="image/pn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22.gif" ContentType="image/gif"/>
  <Override PartName="/ppt/media/image2.png" ContentType="image/png"/>
  <Override PartName="/ppt/media/image3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40D-6177-4007-8515-BC441728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BD8-A0A6-4504-97B4-A9B37F59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65F-8829-4D78-81A9-ADA9FD69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C30-1604-46F9-BB90-4FD07EEB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7C7-911D-4284-A21C-D70E4C9D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AC0-4549-42B7-8867-C31D4742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583-E453-459E-BED2-3A4E7DA5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505-B3EE-46BB-A405-E7CF0AA8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DE9-70D8-49C1-B471-5ED41855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754-AC28-4340-8E92-7FF0F3A4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185-17B7-40ED-AEA1-F55F18E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71C-0CDD-441C-B760-5DB39E6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456A-3850-472D-942C-53A410EC9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 rot="20938800">
            <a:off x="512640" y="444168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 rot="21100200">
            <a:off x="556920" y="482400"/>
            <a:ext cx="723744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зентация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20993400">
            <a:off x="1962000" y="2141640"/>
            <a:ext cx="3456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тему: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 rot="20891400">
            <a:off x="855360" y="2781000"/>
            <a:ext cx="774216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Ребенок имеет право"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7" descr="baby"/>
          <p:cNvPicPr/>
          <p:nvPr/>
        </p:nvPicPr>
        <p:blipFill>
          <a:blip r:embed="rId1"/>
          <a:stretch/>
        </p:blipFill>
        <p:spPr>
          <a:xfrm>
            <a:off x="6948360" y="4797360"/>
            <a:ext cx="1381320" cy="1381320"/>
          </a:xfrm>
          <a:prstGeom prst="rect">
            <a:avLst/>
          </a:prstGeom>
          <a:ln w="0">
            <a:noFill/>
          </a:ln>
        </p:spPr>
      </p:pic>
      <p:pic>
        <p:nvPicPr>
          <p:cNvPr id="46" name="Прекрасное далеко.mp3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G_1172"/>
          <p:cNvPicPr/>
          <p:nvPr/>
        </p:nvPicPr>
        <p:blipFill>
          <a:blip r:embed="rId1"/>
          <a:stretch/>
        </p:blipFill>
        <p:spPr>
          <a:xfrm>
            <a:off x="395280" y="1511280"/>
            <a:ext cx="8280360" cy="5086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84640" y="108000"/>
            <a:ext cx="818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ажать свое мнение и собираться в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целью выражения своих взгл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1169"/>
          <p:cNvPicPr/>
          <p:nvPr/>
        </p:nvPicPr>
        <p:blipFill>
          <a:blip r:embed="rId1"/>
          <a:stretch/>
        </p:blipFill>
        <p:spPr>
          <a:xfrm>
            <a:off x="684360" y="1555920"/>
            <a:ext cx="8064360" cy="504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948240" y="324000"/>
            <a:ext cx="56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ти-инвалиды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особую заботу и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G_1175"/>
          <p:cNvPicPr/>
          <p:nvPr/>
        </p:nvPicPr>
        <p:blipFill>
          <a:blip r:embed="rId1"/>
          <a:stretch/>
        </p:blipFill>
        <p:spPr>
          <a:xfrm>
            <a:off x="826920" y="1773360"/>
            <a:ext cx="7824960" cy="508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570960" y="108000"/>
            <a:ext cx="8183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ворить на своем родном язы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ведовать свою религ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блюдать обряды свое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G_1174"/>
          <p:cNvPicPr/>
          <p:nvPr/>
        </p:nvPicPr>
        <p:blipFill>
          <a:blip r:embed="rId1"/>
          <a:stretch/>
        </p:blipFill>
        <p:spPr>
          <a:xfrm>
            <a:off x="395280" y="1557360"/>
            <a:ext cx="8137440" cy="4967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806760" y="324000"/>
            <a:ext cx="6226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не дол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ться в качестве деше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бочей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G_1176 "/>
          <p:cNvPicPr/>
          <p:nvPr/>
        </p:nvPicPr>
        <p:blipFill>
          <a:blip r:embed="rId1"/>
          <a:stretch/>
        </p:blipFill>
        <p:spPr>
          <a:xfrm>
            <a:off x="395280" y="1052640"/>
            <a:ext cx="8416800" cy="54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75880" y="179280"/>
            <a:ext cx="6663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безопасные условия жиз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о не подвергаться жестокому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брежному обращ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744560" y="236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08120" y="184464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ышеперечисленные права детей являются именно теми правами, на реализацию которых способны повлиять педагоги и медицинский персонал дошкольных образовательных учр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971640" y="4869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частья и солнца вам, де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1b3"/>
          <p:cNvPicPr/>
          <p:nvPr/>
        </p:nvPicPr>
        <p:blipFill>
          <a:blip r:embed="rId1"/>
          <a:stretch/>
        </p:blipFill>
        <p:spPr>
          <a:xfrm>
            <a:off x="971640" y="260280"/>
            <a:ext cx="390996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>
            <a:hlinkClick r:id="" action="ppaction://hlinkshowjump?jump=endshow"/>
          </p:cNvPr>
          <p:cNvSpPr/>
          <p:nvPr/>
        </p:nvSpPr>
        <p:spPr>
          <a:xfrm>
            <a:off x="684360" y="5950080"/>
            <a:ext cx="1726920" cy="574560"/>
          </a:xfrm>
          <a:custGeom>
            <a:avLst/>
            <a:gdLst>
              <a:gd name="textAreaLeft" fmla="*/ 37080 w 1726920"/>
              <a:gd name="textAreaRight" fmla="*/ 1689840 w 1726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4895" h="21600">
                <a:moveTo>
                  <a:pt x="0" y="0"/>
                </a:moveTo>
                <a:lnTo>
                  <a:pt x="64895" y="0"/>
                </a:lnTo>
                <a:lnTo>
                  <a:pt x="64895" y="21600"/>
                </a:lnTo>
                <a:lnTo>
                  <a:pt x="0" y="21600"/>
                </a:lnTo>
                <a:close/>
              </a:path>
              <a:path fill="lightenLess" w="64895" h="21600">
                <a:moveTo>
                  <a:pt x="0" y="0"/>
                </a:moveTo>
                <a:lnTo>
                  <a:pt x="64895" y="0"/>
                </a:lnTo>
                <a:lnTo>
                  <a:pt x="63495" y="1400"/>
                </a:lnTo>
                <a:lnTo>
                  <a:pt x="1400" y="1400"/>
                </a:lnTo>
                <a:close/>
              </a:path>
              <a:path fill="darken" w="64895" h="21600">
                <a:moveTo>
                  <a:pt x="64895" y="0"/>
                </a:moveTo>
                <a:lnTo>
                  <a:pt x="64895" y="21600"/>
                </a:lnTo>
                <a:lnTo>
                  <a:pt x="63495" y="20200"/>
                </a:lnTo>
                <a:lnTo>
                  <a:pt x="63495" y="1400"/>
                </a:lnTo>
                <a:close/>
              </a:path>
              <a:path fill="darkenLess" w="64895" h="21600">
                <a:moveTo>
                  <a:pt x="648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95" y="20200"/>
                </a:lnTo>
                <a:close/>
              </a:path>
              <a:path fill="lighten" w="648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95" h="21600">
                <a:moveTo>
                  <a:pt x="35946" y="10800"/>
                </a:moveTo>
                <a:lnTo>
                  <a:pt x="25441" y="17806"/>
                </a:lnTo>
                <a:lnTo>
                  <a:pt x="25441" y="3794"/>
                </a:lnTo>
                <a:close/>
              </a:path>
              <a:path fill="darken" w="64895" h="21600">
                <a:moveTo>
                  <a:pt x="37791" y="3794"/>
                </a:moveTo>
                <a:lnTo>
                  <a:pt x="37791" y="17806"/>
                </a:lnTo>
                <a:lnTo>
                  <a:pt x="39454" y="17806"/>
                </a:lnTo>
                <a:lnTo>
                  <a:pt x="3945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43120" y="836640"/>
            <a:ext cx="783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33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_11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908000" y="0"/>
            <a:ext cx="72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Ребенок приходит в этот мир беспомощным и беззащи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Его жизнь, здоровье, будущее целиком зависят от мира на земле, от  родителей, от действий других взрослых  людей. Ребенок верит в их любовь и доброе отношение и очень надеется на их защ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BALL6"/>
          <p:cNvPicPr/>
          <p:nvPr/>
        </p:nvPicPr>
        <p:blipFill>
          <a:blip r:embed="rId2"/>
          <a:stretch/>
        </p:blipFill>
        <p:spPr>
          <a:xfrm>
            <a:off x="250920" y="400536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2"/>
          <p:cNvGrpSpPr/>
          <p:nvPr/>
        </p:nvGrpSpPr>
        <p:grpSpPr>
          <a:xfrm>
            <a:off x="604800" y="415800"/>
            <a:ext cx="7649640" cy="5530680"/>
            <a:chOff x="604800" y="415800"/>
            <a:chExt cx="7649640" cy="5530680"/>
          </a:xfrm>
        </p:grpSpPr>
        <p:sp>
          <p:nvSpPr>
            <p:cNvPr id="53" name="_s1028"/>
            <p:cNvSpPr/>
            <p:nvPr/>
          </p:nvSpPr>
          <p:spPr>
            <a:xfrm flipH="1" flipV="1">
              <a:off x="2536920" y="2933280"/>
              <a:ext cx="949680" cy="230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9"/>
            <p:cNvSpPr/>
            <p:nvPr/>
          </p:nvSpPr>
          <p:spPr>
            <a:xfrm>
              <a:off x="604800" y="1957320"/>
              <a:ext cx="1984680" cy="14893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венция 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ава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бе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0"/>
            <p:cNvSpPr/>
            <p:nvPr/>
          </p:nvSpPr>
          <p:spPr>
            <a:xfrm flipH="1">
              <a:off x="3262320" y="3992760"/>
              <a:ext cx="583920" cy="606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1"/>
            <p:cNvSpPr/>
            <p:nvPr/>
          </p:nvSpPr>
          <p:spPr>
            <a:xfrm>
              <a:off x="1686600" y="4457160"/>
              <a:ext cx="1984680" cy="1489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едера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Закон «Об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основн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гарантия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ав ребен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 РФ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2"/>
            <p:cNvSpPr/>
            <p:nvPr/>
          </p:nvSpPr>
          <p:spPr>
            <a:xfrm>
              <a:off x="5010480" y="3992760"/>
              <a:ext cx="587160" cy="60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5188680" y="4457160"/>
              <a:ext cx="1984680" cy="14893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кон РФ «Об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овани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 flipV="1">
              <a:off x="5369760" y="2931120"/>
              <a:ext cx="947160" cy="232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5"/>
            <p:cNvSpPr/>
            <p:nvPr/>
          </p:nvSpPr>
          <p:spPr>
            <a:xfrm>
              <a:off x="6269760" y="1959840"/>
              <a:ext cx="1984680" cy="148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емей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де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6"/>
            <p:cNvSpPr/>
            <p:nvPr/>
          </p:nvSpPr>
          <p:spPr>
            <a:xfrm flipV="1">
              <a:off x="4428360" y="1902240"/>
              <a:ext cx="0" cy="747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437280" y="415800"/>
              <a:ext cx="1984680" cy="1489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клар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а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бе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437280" y="2650680"/>
              <a:ext cx="1984680" cy="148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Права реб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гарантирую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0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IMG_1173"/>
          <p:cNvPicPr/>
          <p:nvPr/>
        </p:nvPicPr>
        <p:blipFill>
          <a:blip r:embed="rId1"/>
          <a:stretch/>
        </p:blipFill>
        <p:spPr>
          <a:xfrm rot="21188400">
            <a:off x="1618920" y="2204640"/>
            <a:ext cx="5904000" cy="408960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 rot="21364800">
            <a:off x="684000" y="620280"/>
            <a:ext cx="80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енок имеет право на бесплатное образов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8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MG_1177"/>
          <p:cNvPicPr/>
          <p:nvPr/>
        </p:nvPicPr>
        <p:blipFill>
          <a:blip r:embed="rId1"/>
          <a:stretch/>
        </p:blipFill>
        <p:spPr>
          <a:xfrm>
            <a:off x="826920" y="1530360"/>
            <a:ext cx="7490160" cy="517824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539640" y="47628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ети имеют право на медицинский ухо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1170"/>
          <p:cNvPicPr/>
          <p:nvPr/>
        </p:nvPicPr>
        <p:blipFill>
          <a:blip r:embed="rId1"/>
          <a:stretch/>
        </p:blipFill>
        <p:spPr>
          <a:xfrm>
            <a:off x="539640" y="1916280"/>
            <a:ext cx="7993080" cy="4941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803880" y="250920"/>
            <a:ext cx="7012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воспитание в семейном окру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 быть на попечении тех, кто обеспе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м наилучший у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1167"/>
          <p:cNvPicPr/>
          <p:nvPr/>
        </p:nvPicPr>
        <p:blipFill>
          <a:blip r:embed="rId1"/>
          <a:stretch/>
        </p:blipFill>
        <p:spPr>
          <a:xfrm rot="20626800">
            <a:off x="1380600" y="1306080"/>
            <a:ext cx="7007400" cy="471168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 rot="20653200">
            <a:off x="349200" y="698040"/>
            <a:ext cx="395280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ети имеют право на отды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1168"/>
          <p:cNvPicPr/>
          <p:nvPr/>
        </p:nvPicPr>
        <p:blipFill>
          <a:blip r:embed="rId1"/>
          <a:stretch/>
        </p:blipFill>
        <p:spPr>
          <a:xfrm>
            <a:off x="539640" y="1557360"/>
            <a:ext cx="8209080" cy="5246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99560" y="250920"/>
            <a:ext cx="737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достаточ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достаточное количество чистой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IMG_1171"/>
          <p:cNvPicPr/>
          <p:nvPr/>
        </p:nvPicPr>
        <p:blipFill>
          <a:blip r:embed="rId1"/>
          <a:stretch/>
        </p:blipFill>
        <p:spPr>
          <a:xfrm>
            <a:off x="684360" y="1413000"/>
            <a:ext cx="8064360" cy="5111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162080" y="108000"/>
            <a:ext cx="72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имеют право на приемле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ровень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4:02:28Z</dcterms:created>
  <dc:creator>Ученик</dc:creator>
  <dc:description/>
  <dc:language>en-US</dc:language>
  <cp:lastModifiedBy>Светлана</cp:lastModifiedBy>
  <dcterms:modified xsi:type="dcterms:W3CDTF">2020-12-03T12:08:43Z</dcterms:modified>
  <cp:revision>10</cp:revision>
  <dc:subject/>
  <dc:title>Слайд 1</dc:title>
</cp:coreProperties>
</file>